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dt" idx="1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143000" y="600120"/>
            <a:ext cx="4570560" cy="359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7B51A-0EA6-431C-8E2A-2035C06D9E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4FDEA8-5272-4908-BA67-F1F88BE0AD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F6C117-B35C-45F7-AA67-D283B0854E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99B1C2-DA00-4B2E-86AF-C2343C7C89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F4EB4F-63A0-4F8B-B050-763B70EBE5E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595812-8755-463D-8FBD-7615A7672BB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705704-AB7E-4827-A256-CB16F4DEDE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6DDECA-683C-4E1F-A355-B82DB68455E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7F3AE1-53BA-44A5-81BB-638CCF7AE9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6B41E9-5EF8-4453-A493-EE93E6253D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652208-B4F2-4879-9EE1-E298A03EAA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6C3F91-0004-4AAE-82A5-E663B037B7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AF7C15-7F19-4727-9951-F2D374EAA23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9694CA-EB9C-4B74-B99B-580C30FD86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A15569-477B-4402-8BD2-434F284041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027844-0515-4194-926A-9B5C9F2526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AE9D2C-0643-4569-84CB-E1200B9FDE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D679A3-06BC-4EAC-89AB-FA559272CE0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184C-73B7-4460-83AA-71FE49E089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B71C-3932-44FF-B750-7362358F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206F-F01E-45FF-9E18-6E361D34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BDB3-D618-4043-871D-4D9BE3365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8F411-D6EF-49A6-97FD-2A1CDC099A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BE080-C03D-41DA-B969-0AD6782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47DB9-E9C4-465B-A307-A2F9F48E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E0373-A806-4A85-8C08-FD4D444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A083A-5A78-4CCB-8771-811CF65E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84C1F-D8BF-4C85-9184-8253C9BB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9DA74-01F8-48A2-9B77-47775B3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8019-6417-4820-9183-74ED40AF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E5469-7342-432F-810D-B1992B84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3B6AE-34E8-43CD-90E3-3332AD74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A7B90-30AE-446E-877F-D8481CA1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97FCE-0DA9-426F-80F9-77C31F9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4BF4C-6F9C-43ED-B83F-336B7FBAD5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80A3-8FA9-495B-8E7C-5F0FBC440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FFE3-1F7E-4013-9FC7-314DC3A5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7FE4-3340-4FBE-AC50-F8B7444F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DAC0-2724-4BED-B02B-7CA5AD0B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16E3-296D-4237-9CDC-F4EA38BC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6DD4-3589-4A51-9E38-DE8DE669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CD61-6E14-4E68-9F5B-CF764B7E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41E7-1C7E-4135-9FCF-40B51E75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EA74-A459-41CF-BD5E-8C3D6E37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FB60-0284-4160-A08B-A3F81F68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E45D-18AE-45EE-84D8-96504B52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3877-9ADE-4DCA-A6BA-D60061B2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C1E2-3007-4536-96A4-76DBA9436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7BBF7-1213-4009-A6A4-0FBAE227E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0B45C-CA8A-46DD-BE97-96ACFED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950AC-E14E-4FAA-85A6-065D824D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E4BD-BDBA-4AE6-83F9-48608173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80475-F598-47CA-A58A-CC3998F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40AAF-474C-4F18-B272-21C36ACC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C02F6-3342-4F44-B64C-A6896B34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337F4-8706-4765-8E74-87C792B4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A0CEF-1381-4982-A815-F1BF906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DB7CC-C8F1-4AFE-B27B-43A3998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CD4FC-970E-49FA-95E2-7A4AFDE1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A801B-DA0E-4F89-A373-25AD5D4A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F8CE5-3DF4-4B47-B24D-B21DFAA461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2C4A9-9F02-4EB2-B023-3C545ED7E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A8CB-F0AC-429B-836E-23C166D7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18A7F-7CBB-484D-B418-D94021C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AC54E-1300-417C-BADB-DE9A92FF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500E6-0628-4125-BDEF-1836AD7E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4869A-4CBA-4597-BC26-426A5F8C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333A2D-0348-42DD-8A52-D4653E92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DA0DD-1423-4037-8D00-5358E516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8002B-75CD-43BA-A2A0-9D7D3E10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C5492-C016-4EB6-9446-806EAAA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898952-8293-4F5D-B453-7B23A109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8EC19-3DAF-49FE-AF1F-A21D017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F860-F7EA-4B41-8D1D-142DE1FF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4A0C8-13E0-4DC8-A2EB-EC87EA4768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830A1-06EE-4C79-8BDE-608635D70B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264C-46E2-4A66-B504-4072653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0336-4DD5-4C29-AC40-7475E253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F963-A6B2-46BD-9A28-3C78D75B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A5E0-243C-4162-9B5B-7C9B154B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B122-6745-4D05-8A16-2C1350DD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E3CD-8DAC-4B28-A233-1040064E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5CBA-552D-4689-A259-7621B0B2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54C6-26E7-4A34-983D-D8B2A101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BEBB-161D-4386-9282-A5922919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2631A-F857-48E2-A815-F2930F16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7087-F7B6-478D-96EA-F0F7F73E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EAFF-F876-412D-B53A-19C297234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EF7F-E0B0-4894-9610-DBAFAF2F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9FDF-3B89-4CAA-A8E8-7FD665B7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299A94-EEA2-4268-AE8F-5DFDD5C5FCB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E6B6E2B-432C-4FD1-8581-34CE51FC1798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230E87E-B5E9-4AE7-B590-24D8A9875DB8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87AC18A-8DCD-45AE-A434-FDB4B4C033CD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19880"/>
            <a:ext cx="760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297AA07-9B31-4BB7-9C4F-1B512B679612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1BFD7A3-D6CC-40A1-88D6-4F3A4B36FEC7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036800" y="1494000"/>
            <a:ext cx="7350120" cy="3441600"/>
            <a:chOff x="1036800" y="1494000"/>
            <a:chExt cx="7350120" cy="34416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1036800" y="1494000"/>
              <a:ext cx="735012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036800" y="1494000"/>
              <a:ext cx="7350120" cy="34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28760" y="2235240"/>
            <a:ext cx="82296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БЫВАЮТ ПРОЕКТЫ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57120" y="965160"/>
            <a:ext cx="85726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количеству учащихся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индивидуальны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групповые (парные, звеньевые, бригадные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содержанию и привязке к учебным дисциплинам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монопредмет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межпредмет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надпредметны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продолжительности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краткосрочные  (мини-проекты: от 1 до 3 уроков - неделя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реднесрочные (от 1 до 4 недель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долгосрочные (от 4 недель до 1 г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7120" y="214200"/>
            <a:ext cx="8572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ы классифицируют по определенным призна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 доминирующему виду деятельности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информацион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полагают сбор, обработку и анализ информации к какой-либо учебной проблеме; поиск информации, ее  обобщение, ранжирование, структурирование и представление в виде реферата, доклада, таблицы, логической схемы, графиков и видеоматериалов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исследователь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делирование ситуаций реального научного поиска на основе его логики и структуры; определение проблемы,  темы, объекта, цели, задач, гипотезы, методов, этапов, новизны, практической значимости исследования; представление результата в виде отчета исследовательской работ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твор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ние ситуаций для развития творческих способностей; представление результатов в виде сценария, выпуска газеты, радиопередачи, видеофильма, вы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8760" y="146160"/>
            <a:ext cx="82296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характеру контактов: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внутригруппов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внутритехникумов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региональные (в пределах одной страны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международны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нностно-ориентированные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эколог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оциаль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культурологически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эконом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) полит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) технолог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) смешанны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28760" y="870120"/>
            <a:ext cx="82296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М ОТЛИЧАЕТСЯ ТЕХНОЛОГИЯ ПРОЕКТНОГО ОБУЧЕНИЯ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200" y="966960"/>
            <a:ext cx="89298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формирование личностно значимых способов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учебной работы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овладение способами самообразован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обеспечение перевода обучающегося в реж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саморазвит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стимулирование самостоятельной работы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бучающихс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приобретение опыта социального взаимодейств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) развитие коммуникативных способносте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бучающихс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) приобретение инициатив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7120" y="64296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е отличительные призн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14240" y="2603520"/>
            <a:ext cx="76582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деятельностны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личностно ориентированны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компетентностны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гуманистически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культурологически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ценно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85920" y="15717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ческие подход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57120" y="1731960"/>
            <a:ext cx="82296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ОВАТЬ ТЕМУ ПРОЕКТ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1322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учитывается содержание учебных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рограмм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учитывается возраст и уровень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бучающихс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учитываются интересы и потреб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бучающихся (познавательные, прикладны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творческие, ценностные и др.)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учитываются особенности своей личности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учитывается практическая значим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жидаемых результ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4200" y="28584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выбирается и формулируется с учетом определенных обстоятель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00040" y="560520"/>
            <a:ext cx="8229600" cy="56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заранее формулироваться специалистами различных отраслей наук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выдвигаться преподавателями с учетом учебной ситуации по своей дисциплин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предлагаться самими обучающимися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1300"/>
            </a:b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2920" y="64296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и формулирования 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4200" y="521496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ировка темы должна быть краткой, понятной, проблемной, смыслосодержаще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28760" y="642960"/>
            <a:ext cx="84294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ектного обучения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никла в начале прошлого столетия в США. Первоначально она была известна под названием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тод проектов»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 (или)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тод проблем»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Автором этого метода был американский философ и педагог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он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ью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В дальнейшем метод разрабатывался его учеником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ильямом Хердом Килпатри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28760" y="1177920"/>
            <a:ext cx="82296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формулироваться в рамках одного или нескольких учебных дисциплин,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отражать социальные, культурологические, экономические, экологические, политические и другие проблемы,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иметь комплексный харак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4360" y="100008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28760" y="1517760"/>
            <a:ext cx="82296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ОВАТЬ ЦЕЛИ И ЗАДАЧИ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57120" y="5681520"/>
            <a:ext cx="8501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всегда формулируется в соотношен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емой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8760" y="142920"/>
            <a:ext cx="8286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мотное формулирование цели - особое умение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о иметь в виду, что по отношению к выбранной теме лучше сформулировать одну цель и несколько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5840" y="1928880"/>
            <a:ext cx="857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 проект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обоснованное представление об общих, конечных результатах совместных действий участников проек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4200" y="392904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ли, по существу, формулируется общий замысел исследования. Поэтому необходимо стремиться к  лаконичному и предельно точному в смысловом отношении формулированию ц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5840" y="221472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 ты хочешь создать в результате проектирования?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7120" y="214200"/>
            <a:ext cx="8572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8760" y="35712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сути организаторам и участникам проектирования необходимо ответить на  вопрос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7120" y="4286160"/>
            <a:ext cx="842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и созданиями могут быть: описание и характеристика объектов и явлений, логическая схема, модель, чертежи, текст любого документа, план создания чего-либо (парка, дендрария), компьютерная программа, макет,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14240" y="2786040"/>
            <a:ext cx="3929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выяснить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сформулиров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обоснов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созд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разработат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7120" y="142884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лучше формулировать, начиная с глагол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2857680"/>
            <a:ext cx="400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) организов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) провести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) оказать помощ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) апробировать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71680" y="2306520"/>
            <a:ext cx="81435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ВЫРАЖАТЬ ЗАДАЧИ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00040" y="371484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о знать об основных категориях задач. Лучше их соотносить с основными видами деятельности учащихся, которые реализуются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ходе выполнения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5840" y="11430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 развертывается в совокупности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2920" y="242892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- это, как правило, конкретизированные или более частные ц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28760" y="571680"/>
            <a:ext cx="818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категории задач проек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14200" y="2044800"/>
          <a:ext cx="8715600" cy="365256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52056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: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деятельност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</a:tr>
              <a:tr h="313200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те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бра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лит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о-правов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ориентацион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28760" y="1407960"/>
            <a:ext cx="8229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ВО СОДЕРЖАНИЕ ОБОЗНАЧЕННЫХ ЗАДАЧ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85840" y="5192640"/>
            <a:ext cx="842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умений работать в парах, группе, ориентированных на совместное достижение ожидаемого результата проек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200" y="1429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4200" y="71424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знаватель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5840" y="121428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изучением особенностей объектов (предметов) окружающего мира, способов (методов) решения проблем; овладением умениями работы с источниками; постановкой эксперимента (организация и проведение опыт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271476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оммуникатив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4200" y="321480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ознакомлением и усвоением способов речевого взаимодействия между участниками проекта (анализ, аргументация, преобразование информации, ее грамотное выражение, культура речи и отношений между партнер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4200" y="471492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ооператив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00040" y="68112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жон Дьюи предлагал обучать обучающихся на активной основе, через целесообразную деятельность, учитывая его личный  интерес в определенном знании. При этом важным являлось отрица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блемы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знакомой и значимой для ребенка, при решении которой требовалось приложение полученных знаний. Возникало объективное условие для «движения» обучаемого от теории к практике, соединение академических знаний с практическими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жон Дьюи определил этот метод как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учение через дел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85840" y="5045040"/>
            <a:ext cx="8643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умений самоорганизации: грамотной постановки задач, определения методов их решения, планирования собственной работы, определения своей роли при группов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4200" y="1429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4200" y="57168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еобразователь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4200" y="10000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умений практического характера, направленных на улучшение состояния объектов окружающ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4200" y="20718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дачи самообразования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4200" y="25002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знаний и умений для самостоятельного решения возникающих учебных и друг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4200" y="32148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ворчески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4200" y="364320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реализацией потенциала личности учащихся, необходимого для создания оригинальных  результатов проектирования - сочинения, схемы, конструкции, моде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4200" y="464328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рганизацион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28760" y="1714680"/>
            <a:ext cx="8229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изучить литературу по теме и выяснить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пределить категории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знакомиться с методами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оздать модель (методику)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овести серию опытов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апробировать модель (методику)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разработать рекомендации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формулировать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едложить способы решения …</a:t>
            </a:r>
            <a:br>
              <a:rPr sz="31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4200" y="50004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выражения задач как и в случае целей лучше использовать глагол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28760" y="1157400"/>
            <a:ext cx="8372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ЛУЧШЕ ОБОСНОВАТЬ АКТУАЛЬНОСТЬ ПРОЕКТ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00040" y="3643200"/>
            <a:ext cx="82296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условиях обучения актуальность выполнения проекта полезно рассматривать с позиции практического значения ожидаемых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7120" y="857160"/>
            <a:ext cx="850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 связывается с доказательством важности выполнения проекта в настоящее время. Убедительным  основанием, определяющим ее, являет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й заказ, отражающий острые, общественно значимые проблемы,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ующие безотлагательного ре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00040" y="1928880"/>
            <a:ext cx="82296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чему выбрана данная, а не другая тема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Почему тема действительно интересна дл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рактики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Каково новые знание, которое предлагаетс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олучить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Каков замысел проекта в целом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Что сделано до Вас, и что предстоит сдела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Ва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5840" y="100008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босновании актуальности темы проекта важно ответить на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57120" y="1589040"/>
            <a:ext cx="83725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УЕТСЯ ПРОБЛЕМ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14200" y="3676680"/>
            <a:ext cx="865836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качестве одного из наиболее значимых показателей существования проблемы следует рассматривать наличие объективно проявляющихся противоречий. Логично предположить, что если существует какое-то противоречие, значит имеется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блема, которая  подлежит изуч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5840" y="200016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 - это вопрос, ответ на который не содержится в накопленном обществом научном зн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40" y="28584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сути, ставя проблему, любой из нас задается вопросом, что надо изучить из того, что раньше не было изуч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14200" y="3786120"/>
            <a:ext cx="87156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отиворечии одно явление (мысль, высказывания) исключает другое, несовместимое с ним (к примеру, противоречие в сфере образования, политики, культуры, воспитания; в науках - биологии, географии, литератур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42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тиворечия выражаются до проблемы. При этом используются суждения, начиная со слова «межд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4200" y="1857240"/>
            <a:ext cx="8715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речие - это взаимодействие между взаимоисключающими друг друга противоположностями внутри единого объекта и его состоя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00040" y="1714680"/>
            <a:ext cx="82296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ду потребностью современного общества в личности, обладающей высокой нравственной культурой, основанной на осмыслении национальных (русских) традиций, и слабой разработанностью технологий формирования этой культуры с учетом современной социальной 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7120" y="157176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 противореч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28760" y="3924360"/>
            <a:ext cx="82296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мер проблемы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ковы формы и методы, необходимые и достаточные для формирования нравственной культуры обучающихся на основе использования национальных (русских) традиц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5840" y="10000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у лучше формулировать в виде вопр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5840" y="192888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 логически вытекает из установленных противоречий и переводится исследователями в плоскость по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5840" y="142920"/>
            <a:ext cx="864396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 проектов использовался в России параллельно с разработками американских педагогов. Под руководством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 Т. Шацкого в 1905 г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ла группа  специалистов, которая внедряла  проектный метод в практику обучения школьников  различным предметам. В 1931 г. метод был исключен из способов работы педагогов. «Возвращение» этого метода в образовательные учреждения наблюдается в настоящее время, ибо новые стандарты общего образования  ориентированы на самостоятельную деятельность учащихся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ка метода проектов у нас связана с именам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. П. Блонского, М. В.  Крупениной,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В. Игнатьева, В. Н. Шульги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57120" y="1803240"/>
            <a:ext cx="844416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УЕТСЯ ГИПОТЕЗ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142884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потез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жный мыслительный прием, включающий процесс выдвижения предположения и его последующего обоснования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потез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заключение, в форме которого происходит выдвижение предположения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потез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ернутое и неочевидное предположение, в котором максимально подробно изложена модель будущего научного 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2920" y="14292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учной литературе имеются несколько определений гипотезы, делающих акценты на различных формах и сторонах ее осущест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00040" y="1603440"/>
            <a:ext cx="828684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Как предположение о той или иной форме связ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между наблюдаемыми явлениям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Как предположение о связи между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наблюдаемыми явлениями и внутренне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роизводящей осн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5840" y="464328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а должна быть проверяемой и, по возможности, простой, но, самое главное, содержать нечто н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4200" y="78588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ая гипотеза может выступать в двоякой р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57120" y="289872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мер описательной гипотезы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остояние окружающей среды зависит не сколько от концентраций выбрасываемых предприятиями химических веществ, сколько от того, что мы не смогли обеспечить качественную их очис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4200" y="121428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ы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первом проявлени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ютс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ательным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во втором 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снитель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85840" y="1214280"/>
            <a:ext cx="8515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мер объяснительной гипоте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39680" y="2000160"/>
            <a:ext cx="886464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28760" y="78588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работы над проек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42920" y="1643040"/>
          <a:ext cx="8858160" cy="4419720"/>
        </p:xfrm>
        <a:graphic>
          <a:graphicData uri="http://schemas.openxmlformats.org/drawingml/2006/table">
            <a:tbl>
              <a:tblPr/>
              <a:tblGrid>
                <a:gridCol w="1714320"/>
                <a:gridCol w="2571840"/>
                <a:gridCol w="2143080"/>
                <a:gridCol w="2428920"/>
              </a:tblGrid>
              <a:tr h="581040">
                <a:tc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</a:tr>
              <a:tr h="155412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ыдвижение идеи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ое формул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и основных целей выполнения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ают идею, собирают информацию, выдвигают свои формулировки 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яет смысл проектирования, участвует в обсуждении идеи, помогает формулировать тему и ц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</a:tr>
              <a:tr h="228456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ставление письменного плана выпол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источников информации, выбор методов выполнения и формы представления отчета, распределение обязанностей между участниками проекта, составление плана дейст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ют конкретный план индивидуальных и совместных действий, формулируют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яет смысл планирования, корректирует планы работы, помогает сформулировать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d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42920" y="1357200"/>
          <a:ext cx="8858160" cy="4084920"/>
        </p:xfrm>
        <a:graphic>
          <a:graphicData uri="http://schemas.openxmlformats.org/drawingml/2006/table">
            <a:tbl>
              <a:tblPr/>
              <a:tblGrid>
                <a:gridCol w="1785960"/>
                <a:gridCol w="2071800"/>
                <a:gridCol w="2428560"/>
                <a:gridCol w="2571840"/>
              </a:tblGrid>
              <a:tr h="228600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Выполнение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действий по сбору необходим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исследовательскую, информационную, практико-ориентированную работу по проекту, советуются между собой и учителем, накапливают матери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ют за работой и косвенно руководит (корректирует действ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</a:tr>
              <a:tr h="179892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вершение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анализ полученной информации, или оценка созданного объек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ирует информацию, выясняют ее недостатки,  оценивают созданный собственным трудом о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выполнить анализ, участвует в оценке созданного объекта как рядовой участ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142920" y="1571760"/>
          <a:ext cx="8858160" cy="3840120"/>
        </p:xfrm>
        <a:graphic>
          <a:graphicData uri="http://schemas.openxmlformats.org/drawingml/2006/table">
            <a:tbl>
              <a:tblPr/>
              <a:tblGrid>
                <a:gridCol w="1801800"/>
                <a:gridCol w="2252520"/>
                <a:gridCol w="2446560"/>
                <a:gridCol w="2357280"/>
              </a:tblGrid>
              <a:tr h="155412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дготовка отчета по проек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 оформлению отчета в соответствии с выбранной фор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отчетом- читают, считают, анализируют, пишут, составляют литературу, оформляют отчет, готовят выступ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составлять отчет, корректирует окончательный вариант отчета и выступ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</a:tr>
              <a:tr h="228600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едставление отчета и его 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ценности выполненного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тся о результатах своей работы, обсуждают, оценивают достоинства и недостатки проек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ет, задает вопросы, оценивает усилия учащихся, креативность и качество использования источников, выступления, проект в цел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036800" y="1494000"/>
            <a:ext cx="7350120" cy="3441600"/>
            <a:chOff x="1036800" y="1494000"/>
            <a:chExt cx="7350120" cy="344160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1036800" y="1494000"/>
              <a:ext cx="735012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36800" y="1494000"/>
              <a:ext cx="7350120" cy="34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5840" y="2030400"/>
            <a:ext cx="85010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совокупность документов  (расчетов, чертеже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для создания какого-либо объекта (сооружения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изделия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предварительный текст какого-либо документ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замысел, п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7120" y="71424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оект»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ч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от лат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jectus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 букв. - брошенный вперед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7120" y="47149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ирование - процесс создания проекта -  прообраза предполагаемого или возможного объ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00040" y="1320840"/>
            <a:ext cx="82296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ность метода проекто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решение какой-либо проблемы (задачи) на основе самостоятельной деятельности обучающихся при использовании соответствующих  способов, средств, знаний, включая  межпредметные и надпредметные,  интеллектуальных и практических умений, а также  реализации творческого  потенциала для получения конкретного результ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42920" y="2963880"/>
            <a:ext cx="885816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ным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ментами педагогической технологии являются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проблема, цель, задачи, содержание, методы, ресурсы, результат, оценка. Следовательно,  метод проектов можно представлять как педагогическую технологию, ибо его реализация соответствует целевому, содержательному, процессуальному, технологическому и результативно-оценочному аспекту педагог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2920" y="14292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снове реализации метода проектов в обучении предметам лежи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чески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2920" y="1071720"/>
            <a:ext cx="88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- целенаправленный, алгоритмический процес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й обеспечивает получение точного,  ожидаемого результ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2920" y="2251080"/>
            <a:ext cx="88725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пределение проблемы (задачи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формулирование цели (конкретных задач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связанных с решением проблемы)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дбор методов и средств решения проблемы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оведение исследовательской или иной работы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по решению проблемы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лучение и анализ данных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формление данных в виде текста (схемы, рисунка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бсуждение и корректировка данных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выражение ожидаемого результ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2920" y="14292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 образом, проектная техн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ует последовательного поиска решения проблемы (задач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2920" y="15717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овательность действий тако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71680" y="1189080"/>
            <a:ext cx="82296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даемый результа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краткое описание любого объекта; разработки каких-либо механизмов,  макетов, схем, компьютерных программ; характеристика конкретной деятельности по благоустройству окружающей среды, обслуживанию отдельных специальных групп населения, сохранению и рациональному использованию природных ресурсов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6:09:50Z</dcterms:created>
  <dc:creator>PC</dc:creator>
  <dc:description/>
  <dc:language>en-US</dc:language>
  <cp:lastModifiedBy>user</cp:lastModifiedBy>
  <dcterms:modified xsi:type="dcterms:W3CDTF">2013-10-18T16:30:58Z</dcterms:modified>
  <cp:revision>64</cp:revision>
  <dc:subject/>
  <dc:title>Технология проектного обучения</dc:title>
</cp:coreProperties>
</file>