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dt" idx="1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143000" y="600120"/>
            <a:ext cx="4570560" cy="359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D0BFC-4A31-4056-AE73-62C476382B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9FCAD3-E639-4FB0-8EF1-40A4AB6ECE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1AC54-AD7C-48BE-9E62-F8C2DFC862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E42B9F-CF18-4C34-AF09-A90B52BE3F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EBD1AB-2C1C-40D2-AA74-3B499757A5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BC77DF-E87E-4FEE-A8FC-40007F0A0F3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AB7E51-D85F-4F6A-8E57-8B5BDD24FC0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F05188-6777-4BA5-9756-44C52F7E14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3C698E-BAA3-4FCD-8689-7D255D2373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A41864-CA8D-49BF-A524-2FF8B97C15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766477-61A4-49D4-A479-80931E246A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9EC7AF-6A9F-4776-984E-EABADD4DEE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4688C4-E4C3-42B0-AD15-F64B162B62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8AA884-51A8-4FA1-8C84-71A89716A1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8F4CC4-0F89-4AA6-BEDB-C179E213D9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1F2ECE-C3EE-463D-AE8E-33A4A161C1C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A78B61-955E-4180-9843-A0874F27DB1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3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3A66D0-3BF8-47CF-84FA-12FD1D9CC1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B1D4-A497-401E-AFF1-221F6F04F3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D10A-FEC8-49AC-B6EA-851A7094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A12A-1457-40C1-B75A-594A1AE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93D6-A158-4B56-8EB6-73D47401E4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457FF-7445-4028-B361-1E5C210B3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0E54E-6B75-4CBB-B94A-C5D9588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36552-D4F4-4673-BD4F-3D952E6B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BBB5D-1E4D-416D-B14A-102B7BA4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69E68-461F-4478-95AE-75501ABC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0A6A9-A235-4382-B21D-35BB169A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277C6-2FFA-4592-ACD8-A61A37CF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1155-1A36-48E4-A465-17382BFA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B3C5D-C56E-4F7C-8162-0144930F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87276-0B34-4B0D-9503-53FEAC66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A5532-48FB-4F2F-AB22-5642925E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15474-188A-4B34-9ADF-6154D0F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C9F5F-621B-4188-BDE8-3AECC6D7F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B8AD-71D7-4863-8F7F-3D177DD6F5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D4C9-B1C2-4EDC-8098-C088B5E7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0A9F-29B7-4CED-B41E-768BA1AE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8C06-7783-47F3-9866-4E6B77D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2038-3D11-444C-B288-DBF94CC1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72B0-56FA-46A4-8B44-630EC6B6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E8ED-C814-420F-8044-F9492C55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E778-6766-4874-BA46-4973926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E093-A870-4693-96B1-3AFD49BE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6FB4-D041-4EDC-ADF0-05FE412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1CDC-DCAB-4369-91C5-2C984312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EC03-130B-47E8-BD34-20F04E2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A277-DB94-4072-94A4-3DA3A3167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CB55B-D6CF-4CDA-8718-A500726DE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9BA00-9A48-4C7C-8088-5618BB79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7814B-ABBA-4E0E-B4F7-56F4A2D9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DA95-BB9D-4953-991B-6351ECBD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1F430-FD9A-491E-9E1B-21DA05DA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69C26-653C-4102-B90C-90E55BE5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0D18A-43CF-4102-BF00-CF1435DE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1C34C-09CF-4E5D-AFAF-EAE1B557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83D63-FF86-4116-975E-97DE59F8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3ED60-A42F-4515-898C-BB588F70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27F33-BA83-4112-964D-34E2AED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F4BBD-F8E4-4F66-B9B3-C1CE98C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10D4A-6979-4416-83DE-DDAA78A980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002AA-5B51-46F6-986F-8FC8D78405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8D95-13E2-47D2-A94B-A909D42C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0D9BD-D38F-4742-BCE9-8485D6D7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47EB1-BC05-4EAD-9147-368A1046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9473E-8387-4262-9E8F-4608DD66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A31972-0D60-4C2E-9288-1E46F459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3AFEB-C883-49C3-9F19-043AA805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E6581-BED6-4D35-A81D-AB50880A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15D95-B42D-4678-8C70-9D7C5421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A14C5-716B-4D96-8B3F-C51729DA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8213C-B72C-417C-BA2F-FC7BDDE1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0C602-0400-4504-80B8-CC6613B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D87F-4618-4CA6-B483-F9C53BAF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1FF31C-1443-48A9-9524-501AACD06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67B1-5D34-4250-A5E1-1066EAF28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049E-01ED-46AA-BBA7-01A2C53E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83C9-FD1D-4DCF-9AE0-E0D7D25E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A62B-87B8-4721-968B-D8213F6B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F0B73-B7DB-4864-8FB8-3B5EA0F7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4B787-3144-4851-AD4C-15D31ACC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C526-B862-451F-AAB0-39A8691A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E13E-F6DC-42E2-B89B-300223D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A78A-6E4C-4FCB-A760-3E5D5B50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9D33-A526-4B01-9730-771FADB3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07C6D-EF62-4CA2-9BB5-623DC08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DD260-EB7E-493A-B200-0731CB5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4047-BE88-4163-8956-E959262DE1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E0B3-900B-48AB-98CD-BF6B4791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DE62-6EB1-4C05-9214-E2FA75CF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7051D4-48FA-4F00-B6F0-8590C5E61B9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FCC368-F729-497D-BBC3-9E461729C32E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D151741-028D-4036-95DA-32B4518DB70F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BDB139F-FDBD-4580-B8B0-DCA891888381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19880"/>
            <a:ext cx="760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E78F6C8-7CBC-401F-BC0B-99F801522E00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9E60E9C-2ABE-41F4-84BD-76923E1ADEEE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036800" y="1494000"/>
            <a:ext cx="7350120" cy="3441600"/>
            <a:chOff x="1036800" y="1494000"/>
            <a:chExt cx="7350120" cy="34416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1036800" y="1494000"/>
              <a:ext cx="735012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036800" y="1494000"/>
              <a:ext cx="7350120" cy="34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28760" y="2235240"/>
            <a:ext cx="82296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БЫВАЮТ ПРОЕКТЫ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57120" y="965160"/>
            <a:ext cx="85726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количеству учащихся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индивидуальны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групповые (парные, звеньевые, бригадные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содержанию и привязке к учебным дисциплинам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монопредмет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межпредмет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надпредметны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продолжительности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краткосрочные  (мини-проекты: от 1 до 3 уроков - неделя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реднесрочные (от 1 до 4 недель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долгосрочные (от 4 недель до 1 г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7120" y="214200"/>
            <a:ext cx="8572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ы классифицируют по определенным призна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 доминирующему виду деятельности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информацион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полагают сбор, обработку и анализ информации к какой-либо учебной проблеме; поиск информации, ее  обобщение, ранжирование, структурирование и представление в виде реферата, доклада, таблицы, логической схемы, графиков и видеоматериалов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исследователь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делирование ситуаций реального научного поиска на основе его логики и структуры; определение проблемы,  темы, объекта, цели, задач, гипотезы, методов, этапов, новизны, практической значимости исследования; представление результата в виде отчета исследовательской работ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твор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ние ситуаций для развития творческих способностей; представление результатов в виде сценария, выпуска газеты, радиопередачи, видеофильма, вы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8760" y="146160"/>
            <a:ext cx="82296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характеру контактов: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внутригруппов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внутритехникумов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региональные (в пределах одной страны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международны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нностно-ориентированные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эколог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оциаль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культурологически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эконом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) полит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) технолог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) смешанны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28760" y="870120"/>
            <a:ext cx="82296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М ОТЛИЧАЕТСЯ ТЕХНОЛОГИЯ ПРОЕКТНОГО ОБУЧЕНИЯ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200" y="966960"/>
            <a:ext cx="89298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формирование личностно значимых способов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учебной работы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овладение способами самообразован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обеспечение перевода обучающегося в реж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саморазвит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стимулирование самостоятельной работы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бучающихс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приобретение опыта социального взаимодейств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) развитие коммуникативных способносте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бучающихс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) приобретение инициатив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7120" y="64296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е отличительные призн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14240" y="2603520"/>
            <a:ext cx="76582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деятельностны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личностно ориентированны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компетентностны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гуманистически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культурологически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ценно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85920" y="15717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ческие подход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57120" y="1731960"/>
            <a:ext cx="82296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ОВАТЬ ТЕМУ ПРОЕКТ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1322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учитывается содержание учебных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рограмм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учитывается возраст и уровень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бучающихс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учитываются интересы и потреб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бучающихся (познавательные, прикладны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творческие, ценностные и др.)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учитываются особенности своей личности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учитывается практическая значим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жидаемых результ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4200" y="28584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выбирается и формулируется с учетом определенных обстоятель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00040" y="560520"/>
            <a:ext cx="8229600" cy="56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заранее формулироваться специалистами различных отраслей наук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выдвигаться преподавателями с учетом учебной ситуации по своей дисциплин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предлагаться самими обучающимися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1300"/>
            </a:b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2920" y="64296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и формулирования 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4200" y="521496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ировка темы должна быть краткой, понятной, проблемной, смыслосодержаще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28760" y="642960"/>
            <a:ext cx="84294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ектного обучения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никла в начале прошлого столетия в США. Первоначально она была известна под названием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тод проектов»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 (или)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тод проблем»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Автором этого метода был американский философ и педагог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он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ью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В дальнейшем метод разрабатывался его учеником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ильямом Хердом Килпатри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28760" y="1177920"/>
            <a:ext cx="82296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формулироваться в рамках одного или нескольких учебных дисциплин,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отражать социальные, культурологические, экономические, экологические, политические и другие проблемы,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иметь комплексный харак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4360" y="100008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28760" y="1517760"/>
            <a:ext cx="82296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ОВАТЬ ЦЕЛИ И ЗАДАЧИ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57120" y="5681520"/>
            <a:ext cx="8501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всегда формулируется в соотношен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емой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8760" y="142920"/>
            <a:ext cx="8286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мотное формулирование цели - особое умение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о иметь в виду, что по отношению к выбранной теме лучше сформулировать одну цель и несколько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5840" y="1928880"/>
            <a:ext cx="857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 проект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обоснованное представление об общих, конечных результатах совместных действий участников проек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4200" y="392904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ли, по существу, формулируется общий замысел исследования. Поэтому необходимо стремиться к  лаконичному и предельно точному в смысловом отношении формулированию ц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5840" y="221472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 ты хочешь создать в результате проектирования?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7120" y="214200"/>
            <a:ext cx="8572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8760" y="35712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сути организаторам и участникам проектирования необходимо ответить на  вопрос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7120" y="4286160"/>
            <a:ext cx="842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и созданиями могут быть: описание и характеристика объектов и явлений, логическая схема, модель, чертежи, текст любого документа, план создания чего-либо (парка, дендрария), компьютерная программа, макет,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14240" y="2786040"/>
            <a:ext cx="3929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выяснить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сформулиров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обоснов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созд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разработат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7120" y="142884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лучше формулировать, начиная с глагол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2857680"/>
            <a:ext cx="400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) организов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) провести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) оказать помощ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) апробировать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71680" y="2306520"/>
            <a:ext cx="81435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ВЫРАЖАТЬ ЗАДАЧИ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00040" y="371484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о знать об основных категориях задач. Лучше их соотносить с основными видами деятельности учащихся, которые реализуются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ходе выполнения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5840" y="11430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 развертывается в совокупности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2920" y="242892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- это, как правило, конкретизированные или более частные ц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28760" y="571680"/>
            <a:ext cx="818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категории задач проек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14200" y="2044800"/>
          <a:ext cx="8715600" cy="365256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52056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: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деятельност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</a:tr>
              <a:tr h="313200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те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бра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лит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о-правов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ориентацион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28760" y="1407960"/>
            <a:ext cx="8229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ВО СОДЕРЖАНИЕ ОБОЗНАЧЕННЫХ ЗАДАЧ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85840" y="5192640"/>
            <a:ext cx="842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умений работать в парах, группе, ориентированных на совместное достижение ожидаемого результата проек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200" y="1429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4200" y="71424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знаватель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5840" y="121428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изучением особенностей объектов (предметов) окружающего мира, способов (методов) решения проблем; овладением умениями работы с источниками; постановкой эксперимента (организация и проведение опыт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271476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оммуникатив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4200" y="321480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ознакомлением и усвоением способов речевого взаимодействия между участниками проекта (анализ, аргументация, преобразование информации, ее грамотное выражение, культура речи и отношений между партнер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4200" y="471492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ооператив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00040" y="68112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жон Дьюи предлагал обучать обучающихся на активной основе, через целесообразную деятельность, учитывая его личный  интерес в определенном знании. При этом важным являлось отрица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блемы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знакомой и значимой для ребенка, при решении которой требовалось приложение полученных знаний. Возникало объективное условие для «движения» обучаемого от теории к практике, соединение академических знаний с практическими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жон Дьюи определил этот метод как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учение через дел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85840" y="5045040"/>
            <a:ext cx="8643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умений самоорганизации: грамотной постановки задач, определения методов их решения, планирования собственной работы, определения своей роли при группов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4200" y="1429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4200" y="57168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еобразователь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4200" y="10000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умений практического характера, направленных на улучшение состояния объектов окружающ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4200" y="20718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дачи самообразования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4200" y="25002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знаний и умений для самостоятельного решения возникающих учебных и друг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4200" y="32148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ворчески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4200" y="364320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реализацией потенциала личности учащихся, необходимого для создания оригинальных  результатов проектирования - сочинения, схемы, конструкции, моде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4200" y="464328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рганизацион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28760" y="1714680"/>
            <a:ext cx="8229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изучить литературу по теме и выяснить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пределить категории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знакомиться с методами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оздать модель (методику)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овести серию опытов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апробировать модель (методику)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разработать рекомендации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формулировать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едложить способы решения …</a:t>
            </a:r>
            <a:br>
              <a:rPr sz="31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4200" y="50004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выражения задач как и в случае целей лучше использовать глагол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28760" y="1157400"/>
            <a:ext cx="8372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ЛУЧШЕ ОБОСНОВАТЬ АКТУАЛЬНОСТЬ ПРОЕКТ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00040" y="3643200"/>
            <a:ext cx="82296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условиях обучения актуальность выполнения проекта полезно рассматривать с позиции практического значения ожидаемых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7120" y="857160"/>
            <a:ext cx="850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 связывается с доказательством важности выполнения проекта в настоящее время. Убедительным  основанием, определяющим ее, являет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й заказ, отражающий острые, общественно значимые проблемы,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ующие безотлагательного ре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00040" y="1928880"/>
            <a:ext cx="82296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чему выбрана данная, а не другая тема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Почему тема действительно интересна дл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рактики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Каково новые знание, которое предлагаетс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олучить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Каков замысел проекта в целом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Что сделано до Вас, и что предстоит сдела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Ва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5840" y="100008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босновании актуальности темы проекта важно ответить на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57120" y="1589040"/>
            <a:ext cx="83725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УЕТСЯ ПРОБЛЕМ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14200" y="3676680"/>
            <a:ext cx="865836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качестве одного из наиболее значимых показателей существования проблемы следует рассматривать наличие объективно проявляющихся противоречий. Логично предположить, что если существует какое-то противоречие, значит имеется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блема, которая  подлежит изуч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5840" y="200016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 - это вопрос, ответ на который не содержится в накопленном обществом научном зн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40" y="28584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сути, ставя проблему, любой из нас задается вопросом, что надо изучить из того, что раньше не было изуч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14200" y="3786120"/>
            <a:ext cx="87156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отиворечии одно явление (мысль, высказывания) исключает другое, несовместимое с ним (к примеру, противоречие в сфере образования, политики, культуры, воспитания; в науках - биологии, географии, литератур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42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тиворечия выражаются до проблемы. При этом используются суждения, начиная со слова «межд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4200" y="1857240"/>
            <a:ext cx="8715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речие - это взаимодействие между взаимоисключающими друг друга противоположностями внутри единого объекта и его состоя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00040" y="1714680"/>
            <a:ext cx="82296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ду потребностью современного общества в личности, обладающей высокой нравственной культурой, основанной на осмыслении национальных (русских) традиций, и слабой разработанностью технологий формирования этой культуры с учетом современной социальной 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7120" y="157176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 противореч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28760" y="3924360"/>
            <a:ext cx="82296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мер проблемы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ковы формы и методы, необходимые и достаточные для формирования нравственной культуры обучающихся на основе использования национальных (русских) традиц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5840" y="10000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у лучше формулировать в виде вопр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5840" y="192888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 логически вытекает из установленных противоречий и переводится исследователями в плоскость по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5840" y="142920"/>
            <a:ext cx="864396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 проектов использовался в России параллельно с разработками американских педагогов. Под руководством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 Т. Шацкого в 1905 г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ла группа  специалистов, которая внедряла  проектный метод в практику обучения школьников  различным предметам. В 1931 г. метод был исключен из способов работы педагогов. «Возвращение» этого метода в образовательные учреждения наблюдается в настоящее время, ибо новые стандарты общего образования  ориентированы на самостоятельную деятельность учащихся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ка метода проектов у нас связана с именам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. П. Блонского, М. В.  Крупениной,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В. Игнатьева, В. Н. Шульги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57120" y="1803240"/>
            <a:ext cx="844416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УЕТСЯ ГИПОТЕЗ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142884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потез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жный мыслительный прием, включающий процесс выдвижения предположения и его последующего обоснования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потез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заключение, в форме которого происходит выдвижение предположения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потез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ернутое и неочевидное предположение, в котором максимально подробно изложена модель будущего научного 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2920" y="14292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учной литературе имеются несколько определений гипотезы, делающих акценты на различных формах и сторонах ее осущест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00040" y="1603440"/>
            <a:ext cx="828684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Как предположение о той или иной форме связ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между наблюдаемыми явлениям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Как предположение о связи между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наблюдаемыми явлениями и внутренне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роизводящей осн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5840" y="464328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а должна быть проверяемой и, по возможности, простой, но, самое главное, содержать нечто н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4200" y="78588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ая гипотеза может выступать в двоякой р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57120" y="289872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мер описательной гипотезы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остояние окружающей среды зависит не сколько от концентраций выбрасываемых предприятиями химических веществ, сколько от того, что мы не смогли обеспечить качественную их очис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4200" y="121428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ы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первом проявлени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ютс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ательным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во втором 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снитель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85840" y="1214280"/>
            <a:ext cx="8515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мер объяснительной гипоте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39680" y="2000160"/>
            <a:ext cx="886464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28760" y="78588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работы над проек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42920" y="1643040"/>
          <a:ext cx="8858160" cy="4419720"/>
        </p:xfrm>
        <a:graphic>
          <a:graphicData uri="http://schemas.openxmlformats.org/drawingml/2006/table">
            <a:tbl>
              <a:tblPr/>
              <a:tblGrid>
                <a:gridCol w="1714320"/>
                <a:gridCol w="2571840"/>
                <a:gridCol w="2143080"/>
                <a:gridCol w="2428920"/>
              </a:tblGrid>
              <a:tr h="581040">
                <a:tc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</a:tr>
              <a:tr h="155412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ыдвижение идеи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ое формул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и основных целей выполнения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ают идею, собирают информацию, выдвигают свои формулировки 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яет смысл проектирования, участвует в обсуждении идеи, помогает формулировать тему и ц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</a:tr>
              <a:tr h="228456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ставление письменного плана выпол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источников информации, выбор методов выполнения и формы представления отчета, распределение обязанностей между участниками проекта, составление плана дейст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ют конкретный план индивидуальных и совместных действий, формулируют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яет смысл планирования, корректирует планы работы, помогает сформулировать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ed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42920" y="1357200"/>
          <a:ext cx="8858160" cy="4084920"/>
        </p:xfrm>
        <a:graphic>
          <a:graphicData uri="http://schemas.openxmlformats.org/drawingml/2006/table">
            <a:tbl>
              <a:tblPr/>
              <a:tblGrid>
                <a:gridCol w="1785960"/>
                <a:gridCol w="2071800"/>
                <a:gridCol w="2428560"/>
                <a:gridCol w="2571840"/>
              </a:tblGrid>
              <a:tr h="228600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Выполнение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действий по сбору необходим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исследовательскую, информационную, практико-ориентированную работу по проекту, советуются между собой и учителем, накапливают матери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ют за работой и косвенно руководит (корректирует действ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</a:tr>
              <a:tr h="179892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вершение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анализ полученной информации, или оценка созданного объек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ирует информацию, выясняют ее недостатки,  оценивают созданный собственным трудом о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выполнить анализ, участвует в оценке созданного объекта как рядовой участ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142920" y="1571760"/>
          <a:ext cx="8858160" cy="3840120"/>
        </p:xfrm>
        <a:graphic>
          <a:graphicData uri="http://schemas.openxmlformats.org/drawingml/2006/table">
            <a:tbl>
              <a:tblPr/>
              <a:tblGrid>
                <a:gridCol w="1801800"/>
                <a:gridCol w="2252520"/>
                <a:gridCol w="2446560"/>
                <a:gridCol w="2357280"/>
              </a:tblGrid>
              <a:tr h="155412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дготовка отчета по проек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 оформлению отчета в соответствии с выбранной фор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отчетом- читают, считают, анализируют, пишут, составляют литературу, оформляют отчет, готовят выступ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составлять отчет, корректирует окончательный вариант отчета и выступ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e848d"/>
                    </a:solidFill>
                  </a:tcPr>
                </a:tc>
              </a:tr>
              <a:tr h="2286000"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едставление отчета и его 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ценности выполненного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тся о результатах своей работы, обсуждают, оценивают достоинства и недостатки проек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ет, задает вопросы, оценивает усилия учащихся, креативность и качество использования источников, выступления, проект в цел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9d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036800" y="1494000"/>
            <a:ext cx="7350120" cy="3441600"/>
            <a:chOff x="1036800" y="1494000"/>
            <a:chExt cx="7350120" cy="344160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1036800" y="1494000"/>
              <a:ext cx="735012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36800" y="1494000"/>
              <a:ext cx="7350120" cy="34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5840" y="2030400"/>
            <a:ext cx="85010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совокупность документов  (расчетов, чертеже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для создания какого-либо объекта (сооружения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изделия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предварительный текст какого-либо документ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замысел, п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7120" y="71424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оект»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ч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от лат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jectus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 букв. - брошенный вперед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7120" y="47149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ирование - процесс создания проекта -  прообраза предполагаемого или возможного объ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00040" y="1320840"/>
            <a:ext cx="82296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ность метода проекто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решение какой-либо проблемы (задачи) на основе самостоятельной деятельности обучающихся при использовании соответствующих  способов, средств, знаний, включая  межпредметные и надпредметные,  интеллектуальных и практических умений, а также  реализации творческого  потенциала для получения конкретного результ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42920" y="2963880"/>
            <a:ext cx="885816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ным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ментами педагогической технологии являются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проблема, цель, задачи, содержание, методы, ресурсы, результат, оценка. Следовательно,  метод проектов можно представлять как педагогическую технологию, ибо его реализация соответствует целевому, содержательному, процессуальному, технологическому и результативно-оценочному аспекту педагог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2920" y="14292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снове реализации метода проектов в обучении предметам лежи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чески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2920" y="1071720"/>
            <a:ext cx="88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- целенаправленный, алгоритмический процес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й обеспечивает получение точного,  ожидаемого результ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2920" y="2251080"/>
            <a:ext cx="88725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пределение проблемы (задачи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формулирование цели (конкретных задач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связанных с решением проблемы)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дбор методов и средств решения проблемы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оведение исследовательской или иной работы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по решению проблемы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лучение и анализ данных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формление данных в виде текста (схемы, рисунка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бсуждение и корректировка данных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выражение ожидаемого результ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2920" y="14292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 образом, проектная техн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ует последовательного поиска решения проблемы (задач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2920" y="15717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овательность действий тако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71680" y="1189080"/>
            <a:ext cx="82296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даемый результа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краткое описание любого объекта; разработки каких-либо механизмов,  макетов, схем, компьютерных программ; характеристика конкретной деятельности по благоустройству окружающей среды, обслуживанию отдельных специальных групп населения, сохранению и рациональному использованию природных ресурсов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6:09:50Z</dcterms:created>
  <dc:creator>PC</dc:creator>
  <dc:description/>
  <dc:language>en-US</dc:language>
  <cp:lastModifiedBy>user</cp:lastModifiedBy>
  <dcterms:modified xsi:type="dcterms:W3CDTF">2013-10-18T16:30:58Z</dcterms:modified>
  <cp:revision>64</cp:revision>
  <dc:subject/>
  <dc:title>Технология проектного обучения</dc:title>
</cp:coreProperties>
</file>