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D716-FAE4-4E7C-AE01-BBC3585082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0A92-C9FA-4B0D-B532-81127779B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580-5E99-416D-B480-6F19C4A4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2B9-F2AB-4150-882F-5302ED9B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026-354D-4801-9FA1-72150458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45F-C5FF-4F67-9E84-DEAFC1B9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08CD-92F4-4373-A88E-CB4F904A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CC95-54E6-47B5-A5E9-45634FA0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0CFF-1601-4466-852E-03662C9A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0214-BA1D-41A5-944C-D137F3FA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503A-9762-495D-B19D-57DACF4E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380B-222F-4ED9-8078-50755C47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0EE1-87EB-4421-A65E-E482C46D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870-32C3-4B7B-BED6-181D1342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1EB7-386E-4856-BFA6-E419E461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4113-3635-4498-8FF9-9A2F904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C9A2-C040-4AEB-A073-2FBBB1C9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7F60-01A3-49AE-BFFC-E1F150D6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931C-3E4F-4427-9F90-712072A1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79CF-D68C-4464-8A5B-CEA2E3F7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B601-84BC-4372-B3FA-EA9676B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0EDC-4DEA-4357-92C1-CEB75CDA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FCA6-A4BB-481F-BC25-7240164E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C394-29F5-46D7-80F9-D0E76E49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D65-8FD9-4E62-8BD0-3CBD6C00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D123-34E4-4F22-9292-605375AA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0451-5A4A-4B2E-B6F9-F7D5B66C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C534-F738-4BDF-B051-B994C654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8256-001A-4165-8D7A-3938AC3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54E7C-C59B-450B-A554-ABE84682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213D-CEA8-4114-9153-07E90534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B831C-8F91-4CB2-BD61-1F4CBDE7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6D2-32B3-46DE-82F7-3633704D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453-E202-422E-9CCD-0CF44FA3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1E4-3C01-46D3-9471-40614D7D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A00-A3BD-4621-9A03-94F9919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7BC-F38A-45F7-A822-025E24B3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931-9CA5-4730-99CB-2C74D582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B4D5-C26B-4768-8B65-35982CC1E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21A9-E36A-4E4E-9E36-74BDE38EE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2EAA-1A2E-438D-93AC-F8E79C393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28560" y="64260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едняя общеобразовательная школа с.Иштии-Х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147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оль местоимений в реч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4284720" y="4869000"/>
            <a:ext cx="32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с.Иштии-Х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нга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афически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Местоимение – часть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н – это местоим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стоимения не называют предмет и не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ют на н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Личные местоимения заменяют имен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итель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Мы,он,ох,она,я,у – здесь записаны только         местоим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Местоимение – часть речи.  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Он – это местоимение. 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Местоимения не называют предмет и не указывают на него. (-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Личные местоимения заменяют имена существительные. (+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Мы,он,ох,она,я,у – здесь записаны только местоимения (-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кова была тема нашего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правились ли мы с задачами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к отличить местоимение от других частей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кова роль местоимения в нашей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868680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900" spc="-1" strike="noStrike">
                <a:solidFill>
                  <a:srgbClr val="339966"/>
                </a:solidFill>
                <a:latin typeface="Calibri"/>
              </a:rPr>
              <a:t> </a:t>
            </a:r>
            <a:r>
              <a:rPr b="0" lang="ru-RU" sz="10900" spc="-1" strike="noStrike">
                <a:solidFill>
                  <a:srgbClr val="339966"/>
                </a:solidFill>
                <a:latin typeface="Calibri"/>
              </a:rPr>
              <a:t>Молодцы!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350262_336558"/>
          <p:cNvPicPr/>
          <p:nvPr/>
        </p:nvPicPr>
        <p:blipFill>
          <a:blip r:embed="rId1"/>
          <a:stretch/>
        </p:blipFill>
        <p:spPr>
          <a:xfrm>
            <a:off x="2209680" y="22860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Эпиграф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599840"/>
            <a:ext cx="7643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«</a:t>
            </a: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ему бы ты ни учился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ы учишься для себя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»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ревнеримский писатель: Петро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Прочитай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Я, ты, он, о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месте целая – стра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месте дружная – семь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 слове «мы» – сто тысяч «я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Большеглазых, озорны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Чёрных, рыжих и льняны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Грустных и весё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 городах и сел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( Р. Рождественск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Прочитай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о  о себе такого мнен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ромна роль местоимения!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о отдается  делу  сполна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тоимение  заменяет  имен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143000" y="714240"/>
            <a:ext cx="718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им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местоимений  в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900000" y="201060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дачи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Узна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ковы особенности личных местои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учим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спознавать личные местои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втор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рфографию, разбор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ебник с.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755640" y="1413000"/>
            <a:ext cx="70563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Georgia"/>
              </a:rPr>
              <a:t>Прочитай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 и Мы, Ты и Вы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н, Она, Оно, Они –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се слова отличные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ажные и личные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Это без сомнения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се местоим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{50A015BA-8DD5-4A04-B848-FB0070199EBA}"/>
          <p:cNvPicPr/>
          <p:nvPr/>
        </p:nvPicPr>
        <p:blipFill>
          <a:blip r:embed="rId1"/>
          <a:srcRect l="17345" t="14418" r="0" b="0"/>
          <a:stretch/>
        </p:blipFill>
        <p:spPr>
          <a:xfrm>
            <a:off x="514440" y="358920"/>
            <a:ext cx="8256600" cy="64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са - хищное животное.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на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едает мышей, зайцев, диких уток. Иногда хищница таскает кур и цыплят в деревнях. Главная её пища -  лесные мыши. Этим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н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приносит пользу. Ведь лесные мыши вредят хлебным расте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Физкультурная 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иду и ты идё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, два, т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ю и ты поё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, два, т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идём и мы по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, два, т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чень дружно мы по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, два, три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Адм</cp:lastModifiedBy>
  <dcterms:modified xsi:type="dcterms:W3CDTF">2023-02-14T14:52:57Z</dcterms:modified>
  <cp:revision>121</cp:revision>
  <dc:subject/>
  <dc:title>Слайд 1</dc:title>
</cp:coreProperties>
</file>