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959EF-62D8-40BE-AC58-4E57FF0FBAA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83587-B647-4607-8465-B24FBFD934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0E13-6BC4-4644-8B3E-9EE11FAF4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E7A2-363F-474D-B4FD-DF29132B8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F200-262B-4E7D-9EDA-4041C40C7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40F6-6A17-4554-912B-A5494F600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31F21-F4E8-4850-ABCC-AD68CBD21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E5548-D338-463C-AC33-96E968AF0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9B97C-1858-4715-BEFD-1D8220E9E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9EDA1-3B82-44F4-B2D5-45C0BC08F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33DEE-FAA8-47DE-B311-4AC8EFBAB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9B71A-DB6B-4822-B3CD-6F5ADD79C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12A78-D6C4-4F43-9C96-612F67C8A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42F8-B29B-4E54-964B-5ECEC3316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D29AD-BCF1-4CCA-87DD-302A4BF60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FC826-154E-4454-B8C6-2C052B40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B5FF5-B180-4C0E-B752-731A30975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94E05-A443-4224-B214-37887B39D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0B53F-088B-4BE8-9D46-7D243B7AD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49DE8-A0D0-4F49-8E5E-985D98137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1AABC-F56C-4254-8C22-CF7FECA3E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A409A-588B-4BC0-B590-6E31B0BC2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B3196-8334-44AE-B747-B624BA818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06C04-47DD-4BC9-8698-B6EE7E660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2FB4-F1E1-423D-AF28-E64E1054B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2EFD8-B03E-478B-BE21-582AC4677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544D1-8DDF-4390-92BC-D882A212B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FEF6C-91CB-4B5E-8569-BD74A49F0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5A6D9-BADD-431A-81E9-BD47489D6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89C15-62E9-4CEA-B1FE-427C0CE68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4BD25-C6F2-4A78-9684-442B72FFB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D6355-B9F5-42A4-A47D-F7E7E374F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8EBE-FFA2-4B4B-8464-747A0721C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46A2-BC4F-43F7-8159-D3DBB4F31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381C-7898-486B-AF32-E7DD32BE3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2339-C64B-43FE-92B6-9F93BAA23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6242-0438-4C7E-8FA4-1980DEE9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7C49-B824-4731-98DC-193DD551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C7644-55B5-44FF-93A4-A8F59A6016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post-279854-1298288370.png"/>
          <p:cNvPicPr/>
          <p:nvPr/>
        </p:nvPicPr>
        <p:blipFill>
          <a:blip r:embed="rId3"/>
          <a:stretch/>
        </p:blipFill>
        <p:spPr>
          <a:xfrm>
            <a:off x="7500960" y="-42876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7" descr="post-279854-1298288370.png"/>
          <p:cNvPicPr/>
          <p:nvPr/>
        </p:nvPicPr>
        <p:blipFill>
          <a:blip r:embed="rId4"/>
          <a:stretch/>
        </p:blipFill>
        <p:spPr>
          <a:xfrm>
            <a:off x="0" y="214200"/>
            <a:ext cx="2357280" cy="207180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8" descr="97e6b01896c7.png"/>
          <p:cNvPicPr/>
          <p:nvPr/>
        </p:nvPicPr>
        <p:blipFill>
          <a:blip r:embed="rId5"/>
          <a:stretch/>
        </p:blipFill>
        <p:spPr>
          <a:xfrm rot="20340000">
            <a:off x="-628200" y="-348840"/>
            <a:ext cx="3330360" cy="2681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79F00-91F4-46C1-8D07-3DC4657B5D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E0164-21EB-4047-9D0D-F43E9AF496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428560" y="642600"/>
            <a:ext cx="5832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униципальное общеобразовательное учреждение</a:t>
            </a:r>
            <a:br>
              <a:rPr sz="1800"/>
            </a:br>
            <a:r>
              <a:rPr b="0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редняя общеобразовательная школа с.Иштии-Хе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2214720" y="21430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Урок русского язы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Роль местоимений в реч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4 клас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1"/>
          <p:cNvSpPr/>
          <p:nvPr/>
        </p:nvSpPr>
        <p:spPr>
          <a:xfrm>
            <a:off x="4284720" y="4869000"/>
            <a:ext cx="32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СОШ с.Иштии-Х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нгаа А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рафический диктан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Местоимение – часть реч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Он – это местоимен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Местоимения не называют предмет и не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казывают на нег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. Личные местоимения заменяют имена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уществительны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. Мы,он,ох,она,я,у – здесь записаны только         местоим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вет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Местоимение – часть речи.  (+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Он – это местоимение. (+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Местоимения не называют предмет и не указывают на него. (-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Личные местоимения заменяют имена существительные. (+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Мы,он,ох,она,я,у – здесь записаны только местоимения (-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Какова была тема нашего урок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Справились ли мы с задачами урок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Как отличить местоимение от других частей реч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Какова роль местоимения в нашей реч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291600"/>
            <a:ext cx="8686800" cy="191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900" spc="-1" strike="noStrike">
                <a:solidFill>
                  <a:srgbClr val="339966"/>
                </a:solidFill>
                <a:latin typeface="Calibri"/>
              </a:rPr>
              <a:t> </a:t>
            </a:r>
            <a:r>
              <a:rPr b="0" lang="ru-RU" sz="10900" spc="-1" strike="noStrike">
                <a:solidFill>
                  <a:srgbClr val="339966"/>
                </a:solidFill>
                <a:latin typeface="Calibri"/>
              </a:rPr>
              <a:t>Молодцы!</a:t>
            </a:r>
            <a:endParaRPr b="0" lang="en-US" sz="10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6" descr="350262_336558"/>
          <p:cNvPicPr/>
          <p:nvPr/>
        </p:nvPicPr>
        <p:blipFill>
          <a:blip r:embed="rId1"/>
          <a:stretch/>
        </p:blipFill>
        <p:spPr>
          <a:xfrm>
            <a:off x="2209680" y="2286000"/>
            <a:ext cx="4572000" cy="441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Calibri"/>
              </a:rPr>
              <a:t>Эпиграф уро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6840" y="1599840"/>
            <a:ext cx="764388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ru-RU" sz="4800" spc="-1" strike="noStrike">
                <a:solidFill>
                  <a:srgbClr val="00b050"/>
                </a:solidFill>
                <a:latin typeface="Calibri"/>
              </a:rPr>
              <a:t>«</a:t>
            </a:r>
            <a:r>
              <a:rPr b="1" lang="ru-RU" sz="4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Чему бы ты ни учился,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ты учишься для себя</a:t>
            </a:r>
            <a:r>
              <a:rPr b="0" lang="ru-RU" sz="4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»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Древнеримский писатель: Петрон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50"/>
                </a:solidFill>
                <a:latin typeface="Calibri"/>
              </a:rPr>
              <a:t>Прочитай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Я, ты, он, она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Вместе целая – страна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Вместе дружная – семья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В слове «мы» – сто тысяч «я»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Большеглазых, озорных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Чёрных, рыжих и льняных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Грустных и весёлы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В городах и села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                                                          </a:t>
            </a: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( Р. Рождественский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50"/>
                </a:solidFill>
                <a:latin typeface="Calibri"/>
              </a:rPr>
              <a:t>Прочитай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но  о себе такого мнения:</a:t>
            </a:r>
            <a:br>
              <a:rPr sz="4000"/>
            </a:b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громна роль местоимения!</a:t>
            </a:r>
            <a:br>
              <a:rPr sz="4000"/>
            </a:b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но отдается  делу  сполна:</a:t>
            </a:r>
            <a:br>
              <a:rPr sz="4000"/>
            </a:b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стоимение  заменяет  имена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Прямоугольник 1"/>
          <p:cNvSpPr/>
          <p:nvPr/>
        </p:nvSpPr>
        <p:spPr>
          <a:xfrm>
            <a:off x="1143000" y="714240"/>
            <a:ext cx="7180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стоим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оль местоимений  в реч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900000" y="2010600"/>
            <a:ext cx="7848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Задачи урок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Calibri"/>
              </a:rPr>
              <a:t>Узнае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каковы особенности личных местоим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Calibri"/>
              </a:rPr>
              <a:t>Научимс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распознавать личные местоим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Calibri"/>
              </a:rPr>
              <a:t>Повтори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орфографию, разбор предлож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Учебник с.5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Прямоугольник 1"/>
          <p:cNvSpPr/>
          <p:nvPr/>
        </p:nvSpPr>
        <p:spPr>
          <a:xfrm>
            <a:off x="755640" y="1413000"/>
            <a:ext cx="7056360" cy="42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b050"/>
                </a:solidFill>
                <a:uFillTx/>
                <a:latin typeface="Georgia"/>
              </a:rPr>
              <a:t>Прочитайт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Я и Мы, Ты и Вы,</a:t>
            </a:r>
            <a:br>
              <a:rPr sz="4000"/>
            </a:b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Он, Она, Оно, Они –</a:t>
            </a:r>
            <a:br>
              <a:rPr sz="4000"/>
            </a:b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Все слова отличные,</a:t>
            </a:r>
            <a:br>
              <a:rPr sz="4000"/>
            </a:b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Важные и личные</a:t>
            </a:r>
            <a:br>
              <a:rPr sz="4000"/>
            </a:b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Это без сомнения</a:t>
            </a:r>
            <a:br>
              <a:rPr sz="4000"/>
            </a:b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Все местоиме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4" descr="{50A015BA-8DD5-4A04-B848-FB0070199EBA}"/>
          <p:cNvPicPr/>
          <p:nvPr/>
        </p:nvPicPr>
        <p:blipFill>
          <a:blip r:embed="rId1"/>
          <a:srcRect l="17345" t="14418" r="0" b="0"/>
          <a:stretch/>
        </p:blipFill>
        <p:spPr>
          <a:xfrm>
            <a:off x="514440" y="358920"/>
            <a:ext cx="8256600" cy="641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верка тек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Лиса - хищное животное. </a:t>
            </a: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Она</a:t>
            </a: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оедает мышей, зайцев, диких уток. Иногда хищница таскает кур и цыплят в деревнях. Главная её пища -  лесные мыши. Этим </a:t>
            </a: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она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приносит пользу. Ведь лесные мыши вредят хлебным растения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50"/>
                </a:solidFill>
                <a:latin typeface="Calibri"/>
              </a:rPr>
              <a:t>Физкультурная минут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Я иду и ты идёш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аз, два, тр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Я пою и ты поёш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аз, два, тр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ы идём и мы поё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аз, два, тр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чень дружно мы поё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аз, два, три</a:t>
            </a:r>
            <a:r>
              <a:rPr b="1" i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2T23:19:04Z</dcterms:created>
  <dc:creator>natasha23</dc:creator>
  <dc:description/>
  <dc:language>en-US</dc:language>
  <cp:lastModifiedBy>Адм</cp:lastModifiedBy>
  <dcterms:modified xsi:type="dcterms:W3CDTF">2023-02-14T14:52:57Z</dcterms:modified>
  <cp:revision>121</cp:revision>
  <dc:subject/>
  <dc:title>Слайд 1</dc:title>
</cp:coreProperties>
</file>