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630-83C6-491F-910F-FF058B7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1E1-FC98-43FC-9DE4-84163FF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C53F7-399B-4753-BA67-144A2F2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FFEF2-8D93-4DD6-8AD8-57C9A837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95087-1BAB-48BF-BBE8-70DC0EF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FE1DC-2183-4530-B43C-A5C6FF1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F3557-02C2-4204-91C4-E8DAAEA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128B1-7C20-4CF5-920F-FA759E5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D36F9-D955-411C-A158-04C2A4A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B020E-4D5F-4966-8AF2-7C71857C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4C2F3-60D4-4CE8-A600-8A9B8413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8793B-C416-4EE9-8A2D-C32A685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94D-29B7-4C49-A6B9-59DF1575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FCB01-173D-442F-865E-81C3359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17232-8483-490A-8D81-AAEBAF8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EEF3A-32D6-4E2C-96EC-F22D553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1CCDB-146F-4556-8EEA-82B0BF6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07BB7-92CF-4461-93CF-7123CA9E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6F578-BB8E-451F-9115-1F62881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34C23-A744-4C49-851A-C6A1156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F5C1B-6B0E-4C69-921D-8A4AC55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334A3-4FA9-41ED-83CF-071869BE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1C45D-BB69-4958-8799-7569C99C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62C-2CD7-4A71-B4CC-0393D3C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6B1D-C580-4742-9ABF-E8FBFAA8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2E0F0-60F1-47A1-8735-77ABFB57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A3B8-637A-40EF-A2E6-12F60DAF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638E-4A60-4B45-BD95-1B641C6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56FC-FF07-4EB4-9F15-296FE0C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5C458-E08D-4862-BA2E-76FA8F1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EF4D-4DBE-4F13-8973-FF01A36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2DA6-EF8B-4AFB-8802-A89B761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686-DF21-46F6-836E-47DF14F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1FF2-81C7-4287-B1E4-1851ED4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EF16-D328-431D-8A51-6027461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5A04C-2A9F-4F6F-BCCD-812DC48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89AF5-FDC1-401C-B510-F4280D71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43FF6-0BE3-4B14-AB65-724B060A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9268-23FC-4BF9-BC44-31233AF3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AA7D-634D-4AA9-BEC2-928BE459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266F-9E0A-4053-8D5D-B8496EAC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A643-2A1E-41C1-B61C-ADC8EA57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9675-A7AD-447C-8264-0D6643D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991-F056-4F43-A812-22319DDC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A833-6F85-41AC-9557-EBE0793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EF1B-2CD8-4930-930D-37B92C0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3401-4FA5-4E3A-A3CD-27213BB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DD76-9299-4C81-A3EE-F492D60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1429-05E9-4CE9-B690-C3FA1D8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FC15-2CBC-493C-85A0-829F1201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EA28-DEFB-45D0-8DF0-4584DF27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2E94-4B00-4252-8CAC-B071081F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36C3-2104-48C3-8891-7B6A898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DE80-58D5-4826-A5FD-7BF2B60C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3B8-E872-416B-832C-7F4F45C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1FA2-359B-4313-AABF-75B0FAED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7AA8-65C2-4337-9CF6-DEA1D46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B4B3-34F2-4CD3-9372-265D91F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8583-F846-4309-9BC3-EF1B4DB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F520-BDFD-4813-BB45-FD1C61F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476A-D69B-479F-8427-B089FAF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4EF5-5627-4380-8238-CBA7808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FCC7-2A3A-4DCE-8163-48E1075A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1B8A1-0FF5-4458-8BC1-145E737F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92E0-4CBA-4578-BC94-89C0D2BD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835-F837-4FD7-8E7E-F1226A3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158E-3528-40F2-8AE4-89AE9A5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77FC-1CDB-4F95-A175-D0422C5B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3A3C-D368-4B10-9515-3946F737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27EE-6D74-474B-80CC-FCF1AAEB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AA05-5D1A-46AE-96D5-BA6A297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18AA-EA96-4330-8200-E590BBA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54A7-2CBC-478A-B9F3-6C4A32C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C00D-DB70-4435-9FE9-E0234CC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0F80-A631-4F3E-B0E4-B2FCF20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CF1A-D5A8-408E-BBAB-83633C61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23B-8565-495B-9BBA-8F487762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C65A-CDA4-4E3E-99A8-A4EB8AFC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0C4E-B888-4B2A-8CCB-35D801C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F653-ECD8-4316-83F9-D5D87329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37D5-081A-4784-8799-6AB8F2D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1601-0BC4-4703-A53D-F3649AD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2879-FD97-4465-B6C9-3788E5E4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3ACA-E645-4542-9B8D-6953E594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5EA0-0A15-4A35-BB82-58AF7008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9557-29EF-4B93-BD22-A7DA82EA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02BD-6E40-493F-B9DA-A6FD125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677-6C69-4748-B03E-B92BE30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0FF0-0973-46AD-9AC1-6212D02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C020-A626-4E5D-ABAE-AB41B7E3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47522-88CF-4A45-8712-5E89342A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E69F-4202-4557-9EB8-07ACB34B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3325-A2C1-46A4-B3AB-6F8C155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E310-F659-42EF-846E-6603635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E180-C457-44DF-BA05-DBA85230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58D7-EFC0-417D-97CB-63C01F5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5DCD-B7ED-4231-8730-5C6A783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AC32-DA1F-4955-8A03-6AFF2F0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35E-C3AA-4F0D-BF42-03416E7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3924-1BD3-485C-8E74-E67F626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19C3-6C66-4182-8637-4E04957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4E98-E6B7-41E8-A4E2-671F397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9F16E-7C80-4891-8345-247261F2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67B6-10FF-474F-99D3-BB0CC5D7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FE34E-009F-491F-8070-68011F66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56F5-EE7A-4D81-A31D-6106882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F6C6-CE62-447F-A2A5-45302694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B701-CA16-4363-9CAE-DE81243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B1D5-6F0B-49C2-BCF5-98DFA9C8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240-73FB-45B6-A01B-5745D14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1FE0E-EB01-4AB0-A865-E245909F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0A42-C48E-411C-94BB-1476BE5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014AB-3D1D-4F33-A900-28717C0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E8750-9EB2-4F91-B069-DDF25D1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F84E1-693B-41DF-B851-1D5E7BE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10AD-D220-4001-A578-7DCD31AF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7866-C0A2-4C37-BFC9-4E405D36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5070-2861-4AB7-944D-A237B7F4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86E50-F041-4473-8217-CD494383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30AFE-975A-498C-AED6-DEE1190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B19-B5F7-4A11-AFF5-9D3D2FA056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667" name="Group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668" name="Group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66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70" name="Group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67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4" name="Group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67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76" name="Group 12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67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78" name="Group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67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15" name="Group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716" name="Oval 52"/>
                          <p:cNvSpPr/>
                          <p:nvPr/>
                        </p:nvSpPr>
                        <p:spPr>
                          <a:xfrm rot="18780000">
                            <a:off x="244368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7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8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19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0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1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2" name="Oval 58"/>
                          <p:cNvSpPr/>
                          <p:nvPr/>
                        </p:nvSpPr>
                        <p:spPr>
                          <a:xfrm rot="18780000">
                            <a:off x="1830960" y="292320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60"/>
                          <p:cNvSpPr/>
                          <p:nvPr/>
                        </p:nvSpPr>
                        <p:spPr>
                          <a:xfrm rot="18780000">
                            <a:off x="1578600" y="240084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5" name="Oval 61"/>
                          <p:cNvSpPr/>
                          <p:nvPr/>
                        </p:nvSpPr>
                        <p:spPr>
                          <a:xfrm rot="18780000">
                            <a:off x="1474920" y="2117160"/>
                            <a:ext cx="271656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6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7" name="Oval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2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6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6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6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6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77" name="Group 113"/>
            <p:cNvGrpSpPr/>
            <p:nvPr/>
          </p:nvGrpSpPr>
          <p:grpSpPr>
            <a:xfrm>
              <a:off x="1800" y="2127240"/>
              <a:ext cx="5254560" cy="4694040"/>
              <a:chOff x="1800" y="2127240"/>
              <a:chExt cx="5254560" cy="4694040"/>
            </a:xfrm>
          </p:grpSpPr>
          <p:sp>
            <p:nvSpPr>
              <p:cNvPr id="77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4" name="Group 120"/>
              <p:cNvGrpSpPr/>
              <p:nvPr/>
            </p:nvGrpSpPr>
            <p:grpSpPr>
              <a:xfrm>
                <a:off x="4760640" y="2127240"/>
                <a:ext cx="495720" cy="490680"/>
                <a:chOff x="4760640" y="2127240"/>
                <a:chExt cx="495720" cy="490680"/>
              </a:xfrm>
            </p:grpSpPr>
            <p:sp>
              <p:nvSpPr>
                <p:cNvPr id="785" name="Oval 121"/>
                <p:cNvSpPr/>
                <p:nvPr/>
              </p:nvSpPr>
              <p:spPr>
                <a:xfrm rot="2828400">
                  <a:off x="4776840" y="2350080"/>
                  <a:ext cx="314280" cy="18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6" name="Freeform 122"/>
                <p:cNvSpPr/>
                <p:nvPr/>
              </p:nvSpPr>
              <p:spPr>
                <a:xfrm>
                  <a:off x="4871520" y="2249280"/>
                  <a:ext cx="257040" cy="247680"/>
                </a:xfrm>
                <a:custGeom>
                  <a:avLst/>
                  <a:gdLst>
                    <a:gd name="textAreaLeft" fmla="*/ 0 w 257040"/>
                    <a:gd name="textAreaRight" fmla="*/ 257400 w 2570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7" name="Freeform 123"/>
                <p:cNvSpPr/>
                <p:nvPr/>
              </p:nvSpPr>
              <p:spPr>
                <a:xfrm>
                  <a:off x="4956120" y="2238120"/>
                  <a:ext cx="182880" cy="173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4"/>
                <p:cNvSpPr/>
                <p:nvPr/>
              </p:nvSpPr>
              <p:spPr>
                <a:xfrm>
                  <a:off x="5019840" y="2134800"/>
                  <a:ext cx="229320" cy="219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5"/>
                <p:cNvSpPr/>
                <p:nvPr/>
              </p:nvSpPr>
              <p:spPr>
                <a:xfrm>
                  <a:off x="5166360" y="2127240"/>
                  <a:ext cx="90000" cy="8208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7BA-A541-4E69-926B-D297F6E92FA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323-DBDD-40F2-8E2F-FA8FED6992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0839-A432-42B3-B9ED-EFDCC9EE92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C1B-E8F5-4DB5-8529-10763888E4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50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51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52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53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54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6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58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59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60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61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62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6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7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8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9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0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1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2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3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4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5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6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7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8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9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5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6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7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98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99" name="Oval 52"/>
                          <p:cNvSpPr/>
                          <p:nvPr/>
                        </p:nvSpPr>
                        <p:spPr>
                          <a:xfrm rot="18780000">
                            <a:off x="245772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0" name="Oval 53"/>
                          <p:cNvSpPr/>
                          <p:nvPr/>
                        </p:nvSpPr>
                        <p:spPr>
                          <a:xfrm rot="18780000">
                            <a:off x="2371680" y="4303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1" name="Oval 54"/>
                          <p:cNvSpPr/>
                          <p:nvPr/>
                        </p:nvSpPr>
                        <p:spPr>
                          <a:xfrm rot="18780000">
                            <a:off x="2252160" y="4006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2" name="Oval 55"/>
                          <p:cNvSpPr/>
                          <p:nvPr/>
                        </p:nvSpPr>
                        <p:spPr>
                          <a:xfrm rot="18780000">
                            <a:off x="2160000" y="3747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3" name="Oval 56"/>
                          <p:cNvSpPr/>
                          <p:nvPr/>
                        </p:nvSpPr>
                        <p:spPr>
                          <a:xfrm rot="18780000">
                            <a:off x="2059200" y="343080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4" name="Oval 57"/>
                          <p:cNvSpPr/>
                          <p:nvPr/>
                        </p:nvSpPr>
                        <p:spPr>
                          <a:xfrm rot="18780000">
                            <a:off x="1970640" y="3176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5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6" name="Oval 59"/>
                          <p:cNvSpPr/>
                          <p:nvPr/>
                        </p:nvSpPr>
                        <p:spPr>
                          <a:xfrm rot="18780000">
                            <a:off x="1728360" y="2633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7" name="Oval 60"/>
                          <p:cNvSpPr/>
                          <p:nvPr/>
                        </p:nvSpPr>
                        <p:spPr>
                          <a:xfrm rot="18780000">
                            <a:off x="159768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8" name="Oval 61"/>
                          <p:cNvSpPr/>
                          <p:nvPr/>
                        </p:nvSpPr>
                        <p:spPr>
                          <a:xfrm rot="18780000">
                            <a:off x="1492200" y="2084760"/>
                            <a:ext cx="271656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9" name="Oval 62"/>
                          <p:cNvSpPr/>
                          <p:nvPr/>
                        </p:nvSpPr>
                        <p:spPr>
                          <a:xfrm rot="18734400">
                            <a:off x="1397520" y="1823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10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311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2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3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4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5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6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7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8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19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0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1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2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3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4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5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6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7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8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9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0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1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2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3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4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5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7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8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0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1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3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4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6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47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48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50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51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2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3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4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5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6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7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8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9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60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61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18"/>
              <p:cNvSpPr/>
              <p:nvPr/>
            </p:nvSpPr>
            <p:spPr>
              <a:xfrm rot="18182400">
                <a:off x="1605960" y="42883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67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68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73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6591-2DFF-4100-AE28-746A4883FC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6A5-6C24-4FF2-9303-F2FB4A1504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10A-1B50-421E-9E0B-6AA1D38096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5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8DC-2A69-4FF5-8F96-11E0AF0721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61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2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6CED-2B51-44AA-94FB-41309205FCE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1.xml"/><Relationship Id="rId17" Type="http://schemas.openxmlformats.org/officeDocument/2006/relationships/slide" Target="slide42.xml"/><Relationship Id="rId18" Type="http://schemas.openxmlformats.org/officeDocument/2006/relationships/slide" Target="slide43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slide" Target=""/><Relationship Id="rId2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WordArt 1024"/>
          <p:cNvSpPr txBox="1"/>
          <p:nvPr/>
        </p:nvSpPr>
        <p:spPr>
          <a:xfrm>
            <a:off x="1071720" y="2000160"/>
            <a:ext cx="72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 В О Я    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И Г Р А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    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му по обычаю бурят положено первому подавать пищ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Лента лицом вверх 7"/>
          <p:cNvSpPr/>
          <p:nvPr/>
        </p:nvSpPr>
        <p:spPr>
          <a:xfrm>
            <a:off x="2268360" y="4221000"/>
            <a:ext cx="4800600" cy="1708200"/>
          </a:xfrm>
          <a:custGeom>
            <a:avLst/>
            <a:gdLst>
              <a:gd name="textAreaLeft" fmla="*/ 600120 w 4800600"/>
              <a:gd name="textAreaRight" fmla="*/ 4200840 w 4800600"/>
              <a:gd name="textAreaTop" fmla="*/ 0 h 1708200"/>
              <a:gd name="textAreaBottom" fmla="*/ 1423800 h 170820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зяину до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0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ой рукой буряты подают угощение гостям, принимают и вручают подарк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Лента лицом вверх 5"/>
          <p:cNvSpPr/>
          <p:nvPr/>
        </p:nvSpPr>
        <p:spPr>
          <a:xfrm>
            <a:off x="785880" y="3929040"/>
            <a:ext cx="7429320" cy="257184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2571840"/>
              <a:gd name="textAreaBottom" fmla="*/ 2143440 h 257184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ой ру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      ЭТИК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63705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3 мягкие словосочетания,  которыми дети должны обеспечивать родителей на старости л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Box 1"/>
          <p:cNvSpPr/>
          <p:nvPr/>
        </p:nvSpPr>
        <p:spPr>
          <a:xfrm>
            <a:off x="1654200" y="595008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ягкая пища, мягкая постель, доброе сло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ортивные состязания мужчин на бурятском языке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ibbon2Sharp"/>
          <p:cNvSpPr/>
          <p:nvPr/>
        </p:nvSpPr>
        <p:spPr>
          <a:xfrm>
            <a:off x="785880" y="4508640"/>
            <a:ext cx="7777080" cy="1863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Три игры му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Эрын гурбан наа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зовите лишнее слово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у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харбалга, шатар, мори урилдаан, бухэ барилдаа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ibbon2Sharp"/>
          <p:cNvSpPr/>
          <p:nvPr/>
        </p:nvSpPr>
        <p:spPr>
          <a:xfrm>
            <a:off x="2050920" y="501336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шат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этой игре мишенью служат бабки. О каком виде спорта идет реч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ibbon2Sharp"/>
          <p:cNvSpPr/>
          <p:nvPr/>
        </p:nvSpPr>
        <p:spPr>
          <a:xfrm>
            <a:off x="673200" y="4162320"/>
            <a:ext cx="778644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Стрельба из лук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кой танец исполняет выигравший в национальной бурятской борьб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ibbon2Sharp"/>
          <p:cNvSpPr/>
          <p:nvPr/>
        </p:nvSpPr>
        <p:spPr>
          <a:xfrm>
            <a:off x="1214280" y="4643280"/>
            <a:ext cx="648036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Танец ор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первого чемпиона мира по вольной борьбе из Бурят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ibbon2Sharp"/>
          <p:cNvSpPr/>
          <p:nvPr/>
        </p:nvSpPr>
        <p:spPr>
          <a:xfrm>
            <a:off x="1619280" y="5013360"/>
            <a:ext cx="6265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орис Буда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Встреча Нового года по лунному календар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ibbon2Sharp"/>
          <p:cNvSpPr/>
          <p:nvPr/>
        </p:nvSpPr>
        <p:spPr>
          <a:xfrm>
            <a:off x="1979640" y="5013360"/>
            <a:ext cx="5472000" cy="939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Сагаалг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дин из наиболее распространенных летних праздников монгол язычных на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ibbon2Sharp"/>
          <p:cNvSpPr/>
          <p:nvPr/>
        </p:nvSpPr>
        <p:spPr>
          <a:xfrm>
            <a:off x="2771640" y="5013360"/>
            <a:ext cx="4969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Сурхарб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00ffff"/>
                </a:solidFill>
                <a:uFillTx/>
                <a:latin typeface="Monotype Corsiva"/>
              </a:rPr>
              <a:t>Синий раун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08000" y="1628640"/>
          <a:ext cx="9001080" cy="4619880"/>
        </p:xfrm>
        <a:graphic>
          <a:graphicData uri="http://schemas.openxmlformats.org/drawingml/2006/table">
            <a:tbl>
              <a:tblPr/>
              <a:tblGrid>
                <a:gridCol w="2539800"/>
                <a:gridCol w="1194120"/>
                <a:gridCol w="1492200"/>
                <a:gridCol w="1269720"/>
                <a:gridCol w="1270080"/>
                <a:gridCol w="123516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ие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к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здники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AutoShape 0">
            <a:hlinkClick r:id="rId21" action="ppaction://hlinksldjump"/>
          </p:cNvPr>
          <p:cNvSpPr/>
          <p:nvPr/>
        </p:nvSpPr>
        <p:spPr>
          <a:xfrm>
            <a:off x="612720" y="6381720"/>
            <a:ext cx="7704360" cy="405000"/>
          </a:xfrm>
          <a:custGeom>
            <a:avLst/>
            <a:gdLst>
              <a:gd name="textAreaLeft" fmla="*/ 25920 w 7704360"/>
              <a:gd name="textAreaRight" fmla="*/ 7678440 w 7704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10553" h="21600">
                <a:moveTo>
                  <a:pt x="0" y="0"/>
                </a:moveTo>
                <a:lnTo>
                  <a:pt x="410553" y="0"/>
                </a:lnTo>
                <a:lnTo>
                  <a:pt x="410553" y="21600"/>
                </a:lnTo>
                <a:lnTo>
                  <a:pt x="0" y="21600"/>
                </a:lnTo>
                <a:close/>
              </a:path>
              <a:path fill="lightenLess" w="410553" h="21600">
                <a:moveTo>
                  <a:pt x="0" y="0"/>
                </a:moveTo>
                <a:lnTo>
                  <a:pt x="410553" y="0"/>
                </a:lnTo>
                <a:lnTo>
                  <a:pt x="409154" y="1400"/>
                </a:lnTo>
                <a:lnTo>
                  <a:pt x="1400" y="1400"/>
                </a:lnTo>
                <a:close/>
              </a:path>
              <a:path fill="darken" w="410553" h="21600">
                <a:moveTo>
                  <a:pt x="410553" y="0"/>
                </a:moveTo>
                <a:lnTo>
                  <a:pt x="410553" y="21600"/>
                </a:lnTo>
                <a:lnTo>
                  <a:pt x="409154" y="20200"/>
                </a:lnTo>
                <a:lnTo>
                  <a:pt x="409154" y="1400"/>
                </a:lnTo>
                <a:close/>
              </a:path>
              <a:path fill="darkenLess" w="410553" h="21600">
                <a:moveTo>
                  <a:pt x="410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54" y="20200"/>
                </a:lnTo>
                <a:close/>
              </a:path>
              <a:path fill="lighten" w="410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Красный рау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 означает название международного праздника Алтарг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ibbon2Sharp"/>
          <p:cNvSpPr/>
          <p:nvPr/>
        </p:nvSpPr>
        <p:spPr>
          <a:xfrm>
            <a:off x="1476360" y="5013360"/>
            <a:ext cx="59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азвание Кустар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7829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праздник проходящий в нашем селе,  в августе меся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Лента лицом вверх 10"/>
          <p:cNvSpPr/>
          <p:nvPr/>
        </p:nvSpPr>
        <p:spPr>
          <a:xfrm>
            <a:off x="2857680" y="5072040"/>
            <a:ext cx="3143160" cy="1071720"/>
          </a:xfrm>
          <a:custGeom>
            <a:avLst/>
            <a:gdLst>
              <a:gd name="textAreaLeft" fmla="*/ 416880 w 3143160"/>
              <a:gd name="textAreaRight" fmla="*/ 2726280 w 314316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1150"/>
                  <a:pt x="5146" y="21600"/>
                  <a:pt x="4726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866" y="3600"/>
                </a:lnTo>
                <a:lnTo>
                  <a:pt x="2866" y="900"/>
                </a:lnTo>
                <a:cubicBezTo>
                  <a:pt x="2866" y="450"/>
                  <a:pt x="3286" y="0"/>
                  <a:pt x="3706" y="0"/>
                </a:cubicBezTo>
                <a:lnTo>
                  <a:pt x="17894" y="0"/>
                </a:lnTo>
                <a:cubicBezTo>
                  <a:pt x="18314" y="0"/>
                  <a:pt x="18734" y="450"/>
                  <a:pt x="18734" y="900"/>
                </a:cubicBezTo>
                <a:lnTo>
                  <a:pt x="18734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874" y="21600"/>
                </a:lnTo>
                <a:cubicBezTo>
                  <a:pt x="16454" y="21600"/>
                  <a:pt x="16034" y="21150"/>
                  <a:pt x="16034" y="20700"/>
                </a:cubicBezTo>
                <a:lnTo>
                  <a:pt x="16034" y="18000"/>
                </a:lnTo>
                <a:close/>
              </a:path>
              <a:path fill="darkenLess"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0250"/>
                  <a:pt x="5146" y="19800"/>
                  <a:pt x="4726" y="19800"/>
                </a:cubicBezTo>
                <a:lnTo>
                  <a:pt x="3706" y="19800"/>
                </a:lnTo>
                <a:cubicBezTo>
                  <a:pt x="3286" y="19800"/>
                  <a:pt x="2866" y="19350"/>
                  <a:pt x="2866" y="18900"/>
                </a:cubicBezTo>
                <a:cubicBezTo>
                  <a:pt x="2866" y="18450"/>
                  <a:pt x="3286" y="18000"/>
                  <a:pt x="3706" y="18000"/>
                </a:cubicBezTo>
                <a:close/>
              </a:path>
              <a:path fill="darkenLess" w="21600" h="21600">
                <a:moveTo>
                  <a:pt x="16034" y="18000"/>
                </a:moveTo>
                <a:lnTo>
                  <a:pt x="16034" y="20700"/>
                </a:lnTo>
                <a:cubicBezTo>
                  <a:pt x="16034" y="20250"/>
                  <a:pt x="16454" y="19800"/>
                  <a:pt x="16874" y="19800"/>
                </a:cubicBezTo>
                <a:lnTo>
                  <a:pt x="17894" y="19800"/>
                </a:lnTo>
                <a:cubicBezTo>
                  <a:pt x="18314" y="19800"/>
                  <a:pt x="18734" y="19350"/>
                  <a:pt x="18734" y="18900"/>
                </a:cubicBezTo>
                <a:cubicBezTo>
                  <a:pt x="18734" y="18450"/>
                  <a:pt x="18314" y="18000"/>
                  <a:pt x="17894" y="18000"/>
                </a:cubicBezTo>
                <a:close/>
              </a:path>
              <a:path fill="darkenLess" w="21600" h="21600">
                <a:moveTo>
                  <a:pt x="2866" y="18900"/>
                </a:moveTo>
                <a:lnTo>
                  <a:pt x="2866" y="3600"/>
                </a:lnTo>
              </a:path>
              <a:path fill="darkenLess" w="21600" h="21600">
                <a:moveTo>
                  <a:pt x="18734" y="18900"/>
                </a:moveTo>
                <a:lnTo>
                  <a:pt x="18734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ображение Господ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зд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очему встреча Нового Года по восточному календарю приходится на разные даты? Отчего это зависи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ibbon2Sharp"/>
          <p:cNvSpPr/>
          <p:nvPr/>
        </p:nvSpPr>
        <p:spPr>
          <a:xfrm>
            <a:off x="2000160" y="492912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От лунного календа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600" spc="-1" strike="noStrike" u="sng">
                <a:solidFill>
                  <a:srgbClr val="ff99cc"/>
                </a:solidFill>
                <a:uFillTx/>
                <a:latin typeface="Monotype Corsiva"/>
              </a:rPr>
              <a:t>Красный раунд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144360" y="1700280"/>
          <a:ext cx="8820360" cy="4286160"/>
        </p:xfrm>
        <a:graphic>
          <a:graphicData uri="http://schemas.openxmlformats.org/drawingml/2006/table">
            <a:tbl>
              <a:tblPr/>
              <a:tblGrid>
                <a:gridCol w="2652840"/>
                <a:gridCol w="1185840"/>
                <a:gridCol w="1182600"/>
                <a:gridCol w="1184400"/>
                <a:gridCol w="1185840"/>
                <a:gridCol w="14288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ммати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енд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вестные лю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рятская кух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AutoShape 0">
            <a:hlinkClick r:id="rId21" action="ppaction://hlinksldjump"/>
          </p:cNvPr>
          <p:cNvSpPr/>
          <p:nvPr/>
        </p:nvSpPr>
        <p:spPr>
          <a:xfrm>
            <a:off x="539640" y="6237360"/>
            <a:ext cx="8101080" cy="620640"/>
          </a:xfrm>
          <a:custGeom>
            <a:avLst/>
            <a:gdLst>
              <a:gd name="textAreaLeft" fmla="*/ 39960 w 8101080"/>
              <a:gd name="textAreaRight" fmla="*/ 8061120 w 8101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1789" h="21600">
                <a:moveTo>
                  <a:pt x="0" y="0"/>
                </a:moveTo>
                <a:lnTo>
                  <a:pt x="281789" y="0"/>
                </a:lnTo>
                <a:lnTo>
                  <a:pt x="281789" y="21600"/>
                </a:lnTo>
                <a:lnTo>
                  <a:pt x="0" y="21600"/>
                </a:lnTo>
                <a:close/>
              </a:path>
              <a:path fill="lightenLess" w="281789" h="21600">
                <a:moveTo>
                  <a:pt x="0" y="0"/>
                </a:moveTo>
                <a:lnTo>
                  <a:pt x="281789" y="0"/>
                </a:lnTo>
                <a:lnTo>
                  <a:pt x="280389" y="1400"/>
                </a:lnTo>
                <a:lnTo>
                  <a:pt x="1400" y="1400"/>
                </a:lnTo>
                <a:close/>
              </a:path>
              <a:path fill="darken" w="281789" h="21600">
                <a:moveTo>
                  <a:pt x="281789" y="0"/>
                </a:moveTo>
                <a:lnTo>
                  <a:pt x="281789" y="21600"/>
                </a:lnTo>
                <a:lnTo>
                  <a:pt x="280389" y="20200"/>
                </a:lnTo>
                <a:lnTo>
                  <a:pt x="280389" y="1400"/>
                </a:lnTo>
                <a:close/>
              </a:path>
              <a:path fill="darkenLess" w="281789" h="21600">
                <a:moveTo>
                  <a:pt x="28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89" y="20200"/>
                </a:lnTo>
                <a:close/>
              </a:path>
              <a:path fill="lighten" w="28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>
              <a:alpha val="2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С в о я     и г р а</a:t>
            </a:r>
            <a:r>
              <a:rPr b="1" lang="ru-RU" sz="18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зовите вопросы кто? И что? (на бурятском языке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ibbon2Sharp"/>
          <p:cNvSpPr/>
          <p:nvPr/>
        </p:nvSpPr>
        <p:spPr>
          <a:xfrm>
            <a:off x="611280" y="4221000"/>
            <a:ext cx="8064360" cy="1440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эн?   Юу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Шини дуратай уран зохёлшо хэн бэ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Ribbon2Sharp"/>
          <p:cNvSpPr/>
          <p:nvPr/>
        </p:nvSpPr>
        <p:spPr>
          <a:xfrm>
            <a:off x="2627280" y="4724280"/>
            <a:ext cx="4608720" cy="115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Минии-  Пушкин А.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 u="sng">
                <a:solidFill>
                  <a:srgbClr val="ff0066"/>
                </a:solidFill>
                <a:uFillTx/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00"/>
                </a:solidFill>
                <a:uFillTx/>
                <a:latin typeface="Tahoma"/>
              </a:rPr>
              <a:t>Расскажи о себ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8" name="Picture 4" descr="BO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1989000"/>
            <a:ext cx="1973160" cy="2679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929" name="AutoShape 5">
            <a:hlinkClick r:id="rId4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72400" cy="22496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66"/>
                </a:solidFill>
                <a:latin typeface="Times New Roman"/>
              </a:rPr>
              <a:t>Продолжи счет далан нэгэ, далан хоёр, 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Ribbon2Sharp"/>
          <p:cNvSpPr/>
          <p:nvPr/>
        </p:nvSpPr>
        <p:spPr>
          <a:xfrm>
            <a:off x="973080" y="5013360"/>
            <a:ext cx="6983640" cy="1224000"/>
          </a:xfrm>
          <a:custGeom>
            <a:avLst/>
            <a:gdLst>
              <a:gd name="textAreaLeft" fmla="*/ 1746000 w 6983640"/>
              <a:gd name="textAreaRight" fmla="*/ 5238000 w 6983640"/>
              <a:gd name="textAreaTop" fmla="*/ 135720 h 1224000"/>
              <a:gd name="textAreaBottom" fmla="*/ 1088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AutoShape 0">
            <a:hlinkClick r:id="rId2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ой вопрос можно задать к выделенному слов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агша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елээр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бэшэнэ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Ribbon2Sharp"/>
          <p:cNvSpPr/>
          <p:nvPr/>
        </p:nvSpPr>
        <p:spPr>
          <a:xfrm>
            <a:off x="684360" y="4005360"/>
            <a:ext cx="8208720" cy="2019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Хэнээр? Хаагуу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Юугээр? Юунтэ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рамма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 окончанием какого времени глагола совпадает неопределенная форма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Ribbon2Sharp"/>
          <p:cNvSpPr/>
          <p:nvPr/>
        </p:nvSpPr>
        <p:spPr>
          <a:xfrm>
            <a:off x="250920" y="4869000"/>
            <a:ext cx="7416720" cy="165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буду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числите на бурятском языке 5 видов домашних животных, почитаемых бурятам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ibbon2Sharp"/>
          <p:cNvSpPr/>
          <p:nvPr/>
        </p:nvSpPr>
        <p:spPr>
          <a:xfrm>
            <a:off x="468360" y="4365720"/>
            <a:ext cx="8675640" cy="2376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Морин,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y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неэн, ямаан, тэмээн, хо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AutoShape 1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акой год начинает 12-летний цикл восточного календаря? Скажите по бурятск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Ribbon2Sharp"/>
          <p:cNvSpPr/>
          <p:nvPr/>
        </p:nvSpPr>
        <p:spPr>
          <a:xfrm>
            <a:off x="1547640" y="4591080"/>
            <a:ext cx="5975640" cy="1428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Год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улгана жэ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акой год завершает 12-летний цикл восточного календаря? По бурятс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AutoShape 4"/>
          <p:cNvSpPr/>
          <p:nvPr/>
        </p:nvSpPr>
        <p:spPr>
          <a:xfrm>
            <a:off x="1428840" y="5143680"/>
            <a:ext cx="5976720" cy="1152360"/>
          </a:xfrm>
          <a:custGeom>
            <a:avLst/>
            <a:gdLst>
              <a:gd name="textAreaLeft" fmla="*/ 1494000 w 5976720"/>
              <a:gd name="textAreaRight" fmla="*/ 4482720 w 597672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Год каб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Гахай жэ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AutoShape 8"/>
          <p:cNvSpPr/>
          <p:nvPr/>
        </p:nvSpPr>
        <p:spPr>
          <a:xfrm>
            <a:off x="8028000" y="537372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Этот год символизирует мудрость. Скажите по бурятск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Ribbon2Sharp"/>
          <p:cNvSpPr/>
          <p:nvPr/>
        </p:nvSpPr>
        <p:spPr>
          <a:xfrm>
            <a:off x="1357200" y="5072040"/>
            <a:ext cx="6178680" cy="149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Год зме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Могой жэ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зовите год следующий за годом козы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Ribbon2Sharp"/>
          <p:cNvSpPr/>
          <p:nvPr/>
        </p:nvSpPr>
        <p:spPr>
          <a:xfrm>
            <a:off x="1071720" y="5000760"/>
            <a:ext cx="6913440" cy="1446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Год обезья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бишэ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0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календ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Устаревшее название календаря на бурятском язы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Ribbon2Sharp"/>
          <p:cNvSpPr/>
          <p:nvPr/>
        </p:nvSpPr>
        <p:spPr>
          <a:xfrm>
            <a:off x="1619280" y="4941720"/>
            <a:ext cx="4968720" cy="1443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лит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</a:t>
            </a:r>
            <a:r>
              <a:rPr b="1" lang="ru-RU" sz="4200" spc="-1" strike="noStrike">
                <a:solidFill>
                  <a:srgbClr val="e5e5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ая  балерина Буряти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ibbon2Sharp"/>
          <p:cNvSpPr/>
          <p:nvPr/>
        </p:nvSpPr>
        <p:spPr>
          <a:xfrm>
            <a:off x="1187280" y="4545000"/>
            <a:ext cx="6337440" cy="1225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Сахьянова Л.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бурятский ученый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Ribbon2Sharp"/>
          <p:cNvSpPr/>
          <p:nvPr/>
        </p:nvSpPr>
        <p:spPr>
          <a:xfrm>
            <a:off x="611280" y="4724280"/>
            <a:ext cx="6265800" cy="1297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Доржи Банза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резидент нашей Республики Бурят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Ribbon2Sharp"/>
          <p:cNvSpPr/>
          <p:nvPr/>
        </p:nvSpPr>
        <p:spPr>
          <a:xfrm>
            <a:off x="611280" y="5300640"/>
            <a:ext cx="6840360" cy="1084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Цыде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6" name="Picture 4" descr="BOY"/>
          <p:cNvPicPr/>
          <p:nvPr/>
        </p:nvPicPr>
        <p:blipFill>
          <a:blip r:embed="rId2"/>
          <a:stretch/>
        </p:blipFill>
        <p:spPr>
          <a:xfrm>
            <a:off x="3635280" y="1916280"/>
            <a:ext cx="2089080" cy="2950920"/>
          </a:xfrm>
          <a:prstGeom prst="rect">
            <a:avLst/>
          </a:prstGeom>
          <a:ln w="0">
            <a:noFill/>
          </a:ln>
        </p:spPr>
      </p:pic>
      <p:sp>
        <p:nvSpPr>
          <p:cNvPr id="977" name="AutoShape 6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гадай сказк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Модон гэр, шулуун гэр, соломэн гэр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ibbon2Sharp"/>
          <p:cNvSpPr/>
          <p:nvPr/>
        </p:nvSpPr>
        <p:spPr>
          <a:xfrm>
            <a:off x="857160" y="4071960"/>
            <a:ext cx="6983640" cy="1701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«Гурбан поршоонх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азовите «лишне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Животное: морин, тахяа, ямаан, гахай, тэмээн, хон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Лента лицом вверх 5"/>
          <p:cNvSpPr/>
          <p:nvPr/>
        </p:nvSpPr>
        <p:spPr>
          <a:xfrm>
            <a:off x="468360" y="4005360"/>
            <a:ext cx="7072200" cy="2571480"/>
          </a:xfrm>
          <a:custGeom>
            <a:avLst/>
            <a:gdLst>
              <a:gd name="textAreaLeft" fmla="*/ 1070640 w 7072200"/>
              <a:gd name="textAreaRight" fmla="*/ 6001560 w 7072200"/>
              <a:gd name="textAreaTop" fmla="*/ 0 h 2571480"/>
              <a:gd name="textAreaBottom" fmla="*/ 2251440 h 2571480"/>
            </a:gdLst>
            <a:ahLst/>
            <a:rect l="textAreaLeft" t="textAreaTop" r="textAreaRight" b="textAreaBottom"/>
            <a:pathLst>
              <a:path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1264"/>
                  <a:pt x="5550" y="21600"/>
                  <a:pt x="5130" y="21600"/>
                </a:cubicBezTo>
                <a:lnTo>
                  <a:pt x="0" y="21600"/>
                </a:lnTo>
                <a:lnTo>
                  <a:pt x="2750" y="12145"/>
                </a:lnTo>
                <a:lnTo>
                  <a:pt x="0" y="2689"/>
                </a:lnTo>
                <a:lnTo>
                  <a:pt x="3270" y="2689"/>
                </a:lnTo>
                <a:lnTo>
                  <a:pt x="3270" y="672"/>
                </a:lnTo>
                <a:cubicBezTo>
                  <a:pt x="3270" y="336"/>
                  <a:pt x="3690" y="0"/>
                  <a:pt x="4110" y="0"/>
                </a:cubicBezTo>
                <a:lnTo>
                  <a:pt x="17490" y="0"/>
                </a:lnTo>
                <a:cubicBezTo>
                  <a:pt x="17910" y="0"/>
                  <a:pt x="18330" y="336"/>
                  <a:pt x="18330" y="672"/>
                </a:cubicBezTo>
                <a:lnTo>
                  <a:pt x="18330" y="2689"/>
                </a:lnTo>
                <a:lnTo>
                  <a:pt x="21600" y="2689"/>
                </a:lnTo>
                <a:lnTo>
                  <a:pt x="18850" y="12145"/>
                </a:lnTo>
                <a:lnTo>
                  <a:pt x="21600" y="21600"/>
                </a:lnTo>
                <a:lnTo>
                  <a:pt x="16470" y="21600"/>
                </a:lnTo>
                <a:cubicBezTo>
                  <a:pt x="16050" y="21600"/>
                  <a:pt x="15630" y="21264"/>
                  <a:pt x="15630" y="20928"/>
                </a:cubicBezTo>
                <a:lnTo>
                  <a:pt x="15630" y="18911"/>
                </a:lnTo>
                <a:close/>
              </a:path>
              <a:path fill="darkenLess"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0592"/>
                  <a:pt x="5550" y="20256"/>
                  <a:pt x="5130" y="20256"/>
                </a:cubicBezTo>
                <a:lnTo>
                  <a:pt x="4110" y="20256"/>
                </a:lnTo>
                <a:cubicBezTo>
                  <a:pt x="3690" y="20256"/>
                  <a:pt x="3270" y="19919"/>
                  <a:pt x="3270" y="19583"/>
                </a:cubicBezTo>
                <a:cubicBezTo>
                  <a:pt x="3270" y="19247"/>
                  <a:pt x="3690" y="18911"/>
                  <a:pt x="4110" y="18911"/>
                </a:cubicBezTo>
                <a:close/>
              </a:path>
              <a:path fill="darkenLess" w="21600" h="21600">
                <a:moveTo>
                  <a:pt x="15630" y="18911"/>
                </a:moveTo>
                <a:lnTo>
                  <a:pt x="15630" y="20928"/>
                </a:lnTo>
                <a:cubicBezTo>
                  <a:pt x="15630" y="20592"/>
                  <a:pt x="16050" y="20256"/>
                  <a:pt x="16470" y="20256"/>
                </a:cubicBezTo>
                <a:lnTo>
                  <a:pt x="17490" y="20256"/>
                </a:lnTo>
                <a:cubicBezTo>
                  <a:pt x="17910" y="20256"/>
                  <a:pt x="18330" y="19919"/>
                  <a:pt x="18330" y="19583"/>
                </a:cubicBezTo>
                <a:cubicBezTo>
                  <a:pt x="18330" y="19247"/>
                  <a:pt x="17910" y="18911"/>
                  <a:pt x="17490" y="18911"/>
                </a:cubicBezTo>
                <a:close/>
              </a:path>
              <a:path fill="darkenLess" w="21600" h="21600">
                <a:moveTo>
                  <a:pt x="3270" y="19583"/>
                </a:moveTo>
                <a:lnTo>
                  <a:pt x="3270" y="2689"/>
                </a:lnTo>
              </a:path>
              <a:path fill="darkenLess" w="21600" h="21600">
                <a:moveTo>
                  <a:pt x="18330" y="19583"/>
                </a:moveTo>
                <a:lnTo>
                  <a:pt x="18330" y="2689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ахяа, гаха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00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Известные люд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5072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имя героя бурятского народного эп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Ribbon2Sharp"/>
          <p:cNvSpPr/>
          <p:nvPr/>
        </p:nvSpPr>
        <p:spPr>
          <a:xfrm>
            <a:off x="1835280" y="4149720"/>
            <a:ext cx="6072120" cy="1657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эсэ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амый главный продукт в семье (на бурятском языке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Ribbon2Sharp"/>
          <p:cNvSpPr/>
          <p:nvPr/>
        </p:nvSpPr>
        <p:spPr>
          <a:xfrm>
            <a:off x="1547640" y="3933720"/>
            <a:ext cx="6013800" cy="1155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Хилээм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вол чистоты пожелания добра – это ..какое блюд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Блок-схема: процесс 1"/>
          <p:cNvSpPr/>
          <p:nvPr/>
        </p:nvSpPr>
        <p:spPr>
          <a:xfrm>
            <a:off x="2627280" y="3645000"/>
            <a:ext cx="3168720" cy="1368360"/>
          </a:xfrm>
          <a:prstGeom prst="flowChartProcess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Сагаан эдеэ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Самое почетное мясное угощение по бурятскому обыча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Ribbon2Sharp"/>
          <p:cNvSpPr/>
          <p:nvPr/>
        </p:nvSpPr>
        <p:spPr>
          <a:xfrm>
            <a:off x="611280" y="4653000"/>
            <a:ext cx="6337080" cy="173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Хонин тоолэ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Кот в мешке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99" name="Picture 3" descr="CAT2"/>
          <p:cNvPicPr/>
          <p:nvPr/>
        </p:nvPicPr>
        <p:blipFill>
          <a:blip r:embed="rId2"/>
          <a:stretch/>
        </p:blipFill>
        <p:spPr>
          <a:xfrm>
            <a:off x="3429000" y="1600200"/>
            <a:ext cx="2583000" cy="24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Verdana"/>
              </a:rPr>
              <a:t>Музыка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757868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Бурятская кухн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no Pro Smbd Caption"/>
              </a:rPr>
              <a:t>Самое любимое бурятское блюдо нашего ст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Ribbon2Sharp"/>
          <p:cNvSpPr/>
          <p:nvPr/>
        </p:nvSpPr>
        <p:spPr>
          <a:xfrm>
            <a:off x="1692360" y="4149720"/>
            <a:ext cx="5437080" cy="1413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no Pro Smbd Caption"/>
              </a:rPr>
              <a:t>буу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урятская кухн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чай любили наши пред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AutoShape 4"/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800000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ibbon2Sharp"/>
          <p:cNvSpPr/>
          <p:nvPr/>
        </p:nvSpPr>
        <p:spPr>
          <a:xfrm>
            <a:off x="468360" y="3933720"/>
            <a:ext cx="7080120" cy="990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Зеленый с молоком и сол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акое животное обладает самым громким голосо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рокоди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лон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осорог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ibbon2Sharp"/>
          <p:cNvSpPr/>
          <p:nvPr/>
        </p:nvSpPr>
        <p:spPr>
          <a:xfrm>
            <a:off x="92880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Крокод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Родилась в воде, а живет на земл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ibbon2Sharp"/>
          <p:cNvSpPr/>
          <p:nvPr/>
        </p:nvSpPr>
        <p:spPr>
          <a:xfrm>
            <a:off x="971640" y="50133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Бах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акое животное является самым почитаемым? К нему относятся как близкому другу, называя «эрдэн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ibbon2Sharp"/>
          <p:cNvSpPr/>
          <p:nvPr/>
        </p:nvSpPr>
        <p:spPr>
          <a:xfrm>
            <a:off x="539640" y="4714920"/>
            <a:ext cx="8604360" cy="1851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ahoma"/>
              </a:rPr>
              <a:t>Морин - эрдэ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Этик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надо приветствовать старших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0099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Лента лицом вверх 6"/>
          <p:cNvSpPr/>
          <p:nvPr/>
        </p:nvSpPr>
        <p:spPr>
          <a:xfrm>
            <a:off x="1042920" y="4572000"/>
            <a:ext cx="7416720" cy="1714680"/>
          </a:xfrm>
          <a:custGeom>
            <a:avLst/>
            <a:gdLst>
              <a:gd name="textAreaLeft" fmla="*/ 1238760 w 7416720"/>
              <a:gd name="textAreaRight" fmla="*/ 6177960 w 7416720"/>
              <a:gd name="textAreaTop" fmla="*/ 0 h 1714680"/>
              <a:gd name="textAreaBottom" fmla="*/ 1429200 h 1714680"/>
            </a:gdLst>
            <a:ahLst/>
            <a:rect l="textAreaLeft" t="textAreaTop" r="textAreaRight" b="textAreaBottom"/>
            <a:pathLst>
              <a:path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1150"/>
                  <a:pt x="5888" y="21600"/>
                  <a:pt x="5468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08" y="3600"/>
                </a:lnTo>
                <a:lnTo>
                  <a:pt x="3608" y="900"/>
                </a:lnTo>
                <a:cubicBezTo>
                  <a:pt x="3608" y="450"/>
                  <a:pt x="4028" y="0"/>
                  <a:pt x="4448" y="0"/>
                </a:cubicBezTo>
                <a:lnTo>
                  <a:pt x="17152" y="0"/>
                </a:lnTo>
                <a:cubicBezTo>
                  <a:pt x="17572" y="0"/>
                  <a:pt x="17992" y="450"/>
                  <a:pt x="17992" y="900"/>
                </a:cubicBezTo>
                <a:lnTo>
                  <a:pt x="17992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32" y="21600"/>
                </a:lnTo>
                <a:cubicBezTo>
                  <a:pt x="15712" y="21600"/>
                  <a:pt x="15292" y="21150"/>
                  <a:pt x="15292" y="20700"/>
                </a:cubicBezTo>
                <a:lnTo>
                  <a:pt x="15292" y="18000"/>
                </a:lnTo>
                <a:close/>
              </a:path>
              <a:path fill="darkenLess"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0250"/>
                  <a:pt x="5888" y="19800"/>
                  <a:pt x="5468" y="19800"/>
                </a:cubicBezTo>
                <a:lnTo>
                  <a:pt x="4448" y="19800"/>
                </a:lnTo>
                <a:cubicBezTo>
                  <a:pt x="4028" y="19800"/>
                  <a:pt x="3608" y="19350"/>
                  <a:pt x="3608" y="18900"/>
                </a:cubicBezTo>
                <a:cubicBezTo>
                  <a:pt x="3608" y="18450"/>
                  <a:pt x="4028" y="18000"/>
                  <a:pt x="4448" y="18000"/>
                </a:cubicBezTo>
                <a:close/>
              </a:path>
              <a:path fill="darkenLess" w="21600" h="21600">
                <a:moveTo>
                  <a:pt x="15292" y="18000"/>
                </a:moveTo>
                <a:lnTo>
                  <a:pt x="15292" y="20700"/>
                </a:lnTo>
                <a:cubicBezTo>
                  <a:pt x="15292" y="20250"/>
                  <a:pt x="15712" y="19800"/>
                  <a:pt x="16132" y="19800"/>
                </a:cubicBezTo>
                <a:lnTo>
                  <a:pt x="17152" y="19800"/>
                </a:lnTo>
                <a:cubicBezTo>
                  <a:pt x="17572" y="19800"/>
                  <a:pt x="17992" y="19350"/>
                  <a:pt x="17992" y="18900"/>
                </a:cubicBezTo>
                <a:cubicBezTo>
                  <a:pt x="17992" y="18450"/>
                  <a:pt x="17572" y="18000"/>
                  <a:pt x="17152" y="18000"/>
                </a:cubicBezTo>
                <a:close/>
              </a:path>
              <a:path fill="darkenLess" w="21600" h="21600">
                <a:moveTo>
                  <a:pt x="3608" y="18900"/>
                </a:moveTo>
                <a:lnTo>
                  <a:pt x="3608" y="3600"/>
                </a:lnTo>
              </a:path>
              <a:path fill="darkenLess" w="21600" h="21600">
                <a:moveTo>
                  <a:pt x="17992" y="18900"/>
                </a:moveTo>
                <a:lnTo>
                  <a:pt x="17992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обрать обе руки и к груди, сделать поклон голов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0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к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 должны обращаться старшим, в том числе братьям и сестрам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0099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Лента лицом вверх 6"/>
          <p:cNvSpPr/>
          <p:nvPr/>
        </p:nvSpPr>
        <p:spPr>
          <a:xfrm>
            <a:off x="1042920" y="3141720"/>
            <a:ext cx="6337440" cy="857160"/>
          </a:xfrm>
          <a:custGeom>
            <a:avLst/>
            <a:gdLst>
              <a:gd name="textAreaLeft" fmla="*/ 1064160 w 6337440"/>
              <a:gd name="textAreaRight" fmla="*/ 5273280 w 6337440"/>
              <a:gd name="textAreaTop" fmla="*/ 0 h 857160"/>
              <a:gd name="textAreaBottom" fmla="*/ 714600 h 857160"/>
            </a:gdLst>
            <a:ahLst/>
            <a:rect l="textAreaLeft" t="textAreaTop" r="textAreaRight" b="textAreaBottom"/>
            <a:pathLst>
              <a:path w="21600" h="21600">
                <a:moveTo>
                  <a:pt x="6327" y="18000"/>
                </a:moveTo>
                <a:lnTo>
                  <a:pt x="6327" y="20700"/>
                </a:lnTo>
                <a:cubicBezTo>
                  <a:pt x="6327" y="21150"/>
                  <a:pt x="5907" y="21600"/>
                  <a:pt x="5487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27" y="3600"/>
                </a:lnTo>
                <a:lnTo>
                  <a:pt x="3627" y="900"/>
                </a:lnTo>
                <a:cubicBezTo>
                  <a:pt x="3627" y="450"/>
                  <a:pt x="4047" y="0"/>
                  <a:pt x="4467" y="0"/>
                </a:cubicBezTo>
                <a:lnTo>
                  <a:pt x="17133" y="0"/>
                </a:lnTo>
                <a:cubicBezTo>
                  <a:pt x="17553" y="0"/>
                  <a:pt x="17973" y="450"/>
                  <a:pt x="17973" y="900"/>
                </a:cubicBezTo>
                <a:lnTo>
                  <a:pt x="17973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13" y="21600"/>
                </a:lnTo>
                <a:cubicBezTo>
                  <a:pt x="15693" y="21600"/>
                  <a:pt x="15273" y="21150"/>
                  <a:pt x="15273" y="20700"/>
                </a:cubicBezTo>
                <a:lnTo>
                  <a:pt x="15273" y="18000"/>
                </a:lnTo>
                <a:close/>
              </a:path>
              <a:path fill="darkenLess" w="21600" h="21600">
                <a:moveTo>
                  <a:pt x="6327" y="18000"/>
                </a:moveTo>
                <a:lnTo>
                  <a:pt x="6327" y="20700"/>
                </a:lnTo>
                <a:cubicBezTo>
                  <a:pt x="6327" y="20250"/>
                  <a:pt x="5907" y="19800"/>
                  <a:pt x="5487" y="19800"/>
                </a:cubicBezTo>
                <a:lnTo>
                  <a:pt x="4467" y="19800"/>
                </a:lnTo>
                <a:cubicBezTo>
                  <a:pt x="4047" y="19800"/>
                  <a:pt x="3627" y="19350"/>
                  <a:pt x="3627" y="18900"/>
                </a:cubicBezTo>
                <a:cubicBezTo>
                  <a:pt x="3627" y="18450"/>
                  <a:pt x="4047" y="18000"/>
                  <a:pt x="4467" y="18000"/>
                </a:cubicBezTo>
                <a:close/>
              </a:path>
              <a:path fill="darkenLess" w="21600" h="21600">
                <a:moveTo>
                  <a:pt x="15273" y="18000"/>
                </a:moveTo>
                <a:lnTo>
                  <a:pt x="15273" y="20700"/>
                </a:lnTo>
                <a:cubicBezTo>
                  <a:pt x="15273" y="20250"/>
                  <a:pt x="15693" y="19800"/>
                  <a:pt x="16113" y="19800"/>
                </a:cubicBezTo>
                <a:lnTo>
                  <a:pt x="17133" y="19800"/>
                </a:lnTo>
                <a:cubicBezTo>
                  <a:pt x="17553" y="19800"/>
                  <a:pt x="17973" y="19350"/>
                  <a:pt x="17973" y="18900"/>
                </a:cubicBezTo>
                <a:cubicBezTo>
                  <a:pt x="17973" y="18450"/>
                  <a:pt x="17553" y="18000"/>
                  <a:pt x="17133" y="18000"/>
                </a:cubicBezTo>
                <a:close/>
              </a:path>
              <a:path fill="darkenLess" w="21600" h="21600">
                <a:moveTo>
                  <a:pt x="3627" y="18900"/>
                </a:moveTo>
                <a:lnTo>
                  <a:pt x="3627" y="3600"/>
                </a:lnTo>
              </a:path>
              <a:path fill="darkenLess" w="21600" h="21600">
                <a:moveTo>
                  <a:pt x="17973" y="18900"/>
                </a:moveTo>
                <a:lnTo>
                  <a:pt x="17973" y="3600"/>
                </a:lnTo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лько на «в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4:54:23Z</dcterms:created>
  <dc:creator>Неведомая А.С</dc:creator>
  <dc:description/>
  <cp:keywords>бурятский язык</cp:keywords>
  <dc:language>en-US</dc:language>
  <cp:lastModifiedBy>1</cp:lastModifiedBy>
  <dcterms:modified xsi:type="dcterms:W3CDTF">2023-02-16T15:55:37Z</dcterms:modified>
  <cp:revision>72</cp:revision>
  <dc:subject/>
  <dc:title>Синий раунд</dc:title>
</cp:coreProperties>
</file>