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877-C8B1-49EF-B4AA-804D5E3B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EEC-430F-4131-8D96-29E9D314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2E2D8-CFF5-4F99-BFF4-18950770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886B4-DD3F-4F35-AFF6-043C2596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4EAB9-3A54-4F1A-B2F5-934AD95E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D8C4F-948B-4444-BB42-1BC86169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EE2B8-F61C-4B74-A5EB-899FBBC5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F633B-C529-4AA4-85F6-0A0CE769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5E776-DE6A-48A2-9B6E-6632B377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A5FDF-5FE6-4210-BDD5-936E3703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AB20B-9E7A-41A3-993D-7AECB423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68166-5E28-46C0-ACC5-8B3F59A9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AC77-E860-47E6-9634-5AEA6CFD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3AFA2-323F-463D-947B-271852A0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C7E90-5D22-475A-B807-326D78CE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590FD-5706-471C-8C79-A9C67338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90923-10D6-45BB-BD01-8EA40C2E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C9A02-C701-4A6F-B77D-6F9811C7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859A9-47C6-4EF1-B47A-AAAE3F09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8AE2C-FE62-4445-B126-F6FA4902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0E056-E8B9-4918-98B7-E6E39198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30053-BAFD-40FC-BB28-B5F77F0F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61F03-0C3D-4B7F-8EAC-077089C8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C960-DCF9-4BE4-AFA8-46D397E9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777CA-C88F-4ED0-9E1F-D120BE76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772F7-28B4-427F-BF3D-620943C4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2DAE6-3337-423F-95DF-E678D3F1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C703D-1DCB-4274-9D01-A8C3DA00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30E57-3958-4D71-B783-A9B0B77B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7DD3F-7681-497E-9F15-DEC91B89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004ED-DA8D-4270-BE01-FB25C248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19919-6E00-47E4-8C3D-98525ABE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44A-37AF-466C-8450-04C02667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359BB-D17D-40F1-896C-6113009E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8C460-50D2-447D-BF80-0DED71B0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FFA2C-4C6D-4FE1-9BD8-21D03A1B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0E9A7-35D7-426E-B76A-FD6FA84C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2AFE6-A783-4A72-8A90-77C021AF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209D0-5A66-4767-B849-2B6C855A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53E29-A537-4D39-B489-A58AAA06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1B41A-AC49-47AE-9D2B-DDE1D147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1967A-136D-4230-AC3B-80946DF6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E25D3-88ED-47B8-AC54-D18FF117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971-B373-4968-BDB7-37371678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CFE34-0157-4F3E-9B22-808A062B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09897-6ADA-4DBF-9035-9911461E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02628-7C63-4458-89B0-DF998794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A0AA6-EB4D-49A1-98F7-770BFE49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0E2E2-66FF-4F84-AE74-5E226540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729B7-2E1F-40D3-94F5-2B930E69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A71EE-1A63-4026-ACFF-AD2AD613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B1A27-C0B9-4776-9E10-2F736754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F9F40-BC27-4B21-B76F-F8DFCF95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C6F6A-E649-4B64-BF7A-A6F1CA60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108-1C34-4C48-84C1-186687D7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1E9C1-DAFC-4EC9-984B-7EEA1A64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48D7E-5396-422B-B655-2ED2200A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999B6-BAB9-4B12-BD11-4BA6EE05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EA356-7697-4574-B98C-36E2D97C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9F999-4210-4492-9899-940CBAAE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F9624-BED6-4F1B-8736-4A05694D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EF047-AAC0-4D8A-A0EC-AF9885FA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54812-7010-4852-85BF-0DB50274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3B2B3-59E6-4D6D-93AD-22E81B47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3B5D8-790F-4D3C-8965-8C7C28C4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301F-6665-4E42-A4BA-D619F812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3D115-A5C9-4C3B-80F7-F37A1892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EC11B-5FC8-4C38-B6B7-3591B5DB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85F93-D4F0-4DF2-8E6F-93EFE76B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EC5B1-9F20-48E2-8FE3-8B9715AB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8BDD1-78B9-4D55-9847-BBABB917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79617-83E8-486C-87CF-6945768A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3AA36-E9C8-441C-B9E8-82E12DF8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C699F-D256-4D04-BD89-E1E481FF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A1BCA-1E75-427C-9B44-9EFB1F7E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B7618-0D76-4102-9E4B-4407D936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22EE-2EB0-4AA3-B46C-2A213C06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6C1E3-C642-4740-ACB9-73C10DB0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FDA49-A85D-4DC6-AD0B-F4B79195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0C197-18CB-4BBB-9CED-B96D6D08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75244-25DB-4F95-9D95-C8598DFE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EF354-966E-4560-AFAD-EDE0A61B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24F6D-7F1F-496B-AB2F-844AAC0D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A48D4-5DDA-4496-ACDD-86FE9B2F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B5683-0BE9-4794-BD55-18568E83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F8630-7B28-4ED6-8202-EA5AF628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FADE1-4ABE-4CFC-A6E8-EFEEAEE2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C73-57AF-44F5-A646-A970282C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4F25B-BBEC-4829-95A6-502FB83F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F9DDE-115A-4D83-9774-C7C0A37D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723CA-D216-49DA-AF11-A9539503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DC85B-3EDC-4415-AD35-1EF0FFC5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D08DC-3E91-4094-80D0-52268093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BB477-757F-4666-B80E-20ECD8EC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D7037-770B-4918-BCC3-096EACD8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52D53-6072-414F-A8C1-3C30DD65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74403-0391-401A-A212-5C7E4EB3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A0126-D35F-4426-9FDA-41E4CF60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5BD-071C-42CE-8CD5-ACCDBF11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46F79-E6B2-4F82-8F83-E5442FDC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DF961-C155-4305-A331-8344863E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C3386-8632-4C15-8696-80531BB0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DC174-B70E-482F-968F-72C8B65D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CA095-2A67-43A6-B830-C5506A0B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942F7-A14A-4BEF-8851-68F2983D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DA8FD-C91C-4DFB-8631-056A6946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7F243-0E91-4C11-A759-56B14824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710B4-383D-4239-B822-09AD4DED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00CBD-3433-4459-8127-9DDFA6D4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07C-EEC0-4D7A-B014-E3C561C1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ED7C4-BED9-42C1-AF2F-408D4ED9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8796A-776A-4B4A-8C77-270767F7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6957A-20C1-4F74-8BCE-E186684B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28F1D-2059-42B5-99E0-8A45E580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9931C-E547-4B1C-B1A2-59807EA3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3A8FF-9341-415A-8AD4-1EB4BE3B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7A978-FF2C-4163-8815-2C3F5547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7FB17-7BE7-4BF1-A411-34EC0DCD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EA2A5-AE26-4561-8F0D-747EB541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90EFF-2497-414F-9166-F906468A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40A0-DE86-4EB2-9781-2176E849AC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2"/>
          <p:cNvGrpSpPr/>
          <p:nvPr/>
        </p:nvGrpSpPr>
        <p:grpSpPr>
          <a:xfrm>
            <a:off x="-310680" y="798480"/>
            <a:ext cx="7080840" cy="6858360"/>
            <a:chOff x="-310680" y="798480"/>
            <a:chExt cx="7080840" cy="6858360"/>
          </a:xfrm>
        </p:grpSpPr>
        <p:grpSp>
          <p:nvGrpSpPr>
            <p:cNvPr id="667" name="Group 3"/>
            <p:cNvGrpSpPr/>
            <p:nvPr/>
          </p:nvGrpSpPr>
          <p:grpSpPr>
            <a:xfrm>
              <a:off x="-310680" y="798480"/>
              <a:ext cx="7080840" cy="6858360"/>
              <a:chOff x="-310680" y="798480"/>
              <a:chExt cx="7080840" cy="6858360"/>
            </a:xfrm>
          </p:grpSpPr>
          <p:grpSp>
            <p:nvGrpSpPr>
              <p:cNvPr id="668" name="Group 4"/>
              <p:cNvGrpSpPr/>
              <p:nvPr/>
            </p:nvGrpSpPr>
            <p:grpSpPr>
              <a:xfrm>
                <a:off x="-310680" y="798480"/>
                <a:ext cx="7080840" cy="6858360"/>
                <a:chOff x="-310680" y="798480"/>
                <a:chExt cx="7080840" cy="6858360"/>
              </a:xfrm>
            </p:grpSpPr>
            <p:sp>
              <p:nvSpPr>
                <p:cNvPr id="669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670" name="Group 6"/>
                <p:cNvGrpSpPr/>
                <p:nvPr/>
              </p:nvGrpSpPr>
              <p:grpSpPr>
                <a:xfrm>
                  <a:off x="-310680" y="798480"/>
                  <a:ext cx="7080840" cy="6858360"/>
                  <a:chOff x="-310680" y="798480"/>
                  <a:chExt cx="7080840" cy="6858360"/>
                </a:xfrm>
              </p:grpSpPr>
              <p:sp>
                <p:nvSpPr>
                  <p:cNvPr id="671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2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3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674" name="Group 10"/>
                  <p:cNvGrpSpPr/>
                  <p:nvPr/>
                </p:nvGrpSpPr>
                <p:grpSpPr>
                  <a:xfrm>
                    <a:off x="-310680" y="798480"/>
                    <a:ext cx="7080840" cy="6858360"/>
                    <a:chOff x="-310680" y="798480"/>
                    <a:chExt cx="7080840" cy="6858360"/>
                  </a:xfrm>
                </p:grpSpPr>
                <p:sp>
                  <p:nvSpPr>
                    <p:cNvPr id="675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676" name="Group 12"/>
                    <p:cNvGrpSpPr/>
                    <p:nvPr/>
                  </p:nvGrpSpPr>
                  <p:grpSpPr>
                    <a:xfrm>
                      <a:off x="-310680" y="805680"/>
                      <a:ext cx="7071120" cy="6851160"/>
                      <a:chOff x="-310680" y="805680"/>
                      <a:chExt cx="7071120" cy="6851160"/>
                    </a:xfrm>
                  </p:grpSpPr>
                  <p:sp>
                    <p:nvSpPr>
                      <p:cNvPr id="677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678" name="Group 14"/>
                      <p:cNvGrpSpPr/>
                      <p:nvPr/>
                    </p:nvGrpSpPr>
                    <p:grpSpPr>
                      <a:xfrm>
                        <a:off x="-310680" y="805680"/>
                        <a:ext cx="7071120" cy="6851160"/>
                        <a:chOff x="-310680" y="805680"/>
                        <a:chExt cx="7071120" cy="6851160"/>
                      </a:xfrm>
                    </p:grpSpPr>
                    <p:sp>
                      <p:nvSpPr>
                        <p:cNvPr id="679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0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1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2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3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4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5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6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7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8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9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0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1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2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3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4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5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6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7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8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9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0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1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2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3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4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5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6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7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8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9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0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1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2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3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4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715" name="Group 51"/>
                        <p:cNvGrpSpPr/>
                        <p:nvPr/>
                      </p:nvGrpSpPr>
                      <p:grpSpPr>
                        <a:xfrm>
                          <a:off x="-310680" y="1279080"/>
                          <a:ext cx="6462720" cy="6377760"/>
                          <a:chOff x="-310680" y="1279080"/>
                          <a:chExt cx="6462720" cy="6377760"/>
                        </a:xfrm>
                      </p:grpSpPr>
                      <p:sp>
                        <p:nvSpPr>
                          <p:cNvPr id="716" name="Oval 52"/>
                          <p:cNvSpPr/>
                          <p:nvPr/>
                        </p:nvSpPr>
                        <p:spPr>
                          <a:xfrm rot="18780000">
                            <a:off x="2443680" y="451728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17" name="Oval 53"/>
                          <p:cNvSpPr/>
                          <p:nvPr/>
                        </p:nvSpPr>
                        <p:spPr>
                          <a:xfrm rot="18780000">
                            <a:off x="2352600" y="433476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18" name="Oval 54"/>
                          <p:cNvSpPr/>
                          <p:nvPr/>
                        </p:nvSpPr>
                        <p:spPr>
                          <a:xfrm rot="18780000">
                            <a:off x="2233080" y="403812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19" name="Oval 55"/>
                          <p:cNvSpPr/>
                          <p:nvPr/>
                        </p:nvSpPr>
                        <p:spPr>
                          <a:xfrm rot="18780000">
                            <a:off x="2140920" y="377928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0" name="Oval 56"/>
                          <p:cNvSpPr/>
                          <p:nvPr/>
                        </p:nvSpPr>
                        <p:spPr>
                          <a:xfrm rot="18780000">
                            <a:off x="2041920" y="34628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1" name="Oval 57"/>
                          <p:cNvSpPr/>
                          <p:nvPr/>
                        </p:nvSpPr>
                        <p:spPr>
                          <a:xfrm rot="18780000">
                            <a:off x="1951560" y="320832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2" name="Oval 58"/>
                          <p:cNvSpPr/>
                          <p:nvPr/>
                        </p:nvSpPr>
                        <p:spPr>
                          <a:xfrm rot="18780000">
                            <a:off x="1830960" y="292320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3" name="Oval 59"/>
                          <p:cNvSpPr/>
                          <p:nvPr/>
                        </p:nvSpPr>
                        <p:spPr>
                          <a:xfrm rot="18780000">
                            <a:off x="1709280" y="266508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4" name="Oval 60"/>
                          <p:cNvSpPr/>
                          <p:nvPr/>
                        </p:nvSpPr>
                        <p:spPr>
                          <a:xfrm rot="18780000">
                            <a:off x="1578600" y="240084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5" name="Oval 61"/>
                          <p:cNvSpPr/>
                          <p:nvPr/>
                        </p:nvSpPr>
                        <p:spPr>
                          <a:xfrm rot="18780000">
                            <a:off x="1474920" y="2117160"/>
                            <a:ext cx="271656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6" name="Oval 62"/>
                          <p:cNvSpPr/>
                          <p:nvPr/>
                        </p:nvSpPr>
                        <p:spPr>
                          <a:xfrm rot="18734400">
                            <a:off x="1378440" y="185472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7" name="Oval 63"/>
                          <p:cNvSpPr/>
                          <p:nvPr/>
                        </p:nvSpPr>
                        <p:spPr>
                          <a:xfrm rot="18819600">
                            <a:off x="1294200" y="155304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728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29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0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1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2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3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4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5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6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7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8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9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0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1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2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3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4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5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6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7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8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9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0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1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2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3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4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5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6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7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8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9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0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1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2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3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764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765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6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67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768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9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0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1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2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3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5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6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777" name="Group 113"/>
            <p:cNvGrpSpPr/>
            <p:nvPr/>
          </p:nvGrpSpPr>
          <p:grpSpPr>
            <a:xfrm>
              <a:off x="1800" y="2127240"/>
              <a:ext cx="5254560" cy="4694040"/>
              <a:chOff x="1800" y="2127240"/>
              <a:chExt cx="5254560" cy="4694040"/>
            </a:xfrm>
          </p:grpSpPr>
          <p:sp>
            <p:nvSpPr>
              <p:cNvPr id="778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1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2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84" name="Group 120"/>
              <p:cNvGrpSpPr/>
              <p:nvPr/>
            </p:nvGrpSpPr>
            <p:grpSpPr>
              <a:xfrm>
                <a:off x="4760640" y="2127240"/>
                <a:ext cx="495720" cy="490680"/>
                <a:chOff x="4760640" y="2127240"/>
                <a:chExt cx="495720" cy="490680"/>
              </a:xfrm>
            </p:grpSpPr>
            <p:sp>
              <p:nvSpPr>
                <p:cNvPr id="785" name="Oval 121"/>
                <p:cNvSpPr/>
                <p:nvPr/>
              </p:nvSpPr>
              <p:spPr>
                <a:xfrm rot="2828400">
                  <a:off x="4776840" y="2350080"/>
                  <a:ext cx="314280" cy="18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6" name="Freeform 122"/>
                <p:cNvSpPr/>
                <p:nvPr/>
              </p:nvSpPr>
              <p:spPr>
                <a:xfrm>
                  <a:off x="4871520" y="2249280"/>
                  <a:ext cx="257040" cy="247680"/>
                </a:xfrm>
                <a:custGeom>
                  <a:avLst/>
                  <a:gdLst>
                    <a:gd name="textAreaLeft" fmla="*/ 0 w 257040"/>
                    <a:gd name="textAreaRight" fmla="*/ 257400 w 25704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7" name="Freeform 123"/>
                <p:cNvSpPr/>
                <p:nvPr/>
              </p:nvSpPr>
              <p:spPr>
                <a:xfrm>
                  <a:off x="4956120" y="2238120"/>
                  <a:ext cx="182880" cy="173160"/>
                </a:xfrm>
                <a:custGeom>
                  <a:avLst/>
                  <a:gdLst>
                    <a:gd name="textAreaLeft" fmla="*/ 0 w 182880"/>
                    <a:gd name="textAreaRight" fmla="*/ 183240 w 18288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8" name="Freeform 124"/>
                <p:cNvSpPr/>
                <p:nvPr/>
              </p:nvSpPr>
              <p:spPr>
                <a:xfrm>
                  <a:off x="5019840" y="2134800"/>
                  <a:ext cx="229320" cy="219960"/>
                </a:xfrm>
                <a:custGeom>
                  <a:avLst/>
                  <a:gdLst>
                    <a:gd name="textAreaLeft" fmla="*/ 0 w 229320"/>
                    <a:gd name="textAreaRight" fmla="*/ 229680 w 229320"/>
                    <a:gd name="textAreaTop" fmla="*/ 0 h 219960"/>
                    <a:gd name="textAreaBottom" fmla="*/ 220320 h 21996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9" name="Freeform 125"/>
                <p:cNvSpPr/>
                <p:nvPr/>
              </p:nvSpPr>
              <p:spPr>
                <a:xfrm>
                  <a:off x="5166360" y="2127240"/>
                  <a:ext cx="90000" cy="82080"/>
                </a:xfrm>
                <a:custGeom>
                  <a:avLst/>
                  <a:gdLst>
                    <a:gd name="textAreaLeft" fmla="*/ 0 w 90000"/>
                    <a:gd name="textAreaRight" fmla="*/ 90360 w 90000"/>
                    <a:gd name="textAreaTop" fmla="*/ 0 h 82080"/>
                    <a:gd name="textAreaBottom" fmla="*/ 82440 h 8208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79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7A39-FAA7-48DF-9AF7-9811F56D15E6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2D9E-2755-4BCC-8949-C87294CCFF6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4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A533-1A52-4DC5-B838-684D5D15BEF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79B7-1207-4F3B-B829-A69E9FD529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250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51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252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53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254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5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6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257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258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259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260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261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262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3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4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5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6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7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8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9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0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1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2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3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4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5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6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7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8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9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0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1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2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3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4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5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6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7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8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9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0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1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2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3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4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5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6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7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298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299" name="Oval 52"/>
                          <p:cNvSpPr/>
                          <p:nvPr/>
                        </p:nvSpPr>
                        <p:spPr>
                          <a:xfrm rot="18780000">
                            <a:off x="245772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0" name="Oval 53"/>
                          <p:cNvSpPr/>
                          <p:nvPr/>
                        </p:nvSpPr>
                        <p:spPr>
                          <a:xfrm rot="18780000">
                            <a:off x="2371680" y="43030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1" name="Oval 54"/>
                          <p:cNvSpPr/>
                          <p:nvPr/>
                        </p:nvSpPr>
                        <p:spPr>
                          <a:xfrm rot="18780000">
                            <a:off x="2252160" y="4006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2" name="Oval 55"/>
                          <p:cNvSpPr/>
                          <p:nvPr/>
                        </p:nvSpPr>
                        <p:spPr>
                          <a:xfrm rot="18780000">
                            <a:off x="2160000" y="3747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3" name="Oval 56"/>
                          <p:cNvSpPr/>
                          <p:nvPr/>
                        </p:nvSpPr>
                        <p:spPr>
                          <a:xfrm rot="18780000">
                            <a:off x="2059200" y="343080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4" name="Oval 57"/>
                          <p:cNvSpPr/>
                          <p:nvPr/>
                        </p:nvSpPr>
                        <p:spPr>
                          <a:xfrm rot="18780000">
                            <a:off x="1970640" y="31766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5" name="Oval 58"/>
                          <p:cNvSpPr/>
                          <p:nvPr/>
                        </p:nvSpPr>
                        <p:spPr>
                          <a:xfrm rot="18780000">
                            <a:off x="1850040" y="289152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6" name="Oval 59"/>
                          <p:cNvSpPr/>
                          <p:nvPr/>
                        </p:nvSpPr>
                        <p:spPr>
                          <a:xfrm rot="18780000">
                            <a:off x="1728360" y="26334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7" name="Oval 60"/>
                          <p:cNvSpPr/>
                          <p:nvPr/>
                        </p:nvSpPr>
                        <p:spPr>
                          <a:xfrm rot="18780000">
                            <a:off x="1597680" y="2369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8" name="Oval 61"/>
                          <p:cNvSpPr/>
                          <p:nvPr/>
                        </p:nvSpPr>
                        <p:spPr>
                          <a:xfrm rot="18780000">
                            <a:off x="1492200" y="2084760"/>
                            <a:ext cx="271656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9" name="Oval 62"/>
                          <p:cNvSpPr/>
                          <p:nvPr/>
                        </p:nvSpPr>
                        <p:spPr>
                          <a:xfrm rot="18734400">
                            <a:off x="1397520" y="18230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10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311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2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3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4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5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6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7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8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9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0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1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2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3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4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5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6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7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8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9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0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1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2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3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4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5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6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7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8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9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0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1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2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3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4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5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6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47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348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9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350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351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2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3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4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5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6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7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8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9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360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361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118"/>
              <p:cNvSpPr/>
              <p:nvPr/>
            </p:nvSpPr>
            <p:spPr>
              <a:xfrm rot="18182400">
                <a:off x="1605960" y="42883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67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368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9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320"/>
                    <a:gd name="textAreaBottom" fmla="*/ 247680 h 24732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0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1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2840"/>
                    <a:gd name="textAreaBottom" fmla="*/ 223200 h 22284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2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73" name="PlaceHolder 1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4E86-63B2-4C84-9C35-B842DD3C722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1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5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1DA3-FF0B-4BD8-896F-DEF2DE678B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9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8040-2018-4627-ACA5-CE620112874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5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2315-118A-47FD-997D-EA95C5A5A38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6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617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19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620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1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2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C9A6-4E22-43CA-9C26-1C1F0401482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8.xml"/><Relationship Id="rId17" Type="http://schemas.openxmlformats.org/officeDocument/2006/relationships/slide" Target="slide9.xml"/><Relationship Id="rId18" Type="http://schemas.openxmlformats.org/officeDocument/2006/relationships/slide" Target="slide10.xml"/><Relationship Id="rId19" Type="http://schemas.openxmlformats.org/officeDocument/2006/relationships/slide" Target="slide11.xml"/><Relationship Id="rId20" Type="http://schemas.openxmlformats.org/officeDocument/2006/relationships/slide" Target="slide13.xml"/><Relationship Id="rId21" Type="http://schemas.openxmlformats.org/officeDocument/2006/relationships/slide" Target="slide23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8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" Target="slide31.xml"/><Relationship Id="rId8" Type="http://schemas.openxmlformats.org/officeDocument/2006/relationships/slide" Target="slide32.xml"/><Relationship Id="rId9" Type="http://schemas.openxmlformats.org/officeDocument/2006/relationships/slide" Target="slide33.xml"/><Relationship Id="rId10" Type="http://schemas.openxmlformats.org/officeDocument/2006/relationships/slide" Target="slide34.xml"/><Relationship Id="rId11" Type="http://schemas.openxmlformats.org/officeDocument/2006/relationships/slide" Target="slide35.xml"/><Relationship Id="rId12" Type="http://schemas.openxmlformats.org/officeDocument/2006/relationships/slide" Target="slide36.xml"/><Relationship Id="rId13" Type="http://schemas.openxmlformats.org/officeDocument/2006/relationships/slide" Target="slide37.xml"/><Relationship Id="rId14" Type="http://schemas.openxmlformats.org/officeDocument/2006/relationships/slide" Target="slide38.xml"/><Relationship Id="rId15" Type="http://schemas.openxmlformats.org/officeDocument/2006/relationships/slide" Target="slide40.xml"/><Relationship Id="rId16" Type="http://schemas.openxmlformats.org/officeDocument/2006/relationships/slide" Target="slide41.xml"/><Relationship Id="rId17" Type="http://schemas.openxmlformats.org/officeDocument/2006/relationships/slide" Target="slide42.xml"/><Relationship Id="rId18" Type="http://schemas.openxmlformats.org/officeDocument/2006/relationships/slide" Target="slide43.xml"/><Relationship Id="rId19" Type="http://schemas.openxmlformats.org/officeDocument/2006/relationships/slide" Target="slide44.xml"/><Relationship Id="rId20" Type="http://schemas.openxmlformats.org/officeDocument/2006/relationships/slide" Target="slide46.xml"/><Relationship Id="rId21" Type="http://schemas.openxmlformats.org/officeDocument/2006/relationships/slide" Target=""/><Relationship Id="rId2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" Target="slide23.xml"/><Relationship Id="rId5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WordArt 1024"/>
          <p:cNvSpPr txBox="1"/>
          <p:nvPr/>
        </p:nvSpPr>
        <p:spPr>
          <a:xfrm>
            <a:off x="1071720" y="2000160"/>
            <a:ext cx="720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ff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 В О Я    </a:t>
            </a:r>
            <a:endParaRPr b="0" lang="en-US" sz="1800" spc="1" strike="noStrike">
              <a:ln w="12600">
                <a:solidFill>
                  <a:srgbClr val="99ff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ff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И Г Р А</a:t>
            </a:r>
            <a:endParaRPr b="0" lang="en-US" sz="1800" spc="1" strike="noStrike">
              <a:ln w="12600">
                <a:solidFill>
                  <a:srgbClr val="99ff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0            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этик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ому по обычаю бурят положено первому подавать пищу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Лента лицом вверх 7"/>
          <p:cNvSpPr/>
          <p:nvPr/>
        </p:nvSpPr>
        <p:spPr>
          <a:xfrm>
            <a:off x="2268360" y="4221000"/>
            <a:ext cx="4800600" cy="1708200"/>
          </a:xfrm>
          <a:custGeom>
            <a:avLst/>
            <a:gdLst>
              <a:gd name="textAreaLeft" fmla="*/ 600120 w 4800600"/>
              <a:gd name="textAreaRight" fmla="*/ 4200840 w 4800600"/>
              <a:gd name="textAreaTop" fmla="*/ 0 h 1708200"/>
              <a:gd name="textAreaBottom" fmla="*/ 1423800 h 1708200"/>
            </a:gdLst>
            <a:ahLst/>
            <a:rect l="textAreaLeft" t="textAreaTop" r="textAreaRight" b="textAreaBottom"/>
            <a:pathLst>
              <a:path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115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700" y="3600"/>
                </a:lnTo>
                <a:lnTo>
                  <a:pt x="2700" y="900"/>
                </a:lnTo>
                <a:cubicBezTo>
                  <a:pt x="2700" y="45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450"/>
                  <a:pt x="18900" y="900"/>
                </a:cubicBezTo>
                <a:lnTo>
                  <a:pt x="189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150"/>
                  <a:pt x="16200" y="20700"/>
                </a:cubicBezTo>
                <a:lnTo>
                  <a:pt x="16200" y="18000"/>
                </a:lnTo>
                <a:close/>
              </a:path>
              <a:path fill="darkenLess"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0250"/>
                  <a:pt x="4980" y="19800"/>
                  <a:pt x="4560" y="19800"/>
                </a:cubicBezTo>
                <a:lnTo>
                  <a:pt x="3540" y="19800"/>
                </a:lnTo>
                <a:cubicBezTo>
                  <a:pt x="3120" y="19800"/>
                  <a:pt x="2700" y="19350"/>
                  <a:pt x="2700" y="18900"/>
                </a:cubicBezTo>
                <a:cubicBezTo>
                  <a:pt x="2700" y="18450"/>
                  <a:pt x="3120" y="18000"/>
                  <a:pt x="3540" y="18000"/>
                </a:cubicBezTo>
                <a:close/>
              </a:path>
              <a:path fill="darkenLess" w="21600" h="21600">
                <a:moveTo>
                  <a:pt x="16200" y="18000"/>
                </a:moveTo>
                <a:lnTo>
                  <a:pt x="16200" y="20700"/>
                </a:lnTo>
                <a:cubicBezTo>
                  <a:pt x="16200" y="20250"/>
                  <a:pt x="16620" y="19800"/>
                  <a:pt x="17040" y="19800"/>
                </a:cubicBezTo>
                <a:lnTo>
                  <a:pt x="18060" y="19800"/>
                </a:lnTo>
                <a:cubicBezTo>
                  <a:pt x="18480" y="19800"/>
                  <a:pt x="18900" y="19350"/>
                  <a:pt x="18900" y="18900"/>
                </a:cubicBezTo>
                <a:cubicBezTo>
                  <a:pt x="18900" y="18450"/>
                  <a:pt x="18480" y="18000"/>
                  <a:pt x="18060" y="18000"/>
                </a:cubicBezTo>
                <a:close/>
              </a:path>
              <a:path fill="darkenLess" w="21600" h="21600">
                <a:moveTo>
                  <a:pt x="2700" y="18900"/>
                </a:moveTo>
                <a:lnTo>
                  <a:pt x="2700" y="3600"/>
                </a:lnTo>
              </a:path>
              <a:path fill="darkenLess" w="21600" h="21600">
                <a:moveTo>
                  <a:pt x="18900" y="18900"/>
                </a:moveTo>
                <a:lnTo>
                  <a:pt x="18900" y="3600"/>
                </a:lnTo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озяину дом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0       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тик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акой рукой буряты подают угощение гостям, принимают и вручают подарк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Лента лицом вверх 5"/>
          <p:cNvSpPr/>
          <p:nvPr/>
        </p:nvSpPr>
        <p:spPr>
          <a:xfrm>
            <a:off x="785880" y="3929040"/>
            <a:ext cx="7429320" cy="2571840"/>
          </a:xfrm>
          <a:custGeom>
            <a:avLst/>
            <a:gdLst>
              <a:gd name="textAreaLeft" fmla="*/ 928440 w 7429320"/>
              <a:gd name="textAreaRight" fmla="*/ 6500880 w 7429320"/>
              <a:gd name="textAreaTop" fmla="*/ 0 h 2571840"/>
              <a:gd name="textAreaBottom" fmla="*/ 2143440 h 2571840"/>
            </a:gdLst>
            <a:ahLst/>
            <a:rect l="textAreaLeft" t="textAreaTop" r="textAreaRight" b="textAreaBottom"/>
            <a:pathLst>
              <a:path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115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700" y="3600"/>
                </a:lnTo>
                <a:lnTo>
                  <a:pt x="2700" y="900"/>
                </a:lnTo>
                <a:cubicBezTo>
                  <a:pt x="2700" y="45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450"/>
                  <a:pt x="18900" y="900"/>
                </a:cubicBezTo>
                <a:lnTo>
                  <a:pt x="189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150"/>
                  <a:pt x="16200" y="20700"/>
                </a:cubicBezTo>
                <a:lnTo>
                  <a:pt x="16200" y="18000"/>
                </a:lnTo>
                <a:close/>
              </a:path>
              <a:path fill="darkenLess"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0250"/>
                  <a:pt x="4980" y="19800"/>
                  <a:pt x="4560" y="19800"/>
                </a:cubicBezTo>
                <a:lnTo>
                  <a:pt x="3540" y="19800"/>
                </a:lnTo>
                <a:cubicBezTo>
                  <a:pt x="3120" y="19800"/>
                  <a:pt x="2700" y="19350"/>
                  <a:pt x="2700" y="18900"/>
                </a:cubicBezTo>
                <a:cubicBezTo>
                  <a:pt x="2700" y="18450"/>
                  <a:pt x="3120" y="18000"/>
                  <a:pt x="3540" y="18000"/>
                </a:cubicBezTo>
                <a:close/>
              </a:path>
              <a:path fill="darkenLess" w="21600" h="21600">
                <a:moveTo>
                  <a:pt x="16200" y="18000"/>
                </a:moveTo>
                <a:lnTo>
                  <a:pt x="16200" y="20700"/>
                </a:lnTo>
                <a:cubicBezTo>
                  <a:pt x="16200" y="20250"/>
                  <a:pt x="16620" y="19800"/>
                  <a:pt x="17040" y="19800"/>
                </a:cubicBezTo>
                <a:lnTo>
                  <a:pt x="18060" y="19800"/>
                </a:lnTo>
                <a:cubicBezTo>
                  <a:pt x="18480" y="19800"/>
                  <a:pt x="18900" y="19350"/>
                  <a:pt x="18900" y="18900"/>
                </a:cubicBezTo>
                <a:cubicBezTo>
                  <a:pt x="18900" y="18450"/>
                  <a:pt x="18480" y="18000"/>
                  <a:pt x="18060" y="18000"/>
                </a:cubicBezTo>
                <a:close/>
              </a:path>
              <a:path fill="darkenLess" w="21600" h="21600">
                <a:moveTo>
                  <a:pt x="2700" y="18900"/>
                </a:moveTo>
                <a:lnTo>
                  <a:pt x="2700" y="3600"/>
                </a:lnTo>
              </a:path>
              <a:path fill="darkenLess" w="21600" h="21600">
                <a:moveTo>
                  <a:pt x="18900" y="18900"/>
                </a:moveTo>
                <a:lnTo>
                  <a:pt x="18900" y="3600"/>
                </a:lnTo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авой рук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      ЭТИК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79640" y="1700280"/>
            <a:ext cx="637056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Назовите 3 мягкие словосочетания,  которыми дети должны обеспечивать родителей на старости ле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TextBox 1"/>
          <p:cNvSpPr/>
          <p:nvPr/>
        </p:nvSpPr>
        <p:spPr>
          <a:xfrm>
            <a:off x="1654200" y="5950080"/>
            <a:ext cx="51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ягкая пища, мягкая постель, доброе слов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0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пор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Спортивные состязания мужчин на бурятском языке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Ribbon2Sharp"/>
          <p:cNvSpPr/>
          <p:nvPr/>
        </p:nvSpPr>
        <p:spPr>
          <a:xfrm>
            <a:off x="785880" y="4508640"/>
            <a:ext cx="7777080" cy="1863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Три игры муж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Эрын гурбан наад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0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пор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Назовите лишнее слово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hу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рхарбалга, шатар, мори урилдаан, бухэ барилдаан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Ribbon2Sharp"/>
          <p:cNvSpPr/>
          <p:nvPr/>
        </p:nvSpPr>
        <p:spPr>
          <a:xfrm>
            <a:off x="2050920" y="5013360"/>
            <a:ext cx="532944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ahoma"/>
              </a:rPr>
              <a:t>шата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30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пор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 этой игре мишенью служат бабки. О каком виде спорта идет реч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ibbon2Sharp"/>
          <p:cNvSpPr/>
          <p:nvPr/>
        </p:nvSpPr>
        <p:spPr>
          <a:xfrm>
            <a:off x="673200" y="4162320"/>
            <a:ext cx="7786440" cy="228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ahoma"/>
              </a:rPr>
              <a:t>Стрельба из лука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40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пор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Какой танец исполняет выигравший в национальной бурятской борьб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Ribbon2Sharp"/>
          <p:cNvSpPr/>
          <p:nvPr/>
        </p:nvSpPr>
        <p:spPr>
          <a:xfrm>
            <a:off x="1214280" y="4643280"/>
            <a:ext cx="648036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ahoma"/>
              </a:rPr>
              <a:t>Танец ор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50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пор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Назовите первого чемпиона мира по вольной борьбе из Бурят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ibbon2Sharp"/>
          <p:cNvSpPr/>
          <p:nvPr/>
        </p:nvSpPr>
        <p:spPr>
          <a:xfrm>
            <a:off x="1619280" y="5013360"/>
            <a:ext cx="626580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Борис Буда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0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азд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Встреча Нового года по лунному календарю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Ribbon2Sharp"/>
          <p:cNvSpPr/>
          <p:nvPr/>
        </p:nvSpPr>
        <p:spPr>
          <a:xfrm>
            <a:off x="1979640" y="5013360"/>
            <a:ext cx="5472000" cy="939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ahoma"/>
              </a:rPr>
              <a:t>Сагаалга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азд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Один из наиболее распространенных летних праздников монгол язычных народ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ibbon2Sharp"/>
          <p:cNvSpPr/>
          <p:nvPr/>
        </p:nvSpPr>
        <p:spPr>
          <a:xfrm>
            <a:off x="2771640" y="5013360"/>
            <a:ext cx="496908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Сурхарб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 u="sng">
                <a:solidFill>
                  <a:srgbClr val="00ffff"/>
                </a:solidFill>
                <a:uFillTx/>
                <a:latin typeface="Monotype Corsiva"/>
              </a:rPr>
              <a:t>Синий раун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3" name=""/>
          <p:cNvGraphicFramePr/>
          <p:nvPr/>
        </p:nvGraphicFramePr>
        <p:xfrm>
          <a:off x="108000" y="1628640"/>
          <a:ext cx="9001080" cy="4619880"/>
        </p:xfrm>
        <a:graphic>
          <a:graphicData uri="http://schemas.openxmlformats.org/drawingml/2006/table">
            <a:tbl>
              <a:tblPr/>
              <a:tblGrid>
                <a:gridCol w="2539800"/>
                <a:gridCol w="1194120"/>
                <a:gridCol w="1492200"/>
                <a:gridCol w="1269720"/>
                <a:gridCol w="1270080"/>
                <a:gridCol w="1235160"/>
              </a:tblGrid>
              <a:tr h="116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машние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ы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ик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р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здники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4" name="AutoShape 0">
            <a:hlinkClick r:id="rId21" action="ppaction://hlinksldjump"/>
          </p:cNvPr>
          <p:cNvSpPr/>
          <p:nvPr/>
        </p:nvSpPr>
        <p:spPr>
          <a:xfrm>
            <a:off x="612720" y="6381720"/>
            <a:ext cx="7704360" cy="405000"/>
          </a:xfrm>
          <a:custGeom>
            <a:avLst/>
            <a:gdLst>
              <a:gd name="textAreaLeft" fmla="*/ 25920 w 7704360"/>
              <a:gd name="textAreaRight" fmla="*/ 7678440 w 7704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410553" h="21600">
                <a:moveTo>
                  <a:pt x="0" y="0"/>
                </a:moveTo>
                <a:lnTo>
                  <a:pt x="410553" y="0"/>
                </a:lnTo>
                <a:lnTo>
                  <a:pt x="410553" y="21600"/>
                </a:lnTo>
                <a:lnTo>
                  <a:pt x="0" y="21600"/>
                </a:lnTo>
                <a:close/>
              </a:path>
              <a:path fill="lightenLess" w="410553" h="21600">
                <a:moveTo>
                  <a:pt x="0" y="0"/>
                </a:moveTo>
                <a:lnTo>
                  <a:pt x="410553" y="0"/>
                </a:lnTo>
                <a:lnTo>
                  <a:pt x="409154" y="1400"/>
                </a:lnTo>
                <a:lnTo>
                  <a:pt x="1400" y="1400"/>
                </a:lnTo>
                <a:close/>
              </a:path>
              <a:path fill="darken" w="410553" h="21600">
                <a:moveTo>
                  <a:pt x="410553" y="0"/>
                </a:moveTo>
                <a:lnTo>
                  <a:pt x="410553" y="21600"/>
                </a:lnTo>
                <a:lnTo>
                  <a:pt x="409154" y="20200"/>
                </a:lnTo>
                <a:lnTo>
                  <a:pt x="409154" y="1400"/>
                </a:lnTo>
                <a:close/>
              </a:path>
              <a:path fill="darkenLess" w="410553" h="21600">
                <a:moveTo>
                  <a:pt x="410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154" y="20200"/>
                </a:lnTo>
                <a:close/>
              </a:path>
              <a:path fill="lighten" w="410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Tahoma"/>
              </a:rPr>
              <a:t>Красный раун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30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азд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Что означает название международного праздника Алтарга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ibbon2Sharp"/>
          <p:cNvSpPr/>
          <p:nvPr/>
        </p:nvSpPr>
        <p:spPr>
          <a:xfrm>
            <a:off x="1476360" y="5013360"/>
            <a:ext cx="597708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Название Кустар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Празд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7829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называется праздник проходящий в нашем селе,  в августе месяц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Лента лицом вверх 10"/>
          <p:cNvSpPr/>
          <p:nvPr/>
        </p:nvSpPr>
        <p:spPr>
          <a:xfrm>
            <a:off x="2857680" y="5072040"/>
            <a:ext cx="3143160" cy="1071720"/>
          </a:xfrm>
          <a:custGeom>
            <a:avLst/>
            <a:gdLst>
              <a:gd name="textAreaLeft" fmla="*/ 416880 w 3143160"/>
              <a:gd name="textAreaRight" fmla="*/ 2726280 w 3143160"/>
              <a:gd name="textAreaTop" fmla="*/ 0 h 1071720"/>
              <a:gd name="textAreaBottom" fmla="*/ 893160 h 1071720"/>
            </a:gdLst>
            <a:ahLst/>
            <a:rect l="textAreaLeft" t="textAreaTop" r="textAreaRight" b="textAreaBottom"/>
            <a:pathLst>
              <a:path w="21600" h="21600">
                <a:moveTo>
                  <a:pt x="5566" y="18000"/>
                </a:moveTo>
                <a:lnTo>
                  <a:pt x="5566" y="20700"/>
                </a:lnTo>
                <a:cubicBezTo>
                  <a:pt x="5566" y="21150"/>
                  <a:pt x="5146" y="21600"/>
                  <a:pt x="4726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866" y="3600"/>
                </a:lnTo>
                <a:lnTo>
                  <a:pt x="2866" y="900"/>
                </a:lnTo>
                <a:cubicBezTo>
                  <a:pt x="2866" y="450"/>
                  <a:pt x="3286" y="0"/>
                  <a:pt x="3706" y="0"/>
                </a:cubicBezTo>
                <a:lnTo>
                  <a:pt x="17894" y="0"/>
                </a:lnTo>
                <a:cubicBezTo>
                  <a:pt x="18314" y="0"/>
                  <a:pt x="18734" y="450"/>
                  <a:pt x="18734" y="900"/>
                </a:cubicBezTo>
                <a:lnTo>
                  <a:pt x="18734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874" y="21600"/>
                </a:lnTo>
                <a:cubicBezTo>
                  <a:pt x="16454" y="21600"/>
                  <a:pt x="16034" y="21150"/>
                  <a:pt x="16034" y="20700"/>
                </a:cubicBezTo>
                <a:lnTo>
                  <a:pt x="16034" y="18000"/>
                </a:lnTo>
                <a:close/>
              </a:path>
              <a:path fill="darkenLess" w="21600" h="21600">
                <a:moveTo>
                  <a:pt x="5566" y="18000"/>
                </a:moveTo>
                <a:lnTo>
                  <a:pt x="5566" y="20700"/>
                </a:lnTo>
                <a:cubicBezTo>
                  <a:pt x="5566" y="20250"/>
                  <a:pt x="5146" y="19800"/>
                  <a:pt x="4726" y="19800"/>
                </a:cubicBezTo>
                <a:lnTo>
                  <a:pt x="3706" y="19800"/>
                </a:lnTo>
                <a:cubicBezTo>
                  <a:pt x="3286" y="19800"/>
                  <a:pt x="2866" y="19350"/>
                  <a:pt x="2866" y="18900"/>
                </a:cubicBezTo>
                <a:cubicBezTo>
                  <a:pt x="2866" y="18450"/>
                  <a:pt x="3286" y="18000"/>
                  <a:pt x="3706" y="18000"/>
                </a:cubicBezTo>
                <a:close/>
              </a:path>
              <a:path fill="darkenLess" w="21600" h="21600">
                <a:moveTo>
                  <a:pt x="16034" y="18000"/>
                </a:moveTo>
                <a:lnTo>
                  <a:pt x="16034" y="20700"/>
                </a:lnTo>
                <a:cubicBezTo>
                  <a:pt x="16034" y="20250"/>
                  <a:pt x="16454" y="19800"/>
                  <a:pt x="16874" y="19800"/>
                </a:cubicBezTo>
                <a:lnTo>
                  <a:pt x="17894" y="19800"/>
                </a:lnTo>
                <a:cubicBezTo>
                  <a:pt x="18314" y="19800"/>
                  <a:pt x="18734" y="19350"/>
                  <a:pt x="18734" y="18900"/>
                </a:cubicBezTo>
                <a:cubicBezTo>
                  <a:pt x="18734" y="18450"/>
                  <a:pt x="18314" y="18000"/>
                  <a:pt x="17894" y="18000"/>
                </a:cubicBezTo>
                <a:close/>
              </a:path>
              <a:path fill="darkenLess" w="21600" h="21600">
                <a:moveTo>
                  <a:pt x="2866" y="18900"/>
                </a:moveTo>
                <a:lnTo>
                  <a:pt x="2866" y="3600"/>
                </a:lnTo>
              </a:path>
              <a:path fill="darkenLess" w="21600" h="21600">
                <a:moveTo>
                  <a:pt x="18734" y="18900"/>
                </a:moveTo>
                <a:lnTo>
                  <a:pt x="18734" y="3600"/>
                </a:lnTo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еображение Господ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50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азд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очему встреча Нового Года по восточному календарю приходится на разные даты? Отчего это зависит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Ribbon2Sharp"/>
          <p:cNvSpPr/>
          <p:nvPr/>
        </p:nvSpPr>
        <p:spPr>
          <a:xfrm>
            <a:off x="2000160" y="4929120"/>
            <a:ext cx="532944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От лунного календар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600" spc="-1" strike="noStrike" u="sng">
                <a:solidFill>
                  <a:srgbClr val="ff99cc"/>
                </a:solidFill>
                <a:uFillTx/>
                <a:latin typeface="Monotype Corsiva"/>
              </a:rPr>
              <a:t>Красный раунд</a:t>
            </a:r>
            <a:endParaRPr b="0" lang="en-US" sz="7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144360" y="1700280"/>
          <a:ext cx="8820360" cy="4286160"/>
        </p:xfrm>
        <a:graphic>
          <a:graphicData uri="http://schemas.openxmlformats.org/drawingml/2006/table">
            <a:tbl>
              <a:tblPr/>
              <a:tblGrid>
                <a:gridCol w="2652840"/>
                <a:gridCol w="1185840"/>
                <a:gridCol w="1182600"/>
                <a:gridCol w="1184400"/>
                <a:gridCol w="1185840"/>
                <a:gridCol w="142884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амматик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6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8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лендар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6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8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вестные люд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6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8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урятская кухн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6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8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7" name="AutoShape 0">
            <a:hlinkClick r:id="rId21" action="ppaction://hlinksldjump"/>
          </p:cNvPr>
          <p:cNvSpPr/>
          <p:nvPr/>
        </p:nvSpPr>
        <p:spPr>
          <a:xfrm>
            <a:off x="539640" y="6237360"/>
            <a:ext cx="8101080" cy="620640"/>
          </a:xfrm>
          <a:custGeom>
            <a:avLst/>
            <a:gdLst>
              <a:gd name="textAreaLeft" fmla="*/ 39960 w 8101080"/>
              <a:gd name="textAreaRight" fmla="*/ 8061120 w 81010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1789" h="21600">
                <a:moveTo>
                  <a:pt x="0" y="0"/>
                </a:moveTo>
                <a:lnTo>
                  <a:pt x="281789" y="0"/>
                </a:lnTo>
                <a:lnTo>
                  <a:pt x="281789" y="21600"/>
                </a:lnTo>
                <a:lnTo>
                  <a:pt x="0" y="21600"/>
                </a:lnTo>
                <a:close/>
              </a:path>
              <a:path fill="lightenLess" w="281789" h="21600">
                <a:moveTo>
                  <a:pt x="0" y="0"/>
                </a:moveTo>
                <a:lnTo>
                  <a:pt x="281789" y="0"/>
                </a:lnTo>
                <a:lnTo>
                  <a:pt x="280389" y="1400"/>
                </a:lnTo>
                <a:lnTo>
                  <a:pt x="1400" y="1400"/>
                </a:lnTo>
                <a:close/>
              </a:path>
              <a:path fill="darken" w="281789" h="21600">
                <a:moveTo>
                  <a:pt x="281789" y="0"/>
                </a:moveTo>
                <a:lnTo>
                  <a:pt x="281789" y="21600"/>
                </a:lnTo>
                <a:lnTo>
                  <a:pt x="280389" y="20200"/>
                </a:lnTo>
                <a:lnTo>
                  <a:pt x="280389" y="1400"/>
                </a:lnTo>
                <a:close/>
              </a:path>
              <a:path fill="darkenLess" w="281789" h="21600">
                <a:moveTo>
                  <a:pt x="281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389" y="20200"/>
                </a:lnTo>
                <a:close/>
              </a:path>
              <a:path fill="lighten" w="281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00">
              <a:alpha val="29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Tahoma"/>
              </a:rPr>
              <a:t>С в о я     и г р а</a:t>
            </a:r>
            <a:r>
              <a:rPr b="1" lang="ru-RU" sz="1800" spc="-1" strike="noStrike">
                <a:solidFill>
                  <a:srgbClr val="99ff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20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граммати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Назовите вопросы кто? И что? (на бурятском языке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Ribbon2Sharp"/>
          <p:cNvSpPr/>
          <p:nvPr/>
        </p:nvSpPr>
        <p:spPr>
          <a:xfrm>
            <a:off x="611280" y="4221000"/>
            <a:ext cx="8064360" cy="1440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Хэн?   Юун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AutoShape 0">
            <a:hlinkClick r:id="rId1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40 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Грамматика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Шини дуратай уран зохёлшо хэн бэ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Ribbon2Sharp"/>
          <p:cNvSpPr/>
          <p:nvPr/>
        </p:nvSpPr>
        <p:spPr>
          <a:xfrm>
            <a:off x="2627280" y="4724280"/>
            <a:ext cx="4608720" cy="1152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Минии-  Пушкин А.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AutoShape 0">
            <a:hlinkClick r:id="rId1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ru-RU" sz="6000" spc="-1" strike="noStrike" u="sng">
                <a:solidFill>
                  <a:srgbClr val="ff0066"/>
                </a:solidFill>
                <a:uFillTx/>
                <a:latin typeface="Comic Sans MS"/>
              </a:rPr>
              <a:t>Своя игр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301680" y="4774680"/>
            <a:ext cx="854064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990000"/>
                </a:solidFill>
                <a:uFillTx/>
                <a:latin typeface="Tahoma"/>
              </a:rPr>
              <a:t>Расскажи о себе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8" name="Picture 4" descr="BOY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64000" y="1989000"/>
            <a:ext cx="1973160" cy="2679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929" name="AutoShape 5">
            <a:hlinkClick r:id="rId4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ffffff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4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сч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772400" cy="224964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66"/>
                </a:solidFill>
                <a:latin typeface="Times New Roman"/>
              </a:rPr>
              <a:t>Продолжи счет далан нэгэ, далан хоёр, …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Ribbon2Sharp"/>
          <p:cNvSpPr/>
          <p:nvPr/>
        </p:nvSpPr>
        <p:spPr>
          <a:xfrm>
            <a:off x="973080" y="5013360"/>
            <a:ext cx="6983640" cy="1224000"/>
          </a:xfrm>
          <a:custGeom>
            <a:avLst/>
            <a:gdLst>
              <a:gd name="textAreaLeft" fmla="*/ 1746000 w 6983640"/>
              <a:gd name="textAreaRight" fmla="*/ 5238000 w 6983640"/>
              <a:gd name="textAreaTop" fmla="*/ 135720 h 1224000"/>
              <a:gd name="textAreaBottom" fmla="*/ 10882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00" y="8400"/>
                </a:lnTo>
                <a:lnTo>
                  <a:pt x="0" y="16800"/>
                </a:lnTo>
                <a:lnTo>
                  <a:pt x="5400" y="16800"/>
                </a:lnTo>
                <a:lnTo>
                  <a:pt x="5400" y="19200"/>
                </a:lnTo>
                <a:lnTo>
                  <a:pt x="13500" y="192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3200"/>
                </a:lnTo>
                <a:lnTo>
                  <a:pt x="21600" y="4800"/>
                </a:lnTo>
                <a:lnTo>
                  <a:pt x="16200" y="4800"/>
                </a:lnTo>
                <a:lnTo>
                  <a:pt x="16200" y="2400"/>
                </a:lnTo>
                <a:lnTo>
                  <a:pt x="8100" y="2400"/>
                </a:lnTo>
                <a:lnTo>
                  <a:pt x="8100" y="0"/>
                </a:lnTo>
                <a:lnTo>
                  <a:pt x="0" y="0"/>
                </a:lnTo>
                <a:close/>
              </a:path>
              <a:path fill="none" w="21600" h="21600">
                <a:moveTo>
                  <a:pt x="8100" y="2400"/>
                </a:moveTo>
                <a:lnTo>
                  <a:pt x="5400" y="2400"/>
                </a:lnTo>
                <a:lnTo>
                  <a:pt x="5400" y="16800"/>
                </a:lnTo>
              </a:path>
              <a:path fill="none" w="21600" h="21600">
                <a:moveTo>
                  <a:pt x="8100" y="0"/>
                </a:moveTo>
                <a:lnTo>
                  <a:pt x="5400" y="2400"/>
                </a:lnTo>
              </a:path>
              <a:path fill="none" w="21600" h="21600">
                <a:moveTo>
                  <a:pt x="13500" y="19200"/>
                </a:moveTo>
                <a:lnTo>
                  <a:pt x="16200" y="19200"/>
                </a:lnTo>
                <a:lnTo>
                  <a:pt x="16200" y="4800"/>
                </a:lnTo>
              </a:path>
              <a:path fill="none" w="21600" h="21600">
                <a:moveTo>
                  <a:pt x="13500" y="21600"/>
                </a:moveTo>
                <a:lnTo>
                  <a:pt x="16200" y="1920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AutoShape 0">
            <a:hlinkClick r:id="rId2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ffffff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80 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Граммати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ой вопрос можно задать к выделенному слов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Багша 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мелээр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бэшэнэ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Ribbon2Sharp"/>
          <p:cNvSpPr/>
          <p:nvPr/>
        </p:nvSpPr>
        <p:spPr>
          <a:xfrm>
            <a:off x="684360" y="4005360"/>
            <a:ext cx="8208720" cy="20192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Хэнээр? Хаагуур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Юугээр? Юунтэ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AutoShape 0">
            <a:hlinkClick r:id="rId1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100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Граммати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 окончанием какого времени глагола совпадает неопределенная форма глагол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Ribbon2Sharp"/>
          <p:cNvSpPr/>
          <p:nvPr/>
        </p:nvSpPr>
        <p:spPr>
          <a:xfrm>
            <a:off x="250920" y="4869000"/>
            <a:ext cx="7416720" cy="16556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будуще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AutoShape 0">
            <a:hlinkClick r:id="rId1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0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омашние живот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речислите на бурятском языке 5 видов домашних животных, почитаемых бурятами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Ribbon2Sharp"/>
          <p:cNvSpPr/>
          <p:nvPr/>
        </p:nvSpPr>
        <p:spPr>
          <a:xfrm>
            <a:off x="468360" y="4365720"/>
            <a:ext cx="8675640" cy="23763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Морин, </a:t>
            </a: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y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неэн, ямаан, тэмээн, хон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AutoShape 1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20 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календар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Times New Roman"/>
              </a:rPr>
              <a:t>Какой год начинает 12-летний цикл восточного календаря? Скажите по бурятски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Ribbon2Sharp"/>
          <p:cNvSpPr/>
          <p:nvPr/>
        </p:nvSpPr>
        <p:spPr>
          <a:xfrm>
            <a:off x="1547640" y="4591080"/>
            <a:ext cx="5975640" cy="14288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Год мыш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Хулгана жэ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AutoShape 0">
            <a:hlinkClick r:id="rId1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40   календар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акой год завершает 12-летний цикл восточного календаря? По бурятски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AutoShape 4"/>
          <p:cNvSpPr/>
          <p:nvPr/>
        </p:nvSpPr>
        <p:spPr>
          <a:xfrm>
            <a:off x="1428840" y="5143680"/>
            <a:ext cx="5976720" cy="1152360"/>
          </a:xfrm>
          <a:custGeom>
            <a:avLst/>
            <a:gdLst>
              <a:gd name="textAreaLeft" fmla="*/ 1494000 w 5976720"/>
              <a:gd name="textAreaRight" fmla="*/ 4482720 w 5976720"/>
              <a:gd name="textAreaTop" fmla="*/ 288000 h 1152360"/>
              <a:gd name="textAreaBottom" fmla="*/ 1118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Год каб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Гахай жэ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AutoShape 8"/>
          <p:cNvSpPr/>
          <p:nvPr/>
        </p:nvSpPr>
        <p:spPr>
          <a:xfrm>
            <a:off x="8028000" y="537372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60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календар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Этот год символизирует мудрость. Скажите по бурятск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Ribbon2Sharp"/>
          <p:cNvSpPr/>
          <p:nvPr/>
        </p:nvSpPr>
        <p:spPr>
          <a:xfrm>
            <a:off x="1357200" y="5072040"/>
            <a:ext cx="6178680" cy="1494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ahoma"/>
              </a:rPr>
              <a:t>Год зме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ahoma"/>
              </a:rPr>
              <a:t>Могой жэ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80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календар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Назовите год следующий за годом козы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Ribbon2Sharp"/>
          <p:cNvSpPr/>
          <p:nvPr/>
        </p:nvSpPr>
        <p:spPr>
          <a:xfrm>
            <a:off x="1071720" y="5000760"/>
            <a:ext cx="6913440" cy="1446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ahoma"/>
              </a:rPr>
              <a:t>Год обезья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ahoma"/>
              </a:rPr>
              <a:t>бишэ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100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календар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Устаревшее название календаря на бурятском язык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Ribbon2Sharp"/>
          <p:cNvSpPr/>
          <p:nvPr/>
        </p:nvSpPr>
        <p:spPr>
          <a:xfrm>
            <a:off x="1619280" y="4941720"/>
            <a:ext cx="4968720" cy="14432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лит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20   </a:t>
            </a:r>
            <a:r>
              <a:rPr b="1" lang="ru-RU" sz="4200" spc="-1" strike="noStrike">
                <a:solidFill>
                  <a:srgbClr val="e5e500"/>
                </a:solidFill>
                <a:latin typeface="Tahoma"/>
              </a:rPr>
              <a:t>Известные люд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естная  балерина Бурятии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Ribbon2Sharp"/>
          <p:cNvSpPr/>
          <p:nvPr/>
        </p:nvSpPr>
        <p:spPr>
          <a:xfrm>
            <a:off x="1187280" y="4545000"/>
            <a:ext cx="6337440" cy="12254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ahoma"/>
              </a:rPr>
              <a:t>Сахьянова Л.П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40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Известные люд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бурятский ученый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Ribbon2Sharp"/>
          <p:cNvSpPr/>
          <p:nvPr/>
        </p:nvSpPr>
        <p:spPr>
          <a:xfrm>
            <a:off x="611280" y="4724280"/>
            <a:ext cx="6265800" cy="1297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Доржи Банзар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60 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Известные люд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резидент нашей Республики Буряти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Ribbon2Sharp"/>
          <p:cNvSpPr/>
          <p:nvPr/>
        </p:nvSpPr>
        <p:spPr>
          <a:xfrm>
            <a:off x="611280" y="5300640"/>
            <a:ext cx="6840360" cy="10843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Цыден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ru-RU" sz="6000" spc="-1" strike="noStrike">
                <a:solidFill>
                  <a:srgbClr val="ff0066"/>
                </a:solidFill>
                <a:latin typeface="Comic Sans MS"/>
              </a:rPr>
              <a:t>Своя игр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4774680"/>
            <a:ext cx="854064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ихотворе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6" name="Picture 4" descr="BOY"/>
          <p:cNvPicPr/>
          <p:nvPr/>
        </p:nvPicPr>
        <p:blipFill>
          <a:blip r:embed="rId2"/>
          <a:stretch/>
        </p:blipFill>
        <p:spPr>
          <a:xfrm>
            <a:off x="3635280" y="1916280"/>
            <a:ext cx="2089080" cy="2950920"/>
          </a:xfrm>
          <a:prstGeom prst="rect">
            <a:avLst/>
          </a:prstGeom>
          <a:ln w="0">
            <a:noFill/>
          </a:ln>
        </p:spPr>
      </p:pic>
      <p:sp>
        <p:nvSpPr>
          <p:cNvPr id="977" name="AutoShape 6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ffffff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4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ahoma"/>
              </a:rPr>
              <a:t>Литер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гадай сказку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 Модон гэр, шулуун гэр, соломэн гэр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ibbon2Sharp"/>
          <p:cNvSpPr/>
          <p:nvPr/>
        </p:nvSpPr>
        <p:spPr>
          <a:xfrm>
            <a:off x="857160" y="4071960"/>
            <a:ext cx="6983640" cy="1701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«Гурбан поршоонхо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ffffff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0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омашние живот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Назовите «лишнее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Животное: морин, тахяа, ямаан, гахай, тэмээн, хон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Лента лицом вверх 5"/>
          <p:cNvSpPr/>
          <p:nvPr/>
        </p:nvSpPr>
        <p:spPr>
          <a:xfrm>
            <a:off x="468360" y="4005360"/>
            <a:ext cx="7072200" cy="2571480"/>
          </a:xfrm>
          <a:custGeom>
            <a:avLst/>
            <a:gdLst>
              <a:gd name="textAreaLeft" fmla="*/ 1070640 w 7072200"/>
              <a:gd name="textAreaRight" fmla="*/ 6001560 w 7072200"/>
              <a:gd name="textAreaTop" fmla="*/ 0 h 2571480"/>
              <a:gd name="textAreaBottom" fmla="*/ 2251440 h 2571480"/>
            </a:gdLst>
            <a:ahLst/>
            <a:rect l="textAreaLeft" t="textAreaTop" r="textAreaRight" b="textAreaBottom"/>
            <a:pathLst>
              <a:path w="21600" h="21600">
                <a:moveTo>
                  <a:pt x="5970" y="18911"/>
                </a:moveTo>
                <a:lnTo>
                  <a:pt x="5970" y="20928"/>
                </a:lnTo>
                <a:cubicBezTo>
                  <a:pt x="5970" y="21264"/>
                  <a:pt x="5550" y="21600"/>
                  <a:pt x="5130" y="21600"/>
                </a:cubicBezTo>
                <a:lnTo>
                  <a:pt x="0" y="21600"/>
                </a:lnTo>
                <a:lnTo>
                  <a:pt x="2750" y="12145"/>
                </a:lnTo>
                <a:lnTo>
                  <a:pt x="0" y="2689"/>
                </a:lnTo>
                <a:lnTo>
                  <a:pt x="3270" y="2689"/>
                </a:lnTo>
                <a:lnTo>
                  <a:pt x="3270" y="672"/>
                </a:lnTo>
                <a:cubicBezTo>
                  <a:pt x="3270" y="336"/>
                  <a:pt x="3690" y="0"/>
                  <a:pt x="4110" y="0"/>
                </a:cubicBezTo>
                <a:lnTo>
                  <a:pt x="17490" y="0"/>
                </a:lnTo>
                <a:cubicBezTo>
                  <a:pt x="17910" y="0"/>
                  <a:pt x="18330" y="336"/>
                  <a:pt x="18330" y="672"/>
                </a:cubicBezTo>
                <a:lnTo>
                  <a:pt x="18330" y="2689"/>
                </a:lnTo>
                <a:lnTo>
                  <a:pt x="21600" y="2689"/>
                </a:lnTo>
                <a:lnTo>
                  <a:pt x="18850" y="12145"/>
                </a:lnTo>
                <a:lnTo>
                  <a:pt x="21600" y="21600"/>
                </a:lnTo>
                <a:lnTo>
                  <a:pt x="16470" y="21600"/>
                </a:lnTo>
                <a:cubicBezTo>
                  <a:pt x="16050" y="21600"/>
                  <a:pt x="15630" y="21264"/>
                  <a:pt x="15630" y="20928"/>
                </a:cubicBezTo>
                <a:lnTo>
                  <a:pt x="15630" y="18911"/>
                </a:lnTo>
                <a:close/>
              </a:path>
              <a:path fill="darkenLess" w="21600" h="21600">
                <a:moveTo>
                  <a:pt x="5970" y="18911"/>
                </a:moveTo>
                <a:lnTo>
                  <a:pt x="5970" y="20928"/>
                </a:lnTo>
                <a:cubicBezTo>
                  <a:pt x="5970" y="20592"/>
                  <a:pt x="5550" y="20256"/>
                  <a:pt x="5130" y="20256"/>
                </a:cubicBezTo>
                <a:lnTo>
                  <a:pt x="4110" y="20256"/>
                </a:lnTo>
                <a:cubicBezTo>
                  <a:pt x="3690" y="20256"/>
                  <a:pt x="3270" y="19919"/>
                  <a:pt x="3270" y="19583"/>
                </a:cubicBezTo>
                <a:cubicBezTo>
                  <a:pt x="3270" y="19247"/>
                  <a:pt x="3690" y="18911"/>
                  <a:pt x="4110" y="18911"/>
                </a:cubicBezTo>
                <a:close/>
              </a:path>
              <a:path fill="darkenLess" w="21600" h="21600">
                <a:moveTo>
                  <a:pt x="15630" y="18911"/>
                </a:moveTo>
                <a:lnTo>
                  <a:pt x="15630" y="20928"/>
                </a:lnTo>
                <a:cubicBezTo>
                  <a:pt x="15630" y="20592"/>
                  <a:pt x="16050" y="20256"/>
                  <a:pt x="16470" y="20256"/>
                </a:cubicBezTo>
                <a:lnTo>
                  <a:pt x="17490" y="20256"/>
                </a:lnTo>
                <a:cubicBezTo>
                  <a:pt x="17910" y="20256"/>
                  <a:pt x="18330" y="19919"/>
                  <a:pt x="18330" y="19583"/>
                </a:cubicBezTo>
                <a:cubicBezTo>
                  <a:pt x="18330" y="19247"/>
                  <a:pt x="17910" y="18911"/>
                  <a:pt x="17490" y="18911"/>
                </a:cubicBezTo>
                <a:close/>
              </a:path>
              <a:path fill="darkenLess" w="21600" h="21600">
                <a:moveTo>
                  <a:pt x="3270" y="19583"/>
                </a:moveTo>
                <a:lnTo>
                  <a:pt x="3270" y="2689"/>
                </a:lnTo>
              </a:path>
              <a:path fill="darkenLess" w="21600" h="21600">
                <a:moveTo>
                  <a:pt x="18330" y="19583"/>
                </a:moveTo>
                <a:lnTo>
                  <a:pt x="18330" y="2689"/>
                </a:lnTo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ахяа, гаха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100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ru-RU" sz="3800" spc="-1" strike="noStrike">
                <a:solidFill>
                  <a:srgbClr val="ffff00"/>
                </a:solidFill>
                <a:latin typeface="Tahoma"/>
              </a:rPr>
              <a:t>Известные люд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285480" y="1143000"/>
            <a:ext cx="5072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зовите имя героя бурятского народного эпо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Ribbon2Sharp"/>
          <p:cNvSpPr/>
          <p:nvPr/>
        </p:nvSpPr>
        <p:spPr>
          <a:xfrm>
            <a:off x="1835280" y="4149720"/>
            <a:ext cx="6072120" cy="16574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гэсэ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AutoShape 5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0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Бурятская кухн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амый главный продукт в семье (на бурятском языке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Ribbon2Sharp"/>
          <p:cNvSpPr/>
          <p:nvPr/>
        </p:nvSpPr>
        <p:spPr>
          <a:xfrm>
            <a:off x="1547640" y="3933720"/>
            <a:ext cx="6013800" cy="11559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ahoma"/>
              </a:rPr>
              <a:t>Хилээм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0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Бурятская кухн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имвол чистоты пожелания добра – это ..какое блюд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Блок-схема: процесс 1"/>
          <p:cNvSpPr/>
          <p:nvPr/>
        </p:nvSpPr>
        <p:spPr>
          <a:xfrm>
            <a:off x="2627280" y="3645000"/>
            <a:ext cx="3168720" cy="1368360"/>
          </a:xfrm>
          <a:prstGeom prst="flowChartProcess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ahoma"/>
              </a:rPr>
              <a:t>Сагаан эдеэ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6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0 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Бурятская кухн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Самое почетное мясное угощение по бурятскому обыча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Ribbon2Sharp"/>
          <p:cNvSpPr/>
          <p:nvPr/>
        </p:nvSpPr>
        <p:spPr>
          <a:xfrm>
            <a:off x="611280" y="4653000"/>
            <a:ext cx="6337080" cy="17319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Хонин тоолэ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Кот в мешке</a:t>
            </a:r>
            <a:endParaRPr b="0" lang="en-US" sz="5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999" name="Picture 3" descr="CAT2"/>
          <p:cNvPicPr/>
          <p:nvPr/>
        </p:nvPicPr>
        <p:blipFill>
          <a:blip r:embed="rId2"/>
          <a:stretch/>
        </p:blipFill>
        <p:spPr>
          <a:xfrm>
            <a:off x="3429000" y="1600200"/>
            <a:ext cx="2583000" cy="2476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4508640"/>
            <a:ext cx="8229600" cy="16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Verdana"/>
              </a:rPr>
              <a:t>Музыка 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AutoShape 5"/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757868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1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80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Бурятская кухн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no Pro Smbd Caption"/>
              </a:rPr>
              <a:t>Самое любимое бурятское блюдо нашего сто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Ribbon2Sharp"/>
          <p:cNvSpPr/>
          <p:nvPr/>
        </p:nvSpPr>
        <p:spPr>
          <a:xfrm>
            <a:off x="1692360" y="4149720"/>
            <a:ext cx="5437080" cy="1413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no Pro Smbd Caption"/>
              </a:rPr>
              <a:t>буу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100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бурятская кухня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й чай любили наши пред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AutoShape 4"/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800000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Ribbon2Sharp"/>
          <p:cNvSpPr/>
          <p:nvPr/>
        </p:nvSpPr>
        <p:spPr>
          <a:xfrm>
            <a:off x="468360" y="3933720"/>
            <a:ext cx="7080120" cy="990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Зеленый с молоком и соль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30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омашние живот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Какое животное обладает самым громким голосом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рокодил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лон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носорог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ibbon2Sharp"/>
          <p:cNvSpPr/>
          <p:nvPr/>
        </p:nvSpPr>
        <p:spPr>
          <a:xfrm>
            <a:off x="928800" y="5000760"/>
            <a:ext cx="777708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ahoma"/>
              </a:rPr>
              <a:t>Крокоди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омашние живот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Родилась в воде, а живет на земл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ibbon2Sharp"/>
          <p:cNvSpPr/>
          <p:nvPr/>
        </p:nvSpPr>
        <p:spPr>
          <a:xfrm>
            <a:off x="971640" y="5013360"/>
            <a:ext cx="777708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ahoma"/>
              </a:rPr>
              <a:t>Бах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машние живот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Какое животное является самым почитаемым? К нему относятся как близкому другу, называя «эрдэни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ibbon2Sharp"/>
          <p:cNvSpPr/>
          <p:nvPr/>
        </p:nvSpPr>
        <p:spPr>
          <a:xfrm>
            <a:off x="539640" y="4714920"/>
            <a:ext cx="8604360" cy="1851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Tahoma"/>
              </a:rPr>
              <a:t>Морин - эрдэн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10</a:t>
            </a: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   Этике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229600" cy="16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к надо приветствовать старших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Лента лицом вверх 6"/>
          <p:cNvSpPr/>
          <p:nvPr/>
        </p:nvSpPr>
        <p:spPr>
          <a:xfrm>
            <a:off x="1042920" y="4572000"/>
            <a:ext cx="7416720" cy="1714680"/>
          </a:xfrm>
          <a:custGeom>
            <a:avLst/>
            <a:gdLst>
              <a:gd name="textAreaLeft" fmla="*/ 1238760 w 7416720"/>
              <a:gd name="textAreaRight" fmla="*/ 6177960 w 7416720"/>
              <a:gd name="textAreaTop" fmla="*/ 0 h 1714680"/>
              <a:gd name="textAreaBottom" fmla="*/ 1429200 h 1714680"/>
            </a:gdLst>
            <a:ahLst/>
            <a:rect l="textAreaLeft" t="textAreaTop" r="textAreaRight" b="textAreaBottom"/>
            <a:pathLst>
              <a:path w="21600" h="21600">
                <a:moveTo>
                  <a:pt x="6308" y="18000"/>
                </a:moveTo>
                <a:lnTo>
                  <a:pt x="6308" y="20700"/>
                </a:lnTo>
                <a:cubicBezTo>
                  <a:pt x="6308" y="21150"/>
                  <a:pt x="5888" y="21600"/>
                  <a:pt x="5468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608" y="3600"/>
                </a:lnTo>
                <a:lnTo>
                  <a:pt x="3608" y="900"/>
                </a:lnTo>
                <a:cubicBezTo>
                  <a:pt x="3608" y="450"/>
                  <a:pt x="4028" y="0"/>
                  <a:pt x="4448" y="0"/>
                </a:cubicBezTo>
                <a:lnTo>
                  <a:pt x="17152" y="0"/>
                </a:lnTo>
                <a:cubicBezTo>
                  <a:pt x="17572" y="0"/>
                  <a:pt x="17992" y="450"/>
                  <a:pt x="17992" y="900"/>
                </a:cubicBezTo>
                <a:lnTo>
                  <a:pt x="17992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32" y="21600"/>
                </a:lnTo>
                <a:cubicBezTo>
                  <a:pt x="15712" y="21600"/>
                  <a:pt x="15292" y="21150"/>
                  <a:pt x="15292" y="20700"/>
                </a:cubicBezTo>
                <a:lnTo>
                  <a:pt x="15292" y="18000"/>
                </a:lnTo>
                <a:close/>
              </a:path>
              <a:path fill="darkenLess" w="21600" h="21600">
                <a:moveTo>
                  <a:pt x="6308" y="18000"/>
                </a:moveTo>
                <a:lnTo>
                  <a:pt x="6308" y="20700"/>
                </a:lnTo>
                <a:cubicBezTo>
                  <a:pt x="6308" y="20250"/>
                  <a:pt x="5888" y="19800"/>
                  <a:pt x="5468" y="19800"/>
                </a:cubicBezTo>
                <a:lnTo>
                  <a:pt x="4448" y="19800"/>
                </a:lnTo>
                <a:cubicBezTo>
                  <a:pt x="4028" y="19800"/>
                  <a:pt x="3608" y="19350"/>
                  <a:pt x="3608" y="18900"/>
                </a:cubicBezTo>
                <a:cubicBezTo>
                  <a:pt x="3608" y="18450"/>
                  <a:pt x="4028" y="18000"/>
                  <a:pt x="4448" y="18000"/>
                </a:cubicBezTo>
                <a:close/>
              </a:path>
              <a:path fill="darkenLess" w="21600" h="21600">
                <a:moveTo>
                  <a:pt x="15292" y="18000"/>
                </a:moveTo>
                <a:lnTo>
                  <a:pt x="15292" y="20700"/>
                </a:lnTo>
                <a:cubicBezTo>
                  <a:pt x="15292" y="20250"/>
                  <a:pt x="15712" y="19800"/>
                  <a:pt x="16132" y="19800"/>
                </a:cubicBezTo>
                <a:lnTo>
                  <a:pt x="17152" y="19800"/>
                </a:lnTo>
                <a:cubicBezTo>
                  <a:pt x="17572" y="19800"/>
                  <a:pt x="17992" y="19350"/>
                  <a:pt x="17992" y="18900"/>
                </a:cubicBezTo>
                <a:cubicBezTo>
                  <a:pt x="17992" y="18450"/>
                  <a:pt x="17572" y="18000"/>
                  <a:pt x="17152" y="18000"/>
                </a:cubicBezTo>
                <a:close/>
              </a:path>
              <a:path fill="darkenLess" w="21600" h="21600">
                <a:moveTo>
                  <a:pt x="3608" y="18900"/>
                </a:moveTo>
                <a:lnTo>
                  <a:pt x="3608" y="3600"/>
                </a:lnTo>
              </a:path>
              <a:path fill="darkenLess" w="21600" h="21600">
                <a:moveTo>
                  <a:pt x="17992" y="18900"/>
                </a:moveTo>
                <a:lnTo>
                  <a:pt x="17992" y="3600"/>
                </a:lnTo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добрать обе руки и к груди, сделать поклон голово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0       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тик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ак должны обращаться старшим, в том числе братьям и сестрам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AutoShape 0">
            <a:hlinkClick r:id="rId1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000099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Лента лицом вверх 6"/>
          <p:cNvSpPr/>
          <p:nvPr/>
        </p:nvSpPr>
        <p:spPr>
          <a:xfrm>
            <a:off x="1042920" y="3141720"/>
            <a:ext cx="6337440" cy="857160"/>
          </a:xfrm>
          <a:custGeom>
            <a:avLst/>
            <a:gdLst>
              <a:gd name="textAreaLeft" fmla="*/ 1064160 w 6337440"/>
              <a:gd name="textAreaRight" fmla="*/ 5273280 w 6337440"/>
              <a:gd name="textAreaTop" fmla="*/ 0 h 857160"/>
              <a:gd name="textAreaBottom" fmla="*/ 714600 h 857160"/>
            </a:gdLst>
            <a:ahLst/>
            <a:rect l="textAreaLeft" t="textAreaTop" r="textAreaRight" b="textAreaBottom"/>
            <a:pathLst>
              <a:path w="21600" h="21600">
                <a:moveTo>
                  <a:pt x="6327" y="18000"/>
                </a:moveTo>
                <a:lnTo>
                  <a:pt x="6327" y="20700"/>
                </a:lnTo>
                <a:cubicBezTo>
                  <a:pt x="6327" y="21150"/>
                  <a:pt x="5907" y="21600"/>
                  <a:pt x="5487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627" y="3600"/>
                </a:lnTo>
                <a:lnTo>
                  <a:pt x="3627" y="900"/>
                </a:lnTo>
                <a:cubicBezTo>
                  <a:pt x="3627" y="450"/>
                  <a:pt x="4047" y="0"/>
                  <a:pt x="4467" y="0"/>
                </a:cubicBezTo>
                <a:lnTo>
                  <a:pt x="17133" y="0"/>
                </a:lnTo>
                <a:cubicBezTo>
                  <a:pt x="17553" y="0"/>
                  <a:pt x="17973" y="450"/>
                  <a:pt x="17973" y="900"/>
                </a:cubicBezTo>
                <a:lnTo>
                  <a:pt x="17973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13" y="21600"/>
                </a:lnTo>
                <a:cubicBezTo>
                  <a:pt x="15693" y="21600"/>
                  <a:pt x="15273" y="21150"/>
                  <a:pt x="15273" y="20700"/>
                </a:cubicBezTo>
                <a:lnTo>
                  <a:pt x="15273" y="18000"/>
                </a:lnTo>
                <a:close/>
              </a:path>
              <a:path fill="darkenLess" w="21600" h="21600">
                <a:moveTo>
                  <a:pt x="6327" y="18000"/>
                </a:moveTo>
                <a:lnTo>
                  <a:pt x="6327" y="20700"/>
                </a:lnTo>
                <a:cubicBezTo>
                  <a:pt x="6327" y="20250"/>
                  <a:pt x="5907" y="19800"/>
                  <a:pt x="5487" y="19800"/>
                </a:cubicBezTo>
                <a:lnTo>
                  <a:pt x="4467" y="19800"/>
                </a:lnTo>
                <a:cubicBezTo>
                  <a:pt x="4047" y="19800"/>
                  <a:pt x="3627" y="19350"/>
                  <a:pt x="3627" y="18900"/>
                </a:cubicBezTo>
                <a:cubicBezTo>
                  <a:pt x="3627" y="18450"/>
                  <a:pt x="4047" y="18000"/>
                  <a:pt x="4467" y="18000"/>
                </a:cubicBezTo>
                <a:close/>
              </a:path>
              <a:path fill="darkenLess" w="21600" h="21600">
                <a:moveTo>
                  <a:pt x="15273" y="18000"/>
                </a:moveTo>
                <a:lnTo>
                  <a:pt x="15273" y="20700"/>
                </a:lnTo>
                <a:cubicBezTo>
                  <a:pt x="15273" y="20250"/>
                  <a:pt x="15693" y="19800"/>
                  <a:pt x="16113" y="19800"/>
                </a:cubicBezTo>
                <a:lnTo>
                  <a:pt x="17133" y="19800"/>
                </a:lnTo>
                <a:cubicBezTo>
                  <a:pt x="17553" y="19800"/>
                  <a:pt x="17973" y="19350"/>
                  <a:pt x="17973" y="18900"/>
                </a:cubicBezTo>
                <a:cubicBezTo>
                  <a:pt x="17973" y="18450"/>
                  <a:pt x="17553" y="18000"/>
                  <a:pt x="17133" y="18000"/>
                </a:cubicBezTo>
                <a:close/>
              </a:path>
              <a:path fill="darkenLess" w="21600" h="21600">
                <a:moveTo>
                  <a:pt x="3627" y="18900"/>
                </a:moveTo>
                <a:lnTo>
                  <a:pt x="3627" y="3600"/>
                </a:lnTo>
              </a:path>
              <a:path fill="darkenLess" w="21600" h="21600">
                <a:moveTo>
                  <a:pt x="17973" y="18900"/>
                </a:moveTo>
                <a:lnTo>
                  <a:pt x="17973" y="3600"/>
                </a:lnTo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олько на «вы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14:54:23Z</dcterms:created>
  <dc:creator>Неведомая А.С</dc:creator>
  <dc:description/>
  <cp:keywords>бурятский язык</cp:keywords>
  <dc:language>en-US</dc:language>
  <cp:lastModifiedBy>1</cp:lastModifiedBy>
  <dcterms:modified xsi:type="dcterms:W3CDTF">2023-02-16T15:55:37Z</dcterms:modified>
  <cp:revision>72</cp:revision>
  <dc:subject/>
  <dc:title>Синий раунд</dc:title>
</cp:coreProperties>
</file>