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EAF-D53A-451F-9D54-2DD64DB4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707-8F7F-4BC9-90FF-8B27417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871-2B18-4824-8EA6-77F49631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F3C-552F-4C8A-8648-D166AD81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9D98-CEFD-4D37-B72F-66126729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3FEB-07DD-432E-B304-74F76E8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B838-29E5-4F72-B398-7BB4870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6DFE-70FA-4238-975D-76A77BDF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D4E-C264-4960-9BDF-40381B3B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5095-3479-4021-ACF0-FA5AA61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0DCB-013E-44DC-8177-418CB97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E7F-B56E-4ED1-B251-C942FBA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B0DF-1DE8-490C-973F-956F834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0BDC-C938-4C5B-A4D5-3B79BB3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39E9-1A4F-4FDE-B09A-3071970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C10-C67E-47F6-94EB-3633438D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0FA3-D28F-445F-834E-1B5F6A0C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313B-5FAF-41AF-8AE6-CD08BDEE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35AD-09DA-46AB-B08D-4D8AC9D6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7BFC-693F-4C0F-A6B8-B52B66F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BB9F-7497-4DAD-95C3-4BCC5AB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2E06-3FEB-4AE7-A6DF-EB28C5D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E9C-05B6-4D5B-B075-BCAEC66B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064C-5F21-4588-97B7-B2DE770C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F515-9FE4-424A-A384-367B477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E2FB-DE62-46CD-8FA4-1D712D5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51DE-6CCF-47FC-A4AF-6288BB0B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71D5-0C23-4B66-AD62-A30D4E9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0C62-7AE8-406D-B01A-9E0389C3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8254-B79C-440E-9006-7919EE11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6DC5-5A25-46F3-AE22-4399FACA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5544-FFA6-434F-80F4-79E7B6C6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89DC-680E-4D6B-948B-21995DD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337-CD6C-4BAB-BCAA-54093D9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A0C9-990D-4E3F-A7C2-A746DD43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9269-221D-449E-BC56-05836DC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8D5A-3D13-4911-96ED-7176CF7A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5CC3-90B9-4A8D-ABEF-3094037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56D1-E775-4FB3-A4CA-94997D6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955A-3444-43C6-B9D3-F3CEA7E5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5CEB-75EB-402A-9899-E232AA1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2A55-9121-4A56-A1A6-FE21F53C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F46C-01F9-4A91-A41A-7DC2E7BC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B280-84BA-45E5-BE0E-EE39D019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C84-2225-46C5-9133-58122923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4954-5823-473B-88A0-C723C7D6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1B9D7-13F2-4DA6-96A7-B452230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0C74-46E0-4CF6-B1D9-240DDD27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95C3-69AC-47DD-8EB9-9E547F2B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5C46D-1A0E-4254-89E1-38CE6DA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D398-74AB-46CB-8C0E-AEE8E9AF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D41B9-2EF7-4411-A513-3D109F8E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BE72-17CC-4B55-8862-8BA1BEB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0590-B78C-48BE-9D12-0A18F00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815D-8322-4112-A09E-1E5A8413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899-95A5-4DEF-A57D-51D526ED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CC8F-C081-4712-B7DF-ED93BA1F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614-6D00-41B5-BA3B-AE83FA5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F52-2E5B-45C9-9498-D135AE0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8A1-4012-42AE-B603-7C0C4A01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3247-62FD-4CC6-92A2-DDC0AF57B9B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E983-4D43-47DB-9967-823162BE6CB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9C54-5AF1-4FCE-B9F5-43539CF16F2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989-E421-4A6C-9554-2125A325F27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9DA7-EB14-492C-9D40-ED6C74900A9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«Веточка рябины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766f"/>
                </a:solidFill>
                <a:latin typeface="Verdana"/>
              </a:rPr>
              <a:t>Выполнил и подготовил: Зарубина Е.М. преподаватель отделения «Изобразительное искусство» МБУ ДО Ивдельская ДШ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Содержимое 3" descr="DSCN861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8600" y="152280"/>
            <a:ext cx="874728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2514600" y="58672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карандаша делаем серединки у каждой яго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Содержимое 3" descr="DSCN861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8600" y="152280"/>
            <a:ext cx="8732880" cy="6550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228600" y="4038480"/>
            <a:ext cx="175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наша веточка рябинки гот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ожет быть не совсем такая, но у каждого она получится совершенно особенная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Содержимое 3" descr="DSCN860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8600" y="2476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2971800" y="61920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одготовили необходимые материалы: пластилин, стек, карандаш и черный картон формата А5 (половина альбомного лис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Содержимое 3" descr="DSCN8604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3920" y="152280"/>
            <a:ext cx="8767800" cy="65754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8600" y="464832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с того, что коричневыми жгутиками определяем, где будут наши веточки с листиками и гроздья ряб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Содержимое 3" descr="DSCN860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8600" y="1872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380880" y="3962520"/>
            <a:ext cx="320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м веточки продолговатыми листиками разного оттенка. (если в пластилине будут вкрапления других цветов – ничего страшного, это добавляет нашей работе живопис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Содержимое 3" descr="DSCN860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187200"/>
            <a:ext cx="87631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DSCN860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1303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2362320" y="6094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тека делаем прожилки нашим листоч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Содержимое 3" descr="DSCN8608.JPG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Содержимое 3" descr="DSCN860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1303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304920" y="62485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делать рябинку нам понадобиться много  шариков красного цвет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DSCN8610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52280" y="79200"/>
            <a:ext cx="8834400" cy="6626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228600" y="434340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ные шарики располагаем таким образом, чтобы они образовывали гроз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08:51:16Z</dcterms:created>
  <dc:creator>Антон Зарубин</dc:creator>
  <dc:description/>
  <dc:language>en-US</dc:language>
  <cp:lastModifiedBy>Антон</cp:lastModifiedBy>
  <dcterms:modified xsi:type="dcterms:W3CDTF">2023-02-16T18:09:37Z</dcterms:modified>
  <cp:revision>4</cp:revision>
  <dc:subject/>
  <dc:title>«Ветка рябины»</dc:title>
</cp:coreProperties>
</file>