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479D-DB08-412F-8786-F752CA11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2A6-D343-4E21-B55D-5A99CBBB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E94-64C2-4C40-A724-2FA26397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9C4-A1BE-4288-9BD9-ABEA9444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F160-0A4F-4FD6-9811-469AA6E9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4859-73B5-4436-B60C-3950C47E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952C-528B-4603-BC50-8ECDEDBD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D265-5869-446A-94F3-2CE1E5B0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6916-A58D-4BD3-965B-89A1EBB5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0C64-FBBD-4E14-97EB-E9EBDB74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EA5C-9D66-475B-84EC-276E87FF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2A1E-7AD9-44D0-9A98-2A1CA717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2740-B6BB-43ED-B2FB-5514A1B6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04EA-CBED-4CBD-BACC-EE34BBD1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8343-1889-4C40-8B1A-4AFCF33A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6766-C930-4CCE-9089-793A129F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11B6-D01F-43F3-9B55-78DC2E36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65EAA-AD2E-47F6-8390-BD9F2C82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3ACA8-35C7-412E-AC3A-5DC35D7C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EC686-DCF9-4434-BED9-3678FDAD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A4C59-3087-45FA-A364-5649F50E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E9D34-8A69-40FA-9249-2044AAF9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030D-DD48-4263-874B-2D1AACD9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40107-5162-4B0F-9193-421E791E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EB141-731F-42BF-91C5-1232DBED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91883-CE61-4D28-A9B1-A06312C8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2B2D8-6950-4675-B96D-10EFEBF1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9F40-77E0-4F28-AE0E-97026436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BB259-21F7-4D19-9FB5-F6147A17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C3D69-3604-414E-9DA9-D7AABF9F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196C6-A65D-441E-9A64-65AE221A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BEE8C-9944-48A6-8E85-28E95D5D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450F5-0DA1-4617-81B6-FF65D7B7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086C-1F0F-4B8F-B99F-98CBECD5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333A7-07CC-4F85-8B77-50073288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5C199-6A49-49FB-AA83-F94429B5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8B998-F9D1-4242-A222-AD63F744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84212-B37E-4690-A295-67573751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3274C-5F9A-4F90-8321-F1F28561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BE629-980E-4CDD-BE92-D1FF21D3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3CD5C-C22F-4061-81A5-28D7A908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F10D1-45D9-4B32-9E7B-F5904F31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30248-91A2-4F1D-8821-D26AA858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A742A-B20C-4C46-8C65-53F0119C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C3D-705A-45E7-B82B-3F1F84CF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9075C-22A4-41DC-BD37-1FFB458D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DEC74-6942-4D5F-A1B6-4BAAA958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8EFC1-5F1E-4151-828F-61CFFDEA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B65F4-9A6B-41B6-BA7C-8DF30C61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F9D21-92E8-458D-8169-7EC11346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A0466-7413-4CCD-8B15-ECB46591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D4F97-A1B0-458A-B9C8-4BA22E54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BCC18-76D5-4C05-9E55-F66AB6A9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D0DEA-FFB6-437B-8242-3B28ABCC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C5363-62CD-4327-9A2B-95B64BD8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6324-087E-4AAF-B68E-CE603E7A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B01A7-2D33-40C0-B7FF-CB5CE071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6582-9A7F-44A6-9333-7AE0558F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B35-D8E9-4CD5-80B1-2896A3C4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C4D7-EDA8-41FB-BA3A-F7BDFF90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783B-6D11-4671-AC0A-07547D22BE9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2ADB-B43D-4254-9710-0BD938A2510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153F-0DAC-41CF-BCBB-A720456A121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605D-FF02-4F4B-BD52-67EA151A41B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3677-FB1E-4771-972F-21D9DD6B0F7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«Веточка рябины»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9766f"/>
                </a:solidFill>
                <a:latin typeface="Verdana"/>
              </a:rPr>
              <a:t>Выполнил и подготовил: Зарубина Е.М. преподаватель отделения «Изобразительное искусство» МБУ ДО Ивдельская ДШ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5" name="Содержимое 3" descr="DSCN861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28600" y="152280"/>
            <a:ext cx="874728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TextBox 4"/>
          <p:cNvSpPr/>
          <p:nvPr/>
        </p:nvSpPr>
        <p:spPr>
          <a:xfrm>
            <a:off x="2514600" y="58672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карандаша делаем серединки у каждой ягод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8" name="Содержимое 3" descr="DSCN8612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28600" y="152280"/>
            <a:ext cx="8732880" cy="65502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4"/>
          <p:cNvSpPr/>
          <p:nvPr/>
        </p:nvSpPr>
        <p:spPr>
          <a:xfrm>
            <a:off x="228600" y="4038480"/>
            <a:ext cx="17524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наша веточка рябинки готов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может быть не совсем такая, но у каждого она получится совершенно особенная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3" name="Содержимое 3" descr="DSCN8603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28600" y="24768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2971800" y="61920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боты подготовили необходимые материалы: пластилин, стек, карандаш и черный картон формата А5 (половина альбомного лис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Содержимое 3" descr="DSCN8604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23920" y="152280"/>
            <a:ext cx="8767800" cy="65754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228600" y="464832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м с того, что коричневыми жгутиками определяем, где будут наши веточки с листиками и гроздья ряб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9" name="Содержимое 3" descr="DSCN8605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28600" y="18720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4"/>
          <p:cNvSpPr/>
          <p:nvPr/>
        </p:nvSpPr>
        <p:spPr>
          <a:xfrm>
            <a:off x="380880" y="3962520"/>
            <a:ext cx="3200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ем веточки продолговатыми листиками разного оттенка. (если в пластилине будут вкрапления других цветов – ничего страшного, это добавляет нашей работе живописнос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Содержимое 3" descr="DSCN8606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52280" y="187200"/>
            <a:ext cx="876312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Содержимое 3" descr="DSCN8607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52280" y="13032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"/>
          <p:cNvSpPr/>
          <p:nvPr/>
        </p:nvSpPr>
        <p:spPr>
          <a:xfrm>
            <a:off x="2362320" y="60948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стека делаем прожилки нашим листочк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7" name="Содержимое 3" descr="DSCN8608.JPG"/>
          <p:cNvPicPr/>
          <p:nvPr/>
        </p:nvPicPr>
        <p:blipFill>
          <a:blip r:embed="rId1"/>
          <a:stretch/>
        </p:blipFill>
        <p:spPr>
          <a:xfrm>
            <a:off x="152280" y="7632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9" name="Содержимое 3" descr="DSCN8609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52280" y="13032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"/>
          <p:cNvSpPr/>
          <p:nvPr/>
        </p:nvSpPr>
        <p:spPr>
          <a:xfrm>
            <a:off x="304920" y="624852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сделать рябинку нам понадобиться много  шариков красного цвет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Содержимое 3" descr="DSCN8610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52280" y="79200"/>
            <a:ext cx="8834400" cy="66265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228600" y="4343400"/>
            <a:ext cx="175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ные шарики располагаем таким образом, чтобы они образовывали грозд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0T08:51:16Z</dcterms:created>
  <dc:creator>Антон Зарубин</dc:creator>
  <dc:description/>
  <dc:language>en-US</dc:language>
  <cp:lastModifiedBy>Антон</cp:lastModifiedBy>
  <dcterms:modified xsi:type="dcterms:W3CDTF">2023-02-16T18:09:37Z</dcterms:modified>
  <cp:revision>4</cp:revision>
  <dc:subject/>
  <dc:title>«Ветка рябины»</dc:title>
</cp:coreProperties>
</file>