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87120" cy="1248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DF20-3985-455F-92E7-1A004B9BA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00120" y="83880"/>
            <a:ext cx="747864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78640" cy="26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500120" y="4371120"/>
            <a:ext cx="7478640" cy="26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7E83-57FD-46B9-8D31-86B4A68FF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00120" y="83880"/>
            <a:ext cx="747864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49320" cy="26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32320" y="1523520"/>
            <a:ext cx="3649320" cy="26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500120" y="4371120"/>
            <a:ext cx="3649320" cy="26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332320" y="4371120"/>
            <a:ext cx="3649320" cy="26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1831-EE62-4361-9185-D8E2C4C5B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00120" y="83880"/>
            <a:ext cx="747864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08040" cy="26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029120" y="1523520"/>
            <a:ext cx="2408040" cy="26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557760" y="1523520"/>
            <a:ext cx="2408040" cy="26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1500120" y="4371120"/>
            <a:ext cx="2408040" cy="26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4029120" y="4371120"/>
            <a:ext cx="2408040" cy="26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557760" y="4371120"/>
            <a:ext cx="2408040" cy="26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D26B-CA85-4A75-92ED-B5FFBB559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00120" y="83880"/>
            <a:ext cx="747864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78640" cy="545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6906-936C-4D4F-AF10-C8A4C37A8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00120" y="83880"/>
            <a:ext cx="747864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78640" cy="545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C683-A9A1-4AAD-8034-67D99F9A1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00120" y="83880"/>
            <a:ext cx="747864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49320" cy="545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32320" y="1523520"/>
            <a:ext cx="3649320" cy="545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0AA0-6383-48FA-AA6E-61494433A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00120" y="83880"/>
            <a:ext cx="747864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3A6B-7E0B-4F28-8CD7-2B9D12747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500120" y="83880"/>
            <a:ext cx="747864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7508-DBA6-42C9-8682-E1BCCADA7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00120" y="83880"/>
            <a:ext cx="747864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49320" cy="26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2320" y="1523520"/>
            <a:ext cx="3649320" cy="545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00120" y="4371120"/>
            <a:ext cx="3649320" cy="26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7A05-1113-4BB7-A38D-CBE8A03D5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83880"/>
            <a:ext cx="747864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49320" cy="545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2320" y="1523520"/>
            <a:ext cx="3649320" cy="26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2320" y="4371120"/>
            <a:ext cx="3649320" cy="26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C5F5-870B-4504-8ABF-FD7BB5375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00120" y="83880"/>
            <a:ext cx="747864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49320" cy="26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32320" y="1523520"/>
            <a:ext cx="3649320" cy="26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500120" y="4371120"/>
            <a:ext cx="7478640" cy="26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BB03-B43A-4CA0-9660-D95C59A7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8caf8c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-4680"/>
            <a:ext cx="1555560" cy="6861960"/>
            <a:chOff x="0" y="-4680"/>
            <a:chExt cx="1555560" cy="6861960"/>
          </a:xfrm>
        </p:grpSpPr>
        <p:sp>
          <p:nvSpPr>
            <p:cNvPr id="1" name="Rectangle 2"/>
            <p:cNvSpPr/>
            <p:nvPr/>
          </p:nvSpPr>
          <p:spPr>
            <a:xfrm>
              <a:off x="718560" y="3413520"/>
              <a:ext cx="180360" cy="344376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0" y="3413520"/>
              <a:ext cx="350640" cy="344376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4"/>
            <p:cNvSpPr/>
            <p:nvPr/>
          </p:nvSpPr>
          <p:spPr>
            <a:xfrm>
              <a:off x="352080" y="3413520"/>
              <a:ext cx="366480" cy="344376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5"/>
            <p:cNvSpPr/>
            <p:nvPr/>
          </p:nvSpPr>
          <p:spPr>
            <a:xfrm>
              <a:off x="898920" y="3427920"/>
              <a:ext cx="323640" cy="342936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14"/>
            <p:cNvSpPr/>
            <p:nvPr/>
          </p:nvSpPr>
          <p:spPr>
            <a:xfrm>
              <a:off x="718560" y="-4680"/>
              <a:ext cx="180360" cy="344376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15"/>
            <p:cNvSpPr/>
            <p:nvPr/>
          </p:nvSpPr>
          <p:spPr>
            <a:xfrm>
              <a:off x="0" y="-4680"/>
              <a:ext cx="350640" cy="344376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16"/>
            <p:cNvSpPr/>
            <p:nvPr/>
          </p:nvSpPr>
          <p:spPr>
            <a:xfrm>
              <a:off x="352080" y="-4680"/>
              <a:ext cx="366480" cy="344376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7"/>
            <p:cNvSpPr/>
            <p:nvPr/>
          </p:nvSpPr>
          <p:spPr>
            <a:xfrm>
              <a:off x="898920" y="-4680"/>
              <a:ext cx="323640" cy="344376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28"/>
            <p:cNvSpPr/>
            <p:nvPr/>
          </p:nvSpPr>
          <p:spPr>
            <a:xfrm>
              <a:off x="1222560" y="0"/>
              <a:ext cx="333000" cy="68547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Line 29"/>
            <p:cNvSpPr/>
            <p:nvPr/>
          </p:nvSpPr>
          <p:spPr>
            <a:xfrm>
              <a:off x="213840" y="0"/>
              <a:ext cx="1440" cy="6854760"/>
            </a:xfrm>
            <a:prstGeom prst="line">
              <a:avLst/>
            </a:prstGeom>
            <a:ln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Line 30"/>
            <p:cNvSpPr/>
            <p:nvPr/>
          </p:nvSpPr>
          <p:spPr>
            <a:xfrm>
              <a:off x="1022760" y="0"/>
              <a:ext cx="1440" cy="6854760"/>
            </a:xfrm>
            <a:prstGeom prst="line">
              <a:avLst/>
            </a:prstGeom>
            <a:ln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00120" y="83880"/>
            <a:ext cx="747864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78640" cy="545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 type="dt" idx="1"/>
          </p:nvPr>
        </p:nvSpPr>
        <p:spPr>
          <a:xfrm>
            <a:off x="1447920" y="6324480"/>
            <a:ext cx="1396800" cy="47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 type="ftr" idx="2"/>
          </p:nvPr>
        </p:nvSpPr>
        <p:spPr>
          <a:xfrm>
            <a:off x="3733920" y="6322680"/>
            <a:ext cx="2882880" cy="44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sldNum" idx="3"/>
          </p:nvPr>
        </p:nvSpPr>
        <p:spPr>
          <a:xfrm>
            <a:off x="7238520" y="6322680"/>
            <a:ext cx="1892520" cy="44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3333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6009041-7625-4F6B-A688-B3464E5EFA87}" type="slidenum">
              <a:rPr b="0" lang="ru-RU" sz="1400" spc="-1" strike="noStrike">
                <a:solidFill>
                  <a:srgbClr val="3333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8960" y="1219320"/>
            <a:ext cx="7924680" cy="40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34308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192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ru-RU" sz="8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8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СРЕТЕНИЕ  </a:t>
            </a: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ГОСПОДНЕ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34308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192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ВИКТОРИНА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34308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192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34308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192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3708360" y="4221000"/>
            <a:ext cx="3124080" cy="2362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"/>
          <p:cNvPicPr/>
          <p:nvPr/>
        </p:nvPicPr>
        <p:blipFill>
          <a:blip r:embed="rId2"/>
          <a:stretch/>
        </p:blipFill>
        <p:spPr>
          <a:xfrm>
            <a:off x="1295280" y="609480"/>
            <a:ext cx="169920" cy="5961240"/>
          </a:xfrm>
          <a:prstGeom prst="rect">
            <a:avLst/>
          </a:prstGeom>
          <a:ln w="0">
            <a:noFill/>
          </a:ln>
        </p:spPr>
      </p:pic>
      <p:sp>
        <p:nvSpPr>
          <p:cNvPr id="67" name="TextBox 6"/>
          <p:cNvSpPr/>
          <p:nvPr/>
        </p:nvSpPr>
        <p:spPr>
          <a:xfrm>
            <a:off x="5076720" y="26028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аработала: Тюлюмова А.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3"/>
          <p:cNvSpPr/>
          <p:nvPr/>
        </p:nvSpPr>
        <p:spPr>
          <a:xfrm>
            <a:off x="1835280" y="189000"/>
            <a:ext cx="6769080" cy="68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22228b"/>
                </a:solidFill>
                <a:latin typeface="Times New Roman"/>
              </a:rPr>
              <a:t>1.Какого числа Православные христиане отмечают праздник Сретение Господне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22228b"/>
                </a:solidFill>
                <a:latin typeface="Times New Roman"/>
              </a:rPr>
              <a:t>2. Что означает слово Сретение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22228b"/>
                </a:solidFill>
                <a:latin typeface="Times New Roman"/>
              </a:rPr>
              <a:t>3.Где находится храм, в который принесли родители Иисуса Христа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22228b"/>
                </a:solidFill>
                <a:latin typeface="Times New Roman"/>
              </a:rPr>
              <a:t>4. Кем согласно наиболее распространенному преданию, был святой Сименон Богоприимец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22228b"/>
                </a:solidFill>
                <a:latin typeface="Times New Roman"/>
              </a:rPr>
              <a:t>5.До какого времени дожил старец Симеон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22228b"/>
                </a:solidFill>
                <a:latin typeface="Times New Roman"/>
              </a:rPr>
              <a:t>6. На какой иконе изображен старец Симеон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22228b"/>
                </a:solidFill>
                <a:latin typeface="Times New Roman"/>
              </a:rPr>
              <a:t>7. Какую книгу переводил святой Симеон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22228b"/>
                </a:solidFill>
                <a:latin typeface="Times New Roman"/>
              </a:rPr>
              <a:t>8.Одна из икон Богородицы, связанных с праздником Сретения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22228b"/>
                </a:solidFill>
                <a:latin typeface="Times New Roman"/>
              </a:rPr>
              <a:t>9. Место в Иерусалиме, в котором по преданию, находится могила святого Симеона Богоприимца, называется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22228b"/>
                </a:solidFill>
                <a:latin typeface="Times New Roman"/>
              </a:rPr>
              <a:t>10.Вставь пропущенные букв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3"/>
          <p:cNvSpPr/>
          <p:nvPr/>
        </p:nvSpPr>
        <p:spPr>
          <a:xfrm>
            <a:off x="1835280" y="189000"/>
            <a:ext cx="7308720" cy="76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22228b"/>
                </a:solidFill>
                <a:latin typeface="Times New Roman"/>
              </a:rPr>
              <a:t>1.Какого числа Православные христиане отмечают праздник Сретение Господне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?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  15 феврал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22228b"/>
                </a:solidFill>
                <a:latin typeface="Times New Roman"/>
              </a:rPr>
              <a:t>2. Что означает слово Сретение?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Встреча человека с Бог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22228b"/>
                </a:solidFill>
                <a:latin typeface="Times New Roman"/>
              </a:rPr>
              <a:t>3.Где находится храм, в который принесли родители Иисуса Христа?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в Иерусалим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22228b"/>
                </a:solidFill>
                <a:latin typeface="Times New Roman"/>
              </a:rPr>
              <a:t>4. Кем согласно наиболее распространенному преданию, был святой Сименон Богоприимец?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Одним из переводчиков ветхого Завета на греческий язы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22228b"/>
                </a:solidFill>
                <a:latin typeface="Times New Roman"/>
              </a:rPr>
              <a:t>5.До какого времени дожил старец Симеон?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360 л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22228b"/>
                </a:solidFill>
                <a:latin typeface="Times New Roman"/>
              </a:rPr>
              <a:t>6. На какой иконе изображен старец Симеон?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с младенцем на рука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22228b"/>
                </a:solidFill>
                <a:latin typeface="Times New Roman"/>
              </a:rPr>
              <a:t>7. Какую книгу переводил святой Симеон?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Пророка Исай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22228b"/>
                </a:solidFill>
                <a:latin typeface="Times New Roman"/>
              </a:rPr>
              <a:t>8.Одна из икон Богородицы, связанных с праздником Сретения?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умягчение злых серде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22228b"/>
                </a:solidFill>
                <a:latin typeface="Times New Roman"/>
              </a:rPr>
              <a:t>9. Место в Иерусалиме, в котором по преданию, находится могила святого Симеона Богоприимца, называется?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Катам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00120" y="144000"/>
            <a:ext cx="7491600" cy="131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СТАВЬ ПРОПУЩЕННЫЕ БУКВЫ В НОВЫЕ СЛОВ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0120" indent="-33012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888840"/>
                <a:tab algn="l" pos="1803240"/>
                <a:tab algn="l" pos="2717640"/>
                <a:tab algn="l" pos="3632040"/>
                <a:tab algn="l" pos="4546440"/>
                <a:tab algn="l" pos="5460840"/>
                <a:tab algn="l" pos="6375240"/>
                <a:tab algn="l" pos="7289640"/>
                <a:tab algn="l" pos="8204040"/>
                <a:tab algn="l" pos="9118440"/>
                <a:tab algn="l" pos="10032840"/>
                <a:tab algn="l" pos="10310760"/>
                <a:tab algn="l" pos="10760040"/>
                <a:tab algn="l" pos="1076328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меон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Богопр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имец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30120" indent="0">
              <a:spcBef>
                <a:spcPts val="799"/>
              </a:spcBef>
              <a:buNone/>
              <a:tabLst>
                <a:tab algn="l" pos="0"/>
                <a:tab algn="l" pos="888840"/>
                <a:tab algn="l" pos="1803240"/>
                <a:tab algn="l" pos="2717640"/>
                <a:tab algn="l" pos="3632040"/>
                <a:tab algn="l" pos="4546440"/>
                <a:tab algn="l" pos="5460840"/>
                <a:tab algn="l" pos="6375240"/>
                <a:tab algn="l" pos="7289640"/>
                <a:tab algn="l" pos="8204040"/>
                <a:tab algn="l" pos="9118440"/>
                <a:tab algn="l" pos="10032840"/>
                <a:tab algn="l" pos="10310760"/>
                <a:tab algn="l" pos="10760040"/>
                <a:tab algn="l" pos="1076328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30120" indent="-33012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888840"/>
                <a:tab algn="l" pos="1803240"/>
                <a:tab algn="l" pos="2717640"/>
                <a:tab algn="l" pos="3632040"/>
                <a:tab algn="l" pos="4546440"/>
                <a:tab algn="l" pos="5460840"/>
                <a:tab algn="l" pos="6375240"/>
                <a:tab algn="l" pos="7289640"/>
                <a:tab algn="l" pos="8204040"/>
                <a:tab algn="l" pos="9118440"/>
                <a:tab algn="l" pos="10032840"/>
                <a:tab algn="l" pos="10310760"/>
                <a:tab algn="l" pos="10760040"/>
                <a:tab algn="l" pos="1076328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Срет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ние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Г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сподне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30120" indent="0">
              <a:spcBef>
                <a:spcPts val="799"/>
              </a:spcBef>
              <a:buNone/>
              <a:tabLst>
                <a:tab algn="l" pos="0"/>
                <a:tab algn="l" pos="888840"/>
                <a:tab algn="l" pos="1803240"/>
                <a:tab algn="l" pos="2717640"/>
                <a:tab algn="l" pos="3632040"/>
                <a:tab algn="l" pos="4546440"/>
                <a:tab algn="l" pos="5460840"/>
                <a:tab algn="l" pos="6375240"/>
                <a:tab algn="l" pos="7289640"/>
                <a:tab algn="l" pos="8204040"/>
                <a:tab algn="l" pos="9118440"/>
                <a:tab algn="l" pos="10032840"/>
                <a:tab algn="l" pos="10310760"/>
                <a:tab algn="l" pos="10760040"/>
                <a:tab algn="l" pos="1076328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30120" indent="-33012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888840"/>
                <a:tab algn="l" pos="1803240"/>
                <a:tab algn="l" pos="2717640"/>
                <a:tab algn="l" pos="3632040"/>
                <a:tab algn="l" pos="4546440"/>
                <a:tab algn="l" pos="5460840"/>
                <a:tab algn="l" pos="6375240"/>
                <a:tab algn="l" pos="7289640"/>
                <a:tab algn="l" pos="8204040"/>
                <a:tab algn="l" pos="9118440"/>
                <a:tab algn="l" pos="10032840"/>
                <a:tab algn="l" pos="10310760"/>
                <a:tab algn="l" pos="10760040"/>
                <a:tab algn="l" pos="1076328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Анна     Пр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рочница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30120" indent="0">
              <a:spcBef>
                <a:spcPts val="799"/>
              </a:spcBef>
              <a:buNone/>
              <a:tabLst>
                <a:tab algn="l" pos="0"/>
                <a:tab algn="l" pos="888840"/>
                <a:tab algn="l" pos="1803240"/>
                <a:tab algn="l" pos="2717640"/>
                <a:tab algn="l" pos="3632040"/>
                <a:tab algn="l" pos="4546440"/>
                <a:tab algn="l" pos="5460840"/>
                <a:tab algn="l" pos="6375240"/>
                <a:tab algn="l" pos="7289640"/>
                <a:tab algn="l" pos="8204040"/>
                <a:tab algn="l" pos="9118440"/>
                <a:tab algn="l" pos="10032840"/>
                <a:tab algn="l" pos="10310760"/>
                <a:tab algn="l" pos="10760040"/>
                <a:tab algn="l" pos="1076328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30120" indent="-33012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888840"/>
                <a:tab algn="l" pos="1803240"/>
                <a:tab algn="l" pos="2717640"/>
                <a:tab algn="l" pos="3632040"/>
                <a:tab algn="l" pos="4546440"/>
                <a:tab algn="l" pos="5460840"/>
                <a:tab algn="l" pos="6375240"/>
                <a:tab algn="l" pos="7289640"/>
                <a:tab algn="l" pos="8204040"/>
                <a:tab algn="l" pos="9118440"/>
                <a:tab algn="l" pos="10032840"/>
                <a:tab algn="l" pos="10310760"/>
                <a:tab algn="l" pos="10760040"/>
                <a:tab algn="l" pos="1076328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Мес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ия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6629400" y="15238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1143000" y="598176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Мессия – то же, что Христос, помазанник, Спасител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10" descr=""/>
          <p:cNvPicPr/>
          <p:nvPr/>
        </p:nvPicPr>
        <p:blipFill>
          <a:blip r:embed="rId1"/>
          <a:stretch/>
        </p:blipFill>
        <p:spPr>
          <a:xfrm>
            <a:off x="1295280" y="0"/>
            <a:ext cx="169920" cy="5961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9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дмин</cp:lastModifiedBy>
  <dcterms:modified xsi:type="dcterms:W3CDTF">2023-02-04T06:31:20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