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AB8-816F-4426-BAD3-C9ECF892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00120" y="43711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7D2-BDAC-47C1-9B2C-F5379D3F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23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D02-14DF-4C3A-B18C-57A67400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2912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7760" y="15235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0012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2912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7760" y="4371120"/>
            <a:ext cx="24080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C90-6321-41A5-B9D1-592D3705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39E-FE77-4019-B9AC-6490FAD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828-42EA-431D-ADD4-8C57728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E37-319F-4215-AD5F-BEFCF6E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72B-9FE1-4D6C-9828-37311D62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00120" y="83880"/>
            <a:ext cx="74786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120-2572-41FF-A7D5-FE0F0B9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127-9999-4EEE-AE83-A667015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2320" y="43711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5A8-2D8B-488C-ACF5-7677AF99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2320" y="1523520"/>
            <a:ext cx="364932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00120" y="4371120"/>
            <a:ext cx="7478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E83-2F0D-4859-A6E5-BB764D1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8caf8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4680"/>
            <a:ext cx="1555560" cy="6861960"/>
            <a:chOff x="0" y="-4680"/>
            <a:chExt cx="1555560" cy="6861960"/>
          </a:xfrm>
        </p:grpSpPr>
        <p:sp>
          <p:nvSpPr>
            <p:cNvPr id="1" name="Rectangle 2"/>
            <p:cNvSpPr/>
            <p:nvPr/>
          </p:nvSpPr>
          <p:spPr>
            <a:xfrm>
              <a:off x="718560" y="3413520"/>
              <a:ext cx="18036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3413520"/>
              <a:ext cx="35064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52080" y="3413520"/>
              <a:ext cx="36648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898920" y="3427920"/>
              <a:ext cx="323640" cy="34293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4"/>
            <p:cNvSpPr/>
            <p:nvPr/>
          </p:nvSpPr>
          <p:spPr>
            <a:xfrm>
              <a:off x="718560" y="-4680"/>
              <a:ext cx="18036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5"/>
            <p:cNvSpPr/>
            <p:nvPr/>
          </p:nvSpPr>
          <p:spPr>
            <a:xfrm>
              <a:off x="0" y="-4680"/>
              <a:ext cx="350640" cy="344376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6"/>
            <p:cNvSpPr/>
            <p:nvPr/>
          </p:nvSpPr>
          <p:spPr>
            <a:xfrm>
              <a:off x="352080" y="-4680"/>
              <a:ext cx="36648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7"/>
            <p:cNvSpPr/>
            <p:nvPr/>
          </p:nvSpPr>
          <p:spPr>
            <a:xfrm>
              <a:off x="898920" y="-4680"/>
              <a:ext cx="323640" cy="344376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28"/>
            <p:cNvSpPr/>
            <p:nvPr/>
          </p:nvSpPr>
          <p:spPr>
            <a:xfrm>
              <a:off x="1222560" y="0"/>
              <a:ext cx="333000" cy="68547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13840" y="0"/>
              <a:ext cx="1440" cy="68547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022760" y="0"/>
              <a:ext cx="1440" cy="68547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83880"/>
            <a:ext cx="747864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78640" cy="545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447920" y="6324480"/>
            <a:ext cx="139680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733920" y="632268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7238520" y="632268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60B099-7433-40AD-A523-E0F6B4BE46A0}" type="slidenum">
              <a:rPr b="0" lang="ru-RU" sz="1400" spc="-1" strike="noStrike">
                <a:solidFill>
                  <a:srgbClr val="3333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8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РЕТЕНИЕ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ГОСПОДНЕ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ИКТОРИНА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34308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192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169920" cy="5961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076720" y="260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аработала: Тюлюмова А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835280" y="189000"/>
            <a:ext cx="676908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.Какого числа Православные христиане отмечают праздник Сретение Господ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2. Что означает слово Срете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3.Где находится храм, в который принесли родители Иисуса Хрис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4. Кем согласно наиболее распространенному преданию, был святой Сименон Богоприимец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5.До какого времени дожил старец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6. На какой иконе изображен старец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7. Какую книгу переводил святой Симео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8.Одна из икон Богородицы, связанных с праздником Срет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9. Место в Иерусалиме, в котором по преданию, находится могила святого Симеона Богоприимца, назыв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0.Вставь пропущенные бук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1835280" y="189000"/>
            <a:ext cx="730872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1.Какого числа Православные христиане отмечают праздник Сретение Господне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?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15 февр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2. Что означает слово Сретение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треча человека с Бо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3.Где находится храм, в который принесли родители Иисуса Христа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Иерусали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4. Кем согласно наиболее распространенному преданию, был святой Сименон Богоприимец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дним из переводчиков ветхого Завета на грече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5.До какого времени дожил старец Симеон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6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6. На какой иконе изображен старец Симеон?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младенцем на ру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7. Какую книгу переводил святой Симеон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рока Иса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8.Одна из икон Богородицы, связанных с праздником Сретения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мягчение злых серд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</a:rPr>
              <a:t>9. Место в Иерусалиме, в котором по преданию, находится могила святого Симеона Богоприимца, называется?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там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0120" y="144000"/>
            <a:ext cx="7491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ТАВЬ ПРОПУЩЕННЫЕ БУКВЫ В НОВЫЕ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он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ого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мец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ре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подн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нна     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очниц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888840"/>
                <a:tab algn="l" pos="1803240"/>
                <a:tab algn="l" pos="2717640"/>
                <a:tab algn="l" pos="3632040"/>
                <a:tab algn="l" pos="4546440"/>
                <a:tab algn="l" pos="5460840"/>
                <a:tab algn="l" pos="6375240"/>
                <a:tab algn="l" pos="7289640"/>
                <a:tab algn="l" pos="8204040"/>
                <a:tab algn="l" pos="9118440"/>
                <a:tab algn="l" pos="10032840"/>
                <a:tab algn="l" pos="1031076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62940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43000" y="59817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ессия – то же, что Христос, помазанник, Спас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295280" y="0"/>
            <a:ext cx="169920" cy="59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3-02-04T06:31:2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