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FA0-7372-4D3D-BE28-803182E8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93B-B479-4470-9358-279085D7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A1F-9896-4D15-AF60-0F580032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405-9F8B-4BF0-BD3E-0E7A23CF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63E-5F8A-41D2-A566-EA65FDAC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6E2-7971-4F8D-82C3-DA471358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8E2-FA0E-4CED-8086-CA2570FD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4C7-12DB-4722-9617-1E0C3CF4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87C-21C7-4916-A76E-FE66DC3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677-49E8-4568-8744-5C5EBE5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091-C857-41C8-8037-F58CC47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201-D169-4692-8DA6-0B6FEBF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CFC-EDD8-47FF-86CC-622CD1E67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914400" y="297180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аливание дете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ДОУ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58128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птимальный двигательный реж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694480" y="2273400"/>
            <a:ext cx="3431880" cy="457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2892600" y="3962520"/>
            <a:ext cx="2649240" cy="26510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623880" y="20574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Физкультурные занятия в зале и на свежем воздух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подвижные игры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физические упражнения на прогулк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самостоятельная двигательная активность детей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Elephant"/>
              </a:rPr>
              <a:t>ГИМНАСТ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41911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Цель:</a:t>
            </a:r>
            <a:r>
              <a:rPr b="1" lang="ru-RU" sz="2000" spc="-1" strike="noStrike">
                <a:solidFill>
                  <a:srgbClr val="333399"/>
                </a:solidFill>
                <a:latin typeface="Bookman Old Style"/>
              </a:rPr>
              <a:t> пробудить организм, нормализовать сердечно – сосудистую, дыхательную системы, снять сонливость, вялость; укреплять здоровь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 rot="4805400">
            <a:off x="1206000" y="3676680"/>
            <a:ext cx="2759040" cy="275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4027680" cy="402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Elephant"/>
              </a:rPr>
              <a:t>БОСОХО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Хождение босиком – является одним из самых древних средств закаливания организма, оказывая общеукрепляющее воздействие на весь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:\Users\Максим\Desktop\Новая папка (3)\2017-05-25 16.18.21.jpg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Максим\Desktop\Новая папка (3)\2016-12-02 15.16.55.jpg"/>
          <p:cNvPicPr/>
          <p:nvPr/>
        </p:nvPicPr>
        <p:blipFill>
          <a:blip r:embed="rId3"/>
          <a:stretch/>
        </p:blipFill>
        <p:spPr>
          <a:xfrm rot="5941200">
            <a:off x="5610960" y="339804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0" y="2457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Bookman Old Style"/>
              </a:rPr>
              <a:t>-ходьба по траве,ходьба по песк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Bookman Old Style"/>
              </a:rPr>
              <a:t>-ходьба по камешкам, ходьба по «дорожке здоровья»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Elephant"/>
              </a:rPr>
              <a:t>ЭЛЕМЕНТЫ ТОЧЕЧНОГО МАСС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080" y="2362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Bookman Old Style"/>
              </a:rPr>
              <a:t>Массаж повышает защитные свойства слизистой оболочки носа, глотки, гортани, трахеи, бронхов и других органов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Bookman Old Style"/>
              </a:rPr>
              <a:t>Упражнения точечного массажа учат детей сознательно заботиться о своем здоровье и являются профилактикой простудны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Максим\Desktop\Новая папка (3)\2017-11-21 10.51.40.jpg"/>
          <p:cNvPicPr/>
          <p:nvPr/>
        </p:nvPicPr>
        <p:blipFill>
          <a:blip r:embed="rId2"/>
          <a:stretch/>
        </p:blipFill>
        <p:spPr>
          <a:xfrm>
            <a:off x="4160880" y="3124080"/>
            <a:ext cx="49831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ьные закаливающие процедуры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каливание воздухом (воздушные ванны), прогулка;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Закаливание водой (водные процедуры);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каливание солнцем (солнечные ванны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Закаливание воздухом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"/>
          <p:cNvSpPr/>
          <p:nvPr/>
        </p:nvSpPr>
        <p:spPr>
          <a:xfrm>
            <a:off x="457200" y="1736640"/>
            <a:ext cx="2736720" cy="3382920"/>
          </a:xfrm>
          <a:prstGeom prst="ellipse">
            <a:avLst/>
          </a:prstGeom>
          <a:solidFill>
            <a:srgbClr val="d6ece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гулки в любую погоду в соответствующей одежде,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пециальные воздушные ванны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1" name="Picture 2" descr="http://9liski.detkin-club.ru/images/custom_2/6006415828_5ee7e1cda0ac7.jpg"/>
          <p:cNvPicPr/>
          <p:nvPr/>
        </p:nvPicPr>
        <p:blipFill>
          <a:blip r:embed="rId2"/>
          <a:stretch/>
        </p:blipFill>
        <p:spPr>
          <a:xfrm>
            <a:off x="3546360" y="1600200"/>
            <a:ext cx="556128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8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Прогулк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669960" y="1273320"/>
            <a:ext cx="4071960" cy="21542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Большую роль в закаливании воздухом вне помещения играет прогулка.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Здесь важно правильно одеть и обуть ребёнка соответственно сезону и погоде, чтобы обеспечить ему свободу движений и необходимый тепловой комфорт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589640" y="345132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5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акаливание солнце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5029200" y="1262160"/>
            <a:ext cx="45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солнечные ванны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отдых в тени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9" name="Рисунок 12" descr=""/>
          <p:cNvPicPr/>
          <p:nvPr/>
        </p:nvPicPr>
        <p:blipFill>
          <a:blip r:embed="rId2"/>
          <a:stretch/>
        </p:blipFill>
        <p:spPr>
          <a:xfrm>
            <a:off x="1523880" y="3273480"/>
            <a:ext cx="6553440" cy="3597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573120" y="1262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процессе прогулки, особенно в весенне-летнее время при обычной разнообразной деятельности детей.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лнечных процедур рекомендуется при температуре воздуха не менее 20-22 град. С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7621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ум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влажное обти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обливание н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полоскание гор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3.bp.blogspot.com/-vaQavQAQBbE/W7PhiHA8UfI/AAAAAAAAA1w/nhF7xBlllP8DpLq_MzzYciChhq3V4IrSwCLcBGAs/s1600/%25D0%25A0%25D0%25B8%25D1%2581%2B12-11%2B%25D0%259C%25D0%25B0%25D0%25BB%25D1%258C%25D1%2587%25D0%25B8%25D0%25BA.png"/>
          <p:cNvPicPr/>
          <p:nvPr/>
        </p:nvPicPr>
        <p:blipFill>
          <a:blip r:embed="rId2"/>
          <a:stretch/>
        </p:blipFill>
        <p:spPr>
          <a:xfrm>
            <a:off x="-22320" y="3581280"/>
            <a:ext cx="5259600" cy="336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4392720" y="3276720"/>
            <a:ext cx="4773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Обширное умывание, обтирание 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Ребенок моет лицо, руки, шею, верхнюю часть груди, до пояса водой– плюс 27-28˚, с постепенным снижение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Обтирание производится смоченной в воде рукавичко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После обтирания тело растирают сухим полотенцем. Обтирание сопровождается легкими массирующими движения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По окончании влажного обтирания  тело ребенка растирается сухим полотенцем до легкого покраснения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2514600" cy="2878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"/>
          <p:cNvPicPr/>
          <p:nvPr/>
        </p:nvPicPr>
        <p:blipFill>
          <a:blip r:embed="rId3"/>
          <a:stretch/>
        </p:blipFill>
        <p:spPr>
          <a:xfrm>
            <a:off x="5867280" y="40384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Elephan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1371600"/>
            <a:ext cx="7848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ошкольном возрасте закладываются основы здоровья. При этом заболеваемость детей остается высокой, несмотря на успехи медицины. Закаливание является эффективным способом оздоровл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бл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оги обливают из ковша   ( воду льют на нижнюю треть голеней и стоп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обственно обливание продолжается 20-30 секунд, а затем следует растир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0" y="124092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lvl="2" marL="594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ажно соблюдать соответствующую температуру воды (28 градус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можно постепенно снизить температуру воды до комнатной, не допуская, явления охла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Elephant"/>
              </a:rPr>
              <a:t>ЗАКАЛИВАНИЕ ГОР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Полоскание проводится с 3-4 лет кипяченой водой комнатной температуры после каждого приема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83824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6400800" y="144792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205740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Elephant"/>
                <a:ea typeface="Times New Roman"/>
              </a:rPr>
              <a:t>Правильно организованная система закал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Поддержит температурный баланс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Нормализует поведенческие реакции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Снизит инфекционно-воспалительные заболе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лучшит показатели физ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Повысит уровень физической подгото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  <a:ea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ухудшением экологической среды, загрязнением воздуха, возникновением различных инфекционных заболеваний, ослаблением имму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обходимо укреплять организм детей, стимулировать защитные силы, снижать чувствительность организма к вредным фактор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это необходимое условие полноценного физического развития детей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 результате закал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ребенок становится менее восприимчивым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к резким изменениям температуры, простудным и инфекцион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76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ookman Old Style"/>
              </a:rPr>
              <a:t>Спасибо за вним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ЗАКАЛ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истема мероприятий, направленных на тренировку защитных физиологических механизмов терморегуляци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ЗАДАЧИ ЗАКАЛ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279080"/>
            <a:ext cx="7880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крепление здоровых детей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выносливости организма при изменяющихся факторах внешней среды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ие его сопротивляемости к различным заболеваниям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эмоционально положительного настроя детей к закаливающим мероприятия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635040" y="4038480"/>
            <a:ext cx="332100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3"/>
          <a:stretch/>
        </p:blipFill>
        <p:spPr>
          <a:xfrm>
            <a:off x="4255920" y="4038480"/>
            <a:ext cx="40737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81040" y="609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Физкультурно-оздоровительные мероприятия ДОУ во время закаливания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8" name="Прямоугольник 3"/>
          <p:cNvGrpSpPr/>
          <p:nvPr/>
        </p:nvGrpSpPr>
        <p:grpSpPr>
          <a:xfrm>
            <a:off x="324000" y="1852560"/>
            <a:ext cx="8399160" cy="7571880"/>
            <a:chOff x="324000" y="1852560"/>
            <a:chExt cx="8399160" cy="7571880"/>
          </a:xfrm>
        </p:grpSpPr>
        <p:pic>
          <p:nvPicPr>
            <p:cNvPr id="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4000" y="1852560"/>
              <a:ext cx="8399160" cy="70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6560" y="1994040"/>
              <a:ext cx="8115480" cy="74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бщие закаливающие процедуры используемые в режиме дня ДОУ: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Утренняя гимнастика в проветренном помещении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Дыхательная гимнастика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Гимнастика после сна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Физкультурные занятия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Сквозное проветривание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Босохождение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Оптимальный двигательный режим. 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ециальные закаливающие процедуры: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Закаливание воздухом (воздушные ванны), прогулка;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Закаливание водой (водные процедуры);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Закаливание солнцем (солнечные ванны)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066680" y="8380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тренняя гимнастика 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85800" y="1668600"/>
            <a:ext cx="61722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 в детском саду имеет большое оздоровительное значение и является обязательной частью распорядка дня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утреннюю гимнастику в хорошо проветренной группе и в соответствующей одежд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/б носки, облегчённая одежда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1447920" y="3848040"/>
            <a:ext cx="662940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762120" y="1295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ые упражнения очищают слизистую дыхательных путей, укрепляют дыхательную мускулатуру. Правильное дыхание регулирует состояние нервной системы человек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8" name="Picture 2" descr="C:\Users\Марина\Desktop\IMG-20201006-WA0014.jpg"/>
          <p:cNvPicPr/>
          <p:nvPr/>
        </p:nvPicPr>
        <p:blipFill>
          <a:blip r:embed="rId2"/>
          <a:stretch/>
        </p:blipFill>
        <p:spPr>
          <a:xfrm>
            <a:off x="2548080" y="3270240"/>
            <a:ext cx="4047840" cy="32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640" y="-176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и</a:t>
            </a: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атковременные физические упражнения, способствовавшие оздоровлению детей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5040" y="2590560"/>
            <a:ext cx="3681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снятия общего и локального утомления;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жнения для кистей рук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имнастика для глаз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жнения, корректирующие оса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жнения для профилактики плоскостопия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Упражнения с использованием танцевальных движений и    музык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586400" y="29224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3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квозное проветри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65200" y="13716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сутствии детей организуем сквозное проветривание групповой комнаты и спальни в соответствии с установленным графиком;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сутствии детей организуем угловое проветривание групповой комнаты. При этом строго следим за тем, чтобы дети не находились в непосредственной близости к открытой фрамуге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ая температура воздуха при обучении по нормам СанПиН составляет +22 градуса, в период сна +18 градусов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ДетСад</cp:lastModifiedBy>
  <dcterms:modified xsi:type="dcterms:W3CDTF">2023-02-16T05:05:20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