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4B38-ABB0-4154-96FC-1F19BA70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EEB3-5DE8-49A2-8E87-700FA5CC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3B4E-779C-409B-93B1-F89C22B0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E8AC-8C8B-425E-B24A-9E76943B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FA02-981C-4E01-9947-B2923C2D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6D1C-5E56-431E-AB58-179936CB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8C4B-E8E0-43D5-B5BA-8BD133BF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398F-5389-4020-A490-60CABBD6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FFB5-5F01-486F-865D-372FB4AB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DBCC-DBCD-4FDD-B26D-E2EF7027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CC0F-DCDE-417C-8434-E9213BCC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9B54-25CB-4442-AFC2-E1257754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32C5-19A4-44CC-8C51-86C619E0F4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914400" y="2971800"/>
            <a:ext cx="6934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каливание детей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ДОУ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3581280" y="198108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птимальный двигательный режи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2"/>
          <a:stretch/>
        </p:blipFill>
        <p:spPr>
          <a:xfrm>
            <a:off x="5694480" y="2273400"/>
            <a:ext cx="3431880" cy="457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3"/>
          <a:stretch/>
        </p:blipFill>
        <p:spPr>
          <a:xfrm>
            <a:off x="2892600" y="3962520"/>
            <a:ext cx="2649240" cy="26510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"/>
          <p:cNvSpPr/>
          <p:nvPr/>
        </p:nvSpPr>
        <p:spPr>
          <a:xfrm>
            <a:off x="623880" y="20574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- Физкультурные занятия в зале и на свежем воздухе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-подвижные игры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-физические упражнения на прогулке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-самостоятельная двигательная активность детей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Elephant"/>
              </a:rPr>
              <a:t>ГИМНАСТКА ПРОБУ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19320"/>
            <a:ext cx="419112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Bookman Old Style"/>
              </a:rPr>
              <a:t>    </a:t>
            </a:r>
            <a:r>
              <a:rPr b="1" lang="ru-RU" sz="2000" spc="-1" strike="noStrike">
                <a:solidFill>
                  <a:srgbClr val="ff3300"/>
                </a:solidFill>
                <a:latin typeface="Bookman Old Style"/>
              </a:rPr>
              <a:t>Цель:</a:t>
            </a:r>
            <a:r>
              <a:rPr b="1" lang="ru-RU" sz="2000" spc="-1" strike="noStrike">
                <a:solidFill>
                  <a:srgbClr val="333399"/>
                </a:solidFill>
                <a:latin typeface="Bookman Old Style"/>
              </a:rPr>
              <a:t> пробудить организм, нормализовать сердечно – сосудистую, дыхательную системы, снять сонливость, вялость; укреплять здоровье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 rot="4805400">
            <a:off x="1206000" y="3676680"/>
            <a:ext cx="2759040" cy="2759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3"/>
          <a:stretch/>
        </p:blipFill>
        <p:spPr>
          <a:xfrm>
            <a:off x="4724280" y="1143000"/>
            <a:ext cx="4027680" cy="4027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Elephant"/>
              </a:rPr>
              <a:t>БОСОХОЖ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Хождение босиком – является одним из самых древних средств закаливания организма, оказывая общеукрепляющее воздействие на весь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C:\Users\Максим\Desktop\Новая папка (3)\2017-05-25 16.18.21.jpg"/>
          <p:cNvPicPr/>
          <p:nvPr/>
        </p:nvPicPr>
        <p:blipFill>
          <a:blip r:embed="rId2"/>
          <a:stretch/>
        </p:blipFill>
        <p:spPr>
          <a:xfrm>
            <a:off x="0" y="3200400"/>
            <a:ext cx="4876920" cy="365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C:\Users\Максим\Desktop\Новая папка (3)\2016-12-02 15.16.55.jpg"/>
          <p:cNvPicPr/>
          <p:nvPr/>
        </p:nvPicPr>
        <p:blipFill>
          <a:blip r:embed="rId3"/>
          <a:stretch/>
        </p:blipFill>
        <p:spPr>
          <a:xfrm rot="5941200">
            <a:off x="5610960" y="3398040"/>
            <a:ext cx="3649680" cy="27367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"/>
          <p:cNvSpPr/>
          <p:nvPr/>
        </p:nvSpPr>
        <p:spPr>
          <a:xfrm>
            <a:off x="0" y="245736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9194d"/>
                </a:solidFill>
                <a:latin typeface="Bookman Old Style"/>
              </a:rPr>
              <a:t>-ходьба по траве,ходьба по песку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9194d"/>
                </a:solidFill>
                <a:latin typeface="Bookman Old Style"/>
              </a:rPr>
              <a:t>-ходьба по камешкам, ходьба по «дорожке здоровья»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Elephant"/>
              </a:rPr>
              <a:t>ЭЛЕМЕНТЫ ТОЧЕЧНОГО МАССА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080" y="2362320"/>
            <a:ext cx="4114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Bookman Old Style"/>
              </a:rPr>
              <a:t>Массаж повышает защитные свойства слизистой оболочки носа, глотки, гортани, трахеи, бронхов и других органов челове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Bookman Old Style"/>
              </a:rPr>
              <a:t>Упражнения точечного массажа учат детей сознательно заботиться о своем здоровье и являются профилактикой простудных заболе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C:\Users\Максим\Desktop\Новая папка (3)\2017-11-21 10.51.40.jpg"/>
          <p:cNvPicPr/>
          <p:nvPr/>
        </p:nvPicPr>
        <p:blipFill>
          <a:blip r:embed="rId2"/>
          <a:stretch/>
        </p:blipFill>
        <p:spPr>
          <a:xfrm>
            <a:off x="4160880" y="3124080"/>
            <a:ext cx="498312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80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ециальные закаливающие процедуры: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каливание воздухом (воздушные ванны), прогулка;</a:t>
            </a:r>
            <a:br>
              <a:rPr sz="3600"/>
            </a:br>
            <a:r>
              <a:rPr b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Закаливание водой (водные процедуры);</a:t>
            </a:r>
            <a:br>
              <a:rPr sz="3600"/>
            </a:br>
            <a:r>
              <a:rPr b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каливание солнцем (солнечные ванны)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8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80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Закаливание воздухом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3"/>
          <p:cNvSpPr/>
          <p:nvPr/>
        </p:nvSpPr>
        <p:spPr>
          <a:xfrm>
            <a:off x="457200" y="1736640"/>
            <a:ext cx="2736720" cy="3382920"/>
          </a:xfrm>
          <a:prstGeom prst="ellipse">
            <a:avLst/>
          </a:prstGeom>
          <a:solidFill>
            <a:srgbClr val="d6ecee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рогулки в любую погоду в соответствующей одежде,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специальные воздушные ванны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01" name="Picture 2" descr="http://9liski.detkin-club.ru/images/custom_2/6006415828_5ee7e1cda0ac7.jpg"/>
          <p:cNvPicPr/>
          <p:nvPr/>
        </p:nvPicPr>
        <p:blipFill>
          <a:blip r:embed="rId2"/>
          <a:stretch/>
        </p:blipFill>
        <p:spPr>
          <a:xfrm>
            <a:off x="3546360" y="1600200"/>
            <a:ext cx="5561280" cy="3952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8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80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Прогулка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5"/>
          <p:cNvSpPr/>
          <p:nvPr/>
        </p:nvSpPr>
        <p:spPr>
          <a:xfrm>
            <a:off x="669960" y="1273320"/>
            <a:ext cx="4071960" cy="215424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Большую роль в закаливании воздухом вне помещения играет прогулка. 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Здесь важно правильно одеть и обуть ребёнка соответственно сезону и погоде, чтобы обеспечить ему свободу движений и необходимый тепловой комфорт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2"/>
          <a:stretch/>
        </p:blipFill>
        <p:spPr>
          <a:xfrm>
            <a:off x="4589640" y="3451320"/>
            <a:ext cx="4368600" cy="3276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5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Закаливание солнце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5029200" y="1262160"/>
            <a:ext cx="4572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- солнечные ванны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- отдых в тени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09" name="Рисунок 12" descr=""/>
          <p:cNvPicPr/>
          <p:nvPr/>
        </p:nvPicPr>
        <p:blipFill>
          <a:blip r:embed="rId2"/>
          <a:stretch/>
        </p:blipFill>
        <p:spPr>
          <a:xfrm>
            <a:off x="1523880" y="3273480"/>
            <a:ext cx="6553440" cy="35971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573120" y="126216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 процессе прогулки, особенно в весенне-летнее время при обычной разнообразной деятельности детей. 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солнечных процедур рекомендуется при температуре воздуха не менее 20-22 град. С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аливание вод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76212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1919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-умы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1919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-влажное обтир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1919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-обливание н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1919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- полоскание гор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1919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https://3.bp.blogspot.com/-vaQavQAQBbE/W7PhiHA8UfI/AAAAAAAAA1w/nhF7xBlllP8DpLq_MzzYciChhq3V4IrSwCLcBGAs/s1600/%25D0%25A0%25D0%25B8%25D1%2581%2B12-11%2B%25D0%259C%25D0%25B0%25D0%25BB%25D1%258C%25D1%2587%25D0%25B8%25D0%25BA.png"/>
          <p:cNvPicPr/>
          <p:nvPr/>
        </p:nvPicPr>
        <p:blipFill>
          <a:blip r:embed="rId2"/>
          <a:stretch/>
        </p:blipFill>
        <p:spPr>
          <a:xfrm>
            <a:off x="-22320" y="3581280"/>
            <a:ext cx="5259600" cy="3362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4392720" y="3276720"/>
            <a:ext cx="477360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Elephant"/>
              </a:rPr>
              <a:t>Обширное умывание, обтирание 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-9216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3399"/>
                </a:solidFill>
                <a:latin typeface="Bookman Old Style"/>
              </a:rPr>
              <a:t>Ребенок моет лицо, руки, шею, верхнюю часть груди, до пояса водой– плюс 27-28˚, с постепенным снижением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3399"/>
                </a:solidFill>
                <a:latin typeface="Bookman Old Style"/>
              </a:rPr>
              <a:t>Обтирание производится смоченной в воде рукавичкой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3399"/>
                </a:solidFill>
                <a:latin typeface="Bookman Old Style"/>
              </a:rPr>
              <a:t>После обтирания тело растирают сухим полотенцем. Обтирание сопровождается легкими массирующими движениям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3399"/>
                </a:solidFill>
                <a:latin typeface="Bookman Old Style"/>
              </a:rPr>
              <a:t>По окончании влажного обтирания  тело ребенка растирается сухим полотенцем до легкого покраснения.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9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2514600" cy="2878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0" descr=""/>
          <p:cNvPicPr/>
          <p:nvPr/>
        </p:nvPicPr>
        <p:blipFill>
          <a:blip r:embed="rId3"/>
          <a:stretch/>
        </p:blipFill>
        <p:spPr>
          <a:xfrm>
            <a:off x="5867280" y="403848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Elephant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47640" y="1371600"/>
            <a:ext cx="7848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ошкольном возрасте закладываются основы здоровья. При этом заболеваемость детей остается высокой, несмотря на успехи медицины. Закаливание является эффективным способом оздоровления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Обли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919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Ноги обливают из ковша   ( воду льют на нижнюю треть голеней и стоп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919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Собственно обливание продолжается 20-30 секунд, а затем следует растир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0" y="1240920"/>
            <a:ext cx="40384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lvl="2" marL="594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Важно соблюдать соответствующую температуру воды (28 градус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0000"/>
              </a:lnSpc>
              <a:spcBef>
                <a:spcPts val="700"/>
              </a:spcBef>
              <a:buClr>
                <a:srgbClr val="1919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можно постепенно снизить температуру воды до комнатной, не допуская, явления охла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700"/>
              </a:spcBef>
              <a:buClr>
                <a:srgbClr val="1919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Elephant"/>
              </a:rPr>
              <a:t>ЗАКАЛИВАНИЕ ГОР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Полоскание проводится с 3-4 лет кипяченой водой комнатной температуры после каждого приема пи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838240" cy="3200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"/>
          <p:cNvPicPr/>
          <p:nvPr/>
        </p:nvPicPr>
        <p:blipFill>
          <a:blip r:embed="rId3"/>
          <a:stretch/>
        </p:blipFill>
        <p:spPr>
          <a:xfrm>
            <a:off x="6400800" y="1447920"/>
            <a:ext cx="2057400" cy="3200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"/>
          <p:cNvPicPr/>
          <p:nvPr/>
        </p:nvPicPr>
        <p:blipFill>
          <a:blip r:embed="rId4"/>
          <a:stretch/>
        </p:blipFill>
        <p:spPr>
          <a:xfrm>
            <a:off x="914400" y="1447920"/>
            <a:ext cx="2057400" cy="3201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Elephant"/>
                <a:ea typeface="Times New Roman"/>
              </a:rPr>
              <a:t>Правильно организованная система закали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Поддержит температурный баланс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Нормализует поведенческие реакции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Снизит инфекционно-воспалительные заболе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Улучшит показатели физ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Повысит уровень физической подготовл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  <a:ea typeface="Times New Roman"/>
              </a:rPr>
              <a:t>ВЫВ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язи с ухудшением экологической среды, загрязнением воздуха, возникновением различных инфекционных заболеваний, ослаблением иммун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необходимо укреплять организм детей, стимулировать защитные силы, снижать чувствительность организма к вредным фактор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ливание это необходимое условие полноценного физического развития детей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В результате закали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ребенок становится менее восприимчивым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к резким изменениям температуры, простудным и инфекционным заболе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768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Bookman Old Style"/>
              </a:rPr>
              <a:t>Спасибо за вним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Elephant"/>
              </a:rPr>
              <a:t> </a:t>
            </a:r>
            <a:r>
              <a:rPr b="1" lang="ru-RU" sz="4000" spc="-1" strike="noStrike">
                <a:solidFill>
                  <a:srgbClr val="993300"/>
                </a:solidFill>
                <a:latin typeface="Elephant"/>
              </a:rPr>
              <a:t>ЗАКАЛИ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4276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система мероприятий, направленных на тренировку защитных физиологических механизмов терморегуляции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Elephant"/>
              </a:rPr>
              <a:t>ЗАДАЧИ ЗАКАЛИ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279080"/>
            <a:ext cx="7880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крепление здоровых детей;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витие выносливости организма при изменяющихся факторах внешней среды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вышение его сопротивляемости к различным заболеваниям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витие эмоционально положительного настроя детей к закаливающим мероприятиям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635040" y="4038480"/>
            <a:ext cx="3321000" cy="2362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3"/>
          <a:stretch/>
        </p:blipFill>
        <p:spPr>
          <a:xfrm>
            <a:off x="4255920" y="4038480"/>
            <a:ext cx="4073760" cy="2346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581040" y="6094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man Old Style"/>
              </a:rPr>
              <a:t>Физкультурно-оздоровительные мероприятия ДОУ во время закаливания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58" name="Прямоугольник 3"/>
          <p:cNvGrpSpPr/>
          <p:nvPr/>
        </p:nvGrpSpPr>
        <p:grpSpPr>
          <a:xfrm>
            <a:off x="324000" y="1852560"/>
            <a:ext cx="8399160" cy="7571880"/>
            <a:chOff x="324000" y="1852560"/>
            <a:chExt cx="8399160" cy="7571880"/>
          </a:xfrm>
        </p:grpSpPr>
        <p:pic>
          <p:nvPicPr>
            <p:cNvPr id="59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24000" y="1852560"/>
              <a:ext cx="8399160" cy="70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66560" y="1994040"/>
              <a:ext cx="8115480" cy="74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Общие закаливающие процедуры используемые в режиме дня ДОУ:</a:t>
              </a:r>
              <a:endParaRPr b="0" lang="en-US" sz="2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Утренняя гимнастика в проветренном помещении.</a:t>
              </a:r>
              <a:endParaRPr b="0" lang="en-US" sz="2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Дыхательная гимнастика.</a:t>
              </a:r>
              <a:endParaRPr b="0" lang="en-US" sz="2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Гимнастика после сна.</a:t>
              </a:r>
              <a:endParaRPr b="0" lang="en-US" sz="2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Физкультурные занятия.</a:t>
              </a:r>
              <a:endParaRPr b="0" lang="en-US" sz="2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Сквозное проветривание.</a:t>
              </a:r>
              <a:endParaRPr b="0" lang="en-US" sz="2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Босохождение</a:t>
              </a:r>
              <a:endParaRPr b="0" lang="en-US" sz="2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Оптимальный двигательный режим. </a:t>
              </a:r>
              <a:endParaRPr b="0" lang="en-US" sz="2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Специальные закаливающие процедуры:</a:t>
              </a:r>
              <a:endParaRPr b="0" lang="en-US" sz="2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Закаливание воздухом (воздушные ванны), прогулка;</a:t>
              </a:r>
              <a:endParaRPr b="0" lang="en-US" sz="2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Закаливание водой (водные процедуры);</a:t>
              </a:r>
              <a:endParaRPr b="0" lang="en-US" sz="2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Закаливание солнцем (солнечные ванны).</a:t>
              </a:r>
              <a:endParaRPr b="0" lang="en-US" sz="2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marL="1080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p:transition spd="slow"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1066680" y="83808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Утренняя гимнастика </a:t>
            </a: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685800" y="1668600"/>
            <a:ext cx="617220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енняя гимнастика в детском саду имеет большое оздоровительное значение и является обязательной частью распорядка дня.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м утреннюю гимнастику в хорошо проветренной группе и в соответствующей одежде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/б носки, облегчённая одежда)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1447920" y="3848040"/>
            <a:ext cx="6629400" cy="2982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ыхательная гимна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762120" y="1295280"/>
            <a:ext cx="66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хательные упражнения очищают слизистую дыхательных путей, укрепляют дыхательную мускулатуру. Правильное дыхание регулирует состояние нервной системы человека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68" name="Picture 2" descr="C:\Users\Марина\Desktop\IMG-20201006-WA0014.jpg"/>
          <p:cNvPicPr/>
          <p:nvPr/>
        </p:nvPicPr>
        <p:blipFill>
          <a:blip r:embed="rId2"/>
          <a:stretch/>
        </p:blipFill>
        <p:spPr>
          <a:xfrm>
            <a:off x="2548080" y="3270240"/>
            <a:ext cx="4047840" cy="3205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7640" y="-176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культминутки</a:t>
            </a:r>
            <a:br>
              <a:rPr sz="3600"/>
            </a:br>
            <a:r>
              <a:rPr b="0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ратковременные физические упражнения, способствовавшие оздоровлению детей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5040" y="2590560"/>
            <a:ext cx="36813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для снятия общего и локального утомления; 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пражнения для кистей рук;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имнастика для глаз;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пражнения, корректирующие оса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пражнения для профилактики плоскостопия;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Упражнения с использованием танцевальных движений и    музык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2"/>
          <a:stretch/>
        </p:blipFill>
        <p:spPr>
          <a:xfrm>
            <a:off x="4586400" y="2922480"/>
            <a:ext cx="4476600" cy="3357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3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квозное проветрив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565200" y="1371600"/>
            <a:ext cx="8077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сутствии детей организуем сквозное проветривание групповой комнаты и спальни в соответствии с установленным графиком;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исутствии детей организуем угловое проветривание групповой комнаты. При этом строго следим за тем, чтобы дети не находились в непосредственной близости к открытой фрамуге!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уемая температура воздуха при обучении по нормам СанПиН составляет +22 градуса, в период сна +18 градусов.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етСад</dc:creator>
  <dc:description/>
  <dc:language>en-US</dc:language>
  <cp:lastModifiedBy>ДетСад</cp:lastModifiedBy>
  <dcterms:modified xsi:type="dcterms:W3CDTF">2023-02-16T05:05:20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