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5EF0-31C7-43DF-B421-A28FBF2B2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B00E-2BFF-4F87-985F-D71F6B16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4F1674-664C-4E35-BB38-3733D5A2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3CF78D-E75D-4F28-9FF1-86107AA9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ABB020-F088-4695-858F-FACF2279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0538E5-16E3-40ED-A5D3-30F59A8A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21E42A-09D7-4A40-85FF-C3A2E268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6AEEDC-B218-4DCE-B71C-A288651D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CF3ACE-1A01-49ED-B0BB-5D1485A4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060B16-25A6-412B-9F47-58481391A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BC8893-2CE0-4540-AC24-390C04FAB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C0AC-8D8A-4919-B48B-549C9735A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C841-6E51-4550-93A6-787448679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5620-AB04-4713-9D46-AA3BBE792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98F0-E943-4C29-91B0-766D7D98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BFF0-0FEE-4158-92DB-F1519435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AE20-91CC-4F92-8B65-12E86B95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7828-F1A6-432C-BE29-1CC141C2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A075-7F73-4CDA-A4E9-AA3C2825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5578-B2F7-45E2-AB74-E09BF998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7654-0BFD-416D-8ADF-883F88ED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2046-1121-465C-A74F-DC7A78B7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8634-3D42-461F-8223-9F337392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B98FA-AC84-4ADF-9DF0-AF5262E4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B830-F375-4EDD-A468-3E7C6FCA4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AAAF-B6C3-4E66-8723-2543CFA13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09BB2-F164-48D3-83FD-9435B76F3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65B46-B513-426A-B46A-B202B4F2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5CAA7-D8DF-4D83-B46C-8928713B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88368-9B1B-4164-AEDF-7A8CF83E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345DF-81E8-4FB8-AEAB-2F33AC1D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CF84-E6E5-4526-8171-54FBBFB3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324FD-925F-469F-A331-0E7D74AB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4E3B6-0232-452A-BE98-30B16C58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C8467-B110-4FBD-8D45-885EBAF3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9188D-837B-48C2-A0BF-41D99D6E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13026-78A2-4708-A48C-2995B645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A3E31-AC91-4C05-88F5-37BAC214E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24A01-3F78-4DE6-AACE-12E9E5072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6EBEE-B72B-4143-89C5-6E4D75290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98E00-6FCE-443A-8083-997F48B8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4F73F-6849-495F-A4A9-11166E67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D944-F0BE-40B7-8156-50A65B01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3AD86-D808-45D1-AEF8-FD4ADC99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902A1-10AD-4BBD-A66E-D4B5A118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B099E-FBFE-430B-909E-39CF6AB0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04AE1-5A88-4124-B59A-188A0FD2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3A64D-E5B3-424E-9B9D-8558E614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4F0EF-C68E-467A-B461-1E07CC0E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E599A-B5F1-4A87-A45C-C13AF994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73596-8202-4DE5-8F44-33670DFA6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A5430-A22E-44E0-A430-2C8CB2F63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65AED-CAB7-4DB5-82E4-47FC67558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4EA3-5168-481E-879A-5C4278BA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96797-BB45-4B26-89A4-F28792A9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3619D-2C74-4DEB-993E-02A72B38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EBF14-33BC-4A1C-85FC-3812DB2C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24286-A27D-49EE-A6C1-00ABFB95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30AB6-2902-445B-86B8-A8008D42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14F94-5EDD-483E-930D-860393E8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CCDCF-C78B-4AA1-BA00-A227DEC9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F464F-99AC-4AED-BFBB-1DF178EE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8251B-1EEB-497D-973B-BDA9D846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3EFEE-C77A-4429-ADED-12AB7AD74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C177-EC03-4128-8FA2-CC1BF70A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9C869-7951-4131-BBAA-EA91F62AB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97876-4E6E-4693-98E4-EEF20415B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EA0BB-6398-4DAF-80E2-D16A8424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225B3-F371-44AF-8957-00BAE6E6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26D7E-2749-467F-841A-DD150601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46EF2-82EA-4241-A33E-5192ED3D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BF9BF-3181-4839-842A-2C1F8E58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4A958-C8F3-4125-B571-AA911059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2C924-8D31-4FFF-91CA-7BEB7C37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9C5F9-8F93-48FD-9157-ACE061C1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1128-A1E5-4A6A-B74C-48125BC8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42252-0E99-4739-A0DC-2FEB9909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FA28A-FD98-4E59-BBB9-80F264035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9FCCB-D95A-403A-847E-92B5126DE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0B73E-5E53-4B4F-95D6-73E654A46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86FB4-568E-4C43-9A69-485FCBF7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35EFB-CE96-43E2-B1AD-2AFEB22D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ED862-6DE8-426C-947C-0F8963E7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6083A-EB41-4583-A20B-CBD55CFC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F706A-D10B-4241-8133-1354C822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F0F17-3FE6-4785-8CE5-DD9B9FFF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3A75-4979-4626-BD19-39BA5302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CC0A7-E66F-4BDD-9092-402C3A1C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5E644-1906-464B-AD9B-E52D6502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FF84A-46E0-4A1A-AD2F-25954D4E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38236-45FF-45A2-B6CF-8A0DEAE85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90974-EE5C-43D9-AB64-ED8A413B5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26CEC-2CE5-4478-B55D-098E5D9F2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996ED-3B17-4E43-9C72-22979C1E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C5F04-9353-49D5-9AE1-F1A0B28B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AE4AA-5790-4EC8-9C32-B0B75343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98CC4-7F57-4980-AED7-06AF2797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66BB-75E8-4FF3-B2EF-C525B0DD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2C2564-7D0A-4553-985D-B4E7A7A0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CC46E-540D-46AD-B4D4-7CF29909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18287-6C49-4C34-9C58-7C0EB227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78F1C-DEFF-4F7F-97B2-F02C7662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35281-3045-4F90-A6DA-7075B552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CDC94-5B8A-45A5-BDBF-4DB86A782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568F0-D13C-42A0-800E-0B9F5E212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513EC7-0C94-49D0-A58C-336798762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090DD-0BB0-4CDA-A8DE-81A4BDEF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24BF66-E81C-4B24-8801-34F423D4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0079-C4ED-4AD0-8304-971F3CFB2FC4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B999-8C9D-4DD7-8644-EA50C169BEF6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CFA1-7B86-4064-BA17-8F73E0950A38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B5EB-DD59-49D1-AAEC-66585415FF34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2113-8965-4DF9-9AA5-AC8B03FEA31B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DBCB-2112-45DF-939C-EF4BD14239AE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FD44-9332-48F2-A260-F91DF5EF1A33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9D06-45A3-409B-B635-C7BCC49B6C38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5AD3-B719-47A2-A68D-9DD71373A02C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9.png"/><Relationship Id="rId3" Type="http://schemas.openxmlformats.org/officeDocument/2006/relationships/slide" Target="slide3.xml"/><Relationship Id="rId4" Type="http://schemas.openxmlformats.org/officeDocument/2006/relationships/image" Target="../media/image10.png"/><Relationship Id="rId5" Type="http://schemas.openxmlformats.org/officeDocument/2006/relationships/slide" Target="slide3.xml"/><Relationship Id="rId6" Type="http://schemas.openxmlformats.org/officeDocument/2006/relationships/image" Target="../media/image11.png"/><Relationship Id="rId7" Type="http://schemas.openxmlformats.org/officeDocument/2006/relationships/slide" Target="slide4.xml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5.png"/><Relationship Id="rId3" Type="http://schemas.openxmlformats.org/officeDocument/2006/relationships/slide" Target="slide5.xml"/><Relationship Id="rId4" Type="http://schemas.openxmlformats.org/officeDocument/2006/relationships/image" Target="../media/image16.png"/><Relationship Id="rId5" Type="http://schemas.openxmlformats.org/officeDocument/2006/relationships/slide" Target="slide6.xml"/><Relationship Id="rId6" Type="http://schemas.openxmlformats.org/officeDocument/2006/relationships/image" Target="../media/image17.png"/><Relationship Id="rId7" Type="http://schemas.openxmlformats.org/officeDocument/2006/relationships/slide" Target="slide5.xml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0.png"/><Relationship Id="rId3" Type="http://schemas.openxmlformats.org/officeDocument/2006/relationships/slide" Target="slide7.xml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extBox 3" descr=""/>
          <p:cNvPicPr/>
          <p:nvPr/>
        </p:nvPicPr>
        <p:blipFill>
          <a:blip r:embed="rId1"/>
          <a:stretch/>
        </p:blipFill>
        <p:spPr>
          <a:xfrm>
            <a:off x="1530360" y="1322280"/>
            <a:ext cx="5748480" cy="1768680"/>
          </a:xfrm>
          <a:prstGeom prst="rect">
            <a:avLst/>
          </a:prstGeom>
          <a:ln w="0">
            <a:noFill/>
          </a:ln>
        </p:spPr>
      </p:pic>
      <p:pic>
        <p:nvPicPr>
          <p:cNvPr id="400" name="TextBox 4" descr=""/>
          <p:cNvPicPr/>
          <p:nvPr/>
        </p:nvPicPr>
        <p:blipFill>
          <a:blip r:embed="rId2"/>
          <a:stretch/>
        </p:blipFill>
        <p:spPr>
          <a:xfrm>
            <a:off x="2792520" y="3395520"/>
            <a:ext cx="3857400" cy="62244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6" descr="Безимени-1.png"/>
          <p:cNvPicPr/>
          <p:nvPr/>
        </p:nvPicPr>
        <p:blipFill>
          <a:blip r:embed="rId3"/>
          <a:stretch/>
        </p:blipFill>
        <p:spPr>
          <a:xfrm>
            <a:off x="5500800" y="3929040"/>
            <a:ext cx="1928880" cy="1725480"/>
          </a:xfrm>
          <a:prstGeom prst="rect">
            <a:avLst/>
          </a:prstGeom>
          <a:ln w="0">
            <a:noFill/>
          </a:ln>
        </p:spPr>
      </p:pic>
      <p:pic>
        <p:nvPicPr>
          <p:cNvPr id="402" name="Рисунок 7" descr="Безимени-1.png"/>
          <p:cNvPicPr/>
          <p:nvPr/>
        </p:nvPicPr>
        <p:blipFill>
          <a:blip r:embed="rId4"/>
          <a:stretch/>
        </p:blipFill>
        <p:spPr>
          <a:xfrm>
            <a:off x="3857760" y="4786200"/>
            <a:ext cx="1714320" cy="181620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8" descr="Безимени-1.png"/>
          <p:cNvPicPr/>
          <p:nvPr/>
        </p:nvPicPr>
        <p:blipFill>
          <a:blip r:embed="rId5"/>
          <a:stretch/>
        </p:blipFill>
        <p:spPr>
          <a:xfrm>
            <a:off x="928800" y="4000680"/>
            <a:ext cx="263844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Прямоугольник 1" descr=""/>
          <p:cNvPicPr/>
          <p:nvPr/>
        </p:nvPicPr>
        <p:blipFill>
          <a:blip r:embed="rId1"/>
          <a:stretch/>
        </p:blipFill>
        <p:spPr>
          <a:xfrm>
            <a:off x="2328840" y="2041560"/>
            <a:ext cx="4254480" cy="1817640"/>
          </a:xfrm>
          <a:prstGeom prst="rect">
            <a:avLst/>
          </a:prstGeom>
          <a:ln w="0">
            <a:noFill/>
          </a:ln>
        </p:spPr>
      </p:pic>
      <p:pic>
        <p:nvPicPr>
          <p:cNvPr id="432" name="j0214098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745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3" name=""/>
          <p:cNvGraphicFramePr/>
          <p:nvPr/>
        </p:nvGraphicFramePr>
        <p:xfrm>
          <a:off x="500040" y="1928880"/>
          <a:ext cx="8286840" cy="2286000"/>
        </p:xfrm>
        <a:graphic>
          <a:graphicData uri="http://schemas.openxmlformats.org/drawingml/2006/table">
            <a:tbl>
              <a:tblPr/>
              <a:tblGrid>
                <a:gridCol w="2071800"/>
                <a:gridCol w="2071440"/>
                <a:gridCol w="2071800"/>
                <a:gridCol w="2071800"/>
              </a:tblGrid>
              <a:tr h="2286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34" name="Рисунок 1" descr="Безимени-1.png"/>
          <p:cNvPicPr/>
          <p:nvPr/>
        </p:nvPicPr>
        <p:blipFill>
          <a:blip r:embed="rId1"/>
          <a:stretch/>
        </p:blipFill>
        <p:spPr>
          <a:xfrm>
            <a:off x="857160" y="2500200"/>
            <a:ext cx="1285920" cy="1143000"/>
          </a:xfrm>
          <a:prstGeom prst="rect">
            <a:avLst/>
          </a:prstGeom>
          <a:ln w="0">
            <a:noFill/>
          </a:ln>
        </p:spPr>
      </p:pic>
      <p:pic>
        <p:nvPicPr>
          <p:cNvPr id="435" name="Рисунок 2" descr="Безимени-1.png"/>
          <p:cNvPicPr/>
          <p:nvPr/>
        </p:nvPicPr>
        <p:blipFill>
          <a:blip r:embed="rId2"/>
          <a:stretch/>
        </p:blipFill>
        <p:spPr>
          <a:xfrm>
            <a:off x="2928960" y="2500200"/>
            <a:ext cx="1214280" cy="128592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4" descr="Безимени-1.png"/>
          <p:cNvPicPr/>
          <p:nvPr/>
        </p:nvPicPr>
        <p:blipFill>
          <a:blip r:embed="rId3"/>
          <a:stretch/>
        </p:blipFill>
        <p:spPr>
          <a:xfrm>
            <a:off x="7143840" y="2571840"/>
            <a:ext cx="1285920" cy="1143000"/>
          </a:xfrm>
          <a:prstGeom prst="rect">
            <a:avLst/>
          </a:prstGeom>
          <a:ln w="0">
            <a:noFill/>
          </a:ln>
        </p:spPr>
      </p:pic>
      <p:pic>
        <p:nvPicPr>
          <p:cNvPr id="437" name="Рисунок 5" descr="Безимени-1.png"/>
          <p:cNvPicPr/>
          <p:nvPr/>
        </p:nvPicPr>
        <p:blipFill>
          <a:blip r:embed="rId4"/>
          <a:stretch/>
        </p:blipFill>
        <p:spPr>
          <a:xfrm>
            <a:off x="5072040" y="2571840"/>
            <a:ext cx="1285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Прямоугольник 1" descr=""/>
          <p:cNvPicPr/>
          <p:nvPr/>
        </p:nvPicPr>
        <p:blipFill>
          <a:blip r:embed="rId1"/>
          <a:stretch/>
        </p:blipFill>
        <p:spPr>
          <a:xfrm>
            <a:off x="2382840" y="1871640"/>
            <a:ext cx="4230720" cy="1152720"/>
          </a:xfrm>
          <a:prstGeom prst="rect">
            <a:avLst/>
          </a:prstGeom>
          <a:ln w="0">
            <a:noFill/>
          </a:ln>
        </p:spPr>
      </p:pic>
      <p:pic>
        <p:nvPicPr>
          <p:cNvPr id="439" name="j0214098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4745" fill="hold"/>
                                        <p:tgtEl>
                                          <p:spTgt spid="4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Прямоугольник 1" descr=""/>
          <p:cNvPicPr/>
          <p:nvPr/>
        </p:nvPicPr>
        <p:blipFill>
          <a:blip r:embed="rId1"/>
          <a:stretch/>
        </p:blipFill>
        <p:spPr>
          <a:xfrm>
            <a:off x="2803680" y="1920960"/>
            <a:ext cx="32558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Box 1"/>
          <p:cNvSpPr/>
          <p:nvPr/>
        </p:nvSpPr>
        <p:spPr>
          <a:xfrm>
            <a:off x="1071720" y="1428840"/>
            <a:ext cx="7000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з четырех фигур найди лишнюю, которая не подходит к остальным. Нажми на нее левой кнопкой мыш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"/>
          <p:cNvGraphicFramePr/>
          <p:nvPr/>
        </p:nvGraphicFramePr>
        <p:xfrm>
          <a:off x="500040" y="1928880"/>
          <a:ext cx="8286840" cy="2286000"/>
        </p:xfrm>
        <a:graphic>
          <a:graphicData uri="http://schemas.openxmlformats.org/drawingml/2006/table">
            <a:tbl>
              <a:tblPr/>
              <a:tblGrid>
                <a:gridCol w="2071800"/>
                <a:gridCol w="2071440"/>
                <a:gridCol w="2071800"/>
                <a:gridCol w="2071800"/>
              </a:tblGrid>
              <a:tr h="2286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06" name="Рисунок 5" descr="Безимени-1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4240" y="22860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6" descr="Безимени-1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929280" y="21430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7" descr="Безимени-1.pn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857840" y="23572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409" name="Рисунок 8" descr="Безимени-1.png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714760" y="2000160"/>
            <a:ext cx="192852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Прямоугольник 1" descr=""/>
          <p:cNvPicPr/>
          <p:nvPr/>
        </p:nvPicPr>
        <p:blipFill>
          <a:blip r:embed="rId1"/>
          <a:stretch/>
        </p:blipFill>
        <p:spPr>
          <a:xfrm>
            <a:off x="2292480" y="1938240"/>
            <a:ext cx="4321080" cy="1189080"/>
          </a:xfrm>
          <a:prstGeom prst="rect">
            <a:avLst/>
          </a:prstGeom>
          <a:ln w="0">
            <a:noFill/>
          </a:ln>
        </p:spPr>
      </p:pic>
      <p:pic>
        <p:nvPicPr>
          <p:cNvPr id="411" name="j0214098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"/>
          <p:cNvGraphicFramePr/>
          <p:nvPr/>
        </p:nvGraphicFramePr>
        <p:xfrm>
          <a:off x="500040" y="1643040"/>
          <a:ext cx="8215200" cy="2357640"/>
        </p:xfrm>
        <a:graphic>
          <a:graphicData uri="http://schemas.openxmlformats.org/drawingml/2006/table">
            <a:tbl>
              <a:tblPr/>
              <a:tblGrid>
                <a:gridCol w="2054160"/>
                <a:gridCol w="2052720"/>
                <a:gridCol w="2054160"/>
                <a:gridCol w="2054160"/>
              </a:tblGrid>
              <a:tr h="23576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13" name="Рисунок 2" descr="Безимени-1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4240" y="2143080"/>
            <a:ext cx="1714680" cy="1428840"/>
          </a:xfrm>
          <a:prstGeom prst="rect">
            <a:avLst/>
          </a:prstGeom>
          <a:ln w="0">
            <a:noFill/>
          </a:ln>
        </p:spPr>
      </p:pic>
      <p:pic>
        <p:nvPicPr>
          <p:cNvPr id="414" name="Рисунок 3" descr="Безимени-1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858000" y="2214720"/>
            <a:ext cx="1785960" cy="1357200"/>
          </a:xfrm>
          <a:prstGeom prst="rect">
            <a:avLst/>
          </a:prstGeom>
          <a:ln w="0">
            <a:noFill/>
          </a:ln>
        </p:spPr>
      </p:pic>
      <p:pic>
        <p:nvPicPr>
          <p:cNvPr id="415" name="Рисунок 4" descr="Безимени-1.pn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928960" y="2571840"/>
            <a:ext cx="1357200" cy="114300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5" descr="Безимени-1.png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929120" y="2071800"/>
            <a:ext cx="121464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Прямоугольник 1" descr=""/>
          <p:cNvPicPr/>
          <p:nvPr/>
        </p:nvPicPr>
        <p:blipFill>
          <a:blip r:embed="rId1"/>
          <a:stretch/>
        </p:blipFill>
        <p:spPr>
          <a:xfrm>
            <a:off x="2146320" y="1785960"/>
            <a:ext cx="4181400" cy="1201680"/>
          </a:xfrm>
          <a:prstGeom prst="rect">
            <a:avLst/>
          </a:prstGeom>
          <a:ln w="0">
            <a:noFill/>
          </a:ln>
        </p:spPr>
      </p:pic>
      <p:pic>
        <p:nvPicPr>
          <p:cNvPr id="418" name="j0214098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745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9" name=""/>
          <p:cNvGraphicFramePr/>
          <p:nvPr/>
        </p:nvGraphicFramePr>
        <p:xfrm>
          <a:off x="500040" y="1928880"/>
          <a:ext cx="8286840" cy="2286000"/>
        </p:xfrm>
        <a:graphic>
          <a:graphicData uri="http://schemas.openxmlformats.org/drawingml/2006/table">
            <a:tbl>
              <a:tblPr/>
              <a:tblGrid>
                <a:gridCol w="2071800"/>
                <a:gridCol w="2071440"/>
                <a:gridCol w="2071800"/>
                <a:gridCol w="2071800"/>
              </a:tblGrid>
              <a:tr h="2286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20" name="Рисунок 3" descr="Безимени-1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857840" y="2714760"/>
            <a:ext cx="1571400" cy="96048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4" descr="Безимени-1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786720" y="2714760"/>
            <a:ext cx="1636560" cy="1000080"/>
          </a:xfrm>
          <a:prstGeom prst="rect">
            <a:avLst/>
          </a:prstGeom>
          <a:ln w="0">
            <a:noFill/>
          </a:ln>
        </p:spPr>
      </p:pic>
      <p:pic>
        <p:nvPicPr>
          <p:cNvPr id="422" name="Рисунок 5" descr="Безимени-1.png"/>
          <p:cNvPicPr/>
          <p:nvPr/>
        </p:nvPicPr>
        <p:blipFill>
          <a:blip r:embed="rId5"/>
          <a:stretch/>
        </p:blipFill>
        <p:spPr>
          <a:xfrm>
            <a:off x="811080" y="2714760"/>
            <a:ext cx="1689120" cy="1031760"/>
          </a:xfrm>
          <a:prstGeom prst="rect">
            <a:avLst/>
          </a:prstGeom>
          <a:ln w="0">
            <a:noFill/>
          </a:ln>
        </p:spPr>
      </p:pic>
      <p:pic>
        <p:nvPicPr>
          <p:cNvPr id="423" name="Рисунок 6" descr="Безимени-1.png"/>
          <p:cNvPicPr/>
          <p:nvPr/>
        </p:nvPicPr>
        <p:blipFill>
          <a:blip r:embed="rId6"/>
          <a:stretch/>
        </p:blipFill>
        <p:spPr>
          <a:xfrm>
            <a:off x="2857680" y="2571840"/>
            <a:ext cx="165564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Прямоугольник 1" descr=""/>
          <p:cNvPicPr/>
          <p:nvPr/>
        </p:nvPicPr>
        <p:blipFill>
          <a:blip r:embed="rId1"/>
          <a:stretch/>
        </p:blipFill>
        <p:spPr>
          <a:xfrm>
            <a:off x="2968560" y="2000160"/>
            <a:ext cx="3681360" cy="1144800"/>
          </a:xfrm>
          <a:prstGeom prst="rect">
            <a:avLst/>
          </a:prstGeom>
          <a:ln w="0">
            <a:noFill/>
          </a:ln>
        </p:spPr>
      </p:pic>
      <p:pic>
        <p:nvPicPr>
          <p:cNvPr id="425" name="j0214098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745" fill="hold"/>
                                        <p:tgtEl>
                                          <p:spTgt spid="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6" name=""/>
          <p:cNvGraphicFramePr/>
          <p:nvPr/>
        </p:nvGraphicFramePr>
        <p:xfrm>
          <a:off x="500040" y="1928880"/>
          <a:ext cx="8286840" cy="2286000"/>
        </p:xfrm>
        <a:graphic>
          <a:graphicData uri="http://schemas.openxmlformats.org/drawingml/2006/table">
            <a:tbl>
              <a:tblPr/>
              <a:tblGrid>
                <a:gridCol w="2071800"/>
                <a:gridCol w="2071440"/>
                <a:gridCol w="2071800"/>
                <a:gridCol w="2071800"/>
              </a:tblGrid>
              <a:tr h="2286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27" name="Рисунок 2" descr="Безимени-1.png"/>
          <p:cNvPicPr/>
          <p:nvPr/>
        </p:nvPicPr>
        <p:blipFill>
          <a:blip r:embed="rId1"/>
          <a:stretch/>
        </p:blipFill>
        <p:spPr>
          <a:xfrm>
            <a:off x="4929120" y="2286000"/>
            <a:ext cx="1500120" cy="1428840"/>
          </a:xfrm>
          <a:prstGeom prst="rect">
            <a:avLst/>
          </a:prstGeom>
          <a:ln w="0">
            <a:noFill/>
          </a:ln>
        </p:spPr>
      </p:pic>
      <p:pic>
        <p:nvPicPr>
          <p:cNvPr id="428" name="Рисунок 3" descr="Безимени-1.png"/>
          <p:cNvPicPr/>
          <p:nvPr/>
        </p:nvPicPr>
        <p:blipFill>
          <a:blip r:embed="rId2"/>
          <a:stretch/>
        </p:blipFill>
        <p:spPr>
          <a:xfrm>
            <a:off x="2928960" y="2214720"/>
            <a:ext cx="1285920" cy="1571400"/>
          </a:xfrm>
          <a:prstGeom prst="rect">
            <a:avLst/>
          </a:prstGeom>
          <a:ln w="0">
            <a:noFill/>
          </a:ln>
        </p:spPr>
      </p:pic>
      <p:pic>
        <p:nvPicPr>
          <p:cNvPr id="429" name="Рисунок 4" descr="Безимени-1.png"/>
          <p:cNvPicPr/>
          <p:nvPr/>
        </p:nvPicPr>
        <p:blipFill>
          <a:blip r:embed="rId3"/>
          <a:stretch/>
        </p:blipFill>
        <p:spPr>
          <a:xfrm>
            <a:off x="714240" y="2428920"/>
            <a:ext cx="1357560" cy="1214280"/>
          </a:xfrm>
          <a:prstGeom prst="rect">
            <a:avLst/>
          </a:prstGeom>
          <a:ln w="0">
            <a:noFill/>
          </a:ln>
        </p:spPr>
      </p:pic>
      <p:pic>
        <p:nvPicPr>
          <p:cNvPr id="430" name="Рисунок 5" descr="Безимени-1.png"/>
          <p:cNvPicPr/>
          <p:nvPr/>
        </p:nvPicPr>
        <p:blipFill>
          <a:blip r:embed="rId4"/>
          <a:stretch/>
        </p:blipFill>
        <p:spPr>
          <a:xfrm rot="15914400">
            <a:off x="7122960" y="2349360"/>
            <a:ext cx="128592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04:25:34Z</dcterms:created>
  <dc:creator>ОЕМ</dc:creator>
  <dc:description/>
  <dc:language>en-US</dc:language>
  <cp:lastModifiedBy>Галина</cp:lastModifiedBy>
  <dcterms:modified xsi:type="dcterms:W3CDTF">2013-11-04T09:32:23Z</dcterms:modified>
  <cp:revision>7</cp:revision>
  <dc:subject/>
  <dc:title>Слайд 1</dc:title>
</cp:coreProperties>
</file>