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BC0-D601-404D-8EB2-59B711BF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A03-E8B7-4BF9-ABD2-1365549F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5936F-569C-42A3-98ED-0DA1BBDF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8E4E1-AE92-423D-AF63-29536005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4EFB9-99BE-4ABA-93DB-EFAAE088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6BC01-DD80-4866-BAAE-EA80BA03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BCAFE-AA0C-4DAC-9BC1-5D6AAE62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609DF-448E-427A-9BD0-B5B012D8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32965-9073-4F5D-AEC4-A1C294B7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B0B88-575D-4CAD-8BD8-12E17A5B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27031-2470-4792-8A05-86D7133E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5F0-D4EF-46A1-A821-33352C62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7E9-82B1-4A6F-9D8D-731738BE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80C5-29B3-4267-BFC5-6CF73033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54C8-4C30-44CE-B873-06037119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A2F9-44B1-4A3E-A918-088D6107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05CC-F95F-4E08-B276-4B7E759C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FEA9-41A5-4BEC-AFEE-C9E508EB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FC0F-5800-4154-95C9-C4EE9C2D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4E1A-CA05-41E9-A543-AF75D3E4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F8D-1F9F-4A58-BB9E-135FA702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A0BA-3105-4994-9883-D6F5BDCA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4413-5601-42B9-B01D-1CB78AF4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18AF-8B65-4A2E-A934-712A71D3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401D-5551-42C9-BCFE-ED0FEEF3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EDA0-FB09-4590-8634-1C700BF4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6696-D5F2-4BD1-BC39-C562FFDD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7263-C753-4321-A33A-E98823A0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A349-D827-4AC8-B972-B821F18D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477CA-DCD3-4D6B-8125-EEBF6C8F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1228-87A0-427B-99BC-F1B8D187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8E1-D330-4074-98CC-A4B9FF1F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92C46-893E-4713-A279-A7000369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B1BC-7A39-45BB-93F1-D09E96FC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0E87-C8F7-4764-A3BA-92F23AF8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6B8A-B31E-4692-99FB-F7DA4215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EBF60-71FE-448C-A2E8-78FB6AB9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B4E5D-D06B-450B-8B1A-9BA0FC3B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F68F-3F54-49CA-83B0-5F9694B5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0C063-361C-48DB-92E9-BFBD9588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FF78C-65EB-4A73-8F12-28D175F2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6FB88-A8AB-4B06-BE0B-864827FC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96C-7BD5-4B32-93F9-B849027B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C70E2-9EEA-4701-9C58-13FE3E0A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BAC03-B75F-4C09-95BA-A785732D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A150-1735-496E-8424-33BA77BC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C9A2F-B668-4CCD-BA57-A6A1F5DB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8956D-3424-4FBB-8789-A5A6759A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A23F1-E890-4F5B-ABD0-097520F6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D94A5-BE18-414E-85A1-B16B0D41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8F47-8683-4A9F-A9A7-42323C62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46CD-35AF-45D6-BC7B-5623EA84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D5FCE-54B0-4C4B-8E34-0A4EB9B9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284-A6BC-44E3-9C4B-DB4B8BC8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DA117-A651-4C27-865F-AE6E01C9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A1DE3-28A8-4EFD-B835-44C5CC0A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AF5B3-4009-4D0B-81ED-F35F9E61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C8E78-9832-4F5F-A2F0-A5F6ABB1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AD022-5912-4C41-AD97-14976A28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4601-0301-408D-868D-886CF0BC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5ABEF-EAC1-4640-A262-80C49A2B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8367E-9B25-4EF1-ACB8-27FD49DF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F0162-E06C-4189-8B5C-C23EF939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5DE5C-3072-4E38-B59C-34E9E600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2AB-BF49-48C3-AEB5-39069071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F72C-1224-4820-908C-9B56D6C0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C184C-F4EC-43F4-9F36-E0415EF6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5475-6B6C-4D83-A9DD-65560C5F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745DE-114D-4CAA-94C4-2F04CC16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F24C7-0B1C-492B-9118-AC2E122A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F7399-BA9B-48BF-B60A-A28C1CBC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6C00-1371-4C09-B015-C46E4F46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AC30-BA06-4CF9-8FE8-B31B1F2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C6667-0B66-4665-B661-C38BFA7A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1ACA8-EAC5-4BDB-95DF-009EC83E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375-C8D7-4134-AF13-CED98DC7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58577-4621-48B8-89BF-CB365E4D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05192-71E2-40FF-AA73-FD3F4088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80C0E-5922-49A0-951E-8441E2C4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21799-AA3F-4E1B-8CB8-B93F5DBE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F737D-7936-48ED-91BB-7A559E81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6A3CF-E3AD-45F6-93B4-03E6C49D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443A5-6BA5-44FC-8218-85373D59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B5A09-AC45-4653-897D-DA4705D2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7B90C-AE7D-4B86-AFDB-03650A9E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5F58-6DAC-4690-8000-9AA3CF5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8ED-FA79-4E35-B0F9-6CBE5742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7E7D9-99C8-4C84-A4FF-DE465CA2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B0956-C919-491C-83EB-CA6B25E6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7C316-32CF-4A73-8D91-4644A1AC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0FDD3-EAB0-475A-A762-6328C4A3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23623-A8A7-4857-B473-6EFD22BD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B212A-F53C-478B-9B1D-AB4F46CC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5AFAE-0B48-4B88-84FC-DD66DA1E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59F9D-68E0-46CE-82F6-89B6570C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E31A7-02B4-4972-875F-F131C511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51B58-CC54-4B9D-8A89-FD177F94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591-6185-4077-9E34-B7B231B0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33EDD-453A-498E-8164-87191A6D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0CDA7-35B8-4727-84C6-8BA4270E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E7EA1-6A3E-4984-918D-4FF679BD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7FD00-625D-4418-9FB5-EE52B994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F279B-B367-4E33-BB99-92E12494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335CE-0C05-416F-BA7A-941839FE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11C36-21A8-4829-B6D4-1A94A37D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E2816-7E72-4692-BCFD-90F0521B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EE3CC-174A-497C-938F-849267C5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734B3-6EB1-46DA-A401-0A782617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9A2A-4254-422B-AE64-F26DD813F4D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B909-0A24-47EB-ACD9-74E2D90694DA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325-CAFE-49D4-B2C9-F317FE3DDB4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BABB-A018-40DF-B8B5-CF02B49D9697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FE2E-F479-45E3-AE5B-7D65B79018B1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26CD-1BE6-4E5B-843E-E4627C1DE1C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B4C1-9548-4F11-A091-0F0C76ED0DF0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3754-994D-439D-A1F6-D7AE1DBBA8E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207F-2811-4BF5-AAE2-55BAC89B9C66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image" Target="../media/image10.png"/><Relationship Id="rId5" Type="http://schemas.openxmlformats.org/officeDocument/2006/relationships/slide" Target="slide3.xml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png"/><Relationship Id="rId3" Type="http://schemas.openxmlformats.org/officeDocument/2006/relationships/slide" Target="slide5.xml"/><Relationship Id="rId4" Type="http://schemas.openxmlformats.org/officeDocument/2006/relationships/image" Target="../media/image16.png"/><Relationship Id="rId5" Type="http://schemas.openxmlformats.org/officeDocument/2006/relationships/slide" Target="slide6.xml"/><Relationship Id="rId6" Type="http://schemas.openxmlformats.org/officeDocument/2006/relationships/image" Target="../media/image17.png"/><Relationship Id="rId7" Type="http://schemas.openxmlformats.org/officeDocument/2006/relationships/slide" Target="slide5.xml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slide" Target="slide7.xml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3" descr=""/>
          <p:cNvPicPr/>
          <p:nvPr/>
        </p:nvPicPr>
        <p:blipFill>
          <a:blip r:embed="rId1"/>
          <a:stretch/>
        </p:blipFill>
        <p:spPr>
          <a:xfrm>
            <a:off x="1530360" y="1322280"/>
            <a:ext cx="5748480" cy="1768680"/>
          </a:xfrm>
          <a:prstGeom prst="rect">
            <a:avLst/>
          </a:prstGeom>
          <a:ln w="0">
            <a:noFill/>
          </a:ln>
        </p:spPr>
      </p:pic>
      <p:pic>
        <p:nvPicPr>
          <p:cNvPr id="400" name="TextBox 4" descr=""/>
          <p:cNvPicPr/>
          <p:nvPr/>
        </p:nvPicPr>
        <p:blipFill>
          <a:blip r:embed="rId2"/>
          <a:stretch/>
        </p:blipFill>
        <p:spPr>
          <a:xfrm>
            <a:off x="2792520" y="3395520"/>
            <a:ext cx="3857400" cy="6224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6" descr="Безимени-1.png"/>
          <p:cNvPicPr/>
          <p:nvPr/>
        </p:nvPicPr>
        <p:blipFill>
          <a:blip r:embed="rId3"/>
          <a:stretch/>
        </p:blipFill>
        <p:spPr>
          <a:xfrm>
            <a:off x="5500800" y="3929040"/>
            <a:ext cx="1928880" cy="172548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7" descr="Безимени-1.png"/>
          <p:cNvPicPr/>
          <p:nvPr/>
        </p:nvPicPr>
        <p:blipFill>
          <a:blip r:embed="rId4"/>
          <a:stretch/>
        </p:blipFill>
        <p:spPr>
          <a:xfrm>
            <a:off x="3857760" y="4786200"/>
            <a:ext cx="1714320" cy="18162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8" descr="Безимени-1.png"/>
          <p:cNvPicPr/>
          <p:nvPr/>
        </p:nvPicPr>
        <p:blipFill>
          <a:blip r:embed="rId5"/>
          <a:stretch/>
        </p:blipFill>
        <p:spPr>
          <a:xfrm>
            <a:off x="928800" y="4000680"/>
            <a:ext cx="26384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Прямоугольник 1" descr=""/>
          <p:cNvPicPr/>
          <p:nvPr/>
        </p:nvPicPr>
        <p:blipFill>
          <a:blip r:embed="rId1"/>
          <a:stretch/>
        </p:blipFill>
        <p:spPr>
          <a:xfrm>
            <a:off x="2328840" y="2041560"/>
            <a:ext cx="4254480" cy="1817640"/>
          </a:xfrm>
          <a:prstGeom prst="rect">
            <a:avLst/>
          </a:prstGeom>
          <a:ln w="0">
            <a:noFill/>
          </a:ln>
        </p:spPr>
      </p:pic>
      <p:pic>
        <p:nvPicPr>
          <p:cNvPr id="432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34" name="Рисунок 1" descr="Безимени-1.png"/>
          <p:cNvPicPr/>
          <p:nvPr/>
        </p:nvPicPr>
        <p:blipFill>
          <a:blip r:embed="rId1"/>
          <a:stretch/>
        </p:blipFill>
        <p:spPr>
          <a:xfrm>
            <a:off x="857160" y="250020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2" descr="Безимени-1.png"/>
          <p:cNvPicPr/>
          <p:nvPr/>
        </p:nvPicPr>
        <p:blipFill>
          <a:blip r:embed="rId2"/>
          <a:stretch/>
        </p:blipFill>
        <p:spPr>
          <a:xfrm>
            <a:off x="2928960" y="250020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4" descr="Безимени-1.png"/>
          <p:cNvPicPr/>
          <p:nvPr/>
        </p:nvPicPr>
        <p:blipFill>
          <a:blip r:embed="rId3"/>
          <a:stretch/>
        </p:blipFill>
        <p:spPr>
          <a:xfrm>
            <a:off x="7143840" y="257184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5" descr="Безимени-1.png"/>
          <p:cNvPicPr/>
          <p:nvPr/>
        </p:nvPicPr>
        <p:blipFill>
          <a:blip r:embed="rId4"/>
          <a:stretch/>
        </p:blipFill>
        <p:spPr>
          <a:xfrm>
            <a:off x="5072040" y="257184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2382840" y="1871640"/>
            <a:ext cx="4230720" cy="1152720"/>
          </a:xfrm>
          <a:prstGeom prst="rect">
            <a:avLst/>
          </a:prstGeom>
          <a:ln w="0">
            <a:noFill/>
          </a:ln>
        </p:spPr>
      </p:pic>
      <p:pic>
        <p:nvPicPr>
          <p:cNvPr id="439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45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Прямоугольник 1" descr=""/>
          <p:cNvPicPr/>
          <p:nvPr/>
        </p:nvPicPr>
        <p:blipFill>
          <a:blip r:embed="rId1"/>
          <a:stretch/>
        </p:blipFill>
        <p:spPr>
          <a:xfrm>
            <a:off x="2803680" y="1920960"/>
            <a:ext cx="3255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071720" y="14288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 четырех фигур найди лишнюю, которая не подходит к остальным. Нажми на нее левой кнопкой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06" name="Рисунок 5" descr="Безимени-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240" y="2286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6" descr="Безимени-1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29280" y="21430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7" descr="Безимени-1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57840" y="2357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8" descr="Безимени-1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714760" y="2000160"/>
            <a:ext cx="19285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Прямоугольник 1" descr=""/>
          <p:cNvPicPr/>
          <p:nvPr/>
        </p:nvPicPr>
        <p:blipFill>
          <a:blip r:embed="rId1"/>
          <a:stretch/>
        </p:blipFill>
        <p:spPr>
          <a:xfrm>
            <a:off x="2292480" y="1938240"/>
            <a:ext cx="4321080" cy="1189080"/>
          </a:xfrm>
          <a:prstGeom prst="rect">
            <a:avLst/>
          </a:prstGeom>
          <a:ln w="0">
            <a:noFill/>
          </a:ln>
        </p:spPr>
      </p:pic>
      <p:pic>
        <p:nvPicPr>
          <p:cNvPr id="411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500040" y="1643040"/>
          <a:ext cx="8215200" cy="2357640"/>
        </p:xfrm>
        <a:graphic>
          <a:graphicData uri="http://schemas.openxmlformats.org/drawingml/2006/table">
            <a:tbl>
              <a:tblPr/>
              <a:tblGrid>
                <a:gridCol w="2054160"/>
                <a:gridCol w="2052720"/>
                <a:gridCol w="2054160"/>
                <a:gridCol w="2054160"/>
              </a:tblGrid>
              <a:tr h="2357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13" name="Рисунок 2" descr="Безимени-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240" y="214308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3" descr="Безимени-1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0" y="2214720"/>
            <a:ext cx="1785960" cy="13572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" descr="Безимени-1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28960" y="2571840"/>
            <a:ext cx="1357200" cy="114300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5" descr="Безимени-1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929120" y="2071800"/>
            <a:ext cx="1214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Прямоугольник 1" descr=""/>
          <p:cNvPicPr/>
          <p:nvPr/>
        </p:nvPicPr>
        <p:blipFill>
          <a:blip r:embed="rId1"/>
          <a:stretch/>
        </p:blipFill>
        <p:spPr>
          <a:xfrm>
            <a:off x="2146320" y="1785960"/>
            <a:ext cx="4181400" cy="1201680"/>
          </a:xfrm>
          <a:prstGeom prst="rect">
            <a:avLst/>
          </a:prstGeom>
          <a:ln w="0">
            <a:noFill/>
          </a:ln>
        </p:spPr>
      </p:pic>
      <p:pic>
        <p:nvPicPr>
          <p:cNvPr id="418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0" name="Рисунок 3" descr="Безимени-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57840" y="2714760"/>
            <a:ext cx="1571400" cy="96048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Безимени-1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6720" y="2714760"/>
            <a:ext cx="1636560" cy="1000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5" descr="Безимени-1.png"/>
          <p:cNvPicPr/>
          <p:nvPr/>
        </p:nvPicPr>
        <p:blipFill>
          <a:blip r:embed="rId5"/>
          <a:stretch/>
        </p:blipFill>
        <p:spPr>
          <a:xfrm>
            <a:off x="811080" y="2714760"/>
            <a:ext cx="1689120" cy="103176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6" descr="Безимени-1.png"/>
          <p:cNvPicPr/>
          <p:nvPr/>
        </p:nvPicPr>
        <p:blipFill>
          <a:blip r:embed="rId6"/>
          <a:stretch/>
        </p:blipFill>
        <p:spPr>
          <a:xfrm>
            <a:off x="2857680" y="2571840"/>
            <a:ext cx="165564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2968560" y="2000160"/>
            <a:ext cx="3681360" cy="1144800"/>
          </a:xfrm>
          <a:prstGeom prst="rect">
            <a:avLst/>
          </a:prstGeom>
          <a:ln w="0">
            <a:noFill/>
          </a:ln>
        </p:spPr>
      </p:pic>
      <p:pic>
        <p:nvPicPr>
          <p:cNvPr id="425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7" name="Рисунок 2" descr="Безимени-1.png"/>
          <p:cNvPicPr/>
          <p:nvPr/>
        </p:nvPicPr>
        <p:blipFill>
          <a:blip r:embed="rId1"/>
          <a:stretch/>
        </p:blipFill>
        <p:spPr>
          <a:xfrm>
            <a:off x="4929120" y="2286000"/>
            <a:ext cx="1500120" cy="14288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3" descr="Безимени-1.png"/>
          <p:cNvPicPr/>
          <p:nvPr/>
        </p:nvPicPr>
        <p:blipFill>
          <a:blip r:embed="rId2"/>
          <a:stretch/>
        </p:blipFill>
        <p:spPr>
          <a:xfrm>
            <a:off x="2928960" y="2214720"/>
            <a:ext cx="1285920" cy="15714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" descr="Безимени-1.png"/>
          <p:cNvPicPr/>
          <p:nvPr/>
        </p:nvPicPr>
        <p:blipFill>
          <a:blip r:embed="rId3"/>
          <a:stretch/>
        </p:blipFill>
        <p:spPr>
          <a:xfrm>
            <a:off x="714240" y="2428920"/>
            <a:ext cx="1357560" cy="12142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5" descr="Безимени-1.png"/>
          <p:cNvPicPr/>
          <p:nvPr/>
        </p:nvPicPr>
        <p:blipFill>
          <a:blip r:embed="rId4"/>
          <a:stretch/>
        </p:blipFill>
        <p:spPr>
          <a:xfrm rot="15914400">
            <a:off x="7122960" y="2349360"/>
            <a:ext cx="12859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4:25:34Z</dcterms:created>
  <dc:creator>ОЕМ</dc:creator>
  <dc:description/>
  <dc:language>en-US</dc:language>
  <cp:lastModifiedBy>Галина</cp:lastModifiedBy>
  <dcterms:modified xsi:type="dcterms:W3CDTF">2013-11-04T09:32:23Z</dcterms:modified>
  <cp:revision>7</cp:revision>
  <dc:subject/>
  <dc:title>Слайд 1</dc:title>
</cp:coreProperties>
</file>