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56FF-6E97-4AA0-9344-E5BE683DC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A26E-B4D5-4D6F-9EE0-8D19684B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0AC8-C4ED-47AA-9DDF-FA7B83A9C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929A-693D-48B8-B982-DBAB7D6CE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5F65-5E8D-4486-A778-B8DF488F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161F-C2DF-4FAD-BE65-85245EC0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D984-3DB7-45C5-BBDE-FBA5EBD9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4C10-3038-4CE4-8A56-AE97715F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B44B-1DCC-4B6F-B06A-B7D40EBF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5656-6976-4E2C-B389-F16FB526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5B88-3773-445E-909C-BEAA4CB7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F8D2-C609-46CF-8F0C-ADC97218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8A02-45B5-49D4-8B86-73912BC700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468360" y="333360"/>
            <a:ext cx="3152880" cy="119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Болота Карел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3"/>
          <a:stretch/>
        </p:blipFill>
        <p:spPr>
          <a:xfrm>
            <a:off x="4284720" y="189000"/>
            <a:ext cx="4273560" cy="3222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"/>
          <p:cNvPicPr/>
          <p:nvPr/>
        </p:nvPicPr>
        <p:blipFill>
          <a:blip r:embed="rId4"/>
          <a:stretch/>
        </p:blipFill>
        <p:spPr>
          <a:xfrm>
            <a:off x="4284720" y="3573360"/>
            <a:ext cx="4224240" cy="30225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7"/>
          <p:cNvSpPr/>
          <p:nvPr/>
        </p:nvSpPr>
        <p:spPr>
          <a:xfrm>
            <a:off x="179280" y="2008080"/>
            <a:ext cx="38880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отами занято 3,6 млн. га (20% территории Карелии), кроме того, имеется более 1,8 млн. га заболоченных лес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ляющие характерную часть ландшафта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" dur="1" fill="hold"/>
                                  <p:tgtEl>
                                    <p:spTgt spid="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5003640" y="208080"/>
            <a:ext cx="3816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читывается около 6500 болот. Распределены они неравномерно: в одних районах их совсем немного (например, на севере Западно-Карельской возвышенности и на горном кряже Ветреный пояс - около 10%); в других районах они покрывают землю почти сплошным ковром, оставляя незаболоченными лишь узкие полосы вдоль рек (Прибеломорская низменность, Олонецкая равнина), и образуют торфяные бассейны. Так, в Прибеломорской низменности болота занимают до 80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ы болот колеблются от 5 до 10000 га и более. Доминируют болота площадью от 100 до 300 г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2543400" y="304920"/>
            <a:ext cx="2145240" cy="3373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спублика Карел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3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42688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11"/>
          <p:cNvPicPr/>
          <p:nvPr/>
        </p:nvPicPr>
        <p:blipFill>
          <a:blip r:embed="rId1"/>
          <a:stretch/>
        </p:blipFill>
        <p:spPr>
          <a:xfrm>
            <a:off x="468360" y="260280"/>
            <a:ext cx="7991280" cy="4440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539640" y="5079600"/>
            <a:ext cx="792000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mic Sans MS"/>
              </a:rPr>
              <a:t>Большое количество болот в Карелии, свидетельствует о ледниковой деятельности. . Болота образовались: в результате зарастания лесных ламб; заболачивания пониженных участков ледниковыми водами; на побережье послеледниковых озёр, в результате уменьшения их в размерах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36"/>
          <p:cNvPicPr/>
          <p:nvPr/>
        </p:nvPicPr>
        <p:blipFill>
          <a:blip r:embed="rId1"/>
          <a:stretch/>
        </p:blipFill>
        <p:spPr>
          <a:xfrm>
            <a:off x="395280" y="333360"/>
            <a:ext cx="820908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376200" y="5032440"/>
            <a:ext cx="822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Низинные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бол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итаемые грунтовыми водами и поверхностным стоком. Их растительный покров составляют кустарники, осоки, камыш, тростни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634680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519120" y="53928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Верховые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бол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итаемые атмосферными осадками — низкие купола сфагновых мхов с кустарничками голубики, морошки, клюквы, багульн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6215400" cy="49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447840" y="5032440"/>
            <a:ext cx="8156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Переходные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бол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четают черты низинных и верховых, являются самыми распространенными в Карел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быточно увлажненные почвы (болотные, торфяны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отная раститель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ичие валеж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619272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592200" y="3429000"/>
            <a:ext cx="8156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лота разнообразны и внешн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одоемы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тянутые сверху густым переплетением раст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моховые кочковатые бол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водоразделах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аболоченные сосновые лес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серо-зеленые пространства, покрытые болотным мхом с редкими чахлыми березами и соснам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участки белой пушиц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меж которых поблескивают темные лужи, подернутые по краям ряс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2" descr="header_img.jpg"/>
          <p:cNvPicPr/>
          <p:nvPr/>
        </p:nvPicPr>
        <p:blipFill>
          <a:blip r:embed="rId1"/>
          <a:stretch/>
        </p:blipFill>
        <p:spPr>
          <a:xfrm>
            <a:off x="179280" y="260280"/>
            <a:ext cx="86043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468360" y="404640"/>
            <a:ext cx="8280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начение боло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ота питают реки, сохраняя в них уровень    во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рф используется  в качестве ценного удобрения для полей при выращивании сельскохозяйственных культур.  Высушенный и размельченный торф идет на подстилку скот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5T08:01:54Z</dcterms:created>
  <dc:creator>География</dc:creator>
  <dc:description/>
  <dc:language>en-US</dc:language>
  <cp:lastModifiedBy>Admin</cp:lastModifiedBy>
  <dcterms:modified xsi:type="dcterms:W3CDTF">2011-11-05T06:13:58Z</dcterms:modified>
  <cp:revision>5</cp:revision>
  <dc:subject/>
  <dc:title>Слайд 1</dc:title>
</cp:coreProperties>
</file>