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30F-8FEE-472C-BA8C-D4B55453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0EA-1F8A-4FA4-A8ED-20C3E54A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E34-5DF2-4F29-ACBC-B99957D0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558-E451-42C5-917C-313D4CA7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CAC8-84D5-4845-B362-F4AB9399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9E2C-6B93-4DC8-A48B-EC4078D8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AC92-9FA3-4020-98EF-4917FF61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FCC1-0F3D-4420-84E1-A371DBCE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D0A7-6F0B-4D69-88F1-8706E719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E8AC-1B22-4D89-B109-ACB39B73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8BE5-CF45-4FC0-A7D7-304E7FD7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2EB-AF91-4410-A40C-8A2BF1AC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CB5C-F659-48D0-B74E-FC72B26B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6852-4ADE-4B12-9411-2A95459A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9696-D6C0-494B-9464-96B01C5A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5996-81A7-4FDA-BB5A-C5D267ED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5078-A39A-40A4-B69D-6B37CB55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A46F9-4CA5-4BF8-B115-DF6F3A38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E3CE9-0CD8-45E6-A13B-D3893692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FBEA6-492E-461A-88F2-B1223075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D7F61-F820-4331-B2B5-98503248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EA613-58C7-4B86-94AF-63A9DB94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1DF-86CC-4B27-A132-BA251894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F5389-F765-46D8-932E-E1E597A1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209D2-52A4-4B8C-B057-64F7A0F6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F54F0-BC9A-4FA0-BBC2-5EE3760D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33422-ECF3-44F9-82EE-AA10BE25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30059-14C8-4534-AC18-061A6402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D85BD-0A5D-43DB-BF49-02AAB0AE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D5AA6-EC83-4502-8923-05C3C674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6720-7ADA-4AEB-8E76-87B075C6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D781C-6D17-4F5F-ACE3-88F90561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C1A8-69D9-453F-947A-FE6D8149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36C-6D60-422F-8536-1BA6095D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85F4-2171-4EA1-8C62-B0D7704E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65191-6B96-4CD8-8A10-BCAB84CE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3C0AA-2AA4-4B6A-99B0-2F6C4D9C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C180-6AAC-4E70-A671-A006335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F8285-324A-4347-A5F7-DAC5E72B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48B4B-AC75-4FF3-915D-0B7F5565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3282-C56C-49F0-80D1-E51A38A8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919F2-C79A-4DB4-B8D2-9E7A04B1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8298C-4E48-4021-B227-E55A6511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17D13-ABA7-4ECD-9249-CDEE8E40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98D-2983-4543-B39E-841BBC39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BD9C9-3FA2-4AA3-BE0B-31BEB513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DDB13-306A-46EA-87CD-318B96E8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33037-F1B3-4562-9924-3FAC95B2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78A83-DB4E-4109-B6D5-CDCD1C61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78E42-18F4-48E0-848A-A3ED3338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50E01-7C7F-4679-B3E1-97B5352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CC8B4-F1E7-447B-AA7B-F176B00A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25275-1444-4771-9ABD-B94CDC7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38933-1A4A-4A7B-9530-8A694E7D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D0332-D1B2-4E31-85D4-527431EB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A43-E0F5-4A82-BEA1-38D64E34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3E940-DE50-4B7A-A789-749B6154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4F33F-E774-4774-A8F4-7ECFB497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3AA60-2B76-4340-8D8C-9DCFB391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33321-8480-4D36-93ED-B436A5A5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F021C-3D3C-42E8-8C94-E1793AA0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91822B-EAD2-4E29-B74D-FE30AC8A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905C5-0B97-47F3-9DA6-621993A1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DE882-FCD9-48C6-8E36-E38887D6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D93FC-E528-433D-B20B-46926807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2CF6A-A0B8-4215-B077-0435458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A69-A6A7-4197-A4EB-2DC18C8F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20174-DDB2-4628-ABEB-15C194E0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D2751D-1C5F-427F-B5CE-977D654A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7C5EF-78E3-40C3-A7B8-581F90B5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603DE-A3AA-4DD1-ADC4-87319981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7C0B0-57DF-4D42-9F71-F9848BC7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8546D-CCC0-45BD-B15B-35186C4E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91411-E193-422A-9052-8F350AB3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984AAB-459F-46A0-BC46-BC4272C8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548E2-8A2F-4C41-A4F4-808ED8B3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60C79-FBE8-47A8-8A35-54491765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A4C-6C77-48F7-8376-FD9BC615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54B0E-E1C9-43B2-AB80-6A6EBB71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25FCE-B7EA-4503-BCC2-0904A5E0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8F9AA-A212-42B9-A59C-9CB89757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76683-AE16-4866-AF00-8D2FFE20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DB4AB-6A14-4CC1-8A04-AEFDDB82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64C-3CC2-4A97-A94C-16A6DE34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A786-F604-46EF-B093-7C74025084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80A4-30DA-4446-9ADF-8D31C9AB5BB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11BD-EC77-40BA-AF4E-4F838C32D98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4F35-0BBE-481D-AD65-077852D315C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C995-BC78-40CB-A79B-ADEDF51CD8E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C8EA-D491-483D-B5C6-8E144D0FFB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37DF-0EDC-4329-8FA4-677F022CEC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55640" y="1196640"/>
            <a:ext cx="6048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AGPresquire"/>
              </a:rPr>
              <a:t>ТРИГОНОМЕТРИЯ ВОКРУГ НА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724000" y="3141720"/>
            <a:ext cx="3024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Выполнила: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Ученица 11 «А» класс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Дахова Ангелин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Преподаватель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учитель математик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Белецкая Галина Леонидовн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2771640" y="6093000"/>
            <a:ext cx="32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Прохлад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9-2021 г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24000" y="188640"/>
            <a:ext cx="84312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ктуальность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данного исследования состоит в том, что решение данной проблемы может вызвать интерес у учащихся к предмету математика,  повысить первичный балл результата экзамена, поможет найти правильное решение в жизненных ситуациях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актическая значимость работы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результаты данного исследования могут использовать учителя математики в работе по развитию и повышению интереса учащихся к предмету, учащиеся и их родители при решении практических задач в повседневной жизни сельского жителя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Цель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: развитие интереса к изучению темы «Тригонометрия» в курсе алгебры и начала анализа» через призму прикладного значения изучаемого материала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C:\Documents and Settings\учитель\Рабочий стол\лю-и-с-вопросом-метафора-сыгранности-33594500.jpg"/>
          <p:cNvPicPr/>
          <p:nvPr/>
        </p:nvPicPr>
        <p:blipFill>
          <a:blip r:embed="rId1"/>
          <a:stretch/>
        </p:blipFill>
        <p:spPr>
          <a:xfrm>
            <a:off x="6227640" y="3213000"/>
            <a:ext cx="2378160" cy="193212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9"/>
          <p:cNvSpPr/>
          <p:nvPr/>
        </p:nvSpPr>
        <p:spPr>
          <a:xfrm>
            <a:off x="250920" y="3573360"/>
            <a:ext cx="69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 Изучить историю возникновения и развития тригоно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казать на конкретных примерах практические приложения тригонометрии в различных на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Раскрыть на конкретных примерах возможности использования тригонометрии в жизни кажд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Проанализировать и систематизировать накопленный 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GPresquire"/>
              </a:rPr>
              <a:t>БИОРИТ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6" descr=""/>
          <p:cNvPicPr/>
          <p:nvPr/>
        </p:nvPicPr>
        <p:blipFill>
          <a:blip r:embed="rId1"/>
          <a:stretch/>
        </p:blipFill>
        <p:spPr>
          <a:xfrm>
            <a:off x="1542960" y="1620720"/>
            <a:ext cx="607716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GPresquire"/>
              </a:rPr>
              <a:t>ЗАКЛЮ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3640" y="1699920"/>
            <a:ext cx="83581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актическая значимость работы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езультаты данного исследования могут использовать учителя математики в работе по повышению интереса учащихся к предмет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заключении можно сказать, что я подтвердила выдвинутую мной гипотезу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вязь тригонометрии с окружающим миром, значение тригонометрии в решении многих практических задач, графические возможности тригонометрических функций позволяют «материализовать» знания школьников, позволяет лучше понять жизненную необходимость знаний, приобретаемых при изучении тригонометрии, повышает интерес к изучению данной тем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елецкая Г.Л.</cp:lastModifiedBy>
  <dcterms:modified xsi:type="dcterms:W3CDTF">2021-03-24T06:03:24Z</dcterms:modified>
  <cp:revision>6</cp:revision>
  <dc:subject/>
  <dc:title>Тригонометрия вокруг нас</dc:title>
</cp:coreProperties>
</file>