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1651-DD25-40BE-BBCF-9097D4F7C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F478-EDDD-4690-ADAB-E7B8FB75F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5F97-7791-4C17-9D32-F08A907BC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031B-9A45-4553-A417-776553F77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BDCEB-CA64-4D1D-8166-533ED127E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0054C-A95C-49DF-B67E-E0A8682AE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D2B26-3B22-413A-B1C8-B016AC5EE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94B2D-B555-476E-80C0-B90647C53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AEAD0-906C-47DC-AC04-75DA75703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71370-A71C-4973-8D53-9248BB227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3AE83-158C-43C6-92B3-FBB9F7EAE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6C47-966C-47B0-B2D8-E5B259952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249CB-399F-44E2-90BC-B6CA34B3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5DA67-1FE9-47AE-A290-790CE38BD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37484-55E3-4D70-AFBC-E152D63B3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F1DF4-FAEA-48B2-9AF2-83334B918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C9391-01C5-40B5-8AE9-88DF7A736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8FE643-A76A-4B58-9F2F-5724B5F39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BAD5AF-7777-456F-A336-0D0A41370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231027-A1EA-48A6-B771-254D2C20B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CD316D-05DA-40A0-A5D5-D372B62FD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12DF8F-F3EF-4469-8D17-F7A09BAAA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5A36-3BC3-4FD2-8A01-C0A8FA720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7BC185-12C5-4D43-9C3D-FEAB6AB05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9A2EC1-9BAA-4C34-95F7-03D0DD896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BB8AB3-7ECB-4E91-BA75-DE64AE007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725A56-30CA-4702-BD65-947B20F57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572036-AA23-47A3-8E78-486A2300D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DF7D40-75DB-41FF-A6AF-9802AB887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22A3A8-9039-4D84-9E23-7E7D59D16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B98975-11EC-4726-8B34-620D22A51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0F927-62C0-46B4-A7A4-F1B3DF7DC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33529-BA8C-497B-820D-A2C5A4D9A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6CB2-511F-44BB-B853-7B2EDB5A7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CBB6E-8A8F-4070-9DE8-05F248086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AE55C-7E63-45A6-869B-A34092858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57263-6B95-4DFC-B8B3-A6599F75D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CECEE-FA40-4C87-9352-C89ACDF1D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1093F-C418-4649-A208-A984106AA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32DF8-FD32-4826-BBCF-071A6A4D5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2348F-323E-4793-8575-E61185518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868DE-4B4C-49AA-AD05-0E251BA1B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21A43-D3AF-4DC3-9408-00D964058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B0C8F1-664C-48C8-B924-A407F2828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DE0B-4372-4E38-82E8-4565686CD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F81363-0504-466B-925A-DA4C5806D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A47B4E-F056-433E-9A91-8DD91D4E4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BFF165-BAC0-4326-B2B9-4A8A8F86A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976F5B-06E6-41AF-B626-DE6B5EA77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4C5BB6-E391-47F3-BCD0-78CA56523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502BA6-9BFC-4289-A68E-264563C63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92DA98-6237-4EC8-9A83-18666A1BC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38A00A-5F5B-419A-ABFD-0450C516A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B9480B-7C24-4F85-970F-472F92224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E99DB3-67A3-4286-8ADF-F5F5C6EAB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2382-48D3-490A-84F0-036264A5C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E99B5C-F555-4D51-A245-0E44ED156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204E88-4655-4858-9EEC-DA9464B1A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38E366-72B2-4CED-9395-7D313EF24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FBE030-BB13-4DED-A0DF-5E9AC3F8D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E16DFA-4CD6-4FA9-8DC0-05C347BB9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89C8E7-989B-4519-85CC-7E8E71B09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1A7800-0400-436F-98C2-FFD8E4BE6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9AF89A-3FA5-4C9A-AB58-156FA6D98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43B7DE-7EC8-455E-AFC8-4842359DE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E2D626-F239-4DFD-8BA2-25040C3A5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F0FF-7483-47CB-8D81-5B0861135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631BA2-B2A6-4F48-822A-D79D1E293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586DDB-698C-48C6-BCD3-A55F6BDE2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7C37BD-115A-489E-8FDA-52C43F9C4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25DD28-485D-42E1-940D-7B4310555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FE0E5F-585F-4888-82B6-3B6A41FDC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120D11-1FFE-4BB5-9AD2-7E3367D99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348992-3493-4A38-B917-BD3BFD546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D38B7F-A60F-4181-B0E2-2F70E57A2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CCFB18-5795-4C43-B69D-C9305D2F9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AB4CE2-8D1A-48B4-8B0E-BE5DD735A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767B-1DDA-402C-8029-D6149BC69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F263C1-9C8E-492A-B2FA-9C71D722D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3104B2-4D25-4254-AF66-C2B6986C5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9CE12B-96C0-438A-B363-1559CA2C0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3AFD08-5EE9-4135-B7FF-DD0E61DB5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D654EE-22CE-415A-83FC-D2B89A475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2B71-EF16-46BE-8556-2315AB282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3CF9A-1A54-4777-B0DB-B772BDD82F6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0DACF-5889-4C22-8119-718A26AFD07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F5CFD-16FE-4027-B241-94BFDC826A6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D9094-6789-4AA4-8C07-13A3D6DCD1E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5B67E-03F0-434F-8C91-A589255447E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1CECA-4BF0-41AE-8077-0DC3718A1B1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B31CB-7E0D-4EDD-8BE1-2F28A5C3CA7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555640" y="1196640"/>
            <a:ext cx="604836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AGPresquire"/>
              </a:rPr>
              <a:t>ТРИГОНОМЕТРИЯ ВОКРУГ НАС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5724000" y="3141720"/>
            <a:ext cx="3024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75f6d"/>
                </a:solidFill>
                <a:latin typeface="Century Schoolbook"/>
              </a:rPr>
              <a:t>Выполнила: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75f6d"/>
                </a:solidFill>
                <a:latin typeface="Century Schoolbook"/>
              </a:rPr>
              <a:t>Ученица 11 «А» класса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75f6d"/>
                </a:solidFill>
                <a:latin typeface="Century Schoolbook"/>
              </a:rPr>
              <a:t>Дахова Ангелина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75f6d"/>
                </a:solidFill>
                <a:latin typeface="Century Schoolbook"/>
              </a:rPr>
              <a:t>Преподаватель: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1" lang="ru-RU" sz="1400" spc="-1" strike="noStrike">
                <a:solidFill>
                  <a:srgbClr val="575f6d"/>
                </a:solidFill>
                <a:latin typeface="Century Schoolbook"/>
              </a:rPr>
              <a:t>учитель математики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75f6d"/>
                </a:solidFill>
                <a:latin typeface="Century Schoolbook"/>
              </a:rPr>
              <a:t>Белецкая Галина Леонидовна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TextBox 3"/>
          <p:cNvSpPr/>
          <p:nvPr/>
        </p:nvSpPr>
        <p:spPr>
          <a:xfrm>
            <a:off x="2771640" y="6093000"/>
            <a:ext cx="324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. Прохлад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9-2021 г.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324000" y="188640"/>
            <a:ext cx="84312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Актуальность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данного исследования состоит в том, что решение данной проблемы может вызвать интерес у учащихся к предмету математика,  повысить первичный балл результата экзамена, поможет найти правильное решение в жизненных ситуациях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Практическая значимость работы: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результаты данного исследования могут использовать учителя математики в работе по развитию и повышению интереса учащихся к предмету, учащиеся и их родители при решении практических задач в повседневной жизни сельского жителя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Цель исследования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: развитие интереса к изучению темы «Тригонометрия» в курсе алгебры и начала анализа» через призму прикладного значения изучаемого материала;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4" descr="C:\Documents and Settings\учитель\Рабочий стол\лю-и-с-вопросом-метафора-сыгранности-33594500.jpg"/>
          <p:cNvPicPr/>
          <p:nvPr/>
        </p:nvPicPr>
        <p:blipFill>
          <a:blip r:embed="rId1"/>
          <a:stretch/>
        </p:blipFill>
        <p:spPr>
          <a:xfrm>
            <a:off x="6227640" y="3213000"/>
            <a:ext cx="2378160" cy="1932120"/>
          </a:xfrm>
          <a:prstGeom prst="rect">
            <a:avLst/>
          </a:prstGeom>
          <a:ln w="0">
            <a:noFill/>
          </a:ln>
        </p:spPr>
      </p:pic>
      <p:sp>
        <p:nvSpPr>
          <p:cNvPr id="357" name="Прямоугольник 9"/>
          <p:cNvSpPr/>
          <p:nvPr/>
        </p:nvSpPr>
        <p:spPr>
          <a:xfrm>
            <a:off x="250920" y="3573360"/>
            <a:ext cx="6913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чи исследова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  Изучить историю возникновения и развития тригонометр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Показать на конкретных примерах практические приложения тригонометрии в различных наук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 Раскрыть на конкретных примерах возможности использования тригонометрии в жизни каждого челов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 Проанализировать и систематизировать накопленный материа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AGPresquire"/>
              </a:rPr>
              <a:t>БИОРИТМЫ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9" name="Содержимое 6" descr=""/>
          <p:cNvPicPr/>
          <p:nvPr/>
        </p:nvPicPr>
        <p:blipFill>
          <a:blip r:embed="rId1"/>
          <a:stretch/>
        </p:blipFill>
        <p:spPr>
          <a:xfrm>
            <a:off x="1542960" y="1620720"/>
            <a:ext cx="6077160" cy="32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AGPresquire"/>
              </a:rPr>
              <a:t>ЗАКЛЮЧЕНИЕ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323640" y="1699920"/>
            <a:ext cx="835812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Практическая значимость работы: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результаты данного исследования могут использовать учителя математики в работе по повышению интереса учащихся к предмету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В заключении можно сказать, что я подтвердила выдвинутую мной гипотезу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Связь тригонометрии с окружающим миром, значение тригонометрии в решении многих практических задач, графические возможности тригонометрических функций позволяют «материализовать» знания школьников, позволяет лучше понять жизненную необходимость знаний, приобретаемых при изучении тригонометрии, повышает интерес к изучению данной темы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Белецкая Г.Л.</cp:lastModifiedBy>
  <dcterms:modified xsi:type="dcterms:W3CDTF">2021-03-24T06:03:24Z</dcterms:modified>
  <cp:revision>6</cp:revision>
  <dc:subject/>
  <dc:title>Тригонометрия вокруг нас</dc:title>
</cp:coreProperties>
</file>