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F60-4FA2-44E8-9EFC-8983EF1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033-DE8E-4F8A-AF7D-F034EB9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83E6-1877-49D6-9E04-BE22D7D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86F1D-EF0C-4418-BD45-76861ADD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BFB75-8FAE-4479-9667-0BD881A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AC06-BDD3-4FB2-BA83-6B8C610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E264-5EFB-4B0D-BFB4-31502C6E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CEE74-868B-46A5-83C9-55E7D0F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A204-47E0-4332-904E-00B5FFA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D0E99-F849-46D2-8E24-F909B196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41EB-A1DF-4B05-952B-2ACEFE2F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D1D-4DAE-4AE1-B7AF-C7371EB8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40E-0563-4A7D-813D-BC1E2FBC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7053-A149-4FFA-B60C-41320BA0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6878-33D6-4169-9452-337CDDD3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A2E1-3C09-4DC9-8E05-A3E3C66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57B-21F2-4308-BDCD-CAF33B4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3CB-AD37-4E89-9F21-3084DE77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3A3-B5B2-4FEC-808E-18F13C1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7EEE-5AEA-4BD9-9314-45E6741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705-C3F6-4B11-8174-3F2651C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BC26-1CB4-4303-9B23-C72B0A1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FB1-F568-4239-A179-AE0DD9B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88FB-0C72-4E13-B427-3CEF07F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7E61-DA59-4D32-98E1-7E9D8C07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FEAE-7119-46D5-879C-D77D4678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AF97-DEDA-43F0-B4CF-CF169708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D86B-D52C-4232-9D47-9A3B557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AA4D-14B1-44F0-A018-94246AC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43F0-7ED1-4360-A4BB-267F8A2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C549-40AA-4C64-8646-7583F2BA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FDF-F7DD-4A5B-9B49-9DD8CD3C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F705-E202-4B95-8E93-88F8E94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B9E9-91D2-4EFA-B13B-9BA24AE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9367-132E-423E-85B5-3AB375A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FB46-1CA4-4C0F-BB91-A9D4DD9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56A4-353A-49CA-B45D-6B19E96B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8002-72EC-4B07-9611-CA6DB917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5928-5048-49D1-9686-CBAF5432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05FF-1B88-4120-9739-BF851617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8501-737B-4661-8166-87837FC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0061-C7CD-4384-80A7-C7A864C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062-A570-42DC-BF76-31536AB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7A1B-EA29-4EAB-92A0-90552DA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3DE0-5DE5-424B-B553-466243FE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632B-E6A4-4D92-96CE-037431B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7CB2-B6A3-4E2C-ABCE-CE3C3742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EADD-A468-4A8F-8F25-819AD42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D101-D1BA-445D-8B7F-BD84CEC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C40A-BC1D-48CD-8BC1-A0F14BB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55A7-B321-41FA-8BA6-A60CB998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A4DF-38F0-4431-9967-6D2B1ED2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24A0-6B9C-4415-B6AE-B733BB52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28F-082A-4016-A592-A40F1D7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69F7-DE56-45BF-AB56-B735C10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520B-32A3-476C-9239-20B037B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D5EC8-5C86-429D-88BA-1811498A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C15E-858C-4196-941D-45A6A616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F93E-3E62-4CC1-987A-C16184DF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DC83-C118-4E33-9081-FAFDDB4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1A13-ACA7-452E-89DA-5E7A5F3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1F8B-4527-49C1-AF6F-ACD01BD2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03E1-F7E3-4100-80FD-1F410422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CFD7-C69C-4F74-B92D-3C500B67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C6B-4BAA-463F-90D9-A28AA6A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C80A-D1EC-4173-8DF1-D7440883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96C9-DDA8-4E0E-AFBD-EF588693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2B90-0F46-493F-961B-E65CF315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C2D9-AED6-44E2-BD81-4971EC5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93A7-3009-4A75-8773-0309E6E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A163-6BFC-4813-A74A-4FBA161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3C92-F0DA-4773-8A9A-E8EBAA6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46D0-5D39-4164-A162-0D2A571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7869-AD2D-417A-BF78-B70249A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49CF-4421-49E6-AB27-C8E4076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1C4-40E3-4345-81D2-7EB88DA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3F31-1325-4565-AA28-DF7E10A9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D411D-E136-4777-B396-B08215CD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B4BA-8045-40DE-A645-5739B3DA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9A6C-2D8F-43D8-907C-31147ABF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9A61-F93D-4DE2-8B0B-BA92B487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BC69-213B-4452-89BB-ADE7BD0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433C-576A-4D02-B86A-E0717DA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08E84-917E-44FB-9F0B-1E0F655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4140-F351-410A-8AA4-5DCC3EB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4AEFD-77F5-4C49-9209-9A92CE8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387-52B8-47B1-BCC8-BA4E99E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A9132-1A3D-4590-8AC4-177442B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F08C-5C8B-4C5A-BB5F-1B44530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FB6E-8FDF-480B-9AD0-98B0FBC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3B2B-5128-48D8-8949-DE8C0701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4436A-420E-4347-8670-1387096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FEA5-B72A-43C0-8374-6C77513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8D41-317F-4812-A874-3835A933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C1E9-E7EA-48F9-8D99-019BDFB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BCEA-C8E3-4E45-B225-3CF3D07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0F71-3865-4509-B771-39DD6AE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1C0-0029-4CFF-ACF1-57A130C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4D6EA-6904-4E35-9475-C96F989C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96BB-EEC2-4D2D-B9BA-4E2AF3D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7F01-596E-4800-A92A-6C31A35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23995-EBBD-4AC7-BCE3-99633EC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1F97C-94E7-441B-AF4B-970382B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9508-844F-4A50-82D4-564B255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F5B5-92BD-4AC9-AD2C-CAF0BF2F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72656-72EF-4252-BBE4-02EF0C04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C9B5B-E411-4D07-A37E-7F591BB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EE377-A627-4F25-B8B4-D2BC092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0760-1373-46CD-AB73-7CCE69FA0A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93E7-9BEF-40CD-B560-73B33948B9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2E2-B367-4CEF-B246-7AC69BA31E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4B9F-B43B-4C6B-8829-23E6C391A4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7056-92C1-409D-AF55-97AFDADE7E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2D7-BC65-4DF2-B649-7209D8C54B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459-6468-408A-83ED-44620AF827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3512-B457-4796-A4A6-1991EF276A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A668-210A-43FE-BDEA-8F19EBD061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714240" y="642960"/>
            <a:ext cx="784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Декоративно-приклад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искусство и чело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2000160" y="4572000"/>
            <a:ext cx="6357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500040" y="28584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Декоративно-прикладное искусство</a:t>
            </a:r>
            <a:r>
              <a:rPr b="0" lang="en-US" sz="2400" spc="-1" strike="noStrike">
                <a:solidFill>
                  <a:srgbClr val="624139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раздел декоративного искусства; охватывает ряд отраслей творчества, которые посвящены созданию художественных изделий, предназначенных главным образом для б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&amp;Kcy;&amp;acy;&amp;rcy;&amp;tcy;&amp;icy;&amp;ncy;&amp;kcy;&amp;acy; 23 &amp;icy;&amp;zcy; 153324"/>
          <p:cNvPicPr/>
          <p:nvPr/>
        </p:nvPicPr>
        <p:blipFill>
          <a:blip r:embed="rId1"/>
          <a:stretch/>
        </p:blipFill>
        <p:spPr>
          <a:xfrm>
            <a:off x="2143080" y="3787920"/>
            <a:ext cx="4143600" cy="3070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&amp;Kcy;&amp;acy;&amp;rcy;&amp;tcy;&amp;icy;&amp;ncy;&amp;kcy;&amp;acy; 13 &amp;icy;&amp;zcy; 153324"/>
          <p:cNvPicPr/>
          <p:nvPr/>
        </p:nvPicPr>
        <p:blipFill>
          <a:blip r:embed="rId2"/>
          <a:stretch/>
        </p:blipFill>
        <p:spPr>
          <a:xfrm>
            <a:off x="357120" y="2154240"/>
            <a:ext cx="3071880" cy="1989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&amp;Kcy;&amp;acy;&amp;rcy;&amp;tcy;&amp;icy;&amp;ncy;&amp;kcy;&amp;acy; 16 &amp;icy;&amp;zcy; 153324"/>
          <p:cNvPicPr/>
          <p:nvPr/>
        </p:nvPicPr>
        <p:blipFill>
          <a:blip r:embed="rId3"/>
          <a:stretch/>
        </p:blipFill>
        <p:spPr>
          <a:xfrm>
            <a:off x="5072040" y="2143080"/>
            <a:ext cx="3214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142920" y="3571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3227"/>
                </a:solidFill>
                <a:latin typeface="Arial"/>
              </a:rPr>
              <a:t>Основные виды декоративно-прикладного искус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285840" y="12859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1. Ба́тик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 — ручная роспись по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&amp;Fcy;&amp;acy;&amp;jcy;&amp;lcy;:White Peacock.JPG"/>
          <p:cNvPicPr/>
          <p:nvPr/>
        </p:nvPicPr>
        <p:blipFill>
          <a:blip r:embed="rId1"/>
          <a:stretch/>
        </p:blipFill>
        <p:spPr>
          <a:xfrm>
            <a:off x="4143240" y="1857240"/>
            <a:ext cx="4643640" cy="46054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-142920" y="564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влины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ёна Ле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214200" y="357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2. Гобеле́н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фр. </a:t>
            </a:r>
            <a:r>
              <a:rPr b="0" i="1" lang="ru-RU" sz="2400" spc="-1" strike="noStrike">
                <a:solidFill>
                  <a:srgbClr val="624139"/>
                </a:solidFill>
                <a:latin typeface="Arial"/>
              </a:rPr>
              <a:t>gobelin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), или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шпалер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 — один из видов декоративно-прикладного искусства, стенной односторонний безворсовый ковёр с сюжетной или орнаментальной композицией, вытканный вручную перекрёстным переплетением ни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&amp;Fcy;&amp;acy;&amp;jcy;&amp;lcy;:Kronborg - Gobelin Rhinozerus.jpg"/>
          <p:cNvPicPr/>
          <p:nvPr/>
        </p:nvPicPr>
        <p:blipFill>
          <a:blip r:embed="rId1"/>
          <a:stretch/>
        </p:blipFill>
        <p:spPr>
          <a:xfrm>
            <a:off x="3214800" y="23572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-571680" y="5429160"/>
            <a:ext cx="45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Носорог. Фланд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15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Замок Кронбо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0" y="35712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3.Нитяна́я гра́фик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варианты названия: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изонить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изображение нитью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ниточный дизайн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)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графическая техника, получение изображения нитками на картоне или другом твёрдом осн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s56.radikal.ru/i151/1106/ea/352a13957c94t.jpg"/>
          <p:cNvPicPr/>
          <p:nvPr/>
        </p:nvPicPr>
        <p:blipFill>
          <a:blip r:embed="rId1"/>
          <a:stretch/>
        </p:blipFill>
        <p:spPr>
          <a:xfrm>
            <a:off x="3192480" y="2143080"/>
            <a:ext cx="5951520" cy="4214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582120" y="536004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О.А. Воро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"Парусни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0480" y="142920"/>
            <a:ext cx="42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4.Художественная резь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30240" y="463680"/>
            <a:ext cx="8678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Резьба по камню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- процесс придания камню требу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формы и внеш. отделки при помощи распило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токарной обработки, сверления, шлифовки, полиров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гравировки (резцом, ультразву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9" descr="&amp;Rcy;&amp;iecy;&amp;zcy;&amp;softcy;&amp;bcy;&amp;acy; &amp;pcy;&amp;ocy; &amp;kcy;&amp;acy;&amp;mcy;&amp;ncy;&amp;yucy; XVI &amp;vcy;&amp;iecy;&amp;kcy;&amp;acy;"/>
          <p:cNvPicPr/>
          <p:nvPr/>
        </p:nvPicPr>
        <p:blipFill>
          <a:blip r:embed="rId1"/>
          <a:stretch/>
        </p:blipFill>
        <p:spPr>
          <a:xfrm>
            <a:off x="3956040" y="2500200"/>
            <a:ext cx="4616640" cy="40719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8"/>
          <p:cNvSpPr/>
          <p:nvPr/>
        </p:nvSpPr>
        <p:spPr>
          <a:xfrm>
            <a:off x="0" y="564372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ьба по камню XVI ве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285840" y="285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б.Резьба по дереву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—является одним из видов художественной обработки дере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&amp;Kcy;&amp;acy;&amp;rcy;&amp;tcy;&amp;icy;&amp;ncy;&amp;kcy;&amp;acy; 38 &amp;icy;&amp;zcy; 158720"/>
          <p:cNvPicPr/>
          <p:nvPr/>
        </p:nvPicPr>
        <p:blipFill>
          <a:blip r:embed="rId1"/>
          <a:stretch/>
        </p:blipFill>
        <p:spPr>
          <a:xfrm>
            <a:off x="3571920" y="200016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3"/>
          <p:cNvSpPr/>
          <p:nvPr/>
        </p:nvSpPr>
        <p:spPr>
          <a:xfrm>
            <a:off x="937080" y="47149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Носиков П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285840" y="214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в. Резьба по кости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— это искусство вырезания орнаментов и фигур и произведений искусства из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&amp;Kcy;&amp;acy;&amp;rcy;&amp;tcy;&amp;icy;&amp;ncy;&amp;kcy;&amp;acy; 138 &amp;icy;&amp;zcy; 13997"/>
          <p:cNvPicPr/>
          <p:nvPr/>
        </p:nvPicPr>
        <p:blipFill>
          <a:blip r:embed="rId1"/>
          <a:stretch/>
        </p:blipFill>
        <p:spPr>
          <a:xfrm>
            <a:off x="2928960" y="1428840"/>
            <a:ext cx="5840280" cy="437184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3"/>
          <p:cNvSpPr/>
          <p:nvPr/>
        </p:nvSpPr>
        <p:spPr>
          <a:xfrm>
            <a:off x="224280" y="51436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Цель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42920" y="21420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5.Керамик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др.-греч. κέραμος — глина) — изделия из неорганических материалов (например, глины) и их смесей с минеральными добавками, изготавливаемые под воздействием высокой температуры с последующим охла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&amp;Kcy;&amp;acy;&amp;rcy;&amp;tcy;&amp;icy;&amp;ncy;&amp;kcy;&amp;acy; 61 &amp;icy;&amp;zcy; 164586"/>
          <p:cNvPicPr/>
          <p:nvPr/>
        </p:nvPicPr>
        <p:blipFill>
          <a:blip r:embed="rId1"/>
          <a:stretch/>
        </p:blipFill>
        <p:spPr>
          <a:xfrm>
            <a:off x="1000080" y="2286000"/>
            <a:ext cx="70722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2:35Z</dcterms:created>
  <dc:creator>Admin</dc:creator>
  <dc:description/>
  <dc:language>en-US</dc:language>
  <cp:lastModifiedBy>1</cp:lastModifiedBy>
  <dcterms:modified xsi:type="dcterms:W3CDTF">2017-05-12T00:21:21Z</dcterms:modified>
  <cp:revision>44</cp:revision>
  <dc:subject/>
  <dc:title>Слайд 1</dc:title>
</cp:coreProperties>
</file>