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E34-812A-45C3-B2A2-3B5617D0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05D-4D67-4221-8C14-29F73C0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E8480-44A6-4FC8-930B-54235C7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31A85-FA09-493B-A35A-856DA011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CCBAB-EDCE-49E3-BB39-B2E21B6B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73272-F7B4-4E57-A3A5-6049D110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CA5D5-92FE-4E33-8183-4BAB0E8A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2B426-CAC5-40DD-B6CF-C24F675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61EAF-5F69-400E-8A85-981E3158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4FDEB-0DFD-49C7-A576-42C4B7AF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A1061-32A8-494E-BB37-381441DE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625-621F-4E48-BD06-139885E7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FFA-228D-4D8B-9644-9333D42A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952C-2397-4268-A738-55D85B17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7B9-6879-42A7-B5EF-40F5387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A98F-FD40-47C8-BAE1-AD81C16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D6D4-02F0-41DD-92E0-304CE08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B92C-1872-45E3-A8ED-5759D06F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8F86-5205-40EC-98A7-3471566D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CD6-D2D3-47D2-B863-175F686B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E23-7271-4762-B574-DF99CC2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1FD4-B901-43C3-BD40-81399CD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0538-BCF9-4565-931C-FC2B506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D422-AD8F-45BB-97FC-5D861435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6133-4F4E-4C60-83E8-5348AC84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9EF0-2DA9-4D42-9668-FACB5F92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47A1-6669-42B8-8B6D-5CB928A5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A73C-3EBB-4F6B-A162-08145CC2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E208-DE15-4E9A-9793-270F2858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5287-CB7B-4E8B-9900-C9595EC1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EFD0-211C-4C79-A460-85FFDD54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9F4-A4BF-4818-B814-348AE1C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D5ABA-0B0D-4E9D-B903-B357BF26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EA97-F3CB-410B-BA1D-DF23079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A0B8-2410-4E8B-82B5-9878710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A49A-239B-432B-A8C9-D869D86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68BE-3CEF-4C48-B074-DB782F33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7BF9-7E77-4A24-A127-99D1D254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7E93-5C1C-42F7-BC9A-E0F2FDA5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B03DB-B870-4D92-9D29-4A66D527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5923-62A9-4939-9B0A-C66CF7B7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C2CC-4B07-4601-B787-45F04241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03B-DF2D-420B-A27D-B812F79D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DFEC-61F1-40D4-8801-E8E8A7F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5F53-8FDC-4072-B0BC-EBB27A7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7559-7A70-447D-80E6-65D8E96A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1640-F3B7-4005-843D-E9877B32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E0F54-5880-417D-B87E-1B4B9FF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DDC1-88D1-43EA-851F-77B3390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925B-9F24-45EC-BFE2-147E9A7F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E156-CA9A-4D75-AF0B-EB926E3A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7C06-9B54-4C27-8602-4636F078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5279-B2E3-4F66-8D18-EA3FC373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D5F-0731-4011-BB2E-D0A8EB94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4E6C-DA58-4E49-90A1-44BEFF3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9D8DB-F442-446D-9FEC-0E5A8285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B836A-4E5D-498A-A74F-099561C1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C0A2B-4255-459A-8CD3-1132CB2E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56B86-0C82-4B52-9D23-67B8A05F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F6CA-F0C0-46D4-B841-806629C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B17C8-DF16-4C1E-B1F7-C1A3CCF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C6E65-053C-4078-817E-EDF823A0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E311-F891-480F-8046-E12B5CA5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95A77-FF1B-4A93-9B7C-4CE9749B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EE3-ED32-40C1-B9BB-41BCA4B4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99A9-4923-4932-A510-68104DEE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FC85E-942B-47ED-B7A3-7387538C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B6B6-793A-41FE-A28D-CFF7D77F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DE21-CE19-45F1-AFBE-42D9735A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7D8F3-7AA0-4623-8D34-43C55AA6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6E42B-8957-48BE-8DFE-51A34C21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76A30-7624-4D99-B32E-0BF0D8B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E0900-5B9C-4767-B5CD-FBEA8CC3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10F03-0611-4CC7-B62E-9661E996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03BE5-4722-46D0-9C9D-66ADE7B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AA5-D568-4518-82D0-D98D6B5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A2D5C-C8B9-4AB4-9E76-3C67A08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59628-F00A-474C-A1A3-F514C441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CB07-B63D-41A6-B420-B492B8EA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42CD5-CA26-4D11-8523-34316A18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82ADD-15E1-427E-B569-FAFEB9CE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FA4F4-A7E1-4B8E-87A2-34F45EE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1E52-9603-4009-807E-EACC00DC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C735E-B6CD-4DD9-A5F4-6C0C12B2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81608-905A-4E4E-AC86-887A5DFC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E1646-C2EA-4199-9DD4-7373316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43D-8CA8-4EC8-8E91-F3013F2D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C80B1-BBB4-48C4-B39F-3CBD679A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6A8DE-512A-4344-BC0D-D0AEF093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78C53-C5EE-4057-ABB6-9BB87EFF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7966B-BD9B-40F3-B4DD-164A2AFA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D683A-F8B1-4818-A70A-807184BA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00E5-34A5-46A5-BF92-3D51CF3F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E808D-B44B-47BA-B5CB-2620D89A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63D24-910D-47D4-94B9-22AE537F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4010-98F2-4519-A36A-74EAB86E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4B06-55D0-4FF5-A6C0-E75A4ACC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967-7156-4F78-9984-9FAA99E2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09DB6-C3E2-4053-82F9-D245D454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30042-78AB-4F56-ABC8-96B9061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7B5C2-CD84-4AF9-AA48-ED5CAEC6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C14CF-5809-4D62-A2AA-34F3B5AF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12FD5-1AE7-418C-84DF-0FFF5461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ECF0F-3995-4135-9330-CB018EA8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5F6B-8C64-4258-872A-9304B685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991E4-216D-4DC3-8172-EF18DBA0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FF46-66F0-4DEE-A40B-2DC84D71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375D2-0C77-4DAA-ADA0-A3D07FD9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7682-E6E1-4A8F-B06D-C8810E6523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111F-B00A-4532-9079-680041E4FAD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B518-3EDB-44C8-BB36-5406F3A87E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7D5-BBEF-40A9-A753-0DC638800F5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6870-F318-41DE-BFD5-72572661F10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A64-8679-4C20-8DEC-D084977872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B85A-AC9D-4D36-A75B-AD1A8E09CAB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8461-866B-46CD-87AE-31F2A5C15F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528C-91EB-44E5-88DC-4B4C87ADEB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714240" y="642960"/>
            <a:ext cx="784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c4b3b"/>
                </a:solidFill>
                <a:latin typeface="Arial"/>
              </a:rPr>
              <a:t>Декоративно-приклад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c4b3b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7c4b3b"/>
                </a:solidFill>
                <a:latin typeface="Arial"/>
              </a:rPr>
              <a:t>искусство и челов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2000160" y="4572000"/>
            <a:ext cx="6357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500040" y="28584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Декоративно-прикладное искусство</a:t>
            </a:r>
            <a:r>
              <a:rPr b="0" lang="en-US" sz="2400" spc="-1" strike="noStrike">
                <a:solidFill>
                  <a:srgbClr val="624139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раздел декоративного искусства; охватывает ряд отраслей творчества, которые посвящены созданию художественных изделий, предназначенных главным образом для б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&amp;Kcy;&amp;acy;&amp;rcy;&amp;tcy;&amp;icy;&amp;ncy;&amp;kcy;&amp;acy; 23 &amp;icy;&amp;zcy; 153324"/>
          <p:cNvPicPr/>
          <p:nvPr/>
        </p:nvPicPr>
        <p:blipFill>
          <a:blip r:embed="rId1"/>
          <a:stretch/>
        </p:blipFill>
        <p:spPr>
          <a:xfrm>
            <a:off x="2143080" y="3787920"/>
            <a:ext cx="4143600" cy="3070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&amp;Kcy;&amp;acy;&amp;rcy;&amp;tcy;&amp;icy;&amp;ncy;&amp;kcy;&amp;acy; 13 &amp;icy;&amp;zcy; 153324"/>
          <p:cNvPicPr/>
          <p:nvPr/>
        </p:nvPicPr>
        <p:blipFill>
          <a:blip r:embed="rId2"/>
          <a:stretch/>
        </p:blipFill>
        <p:spPr>
          <a:xfrm>
            <a:off x="357120" y="2154240"/>
            <a:ext cx="3071880" cy="1989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&amp;Kcy;&amp;acy;&amp;rcy;&amp;tcy;&amp;icy;&amp;ncy;&amp;kcy;&amp;acy; 16 &amp;icy;&amp;zcy; 153324"/>
          <p:cNvPicPr/>
          <p:nvPr/>
        </p:nvPicPr>
        <p:blipFill>
          <a:blip r:embed="rId3"/>
          <a:stretch/>
        </p:blipFill>
        <p:spPr>
          <a:xfrm>
            <a:off x="5072040" y="2143080"/>
            <a:ext cx="3214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142920" y="3571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3227"/>
                </a:solidFill>
                <a:latin typeface="Arial"/>
              </a:rPr>
              <a:t>Основные виды декоративно-прикладного искус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285840" y="12859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1. Ба́тик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 — ручная роспись по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&amp;Fcy;&amp;acy;&amp;jcy;&amp;lcy;:White Peacock.JPG"/>
          <p:cNvPicPr/>
          <p:nvPr/>
        </p:nvPicPr>
        <p:blipFill>
          <a:blip r:embed="rId1"/>
          <a:stretch/>
        </p:blipFill>
        <p:spPr>
          <a:xfrm>
            <a:off x="4143240" y="1857240"/>
            <a:ext cx="4643640" cy="460548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5"/>
          <p:cNvSpPr/>
          <p:nvPr/>
        </p:nvSpPr>
        <p:spPr>
          <a:xfrm>
            <a:off x="-142920" y="564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влины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—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ёна Ле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214200" y="3571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2. Гобеле́н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(фр. </a:t>
            </a:r>
            <a:r>
              <a:rPr b="0" i="1" lang="ru-RU" sz="2400" spc="-1" strike="noStrike">
                <a:solidFill>
                  <a:srgbClr val="624139"/>
                </a:solidFill>
                <a:latin typeface="Arial"/>
              </a:rPr>
              <a:t>gobelin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), или </a:t>
            </a: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шпалера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, — один из видов декоративно-прикладного искусства, стенной односторонний безворсовый ковёр с сюжетной или орнаментальной композицией, вытканный вручную перекрёстным переплетением ни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&amp;Fcy;&amp;acy;&amp;jcy;&amp;lcy;:Kronborg - Gobelin Rhinozerus.jpg"/>
          <p:cNvPicPr/>
          <p:nvPr/>
        </p:nvPicPr>
        <p:blipFill>
          <a:blip r:embed="rId1"/>
          <a:stretch/>
        </p:blipFill>
        <p:spPr>
          <a:xfrm>
            <a:off x="3214800" y="23572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-571680" y="5429160"/>
            <a:ext cx="45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Носорог. Фланд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15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Замок Кронбо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0" y="35712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3.Нитяна́я гра́фика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(варианты названия: </a:t>
            </a: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изонить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изображение нитью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ниточный дизайн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)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графическая техника, получение изображения нитками на картоне или другом твёрдом осно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s56.radikal.ru/i151/1106/ea/352a13957c94t.jpg"/>
          <p:cNvPicPr/>
          <p:nvPr/>
        </p:nvPicPr>
        <p:blipFill>
          <a:blip r:embed="rId1"/>
          <a:stretch/>
        </p:blipFill>
        <p:spPr>
          <a:xfrm>
            <a:off x="3192480" y="2143080"/>
            <a:ext cx="5951520" cy="4214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>
            <a:off x="582120" y="536004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О.А. Ворон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"Парусник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50480" y="142920"/>
            <a:ext cx="42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4.Художественная резь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30240" y="463680"/>
            <a:ext cx="86785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Резьба по камню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- процесс придания камню требу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формы и внеш. отделки при помощи распилов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токарной обработки, сверления, шлифовки, полиров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гравировки (резцом, ультразву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9" descr="&amp;Rcy;&amp;iecy;&amp;zcy;&amp;softcy;&amp;bcy;&amp;acy; &amp;pcy;&amp;ocy; &amp;kcy;&amp;acy;&amp;mcy;&amp;ncy;&amp;yucy; XVI &amp;vcy;&amp;iecy;&amp;kcy;&amp;acy;"/>
          <p:cNvPicPr/>
          <p:nvPr/>
        </p:nvPicPr>
        <p:blipFill>
          <a:blip r:embed="rId1"/>
          <a:stretch/>
        </p:blipFill>
        <p:spPr>
          <a:xfrm>
            <a:off x="3956040" y="2500200"/>
            <a:ext cx="4616640" cy="40719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8"/>
          <p:cNvSpPr/>
          <p:nvPr/>
        </p:nvSpPr>
        <p:spPr>
          <a:xfrm>
            <a:off x="0" y="5643720"/>
            <a:ext cx="40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ьба по камню XVI ве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285840" y="285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б.Резьба по дереву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—является одним из видов художественной обработки дерев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&amp;Kcy;&amp;acy;&amp;rcy;&amp;tcy;&amp;icy;&amp;ncy;&amp;kcy;&amp;acy; 38 &amp;icy;&amp;zcy; 158720"/>
          <p:cNvPicPr/>
          <p:nvPr/>
        </p:nvPicPr>
        <p:blipFill>
          <a:blip r:embed="rId1"/>
          <a:stretch/>
        </p:blipFill>
        <p:spPr>
          <a:xfrm>
            <a:off x="3571920" y="200016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3"/>
          <p:cNvSpPr/>
          <p:nvPr/>
        </p:nvSpPr>
        <p:spPr>
          <a:xfrm>
            <a:off x="937080" y="47149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Носиков П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285840" y="2142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в. Резьба по кости 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— это искусство вырезания орнаментов и фигур и произведений искусства из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&amp;Kcy;&amp;acy;&amp;rcy;&amp;tcy;&amp;icy;&amp;ncy;&amp;kcy;&amp;acy; 138 &amp;icy;&amp;zcy; 13997"/>
          <p:cNvPicPr/>
          <p:nvPr/>
        </p:nvPicPr>
        <p:blipFill>
          <a:blip r:embed="rId1"/>
          <a:stretch/>
        </p:blipFill>
        <p:spPr>
          <a:xfrm>
            <a:off x="2928960" y="1428840"/>
            <a:ext cx="5840280" cy="437184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3"/>
          <p:cNvSpPr/>
          <p:nvPr/>
        </p:nvSpPr>
        <p:spPr>
          <a:xfrm>
            <a:off x="224280" y="51436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Цель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42920" y="214200"/>
            <a:ext cx="871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39"/>
                </a:solidFill>
                <a:latin typeface="Arial"/>
              </a:rPr>
              <a:t>5.Керамика</a:t>
            </a:r>
            <a:r>
              <a:rPr b="0" lang="ru-RU" sz="2400" spc="-1" strike="noStrike">
                <a:solidFill>
                  <a:srgbClr val="624139"/>
                </a:solidFill>
                <a:latin typeface="Arial"/>
              </a:rPr>
              <a:t> (др.-греч. κέραμος — глина) — изделия из неорганических материалов (например, глины) и их смесей с минеральными добавками, изготавливаемые под воздействием высокой температуры с последующим охла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&amp;Kcy;&amp;acy;&amp;rcy;&amp;tcy;&amp;icy;&amp;ncy;&amp;kcy;&amp;acy; 61 &amp;icy;&amp;zcy; 164586"/>
          <p:cNvPicPr/>
          <p:nvPr/>
        </p:nvPicPr>
        <p:blipFill>
          <a:blip r:embed="rId1"/>
          <a:stretch/>
        </p:blipFill>
        <p:spPr>
          <a:xfrm>
            <a:off x="1000080" y="2286000"/>
            <a:ext cx="70722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42:35Z</dcterms:created>
  <dc:creator>Admin</dc:creator>
  <dc:description/>
  <dc:language>en-US</dc:language>
  <cp:lastModifiedBy>1</cp:lastModifiedBy>
  <dcterms:modified xsi:type="dcterms:W3CDTF">2017-05-12T00:21:21Z</dcterms:modified>
  <cp:revision>44</cp:revision>
  <dc:subject/>
  <dc:title>Слайд 1</dc:title>
</cp:coreProperties>
</file>