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B26-1E88-4B83-9D48-CFF09B37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161-06B2-4F40-8D3C-0D728102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CB8-FA4C-4EE2-8C3B-03F49DED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B29-F8E5-4D3E-A237-92D8FE07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EE8F-186A-44DE-ADF7-92AF6256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E06-C51D-4D51-899D-364FAB19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CE4-776E-49A9-B493-C8E8ED36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525-2E6D-40AA-96CB-FA320AE5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870F-2E38-445F-AD71-E19C53EA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755-FEF4-4229-88A4-13CB753F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06B-8B6E-4DEA-A923-C15169C5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D1D3-B002-416B-8616-D686BD25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CE60-A59E-4038-830C-3CE253040B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720" y="189000"/>
            <a:ext cx="288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ЕРЕВН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БЕРЕГ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Н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3672000" cy="354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84720" y="3789360"/>
            <a:ext cx="46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ежское озеро было своеобразным магнитом для вепсских, карельских и русски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леме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местно обживавших его берега. Прибрежные территории именовались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Обонежьем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. е. землей вокруг Онежского озера, а позже –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Заонежьем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3129120" cy="4775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700280"/>
            <a:ext cx="820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омотканый хол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льняная ткань, выполненная в домашних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упчая грам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законно оформленный договор купли-прода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етопис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последовательное изложение исторических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ал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обязательный платеж в пользу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жня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есто, предназначенное для заготовки с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трельцы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 допетровской Руси военные, представители регулярных вой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олок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овсяная м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Ярмарка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ежегодный торг, приуроченный к определенному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5640" y="404640"/>
            <a:ext cx="5832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ПОМНИ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4537080" cy="311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1800" y="184464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рная из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4248000" cy="294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48360" y="3933720"/>
            <a:ext cx="331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стьянская изба второй половины XVIII ( из книги Н.Я.Озерецковского Путешествие по озерам Ладожскому и Онежскому озе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9:22:51Z</dcterms:created>
  <dc:creator>Римма</dc:creator>
  <dc:description/>
  <dc:language>en-US</dc:language>
  <cp:lastModifiedBy>20-01</cp:lastModifiedBy>
  <dcterms:modified xsi:type="dcterms:W3CDTF">2001-01-26T08:02:57Z</dcterms:modified>
  <cp:revision>3</cp:revision>
  <dc:subject/>
  <dc:title>Слайд 1</dc:title>
</cp:coreProperties>
</file>