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709-C5F0-484B-AC52-793CCFD5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DDB-2EDE-4DF2-8CD9-8183B778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ED8-7882-42F4-B4AD-FA0F7BD1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AD1-6268-40B0-AA85-84ADB93C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357-D090-4046-B164-9CBDF8A2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065-D354-49BA-A7D1-33DA7F80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FB5-9146-49ED-8A7F-3C8901C2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8EF-9038-4F4C-89F0-5BA4C112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9B6-8040-4255-932B-B193A77A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97A-1007-4FA8-86F1-33908A42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343-B30D-4399-BA31-612CCE24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95B-E29E-42D9-9EBD-1F2F0733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7F05-3402-4F12-94C0-3A32941F5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720" y="189000"/>
            <a:ext cx="288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РЕВ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БЕРЕГ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Н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3672000" cy="354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84720" y="378936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ежское озеро было своеобразным магнитом для вепсских, карельских и русски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ем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местно обживавших его берега. Прибрежные территории именовались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Обонежье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. е. землей вокруг Онежского озера, а позже –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аонежьем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129120" cy="4775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70028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мотканый хол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льняная ткань, выполненная в домашн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упчая грам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законно оформленный договор купли-прод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етопи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оследовательное изложение исторически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ал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обязательный платеж в пользу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жня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есто, предназначенное для заготовки с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трельцы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допетровской Руси военные, представители регулярных вой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олок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овсяная м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Ярмарка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жегодный торг, приуроченный к определенному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404640"/>
            <a:ext cx="5832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ПОМНИ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537080" cy="311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180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ная из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4248000" cy="294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48360" y="3933720"/>
            <a:ext cx="331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ская изба второй половины XVIII ( из книги Н.Я.Озерецковского Путешествие по озерам Ладожскому и Онежскому озе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9:22:51Z</dcterms:created>
  <dc:creator>Римма</dc:creator>
  <dc:description/>
  <dc:language>en-US</dc:language>
  <cp:lastModifiedBy>20-01</cp:lastModifiedBy>
  <dcterms:modified xsi:type="dcterms:W3CDTF">2001-01-26T08:02:57Z</dcterms:modified>
  <cp:revision>3</cp:revision>
  <dc:subject/>
  <dc:title>Слайд 1</dc:title>
</cp:coreProperties>
</file>