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E494C-E69B-4B37-AFEE-86F42B9EA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D636F-A5D9-41A5-950F-9F3A6CFEB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B3964-9EBF-4451-A227-8BEAD5E55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1228C-203B-4EC6-A099-3F076469F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D1D2-4A52-42EA-A67A-A416F3B6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612C1-EA69-478D-A0A9-8122A560D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FEB25-F4F7-4522-968F-19A524D97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975D4-4D3E-49E5-84BF-B74C33241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BEDCF-921E-4926-9837-B2AE1E1A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4303C-D77A-4B9E-8975-A6237048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A0CC-15E9-4A54-8C2F-072198874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65A0-4552-46E5-AA1F-B8D7678F9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424F-231E-4EAC-9841-8641BA554F3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7a9be74de03675bbe2db15d05979c553"/>
          <p:cNvPicPr/>
          <p:nvPr/>
        </p:nvPicPr>
        <p:blipFill>
          <a:blip r:embed="rId1"/>
          <a:stretch/>
        </p:blipFill>
        <p:spPr>
          <a:xfrm>
            <a:off x="0" y="0"/>
            <a:ext cx="6858000" cy="9144000"/>
          </a:xfrm>
          <a:prstGeom prst="rect">
            <a:avLst/>
          </a:prstGeom>
          <a:ln w="0">
            <a:noFill/>
          </a:ln>
        </p:spPr>
      </p:pic>
      <p:sp>
        <p:nvSpPr>
          <p:cNvPr id="42" name="PlaceHolder 1"/>
          <p:cNvSpPr>
            <a:spLocks noGrp="1"/>
          </p:cNvSpPr>
          <p:nvPr>
            <p:ph type="title"/>
          </p:nvPr>
        </p:nvSpPr>
        <p:spPr>
          <a:xfrm>
            <a:off x="533520" y="3581280"/>
            <a:ext cx="5829120" cy="19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Книга</a:t>
            </a:r>
            <a:br>
              <a:rPr sz="4000"/>
            </a:br>
            <a:r>
              <a:rPr b="1" lang="ru-RU" sz="4000" spc="-1" strike="noStrike">
                <a:solidFill>
                  <a:srgbClr val="000099"/>
                </a:solidFill>
                <a:latin typeface="Arial"/>
              </a:rPr>
              <a:t>удивительных </a:t>
            </a:r>
            <a:br>
              <a:rPr sz="4000"/>
            </a:br>
            <a:r>
              <a:rPr b="1" lang="ru-RU" sz="4000" spc="-1" strike="noStrike">
                <a:solidFill>
                  <a:srgbClr val="000099"/>
                </a:solidFill>
                <a:latin typeface="Arial"/>
              </a:rPr>
              <a:t>рассказов, </a:t>
            </a:r>
            <a:br>
              <a:rPr sz="4000"/>
            </a:br>
            <a:r>
              <a:rPr b="1" lang="ru-RU" sz="4000" spc="-1" strike="noStrike">
                <a:solidFill>
                  <a:srgbClr val="000099"/>
                </a:solidFill>
                <a:latin typeface="Arial"/>
              </a:rPr>
              <a:t>фантазий,</a:t>
            </a:r>
            <a:br>
              <a:rPr sz="4000"/>
            </a:br>
            <a:r>
              <a:rPr b="1" lang="ru-RU" sz="4000" spc="-1" strike="noStrike">
                <a:solidFill>
                  <a:srgbClr val="000099"/>
                </a:solidFill>
                <a:latin typeface="Arial"/>
              </a:rPr>
              <a:t>сказок.</a:t>
            </a:r>
            <a:br>
              <a:rPr sz="5400"/>
            </a:br>
            <a:br>
              <a:rPr sz="4000"/>
            </a:br>
            <a:endParaRPr b="0" lang="en-US" sz="4000" spc="-1" strike="noStrike">
              <a:solidFill>
                <a:srgbClr val="000000"/>
              </a:solidFill>
              <a:latin typeface="Arial"/>
            </a:endParaRPr>
          </a:p>
        </p:txBody>
      </p:sp>
      <p:sp>
        <p:nvSpPr>
          <p:cNvPr id="43" name="PlaceHolder 2"/>
          <p:cNvSpPr>
            <a:spLocks noGrp="1"/>
          </p:cNvSpPr>
          <p:nvPr>
            <p:ph type="subTitle"/>
          </p:nvPr>
        </p:nvSpPr>
        <p:spPr>
          <a:xfrm>
            <a:off x="2057040" y="1294920"/>
            <a:ext cx="3809880" cy="233676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БДОУ Вахтанский детский сад «Одуванчи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304920"/>
            <a:ext cx="6886440" cy="9753840"/>
          </a:xfrm>
          <a:prstGeom prst="rect">
            <a:avLst/>
          </a:prstGeom>
          <a:ln w="0">
            <a:noFill/>
          </a:ln>
        </p:spPr>
      </p:pic>
      <p:sp>
        <p:nvSpPr>
          <p:cNvPr id="45" name="PlaceHolder 1"/>
          <p:cNvSpPr>
            <a:spLocks noGrp="1"/>
          </p:cNvSpPr>
          <p:nvPr>
            <p:ph type="title"/>
          </p:nvPr>
        </p:nvSpPr>
        <p:spPr>
          <a:xfrm>
            <a:off x="1219320" y="380880"/>
            <a:ext cx="4495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a:t>
            </a:r>
            <a:r>
              <a:rPr b="1" i="1" lang="ru-RU" sz="2800" spc="-1" strike="noStrike">
                <a:solidFill>
                  <a:srgbClr val="333399"/>
                </a:solidFill>
                <a:latin typeface="Arial"/>
              </a:rPr>
              <a:t>Морской рассказ.</a:t>
            </a:r>
            <a:endParaRPr b="0" lang="en-US" sz="2800" spc="-1" strike="noStrike">
              <a:solidFill>
                <a:srgbClr val="000000"/>
              </a:solidFill>
              <a:latin typeface="Arial"/>
            </a:endParaRPr>
          </a:p>
        </p:txBody>
      </p:sp>
      <p:sp>
        <p:nvSpPr>
          <p:cNvPr id="46" name="PlaceHolder 2"/>
          <p:cNvSpPr>
            <a:spLocks noGrp="1"/>
          </p:cNvSpPr>
          <p:nvPr>
            <p:ph type="subTitle"/>
          </p:nvPr>
        </p:nvSpPr>
        <p:spPr>
          <a:xfrm>
            <a:off x="1371600" y="914040"/>
            <a:ext cx="4533840" cy="645156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й рассказ очень интересный, потому что он фантастический. Он начинается как все сказки. Жили были в водяном мире щука, да и рыбка, не простая,                         а волшебная. И вот однажды, у соседки рыбы - морской коровы, случилась беда. За её маленькими рыбками охотится очень злая и опасная акула.                  Рыба – корова рассказала об этом щуке           и волшебной рыбке. Что делать она        не знала. Тогда щука сказала морской корове, чтобы она хорошенечко присмотрела за своими маленькими рыбками. А волшебная рыбка и щука придумали сделать для акулы ловушку – робота-рыбку. Робот- рыбка будет вылядеть как рыба – ёж. Утром щука           и волшебная рыбка выпустили        робота – рыбку в море, и злая акула увидела её, застучала зубами, поймала        и проглотила её. А внутри то акулы эта рыбка-робот взорвалась и уничтожила злую и страшную акулу.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втор: Виктор Балуков (5 л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0"/>
            <a:ext cx="6858000" cy="9144000"/>
          </a:xfrm>
          <a:prstGeom prst="rect">
            <a:avLst/>
          </a:prstGeom>
          <a:ln w="0">
            <a:noFill/>
          </a:ln>
        </p:spPr>
      </p:pic>
      <p:sp>
        <p:nvSpPr>
          <p:cNvPr id="48" name="PlaceHolder 1"/>
          <p:cNvSpPr>
            <a:spLocks noGrp="1"/>
          </p:cNvSpPr>
          <p:nvPr>
            <p:ph type="title"/>
          </p:nvPr>
        </p:nvSpPr>
        <p:spPr>
          <a:xfrm>
            <a:off x="685440" y="1219320"/>
            <a:ext cx="480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казка-рассказ </a:t>
            </a:r>
            <a:br>
              <a:rPr sz="2400"/>
            </a:br>
            <a:r>
              <a:rPr b="1" i="1" lang="ru-RU" sz="2400" spc="-1" strike="noStrike">
                <a:solidFill>
                  <a:srgbClr val="333399"/>
                </a:solidFill>
                <a:latin typeface="Arial"/>
              </a:rPr>
              <a:t>«Как я обхитрила Бабу-Ягу.»</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4114800" cy="601956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днажды, когда я не послушала маму           и ушла гулять на улицу одна. И пока мама одевалась, в это время, по нашей улице, пролетала Баба-Яга в своей ступе                    с метлой. Она увидела меня и решила забрать, потому что она была голодная,         и наверное потому что я не послушала маму. Баба-Яга быстренько подхватила меня и забрала в свой лес, в свою избушку на курьих ножках. В избушке у Бабы-Яги было много всякой паутины, грязно, а ещё посередине избушки топилась огромная печка. Баба-Яга посадила меня на большую лопату и хотела закинуть в печь.                       Я испугалась конечно же, вспомнила сразу мамочку и подумала, почему же я не послушала её, не дождалась пока она оденется, чтобы вместе со мной идти гулять. И я решила обхитрить Бабу-Ягу.         Я сказала ей, чтобы она показала мне как нужно правильно садится на лопату.       Баба-Яга села на лопату, а я быстренько  посадила её в печку и закрыла крышкой.        А я в это время взяла её метлу, села            в ступу и полетела домой, к мамочке. Летела я не долго, потому что в ступе             у Бабы-Яги были джостики, которые помогли мне управлять ступой. Я увидела сверху свой дом, приземлилась и сразу же побежала к маме и поняла,                           что нужно слушаться маму.</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втор: Анастасия Абрамова (5ле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
          <p:cNvPicPr/>
          <p:nvPr/>
        </p:nvPicPr>
        <p:blipFill>
          <a:blip r:embed="rId1"/>
          <a:stretch/>
        </p:blipFill>
        <p:spPr>
          <a:xfrm>
            <a:off x="0" y="0"/>
            <a:ext cx="6858000" cy="9144000"/>
          </a:xfrm>
          <a:prstGeom prst="rect">
            <a:avLst/>
          </a:prstGeom>
          <a:ln w="0">
            <a:noFill/>
          </a:ln>
        </p:spPr>
      </p:pic>
      <p:sp>
        <p:nvSpPr>
          <p:cNvPr id="51" name="Rectangle 6"/>
          <p:cNvSpPr/>
          <p:nvPr/>
        </p:nvSpPr>
        <p:spPr>
          <a:xfrm>
            <a:off x="2743200" y="121932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Новая сказка про колобка.</a:t>
            </a:r>
            <a:endParaRPr b="0" lang="en-US" sz="2400" spc="-1" strike="noStrike">
              <a:solidFill>
                <a:srgbClr val="000000"/>
              </a:solidFill>
              <a:latin typeface="Arial"/>
            </a:endParaRPr>
          </a:p>
        </p:txBody>
      </p:sp>
      <p:sp>
        <p:nvSpPr>
          <p:cNvPr id="52" name="Rectangle 7"/>
          <p:cNvSpPr/>
          <p:nvPr/>
        </p:nvSpPr>
        <p:spPr>
          <a:xfrm>
            <a:off x="1752480" y="1981080"/>
            <a:ext cx="4038840" cy="520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некотором царстве, в некотором государстве, жил король. Он был очень добрый, и у него была мечта, он хотел летать. Он думал, думал и дал приказание всем в царстве испечь колобка. Колобок должен быть волшебным. И все люди в царстве стали думать как такой колобок испечь. И они придумали, что мука для колобка должна быть волшебная и нужно заказать её в интернете. Ждали люди муку       с интернета долго, так она и не пришла.        А мука то же была волшебная, поэтому       и прилетела из дальних стран сам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вара замесили тесто из волшебной муки и испекли колобок. На большом подносе волшебного колобка унесли королю, он откусил кусочек и у него за спиной появились крылья.                             Он обрадовался и полетел.                    Теперь король будет летать, его мечта сбылас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втор: Родион Белолугов (5ле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0" y="0"/>
            <a:ext cx="6858000" cy="9144000"/>
          </a:xfrm>
          <a:prstGeom prst="rect">
            <a:avLst/>
          </a:prstGeom>
          <a:ln w="0">
            <a:noFill/>
          </a:ln>
        </p:spPr>
      </p:pic>
      <p:sp>
        <p:nvSpPr>
          <p:cNvPr id="54" name="PlaceHolder 1"/>
          <p:cNvSpPr>
            <a:spLocks noGrp="1"/>
          </p:cNvSpPr>
          <p:nvPr>
            <p:ph type="title"/>
          </p:nvPr>
        </p:nvSpPr>
        <p:spPr>
          <a:xfrm>
            <a:off x="3428640" y="228240"/>
            <a:ext cx="2895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Рассказ </a:t>
            </a:r>
            <a:br>
              <a:rPr sz="2400"/>
            </a:br>
            <a:r>
              <a:rPr b="1" i="1" lang="ru-RU" sz="2400" spc="-1" strike="noStrike">
                <a:solidFill>
                  <a:srgbClr val="333399"/>
                </a:solidFill>
                <a:latin typeface="Arial"/>
              </a:rPr>
              <a:t>«Зубная фея»</a:t>
            </a:r>
            <a:endParaRPr b="0" lang="en-US" sz="2400" spc="-1" strike="noStrike">
              <a:solidFill>
                <a:srgbClr val="000000"/>
              </a:solidFill>
              <a:latin typeface="Arial"/>
            </a:endParaRPr>
          </a:p>
        </p:txBody>
      </p:sp>
      <p:sp>
        <p:nvSpPr>
          <p:cNvPr id="55" name="PlaceHolder 2"/>
          <p:cNvSpPr>
            <a:spLocks noGrp="1"/>
          </p:cNvSpPr>
          <p:nvPr>
            <p:ph type="subTitle"/>
          </p:nvPr>
        </p:nvSpPr>
        <p:spPr>
          <a:xfrm>
            <a:off x="2590920" y="1371240"/>
            <a:ext cx="4038480" cy="571500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днажды, когда я и мой брат Дима  легли спать, мы услышали, что звенит где то колокольчик. И вдруг мы увидели маленькую фею, мы  сразу поняли,            что это зубная фея. Она очень красивая.              У неё была волшебная палочка , а сзади прозрачные крылышки. У неё ещё есть блестящая сумочка, в которой лежат всякие волшебные порошёчки.              Зубная фея очень маленькая, это для того, чтобы  она могла незаметно зайти        в дом. Феи бывают разные, а зубная фея только одна.                                                        Я верю   в зубную фею, потому что только эта фея приходит по ночам, звенит                 в колокольчик  и забирает молочные зубы, которые шатаются. За каждый зуб, фея даёт какой нибудь подарок, или превращает детские молочные зубы               в монетки.  У меня уже шатается один зуб и я очень жду, когда он выпадет, и только тогда зубная фея подарит мне подарок       и превратит мой зуб в монетку. </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 Анна Филимонова (5лет)</a:t>
            </a:r>
            <a:endParaRPr b="0" lang="en-US" sz="1400" spc="-1" strike="noStrike">
              <a:solidFill>
                <a:srgbClr val="000000"/>
              </a:solidFill>
              <a:latin typeface="Arial"/>
            </a:endParaRPr>
          </a:p>
        </p:txBody>
      </p:sp>
      <p:pic>
        <p:nvPicPr>
          <p:cNvPr id="56" name="Picture 8" descr=""/>
          <p:cNvPicPr/>
          <p:nvPr/>
        </p:nvPicPr>
        <p:blipFill>
          <a:blip r:embed="rId2"/>
          <a:stretch/>
        </p:blipFill>
        <p:spPr>
          <a:xfrm>
            <a:off x="1905120" y="6934320"/>
            <a:ext cx="350496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on5"/>
          <p:cNvPicPr/>
          <p:nvPr/>
        </p:nvPicPr>
        <p:blipFill>
          <a:blip r:embed="rId1"/>
          <a:stretch/>
        </p:blipFill>
        <p:spPr>
          <a:xfrm>
            <a:off x="0" y="0"/>
            <a:ext cx="6843600" cy="9144000"/>
          </a:xfrm>
          <a:prstGeom prst="rect">
            <a:avLst/>
          </a:prstGeom>
          <a:ln w="0">
            <a:noFill/>
          </a:ln>
        </p:spPr>
      </p:pic>
      <p:sp>
        <p:nvSpPr>
          <p:cNvPr id="58" name="PlaceHolder 1"/>
          <p:cNvSpPr>
            <a:spLocks noGrp="1"/>
          </p:cNvSpPr>
          <p:nvPr>
            <p:ph type="title"/>
          </p:nvPr>
        </p:nvSpPr>
        <p:spPr>
          <a:xfrm>
            <a:off x="380880" y="2895480"/>
            <a:ext cx="6019920" cy="18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                                   </a:t>
            </a:r>
            <a:r>
              <a:rPr b="1" i="1" lang="ru-RU" sz="2400" spc="-1" strike="noStrike">
                <a:solidFill>
                  <a:srgbClr val="333399"/>
                </a:solidFill>
                <a:latin typeface="Arial"/>
              </a:rPr>
              <a:t>Рассказ</a:t>
            </a:r>
            <a:br>
              <a:rPr sz="2400"/>
            </a:br>
            <a:r>
              <a:rPr b="1" i="1" lang="ru-RU" sz="2400" spc="-1" strike="noStrike">
                <a:solidFill>
                  <a:srgbClr val="333399"/>
                </a:solidFill>
                <a:latin typeface="Arial"/>
              </a:rPr>
              <a:t>                    </a:t>
            </a:r>
            <a:r>
              <a:rPr b="1" i="1" lang="ru-RU" sz="2400" spc="-1" strike="noStrike">
                <a:solidFill>
                  <a:srgbClr val="000099"/>
                </a:solidFill>
                <a:latin typeface="Arial"/>
              </a:rPr>
              <a:t>«Как Иванушка </a:t>
            </a:r>
            <a:br>
              <a:rPr sz="2400"/>
            </a:br>
            <a:r>
              <a:rPr b="1" i="1" lang="ru-RU" sz="2400" spc="-1" strike="noStrike">
                <a:solidFill>
                  <a:srgbClr val="000099"/>
                </a:solidFill>
                <a:latin typeface="Arial"/>
              </a:rPr>
              <a:t>        не послушался маму и папу.»</a:t>
            </a:r>
            <a:br>
              <a:rPr sz="1600"/>
            </a:br>
            <a:br>
              <a:rPr sz="1600"/>
            </a:br>
            <a:r>
              <a:rPr b="1" lang="ru-RU" sz="1400" spc="-1" strike="noStrike">
                <a:solidFill>
                  <a:srgbClr val="000000"/>
                </a:solidFill>
                <a:latin typeface="Arial"/>
              </a:rPr>
              <a:t>В одном, не очень большом , городе, жили мама, папа и сын Иванушка. Ещё у них была кошка, её звали «Килька».                   Они вечером все ходили гулять с «Килькой». Иванушка не всегда слушал, что ему говорили мама и папа. Однажды они все пошли гулять. На улице ещё была зима.  Мама и папа сказали Иванушке, чтобы он не ел снег и не лизал сосульки. И вот, когда мама и папа гуляли с кошкой «Килькой», Иванушка незаметно спрятался за горку, и там попробовал снег и полизал сосульку. А вечером, когда все уже стали ложиться спать, мама услышала, что Иванушка сильно плачет. Она пришла к нему в комнату,         и он ей сказал, что у него очень сильно болит живот,                        и почему то живот стал сильно большой. Мама позвонила врачу.               Врач приехал быстро, осмотрел Иванушку и срочно забрал            в больницу. Доктор, сфотографировал всё в животе и сказал,                       что у Иванушки в животе вырос огромный микроб и ему срочно нужно делать операцию. Когда Иванушке разрезали живот,           то там увидели микроба, он был очень большой и «фу» неприятный, скользкий какой то. Микроб выскользнул из рук врача и стал бегать по всей больнице. Врач еле-еле поймал        его и разрезал его, положил в большую банку, и залил его лекарством, чтобы все видели какой страшный этот микроб.         А когда Иванушке зашили живот, он выздоровел, и сказал, что будет всегда слушать маму и папу. И никогда в жизни не будет есть снег и лизать сосульки. А ещё потом, когда Иванушка вырос, он тоже стал доктором, чтобы спасать людей. </a:t>
            </a:r>
            <a:br>
              <a:rPr sz="1400"/>
            </a:br>
            <a:br>
              <a:rPr sz="1600"/>
            </a:br>
            <a:r>
              <a:rPr b="1" i="1" lang="ru-RU" sz="1600" spc="-1" strike="noStrike">
                <a:solidFill>
                  <a:srgbClr val="000000"/>
                </a:solidFill>
                <a:latin typeface="Arial"/>
              </a:rPr>
              <a:t>                           </a:t>
            </a:r>
            <a:r>
              <a:rPr b="1" lang="ru-RU" sz="1400" spc="-1" strike="noStrike">
                <a:solidFill>
                  <a:srgbClr val="000000"/>
                </a:solidFill>
                <a:latin typeface="Arial"/>
              </a:rPr>
              <a:t>Автор: Глеб Голубев (5лет)</a:t>
            </a:r>
            <a:endParaRPr b="0" lang="en-US" sz="1400" spc="-1" strike="noStrike">
              <a:solidFill>
                <a:srgbClr val="000000"/>
              </a:solidFill>
              <a:latin typeface="Arial"/>
            </a:endParaRPr>
          </a:p>
        </p:txBody>
      </p:sp>
      <p:sp>
        <p:nvSpPr>
          <p:cNvPr id="59" name="AutoShape 7"/>
          <p:cNvSpPr/>
          <p:nvPr/>
        </p:nvSpPr>
        <p:spPr>
          <a:xfrm>
            <a:off x="3276720" y="4419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8" descr="15_1c"/>
          <p:cNvPicPr/>
          <p:nvPr/>
        </p:nvPicPr>
        <p:blipFill>
          <a:blip r:embed="rId2"/>
          <a:stretch/>
        </p:blipFill>
        <p:spPr>
          <a:xfrm>
            <a:off x="152280" y="152280"/>
            <a:ext cx="1105200" cy="1035000"/>
          </a:xfrm>
          <a:prstGeom prst="rect">
            <a:avLst/>
          </a:prstGeom>
          <a:ln w="0">
            <a:noFill/>
          </a:ln>
        </p:spPr>
      </p:pic>
      <p:sp>
        <p:nvSpPr>
          <p:cNvPr id="61" name="AutoShape 10"/>
          <p:cNvSpPr/>
          <p:nvPr/>
        </p:nvSpPr>
        <p:spPr>
          <a:xfrm>
            <a:off x="3276720" y="4419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0" y="0"/>
            <a:ext cx="6858000" cy="9144000"/>
          </a:xfrm>
          <a:prstGeom prst="rect">
            <a:avLst/>
          </a:prstGeom>
          <a:ln w="0">
            <a:noFill/>
          </a:ln>
        </p:spPr>
      </p:pic>
      <p:sp>
        <p:nvSpPr>
          <p:cNvPr id="63" name="PlaceHolder 1"/>
          <p:cNvSpPr>
            <a:spLocks noGrp="1"/>
          </p:cNvSpPr>
          <p:nvPr>
            <p:ph type="title"/>
          </p:nvPr>
        </p:nvSpPr>
        <p:spPr>
          <a:xfrm>
            <a:off x="533520" y="609480"/>
            <a:ext cx="55814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казка-рассказ</a:t>
            </a:r>
            <a:br>
              <a:rPr sz="2400"/>
            </a:br>
            <a:r>
              <a:rPr b="1" i="1" lang="ru-RU" sz="2400" spc="-1" strike="noStrike">
                <a:solidFill>
                  <a:srgbClr val="333399"/>
                </a:solidFill>
                <a:latin typeface="Arial"/>
              </a:rPr>
              <a:t>«Русские богатыри»</a:t>
            </a:r>
            <a:endParaRPr b="0" lang="en-US" sz="2400" spc="-1" strike="noStrike">
              <a:solidFill>
                <a:srgbClr val="000000"/>
              </a:solidFill>
              <a:latin typeface="Arial"/>
            </a:endParaRPr>
          </a:p>
        </p:txBody>
      </p:sp>
      <p:sp>
        <p:nvSpPr>
          <p:cNvPr id="64" name="PlaceHolder 2"/>
          <p:cNvSpPr>
            <a:spLocks noGrp="1"/>
          </p:cNvSpPr>
          <p:nvPr>
            <p:ph type="subTitle"/>
          </p:nvPr>
        </p:nvSpPr>
        <p:spPr>
          <a:xfrm>
            <a:off x="1218960" y="1980720"/>
            <a:ext cx="4343400" cy="49532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ил был богатырь Никола.                             Был у него братец Андрей. Отправились они в Кировскую Русь, в усадьбу Ивана Царевича. Сели они в машину и поехали далеко, далеко.                Долог был их путь, ехали они по горам,           по ухабам, среди царских полей, да домов купеческих. Помогали им бороться со скукой гаджеты заморские, да сон сморил их глубокий. Ехали, ехали и в сказку приехали. Встречала их девица краснощёкая Настасья, заплатили они налог за вход да за выход. Пошли они кататься на конях чудных – квадрациклами, которые зовутся.                  Гоняли они очень быстро, только снег из под колёс летел.                                                             Холодок заманил их в «Весёлый городок» , долго боролись они там с чудовищами                и выбрались только с помощью ковра самолёта по горе высокой. Дальше встретил их Соловей разбойник, завёл их в свой домик на дереве, спросил вопросы каверзные. Чтобы выбраться надо было правильно одеть шапку и покрутить колесо фортуны….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0"/>
            <a:ext cx="6858000" cy="9144000"/>
          </a:xfrm>
          <a:prstGeom prst="rect">
            <a:avLst/>
          </a:prstGeom>
          <a:ln w="0">
            <a:noFill/>
          </a:ln>
        </p:spPr>
      </p:pic>
      <p:sp>
        <p:nvSpPr>
          <p:cNvPr id="66" name="Rectangle 5"/>
          <p:cNvSpPr/>
          <p:nvPr/>
        </p:nvSpPr>
        <p:spPr>
          <a:xfrm>
            <a:off x="1447920" y="1523880"/>
            <a:ext cx="3733560" cy="5164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a:t>
            </a:r>
            <a:r>
              <a:rPr b="1" lang="ru-RU" sz="1400" spc="-1" strike="noStrike">
                <a:solidFill>
                  <a:srgbClr val="000000"/>
                </a:solidFill>
                <a:latin typeface="Arial"/>
              </a:rPr>
              <a:t>Дальше забрели они в домик                            к царевне лягушке, рассказала она им сказку интересную и повесила обереги на спинушку богатырскую.             Встретили они зверей невиданных хасок и победили они их хитростью      и добротой и стали они добрыми.       Бились они со злыми зелёными свинками с помощью огромной рогатки и победили в этой битве.                      Баба –Яга завела их в тоннель непроглядный, прошли они и этот путь опасный через лучи огненные.               Еле они вышли да и попали в крепость к Кощею. Долго он их заговорить пытался, да ответили они на все вопросы и шуточки. Затем забрели они в болото и только мышка норушка помогла им выбраться на чудо-банане.  Встретился им Змей Горыныч, один богатырь стрелял из автомата, второй из арбалета, а третьего не было.                И вдруг  к ним пришёл Иван Царевич          и помог им победить.                             Вот и сказочке конец, а кто слушал молодец!</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ы: Николай Грибанов (5лет)</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ндрей Грибанов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5T10:03:52Z</dcterms:created>
  <dc:creator>Bhbyf</dc:creator>
  <dc:description/>
  <dc:language>en-US</dc:language>
  <cp:lastModifiedBy>RePack by Diakov</cp:lastModifiedBy>
  <dcterms:modified xsi:type="dcterms:W3CDTF">2023-02-17T07:49:4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