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AB0-5E4B-46CF-9AE7-CCC7F3B7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0AA-D7D0-439F-A1F5-C27A7915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749-6E31-41F4-B64A-83B21BF5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A6A-A2B0-4C36-ADC5-712729C0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FF65-2B2D-491C-ABA4-74D17A3C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3388-08D9-4ACF-BAF4-438FA9F4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6BD-43D9-47F9-B96C-A8CA1693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A68-CBE3-4EEE-B6AE-F0DACE5D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96A9-952F-42DB-878C-6C50A2DC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5F36-5DDA-4B27-86F7-EAF82D1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6AD-2966-4057-99C4-C667ACB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CB4-184A-459A-8504-564EEDEF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16B4-5D6A-4826-B8A6-8A20A24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4C57-6613-4041-A1D4-58D9B6F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2CC-9A42-43D3-BEE1-62D37DB7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D7D5-C437-430F-88D1-62EC012E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2172-6C3A-4D35-AD90-5E70D391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EE4-1A5B-44FE-A7C8-7E3847BA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943-723F-4FAB-8AEE-C0E9AB24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B09-2967-4B34-94D7-796B8C11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6DA-AEBD-481B-89F2-766A9F0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DEE-F840-461C-9587-98EB33B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724-8C3D-4556-B780-E7ECC10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F3B-A851-4DDB-A10F-A75CDA4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C9D9-0CA5-4F75-A268-AC9C31743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EFD-7F55-4285-BA85-31295C9870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Глобальные проблемы человечества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ологические пробл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ути решения экологической проблем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некий набор общих подходов к решению проблем окружающ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ы улучшения качества окружающей сред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Технологическ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разработка новых техноло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чистные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амена топ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электрификация производства, быта, транспор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02"/>
          <p:cNvPicPr/>
          <p:nvPr/>
        </p:nvPicPr>
        <p:blipFill>
          <a:blip r:embed="rId1"/>
          <a:stretch/>
        </p:blipFill>
        <p:spPr>
          <a:xfrm>
            <a:off x="250920" y="1700280"/>
            <a:ext cx="367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54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Архитектурно-Планировочные мероприят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зонирование территории населенного пун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зеленение населенных м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организация санитарно-защитных зо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Экономическ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равов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оздание законодательных актов по поддержанию качества окружающей сред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Инженерно-организацио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уменьшение стоянок автомобилей у светоф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снижение интенсивности движения транспорта на перегруженных автомагистра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8702043"/>
          <p:cNvPicPr/>
          <p:nvPr/>
        </p:nvPicPr>
        <p:blipFill>
          <a:blip r:embed="rId1"/>
          <a:stretch/>
        </p:blipFill>
        <p:spPr>
          <a:xfrm>
            <a:off x="5580000" y="1125360"/>
            <a:ext cx="338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419640" y="259920"/>
            <a:ext cx="547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этого, за последнее столетие человечество разработало ряд оригинальны способов борьбы с экологическими проблемами. К числу таких способов можно отнести возникновение и деятельность разного рода “зеленых” движений и организаций. Кроме “Green Peace^a”, отличающегося размахом своей деятельности, существуют аналогичные организации непосредственно проводящие природоохранные акции. Также есть другой тип экологических организаций: структуры, которые стимулируют и спонсируют природоохранную деятельность(Фонд дикой природ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6" descr="title"/>
          <p:cNvPicPr/>
          <p:nvPr/>
        </p:nvPicPr>
        <p:blipFill>
          <a:blip r:embed="rId1"/>
          <a:stretch/>
        </p:blipFill>
        <p:spPr>
          <a:xfrm>
            <a:off x="250920" y="3552840"/>
            <a:ext cx="331308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vlad_map1"/>
          <p:cNvPicPr/>
          <p:nvPr/>
        </p:nvPicPr>
        <p:blipFill>
          <a:blip r:embed="rId2"/>
          <a:stretch/>
        </p:blipFill>
        <p:spPr>
          <a:xfrm>
            <a:off x="395280" y="18900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79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разного рода объединений в сфере решения экологических проблем, существует целый ряд государственных или общественных природоохранных инициатив: природоохранное законодательство в России и других странах мира, различные международные соглашения или система “Красных книг”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исле важнейших путей решения экологических проблем большинство исследователей также выделяет внедрение экологически чистых, мало- и безотходных технологий, строительство очистных сооружений, рациональное размещение производства и использование природных ресур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7" descr="0005037"/>
          <p:cNvPicPr/>
          <p:nvPr/>
        </p:nvPicPr>
        <p:blipFill>
          <a:blip r:embed="rId1"/>
          <a:stretch/>
        </p:blipFill>
        <p:spPr>
          <a:xfrm>
            <a:off x="179280" y="1125360"/>
            <a:ext cx="3384720" cy="482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писок литератур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естник Московского Университета. –1996. - №2. – серия 6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Основы политологии: Учебник для вузов. – М.: ИТРК РСПП,1997. –480 с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Радугин А.А. Философия курс лекций. – М,: Изд-во «Центр», 1996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Свободная мысль. –1996. -№8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Энциклопедический словар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хема глобальных проблем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2700360" y="4076640"/>
            <a:ext cx="33116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обальные прогноз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потезы и про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250920" y="2276640"/>
            <a:ext cx="165564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2268360" y="2276640"/>
            <a:ext cx="165600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ору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4500720" y="2276640"/>
            <a:ext cx="216036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7164360" y="1989000"/>
            <a:ext cx="172872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до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тал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ющих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6948360" y="3357720"/>
            <a:ext cx="205128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ного осво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смо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4572000" y="3213000"/>
            <a:ext cx="187308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2340000" y="3141720"/>
            <a:ext cx="19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нергетическая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ырьев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250920" y="3141720"/>
            <a:ext cx="1871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2916360" y="1341360"/>
            <a:ext cx="29509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лобальные проблем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еловеч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6012000" y="4941720"/>
            <a:ext cx="29509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бальные гипотезы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2484360" y="5373720"/>
            <a:ext cx="323856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атег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ойчивого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5940360" y="6093000"/>
            <a:ext cx="295128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ойчивое развити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огра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611280" y="6021360"/>
            <a:ext cx="1728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ойчив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539640" y="4869000"/>
            <a:ext cx="172872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б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но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 flipH="1">
            <a:off x="1476360" y="5661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5796000" y="573408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6084720" y="443700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2"/>
          <p:cNvSpPr/>
          <p:nvPr/>
        </p:nvSpPr>
        <p:spPr>
          <a:xfrm flipH="1">
            <a:off x="1402920" y="443700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6516720" y="3500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5"/>
          <p:cNvSpPr/>
          <p:nvPr/>
        </p:nvSpPr>
        <p:spPr>
          <a:xfrm flipV="1">
            <a:off x="6877080" y="1628280"/>
            <a:ext cx="0" cy="18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5867280" y="1628640"/>
            <a:ext cx="208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558000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7956720" y="1628640"/>
            <a:ext cx="0" cy="2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49"/>
          <p:cNvSpPr/>
          <p:nvPr/>
        </p:nvSpPr>
        <p:spPr>
          <a:xfrm flipH="1">
            <a:off x="971640" y="1628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50"/>
          <p:cNvSpPr/>
          <p:nvPr/>
        </p:nvSpPr>
        <p:spPr>
          <a:xfrm flipV="1">
            <a:off x="1979640" y="162864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1"/>
          <p:cNvSpPr/>
          <p:nvPr/>
        </p:nvSpPr>
        <p:spPr>
          <a:xfrm flipV="1">
            <a:off x="305928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3995640" y="1915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971640" y="162864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5"/>
          <p:cNvSpPr/>
          <p:nvPr/>
        </p:nvSpPr>
        <p:spPr>
          <a:xfrm>
            <a:off x="4356000" y="1916280"/>
            <a:ext cx="73080" cy="20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4356000" y="4869000"/>
            <a:ext cx="73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476360" y="56610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8"/>
          <p:cNvSpPr/>
          <p:nvPr/>
        </p:nvSpPr>
        <p:spPr>
          <a:xfrm>
            <a:off x="1403280" y="4437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59"/>
          <p:cNvSpPr/>
          <p:nvPr/>
        </p:nvSpPr>
        <p:spPr>
          <a:xfrm>
            <a:off x="7380360" y="4437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7164360" y="573408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ущность экологической проблемы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4000" y="1268280"/>
            <a:ext cx="64803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бщенно  говоря,  сущ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ой проблемы состоит в отчетливо  обнаружившемся  и  углубляющем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тиворечии   между   производительной    деятельности    человечества    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ьностью  природной  среды  его  обитания.   Как   отмечал   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ччеи:  «Истинная  проблема  человеческого  вида  на  данной  ступени   е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олюции состоит в том, что он оказался полностью не способным в  культурн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ношении идти в ногу и полностью приспособиться к тем  изменениям,  которы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 внес в этот мир»  Расчеты   учены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казывают,  что  техномасса,  производимая  человечеством  за   один   год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ляет [pic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[pic], а биомасса, производимая  на  суше  [pic]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7" descr="011"/>
          <p:cNvPicPr/>
          <p:nvPr/>
        </p:nvPicPr>
        <p:blipFill>
          <a:blip r:embed="rId1"/>
          <a:stretch/>
        </p:blipFill>
        <p:spPr>
          <a:xfrm>
            <a:off x="179280" y="1197000"/>
            <a:ext cx="266400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expkz40_08"/>
          <p:cNvPicPr/>
          <p:nvPr/>
        </p:nvPicPr>
        <p:blipFill>
          <a:blip r:embed="rId2"/>
          <a:stretch/>
        </p:blipFill>
        <p:spPr>
          <a:xfrm>
            <a:off x="179280" y="3716280"/>
            <a:ext cx="2592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504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 эт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четов следует, что уже сейчас человечество создало  искусственную  сред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которая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ся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дуктивней естественной  среды.  Искусственная  сре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епенно и неотвратимо наступает на естественную и   поглощает  ее  и  э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 из важнейших факторов, обуславливающий постановку перед  человечеств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экологической проблемы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1" descr="1822_1411"/>
          <p:cNvPicPr/>
          <p:nvPr/>
        </p:nvPicPr>
        <p:blipFill>
          <a:blip r:embed="rId1"/>
          <a:stretch/>
        </p:blipFill>
        <p:spPr>
          <a:xfrm>
            <a:off x="5219640" y="2133720"/>
            <a:ext cx="3749760" cy="424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ичины появления экологической проблемы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3640" y="1267920"/>
            <a:ext cx="532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ую  остроту  для   людей приобретает   пробле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семестного распространения в окружающей среде производств и продукций, 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ую очередь, радиационных и токсичных видов. В  год  на  каждого  жител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и приходится более 20 тонн промышленных и других  отходов.  В  атмосфер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адает более 200 миллионов тонн окислов  серы  и  азота  и  миллионы  тон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лекислого газа, выбрасываемого в атмосфер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8" descr="musor1"/>
          <p:cNvPicPr/>
          <p:nvPr/>
        </p:nvPicPr>
        <p:blipFill>
          <a:blip r:embed="rId1"/>
          <a:stretch/>
        </p:blipFill>
        <p:spPr>
          <a:xfrm>
            <a:off x="179280" y="2133720"/>
            <a:ext cx="3600720" cy="388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8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уже в обозримом  будущ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вызвать повышение температуры атмосферы, а вслед за  этим,   повыш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вня морей и затопление значительных участков  суши.  В  результате  сот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лионов людей рискуют превратиться в «экологических беженцев».      Глобальные проблемы современности и, прежде всего,  резкое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стр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ой проблемы, поставило перед человечеством  задачу  поиска  новы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тей развития, перестройки своих отношений с окружающей сре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7" descr="4fd78de5770d21eca1dcc5b3df10b13f"/>
          <p:cNvPicPr/>
          <p:nvPr/>
        </p:nvPicPr>
        <p:blipFill>
          <a:blip r:embed="rId1"/>
          <a:srcRect l="0" t="0" r="4332" b="0"/>
          <a:stretch/>
        </p:blipFill>
        <p:spPr>
          <a:xfrm>
            <a:off x="4788000" y="2637000"/>
            <a:ext cx="3960720" cy="3744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следствия экологических пробле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42920" y="1557360"/>
            <a:ext cx="604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логическая проблема, в современном виде возникла  в  60-х  годах текущего столетия. С того времени стали проявляться и  усиливаться  симптомы экологического кризиса, в которые в  наши  дни  характерен  практически  для всех континентов Земли, всех государств. Экологический кризис –  это  резкое ухудшение состояния  естественной  среды   обитания  человека  (биосферы)  в результате нарастающего отравления и  загрязнения  земли,  воды,  атмосферы. Одно из проявлений системного кризиса современной цивилизации. Составные элементы экологического  кризиса:  разрушение  естественного баланса газового состава атмосфер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8" descr="Generated-HDR---Tone-mapped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54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ается устойчивая тенденция повышения удельного веса  углекисло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за ([pic]) в атмосфере планеты. С 1860 года, т.е. за 130 лет,  доля  [pic]в атмосфере выросла на 30%, причем особенно быстрыми темпами  она  растет  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дние десятилетия. Разрушение озонового слоя атмосферы  озона  ([pic])  предохраняет  все живое  на  планете  от  губительного  ультрафиолетового  излучения   солнца. Разрушение  этого  слоя  равносильно  гибели   человечества, животного и растительного мира. Последствия нарушения газовой  оболочки  Земли  могут быть катастрофическими в связи с  так  называемым  «парниковым  эффектом» и обусловленным им потеплением  климата  на  Земле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03"/>
          <p:cNvPicPr/>
          <p:nvPr/>
        </p:nvPicPr>
        <p:blipFill>
          <a:blip r:embed="rId1"/>
          <a:stretch/>
        </p:blipFill>
        <p:spPr>
          <a:xfrm>
            <a:off x="5508720" y="1197000"/>
            <a:ext cx="3456000" cy="4897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59280" y="260280"/>
            <a:ext cx="59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читается,  что  примерно через 50 лет средняя температура на планете может повыситься на  1,5  –  4,5 [pic]. Исследования показывают, что за  1977-1987  гг.  по  всему  миру  слой озона стал тоньше примерно на 3%. Есть предположение, что к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 году  может быть уничтожено 16% озонового покрова Земли.      Состояние живой и неживой природы. Оно весьма негармонично  и  внушает серьёзные опасения  ввиду  неблагоприятных  тенденций  дальнейшей  эволюции. Председатель президиума Сибирского отделения  РАН,  ныне  покойный  академик В.А. Коптюг (один из авторов концепции устойчивого развития)  отмечает,  что ежегодно выводится из строя и превращается в бесплодную пустыню  6  млн.  Га плодородных земел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017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6:04:59Z</dcterms:created>
  <dc:creator>Пользователь</dc:creator>
  <dc:description/>
  <dc:language>en-US</dc:language>
  <cp:lastModifiedBy>1</cp:lastModifiedBy>
  <dcterms:modified xsi:type="dcterms:W3CDTF">2016-09-26T00:12:24Z</dcterms:modified>
  <cp:revision>19</cp:revision>
  <dc:subject/>
  <dc:title>Экологические проблемы человечества</dc:title>
</cp:coreProperties>
</file>