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1F8-C8C1-430A-82B7-0554D6FF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C32-9003-417E-9E15-A03302AF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E5CF-443D-4093-A031-58F9A335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53D-8EF0-436F-898C-5C83EF11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D0ED-3BE8-43B8-A09F-1DDCB870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09A5-BC39-4EDA-A5EF-0E39036A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A6AF-23E6-4E79-9FB0-93F25F45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0AD0-BD69-4E34-A1F4-576DB9C0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81CA-1DDD-42D1-BA09-8CE119C6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341C-B391-4148-961A-9F81CCA2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961A-F2AE-404C-BF51-A8D31032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256-F6F9-4806-B170-0A71C97F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ECC0-13C8-45CA-B8B8-4B7223F5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5D0B-6483-4959-9D41-F29568F9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3A38-E9E0-461C-A8FC-1785BE6A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1F8C-80A8-43D0-8764-69BF9CFE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6DB7-D291-4E2A-BB0E-C111E196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4E44-7C1D-4F23-A84C-A5B9E204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D3D-D999-4EA4-B4B3-F880C488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98D-476E-4467-822B-E39F638E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60B-3FD8-464C-AA83-1ACEA89E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1FF-59C5-4F10-88F0-A9E319D8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67C3-EE8E-4073-B367-C7A9815A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498-D361-480F-855A-1AE63873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29CE-3844-48FF-BCA1-0A54D0467B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B32F-6F0C-4E70-82AF-057BDC59CF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Глобальные проблемы человечества.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Экологические пробле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Пути решения экологической проблемы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5219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ществует некий набор общих подходов к решению проблем окружающей сре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ры улучшения качества окружающей среды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Технологическ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разработка новых технолог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очистные соору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замена топ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электрификация производства, быта, транспор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7" descr="02"/>
          <p:cNvPicPr/>
          <p:nvPr/>
        </p:nvPicPr>
        <p:blipFill>
          <a:blip r:embed="rId1"/>
          <a:stretch/>
        </p:blipFill>
        <p:spPr>
          <a:xfrm>
            <a:off x="250920" y="1700280"/>
            <a:ext cx="3673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540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Архитектурно-Планировочные мероприят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зонирование территории населенного пун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озеленение населенных ме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организация санитарно-защитных зон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Экономическ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Правовы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создание законодательных актов по поддержанию качества окружающей сред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Инженерно-организационны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уменьшение стоянок автомобилей у светоф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снижение интенсивности движения транспорта на перегруженных автомагистрал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7" descr="8702043"/>
          <p:cNvPicPr/>
          <p:nvPr/>
        </p:nvPicPr>
        <p:blipFill>
          <a:blip r:embed="rId1"/>
          <a:stretch/>
        </p:blipFill>
        <p:spPr>
          <a:xfrm>
            <a:off x="5580000" y="1125360"/>
            <a:ext cx="3384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419640" y="259920"/>
            <a:ext cx="5473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ме этого, за последнее столетие человечество разработало ряд оригинальны способов борьбы с экологическими проблемами. К числу таких способов можно отнести возникновение и деятельность разного рода “зеленых” движений и организаций. Кроме “Green Peace^a”, отличающегося размахом своей деятельности, существуют аналогичные организации непосредственно проводящие природоохранные акции. Также есть другой тип экологических организаций: структуры, которые стимулируют и спонсируют природоохранную деятельность(Фонд дикой природы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16" descr="title"/>
          <p:cNvPicPr/>
          <p:nvPr/>
        </p:nvPicPr>
        <p:blipFill>
          <a:blip r:embed="rId1"/>
          <a:stretch/>
        </p:blipFill>
        <p:spPr>
          <a:xfrm>
            <a:off x="250920" y="3552840"/>
            <a:ext cx="3313080" cy="2828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vlad_map1"/>
          <p:cNvPicPr/>
          <p:nvPr/>
        </p:nvPicPr>
        <p:blipFill>
          <a:blip r:embed="rId2"/>
          <a:stretch/>
        </p:blipFill>
        <p:spPr>
          <a:xfrm>
            <a:off x="395280" y="18900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348000" y="333360"/>
            <a:ext cx="5796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ме разного рода объединений в сфере решения экологических проблем, существует целый ряд государственных или общественных природоохранных инициатив: природоохранное законодательство в России и других странах мира, различные международные соглашения или система “Красных книг”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числе важнейших путей решения экологических проблем большинство исследователей также выделяет внедрение экологически чистых, мало- и безотходных технологий, строительство очистных сооружений, рациональное размещение производства и использование природных ресур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7" descr="0005037"/>
          <p:cNvPicPr/>
          <p:nvPr/>
        </p:nvPicPr>
        <p:blipFill>
          <a:blip r:embed="rId1"/>
          <a:stretch/>
        </p:blipFill>
        <p:spPr>
          <a:xfrm>
            <a:off x="179280" y="1125360"/>
            <a:ext cx="3384720" cy="4826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писок литературы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Вестник Московского Университета. –1996. - №2. – серия 6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Основы политологии: Учебник для вузов. – М.: ИТРК РСПП,1997. –480 с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Радугин А.А. Философия курс лекций. – М,: Изд-во «Центр», 1996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Свободная мысль. –1996. -№8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Энциклопедический словар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хема глобальных проблем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2700360" y="4076640"/>
            <a:ext cx="3311640" cy="79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лобальные прогноз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ипотезы и проек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250920" y="2276640"/>
            <a:ext cx="1655640" cy="57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ологическ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2268360" y="2276640"/>
            <a:ext cx="1656000" cy="57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ра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ору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4500720" y="2276640"/>
            <a:ext cx="2160360" cy="57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довольств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7164360" y="1989000"/>
            <a:ext cx="1728720" cy="1152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одол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стал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вивающихс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а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6948360" y="3357720"/>
            <a:ext cx="2051280" cy="718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рного осво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смос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0"/>
          <p:cNvSpPr/>
          <p:nvPr/>
        </p:nvSpPr>
        <p:spPr>
          <a:xfrm>
            <a:off x="4572000" y="3213000"/>
            <a:ext cx="187308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рового океа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2340000" y="3141720"/>
            <a:ext cx="194472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нергетическая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ырьев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250920" y="3141720"/>
            <a:ext cx="187164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мографическ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3"/>
          <p:cNvSpPr/>
          <p:nvPr/>
        </p:nvSpPr>
        <p:spPr>
          <a:xfrm>
            <a:off x="2916360" y="1341360"/>
            <a:ext cx="295092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лобальные проблем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человече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6012000" y="4941720"/>
            <a:ext cx="295092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обальные гипотезы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35"/>
          <p:cNvSpPr/>
          <p:nvPr/>
        </p:nvSpPr>
        <p:spPr>
          <a:xfrm>
            <a:off x="2484360" y="5373720"/>
            <a:ext cx="3238560" cy="863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ратег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стойчивого развит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6"/>
          <p:cNvSpPr/>
          <p:nvPr/>
        </p:nvSpPr>
        <p:spPr>
          <a:xfrm>
            <a:off x="5940360" y="6093000"/>
            <a:ext cx="2951280" cy="57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тойчивое развитие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еограф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611280" y="6021360"/>
            <a:ext cx="172872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тойчиво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вит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8"/>
          <p:cNvSpPr/>
          <p:nvPr/>
        </p:nvSpPr>
        <p:spPr>
          <a:xfrm>
            <a:off x="539640" y="4869000"/>
            <a:ext cx="1728720" cy="57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обаль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ноз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39"/>
          <p:cNvSpPr/>
          <p:nvPr/>
        </p:nvSpPr>
        <p:spPr>
          <a:xfrm flipH="1">
            <a:off x="1476360" y="566100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0"/>
          <p:cNvSpPr/>
          <p:nvPr/>
        </p:nvSpPr>
        <p:spPr>
          <a:xfrm>
            <a:off x="5796000" y="573408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41"/>
          <p:cNvSpPr/>
          <p:nvPr/>
        </p:nvSpPr>
        <p:spPr>
          <a:xfrm>
            <a:off x="6084720" y="4437000"/>
            <a:ext cx="1297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42"/>
          <p:cNvSpPr/>
          <p:nvPr/>
        </p:nvSpPr>
        <p:spPr>
          <a:xfrm flipH="1">
            <a:off x="1402920" y="4437000"/>
            <a:ext cx="1297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4"/>
          <p:cNvSpPr/>
          <p:nvPr/>
        </p:nvSpPr>
        <p:spPr>
          <a:xfrm>
            <a:off x="6516720" y="350028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45"/>
          <p:cNvSpPr/>
          <p:nvPr/>
        </p:nvSpPr>
        <p:spPr>
          <a:xfrm flipV="1">
            <a:off x="6877080" y="1628280"/>
            <a:ext cx="0" cy="18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46"/>
          <p:cNvSpPr/>
          <p:nvPr/>
        </p:nvSpPr>
        <p:spPr>
          <a:xfrm>
            <a:off x="5867280" y="1628640"/>
            <a:ext cx="208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47"/>
          <p:cNvSpPr/>
          <p:nvPr/>
        </p:nvSpPr>
        <p:spPr>
          <a:xfrm>
            <a:off x="5580000" y="191628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48"/>
          <p:cNvSpPr/>
          <p:nvPr/>
        </p:nvSpPr>
        <p:spPr>
          <a:xfrm>
            <a:off x="7956720" y="1628640"/>
            <a:ext cx="0" cy="28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49"/>
          <p:cNvSpPr/>
          <p:nvPr/>
        </p:nvSpPr>
        <p:spPr>
          <a:xfrm flipH="1">
            <a:off x="971640" y="1628640"/>
            <a:ext cx="194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50"/>
          <p:cNvSpPr/>
          <p:nvPr/>
        </p:nvSpPr>
        <p:spPr>
          <a:xfrm flipV="1">
            <a:off x="1979640" y="1628640"/>
            <a:ext cx="0" cy="1440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51"/>
          <p:cNvSpPr/>
          <p:nvPr/>
        </p:nvSpPr>
        <p:spPr>
          <a:xfrm flipV="1">
            <a:off x="3059280" y="191628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52"/>
          <p:cNvSpPr/>
          <p:nvPr/>
        </p:nvSpPr>
        <p:spPr>
          <a:xfrm flipV="1">
            <a:off x="3995640" y="1915920"/>
            <a:ext cx="0" cy="115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53"/>
          <p:cNvSpPr/>
          <p:nvPr/>
        </p:nvSpPr>
        <p:spPr>
          <a:xfrm>
            <a:off x="971640" y="162864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55"/>
          <p:cNvSpPr/>
          <p:nvPr/>
        </p:nvSpPr>
        <p:spPr>
          <a:xfrm>
            <a:off x="4356000" y="1916280"/>
            <a:ext cx="73080" cy="20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56"/>
          <p:cNvSpPr/>
          <p:nvPr/>
        </p:nvSpPr>
        <p:spPr>
          <a:xfrm>
            <a:off x="4356000" y="4869000"/>
            <a:ext cx="7308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1476360" y="566100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58"/>
          <p:cNvSpPr/>
          <p:nvPr/>
        </p:nvSpPr>
        <p:spPr>
          <a:xfrm>
            <a:off x="1403280" y="4437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59"/>
          <p:cNvSpPr/>
          <p:nvPr/>
        </p:nvSpPr>
        <p:spPr>
          <a:xfrm>
            <a:off x="7380360" y="4437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7164360" y="573408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Сущность экологической проблемы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84000" y="1268280"/>
            <a:ext cx="6480360" cy="49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бщенно  говоря,  сущност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ологической проблемы состоит в отчетливо  обнаружившемся  и  углубляющемс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тиворечии   между   производительной    деятельности    человечества    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бильностью  природной  среды  его  обитания.   Как   отмечал   А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ччеи:  «Истинная  проблема  человеческого  вида  на  данной  ступени   ег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волюции состоит в том, что он оказался полностью не способным в  культурно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ношении идти в ногу и полностью приспособиться к тем  изменениям,  которы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м внес в этот мир»  Расчеты   учены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казывают,  что  техномасса,  производимая  человечеством  за   один   год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ляет [pic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[pic], а биомасса, производимая  на  суше  [pic]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7" descr="011"/>
          <p:cNvPicPr/>
          <p:nvPr/>
        </p:nvPicPr>
        <p:blipFill>
          <a:blip r:embed="rId1"/>
          <a:stretch/>
        </p:blipFill>
        <p:spPr>
          <a:xfrm>
            <a:off x="179280" y="1197000"/>
            <a:ext cx="2664000" cy="2189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expkz40_08"/>
          <p:cNvPicPr/>
          <p:nvPr/>
        </p:nvPicPr>
        <p:blipFill>
          <a:blip r:embed="rId2"/>
          <a:stretch/>
        </p:blipFill>
        <p:spPr>
          <a:xfrm>
            <a:off x="179280" y="3716280"/>
            <a:ext cx="2592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504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 эти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четов следует, что уже сейчас человечество создало  искусственную  сред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которая 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сят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дуктивней естественной  среды.  Искусственная  сред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епенно и неотвратимо наступает на естественную и   поглощает  ее  и  эт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ин из важнейших факторов, обуславливающий постановку перед  человечество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экологической проблемы.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11" descr="1822_1411"/>
          <p:cNvPicPr/>
          <p:nvPr/>
        </p:nvPicPr>
        <p:blipFill>
          <a:blip r:embed="rId1"/>
          <a:stretch/>
        </p:blipFill>
        <p:spPr>
          <a:xfrm>
            <a:off x="5219640" y="2133720"/>
            <a:ext cx="3749760" cy="4248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244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ричины появления экологической проблемы.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563640" y="1267920"/>
            <a:ext cx="532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обую  остроту  для   людей приобретает   проблем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семестного распространения в окружающей среде производств и продукций,  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вую очередь, радиационных и токсичных видов. В  год  на  каждого  жител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и приходится более 20 тонн промышленных и других  отходов.  В  атмосфер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падает более 200 миллионов тонн окислов  серы  и  азота  и  миллионы  тон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глекислого газа, выбрасываемого в атмосфер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8" descr="musor1"/>
          <p:cNvPicPr/>
          <p:nvPr/>
        </p:nvPicPr>
        <p:blipFill>
          <a:blip r:embed="rId1"/>
          <a:stretch/>
        </p:blipFill>
        <p:spPr>
          <a:xfrm>
            <a:off x="179280" y="2133720"/>
            <a:ext cx="3600720" cy="3887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4897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это уже в обозримом  будуще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ет вызвать повышение температуры атмосферы, а вслед за  этим,   повышен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овня морей и затопление значительных участков  суши.  В  результате  сотн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иллионов людей рискуют превратиться в «экологических беженцев».      Глобальные проблемы современности и, прежде всего,  резкое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стрен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ологической проблемы, поставило перед человечеством  задачу  поиска  новы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утей развития, перестройки своих отношений с окружающей средо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7" descr="4fd78de5770d21eca1dcc5b3df10b13f"/>
          <p:cNvPicPr/>
          <p:nvPr/>
        </p:nvPicPr>
        <p:blipFill>
          <a:blip r:embed="rId1"/>
          <a:srcRect l="0" t="0" r="4332" b="0"/>
          <a:stretch/>
        </p:blipFill>
        <p:spPr>
          <a:xfrm>
            <a:off x="4788000" y="2637000"/>
            <a:ext cx="3960720" cy="3744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Последствия экологических проблем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42920" y="1557360"/>
            <a:ext cx="604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ологическая проблема, в современном виде возникла  в  60-х  годах текущего столетия. С того времени стали проявляться и  усиливаться  симптомы экологического кризиса, в которые в  наши  дни  характерен  практически  для всех континентов Земли, всех государств. Экологический кризис –  это  резкое ухудшение состояния  естественной  среды   обитания  человека  (биосферы)  в результате нарастающего отравления и  загрязнения  земли,  воды,  атмосферы. Одно из проявлений системного кризиса современной цивилизации. Составные элементы экологического  кризиса:  разрушение  естественного баланса газового состава атмосфер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8" descr="Generated-HDR---Tone-mapped"/>
          <p:cNvPicPr/>
          <p:nvPr/>
        </p:nvPicPr>
        <p:blipFill>
          <a:blip r:embed="rId1"/>
          <a:stretch/>
        </p:blipFill>
        <p:spPr>
          <a:xfrm>
            <a:off x="179280" y="1628640"/>
            <a:ext cx="2880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5545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блюдается устойчивая тенденция повышения удельного веса  углекислог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аза ([pic]) в атмосфере планеты. С 1860 года, т.е. за 130 лет,  доля  [pic]в атмосфере выросла на 30%, причем особенно быстрыми темпами  она  растет  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дние десятилетия. Разрушение озонового слоя атмосферы  озона  ([pic])  предохраняет  все живое  на  планете  от  губительного  ультрафиолетового  излучения   солнца. Разрушение  этого  слоя  равносильно  гибели   человечества, животного и растительного мира. Последствия нарушения газовой  оболочки  Земли  могут быть катастрофическими в связи с  так  называемым  «парниковым  эффектом» и обусловленным им потеплением  климата  на  Земле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6" descr="03"/>
          <p:cNvPicPr/>
          <p:nvPr/>
        </p:nvPicPr>
        <p:blipFill>
          <a:blip r:embed="rId1"/>
          <a:stretch/>
        </p:blipFill>
        <p:spPr>
          <a:xfrm>
            <a:off x="5508720" y="1197000"/>
            <a:ext cx="3456000" cy="48974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59280" y="260280"/>
            <a:ext cx="590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читается,  что  примерно через 50 лет средняя температура на планете может повыситься на  1,5  –  4,5 [pic]. Исследования показывают, что за  1977-1987  гг.  по  всему  миру  слой озона стал тоньше примерно на 3%. Есть предположение, что к 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 году  может быть уничтожено 16% озонового покрова Земли.      Состояние живой и неживой природы. Оно весьма негармонично  и  внушает серьёзные опасения  ввиду  неблагоприятных  тенденций  дальнейшей  эволюции. Председатель президиума Сибирского отделения  РАН,  ныне  покойный  академик В.А. Коптюг (один из авторов концепции устойчивого развития)  отмечает,  что ежегодно выводится из строя и превращается в бесплодную пустыню  6  млн.  Га плодородных земел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6" descr="017"/>
          <p:cNvPicPr/>
          <p:nvPr/>
        </p:nvPicPr>
        <p:blipFill>
          <a:blip r:embed="rId1"/>
          <a:stretch/>
        </p:blipFill>
        <p:spPr>
          <a:xfrm>
            <a:off x="179280" y="1197000"/>
            <a:ext cx="3168720" cy="3960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16:04:59Z</dcterms:created>
  <dc:creator>Пользователь</dc:creator>
  <dc:description/>
  <dc:language>en-US</dc:language>
  <cp:lastModifiedBy>1</cp:lastModifiedBy>
  <dcterms:modified xsi:type="dcterms:W3CDTF">2016-09-26T00:12:24Z</dcterms:modified>
  <cp:revision>19</cp:revision>
  <dc:subject/>
  <dc:title>Экологические проблемы человечества</dc:title>
</cp:coreProperties>
</file>