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E9A-F646-4C69-901E-68C95F85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630-7E86-45A3-BFE5-158305AE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32722-8FF9-43D4-84B5-65EB140E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BF786-1E77-4D85-A760-5EAF6D50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F4F86-A810-4FBD-9D5F-4544E3DF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87282-5D4C-4801-88A3-7FD00A26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F4336-41C4-4691-8F35-E3C1E8C4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82DAC-4A42-4047-8B59-851ACC0B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45328-BF38-464E-87BB-6B314D6E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CD91D-6E72-4A5B-8C60-4B4FE39B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68599-0F5D-4BAD-B148-FCA31346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AD6A8-2202-4C93-AFA7-16DF7E40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6B4-5C05-453C-AE05-157E0350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18DDE-5126-4498-B0CA-814F4FB0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F9EB3-9042-4168-8B27-E213B83D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F0A42-A89F-4CF2-B3C4-CAEEF47E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F0414-0485-4B1F-A3B1-3E33F134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E8F20-5048-4157-906D-6474B053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D928D-4FBD-4CE6-ABA6-66ED1099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BFAA1-075B-4C49-92EB-EA1791AE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B2707-5D1E-4D81-87FA-CEB792D9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EB79D-660B-404A-BF5D-1142DE23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61932-13F2-4DDF-A20D-62EB988A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352-24C5-4956-8A94-A5A61589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9E153-286E-4F4D-B14F-70D31B04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AB8D1-B163-4D1B-9B9F-A1CAE4AD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07608-C17D-4C3E-A0E7-8B225443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17A0F-0CFA-4D1A-ADD5-AC29DE17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4F69F-679C-4918-8D5F-E6E65395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A28FD-F956-467C-807A-72655F86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9C865-BFB9-4C0A-A5BC-C5F7042D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F5C4D-BE50-44B1-ADB4-D0B24ECF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98915-9976-4674-B36E-46A79D66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CD51B-4A37-4699-A8AE-2505EE7E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6F6A-70C4-4115-845C-D0128A6A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E4D88-C06A-4E2D-A060-223A0752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995DA-ABDC-4BD0-8B8F-1961A2B4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BB1D5-D85E-4BE4-BDA3-4D265DFA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6B87E-BED7-45AB-8191-F06161D8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124BF-44C3-42F7-B087-50045497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1BDDC-FB28-472C-ADFE-2535F7F9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5A62C-93CA-40B2-A882-21AAA02A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F423E-AFE1-4AB8-A105-DE4C67D7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16839-AC3E-4BED-9F7D-FAF24BFE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07A4A-D31E-4175-93A5-01ACFB4E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285B-5DCE-49C9-A003-DE71513A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10DA8-714D-4255-9B57-15109E06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888AA-364D-4786-BCB5-2F863B0C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43F23-466B-4DEB-ABAD-082F93EE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5094F-974E-4F0D-8398-33F3DFC2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00756-696D-4962-B5A0-FEA72381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67E3E-7428-4B81-A730-2E75FFAD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6C103-89CB-4BA3-BA49-1B91D349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BF6D6-791D-4615-8387-CA219978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8B4DC-3085-4A32-87AB-0D2C9E7B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42885-7D74-4A13-9460-347916BD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8125-5B74-4B2E-A8D7-229E611A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52BBE-4379-415B-9E05-AE9A048D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F5009-AD21-4696-B1FD-E22BFB0E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9AF35-C0F2-499D-B977-EFF04535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AA5F6-7199-4A4F-B29F-8B6088DB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08E81-709C-4F0D-A89A-37C56FCA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400AA-1873-4FE0-AE33-49A96507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00362-7BEA-46DE-B70F-E6910A2D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A7FC6-A8C3-4102-A2BC-E28736A6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E14EA0-D989-4CF5-A15E-5738B203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E4F32-62B8-46A7-B745-BD3589C4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2A81-63CD-4A12-821F-1618ABB0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4CD0A-EA05-4C08-A6D7-8FAB812C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5EA5E1-2319-40EB-A573-0870E7F9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D2B08-C28B-4079-B472-79285A4E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EE33FB-26B8-493A-97E1-CB8866C4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A565E-B1A3-413C-908A-F78FFF12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E43F5-F5EE-4784-A099-9FD23CD1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2B86A7-E808-44CC-AF83-6142BF3A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42B80-2B42-410C-AEC2-F7FB6DC9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3D079-9DA3-4BEC-920D-D372FBBB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261E1D-B6B7-4C53-A19D-F9E69615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ABAF-B21C-4CF8-96DC-EBBFCCA8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F9EDD-E6A1-4DD0-8337-3E17F303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502EF-8903-42F0-BD1A-ACE2C2D1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EA11A5-5356-4507-AAA2-BDFB1E1F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E4E05-BED7-4100-B0A1-62B559F1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AB1CF9-9EEE-4E7C-807B-63F1EFEB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B118C-AE7B-4C08-B992-648AD61E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795CA5-1E1A-4F82-AE51-19D6ECA5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A69B0E-9C55-4F3B-A131-4C9E7A2D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2D3C5-6D7D-41A0-A107-74F650D7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758FED-6A35-48A8-804C-68FE8FAF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20BA-8C83-4B02-9170-7F813F66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3EB61-B22E-4A3C-B719-102257A8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76FC9B-4711-44B1-AB5F-F10BCFC3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0F7346-D395-46E9-B325-9B1ACD0D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8EA68-CC3F-4315-910A-47997BC1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650EAF-9E63-46E9-9018-8DD62DC5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B56FA-47D0-4D2F-9383-4C49CF41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79F34A-635D-42EC-AAD4-79EB4331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52C43-90C0-4259-B55D-D7727EC5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BFC41E-E1B8-4DDE-A8C8-97CE44A7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3D253-6936-47A0-9E08-F80527D0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F546-64F1-4A05-93E8-4B2549DE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E9602-0096-47A8-85CC-670F71D6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5FE428-A8C4-427A-92FA-085CE202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B2FFA6-312A-4D22-B21E-B8FA1022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174EFF-6529-443A-AEBA-09E92C20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26C03-AB1C-40DD-B32E-F92091AD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7E4667-1B97-4E22-B7E6-28E14BF0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FEC86F-566C-4602-BDBA-68A14F10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DD9CF3-A4C6-4191-8C0C-CDDDAA76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45082-D770-4235-81B5-30E55D95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1B1ACA-F5F7-414C-98FB-3E45FDB6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FB1-276D-4D86-9A6D-963FD1BE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4DCF-D026-43BD-A6C6-A354BC5C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C2B415-9549-4EBC-822B-CBD4F198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249B7E-7A94-4EC9-87A1-BAEB301F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9879DB-9083-4797-B83B-2B7F6E25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E5592B-23A3-48A9-AE52-38751784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4537EB-4EA4-4B5D-AED3-4C79E57B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7C7D6-F2B0-421D-AF93-0C369AEE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67C54-C1C0-4402-8018-021C0128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85F2C5-A71E-4C6E-B7C2-509D9454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130FE-F3DA-440F-A28D-2FB97F5A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B60D0E-E526-4067-AE76-F3BDF146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E5F6-81D8-4260-84BE-6FB65AEC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3C924C-EA6D-4361-A7F7-70493E69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D8AA7-951B-4F8E-9401-D1672D83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04BFA5-56AD-4BC9-9D52-F48F33C2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3C5F88-888A-42A6-A2D2-30FB16DB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48D456-F146-4284-85D7-E601EC38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D3D1A-C8AD-4678-B383-0D61CAAB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A2621F-5A2E-430C-B2B4-49CF7820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1F4C-785B-4F10-BC2E-F37458CF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8759-C21A-4C5E-9E0F-7604B067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E5AF-50F8-412B-B4FB-F41A58BE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8E638-70EB-4D32-94FE-D57A67CB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BB84-7208-429C-B866-ACDA2A44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4DEC1-3B57-494B-8085-E0E7064D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6F212-744B-469D-AB7D-D2BA4798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ACF9A-970E-4B4A-8BE6-33F22295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CA9-4631-4676-95D6-66A2A03C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8518E-E341-42F9-A440-E3B62ED5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52EBA-B067-4396-9332-3013E570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2CB8E-8039-4AAC-B092-A424D62D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99F1-94D6-4C83-AA40-38F9A088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11DC-7C78-4FDC-9204-F05AE690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4AECF-E45A-4468-B715-F03F4F46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CE73-878F-4AAC-BE5F-34A8B3E3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E56C0-3C2B-4228-A94B-2F8579C4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95C87-73ED-4A24-91C5-88E28FDA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2B0E7-A288-4596-BF15-3A850ED7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5CE-9D19-4006-82A9-C6F6ADEF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06CF9-F7AA-438D-99FE-120B4A37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4941D-7735-4E7D-AE60-D41C14DE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2A9AD-17CC-4768-AE56-8D2EB4C8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0FF6C-D300-44F1-B184-C64E6878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1E55D-E15A-4E1D-BF8B-86158200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B23BF-FE65-4BB0-903A-31006316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37CAB-B5F8-48C5-96FB-4F01B813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62D42-265A-41AF-ABD9-FFEE15BC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3F276-6F7E-4F88-BD9C-9F22491E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F668C-E946-48C4-AA52-88F4AB0A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BF4-6A48-45D2-A1B5-AFCC81D3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55358-23CE-4A5C-BD67-D19803D5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CF4ED-A340-4B5F-9865-D0CC8D54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31ABE-965B-4682-8AD3-AE2CDB22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5DF95-019C-4BAA-BC28-CC3C04F0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353C5-7349-4FF2-A77E-FB8164E3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A9F72-EDEF-4A44-8FB4-64218E03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F417E-18A4-4115-976A-2E366C69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784C5-DAF2-4F5C-AD0A-AB1C83BF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A620B-099F-4780-A4C9-E687EE1F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FDD03-7FF6-403D-A8E4-CC8724CD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C81-01E4-46E4-9233-B6139E2C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B3248-FFE2-4898-92FE-EACA99CA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1AC0C-824F-40C8-A35F-4318F032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CDCCE-33A4-4536-98EE-36323BE8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CD28D-F049-4717-84F8-D3EEE246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68BB0-ED64-4175-9E1D-01B60866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CC417-DDF7-4D03-8842-1DDCA8D1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3D8A4-CF2C-457C-8DE4-03FB9314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40A6D-791B-4515-A362-EAFA7208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EF475-4052-4EC2-97A6-61609520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676D5-8B41-4575-8501-02392147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94F-0EEA-4936-8AE6-2E22FBAB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A9DDA-1E1E-4069-BBD2-2AC89C10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9DE27-E69F-4A57-AAAF-93636ABB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5860A-B436-4DF0-BE38-6AF09F6E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EDFD8-55B2-46E1-8C5B-91699C5F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BCB3C-4CE3-4E37-A761-AB8165AA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5D4BC-306F-49A9-9E06-55EB46BB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AD776-5A5C-4C4C-BA4D-501D7504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D2DD6-3C81-430E-8E29-0C3E5EF4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668A9-D13C-43E3-A9A9-F64C8829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DE8F2-F226-48E3-A449-022976BB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0781-CCFC-4FD5-B01B-03F9348F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45C42-3B10-421A-B9E9-6213B84F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AC2E2-26E7-4033-B590-1CED48F2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2E6A7-0B4F-412D-A4EC-7AB902FE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B4F6B-7B18-49D5-9F2A-FD1D2A97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67C2E-02A1-4751-8039-E9702D6B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54269-B17D-4BE8-B523-28454EE9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A245D-5A32-4A27-9EB1-F4A89BDC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E88BA-783C-40CE-82F2-00F45991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5D2DB-5ECC-4B33-BFDE-BFC0AD2D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4E637-41FD-45B1-9359-286D4CBE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AA8-FB15-4019-B8AD-CBC2E801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180FB-27BC-4EBB-83F4-A935639B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AE734-4900-42E7-8F3E-C5ED9856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A1136-1654-4A9D-A6D1-325895E4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F5B88-65B2-4E02-A630-8BD05C18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37DB9-40D9-412A-B660-12F5A991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84D88-9DC2-48FA-A42F-FE53969C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C68CC-6117-4F21-A746-C6C8062A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DC5A7-60DF-4500-A273-7F5B2069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35801-0530-4820-B589-43423F82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4C88E-9DF4-4DDD-91F4-28C20471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63D2-6408-400B-8231-D00E2A47EAA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8CBD-37C2-4A40-ADE8-68082CF5A4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5134-5408-498A-977A-4595DAAB8F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6994-1B40-4681-B620-071608836D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6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6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D834-AC3B-4185-9678-EF91F30EDF8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1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1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1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9BAA-3D82-446D-8E9C-1911768FBF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6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6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7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45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86AB-66A6-4FC4-873F-69C448347F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1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21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724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48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A728-382B-4FD0-BFFD-397E2575F89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7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7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77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51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53F7-E0BA-4D11-8DF1-A413610277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2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2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83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4643-85A7-4DBF-BCB4-9960E9F82F4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CD70-24F7-4394-B40A-12787AD1B8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F038-88B9-41E2-9877-92D917DD39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2490-9AA7-4155-B9E0-4F6849DA02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09C5-2990-4A5D-B498-8192B1B3E9C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2FE4-257C-4D0F-8035-77714E113B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3E57-C874-483E-8BD5-2AABF9774B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A4AF-7109-45CC-9BB8-3FB7BB1DA1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07AF-494F-4A5D-9282-B7A3B42056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Rectangle 2" descr=""/>
          <p:cNvPicPr/>
          <p:nvPr/>
        </p:nvPicPr>
        <p:blipFill>
          <a:blip r:embed="rId1"/>
          <a:stretch/>
        </p:blipFill>
        <p:spPr>
          <a:xfrm>
            <a:off x="42840" y="4681440"/>
            <a:ext cx="8802720" cy="2536920"/>
          </a:xfrm>
          <a:prstGeom prst="rect">
            <a:avLst/>
          </a:prstGeom>
          <a:ln w="0">
            <a:noFill/>
          </a:ln>
        </p:spPr>
      </p:pic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560520" y="4358880"/>
            <a:ext cx="835488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7E7C-F990-44AF-BAF6-74CF3A805FC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Прямоугольник 4" descr=""/>
          <p:cNvPicPr/>
          <p:nvPr/>
        </p:nvPicPr>
        <p:blipFill>
          <a:blip r:embed="rId2"/>
          <a:stretch/>
        </p:blipFill>
        <p:spPr>
          <a:xfrm>
            <a:off x="-201600" y="2749680"/>
            <a:ext cx="95472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10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74A8-492D-44AC-8E11-5E26C7E46A0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5"/>
          <p:cNvSpPr/>
          <p:nvPr/>
        </p:nvSpPr>
        <p:spPr>
          <a:xfrm>
            <a:off x="369720" y="809640"/>
            <a:ext cx="84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изображение дом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5"/>
          <p:cNvSpPr/>
          <p:nvPr/>
        </p:nvSpPr>
        <p:spPr>
          <a:xfrm>
            <a:off x="369720" y="2400480"/>
            <a:ext cx="84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любой из рисун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5"/>
          <p:cNvSpPr/>
          <p:nvPr/>
        </p:nvSpPr>
        <p:spPr>
          <a:xfrm>
            <a:off x="369720" y="4254480"/>
            <a:ext cx="84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рисун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Group 1"/>
          <p:cNvGrpSpPr/>
          <p:nvPr/>
        </p:nvGrpSpPr>
        <p:grpSpPr>
          <a:xfrm>
            <a:off x="1917720" y="1270080"/>
            <a:ext cx="1174680" cy="1028520"/>
            <a:chOff x="1917720" y="1270080"/>
            <a:chExt cx="1174680" cy="1028520"/>
          </a:xfrm>
        </p:grpSpPr>
        <p:sp>
          <p:nvSpPr>
            <p:cNvPr id="1026" name="AutoShape 7"/>
            <p:cNvSpPr/>
            <p:nvPr/>
          </p:nvSpPr>
          <p:spPr>
            <a:xfrm>
              <a:off x="1917720" y="1270080"/>
              <a:ext cx="117468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6"/>
            <p:cNvSpPr/>
            <p:nvPr/>
          </p:nvSpPr>
          <p:spPr>
            <a:xfrm>
              <a:off x="2163240" y="1605240"/>
              <a:ext cx="683280" cy="687240"/>
            </a:xfrm>
            <a:prstGeom prst="rect">
              <a:avLst/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5"/>
            <p:cNvSpPr/>
            <p:nvPr/>
          </p:nvSpPr>
          <p:spPr>
            <a:xfrm>
              <a:off x="2160720" y="1602720"/>
              <a:ext cx="688320" cy="6926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"/>
            <p:cNvSpPr/>
            <p:nvPr/>
          </p:nvSpPr>
          <p:spPr>
            <a:xfrm>
              <a:off x="1925280" y="1274400"/>
              <a:ext cx="1159560" cy="335160"/>
            </a:xfrm>
            <a:prstGeom prst="pie">
              <a:avLst/>
            </a:pr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"/>
            <p:cNvSpPr/>
            <p:nvPr/>
          </p:nvSpPr>
          <p:spPr>
            <a:xfrm>
              <a:off x="1922760" y="1271880"/>
              <a:ext cx="1164600" cy="3405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2"/>
            <p:cNvSpPr/>
            <p:nvPr/>
          </p:nvSpPr>
          <p:spPr>
            <a:xfrm>
              <a:off x="2305080" y="1883520"/>
              <a:ext cx="208800" cy="393840"/>
            </a:xfrm>
            <a:prstGeom prst="rect">
              <a:avLst/>
            </a:prstGeom>
            <a:solidFill>
              <a:srgbClr val="62242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9"/>
          <p:cNvGrpSpPr/>
          <p:nvPr/>
        </p:nvGrpSpPr>
        <p:grpSpPr>
          <a:xfrm>
            <a:off x="1536840" y="3033720"/>
            <a:ext cx="1164960" cy="1022040"/>
            <a:chOff x="1536840" y="3033720"/>
            <a:chExt cx="1164960" cy="1022040"/>
          </a:xfrm>
        </p:grpSpPr>
        <p:sp>
          <p:nvSpPr>
            <p:cNvPr id="1033" name="Rectangle 10"/>
            <p:cNvSpPr/>
            <p:nvPr/>
          </p:nvSpPr>
          <p:spPr>
            <a:xfrm>
              <a:off x="1777680" y="3366720"/>
              <a:ext cx="683280" cy="686880"/>
            </a:xfrm>
            <a:prstGeom prst="rect">
              <a:avLst/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1"/>
            <p:cNvSpPr/>
            <p:nvPr/>
          </p:nvSpPr>
          <p:spPr>
            <a:xfrm>
              <a:off x="1774800" y="3363840"/>
              <a:ext cx="688320" cy="69192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2"/>
            <p:cNvSpPr/>
            <p:nvPr/>
          </p:nvSpPr>
          <p:spPr>
            <a:xfrm>
              <a:off x="1539360" y="3036240"/>
              <a:ext cx="1159560" cy="335520"/>
            </a:xfrm>
            <a:prstGeom prst="pie">
              <a:avLst/>
            </a:pr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3"/>
            <p:cNvSpPr/>
            <p:nvPr/>
          </p:nvSpPr>
          <p:spPr>
            <a:xfrm>
              <a:off x="1536840" y="3033720"/>
              <a:ext cx="1164960" cy="34092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14"/>
            <p:cNvSpPr/>
            <p:nvPr/>
          </p:nvSpPr>
          <p:spPr>
            <a:xfrm>
              <a:off x="1852200" y="3431160"/>
              <a:ext cx="31356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5"/>
            <p:cNvSpPr/>
            <p:nvPr/>
          </p:nvSpPr>
          <p:spPr>
            <a:xfrm>
              <a:off x="1881720" y="3460320"/>
              <a:ext cx="254520" cy="31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6"/>
            <p:cNvSpPr/>
            <p:nvPr/>
          </p:nvSpPr>
          <p:spPr>
            <a:xfrm>
              <a:off x="1870560" y="3555000"/>
              <a:ext cx="27468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17"/>
            <p:cNvSpPr/>
            <p:nvPr/>
          </p:nvSpPr>
          <p:spPr>
            <a:xfrm rot="5400000">
              <a:off x="1886400" y="3669120"/>
              <a:ext cx="24480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18"/>
          <p:cNvGrpSpPr/>
          <p:nvPr/>
        </p:nvGrpSpPr>
        <p:grpSpPr>
          <a:xfrm>
            <a:off x="3424320" y="3240000"/>
            <a:ext cx="1706400" cy="585360"/>
            <a:chOff x="3424320" y="3240000"/>
            <a:chExt cx="1706400" cy="585360"/>
          </a:xfrm>
        </p:grpSpPr>
        <p:sp>
          <p:nvSpPr>
            <p:cNvPr id="1042" name="Freeform 19"/>
            <p:cNvSpPr/>
            <p:nvPr/>
          </p:nvSpPr>
          <p:spPr>
            <a:xfrm>
              <a:off x="3744360" y="3241800"/>
              <a:ext cx="1065960" cy="290520"/>
            </a:xfrm>
            <a:prstGeom prst="pie">
              <a:avLst/>
            </a:prstGeom>
            <a:solidFill>
              <a:srgbClr val="33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20"/>
            <p:cNvSpPr/>
            <p:nvPr/>
          </p:nvSpPr>
          <p:spPr>
            <a:xfrm>
              <a:off x="3736800" y="3240000"/>
              <a:ext cx="1081800" cy="2948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21"/>
            <p:cNvSpPr/>
            <p:nvPr/>
          </p:nvSpPr>
          <p:spPr>
            <a:xfrm>
              <a:off x="3744360" y="3532680"/>
              <a:ext cx="1065960" cy="290520"/>
            </a:xfrm>
            <a:prstGeom prst="pi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22"/>
            <p:cNvSpPr/>
            <p:nvPr/>
          </p:nvSpPr>
          <p:spPr>
            <a:xfrm>
              <a:off x="3736800" y="3530520"/>
              <a:ext cx="1081800" cy="2948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3"/>
            <p:cNvSpPr/>
            <p:nvPr/>
          </p:nvSpPr>
          <p:spPr>
            <a:xfrm>
              <a:off x="4806720" y="3377160"/>
              <a:ext cx="322200" cy="318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4"/>
            <p:cNvSpPr/>
            <p:nvPr/>
          </p:nvSpPr>
          <p:spPr>
            <a:xfrm>
              <a:off x="4804560" y="3375360"/>
              <a:ext cx="326160" cy="3222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5"/>
            <p:cNvSpPr/>
            <p:nvPr/>
          </p:nvSpPr>
          <p:spPr>
            <a:xfrm>
              <a:off x="3426120" y="3385080"/>
              <a:ext cx="318240" cy="3186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6"/>
            <p:cNvSpPr/>
            <p:nvPr/>
          </p:nvSpPr>
          <p:spPr>
            <a:xfrm>
              <a:off x="3424320" y="3383280"/>
              <a:ext cx="322200" cy="3222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27"/>
          <p:cNvGrpSpPr/>
          <p:nvPr/>
        </p:nvGrpSpPr>
        <p:grpSpPr>
          <a:xfrm>
            <a:off x="1758960" y="5016600"/>
            <a:ext cx="1454040" cy="893520"/>
            <a:chOff x="1758960" y="5016600"/>
            <a:chExt cx="1454040" cy="893520"/>
          </a:xfrm>
        </p:grpSpPr>
        <p:sp>
          <p:nvSpPr>
            <p:cNvPr id="1051" name="Freeform 28"/>
            <p:cNvSpPr/>
            <p:nvPr/>
          </p:nvSpPr>
          <p:spPr>
            <a:xfrm>
              <a:off x="2307960" y="5206680"/>
              <a:ext cx="826560" cy="701640"/>
            </a:xfrm>
            <a:prstGeom prst="pi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9"/>
            <p:cNvSpPr/>
            <p:nvPr/>
          </p:nvSpPr>
          <p:spPr>
            <a:xfrm>
              <a:off x="2306520" y="5204880"/>
              <a:ext cx="829800" cy="7052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30"/>
            <p:cNvSpPr/>
            <p:nvPr/>
          </p:nvSpPr>
          <p:spPr>
            <a:xfrm>
              <a:off x="1840680" y="5206680"/>
              <a:ext cx="826200" cy="701640"/>
            </a:xfrm>
            <a:prstGeom prst="pie">
              <a:avLst/>
            </a:prstGeom>
            <a:solidFill>
              <a:srgbClr val="33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1"/>
            <p:cNvSpPr/>
            <p:nvPr/>
          </p:nvSpPr>
          <p:spPr>
            <a:xfrm>
              <a:off x="1838880" y="5204880"/>
              <a:ext cx="829800" cy="7052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2"/>
            <p:cNvSpPr/>
            <p:nvPr/>
          </p:nvSpPr>
          <p:spPr>
            <a:xfrm>
              <a:off x="3054240" y="5126400"/>
              <a:ext cx="156960" cy="156960"/>
            </a:xfrm>
            <a:prstGeom prst="pi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3"/>
            <p:cNvSpPr/>
            <p:nvPr/>
          </p:nvSpPr>
          <p:spPr>
            <a:xfrm>
              <a:off x="3052800" y="5124600"/>
              <a:ext cx="160200" cy="1605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4"/>
            <p:cNvSpPr/>
            <p:nvPr/>
          </p:nvSpPr>
          <p:spPr>
            <a:xfrm>
              <a:off x="1760400" y="5122800"/>
              <a:ext cx="156960" cy="156960"/>
            </a:xfrm>
            <a:prstGeom prst="pie">
              <a:avLst/>
            </a:prstGeom>
            <a:solidFill>
              <a:srgbClr val="33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5"/>
            <p:cNvSpPr/>
            <p:nvPr/>
          </p:nvSpPr>
          <p:spPr>
            <a:xfrm>
              <a:off x="1758960" y="5121000"/>
              <a:ext cx="160200" cy="1605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6"/>
            <p:cNvSpPr/>
            <p:nvPr/>
          </p:nvSpPr>
          <p:spPr>
            <a:xfrm>
              <a:off x="2311560" y="5105520"/>
              <a:ext cx="379800" cy="80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7"/>
            <p:cNvSpPr/>
            <p:nvPr/>
          </p:nvSpPr>
          <p:spPr>
            <a:xfrm>
              <a:off x="2309400" y="5097960"/>
              <a:ext cx="384480" cy="8121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8"/>
            <p:cNvSpPr/>
            <p:nvPr/>
          </p:nvSpPr>
          <p:spPr>
            <a:xfrm>
              <a:off x="2419560" y="5018040"/>
              <a:ext cx="156600" cy="15336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9"/>
            <p:cNvSpPr/>
            <p:nvPr/>
          </p:nvSpPr>
          <p:spPr>
            <a:xfrm>
              <a:off x="2418120" y="5016600"/>
              <a:ext cx="160200" cy="1569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8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9F66-56DB-4D44-8FDB-6678E811D50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10"/>
          <p:cNvSpPr/>
          <p:nvPr/>
        </p:nvSpPr>
        <p:spPr>
          <a:xfrm>
            <a:off x="368280" y="820800"/>
            <a:ext cx="8458200" cy="13737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ческий примити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это элемент рисунка, который добавляется с помощью одной коман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рямоугольник 23"/>
          <p:cNvSpPr/>
          <p:nvPr/>
        </p:nvSpPr>
        <p:spPr>
          <a:xfrm>
            <a:off x="561240" y="2216160"/>
            <a:ext cx="291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кс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8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332D-BD75-494E-814C-ABC6D8C05E7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оугольник 3"/>
          <p:cNvSpPr/>
          <p:nvPr/>
        </p:nvSpPr>
        <p:spPr>
          <a:xfrm>
            <a:off x="550800" y="1096920"/>
            <a:ext cx="5133960" cy="498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Группа 4"/>
          <p:cNvGrpSpPr/>
          <p:nvPr/>
        </p:nvGrpSpPr>
        <p:grpSpPr>
          <a:xfrm>
            <a:off x="1130040" y="1612080"/>
            <a:ext cx="2133720" cy="1372320"/>
            <a:chOff x="1130040" y="1612080"/>
            <a:chExt cx="2133720" cy="1372320"/>
          </a:xfrm>
        </p:grpSpPr>
        <p:sp>
          <p:nvSpPr>
            <p:cNvPr id="888" name="Правая фигурная скобка 5"/>
            <p:cNvSpPr/>
            <p:nvPr/>
          </p:nvSpPr>
          <p:spPr>
            <a:xfrm flipV="1" rot="5400000">
              <a:off x="2469960" y="1071720"/>
              <a:ext cx="253800" cy="1333440"/>
            </a:xfrm>
            <a:custGeom>
              <a:avLst/>
              <a:gdLst>
                <a:gd name="textAreaLeft" fmla="*/ 0 w 253800"/>
                <a:gd name="textAreaRight" fmla="*/ 91440 w 253800"/>
                <a:gd name="textAreaTop" fmla="*/ 27000 h 1333440"/>
                <a:gd name="textAreaBottom" fmla="*/ 1306440 h 13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04"/>
                    <a:pt x="10800" y="1407"/>
                  </a:cubicBezTo>
                  <a:lnTo>
                    <a:pt x="10800" y="9393"/>
                  </a:lnTo>
                  <a:cubicBezTo>
                    <a:pt x="10800" y="10097"/>
                    <a:pt x="16200" y="10800"/>
                    <a:pt x="21600" y="10800"/>
                  </a:cubicBezTo>
                  <a:cubicBezTo>
                    <a:pt x="16200" y="10800"/>
                    <a:pt x="10800" y="11504"/>
                    <a:pt x="10800" y="12207"/>
                  </a:cubicBezTo>
                  <a:lnTo>
                    <a:pt x="10800" y="20193"/>
                  </a:lnTo>
                  <a:cubicBezTo>
                    <a:pt x="10800" y="2089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Скругленная прямоугольная выноска 7"/>
            <p:cNvSpPr/>
            <p:nvPr/>
          </p:nvSpPr>
          <p:spPr>
            <a:xfrm flipH="1">
              <a:off x="1129680" y="2100240"/>
              <a:ext cx="1989000" cy="884160"/>
            </a:xfrm>
            <a:prstGeom prst="wedgeRoundRectCallout">
              <a:avLst>
                <a:gd name="adj1" fmla="val -22847"/>
                <a:gd name="adj2" fmla="val -72731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ервой точ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Группа 9"/>
          <p:cNvGrpSpPr/>
          <p:nvPr/>
        </p:nvGrpSpPr>
        <p:grpSpPr>
          <a:xfrm>
            <a:off x="3517560" y="1612080"/>
            <a:ext cx="1989000" cy="1372320"/>
            <a:chOff x="3517560" y="1612080"/>
            <a:chExt cx="1989000" cy="1372320"/>
          </a:xfrm>
        </p:grpSpPr>
        <p:sp>
          <p:nvSpPr>
            <p:cNvPr id="891" name="Правая фигурная скобка 10"/>
            <p:cNvSpPr/>
            <p:nvPr/>
          </p:nvSpPr>
          <p:spPr>
            <a:xfrm flipV="1" rot="5400000">
              <a:off x="4121280" y="1071720"/>
              <a:ext cx="253800" cy="1333800"/>
            </a:xfrm>
            <a:custGeom>
              <a:avLst/>
              <a:gdLst>
                <a:gd name="textAreaLeft" fmla="*/ 0 w 253800"/>
                <a:gd name="textAreaRight" fmla="*/ 91440 w 253800"/>
                <a:gd name="textAreaTop" fmla="*/ 27000 h 1333800"/>
                <a:gd name="textAreaBottom" fmla="*/ 1306800 h 13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04"/>
                    <a:pt x="10800" y="1407"/>
                  </a:cubicBezTo>
                  <a:lnTo>
                    <a:pt x="10800" y="9393"/>
                  </a:lnTo>
                  <a:cubicBezTo>
                    <a:pt x="10800" y="10097"/>
                    <a:pt x="16200" y="10800"/>
                    <a:pt x="21600" y="10800"/>
                  </a:cubicBezTo>
                  <a:cubicBezTo>
                    <a:pt x="16200" y="10800"/>
                    <a:pt x="10800" y="11504"/>
                    <a:pt x="10800" y="12207"/>
                  </a:cubicBezTo>
                  <a:lnTo>
                    <a:pt x="10800" y="20193"/>
                  </a:lnTo>
                  <a:cubicBezTo>
                    <a:pt x="10800" y="2089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Скругленная прямоугольная выноска 11"/>
            <p:cNvSpPr/>
            <p:nvPr/>
          </p:nvSpPr>
          <p:spPr>
            <a:xfrm flipH="1">
              <a:off x="3517200" y="2100240"/>
              <a:ext cx="1989000" cy="884160"/>
            </a:xfrm>
            <a:prstGeom prst="wedgeRoundRectCallout">
              <a:avLst>
                <a:gd name="adj1" fmla="val 12921"/>
                <a:gd name="adj2" fmla="val -72731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торой точ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Прямоугольник 12"/>
          <p:cNvSpPr/>
          <p:nvPr/>
        </p:nvSpPr>
        <p:spPr>
          <a:xfrm>
            <a:off x="1873080" y="3233880"/>
            <a:ext cx="5134320" cy="18619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пиксель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сини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Скругленная прямоугольная выноска 13"/>
          <p:cNvSpPr/>
          <p:nvPr/>
        </p:nvSpPr>
        <p:spPr>
          <a:xfrm flipH="1">
            <a:off x="5803200" y="2044800"/>
            <a:ext cx="2832120" cy="966600"/>
          </a:xfrm>
          <a:prstGeom prst="wedgeRoundRectCallout">
            <a:avLst>
              <a:gd name="adj1" fmla="val 39351"/>
              <a:gd name="adj2" fmla="val 10031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команда заменяет 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55"/>
          <p:cNvGrpSpPr/>
          <p:nvPr/>
        </p:nvGrpSpPr>
        <p:grpSpPr>
          <a:xfrm>
            <a:off x="806400" y="5506920"/>
            <a:ext cx="5365800" cy="663480"/>
            <a:chOff x="806400" y="5506920"/>
            <a:chExt cx="5365800" cy="663480"/>
          </a:xfrm>
        </p:grpSpPr>
        <p:sp>
          <p:nvSpPr>
            <p:cNvPr id="896" name="Text Box 56"/>
            <p:cNvSpPr/>
            <p:nvPr/>
          </p:nvSpPr>
          <p:spPr>
            <a:xfrm>
              <a:off x="1273320" y="5613120"/>
              <a:ext cx="489888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ие вопросы возникл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57"/>
            <p:cNvSpPr/>
            <p:nvPr/>
          </p:nvSpPr>
          <p:spPr>
            <a:xfrm>
              <a:off x="806400" y="5506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8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63F9-88E4-4B73-B407-B4AA47E9716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3"/>
          <p:cNvSpPr/>
          <p:nvPr/>
        </p:nvSpPr>
        <p:spPr>
          <a:xfrm>
            <a:off x="550800" y="2062080"/>
            <a:ext cx="5037120" cy="2332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перо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сини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Скругленная прямоугольная выноска 4"/>
          <p:cNvSpPr/>
          <p:nvPr/>
        </p:nvSpPr>
        <p:spPr>
          <a:xfrm flipH="1">
            <a:off x="723240" y="888840"/>
            <a:ext cx="1917720" cy="901800"/>
          </a:xfrm>
          <a:prstGeom prst="wedgeRoundRectCallout">
            <a:avLst>
              <a:gd name="adj1" fmla="val -5009"/>
              <a:gd name="adj2" fmla="val 9186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щина лини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Скругленная прямоугольная выноска 5"/>
          <p:cNvSpPr/>
          <p:nvPr/>
        </p:nvSpPr>
        <p:spPr>
          <a:xfrm flipH="1">
            <a:off x="2920320" y="1244520"/>
            <a:ext cx="1003320" cy="571680"/>
          </a:xfrm>
          <a:prstGeom prst="wedgeRoundRectCallout">
            <a:avLst>
              <a:gd name="adj1" fmla="val 27902"/>
              <a:gd name="adj2" fmla="val 114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авая фигурная скобка 7"/>
          <p:cNvSpPr/>
          <p:nvPr/>
        </p:nvSpPr>
        <p:spPr>
          <a:xfrm flipV="1">
            <a:off x="5657760" y="2610000"/>
            <a:ext cx="209520" cy="1568160"/>
          </a:xfrm>
          <a:custGeom>
            <a:avLst/>
            <a:gdLst>
              <a:gd name="textAreaLeft" fmla="*/ 0 w 209520"/>
              <a:gd name="textAreaRight" fmla="*/ 75600 w 209520"/>
              <a:gd name="textAreaTop" fmla="*/ 22320 h 1568160"/>
              <a:gd name="textAreaBottom" fmla="*/ 1545840 h 156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4"/>
                  <a:pt x="10800" y="987"/>
                </a:cubicBezTo>
                <a:lnTo>
                  <a:pt x="10800" y="9813"/>
                </a:lnTo>
                <a:cubicBezTo>
                  <a:pt x="10800" y="10307"/>
                  <a:pt x="16200" y="10800"/>
                  <a:pt x="21600" y="10800"/>
                </a:cubicBezTo>
                <a:cubicBezTo>
                  <a:pt x="16200" y="10800"/>
                  <a:pt x="10800" y="11294"/>
                  <a:pt x="10800" y="11787"/>
                </a:cubicBezTo>
                <a:lnTo>
                  <a:pt x="10800" y="20613"/>
                </a:lnTo>
                <a:cubicBezTo>
                  <a:pt x="10800" y="21107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55"/>
          <p:cNvGrpSpPr/>
          <p:nvPr/>
        </p:nvGrpSpPr>
        <p:grpSpPr>
          <a:xfrm>
            <a:off x="5962680" y="3017880"/>
            <a:ext cx="2495520" cy="663480"/>
            <a:chOff x="5962680" y="3017880"/>
            <a:chExt cx="2495520" cy="663480"/>
          </a:xfrm>
        </p:grpSpPr>
        <p:sp>
          <p:nvSpPr>
            <p:cNvPr id="905" name="Text Box 56"/>
            <p:cNvSpPr/>
            <p:nvPr/>
          </p:nvSpPr>
          <p:spPr>
            <a:xfrm>
              <a:off x="6429600" y="3124080"/>
              <a:ext cx="202860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Что это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57"/>
            <p:cNvSpPr/>
            <p:nvPr/>
          </p:nvSpPr>
          <p:spPr>
            <a:xfrm>
              <a:off x="5962680" y="3017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Скругленная прямоугольная выноска 15"/>
          <p:cNvSpPr/>
          <p:nvPr/>
        </p:nvSpPr>
        <p:spPr>
          <a:xfrm flipH="1">
            <a:off x="4469760" y="1219320"/>
            <a:ext cx="3174840" cy="890640"/>
          </a:xfrm>
          <a:prstGeom prst="wedgeRoundRectCallout">
            <a:avLst>
              <a:gd name="adj1" fmla="val 78365"/>
              <a:gd name="adj2" fmla="val 67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сохраняется, пока не смен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оугольник 16"/>
          <p:cNvSpPr/>
          <p:nvPr/>
        </p:nvSpPr>
        <p:spPr>
          <a:xfrm>
            <a:off x="7213680" y="4686480"/>
            <a:ext cx="360360" cy="720720"/>
          </a:xfrm>
          <a:prstGeom prst="rect">
            <a:avLst/>
          </a:prstGeom>
          <a:noFill/>
          <a:ln w="12600">
            <a:solidFill>
              <a:srgbClr val="a6a6a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Группа 27"/>
          <p:cNvGrpSpPr/>
          <p:nvPr/>
        </p:nvGrpSpPr>
        <p:grpSpPr>
          <a:xfrm>
            <a:off x="6108480" y="3873600"/>
            <a:ext cx="2705040" cy="2463840"/>
            <a:chOff x="6108480" y="3873600"/>
            <a:chExt cx="2705040" cy="2463840"/>
          </a:xfrm>
        </p:grpSpPr>
        <p:sp>
          <p:nvSpPr>
            <p:cNvPr id="910" name="Скругленная прямоугольная выноска 17"/>
            <p:cNvSpPr/>
            <p:nvPr/>
          </p:nvSpPr>
          <p:spPr>
            <a:xfrm flipH="1">
              <a:off x="6108120" y="3873600"/>
              <a:ext cx="1206360" cy="571320"/>
            </a:xfrm>
            <a:prstGeom prst="wedgeRoundRectCallout">
              <a:avLst>
                <a:gd name="adj1" fmla="val -41569"/>
                <a:gd name="adj2" fmla="val 98523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10,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Скругленная прямоугольная выноска 18"/>
            <p:cNvSpPr/>
            <p:nvPr/>
          </p:nvSpPr>
          <p:spPr>
            <a:xfrm flipH="1">
              <a:off x="7606800" y="5753160"/>
              <a:ext cx="1206360" cy="571320"/>
            </a:xfrm>
            <a:prstGeom prst="wedgeRoundRectCallout">
              <a:avLst>
                <a:gd name="adj1" fmla="val 55273"/>
                <a:gd name="adj2" fmla="val -110124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15,3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Скругленная прямоугольная выноска 19"/>
            <p:cNvSpPr/>
            <p:nvPr/>
          </p:nvSpPr>
          <p:spPr>
            <a:xfrm flipH="1">
              <a:off x="7593840" y="3873600"/>
              <a:ext cx="1206360" cy="571320"/>
            </a:xfrm>
            <a:prstGeom prst="wedgeRoundRectCallout">
              <a:avLst>
                <a:gd name="adj1" fmla="val 54217"/>
                <a:gd name="adj2" fmla="val 9630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Скругленная прямоугольная выноска 20"/>
            <p:cNvSpPr/>
            <p:nvPr/>
          </p:nvSpPr>
          <p:spPr>
            <a:xfrm flipH="1">
              <a:off x="6133320" y="5766120"/>
              <a:ext cx="1206360" cy="571320"/>
            </a:xfrm>
            <a:prstGeom prst="wedgeRoundRectCallout">
              <a:avLst>
                <a:gd name="adj1" fmla="val -37361"/>
                <a:gd name="adj2" fmla="val -11678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10,3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Группа 26"/>
          <p:cNvGrpSpPr/>
          <p:nvPr/>
        </p:nvGrpSpPr>
        <p:grpSpPr>
          <a:xfrm>
            <a:off x="6691320" y="4830840"/>
            <a:ext cx="882720" cy="1023480"/>
            <a:chOff x="6691320" y="4830840"/>
            <a:chExt cx="882720" cy="1023480"/>
          </a:xfrm>
        </p:grpSpPr>
        <p:sp>
          <p:nvSpPr>
            <p:cNvPr id="915" name="Прямоугольник 22"/>
            <p:cNvSpPr/>
            <p:nvPr/>
          </p:nvSpPr>
          <p:spPr>
            <a:xfrm>
              <a:off x="7224120" y="539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Прямоугольник 24"/>
            <p:cNvSpPr/>
            <p:nvPr/>
          </p:nvSpPr>
          <p:spPr>
            <a:xfrm>
              <a:off x="6691320" y="48308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9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665B-7E90-48D0-BEF2-2B43F331FB1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Прямоугольник 3"/>
          <p:cNvSpPr/>
          <p:nvPr/>
        </p:nvSpPr>
        <p:spPr>
          <a:xfrm>
            <a:off x="419040" y="1542960"/>
            <a:ext cx="6675480" cy="1354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перо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сини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кисть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красны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прямоугольник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Скругленная прямоугольная выноска 4"/>
          <p:cNvSpPr/>
          <p:nvPr/>
        </p:nvSpPr>
        <p:spPr>
          <a:xfrm flipH="1">
            <a:off x="3857760" y="1619280"/>
            <a:ext cx="2520720" cy="571320"/>
          </a:xfrm>
          <a:prstGeom prst="wedgeRoundRectCallout">
            <a:avLst>
              <a:gd name="adj1" fmla="val 71055"/>
              <a:gd name="adj2" fmla="val 6399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зали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Группа 5"/>
          <p:cNvGrpSpPr/>
          <p:nvPr/>
        </p:nvGrpSpPr>
        <p:grpSpPr>
          <a:xfrm>
            <a:off x="2346480" y="2823480"/>
            <a:ext cx="2415960" cy="1340640"/>
            <a:chOff x="2346480" y="2823480"/>
            <a:chExt cx="2415960" cy="1340640"/>
          </a:xfrm>
        </p:grpSpPr>
        <p:sp>
          <p:nvSpPr>
            <p:cNvPr id="922" name="Правая фигурная скобка 6"/>
            <p:cNvSpPr/>
            <p:nvPr/>
          </p:nvSpPr>
          <p:spPr>
            <a:xfrm flipV="1" rot="5400000">
              <a:off x="3968640" y="2283120"/>
              <a:ext cx="253800" cy="1333800"/>
            </a:xfrm>
            <a:custGeom>
              <a:avLst/>
              <a:gdLst>
                <a:gd name="textAreaLeft" fmla="*/ 0 w 253800"/>
                <a:gd name="textAreaRight" fmla="*/ 91440 w 253800"/>
                <a:gd name="textAreaTop" fmla="*/ 27000 h 1333800"/>
                <a:gd name="textAreaBottom" fmla="*/ 1306800 h 13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04"/>
                    <a:pt x="10800" y="1407"/>
                  </a:cubicBezTo>
                  <a:lnTo>
                    <a:pt x="10800" y="9393"/>
                  </a:lnTo>
                  <a:cubicBezTo>
                    <a:pt x="10800" y="10097"/>
                    <a:pt x="16200" y="10800"/>
                    <a:pt x="21600" y="10800"/>
                  </a:cubicBezTo>
                  <a:cubicBezTo>
                    <a:pt x="16200" y="10800"/>
                    <a:pt x="10800" y="11504"/>
                    <a:pt x="10800" y="12207"/>
                  </a:cubicBezTo>
                  <a:lnTo>
                    <a:pt x="10800" y="20193"/>
                  </a:lnTo>
                  <a:cubicBezTo>
                    <a:pt x="10800" y="2089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Скругленная прямоугольная выноска 7"/>
            <p:cNvSpPr/>
            <p:nvPr/>
          </p:nvSpPr>
          <p:spPr>
            <a:xfrm flipH="1">
              <a:off x="2346480" y="3311640"/>
              <a:ext cx="2271600" cy="852480"/>
            </a:xfrm>
            <a:prstGeom prst="wedgeRoundRectCallout">
              <a:avLst>
                <a:gd name="adj1" fmla="val -26726"/>
                <a:gd name="adj2" fmla="val -8178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евого верхнего уг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Группа 8"/>
          <p:cNvGrpSpPr/>
          <p:nvPr/>
        </p:nvGrpSpPr>
        <p:grpSpPr>
          <a:xfrm>
            <a:off x="5016600" y="2823480"/>
            <a:ext cx="2209680" cy="1329480"/>
            <a:chOff x="5016600" y="2823480"/>
            <a:chExt cx="2209680" cy="1329480"/>
          </a:xfrm>
        </p:grpSpPr>
        <p:sp>
          <p:nvSpPr>
            <p:cNvPr id="925" name="Правая фигурная скобка 9"/>
            <p:cNvSpPr/>
            <p:nvPr/>
          </p:nvSpPr>
          <p:spPr>
            <a:xfrm flipV="1" rot="5400000">
              <a:off x="5619240" y="2283480"/>
              <a:ext cx="253800" cy="1332720"/>
            </a:xfrm>
            <a:custGeom>
              <a:avLst/>
              <a:gdLst>
                <a:gd name="textAreaLeft" fmla="*/ 0 w 253800"/>
                <a:gd name="textAreaRight" fmla="*/ 91440 w 253800"/>
                <a:gd name="textAreaTop" fmla="*/ 27000 h 1332720"/>
                <a:gd name="textAreaBottom" fmla="*/ 1305720 h 133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04"/>
                    <a:pt x="10800" y="1407"/>
                  </a:cubicBezTo>
                  <a:lnTo>
                    <a:pt x="10800" y="9393"/>
                  </a:lnTo>
                  <a:cubicBezTo>
                    <a:pt x="10800" y="10097"/>
                    <a:pt x="16200" y="10800"/>
                    <a:pt x="21600" y="10800"/>
                  </a:cubicBezTo>
                  <a:cubicBezTo>
                    <a:pt x="16200" y="10800"/>
                    <a:pt x="10800" y="11504"/>
                    <a:pt x="10800" y="12207"/>
                  </a:cubicBezTo>
                  <a:lnTo>
                    <a:pt x="10800" y="20193"/>
                  </a:lnTo>
                  <a:cubicBezTo>
                    <a:pt x="10800" y="2089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Скругленная прямоугольная выноска 10"/>
            <p:cNvSpPr/>
            <p:nvPr/>
          </p:nvSpPr>
          <p:spPr>
            <a:xfrm flipH="1">
              <a:off x="5016600" y="3311640"/>
              <a:ext cx="2209680" cy="841320"/>
            </a:xfrm>
            <a:prstGeom prst="wedgeRoundRectCallout">
              <a:avLst>
                <a:gd name="adj1" fmla="val 16407"/>
                <a:gd name="adj2" fmla="val -7928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авого нижнего уг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Group 55"/>
          <p:cNvGrpSpPr/>
          <p:nvPr/>
        </p:nvGrpSpPr>
        <p:grpSpPr>
          <a:xfrm>
            <a:off x="4573440" y="4865760"/>
            <a:ext cx="4240440" cy="1479960"/>
            <a:chOff x="4573440" y="4865760"/>
            <a:chExt cx="4240440" cy="1479960"/>
          </a:xfrm>
        </p:grpSpPr>
        <p:sp>
          <p:nvSpPr>
            <p:cNvPr id="928" name="Text Box 56"/>
            <p:cNvSpPr/>
            <p:nvPr/>
          </p:nvSpPr>
          <p:spPr>
            <a:xfrm>
              <a:off x="5040360" y="4971960"/>
              <a:ext cx="3773520" cy="13737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ординаты остальных углов? размеры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57"/>
            <p:cNvSpPr/>
            <p:nvPr/>
          </p:nvSpPr>
          <p:spPr>
            <a:xfrm>
              <a:off x="4573440" y="486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Прямоугольник 24"/>
          <p:cNvSpPr/>
          <p:nvPr/>
        </p:nvSpPr>
        <p:spPr>
          <a:xfrm>
            <a:off x="990720" y="878040"/>
            <a:ext cx="426384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кисть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прозрачны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Скругленная прямоугольная выноска 25"/>
          <p:cNvSpPr/>
          <p:nvPr/>
        </p:nvSpPr>
        <p:spPr>
          <a:xfrm flipH="1">
            <a:off x="5696640" y="903240"/>
            <a:ext cx="2521080" cy="571680"/>
          </a:xfrm>
          <a:prstGeom prst="wedgeRoundRectCallout">
            <a:avLst>
              <a:gd name="adj1" fmla="val 79356"/>
              <a:gd name="adj2" fmla="val -1302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9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BAA5-9A47-4C14-B53E-2DC8C6F2F4F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Прямоугольник 3"/>
          <p:cNvSpPr/>
          <p:nvPr/>
        </p:nvSpPr>
        <p:spPr>
          <a:xfrm>
            <a:off x="419040" y="1882800"/>
            <a:ext cx="5221440" cy="1355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перо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сини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кисть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красны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окружность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Группа 16"/>
          <p:cNvGrpSpPr/>
          <p:nvPr/>
        </p:nvGrpSpPr>
        <p:grpSpPr>
          <a:xfrm>
            <a:off x="1722240" y="3260160"/>
            <a:ext cx="2416320" cy="1137240"/>
            <a:chOff x="1722240" y="3260160"/>
            <a:chExt cx="2416320" cy="1137240"/>
          </a:xfrm>
        </p:grpSpPr>
        <p:sp>
          <p:nvSpPr>
            <p:cNvPr id="936" name="Правая фигурная скобка 17"/>
            <p:cNvSpPr/>
            <p:nvPr/>
          </p:nvSpPr>
          <p:spPr>
            <a:xfrm flipV="1" rot="5400000">
              <a:off x="3344760" y="2719800"/>
              <a:ext cx="253800" cy="1333800"/>
            </a:xfrm>
            <a:custGeom>
              <a:avLst/>
              <a:gdLst>
                <a:gd name="textAreaLeft" fmla="*/ 0 w 253800"/>
                <a:gd name="textAreaRight" fmla="*/ 91440 w 253800"/>
                <a:gd name="textAreaTop" fmla="*/ 27000 h 1333800"/>
                <a:gd name="textAreaBottom" fmla="*/ 1306800 h 13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04"/>
                    <a:pt x="10800" y="1407"/>
                  </a:cubicBezTo>
                  <a:lnTo>
                    <a:pt x="10800" y="9393"/>
                  </a:lnTo>
                  <a:cubicBezTo>
                    <a:pt x="10800" y="10097"/>
                    <a:pt x="16200" y="10800"/>
                    <a:pt x="21600" y="10800"/>
                  </a:cubicBezTo>
                  <a:cubicBezTo>
                    <a:pt x="16200" y="10800"/>
                    <a:pt x="10800" y="11504"/>
                    <a:pt x="10800" y="12207"/>
                  </a:cubicBezTo>
                  <a:lnTo>
                    <a:pt x="10800" y="20193"/>
                  </a:lnTo>
                  <a:cubicBezTo>
                    <a:pt x="10800" y="2089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Скругленная прямоугольная выноска 18"/>
            <p:cNvSpPr/>
            <p:nvPr/>
          </p:nvSpPr>
          <p:spPr>
            <a:xfrm flipH="1">
              <a:off x="1721880" y="3748320"/>
              <a:ext cx="1965240" cy="649080"/>
            </a:xfrm>
            <a:prstGeom prst="wedgeRoundRectCallout">
              <a:avLst>
                <a:gd name="adj1" fmla="val -39291"/>
                <a:gd name="adj2" fmla="val -8625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ент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Скругленная прямоугольная выноска 21"/>
          <p:cNvSpPr/>
          <p:nvPr/>
        </p:nvSpPr>
        <p:spPr>
          <a:xfrm flipH="1">
            <a:off x="4159080" y="3747960"/>
            <a:ext cx="1603440" cy="663840"/>
          </a:xfrm>
          <a:prstGeom prst="wedgeRoundRectCallout">
            <a:avLst>
              <a:gd name="adj1" fmla="val 12004"/>
              <a:gd name="adj2" fmla="val -14382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55"/>
          <p:cNvGrpSpPr/>
          <p:nvPr/>
        </p:nvGrpSpPr>
        <p:grpSpPr>
          <a:xfrm>
            <a:off x="392040" y="969840"/>
            <a:ext cx="5023080" cy="663480"/>
            <a:chOff x="392040" y="969840"/>
            <a:chExt cx="5023080" cy="663480"/>
          </a:xfrm>
        </p:grpSpPr>
        <p:sp>
          <p:nvSpPr>
            <p:cNvPr id="940" name="Text Box 56"/>
            <p:cNvSpPr/>
            <p:nvPr/>
          </p:nvSpPr>
          <p:spPr>
            <a:xfrm>
              <a:off x="858960" y="1076040"/>
              <a:ext cx="455616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ие данные нужны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57"/>
            <p:cNvSpPr/>
            <p:nvPr/>
          </p:nvSpPr>
          <p:spPr>
            <a:xfrm>
              <a:off x="392040" y="969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1"/>
          <p:cNvGrpSpPr/>
          <p:nvPr/>
        </p:nvGrpSpPr>
        <p:grpSpPr>
          <a:xfrm>
            <a:off x="5545080" y="871560"/>
            <a:ext cx="3282840" cy="2238120"/>
            <a:chOff x="5545080" y="871560"/>
            <a:chExt cx="3282840" cy="2238120"/>
          </a:xfrm>
        </p:grpSpPr>
        <p:sp>
          <p:nvSpPr>
            <p:cNvPr id="943" name="AutoShape 6"/>
            <p:cNvSpPr/>
            <p:nvPr/>
          </p:nvSpPr>
          <p:spPr>
            <a:xfrm>
              <a:off x="5545080" y="871560"/>
              <a:ext cx="3282840" cy="21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5"/>
            <p:cNvSpPr/>
            <p:nvPr/>
          </p:nvSpPr>
          <p:spPr>
            <a:xfrm>
              <a:off x="6635520" y="871560"/>
              <a:ext cx="106740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(3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AutoShape 4"/>
            <p:cNvSpPr/>
            <p:nvPr/>
          </p:nvSpPr>
          <p:spPr>
            <a:xfrm>
              <a:off x="6573960" y="1300320"/>
              <a:ext cx="1237320" cy="1306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3"/>
            <p:cNvSpPr/>
            <p:nvPr/>
          </p:nvSpPr>
          <p:spPr>
            <a:xfrm>
              <a:off x="6095520" y="2719440"/>
              <a:ext cx="106740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(20,3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2"/>
            <p:cNvSpPr/>
            <p:nvPr/>
          </p:nvSpPr>
          <p:spPr>
            <a:xfrm>
              <a:off x="7455240" y="2676240"/>
              <a:ext cx="106740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0,3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8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9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1381-BD88-465F-A473-001CC3C38A9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Прямоугольник 3"/>
          <p:cNvSpPr/>
          <p:nvPr/>
        </p:nvSpPr>
        <p:spPr>
          <a:xfrm>
            <a:off x="520560" y="1839960"/>
            <a:ext cx="5221440" cy="1355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Group 55"/>
          <p:cNvGrpSpPr/>
          <p:nvPr/>
        </p:nvGrpSpPr>
        <p:grpSpPr>
          <a:xfrm>
            <a:off x="262080" y="969840"/>
            <a:ext cx="6094440" cy="663480"/>
            <a:chOff x="262080" y="969840"/>
            <a:chExt cx="6094440" cy="663480"/>
          </a:xfrm>
        </p:grpSpPr>
        <p:sp>
          <p:nvSpPr>
            <p:cNvPr id="953" name="Text Box 56"/>
            <p:cNvSpPr/>
            <p:nvPr/>
          </p:nvSpPr>
          <p:spPr>
            <a:xfrm>
              <a:off x="729000" y="1076040"/>
              <a:ext cx="562752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з каких примитивов состоит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57"/>
            <p:cNvSpPr/>
            <p:nvPr/>
          </p:nvSpPr>
          <p:spPr>
            <a:xfrm>
              <a:off x="262080" y="969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Прямоугольник 14"/>
          <p:cNvSpPr/>
          <p:nvPr/>
        </p:nvSpPr>
        <p:spPr>
          <a:xfrm>
            <a:off x="1998720" y="322272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Прямоугольник 15"/>
          <p:cNvSpPr/>
          <p:nvPr/>
        </p:nvSpPr>
        <p:spPr>
          <a:xfrm>
            <a:off x="520560" y="3741840"/>
            <a:ext cx="5256360" cy="1919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в точку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в точку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в точку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в точку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Group 55"/>
          <p:cNvGrpSpPr/>
          <p:nvPr/>
        </p:nvGrpSpPr>
        <p:grpSpPr>
          <a:xfrm>
            <a:off x="5705640" y="4308480"/>
            <a:ext cx="3061800" cy="663480"/>
            <a:chOff x="5705640" y="4308480"/>
            <a:chExt cx="3061800" cy="663480"/>
          </a:xfrm>
        </p:grpSpPr>
        <p:sp>
          <p:nvSpPr>
            <p:cNvPr id="958" name="Text Box 56"/>
            <p:cNvSpPr/>
            <p:nvPr/>
          </p:nvSpPr>
          <p:spPr>
            <a:xfrm>
              <a:off x="6172200" y="4414680"/>
              <a:ext cx="25952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Что лучше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57"/>
            <p:cNvSpPr/>
            <p:nvPr/>
          </p:nvSpPr>
          <p:spPr>
            <a:xfrm>
              <a:off x="5705640" y="4308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Прямоугольник 20"/>
          <p:cNvSpPr/>
          <p:nvPr/>
        </p:nvSpPr>
        <p:spPr>
          <a:xfrm>
            <a:off x="358920" y="4732200"/>
            <a:ext cx="19112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96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926C-62EE-40D9-8AC7-8D53D692101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Полилиния 5"/>
          <p:cNvSpPr/>
          <p:nvPr/>
        </p:nvSpPr>
        <p:spPr>
          <a:xfrm rot="19423800">
            <a:off x="379440" y="944280"/>
            <a:ext cx="2165400" cy="19922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Полилиния 6"/>
          <p:cNvSpPr/>
          <p:nvPr/>
        </p:nvSpPr>
        <p:spPr>
          <a:xfrm rot="19423800">
            <a:off x="1852560" y="2406240"/>
            <a:ext cx="255600" cy="844560"/>
          </a:xfrm>
          <a:prstGeom prst="pie">
            <a:avLst/>
          </a:prstGeom>
          <a:solidFill>
            <a:srgbClr val="3e28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Прямоугольник 9"/>
          <p:cNvSpPr/>
          <p:nvPr/>
        </p:nvSpPr>
        <p:spPr>
          <a:xfrm>
            <a:off x="3197160" y="922320"/>
            <a:ext cx="3965760" cy="992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кисть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оранжевы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залить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Группа 12"/>
          <p:cNvGrpSpPr/>
          <p:nvPr/>
        </p:nvGrpSpPr>
        <p:grpSpPr>
          <a:xfrm>
            <a:off x="1428840" y="1905120"/>
            <a:ext cx="2369520" cy="852480"/>
            <a:chOff x="1428840" y="1905120"/>
            <a:chExt cx="2369520" cy="852480"/>
          </a:xfrm>
        </p:grpSpPr>
        <p:sp>
          <p:nvSpPr>
            <p:cNvPr id="967" name="Скругленная прямоугольная выноска 10"/>
            <p:cNvSpPr/>
            <p:nvPr/>
          </p:nvSpPr>
          <p:spPr>
            <a:xfrm flipH="1">
              <a:off x="2591640" y="2184480"/>
              <a:ext cx="1206360" cy="573120"/>
            </a:xfrm>
            <a:prstGeom prst="wedgeRoundRectCallout">
              <a:avLst>
                <a:gd name="adj1" fmla="val 138430"/>
                <a:gd name="adj2" fmla="val -9052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50,6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Овал 11"/>
            <p:cNvSpPr/>
            <p:nvPr/>
          </p:nvSpPr>
          <p:spPr>
            <a:xfrm>
              <a:off x="1428840" y="1905120"/>
              <a:ext cx="7596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Прямоугольник 13"/>
          <p:cNvSpPr/>
          <p:nvPr/>
        </p:nvSpPr>
        <p:spPr>
          <a:xfrm>
            <a:off x="2639880" y="2851200"/>
            <a:ext cx="521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чать с любой точки внутри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ливаются все соседние пиксели  одного ц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ливка прекращается на границе другого ц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55"/>
          <p:cNvGrpSpPr/>
          <p:nvPr/>
        </p:nvGrpSpPr>
        <p:grpSpPr>
          <a:xfrm>
            <a:off x="2465280" y="5403960"/>
            <a:ext cx="5561280" cy="663480"/>
            <a:chOff x="2465280" y="5403960"/>
            <a:chExt cx="5561280" cy="663480"/>
          </a:xfrm>
        </p:grpSpPr>
        <p:sp>
          <p:nvSpPr>
            <p:cNvPr id="971" name="Text Box 56"/>
            <p:cNvSpPr/>
            <p:nvPr/>
          </p:nvSpPr>
          <p:spPr>
            <a:xfrm>
              <a:off x="2932200" y="5510160"/>
              <a:ext cx="509436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сли линия не замкнута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57"/>
            <p:cNvSpPr/>
            <p:nvPr/>
          </p:nvSpPr>
          <p:spPr>
            <a:xfrm>
              <a:off x="2465280" y="5403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Полилиния 17"/>
          <p:cNvSpPr/>
          <p:nvPr/>
        </p:nvSpPr>
        <p:spPr>
          <a:xfrm>
            <a:off x="790560" y="5086440"/>
            <a:ext cx="1004760" cy="1009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Овал 18"/>
          <p:cNvSpPr/>
          <p:nvPr/>
        </p:nvSpPr>
        <p:spPr>
          <a:xfrm>
            <a:off x="1479600" y="5057640"/>
            <a:ext cx="349200" cy="34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Стрелка вправо 21"/>
          <p:cNvSpPr/>
          <p:nvPr/>
        </p:nvSpPr>
        <p:spPr>
          <a:xfrm rot="18792600">
            <a:off x="1589760" y="5031000"/>
            <a:ext cx="323640" cy="147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61b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1bb46"/>
                                      </p:to>
                                    </p:animClr>
                                    <p:set>
                                      <p:cBhvr>
                                        <p:cTn id="267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9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86D0-F184-4B72-B2B4-C580CFF1BA4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"/>
          <p:cNvGrpSpPr/>
          <p:nvPr/>
        </p:nvGrpSpPr>
        <p:grpSpPr>
          <a:xfrm>
            <a:off x="406440" y="1003320"/>
            <a:ext cx="5014800" cy="4914720"/>
            <a:chOff x="406440" y="1003320"/>
            <a:chExt cx="5014800" cy="4914720"/>
          </a:xfrm>
        </p:grpSpPr>
        <p:sp>
          <p:nvSpPr>
            <p:cNvPr id="980" name="AutoShape 31"/>
            <p:cNvSpPr/>
            <p:nvPr/>
          </p:nvSpPr>
          <p:spPr>
            <a:xfrm>
              <a:off x="406440" y="1003320"/>
              <a:ext cx="5014800" cy="49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30"/>
            <p:cNvSpPr/>
            <p:nvPr/>
          </p:nvSpPr>
          <p:spPr>
            <a:xfrm>
              <a:off x="1681920" y="3643560"/>
              <a:ext cx="275760" cy="1427760"/>
            </a:xfrm>
            <a:prstGeom prst="rect">
              <a:avLst/>
            </a:prstGeom>
            <a:solidFill>
              <a:srgbClr val="d8d8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9"/>
            <p:cNvSpPr/>
            <p:nvPr/>
          </p:nvSpPr>
          <p:spPr>
            <a:xfrm>
              <a:off x="3728160" y="3651840"/>
              <a:ext cx="280440" cy="1417320"/>
            </a:xfrm>
            <a:prstGeom prst="rect">
              <a:avLst/>
            </a:prstGeom>
            <a:solidFill>
              <a:srgbClr val="d8d8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AutoShape 28"/>
            <p:cNvSpPr/>
            <p:nvPr/>
          </p:nvSpPr>
          <p:spPr>
            <a:xfrm>
              <a:off x="1409400" y="2217960"/>
              <a:ext cx="2871360" cy="1434960"/>
            </a:xfrm>
            <a:prstGeom prst="triangle">
              <a:avLst>
                <a:gd name="adj" fmla="val 50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7"/>
            <p:cNvSpPr/>
            <p:nvPr/>
          </p:nvSpPr>
          <p:spPr>
            <a:xfrm>
              <a:off x="2570760" y="1983600"/>
              <a:ext cx="547200" cy="54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26"/>
            <p:cNvSpPr/>
            <p:nvPr/>
          </p:nvSpPr>
          <p:spPr>
            <a:xfrm>
              <a:off x="895320" y="2239200"/>
              <a:ext cx="4194360" cy="10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25"/>
            <p:cNvSpPr/>
            <p:nvPr/>
          </p:nvSpPr>
          <p:spPr>
            <a:xfrm>
              <a:off x="895320" y="3651840"/>
              <a:ext cx="4194360" cy="10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24"/>
            <p:cNvSpPr/>
            <p:nvPr/>
          </p:nvSpPr>
          <p:spPr>
            <a:xfrm>
              <a:off x="895320" y="5069160"/>
              <a:ext cx="4194360" cy="7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23"/>
            <p:cNvSpPr/>
            <p:nvPr/>
          </p:nvSpPr>
          <p:spPr>
            <a:xfrm flipH="1">
              <a:off x="1403280" y="1407960"/>
              <a:ext cx="2160" cy="4193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22"/>
            <p:cNvSpPr/>
            <p:nvPr/>
          </p:nvSpPr>
          <p:spPr>
            <a:xfrm flipH="1">
              <a:off x="1679400" y="1407960"/>
              <a:ext cx="2160" cy="4193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21"/>
            <p:cNvSpPr/>
            <p:nvPr/>
          </p:nvSpPr>
          <p:spPr>
            <a:xfrm flipH="1">
              <a:off x="1956240" y="1407960"/>
              <a:ext cx="1800" cy="4193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20"/>
            <p:cNvSpPr/>
            <p:nvPr/>
          </p:nvSpPr>
          <p:spPr>
            <a:xfrm flipH="1">
              <a:off x="2842200" y="1407960"/>
              <a:ext cx="2160" cy="4193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9"/>
            <p:cNvSpPr/>
            <p:nvPr/>
          </p:nvSpPr>
          <p:spPr>
            <a:xfrm flipH="1">
              <a:off x="3727800" y="1407960"/>
              <a:ext cx="1800" cy="4193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18"/>
            <p:cNvSpPr/>
            <p:nvPr/>
          </p:nvSpPr>
          <p:spPr>
            <a:xfrm flipH="1">
              <a:off x="4009680" y="1407960"/>
              <a:ext cx="2160" cy="4193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17"/>
            <p:cNvSpPr/>
            <p:nvPr/>
          </p:nvSpPr>
          <p:spPr>
            <a:xfrm flipH="1">
              <a:off x="4291200" y="1407960"/>
              <a:ext cx="1800" cy="4193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16"/>
            <p:cNvSpPr/>
            <p:nvPr/>
          </p:nvSpPr>
          <p:spPr>
            <a:xfrm>
              <a:off x="1135800" y="1038600"/>
              <a:ext cx="3409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15"/>
            <p:cNvSpPr/>
            <p:nvPr/>
          </p:nvSpPr>
          <p:spPr>
            <a:xfrm>
              <a:off x="1524240" y="1038600"/>
              <a:ext cx="3409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14"/>
            <p:cNvSpPr/>
            <p:nvPr/>
          </p:nvSpPr>
          <p:spPr>
            <a:xfrm>
              <a:off x="1890360" y="1038600"/>
              <a:ext cx="3409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13"/>
            <p:cNvSpPr/>
            <p:nvPr/>
          </p:nvSpPr>
          <p:spPr>
            <a:xfrm>
              <a:off x="3240000" y="1038600"/>
              <a:ext cx="47340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12"/>
            <p:cNvSpPr/>
            <p:nvPr/>
          </p:nvSpPr>
          <p:spPr>
            <a:xfrm>
              <a:off x="3737520" y="1038600"/>
              <a:ext cx="47340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11"/>
            <p:cNvSpPr/>
            <p:nvPr/>
          </p:nvSpPr>
          <p:spPr>
            <a:xfrm>
              <a:off x="4201560" y="1038600"/>
              <a:ext cx="47340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10"/>
            <p:cNvSpPr/>
            <p:nvPr/>
          </p:nvSpPr>
          <p:spPr>
            <a:xfrm>
              <a:off x="2687040" y="1038600"/>
              <a:ext cx="3409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9"/>
            <p:cNvSpPr/>
            <p:nvPr/>
          </p:nvSpPr>
          <p:spPr>
            <a:xfrm>
              <a:off x="493920" y="2068560"/>
              <a:ext cx="3409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8"/>
            <p:cNvSpPr/>
            <p:nvPr/>
          </p:nvSpPr>
          <p:spPr>
            <a:xfrm>
              <a:off x="493920" y="3496680"/>
              <a:ext cx="3409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8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7"/>
            <p:cNvSpPr/>
            <p:nvPr/>
          </p:nvSpPr>
          <p:spPr>
            <a:xfrm>
              <a:off x="406440" y="4891320"/>
              <a:ext cx="42876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6"/>
            <p:cNvSpPr/>
            <p:nvPr/>
          </p:nvSpPr>
          <p:spPr>
            <a:xfrm>
              <a:off x="477360" y="1395000"/>
              <a:ext cx="4901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5"/>
            <p:cNvSpPr/>
            <p:nvPr/>
          </p:nvSpPr>
          <p:spPr>
            <a:xfrm flipH="1">
              <a:off x="868680" y="1009080"/>
              <a:ext cx="1080" cy="4900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4"/>
            <p:cNvSpPr/>
            <p:nvPr/>
          </p:nvSpPr>
          <p:spPr>
            <a:xfrm>
              <a:off x="483480" y="1038600"/>
              <a:ext cx="38556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3"/>
            <p:cNvSpPr/>
            <p:nvPr/>
          </p:nvSpPr>
          <p:spPr>
            <a:xfrm>
              <a:off x="5035320" y="1038600"/>
              <a:ext cx="38556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2"/>
            <p:cNvSpPr/>
            <p:nvPr/>
          </p:nvSpPr>
          <p:spPr>
            <a:xfrm>
              <a:off x="468000" y="5605560"/>
              <a:ext cx="38556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Group 55"/>
          <p:cNvGrpSpPr/>
          <p:nvPr/>
        </p:nvGrpSpPr>
        <p:grpSpPr>
          <a:xfrm>
            <a:off x="4989600" y="1541520"/>
            <a:ext cx="3811680" cy="663480"/>
            <a:chOff x="4989600" y="1541520"/>
            <a:chExt cx="3811680" cy="663480"/>
          </a:xfrm>
        </p:grpSpPr>
        <p:sp>
          <p:nvSpPr>
            <p:cNvPr id="1011" name="Text Box 56"/>
            <p:cNvSpPr/>
            <p:nvPr/>
          </p:nvSpPr>
          <p:spPr>
            <a:xfrm>
              <a:off x="5456520" y="1647720"/>
              <a:ext cx="334476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з каких фигур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57"/>
            <p:cNvSpPr/>
            <p:nvPr/>
          </p:nvSpPr>
          <p:spPr>
            <a:xfrm>
              <a:off x="4989600" y="15415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55"/>
          <p:cNvGrpSpPr/>
          <p:nvPr/>
        </p:nvGrpSpPr>
        <p:grpSpPr>
          <a:xfrm>
            <a:off x="4989600" y="2378160"/>
            <a:ext cx="3811680" cy="1053360"/>
            <a:chOff x="4989600" y="2378160"/>
            <a:chExt cx="3811680" cy="1053360"/>
          </a:xfrm>
        </p:grpSpPr>
        <p:sp>
          <p:nvSpPr>
            <p:cNvPr id="1014" name="Text Box 56"/>
            <p:cNvSpPr/>
            <p:nvPr/>
          </p:nvSpPr>
          <p:spPr>
            <a:xfrm>
              <a:off x="5456520" y="2484360"/>
              <a:ext cx="334476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 каком порядке рисовать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57"/>
            <p:cNvSpPr/>
            <p:nvPr/>
          </p:nvSpPr>
          <p:spPr>
            <a:xfrm>
              <a:off x="4989600" y="2378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Group 55"/>
          <p:cNvGrpSpPr/>
          <p:nvPr/>
        </p:nvGrpSpPr>
        <p:grpSpPr>
          <a:xfrm>
            <a:off x="4570560" y="3611520"/>
            <a:ext cx="4268160" cy="1053360"/>
            <a:chOff x="4570560" y="3611520"/>
            <a:chExt cx="4268160" cy="1053360"/>
          </a:xfrm>
        </p:grpSpPr>
        <p:sp>
          <p:nvSpPr>
            <p:cNvPr id="1017" name="Text Box 56"/>
            <p:cNvSpPr/>
            <p:nvPr/>
          </p:nvSpPr>
          <p:spPr>
            <a:xfrm>
              <a:off x="5037120" y="3717720"/>
              <a:ext cx="380160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ординаты углов прямоугольников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57"/>
            <p:cNvSpPr/>
            <p:nvPr/>
          </p:nvSpPr>
          <p:spPr>
            <a:xfrm>
              <a:off x="4570560" y="3611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3</cp:lastModifiedBy>
  <dcterms:modified xsi:type="dcterms:W3CDTF">2023-02-17T10:50:56Z</dcterms:modified>
  <cp:revision>1234</cp:revision>
  <dc:subject/>
  <dc:title>Программное обеспечение (ПО)</dc:title>
</cp:coreProperties>
</file>