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1F20-E747-444B-9FE3-2BEE841F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5CFB-CBCA-421D-BE10-590DCCF7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6699A-9856-4306-8546-8524E538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643AD-A039-4D73-B713-3A01EA46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EE02B-002D-4562-9C5D-CC4AD509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39740-E77D-41A6-9B38-51904729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AA75A-C07F-4E97-92D8-B94750A5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FAA206-1007-49B4-9EE4-71F9E510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298EA-9A2B-48ED-B66F-11DBF12A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39388-5FEA-415C-9716-AF7C7F9D1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B5229-29BA-41D5-B1E8-D8C548087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7AC5FB-34A3-4829-8F8C-9462A6124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E805-62D6-4D54-BFF0-C15EC6C12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77BBA-1315-4898-97CA-D586924E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24632-716B-4FE1-AF85-F515CF2D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62FC8-1472-4957-A900-13D6D8F8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99E662-6038-4BE4-A432-C807253C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851B7-9D8C-4000-9FBB-5D6AABE9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F65A68-8B60-40C6-B1B1-644BDF14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F74F9-0F66-468F-BECE-DC4C1186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D373C-8C98-421F-BC04-44CCB8F0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D43BF-A28B-41D6-9F08-196669B1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6334D-4FA5-4063-AAA6-423D270BA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B706-382B-4BE8-8A1A-61EBA18C6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B6ED5-C29C-4CCB-85AB-F19B32EFF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56E1D-6F1D-4775-98C3-A7CF2F264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32737-4590-491C-92E7-757487DE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4CA76-9461-4373-AFA0-1B9588CE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50395-D7FA-4C5C-B011-60D478FD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45906-2715-4B9E-BFBD-B52B998E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0E545-007A-4FEE-AD12-700C601A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24CDC-DDED-4369-B29D-4EDE3EDC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FF9D6-48CE-4750-A72F-5499A913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C4ABF-60EE-44BA-93C9-5FAABDDB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11BE-5C17-4DB1-A570-238E45B79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4A783-3563-4742-A0F8-68F0F2B6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523E5-5F26-4015-8D2C-6715DA2BF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1A64B-3FFF-4674-AD43-D72BD3033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28DB7-65FB-425C-A41A-F19342002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EFB092-C6F1-40C6-9280-5E67676C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CE1E8A-2654-4CE1-BE5B-E984077A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F9BC7B-9E48-43CD-B0F6-42FA547A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AC48DE-9B49-44B6-B9DE-B3EB1A62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40FA40-DE75-417A-AB51-B3593A63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90D966-E866-4EB5-A5AF-19AAB756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0F69-513E-4AA4-BE58-91B701EE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7D029-A2F4-4BBE-B5FD-C20C2951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4DB80-8138-4EA8-981A-3194BDAA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10F7A3-5D96-4328-9269-F6B01E2C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C699D-439B-463B-B2F0-20887790A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AA766C-47AE-46E5-B156-17169375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FA8B0F-5093-4566-AE05-6AC43C9AC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D58594-9306-4F61-91CF-B2F044FF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3E4F97-0737-46FE-83E1-0200E120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474304-36C8-45CB-9D99-78EC653B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2ACC01-3869-4735-AC66-F8C1930C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821F-63ED-4AD3-8A9E-47AB408D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A4C3F8-576A-4E6E-908B-FEB39C64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0E4428-ADFF-41E7-8927-2018CE7F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D5AF44-5526-46B8-9248-CC227940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C43A23-DEC1-4351-A9E4-2B293837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FE2DCA-2503-428C-9778-C7DE61B5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009C12-7E5E-4C71-BA8E-C4CFBE620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0E6BBD-F3DD-40BA-8BF9-D95404485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D8F2CE-F265-45F8-90CA-7A7397ACB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5A2EEA-C9B4-4E4A-9DC6-5C5CDCD9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AC0E7A-31CA-4D7F-B89F-6F54190B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31FE-295D-44F6-A233-9F56DB50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F2A872-9373-495F-A660-2F2E617D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7B7C60-20C3-4373-A28F-6D704DCC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8F6BF3-DD1D-47F3-B0AE-2035D98C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6E973C-3033-49E7-BB0E-03BCDFA4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45F97B-061B-4676-8E45-CE4DD790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EE7A4A-E8A3-4D8D-8A64-1AEBE7CD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56FADD-2B58-44E0-BC3D-630102F7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437F26-CB5E-4F3B-884A-06CA1597D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C2BBA8-154F-4542-9FCA-7DAA7EC9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079FB6-D72E-4097-ABD2-6B1C2BB2C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4A00-C23F-4109-A993-075D5C07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FAEFF1-667E-4CDF-95F0-AD4D396F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170A91-E733-48BC-BB2C-4D102663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49F643-6C85-4623-81E9-329C4CB3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7FC70E-55FD-423C-8602-77D98074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6FDBAA-5399-4335-B042-7AD803C4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C28C2E-9371-4E42-8A65-375E6E23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BBDB08-D353-4B53-9D8D-BD656F4E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C93727-415E-4CB7-A86C-B54DB537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5D01DF-AD16-4162-8F77-CA7B203B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B3EC61-FA58-4C2F-AEEA-1F2BCD54C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9913-B0EE-4D80-84B6-48068E68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49274F-10D4-4848-95D7-3852406A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6F0872-BAEA-4C06-AF14-68B617D8D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80B1F6-2176-431F-93BD-2B408940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92DEF0-41F6-41FB-BF9C-FC367A47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B3C099-3D46-439D-A491-EEA8BD15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E09676-97CC-41AA-82C1-EC973743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E6C3E6-5B58-411B-9E61-4C198F49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4C271A-4B68-448D-9983-9F8E80D0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6469C9-3B7C-49DE-9AAF-90DD72FF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D4C2FA-341D-44D7-82B6-5C5F1C40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A0AE-97F3-4A45-9FD4-84D7F70A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FF8274-30E0-4EC3-BCE0-4449145B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6E959F-9012-4A49-900D-2A4514DBD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58D656-9A32-4C57-9531-70DD8D6E3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AD676A-B982-4E90-8801-A98AB114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6A63DB-F291-4C45-970F-C9990A59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68CD8F-9854-42C9-8CA6-79D9E17A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E3491E-8AD2-4708-B532-6BFA53F7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CCB2C6-E621-4F42-BF9F-0180BCDC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AC3809-DB8A-4E7C-AEF4-881F38B7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D1DA60-801B-4E27-ABFA-D71D5AE4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F7C8-D929-47B8-98A4-C6C72A8E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050D-B605-41C8-8348-DE97D916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737FE0-C8B9-4994-986A-EFCFB06B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AF9ABB-169A-4A87-A2F3-1CBFBEA6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3008B6-EEAA-47B1-AB8B-989188B2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36A633-392E-44FE-8433-44C5212B0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86ADF7-5462-4EC2-8C0B-54484CF2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40AAAC-75EE-4E61-AD09-A102E14E6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CC58F3-37D6-404B-9409-25626BE0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06539E-B857-402A-9B93-AE0038D9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5E9388-6ABB-4C7B-BBE9-2CFC8A93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765486-6CC0-4688-ABD5-948CE909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A1EC-835A-4FAA-BCC1-9E1FD7BF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2DBA9D-D9CE-4418-8A06-8243E75A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C11E44-6F69-41AA-9400-123D72F5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F8C87E-8ACE-4B82-88D2-222D4807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4483A2-71A7-412F-B565-E7DE92FB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3D76F9-6254-446F-B0C5-4F6A165B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9CB870-D93B-42CB-A6D0-F6F44C1A7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A77FCE-1C2B-4D07-B5D2-8540FE0D9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D175-190E-4D80-B2F6-C7642B75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057E-9B71-4454-94C2-B9855D44F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4266-42A6-4BF6-91B8-EFA8F4537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EB84A-AECA-49C5-B2A2-5F0C6E48C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F1C86-4844-44C2-B611-A5514B08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A30D4-1618-4C7E-8455-6399E6FF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1A99C-D693-457B-BBF3-8C624034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C2D11-817B-4D28-8EAD-824631F1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9409-FFC7-490A-B75B-9957A199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8AA3F-C981-40DE-9C47-D7F942D6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E8D1A-9212-4640-B95D-E9811634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9FA3F-9278-4609-99F9-BAF1C98B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B703A-4E5F-4CF3-805B-6A8179F7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F514C-8E44-4BF6-95F0-DE3B390B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09B1E-0060-4E8F-A0C7-483F996E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91E12-1123-4C1B-9E4D-5C691312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639E6-3C26-4064-BDC9-1844C1265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D862D-1BA6-49A4-9DB7-114B3516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DD25E-8A43-4355-9483-9CBD08C3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C0D7-D9F2-4868-9E8F-4BDC9C69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8289B-0099-4391-B2ED-5FC63587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DB68C-0111-4EC4-B776-4CEEB063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93534-E6E0-426A-8368-58DC89C0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31459-9433-4C33-8C97-533755FA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4F53D-9C3D-4C66-8E2A-6B371098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7F53C-9FBB-4576-B6A1-7832178E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D1A6D-C6C1-44A9-96F1-59E52FF8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A2DE3-CE14-4AF6-AF91-F2AD6EAC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121CB-E0F8-4DB2-8177-4043C69B9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93442-6630-4306-83CC-49B1869F7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306A-E263-4743-A5D7-895B19C0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66C01-A21E-40A8-AF46-86251AA0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25539-CDC3-4167-9D33-C6E518B3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6DE69-6880-43AD-8B42-1E984772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BCC43-BF28-42A7-A507-024C012A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52F98-A45D-4A4F-A05B-EDC44D83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07F94-B0A6-43CA-B9C7-5D1618C5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AC049-03C1-42C5-A5CC-3ABC8AE2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7C13E-9A3B-4388-9D5F-3C32630E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2D4DB-537D-4547-8BA0-794490EF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0DEA4-EBA2-4EB0-8B6D-0855570C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41A8-E5CB-4B72-A2D3-3DC6340F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C454F-DCDA-4C4D-81BB-85F3FE286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DFB48-E851-4B88-A6D3-FBE27F98B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4FD10-330B-43E3-80C4-E08CAC5B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E07A0-A8DC-4BA9-A9CA-4DD2D148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C58F6-AF8F-4D5A-BD1E-FF9F700E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2B845-42CC-40A3-8042-12B8F0F6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E5295-8B78-4D41-B48B-31C9CBDA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506FC-FF10-45E8-A292-DA2F3109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130E9-C7C8-4E66-AA7D-77ED66A6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450F0-F9E8-499E-8928-ADC0DF5B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5AA4-C62B-4A47-9394-20B8B825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68EB3-85BB-48CF-AAE0-55D53A73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1B983-18B7-4588-9039-77B6B8C6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4AEE3-36B0-4815-94B0-5EFD8082D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FD62C-5004-4762-A410-F3A3E657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081C5-985C-4A67-B6B0-4B0BAF1C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F94FB-82DA-42E8-8DCD-C55C92A7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90340-5C59-42EB-BB2A-DFA8F452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78F4B-D014-4F19-A52D-9907371C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F34C1-2875-4B4C-8AAF-0417FFC8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9BCE2-E11A-492E-98D1-91C9B2FA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B46F-D5F7-469C-8EE7-C90730A2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A185F-3FED-499F-8E35-B0BA2E7E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5DFE1-84F5-44B6-B212-869152E9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63677-6D7C-4D4D-904E-2653E813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790B5-842D-4A2B-AD6B-A95091A6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4B0B8-2B07-44B2-A50C-8445FC765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CA210-0280-42BC-B754-2698F7CF8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8D67A-CAC4-4312-8628-238FAC4A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6BE9E-279B-4A2B-BE84-BB328326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8BD00-3AA7-49C3-8233-7E9D666C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B89CA-05C7-43A1-AE36-F831D96A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3773-D1EB-4160-9B35-A6F58E79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4C0AC-B825-4347-87A1-9F41DE40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3E9B5-854C-46F9-B394-76A04B34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C2006-F794-4306-A9AE-BAE5A0A5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D9746-50DA-4602-BF1D-5EED9092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26C4C-8AA9-4702-908A-CED755AE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87C00-E11D-43EE-AE06-8AA56DDB9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DB782-F058-4188-A5EC-6A5B359DA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4E630-2FEE-44E9-B336-6F82596B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86C000-8AAC-4B1D-9D38-090DABB1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8A401-F4DA-4272-AB30-17E1C6B9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58B6-8874-4626-98B3-8B8DEB327A9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Прямоугольник 12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Алгоритмы и программирование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, 7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13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К.Ю. Поляков, Е.А. Ерёмин, 2022 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0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B889-E2E2-442B-A41A-606E827AF5E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3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6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59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Прямоугольник 12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Алгоритмы и программирование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, 7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13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К.Ю. Поляков, Е.А. Ерёмин, 2022 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3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1F97-FD01-4A7D-B460-1BFF5D8CE68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0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0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Прямоугольник 12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Алгоритмы и программирование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, 7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ямоугольник 13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К.Ю. Поляков, Е.А. Ерёмин, 2022 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D41F-68B9-463F-B1B0-0CDD73EB02D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59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62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65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Прямоугольник 12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Алгоритмы и программирование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, 7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Прямоугольник 13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К.Ю. Поляков, Е.А. Ерёмин, 2022 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9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A005-3CFB-4453-8C77-1DBD17AA149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61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615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618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Прямоугольник 12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Алгоритмы и программирование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, 7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Прямоугольник 13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К.Ю. Поляков, Е.А. Ерёмин, 2022 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sldNum" idx="42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4D02-CA2B-4902-A524-C404E8D18EA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66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66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67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Прямоугольник 12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Алгоритмы и программирование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, 7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Прямоугольник 13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К.Ю. Поляков, Е.А. Ерёмин, 2022 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sldNum" idx="45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CCAC-3266-4782-89B3-D72EB5AF766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7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718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721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724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Прямоугольник 12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Алгоритмы и программирование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, 7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Прямоугольник 13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К.Ю. Поляков, Е.А. Ерёмин, 2022 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 type="sldNum" idx="48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8F18-590A-4F26-A4A3-CD580079378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77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77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77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Прямоугольник 12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Алгоритмы и программирование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, 7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Прямоугольник 13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К.Ю. Поляков, Е.А. Ерёмин, 2022 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 type="dt" idx="4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 type="sldNum" idx="51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9103-7702-4D1A-959C-E092F6253CD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82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82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83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2" name="Прямоугольник 12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Алгоритмы и программирование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, 7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Прямоугольник 13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К.Ю. Поляков, Е.А. Ерёмин, 2022 </a:t>
            </a:r>
            <a:r>
              <a:rPr b="0" i="1" lang="ru-RU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Franklin Gothic Book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54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F399-EFA9-4B08-B258-1A9833D781E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82F8-7798-4923-8B7E-4F00B1859E0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A6B5-A306-4C5C-9194-8BA54F33CFD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F977-0352-4CF2-BE31-B3D1534A0CD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B8C5-9E73-4E71-A89C-D5289C345DA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0891-0E7A-4EA5-942F-6F0E904D4D4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D3A6-941A-496E-9AE4-5DFA7D64643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1D5E-279C-4DB0-B587-3787DD488A5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EA54-3BCF-41B4-A496-0220764FF1F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Rectangle 2" descr=""/>
          <p:cNvPicPr/>
          <p:nvPr/>
        </p:nvPicPr>
        <p:blipFill>
          <a:blip r:embed="rId1"/>
          <a:stretch/>
        </p:blipFill>
        <p:spPr>
          <a:xfrm>
            <a:off x="42840" y="4681440"/>
            <a:ext cx="8802720" cy="2536920"/>
          </a:xfrm>
          <a:prstGeom prst="rect">
            <a:avLst/>
          </a:prstGeom>
          <a:ln w="0">
            <a:noFill/>
          </a:ln>
        </p:spPr>
      </p:pic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560520" y="4358880"/>
            <a:ext cx="8354880" cy="13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8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F702-70C9-497D-95D2-A002F3762137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9" name="Прямоугольник 4" descr=""/>
          <p:cNvPicPr/>
          <p:nvPr/>
        </p:nvPicPr>
        <p:blipFill>
          <a:blip r:embed="rId2"/>
          <a:stretch/>
        </p:blipFill>
        <p:spPr>
          <a:xfrm>
            <a:off x="-201600" y="2749680"/>
            <a:ext cx="954720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Заголовок 1" descr=""/>
          <p:cNvPicPr/>
          <p:nvPr/>
        </p:nvPicPr>
        <p:blipFill>
          <a:blip r:embed="rId1"/>
          <a:stretch/>
        </p:blipFill>
        <p:spPr>
          <a:xfrm>
            <a:off x="182520" y="231840"/>
            <a:ext cx="8510760" cy="847800"/>
          </a:xfrm>
          <a:prstGeom prst="rect">
            <a:avLst/>
          </a:prstGeom>
          <a:ln w="0">
            <a:noFill/>
          </a:ln>
        </p:spPr>
      </p:pic>
      <p:sp>
        <p:nvSpPr>
          <p:cNvPr id="102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964A-DB04-4E17-965E-C6DEAC849256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5"/>
          <p:cNvSpPr/>
          <p:nvPr/>
        </p:nvSpPr>
        <p:spPr>
          <a:xfrm>
            <a:off x="369720" y="809640"/>
            <a:ext cx="84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изображение дом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5"/>
          <p:cNvSpPr/>
          <p:nvPr/>
        </p:nvSpPr>
        <p:spPr>
          <a:xfrm>
            <a:off x="369720" y="2400480"/>
            <a:ext cx="84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любой из рисунк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5"/>
          <p:cNvSpPr/>
          <p:nvPr/>
        </p:nvSpPr>
        <p:spPr>
          <a:xfrm>
            <a:off x="369720" y="4254480"/>
            <a:ext cx="84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С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рисуно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Group 1"/>
          <p:cNvGrpSpPr/>
          <p:nvPr/>
        </p:nvGrpSpPr>
        <p:grpSpPr>
          <a:xfrm>
            <a:off x="1917720" y="1270080"/>
            <a:ext cx="1174680" cy="1028520"/>
            <a:chOff x="1917720" y="1270080"/>
            <a:chExt cx="1174680" cy="1028520"/>
          </a:xfrm>
        </p:grpSpPr>
        <p:sp>
          <p:nvSpPr>
            <p:cNvPr id="1026" name="AutoShape 7"/>
            <p:cNvSpPr/>
            <p:nvPr/>
          </p:nvSpPr>
          <p:spPr>
            <a:xfrm>
              <a:off x="1917720" y="1270080"/>
              <a:ext cx="1174680" cy="10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6"/>
            <p:cNvSpPr/>
            <p:nvPr/>
          </p:nvSpPr>
          <p:spPr>
            <a:xfrm>
              <a:off x="2163240" y="1605240"/>
              <a:ext cx="683280" cy="687240"/>
            </a:xfrm>
            <a:prstGeom prst="rect">
              <a:avLst/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5"/>
            <p:cNvSpPr/>
            <p:nvPr/>
          </p:nvSpPr>
          <p:spPr>
            <a:xfrm>
              <a:off x="2160720" y="1602720"/>
              <a:ext cx="688320" cy="69264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4"/>
            <p:cNvSpPr/>
            <p:nvPr/>
          </p:nvSpPr>
          <p:spPr>
            <a:xfrm>
              <a:off x="1925280" y="1274400"/>
              <a:ext cx="1159560" cy="335160"/>
            </a:xfrm>
            <a:prstGeom prst="pie">
              <a:avLst/>
            </a:prstGeom>
            <a:solidFill>
              <a:srgbClr val="0000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3"/>
            <p:cNvSpPr/>
            <p:nvPr/>
          </p:nvSpPr>
          <p:spPr>
            <a:xfrm>
              <a:off x="1922760" y="1271880"/>
              <a:ext cx="1164600" cy="3405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Rectangle 2"/>
            <p:cNvSpPr/>
            <p:nvPr/>
          </p:nvSpPr>
          <p:spPr>
            <a:xfrm>
              <a:off x="2305080" y="1883520"/>
              <a:ext cx="208800" cy="393840"/>
            </a:xfrm>
            <a:prstGeom prst="rect">
              <a:avLst/>
            </a:prstGeom>
            <a:solidFill>
              <a:srgbClr val="62242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Group 9"/>
          <p:cNvGrpSpPr/>
          <p:nvPr/>
        </p:nvGrpSpPr>
        <p:grpSpPr>
          <a:xfrm>
            <a:off x="1536840" y="3033720"/>
            <a:ext cx="1164960" cy="1022040"/>
            <a:chOff x="1536840" y="3033720"/>
            <a:chExt cx="1164960" cy="1022040"/>
          </a:xfrm>
        </p:grpSpPr>
        <p:sp>
          <p:nvSpPr>
            <p:cNvPr id="1033" name="Rectangle 10"/>
            <p:cNvSpPr/>
            <p:nvPr/>
          </p:nvSpPr>
          <p:spPr>
            <a:xfrm>
              <a:off x="1777680" y="3366720"/>
              <a:ext cx="683280" cy="686880"/>
            </a:xfrm>
            <a:prstGeom prst="rect">
              <a:avLst/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1"/>
            <p:cNvSpPr/>
            <p:nvPr/>
          </p:nvSpPr>
          <p:spPr>
            <a:xfrm>
              <a:off x="1774800" y="3363840"/>
              <a:ext cx="688320" cy="69192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2"/>
            <p:cNvSpPr/>
            <p:nvPr/>
          </p:nvSpPr>
          <p:spPr>
            <a:xfrm>
              <a:off x="1539360" y="3036240"/>
              <a:ext cx="1159560" cy="335520"/>
            </a:xfrm>
            <a:prstGeom prst="pie">
              <a:avLst/>
            </a:prstGeom>
            <a:solidFill>
              <a:srgbClr val="0000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13"/>
            <p:cNvSpPr/>
            <p:nvPr/>
          </p:nvSpPr>
          <p:spPr>
            <a:xfrm>
              <a:off x="1536840" y="3033720"/>
              <a:ext cx="1164960" cy="34092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Rectangle 14"/>
            <p:cNvSpPr/>
            <p:nvPr/>
          </p:nvSpPr>
          <p:spPr>
            <a:xfrm>
              <a:off x="1852200" y="3431160"/>
              <a:ext cx="31356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ectangle 15"/>
            <p:cNvSpPr/>
            <p:nvPr/>
          </p:nvSpPr>
          <p:spPr>
            <a:xfrm>
              <a:off x="1881720" y="3460320"/>
              <a:ext cx="254520" cy="312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Rectangle 16"/>
            <p:cNvSpPr/>
            <p:nvPr/>
          </p:nvSpPr>
          <p:spPr>
            <a:xfrm>
              <a:off x="1870560" y="3555000"/>
              <a:ext cx="27468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Rectangle 17"/>
            <p:cNvSpPr/>
            <p:nvPr/>
          </p:nvSpPr>
          <p:spPr>
            <a:xfrm rot="5400000">
              <a:off x="1886400" y="3669120"/>
              <a:ext cx="244800" cy="2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Group 18"/>
          <p:cNvGrpSpPr/>
          <p:nvPr/>
        </p:nvGrpSpPr>
        <p:grpSpPr>
          <a:xfrm>
            <a:off x="3424320" y="3240000"/>
            <a:ext cx="1706400" cy="585360"/>
            <a:chOff x="3424320" y="3240000"/>
            <a:chExt cx="1706400" cy="585360"/>
          </a:xfrm>
        </p:grpSpPr>
        <p:sp>
          <p:nvSpPr>
            <p:cNvPr id="1042" name="Freeform 19"/>
            <p:cNvSpPr/>
            <p:nvPr/>
          </p:nvSpPr>
          <p:spPr>
            <a:xfrm>
              <a:off x="3744360" y="3241800"/>
              <a:ext cx="1065960" cy="290520"/>
            </a:xfrm>
            <a:prstGeom prst="pie">
              <a:avLst/>
            </a:prstGeom>
            <a:solidFill>
              <a:srgbClr val="3333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20"/>
            <p:cNvSpPr/>
            <p:nvPr/>
          </p:nvSpPr>
          <p:spPr>
            <a:xfrm>
              <a:off x="3736800" y="3240000"/>
              <a:ext cx="1081800" cy="29484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21"/>
            <p:cNvSpPr/>
            <p:nvPr/>
          </p:nvSpPr>
          <p:spPr>
            <a:xfrm>
              <a:off x="3744360" y="3532680"/>
              <a:ext cx="1065960" cy="290520"/>
            </a:xfrm>
            <a:prstGeom prst="pi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22"/>
            <p:cNvSpPr/>
            <p:nvPr/>
          </p:nvSpPr>
          <p:spPr>
            <a:xfrm>
              <a:off x="3736800" y="3530520"/>
              <a:ext cx="1081800" cy="29484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23"/>
            <p:cNvSpPr/>
            <p:nvPr/>
          </p:nvSpPr>
          <p:spPr>
            <a:xfrm>
              <a:off x="4806720" y="3377160"/>
              <a:ext cx="322200" cy="31860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24"/>
            <p:cNvSpPr/>
            <p:nvPr/>
          </p:nvSpPr>
          <p:spPr>
            <a:xfrm>
              <a:off x="4804560" y="3375360"/>
              <a:ext cx="326160" cy="3222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5"/>
            <p:cNvSpPr/>
            <p:nvPr/>
          </p:nvSpPr>
          <p:spPr>
            <a:xfrm>
              <a:off x="3426120" y="3385080"/>
              <a:ext cx="318240" cy="3186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6"/>
            <p:cNvSpPr/>
            <p:nvPr/>
          </p:nvSpPr>
          <p:spPr>
            <a:xfrm>
              <a:off x="3424320" y="3383280"/>
              <a:ext cx="322200" cy="3222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Group 27"/>
          <p:cNvGrpSpPr/>
          <p:nvPr/>
        </p:nvGrpSpPr>
        <p:grpSpPr>
          <a:xfrm>
            <a:off x="1758960" y="5016600"/>
            <a:ext cx="1454040" cy="893520"/>
            <a:chOff x="1758960" y="5016600"/>
            <a:chExt cx="1454040" cy="893520"/>
          </a:xfrm>
        </p:grpSpPr>
        <p:sp>
          <p:nvSpPr>
            <p:cNvPr id="1051" name="Freeform 28"/>
            <p:cNvSpPr/>
            <p:nvPr/>
          </p:nvSpPr>
          <p:spPr>
            <a:xfrm>
              <a:off x="2307960" y="5206680"/>
              <a:ext cx="826560" cy="701640"/>
            </a:xfrm>
            <a:prstGeom prst="pi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29"/>
            <p:cNvSpPr/>
            <p:nvPr/>
          </p:nvSpPr>
          <p:spPr>
            <a:xfrm>
              <a:off x="2306520" y="5204880"/>
              <a:ext cx="829800" cy="70524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30"/>
            <p:cNvSpPr/>
            <p:nvPr/>
          </p:nvSpPr>
          <p:spPr>
            <a:xfrm>
              <a:off x="1840680" y="5206680"/>
              <a:ext cx="826200" cy="701640"/>
            </a:xfrm>
            <a:prstGeom prst="pie">
              <a:avLst/>
            </a:prstGeom>
            <a:solidFill>
              <a:srgbClr val="3333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31"/>
            <p:cNvSpPr/>
            <p:nvPr/>
          </p:nvSpPr>
          <p:spPr>
            <a:xfrm>
              <a:off x="1838880" y="5204880"/>
              <a:ext cx="829800" cy="70524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2"/>
            <p:cNvSpPr/>
            <p:nvPr/>
          </p:nvSpPr>
          <p:spPr>
            <a:xfrm>
              <a:off x="3054240" y="5126400"/>
              <a:ext cx="156960" cy="156960"/>
            </a:xfrm>
            <a:prstGeom prst="pi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3"/>
            <p:cNvSpPr/>
            <p:nvPr/>
          </p:nvSpPr>
          <p:spPr>
            <a:xfrm>
              <a:off x="3052800" y="5124600"/>
              <a:ext cx="160200" cy="1605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4"/>
            <p:cNvSpPr/>
            <p:nvPr/>
          </p:nvSpPr>
          <p:spPr>
            <a:xfrm>
              <a:off x="1760400" y="5122800"/>
              <a:ext cx="156960" cy="156960"/>
            </a:xfrm>
            <a:prstGeom prst="pie">
              <a:avLst/>
            </a:prstGeom>
            <a:solidFill>
              <a:srgbClr val="3333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5"/>
            <p:cNvSpPr/>
            <p:nvPr/>
          </p:nvSpPr>
          <p:spPr>
            <a:xfrm>
              <a:off x="1758960" y="5121000"/>
              <a:ext cx="160200" cy="1605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6"/>
            <p:cNvSpPr/>
            <p:nvPr/>
          </p:nvSpPr>
          <p:spPr>
            <a:xfrm>
              <a:off x="2311560" y="5105520"/>
              <a:ext cx="379800" cy="802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7"/>
            <p:cNvSpPr/>
            <p:nvPr/>
          </p:nvSpPr>
          <p:spPr>
            <a:xfrm>
              <a:off x="2309400" y="5097960"/>
              <a:ext cx="384480" cy="8121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8"/>
            <p:cNvSpPr/>
            <p:nvPr/>
          </p:nvSpPr>
          <p:spPr>
            <a:xfrm>
              <a:off x="2419560" y="5018040"/>
              <a:ext cx="156600" cy="15336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9"/>
            <p:cNvSpPr/>
            <p:nvPr/>
          </p:nvSpPr>
          <p:spPr>
            <a:xfrm>
              <a:off x="2418120" y="5016600"/>
              <a:ext cx="160200" cy="1569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Заголовок 1" descr=""/>
          <p:cNvPicPr/>
          <p:nvPr/>
        </p:nvPicPr>
        <p:blipFill>
          <a:blip r:embed="rId1"/>
          <a:stretch/>
        </p:blipFill>
        <p:spPr>
          <a:xfrm>
            <a:off x="182520" y="231840"/>
            <a:ext cx="8510760" cy="847800"/>
          </a:xfrm>
          <a:prstGeom prst="rect">
            <a:avLst/>
          </a:prstGeom>
          <a:ln w="0">
            <a:noFill/>
          </a:ln>
        </p:spPr>
      </p:pic>
      <p:sp>
        <p:nvSpPr>
          <p:cNvPr id="88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C06A-46FF-41BA-90A6-2626168B6E65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Прямоугольник 10"/>
          <p:cNvSpPr/>
          <p:nvPr/>
        </p:nvSpPr>
        <p:spPr>
          <a:xfrm>
            <a:off x="368280" y="820800"/>
            <a:ext cx="8458200" cy="13737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фический примити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это элемент рисунка, который добавляется с помощью одной коман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Прямоугольник 23"/>
          <p:cNvSpPr/>
          <p:nvPr/>
        </p:nvSpPr>
        <p:spPr>
          <a:xfrm>
            <a:off x="561240" y="2216160"/>
            <a:ext cx="291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кс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моуго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уж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Заголовок 1" descr=""/>
          <p:cNvPicPr/>
          <p:nvPr/>
        </p:nvPicPr>
        <p:blipFill>
          <a:blip r:embed="rId1"/>
          <a:stretch/>
        </p:blipFill>
        <p:spPr>
          <a:xfrm>
            <a:off x="182520" y="231840"/>
            <a:ext cx="8510760" cy="847800"/>
          </a:xfrm>
          <a:prstGeom prst="rect">
            <a:avLst/>
          </a:prstGeom>
          <a:ln w="0">
            <a:noFill/>
          </a:ln>
        </p:spPr>
      </p:pic>
      <p:sp>
        <p:nvSpPr>
          <p:cNvPr id="88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5075-852A-44B2-B56D-145FC2565B5D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Прямоугольник 3"/>
          <p:cNvSpPr/>
          <p:nvPr/>
        </p:nvSpPr>
        <p:spPr>
          <a:xfrm>
            <a:off x="550800" y="1096920"/>
            <a:ext cx="5133960" cy="498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линия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Группа 4"/>
          <p:cNvGrpSpPr/>
          <p:nvPr/>
        </p:nvGrpSpPr>
        <p:grpSpPr>
          <a:xfrm>
            <a:off x="1130040" y="1612080"/>
            <a:ext cx="2133720" cy="1372320"/>
            <a:chOff x="1130040" y="1612080"/>
            <a:chExt cx="2133720" cy="1372320"/>
          </a:xfrm>
        </p:grpSpPr>
        <p:sp>
          <p:nvSpPr>
            <p:cNvPr id="888" name="Правая фигурная скобка 5"/>
            <p:cNvSpPr/>
            <p:nvPr/>
          </p:nvSpPr>
          <p:spPr>
            <a:xfrm flipV="1" rot="5400000">
              <a:off x="2469960" y="1071720"/>
              <a:ext cx="253800" cy="1333440"/>
            </a:xfrm>
            <a:custGeom>
              <a:avLst/>
              <a:gdLst>
                <a:gd name="textAreaLeft" fmla="*/ 0 w 253800"/>
                <a:gd name="textAreaRight" fmla="*/ 91440 w 253800"/>
                <a:gd name="textAreaTop" fmla="*/ 27000 h 1333440"/>
                <a:gd name="textAreaBottom" fmla="*/ 1306440 h 13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704"/>
                    <a:pt x="10800" y="1407"/>
                  </a:cubicBezTo>
                  <a:lnTo>
                    <a:pt x="10800" y="9393"/>
                  </a:lnTo>
                  <a:cubicBezTo>
                    <a:pt x="10800" y="10097"/>
                    <a:pt x="16200" y="10800"/>
                    <a:pt x="21600" y="10800"/>
                  </a:cubicBezTo>
                  <a:cubicBezTo>
                    <a:pt x="16200" y="10800"/>
                    <a:pt x="10800" y="11504"/>
                    <a:pt x="10800" y="12207"/>
                  </a:cubicBezTo>
                  <a:lnTo>
                    <a:pt x="10800" y="20193"/>
                  </a:lnTo>
                  <a:cubicBezTo>
                    <a:pt x="10800" y="20897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Скругленная прямоугольная выноска 7"/>
            <p:cNvSpPr/>
            <p:nvPr/>
          </p:nvSpPr>
          <p:spPr>
            <a:xfrm flipH="1">
              <a:off x="1129680" y="2100240"/>
              <a:ext cx="1989000" cy="884160"/>
            </a:xfrm>
            <a:prstGeom prst="wedgeRoundRectCallout">
              <a:avLst>
                <a:gd name="adj1" fmla="val -22847"/>
                <a:gd name="adj2" fmla="val -72731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ервой точ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0" name="Группа 9"/>
          <p:cNvGrpSpPr/>
          <p:nvPr/>
        </p:nvGrpSpPr>
        <p:grpSpPr>
          <a:xfrm>
            <a:off x="3517560" y="1612080"/>
            <a:ext cx="1989000" cy="1372320"/>
            <a:chOff x="3517560" y="1612080"/>
            <a:chExt cx="1989000" cy="1372320"/>
          </a:xfrm>
        </p:grpSpPr>
        <p:sp>
          <p:nvSpPr>
            <p:cNvPr id="891" name="Правая фигурная скобка 10"/>
            <p:cNvSpPr/>
            <p:nvPr/>
          </p:nvSpPr>
          <p:spPr>
            <a:xfrm flipV="1" rot="5400000">
              <a:off x="4121280" y="1071720"/>
              <a:ext cx="253800" cy="1333800"/>
            </a:xfrm>
            <a:custGeom>
              <a:avLst/>
              <a:gdLst>
                <a:gd name="textAreaLeft" fmla="*/ 0 w 253800"/>
                <a:gd name="textAreaRight" fmla="*/ 91440 w 253800"/>
                <a:gd name="textAreaTop" fmla="*/ 27000 h 1333800"/>
                <a:gd name="textAreaBottom" fmla="*/ 1306800 h 133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704"/>
                    <a:pt x="10800" y="1407"/>
                  </a:cubicBezTo>
                  <a:lnTo>
                    <a:pt x="10800" y="9393"/>
                  </a:lnTo>
                  <a:cubicBezTo>
                    <a:pt x="10800" y="10097"/>
                    <a:pt x="16200" y="10800"/>
                    <a:pt x="21600" y="10800"/>
                  </a:cubicBezTo>
                  <a:cubicBezTo>
                    <a:pt x="16200" y="10800"/>
                    <a:pt x="10800" y="11504"/>
                    <a:pt x="10800" y="12207"/>
                  </a:cubicBezTo>
                  <a:lnTo>
                    <a:pt x="10800" y="20193"/>
                  </a:lnTo>
                  <a:cubicBezTo>
                    <a:pt x="10800" y="20897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Скругленная прямоугольная выноска 11"/>
            <p:cNvSpPr/>
            <p:nvPr/>
          </p:nvSpPr>
          <p:spPr>
            <a:xfrm flipH="1">
              <a:off x="3517200" y="2100240"/>
              <a:ext cx="1989000" cy="884160"/>
            </a:xfrm>
            <a:prstGeom prst="wedgeRoundRectCallout">
              <a:avLst>
                <a:gd name="adj1" fmla="val 12921"/>
                <a:gd name="adj2" fmla="val -72731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торой точ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3" name="Прямоугольник 12"/>
          <p:cNvSpPr/>
          <p:nvPr/>
        </p:nvSpPr>
        <p:spPr>
          <a:xfrm>
            <a:off x="1873080" y="3233880"/>
            <a:ext cx="5134320" cy="18619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цел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нц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до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пиксель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синий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к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Скругленная прямоугольная выноска 13"/>
          <p:cNvSpPr/>
          <p:nvPr/>
        </p:nvSpPr>
        <p:spPr>
          <a:xfrm flipH="1">
            <a:off x="5803200" y="2044800"/>
            <a:ext cx="2832120" cy="966600"/>
          </a:xfrm>
          <a:prstGeom prst="wedgeRoundRectCallout">
            <a:avLst>
              <a:gd name="adj1" fmla="val 39351"/>
              <a:gd name="adj2" fmla="val 10031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 команда заменяет цик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Group 55"/>
          <p:cNvGrpSpPr/>
          <p:nvPr/>
        </p:nvGrpSpPr>
        <p:grpSpPr>
          <a:xfrm>
            <a:off x="806400" y="5506920"/>
            <a:ext cx="5365800" cy="663480"/>
            <a:chOff x="806400" y="5506920"/>
            <a:chExt cx="5365800" cy="663480"/>
          </a:xfrm>
        </p:grpSpPr>
        <p:sp>
          <p:nvSpPr>
            <p:cNvPr id="896" name="Text Box 56"/>
            <p:cNvSpPr/>
            <p:nvPr/>
          </p:nvSpPr>
          <p:spPr>
            <a:xfrm>
              <a:off x="1273320" y="5613120"/>
              <a:ext cx="4898880" cy="5205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Какие вопросы возникли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57"/>
            <p:cNvSpPr/>
            <p:nvPr/>
          </p:nvSpPr>
          <p:spPr>
            <a:xfrm>
              <a:off x="806400" y="55069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Заголовок 1" descr=""/>
          <p:cNvPicPr/>
          <p:nvPr/>
        </p:nvPicPr>
        <p:blipFill>
          <a:blip r:embed="rId1"/>
          <a:stretch/>
        </p:blipFill>
        <p:spPr>
          <a:xfrm>
            <a:off x="182520" y="231840"/>
            <a:ext cx="8510760" cy="847800"/>
          </a:xfrm>
          <a:prstGeom prst="rect">
            <a:avLst/>
          </a:prstGeom>
          <a:ln w="0">
            <a:noFill/>
          </a:ln>
        </p:spPr>
      </p:pic>
      <p:sp>
        <p:nvSpPr>
          <p:cNvPr id="89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53A8-CD95-46A6-9255-A600F462777B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Прямоугольник 3"/>
          <p:cNvSpPr/>
          <p:nvPr/>
        </p:nvSpPr>
        <p:spPr>
          <a:xfrm>
            <a:off x="550800" y="2062080"/>
            <a:ext cx="5037120" cy="2332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перо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синий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линия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линия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линия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линия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Скругленная прямоугольная выноска 4"/>
          <p:cNvSpPr/>
          <p:nvPr/>
        </p:nvSpPr>
        <p:spPr>
          <a:xfrm flipH="1">
            <a:off x="723240" y="888840"/>
            <a:ext cx="1917720" cy="901800"/>
          </a:xfrm>
          <a:prstGeom prst="wedgeRoundRectCallout">
            <a:avLst>
              <a:gd name="adj1" fmla="val -5009"/>
              <a:gd name="adj2" fmla="val 9186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щина линии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Скругленная прямоугольная выноска 5"/>
          <p:cNvSpPr/>
          <p:nvPr/>
        </p:nvSpPr>
        <p:spPr>
          <a:xfrm flipH="1">
            <a:off x="2920320" y="1244520"/>
            <a:ext cx="1003320" cy="571680"/>
          </a:xfrm>
          <a:prstGeom prst="wedgeRoundRectCallout">
            <a:avLst>
              <a:gd name="adj1" fmla="val 27902"/>
              <a:gd name="adj2" fmla="val 11406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Правая фигурная скобка 7"/>
          <p:cNvSpPr/>
          <p:nvPr/>
        </p:nvSpPr>
        <p:spPr>
          <a:xfrm flipV="1">
            <a:off x="5657760" y="2610000"/>
            <a:ext cx="209520" cy="1568160"/>
          </a:xfrm>
          <a:custGeom>
            <a:avLst/>
            <a:gdLst>
              <a:gd name="textAreaLeft" fmla="*/ 0 w 209520"/>
              <a:gd name="textAreaRight" fmla="*/ 75600 w 209520"/>
              <a:gd name="textAreaTop" fmla="*/ 22320 h 1568160"/>
              <a:gd name="textAreaBottom" fmla="*/ 1545840 h 156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94"/>
                  <a:pt x="10800" y="987"/>
                </a:cubicBezTo>
                <a:lnTo>
                  <a:pt x="10800" y="9813"/>
                </a:lnTo>
                <a:cubicBezTo>
                  <a:pt x="10800" y="10307"/>
                  <a:pt x="16200" y="10800"/>
                  <a:pt x="21600" y="10800"/>
                </a:cubicBezTo>
                <a:cubicBezTo>
                  <a:pt x="16200" y="10800"/>
                  <a:pt x="10800" y="11294"/>
                  <a:pt x="10800" y="11787"/>
                </a:cubicBezTo>
                <a:lnTo>
                  <a:pt x="10800" y="20613"/>
                </a:lnTo>
                <a:cubicBezTo>
                  <a:pt x="10800" y="21107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4" name="Group 55"/>
          <p:cNvGrpSpPr/>
          <p:nvPr/>
        </p:nvGrpSpPr>
        <p:grpSpPr>
          <a:xfrm>
            <a:off x="5962680" y="3017880"/>
            <a:ext cx="2495520" cy="663480"/>
            <a:chOff x="5962680" y="3017880"/>
            <a:chExt cx="2495520" cy="663480"/>
          </a:xfrm>
        </p:grpSpPr>
        <p:sp>
          <p:nvSpPr>
            <p:cNvPr id="905" name="Text Box 56"/>
            <p:cNvSpPr/>
            <p:nvPr/>
          </p:nvSpPr>
          <p:spPr>
            <a:xfrm>
              <a:off x="6429600" y="3124080"/>
              <a:ext cx="2028600" cy="5205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Что это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57"/>
            <p:cNvSpPr/>
            <p:nvPr/>
          </p:nvSpPr>
          <p:spPr>
            <a:xfrm>
              <a:off x="5962680" y="30178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Скругленная прямоугольная выноска 15"/>
          <p:cNvSpPr/>
          <p:nvPr/>
        </p:nvSpPr>
        <p:spPr>
          <a:xfrm flipH="1">
            <a:off x="4469760" y="1219320"/>
            <a:ext cx="3174840" cy="890640"/>
          </a:xfrm>
          <a:prstGeom prst="wedgeRoundRectCallout">
            <a:avLst>
              <a:gd name="adj1" fmla="val 78365"/>
              <a:gd name="adj2" fmla="val 6743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 сохраняется, пока не смен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Прямоугольник 16"/>
          <p:cNvSpPr/>
          <p:nvPr/>
        </p:nvSpPr>
        <p:spPr>
          <a:xfrm>
            <a:off x="7213680" y="4686480"/>
            <a:ext cx="360360" cy="720720"/>
          </a:xfrm>
          <a:prstGeom prst="rect">
            <a:avLst/>
          </a:prstGeom>
          <a:noFill/>
          <a:ln w="12600">
            <a:solidFill>
              <a:srgbClr val="a6a6a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Группа 27"/>
          <p:cNvGrpSpPr/>
          <p:nvPr/>
        </p:nvGrpSpPr>
        <p:grpSpPr>
          <a:xfrm>
            <a:off x="6108480" y="3873600"/>
            <a:ext cx="2705040" cy="2463840"/>
            <a:chOff x="6108480" y="3873600"/>
            <a:chExt cx="2705040" cy="2463840"/>
          </a:xfrm>
        </p:grpSpPr>
        <p:sp>
          <p:nvSpPr>
            <p:cNvPr id="910" name="Скругленная прямоугольная выноска 17"/>
            <p:cNvSpPr/>
            <p:nvPr/>
          </p:nvSpPr>
          <p:spPr>
            <a:xfrm flipH="1">
              <a:off x="6108120" y="3873600"/>
              <a:ext cx="1206360" cy="571320"/>
            </a:xfrm>
            <a:prstGeom prst="wedgeRoundRectCallout">
              <a:avLst>
                <a:gd name="adj1" fmla="val -41569"/>
                <a:gd name="adj2" fmla="val 98523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10,2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Скругленная прямоугольная выноска 18"/>
            <p:cNvSpPr/>
            <p:nvPr/>
          </p:nvSpPr>
          <p:spPr>
            <a:xfrm flipH="1">
              <a:off x="7606800" y="5753160"/>
              <a:ext cx="1206360" cy="571320"/>
            </a:xfrm>
            <a:prstGeom prst="wedgeRoundRectCallout">
              <a:avLst>
                <a:gd name="adj1" fmla="val 55273"/>
                <a:gd name="adj2" fmla="val -110124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15,3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Скругленная прямоугольная выноска 19"/>
            <p:cNvSpPr/>
            <p:nvPr/>
          </p:nvSpPr>
          <p:spPr>
            <a:xfrm flipH="1">
              <a:off x="7593840" y="3873600"/>
              <a:ext cx="1206360" cy="571320"/>
            </a:xfrm>
            <a:prstGeom prst="wedgeRoundRectCallout">
              <a:avLst>
                <a:gd name="adj1" fmla="val 54217"/>
                <a:gd name="adj2" fmla="val 96300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2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Скругленная прямоугольная выноска 20"/>
            <p:cNvSpPr/>
            <p:nvPr/>
          </p:nvSpPr>
          <p:spPr>
            <a:xfrm flipH="1">
              <a:off x="6133320" y="5766120"/>
              <a:ext cx="1206360" cy="571320"/>
            </a:xfrm>
            <a:prstGeom prst="wedgeRoundRectCallout">
              <a:avLst>
                <a:gd name="adj1" fmla="val -37361"/>
                <a:gd name="adj2" fmla="val -116787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10,3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Группа 26"/>
          <p:cNvGrpSpPr/>
          <p:nvPr/>
        </p:nvGrpSpPr>
        <p:grpSpPr>
          <a:xfrm>
            <a:off x="6691320" y="4830840"/>
            <a:ext cx="882720" cy="1023480"/>
            <a:chOff x="6691320" y="4830840"/>
            <a:chExt cx="882720" cy="1023480"/>
          </a:xfrm>
        </p:grpSpPr>
        <p:sp>
          <p:nvSpPr>
            <p:cNvPr id="915" name="Прямоугольник 22"/>
            <p:cNvSpPr/>
            <p:nvPr/>
          </p:nvSpPr>
          <p:spPr>
            <a:xfrm>
              <a:off x="7224120" y="539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Прямоугольник 24"/>
            <p:cNvSpPr/>
            <p:nvPr/>
          </p:nvSpPr>
          <p:spPr>
            <a:xfrm>
              <a:off x="6691320" y="48308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Заголовок 1" descr=""/>
          <p:cNvPicPr/>
          <p:nvPr/>
        </p:nvPicPr>
        <p:blipFill>
          <a:blip r:embed="rId1"/>
          <a:stretch/>
        </p:blipFill>
        <p:spPr>
          <a:xfrm>
            <a:off x="182520" y="231840"/>
            <a:ext cx="8510760" cy="847800"/>
          </a:xfrm>
          <a:prstGeom prst="rect">
            <a:avLst/>
          </a:prstGeom>
          <a:ln w="0">
            <a:noFill/>
          </a:ln>
        </p:spPr>
      </p:pic>
      <p:sp>
        <p:nvSpPr>
          <p:cNvPr id="91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9CA2-6451-4452-8CA3-4A40B84D6909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Прямоугольник 3"/>
          <p:cNvSpPr/>
          <p:nvPr/>
        </p:nvSpPr>
        <p:spPr>
          <a:xfrm>
            <a:off x="419040" y="1542960"/>
            <a:ext cx="6675480" cy="1354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перо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синий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кисть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красный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прямоугольник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Скругленная прямоугольная выноска 4"/>
          <p:cNvSpPr/>
          <p:nvPr/>
        </p:nvSpPr>
        <p:spPr>
          <a:xfrm flipH="1">
            <a:off x="3857760" y="1619280"/>
            <a:ext cx="2520720" cy="571320"/>
          </a:xfrm>
          <a:prstGeom prst="wedgeRoundRectCallout">
            <a:avLst>
              <a:gd name="adj1" fmla="val 71055"/>
              <a:gd name="adj2" fmla="val 6399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 зали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1" name="Группа 5"/>
          <p:cNvGrpSpPr/>
          <p:nvPr/>
        </p:nvGrpSpPr>
        <p:grpSpPr>
          <a:xfrm>
            <a:off x="2346480" y="2823480"/>
            <a:ext cx="2415960" cy="1340640"/>
            <a:chOff x="2346480" y="2823480"/>
            <a:chExt cx="2415960" cy="1340640"/>
          </a:xfrm>
        </p:grpSpPr>
        <p:sp>
          <p:nvSpPr>
            <p:cNvPr id="922" name="Правая фигурная скобка 6"/>
            <p:cNvSpPr/>
            <p:nvPr/>
          </p:nvSpPr>
          <p:spPr>
            <a:xfrm flipV="1" rot="5400000">
              <a:off x="3968640" y="2283120"/>
              <a:ext cx="253800" cy="1333800"/>
            </a:xfrm>
            <a:custGeom>
              <a:avLst/>
              <a:gdLst>
                <a:gd name="textAreaLeft" fmla="*/ 0 w 253800"/>
                <a:gd name="textAreaRight" fmla="*/ 91440 w 253800"/>
                <a:gd name="textAreaTop" fmla="*/ 27000 h 1333800"/>
                <a:gd name="textAreaBottom" fmla="*/ 1306800 h 133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704"/>
                    <a:pt x="10800" y="1407"/>
                  </a:cubicBezTo>
                  <a:lnTo>
                    <a:pt x="10800" y="9393"/>
                  </a:lnTo>
                  <a:cubicBezTo>
                    <a:pt x="10800" y="10097"/>
                    <a:pt x="16200" y="10800"/>
                    <a:pt x="21600" y="10800"/>
                  </a:cubicBezTo>
                  <a:cubicBezTo>
                    <a:pt x="16200" y="10800"/>
                    <a:pt x="10800" y="11504"/>
                    <a:pt x="10800" y="12207"/>
                  </a:cubicBezTo>
                  <a:lnTo>
                    <a:pt x="10800" y="20193"/>
                  </a:lnTo>
                  <a:cubicBezTo>
                    <a:pt x="10800" y="20897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Скругленная прямоугольная выноска 7"/>
            <p:cNvSpPr/>
            <p:nvPr/>
          </p:nvSpPr>
          <p:spPr>
            <a:xfrm flipH="1">
              <a:off x="2346480" y="3311640"/>
              <a:ext cx="2271600" cy="852480"/>
            </a:xfrm>
            <a:prstGeom prst="wedgeRoundRectCallout">
              <a:avLst>
                <a:gd name="adj1" fmla="val -26726"/>
                <a:gd name="adj2" fmla="val -81787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левого верхнего уг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Группа 8"/>
          <p:cNvGrpSpPr/>
          <p:nvPr/>
        </p:nvGrpSpPr>
        <p:grpSpPr>
          <a:xfrm>
            <a:off x="5016600" y="2823480"/>
            <a:ext cx="2209680" cy="1329480"/>
            <a:chOff x="5016600" y="2823480"/>
            <a:chExt cx="2209680" cy="1329480"/>
          </a:xfrm>
        </p:grpSpPr>
        <p:sp>
          <p:nvSpPr>
            <p:cNvPr id="925" name="Правая фигурная скобка 9"/>
            <p:cNvSpPr/>
            <p:nvPr/>
          </p:nvSpPr>
          <p:spPr>
            <a:xfrm flipV="1" rot="5400000">
              <a:off x="5619240" y="2283480"/>
              <a:ext cx="253800" cy="1332720"/>
            </a:xfrm>
            <a:custGeom>
              <a:avLst/>
              <a:gdLst>
                <a:gd name="textAreaLeft" fmla="*/ 0 w 253800"/>
                <a:gd name="textAreaRight" fmla="*/ 91440 w 253800"/>
                <a:gd name="textAreaTop" fmla="*/ 27000 h 1332720"/>
                <a:gd name="textAreaBottom" fmla="*/ 1305720 h 133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704"/>
                    <a:pt x="10800" y="1407"/>
                  </a:cubicBezTo>
                  <a:lnTo>
                    <a:pt x="10800" y="9393"/>
                  </a:lnTo>
                  <a:cubicBezTo>
                    <a:pt x="10800" y="10097"/>
                    <a:pt x="16200" y="10800"/>
                    <a:pt x="21600" y="10800"/>
                  </a:cubicBezTo>
                  <a:cubicBezTo>
                    <a:pt x="16200" y="10800"/>
                    <a:pt x="10800" y="11504"/>
                    <a:pt x="10800" y="12207"/>
                  </a:cubicBezTo>
                  <a:lnTo>
                    <a:pt x="10800" y="20193"/>
                  </a:lnTo>
                  <a:cubicBezTo>
                    <a:pt x="10800" y="20897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Скругленная прямоугольная выноска 10"/>
            <p:cNvSpPr/>
            <p:nvPr/>
          </p:nvSpPr>
          <p:spPr>
            <a:xfrm flipH="1">
              <a:off x="5016600" y="3311640"/>
              <a:ext cx="2209680" cy="841320"/>
            </a:xfrm>
            <a:prstGeom prst="wedgeRoundRectCallout">
              <a:avLst>
                <a:gd name="adj1" fmla="val 16407"/>
                <a:gd name="adj2" fmla="val -79287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авого нижнего уг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7" name="Group 55"/>
          <p:cNvGrpSpPr/>
          <p:nvPr/>
        </p:nvGrpSpPr>
        <p:grpSpPr>
          <a:xfrm>
            <a:off x="4573440" y="4865760"/>
            <a:ext cx="4240440" cy="1479960"/>
            <a:chOff x="4573440" y="4865760"/>
            <a:chExt cx="4240440" cy="1479960"/>
          </a:xfrm>
        </p:grpSpPr>
        <p:sp>
          <p:nvSpPr>
            <p:cNvPr id="928" name="Text Box 56"/>
            <p:cNvSpPr/>
            <p:nvPr/>
          </p:nvSpPr>
          <p:spPr>
            <a:xfrm>
              <a:off x="5040360" y="4971960"/>
              <a:ext cx="3773520" cy="13737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Координаты остальных углов? размеры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57"/>
            <p:cNvSpPr/>
            <p:nvPr/>
          </p:nvSpPr>
          <p:spPr>
            <a:xfrm>
              <a:off x="4573440" y="48657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Прямоугольник 24"/>
          <p:cNvSpPr/>
          <p:nvPr/>
        </p:nvSpPr>
        <p:spPr>
          <a:xfrm>
            <a:off x="990720" y="878040"/>
            <a:ext cx="4263840" cy="5205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кисть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прозрачный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Скругленная прямоугольная выноска 25"/>
          <p:cNvSpPr/>
          <p:nvPr/>
        </p:nvSpPr>
        <p:spPr>
          <a:xfrm flipH="1">
            <a:off x="5696640" y="903240"/>
            <a:ext cx="2521080" cy="571680"/>
          </a:xfrm>
          <a:prstGeom prst="wedgeRoundRectCallout">
            <a:avLst>
              <a:gd name="adj1" fmla="val 79356"/>
              <a:gd name="adj2" fmla="val -13023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рам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Заголовок 1" descr=""/>
          <p:cNvPicPr/>
          <p:nvPr/>
        </p:nvPicPr>
        <p:blipFill>
          <a:blip r:embed="rId1"/>
          <a:stretch/>
        </p:blipFill>
        <p:spPr>
          <a:xfrm>
            <a:off x="182520" y="231840"/>
            <a:ext cx="8510760" cy="847800"/>
          </a:xfrm>
          <a:prstGeom prst="rect">
            <a:avLst/>
          </a:prstGeom>
          <a:ln w="0">
            <a:noFill/>
          </a:ln>
        </p:spPr>
      </p:pic>
      <p:sp>
        <p:nvSpPr>
          <p:cNvPr id="93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F002-0A16-47CC-9EF2-242A88F4876C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Прямоугольник 3"/>
          <p:cNvSpPr/>
          <p:nvPr/>
        </p:nvSpPr>
        <p:spPr>
          <a:xfrm>
            <a:off x="419040" y="1882800"/>
            <a:ext cx="5221440" cy="1355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перо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синий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кисть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красный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окружность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5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5" name="Группа 16"/>
          <p:cNvGrpSpPr/>
          <p:nvPr/>
        </p:nvGrpSpPr>
        <p:grpSpPr>
          <a:xfrm>
            <a:off x="1722240" y="3260160"/>
            <a:ext cx="2416320" cy="1137240"/>
            <a:chOff x="1722240" y="3260160"/>
            <a:chExt cx="2416320" cy="1137240"/>
          </a:xfrm>
        </p:grpSpPr>
        <p:sp>
          <p:nvSpPr>
            <p:cNvPr id="936" name="Правая фигурная скобка 17"/>
            <p:cNvSpPr/>
            <p:nvPr/>
          </p:nvSpPr>
          <p:spPr>
            <a:xfrm flipV="1" rot="5400000">
              <a:off x="3344760" y="2719800"/>
              <a:ext cx="253800" cy="1333800"/>
            </a:xfrm>
            <a:custGeom>
              <a:avLst/>
              <a:gdLst>
                <a:gd name="textAreaLeft" fmla="*/ 0 w 253800"/>
                <a:gd name="textAreaRight" fmla="*/ 91440 w 253800"/>
                <a:gd name="textAreaTop" fmla="*/ 27000 h 1333800"/>
                <a:gd name="textAreaBottom" fmla="*/ 1306800 h 133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704"/>
                    <a:pt x="10800" y="1407"/>
                  </a:cubicBezTo>
                  <a:lnTo>
                    <a:pt x="10800" y="9393"/>
                  </a:lnTo>
                  <a:cubicBezTo>
                    <a:pt x="10800" y="10097"/>
                    <a:pt x="16200" y="10800"/>
                    <a:pt x="21600" y="10800"/>
                  </a:cubicBezTo>
                  <a:cubicBezTo>
                    <a:pt x="16200" y="10800"/>
                    <a:pt x="10800" y="11504"/>
                    <a:pt x="10800" y="12207"/>
                  </a:cubicBezTo>
                  <a:lnTo>
                    <a:pt x="10800" y="20193"/>
                  </a:lnTo>
                  <a:cubicBezTo>
                    <a:pt x="10800" y="20897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Скругленная прямоугольная выноска 18"/>
            <p:cNvSpPr/>
            <p:nvPr/>
          </p:nvSpPr>
          <p:spPr>
            <a:xfrm flipH="1">
              <a:off x="1721880" y="3748320"/>
              <a:ext cx="1965240" cy="649080"/>
            </a:xfrm>
            <a:prstGeom prst="wedgeRoundRectCallout">
              <a:avLst>
                <a:gd name="adj1" fmla="val -39291"/>
                <a:gd name="adj2" fmla="val -86259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центр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8" name="Скругленная прямоугольная выноска 21"/>
          <p:cNvSpPr/>
          <p:nvPr/>
        </p:nvSpPr>
        <p:spPr>
          <a:xfrm flipH="1">
            <a:off x="4159080" y="3747960"/>
            <a:ext cx="1603440" cy="663840"/>
          </a:xfrm>
          <a:prstGeom prst="wedgeRoundRectCallout">
            <a:avLst>
              <a:gd name="adj1" fmla="val 12004"/>
              <a:gd name="adj2" fmla="val -14382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ди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Group 55"/>
          <p:cNvGrpSpPr/>
          <p:nvPr/>
        </p:nvGrpSpPr>
        <p:grpSpPr>
          <a:xfrm>
            <a:off x="392040" y="969840"/>
            <a:ext cx="5023080" cy="663480"/>
            <a:chOff x="392040" y="969840"/>
            <a:chExt cx="5023080" cy="663480"/>
          </a:xfrm>
        </p:grpSpPr>
        <p:sp>
          <p:nvSpPr>
            <p:cNvPr id="940" name="Text Box 56"/>
            <p:cNvSpPr/>
            <p:nvPr/>
          </p:nvSpPr>
          <p:spPr>
            <a:xfrm>
              <a:off x="858960" y="1076040"/>
              <a:ext cx="4556160" cy="5205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Какие данные нужны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57"/>
            <p:cNvSpPr/>
            <p:nvPr/>
          </p:nvSpPr>
          <p:spPr>
            <a:xfrm>
              <a:off x="392040" y="9698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9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9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1"/>
          <p:cNvGrpSpPr/>
          <p:nvPr/>
        </p:nvGrpSpPr>
        <p:grpSpPr>
          <a:xfrm>
            <a:off x="5545080" y="871560"/>
            <a:ext cx="3282840" cy="2238120"/>
            <a:chOff x="5545080" y="871560"/>
            <a:chExt cx="3282840" cy="2238120"/>
          </a:xfrm>
        </p:grpSpPr>
        <p:sp>
          <p:nvSpPr>
            <p:cNvPr id="943" name="AutoShape 6"/>
            <p:cNvSpPr/>
            <p:nvPr/>
          </p:nvSpPr>
          <p:spPr>
            <a:xfrm>
              <a:off x="5545080" y="871560"/>
              <a:ext cx="3282840" cy="21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Text Box 5"/>
            <p:cNvSpPr/>
            <p:nvPr/>
          </p:nvSpPr>
          <p:spPr>
            <a:xfrm>
              <a:off x="6635520" y="871560"/>
              <a:ext cx="1067400" cy="38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(30,1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AutoShape 4"/>
            <p:cNvSpPr/>
            <p:nvPr/>
          </p:nvSpPr>
          <p:spPr>
            <a:xfrm>
              <a:off x="6573960" y="1300320"/>
              <a:ext cx="1237320" cy="1306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Text Box 3"/>
            <p:cNvSpPr/>
            <p:nvPr/>
          </p:nvSpPr>
          <p:spPr>
            <a:xfrm>
              <a:off x="6095520" y="2719440"/>
              <a:ext cx="106740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(20,3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Text Box 2"/>
            <p:cNvSpPr/>
            <p:nvPr/>
          </p:nvSpPr>
          <p:spPr>
            <a:xfrm>
              <a:off x="7455240" y="2676240"/>
              <a:ext cx="1067400" cy="38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4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0,3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8" name="Заголовок 1" descr=""/>
          <p:cNvPicPr/>
          <p:nvPr/>
        </p:nvPicPr>
        <p:blipFill>
          <a:blip r:embed="rId1"/>
          <a:stretch/>
        </p:blipFill>
        <p:spPr>
          <a:xfrm>
            <a:off x="182520" y="231840"/>
            <a:ext cx="8510760" cy="847800"/>
          </a:xfrm>
          <a:prstGeom prst="rect">
            <a:avLst/>
          </a:prstGeom>
          <a:ln w="0">
            <a:noFill/>
          </a:ln>
        </p:spPr>
      </p:pic>
      <p:sp>
        <p:nvSpPr>
          <p:cNvPr id="94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4221-5D9F-4C30-BCAB-2E6D1C48E184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Прямоугольник 3"/>
          <p:cNvSpPr/>
          <p:nvPr/>
        </p:nvSpPr>
        <p:spPr>
          <a:xfrm>
            <a:off x="520560" y="1839960"/>
            <a:ext cx="5221440" cy="1355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линия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линия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линия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2" name="Group 55"/>
          <p:cNvGrpSpPr/>
          <p:nvPr/>
        </p:nvGrpSpPr>
        <p:grpSpPr>
          <a:xfrm>
            <a:off x="262080" y="969840"/>
            <a:ext cx="6094440" cy="663480"/>
            <a:chOff x="262080" y="969840"/>
            <a:chExt cx="6094440" cy="663480"/>
          </a:xfrm>
        </p:grpSpPr>
        <p:sp>
          <p:nvSpPr>
            <p:cNvPr id="953" name="Text Box 56"/>
            <p:cNvSpPr/>
            <p:nvPr/>
          </p:nvSpPr>
          <p:spPr>
            <a:xfrm>
              <a:off x="729000" y="1076040"/>
              <a:ext cx="5627520" cy="5205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Из каких примитивов состоит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val 57"/>
            <p:cNvSpPr/>
            <p:nvPr/>
          </p:nvSpPr>
          <p:spPr>
            <a:xfrm>
              <a:off x="262080" y="9698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5" name="Прямоугольник 14"/>
          <p:cNvSpPr/>
          <p:nvPr/>
        </p:nvSpPr>
        <p:spPr>
          <a:xfrm>
            <a:off x="1998720" y="3222720"/>
            <a:ext cx="14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т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Прямоугольник 15"/>
          <p:cNvSpPr/>
          <p:nvPr/>
        </p:nvSpPr>
        <p:spPr>
          <a:xfrm>
            <a:off x="520560" y="3741840"/>
            <a:ext cx="5256360" cy="1919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в точку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линия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в точку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линия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в точку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линия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в точку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Group 55"/>
          <p:cNvGrpSpPr/>
          <p:nvPr/>
        </p:nvGrpSpPr>
        <p:grpSpPr>
          <a:xfrm>
            <a:off x="5705640" y="4308480"/>
            <a:ext cx="3061800" cy="663480"/>
            <a:chOff x="5705640" y="4308480"/>
            <a:chExt cx="3061800" cy="663480"/>
          </a:xfrm>
        </p:grpSpPr>
        <p:sp>
          <p:nvSpPr>
            <p:cNvPr id="958" name="Text Box 56"/>
            <p:cNvSpPr/>
            <p:nvPr/>
          </p:nvSpPr>
          <p:spPr>
            <a:xfrm>
              <a:off x="6172200" y="4414680"/>
              <a:ext cx="2595240" cy="5205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Что лучше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Oval 57"/>
            <p:cNvSpPr/>
            <p:nvPr/>
          </p:nvSpPr>
          <p:spPr>
            <a:xfrm>
              <a:off x="5705640" y="43084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9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9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9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9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Прямоугольник 20"/>
          <p:cNvSpPr/>
          <p:nvPr/>
        </p:nvSpPr>
        <p:spPr>
          <a:xfrm>
            <a:off x="358920" y="4732200"/>
            <a:ext cx="191124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Заголовок 1" descr=""/>
          <p:cNvPicPr/>
          <p:nvPr/>
        </p:nvPicPr>
        <p:blipFill>
          <a:blip r:embed="rId1"/>
          <a:stretch/>
        </p:blipFill>
        <p:spPr>
          <a:xfrm>
            <a:off x="182520" y="231840"/>
            <a:ext cx="8510760" cy="847800"/>
          </a:xfrm>
          <a:prstGeom prst="rect">
            <a:avLst/>
          </a:prstGeom>
          <a:ln w="0">
            <a:noFill/>
          </a:ln>
        </p:spPr>
      </p:pic>
      <p:sp>
        <p:nvSpPr>
          <p:cNvPr id="96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3289-539B-4248-83F9-828518678190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Полилиния 5"/>
          <p:cNvSpPr/>
          <p:nvPr/>
        </p:nvSpPr>
        <p:spPr>
          <a:xfrm rot="19423800">
            <a:off x="379440" y="944280"/>
            <a:ext cx="2165400" cy="19922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Полилиния 6"/>
          <p:cNvSpPr/>
          <p:nvPr/>
        </p:nvSpPr>
        <p:spPr>
          <a:xfrm rot="19423800">
            <a:off x="1852560" y="2406240"/>
            <a:ext cx="255600" cy="844560"/>
          </a:xfrm>
          <a:prstGeom prst="pie">
            <a:avLst/>
          </a:prstGeom>
          <a:solidFill>
            <a:srgbClr val="3e28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Прямоугольник 9"/>
          <p:cNvSpPr/>
          <p:nvPr/>
        </p:nvSpPr>
        <p:spPr>
          <a:xfrm>
            <a:off x="3197160" y="922320"/>
            <a:ext cx="3965760" cy="992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кисть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оранжевый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залить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5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6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6" name="Группа 12"/>
          <p:cNvGrpSpPr/>
          <p:nvPr/>
        </p:nvGrpSpPr>
        <p:grpSpPr>
          <a:xfrm>
            <a:off x="1428840" y="1905120"/>
            <a:ext cx="2369520" cy="852480"/>
            <a:chOff x="1428840" y="1905120"/>
            <a:chExt cx="2369520" cy="852480"/>
          </a:xfrm>
        </p:grpSpPr>
        <p:sp>
          <p:nvSpPr>
            <p:cNvPr id="967" name="Скругленная прямоугольная выноска 10"/>
            <p:cNvSpPr/>
            <p:nvPr/>
          </p:nvSpPr>
          <p:spPr>
            <a:xfrm flipH="1">
              <a:off x="2591640" y="2184480"/>
              <a:ext cx="1206360" cy="573120"/>
            </a:xfrm>
            <a:prstGeom prst="wedgeRoundRectCallout">
              <a:avLst>
                <a:gd name="adj1" fmla="val 138430"/>
                <a:gd name="adj2" fmla="val -90523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50,6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Овал 11"/>
            <p:cNvSpPr/>
            <p:nvPr/>
          </p:nvSpPr>
          <p:spPr>
            <a:xfrm>
              <a:off x="1428840" y="1905120"/>
              <a:ext cx="75960" cy="7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9" name="Прямоугольник 13"/>
          <p:cNvSpPr/>
          <p:nvPr/>
        </p:nvSpPr>
        <p:spPr>
          <a:xfrm>
            <a:off x="2639880" y="2851200"/>
            <a:ext cx="521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начать с любой точки внутри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ливаются все соседние пиксели  одного ц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ливка прекращается на границе другого ц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Group 55"/>
          <p:cNvGrpSpPr/>
          <p:nvPr/>
        </p:nvGrpSpPr>
        <p:grpSpPr>
          <a:xfrm>
            <a:off x="2465280" y="5403960"/>
            <a:ext cx="5561280" cy="663480"/>
            <a:chOff x="2465280" y="5403960"/>
            <a:chExt cx="5561280" cy="663480"/>
          </a:xfrm>
        </p:grpSpPr>
        <p:sp>
          <p:nvSpPr>
            <p:cNvPr id="971" name="Text Box 56"/>
            <p:cNvSpPr/>
            <p:nvPr/>
          </p:nvSpPr>
          <p:spPr>
            <a:xfrm>
              <a:off x="2932200" y="5510160"/>
              <a:ext cx="5094360" cy="5205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Если линия не замкнута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57"/>
            <p:cNvSpPr/>
            <p:nvPr/>
          </p:nvSpPr>
          <p:spPr>
            <a:xfrm>
              <a:off x="2465280" y="54039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3" name="Полилиния 17"/>
          <p:cNvSpPr/>
          <p:nvPr/>
        </p:nvSpPr>
        <p:spPr>
          <a:xfrm>
            <a:off x="790560" y="5086440"/>
            <a:ext cx="1004760" cy="10094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Овал 18"/>
          <p:cNvSpPr/>
          <p:nvPr/>
        </p:nvSpPr>
        <p:spPr>
          <a:xfrm>
            <a:off x="1479600" y="5057640"/>
            <a:ext cx="349200" cy="349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Стрелка вправо 21"/>
          <p:cNvSpPr/>
          <p:nvPr/>
        </p:nvSpPr>
        <p:spPr>
          <a:xfrm rot="18792600">
            <a:off x="1589760" y="5031000"/>
            <a:ext cx="323640" cy="14760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61bb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9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9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1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1bb46"/>
                                      </p:to>
                                    </p:animClr>
                                    <p:set>
                                      <p:cBhvr>
                                        <p:cTn id="267" dur="1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Заголовок 1" descr=""/>
          <p:cNvPicPr/>
          <p:nvPr/>
        </p:nvPicPr>
        <p:blipFill>
          <a:blip r:embed="rId1"/>
          <a:stretch/>
        </p:blipFill>
        <p:spPr>
          <a:xfrm>
            <a:off x="182520" y="231840"/>
            <a:ext cx="8510760" cy="847800"/>
          </a:xfrm>
          <a:prstGeom prst="rect">
            <a:avLst/>
          </a:prstGeom>
          <a:ln w="0">
            <a:noFill/>
          </a:ln>
        </p:spPr>
      </p:pic>
      <p:sp>
        <p:nvSpPr>
          <p:cNvPr id="97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AFAC-6736-4346-9D38-AEAD76BA1C48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Group 1"/>
          <p:cNvGrpSpPr/>
          <p:nvPr/>
        </p:nvGrpSpPr>
        <p:grpSpPr>
          <a:xfrm>
            <a:off x="406440" y="1003320"/>
            <a:ext cx="5014800" cy="4914720"/>
            <a:chOff x="406440" y="1003320"/>
            <a:chExt cx="5014800" cy="4914720"/>
          </a:xfrm>
        </p:grpSpPr>
        <p:sp>
          <p:nvSpPr>
            <p:cNvPr id="980" name="AutoShape 31"/>
            <p:cNvSpPr/>
            <p:nvPr/>
          </p:nvSpPr>
          <p:spPr>
            <a:xfrm>
              <a:off x="406440" y="1003320"/>
              <a:ext cx="5014800" cy="491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30"/>
            <p:cNvSpPr/>
            <p:nvPr/>
          </p:nvSpPr>
          <p:spPr>
            <a:xfrm>
              <a:off x="1681920" y="3643560"/>
              <a:ext cx="275760" cy="1427760"/>
            </a:xfrm>
            <a:prstGeom prst="rect">
              <a:avLst/>
            </a:prstGeom>
            <a:solidFill>
              <a:srgbClr val="d8d8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29"/>
            <p:cNvSpPr/>
            <p:nvPr/>
          </p:nvSpPr>
          <p:spPr>
            <a:xfrm>
              <a:off x="3728160" y="3651840"/>
              <a:ext cx="280440" cy="1417320"/>
            </a:xfrm>
            <a:prstGeom prst="rect">
              <a:avLst/>
            </a:prstGeom>
            <a:solidFill>
              <a:srgbClr val="d8d8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AutoShape 28"/>
            <p:cNvSpPr/>
            <p:nvPr/>
          </p:nvSpPr>
          <p:spPr>
            <a:xfrm>
              <a:off x="1409400" y="2217960"/>
              <a:ext cx="2871360" cy="1434960"/>
            </a:xfrm>
            <a:prstGeom prst="triangle">
              <a:avLst>
                <a:gd name="adj" fmla="val 50000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27"/>
            <p:cNvSpPr/>
            <p:nvPr/>
          </p:nvSpPr>
          <p:spPr>
            <a:xfrm>
              <a:off x="2570760" y="1983600"/>
              <a:ext cx="547200" cy="549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Line 26"/>
            <p:cNvSpPr/>
            <p:nvPr/>
          </p:nvSpPr>
          <p:spPr>
            <a:xfrm>
              <a:off x="895320" y="2239200"/>
              <a:ext cx="4194360" cy="108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Line 25"/>
            <p:cNvSpPr/>
            <p:nvPr/>
          </p:nvSpPr>
          <p:spPr>
            <a:xfrm>
              <a:off x="895320" y="3651840"/>
              <a:ext cx="4194360" cy="108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Line 24"/>
            <p:cNvSpPr/>
            <p:nvPr/>
          </p:nvSpPr>
          <p:spPr>
            <a:xfrm>
              <a:off x="895320" y="5069160"/>
              <a:ext cx="4194360" cy="72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Line 23"/>
            <p:cNvSpPr/>
            <p:nvPr/>
          </p:nvSpPr>
          <p:spPr>
            <a:xfrm flipH="1">
              <a:off x="1403280" y="1407960"/>
              <a:ext cx="2160" cy="419364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Line 22"/>
            <p:cNvSpPr/>
            <p:nvPr/>
          </p:nvSpPr>
          <p:spPr>
            <a:xfrm flipH="1">
              <a:off x="1679400" y="1407960"/>
              <a:ext cx="2160" cy="419364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Line 21"/>
            <p:cNvSpPr/>
            <p:nvPr/>
          </p:nvSpPr>
          <p:spPr>
            <a:xfrm flipH="1">
              <a:off x="1956240" y="1407960"/>
              <a:ext cx="1800" cy="419364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Line 20"/>
            <p:cNvSpPr/>
            <p:nvPr/>
          </p:nvSpPr>
          <p:spPr>
            <a:xfrm flipH="1">
              <a:off x="2842200" y="1407960"/>
              <a:ext cx="2160" cy="419364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Line 19"/>
            <p:cNvSpPr/>
            <p:nvPr/>
          </p:nvSpPr>
          <p:spPr>
            <a:xfrm flipH="1">
              <a:off x="3727800" y="1407960"/>
              <a:ext cx="1800" cy="419364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Line 18"/>
            <p:cNvSpPr/>
            <p:nvPr/>
          </p:nvSpPr>
          <p:spPr>
            <a:xfrm flipH="1">
              <a:off x="4009680" y="1407960"/>
              <a:ext cx="2160" cy="419364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Line 17"/>
            <p:cNvSpPr/>
            <p:nvPr/>
          </p:nvSpPr>
          <p:spPr>
            <a:xfrm flipH="1">
              <a:off x="4291200" y="1407960"/>
              <a:ext cx="1800" cy="419364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Text Box 16"/>
            <p:cNvSpPr/>
            <p:nvPr/>
          </p:nvSpPr>
          <p:spPr>
            <a:xfrm>
              <a:off x="1135800" y="1038600"/>
              <a:ext cx="34092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Text Box 15"/>
            <p:cNvSpPr/>
            <p:nvPr/>
          </p:nvSpPr>
          <p:spPr>
            <a:xfrm>
              <a:off x="1524240" y="1038600"/>
              <a:ext cx="34092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Text Box 14"/>
            <p:cNvSpPr/>
            <p:nvPr/>
          </p:nvSpPr>
          <p:spPr>
            <a:xfrm>
              <a:off x="1890360" y="1038600"/>
              <a:ext cx="34092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Text Box 13"/>
            <p:cNvSpPr/>
            <p:nvPr/>
          </p:nvSpPr>
          <p:spPr>
            <a:xfrm>
              <a:off x="3240000" y="1038600"/>
              <a:ext cx="47340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Text Box 12"/>
            <p:cNvSpPr/>
            <p:nvPr/>
          </p:nvSpPr>
          <p:spPr>
            <a:xfrm>
              <a:off x="3737520" y="1038600"/>
              <a:ext cx="47340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1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Text Box 11"/>
            <p:cNvSpPr/>
            <p:nvPr/>
          </p:nvSpPr>
          <p:spPr>
            <a:xfrm>
              <a:off x="4201560" y="1038600"/>
              <a:ext cx="47340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1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Text Box 10"/>
            <p:cNvSpPr/>
            <p:nvPr/>
          </p:nvSpPr>
          <p:spPr>
            <a:xfrm>
              <a:off x="2687040" y="1038600"/>
              <a:ext cx="34092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Text Box 9"/>
            <p:cNvSpPr/>
            <p:nvPr/>
          </p:nvSpPr>
          <p:spPr>
            <a:xfrm>
              <a:off x="493920" y="2068560"/>
              <a:ext cx="3409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Text Box 8"/>
            <p:cNvSpPr/>
            <p:nvPr/>
          </p:nvSpPr>
          <p:spPr>
            <a:xfrm>
              <a:off x="493920" y="3496680"/>
              <a:ext cx="3409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8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Text Box 7"/>
            <p:cNvSpPr/>
            <p:nvPr/>
          </p:nvSpPr>
          <p:spPr>
            <a:xfrm>
              <a:off x="406440" y="4891320"/>
              <a:ext cx="42876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1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Line 6"/>
            <p:cNvSpPr/>
            <p:nvPr/>
          </p:nvSpPr>
          <p:spPr>
            <a:xfrm>
              <a:off x="477360" y="1395000"/>
              <a:ext cx="49010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Line 5"/>
            <p:cNvSpPr/>
            <p:nvPr/>
          </p:nvSpPr>
          <p:spPr>
            <a:xfrm flipH="1">
              <a:off x="868680" y="1009080"/>
              <a:ext cx="1080" cy="4900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Text Box 4"/>
            <p:cNvSpPr/>
            <p:nvPr/>
          </p:nvSpPr>
          <p:spPr>
            <a:xfrm>
              <a:off x="483480" y="1038600"/>
              <a:ext cx="38556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Text Box 3"/>
            <p:cNvSpPr/>
            <p:nvPr/>
          </p:nvSpPr>
          <p:spPr>
            <a:xfrm>
              <a:off x="5035320" y="1038600"/>
              <a:ext cx="38556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Text Box 2"/>
            <p:cNvSpPr/>
            <p:nvPr/>
          </p:nvSpPr>
          <p:spPr>
            <a:xfrm>
              <a:off x="468000" y="5605560"/>
              <a:ext cx="38556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0" name="Group 55"/>
          <p:cNvGrpSpPr/>
          <p:nvPr/>
        </p:nvGrpSpPr>
        <p:grpSpPr>
          <a:xfrm>
            <a:off x="4989600" y="1541520"/>
            <a:ext cx="3811680" cy="663480"/>
            <a:chOff x="4989600" y="1541520"/>
            <a:chExt cx="3811680" cy="663480"/>
          </a:xfrm>
        </p:grpSpPr>
        <p:sp>
          <p:nvSpPr>
            <p:cNvPr id="1011" name="Text Box 56"/>
            <p:cNvSpPr/>
            <p:nvPr/>
          </p:nvSpPr>
          <p:spPr>
            <a:xfrm>
              <a:off x="5456520" y="1647720"/>
              <a:ext cx="3344760" cy="5205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Из каких фигур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Oval 57"/>
            <p:cNvSpPr/>
            <p:nvPr/>
          </p:nvSpPr>
          <p:spPr>
            <a:xfrm>
              <a:off x="4989600" y="15415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Group 55"/>
          <p:cNvGrpSpPr/>
          <p:nvPr/>
        </p:nvGrpSpPr>
        <p:grpSpPr>
          <a:xfrm>
            <a:off x="4989600" y="2378160"/>
            <a:ext cx="3811680" cy="1053360"/>
            <a:chOff x="4989600" y="2378160"/>
            <a:chExt cx="3811680" cy="1053360"/>
          </a:xfrm>
        </p:grpSpPr>
        <p:sp>
          <p:nvSpPr>
            <p:cNvPr id="1014" name="Text Box 56"/>
            <p:cNvSpPr/>
            <p:nvPr/>
          </p:nvSpPr>
          <p:spPr>
            <a:xfrm>
              <a:off x="5456520" y="2484360"/>
              <a:ext cx="3344760" cy="9471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 каком порядке рисовать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Oval 57"/>
            <p:cNvSpPr/>
            <p:nvPr/>
          </p:nvSpPr>
          <p:spPr>
            <a:xfrm>
              <a:off x="4989600" y="23781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Group 55"/>
          <p:cNvGrpSpPr/>
          <p:nvPr/>
        </p:nvGrpSpPr>
        <p:grpSpPr>
          <a:xfrm>
            <a:off x="4570560" y="3611520"/>
            <a:ext cx="4268160" cy="1053360"/>
            <a:chOff x="4570560" y="3611520"/>
            <a:chExt cx="4268160" cy="1053360"/>
          </a:xfrm>
        </p:grpSpPr>
        <p:sp>
          <p:nvSpPr>
            <p:cNvPr id="1017" name="Text Box 56"/>
            <p:cNvSpPr/>
            <p:nvPr/>
          </p:nvSpPr>
          <p:spPr>
            <a:xfrm>
              <a:off x="5037120" y="3717720"/>
              <a:ext cx="3801600" cy="9471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Координаты углов прямоугольников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Oval 57"/>
            <p:cNvSpPr/>
            <p:nvPr/>
          </p:nvSpPr>
          <p:spPr>
            <a:xfrm>
              <a:off x="4570560" y="36115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53</cp:lastModifiedBy>
  <dcterms:modified xsi:type="dcterms:W3CDTF">2023-02-17T10:50:56Z</dcterms:modified>
  <cp:revision>1234</cp:revision>
  <dc:subject/>
  <dc:title>Программное обеспечение (ПО)</dc:title>
</cp:coreProperties>
</file>