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D59-91A1-4351-A35D-55319B85B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3B3-56CC-47EE-A75C-68FD5178A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570-D025-409E-BD8E-E7CC8C51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823-E438-4737-A9C9-257048E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086-C1F3-4482-A3B2-238C5399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A86-7D6F-4B91-89F2-888DC388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C09-CD1E-48E9-AEDA-992BA80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486-6B1A-4BDC-A676-918DB99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058-AD84-4E99-B35E-8B3DE5C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22B-D920-4B19-865E-F69AA21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4ED-35EE-45AF-BC12-870A7B47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66D-FC26-4C51-B4A7-EA59BE1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C59-183B-4AFC-B10C-0B322CA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B16-18D8-4E05-BB7D-85BEC80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FAA-6DBB-497A-812B-F9A0C02CE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974840" y="228600"/>
            <a:ext cx="344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Хищ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пт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c8c93"/>
                </a:solidFill>
                <a:latin typeface="Arial"/>
              </a:rPr>
              <a:t>Карел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piterhunt.ru/files/library/books/spravo4nik_egerya/27.jpg"/>
          <p:cNvPicPr/>
          <p:nvPr/>
        </p:nvPicPr>
        <p:blipFill>
          <a:blip r:embed="rId1"/>
          <a:stretch/>
        </p:blipFill>
        <p:spPr>
          <a:xfrm>
            <a:off x="0" y="0"/>
            <a:ext cx="4724280" cy="673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rog007.do.am/JPG-DIKIE/717.jpg"/>
          <p:cNvPicPr/>
          <p:nvPr/>
        </p:nvPicPr>
        <p:blipFill>
          <a:blip r:embed="rId2"/>
          <a:stretch/>
        </p:blipFill>
        <p:spPr>
          <a:xfrm>
            <a:off x="7094520" y="2819520"/>
            <a:ext cx="204948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tourism.onego.ru/karelia/orel.jpg"/>
          <p:cNvPicPr/>
          <p:nvPr/>
        </p:nvPicPr>
        <p:blipFill>
          <a:blip r:embed="rId3"/>
          <a:stretch/>
        </p:blipFill>
        <p:spPr>
          <a:xfrm>
            <a:off x="4572000" y="3809880"/>
            <a:ext cx="2558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8920" y="3049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4952880" y="304920"/>
            <a:ext cx="4191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яет преимущественно южную половину республики, где вполне обычен местами по численности не уступает малому канюку. В полете, осоед напоминает канюка, но отличается от него двумя полосами на хво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нездовое время осоед поселяется на опушках различных типов леса. Гнезда строит на дерев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по внешнему виду всем остальным признакам осоед — хищная птица, хищничеством, в прямом смысле этого слова, он занимается редко. Основу его питания составляют насекомые и их личинки: осы, шмели, жуки, бабочки. В поисках насекомых и гнезд ос и шмелей он часто бродит по земле. Попутно поедает ящериц, лягушек, птенцов и яйца птиц. Последние, правда, не играют существенной роли в его 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Осоед"/>
          <p:cNvPicPr/>
          <p:nvPr/>
        </p:nvPicPr>
        <p:blipFill>
          <a:blip r:embed="rId1"/>
          <a:stretch/>
        </p:blipFill>
        <p:spPr>
          <a:xfrm>
            <a:off x="152280" y="685800"/>
            <a:ext cx="4762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ан-бело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крупная птица. Вес самок орлана, а они несколько крупнее самцов, достигает 5 кг; размах крыльев — более 2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Орлан-белохвост"/>
          <p:cNvPicPr/>
          <p:nvPr/>
        </p:nvPicPr>
        <p:blipFill>
          <a:blip r:embed="rId1"/>
          <a:stretch/>
        </p:blipFill>
        <p:spPr>
          <a:xfrm>
            <a:off x="228600" y="1143000"/>
            <a:ext cx="380988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191120" y="137160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ланы-белохвосты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ются у нас в основном на побережье и островах Белого моря, Ладожского, Онежского и некоторых других крупных озер. Довольно редок. Гнездится отдельными парами неподалеку от водоемов. Для гнездования орланам необходимы крупные деревья с уплощенной вершиной. Их гнезда — одни из самых крупных в мире. Основание гнезда выкладывается из толстых сучьев до 10 см в диаметре, а в поперечнике оно превышает 2 м. Лоток гнезда выстилается лишайниками, мхом и шерстью различн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236880" y="2286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52280" y="685800"/>
            <a:ext cx="3810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й орел. Размах крыльев достигает 2 м, а вес — 4 и более кг. В настоящее время в Карелии очень редок. Даже на осеннем пролете вдоль восточного берега Ладожского озера, где отмечается значительная концентрация мигрирующих хищных птиц, беркут встречается 1 — 2 раза за осень. О гнездовании этого орла в Карелии за последние годы нет никаких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ете очень похож на орланабелохвоста, но отличается от него округлым хвостом (у орлана он имеет клиновидную форму). У старых птиц хвост темный (у молодых орланов тоже), а у молодых — светлый, с темной широкой полосой на ко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Беркут"/>
          <p:cNvPicPr/>
          <p:nvPr/>
        </p:nvPicPr>
        <p:blipFill>
          <a:blip r:embed="rId1"/>
          <a:stretch/>
        </p:blipFill>
        <p:spPr>
          <a:xfrm>
            <a:off x="419112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08880" y="15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28600" y="533520"/>
            <a:ext cx="335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ая птица, по размерам лишь немного уступающая орлам и белохвосту. Размах крыльев — более 1,5 м, вес — около 1,5 кг. В окраске скопы много белого цвета. Верх тела бурый, голова, задняя часть шеи и низ — белые. На маховых перьях отчетливо выражены светлые поперечные полосы. На груди и брюхе — рыжевато-бурый поперечный рисунок. Ноги желтые, с длинными округлыми в поперечнике ког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па встречается в Карелии повсеместно и гнездится на большинстве крупных озер и на Бел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ecosystema.ru/08nature/birds/024.jpg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upload.wikimedia.org/wikipedia/commons/thumb/5/5e/Osprey_mg_9605.jpg/220px-Osprey_mg_9605.jpg"/>
          <p:cNvPicPr/>
          <p:nvPr/>
        </p:nvPicPr>
        <p:blipFill>
          <a:blip r:embed="rId2"/>
          <a:stretch/>
        </p:blipFill>
        <p:spPr>
          <a:xfrm>
            <a:off x="3657600" y="5257800"/>
            <a:ext cx="952560" cy="126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floranimal.ru/pages/animal/s/1058.jpg"/>
          <p:cNvPicPr/>
          <p:nvPr/>
        </p:nvPicPr>
        <p:blipFill>
          <a:blip r:embed="rId3"/>
          <a:stretch/>
        </p:blipFill>
        <p:spPr>
          <a:xfrm>
            <a:off x="5334120" y="518148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basik.ru/images/osprey/short.jpg"/>
          <p:cNvPicPr/>
          <p:nvPr/>
        </p:nvPicPr>
        <p:blipFill>
          <a:blip r:embed="rId4"/>
          <a:stretch/>
        </p:blipFill>
        <p:spPr>
          <a:xfrm>
            <a:off x="7491240" y="5181480"/>
            <a:ext cx="165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38680" y="15228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ство Соколи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28600" y="671400"/>
            <a:ext cx="373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ы крупных и средних размеров с типичным обликом хищника. Оперение плотное, разнообразной, иногда довольно яркой расцветки. Характерным признаком соколов является наличие на надклювье острого выступа — зубца. На нижней челюсти ему соответствует вырезка. С помощью зубца соколы быстро умерщвляют добычу, расчленяя шейные позвонки, и нередко откусывают, таким образом, голову своей жертве. В полете соколов легко отличить от других хищников по узким, острым крыльям. Полет очень быстрый. При нападениями на добычу сокол пикирует на нее с высоты и бьет на лету, ударяя когтем задне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zoomet.ru/xr/imxrabr_97-100.gif"/>
          <p:cNvPicPr/>
          <p:nvPr/>
        </p:nvPicPr>
        <p:blipFill>
          <a:blip r:embed="rId1"/>
          <a:stretch/>
        </p:blipFill>
        <p:spPr>
          <a:xfrm>
            <a:off x="4419720" y="152280"/>
            <a:ext cx="44956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28600" y="228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крупный из наших соколов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псан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редок. Единичные пары этих соколов гнездятся у нас на Белом море и крупных озерах. В последние десятилетия сапсан стал настолько малочислен, что практически не отмечается наблюдателями даже в периоды миг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6477120" y="152388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нездится на деревьях или на уступах скал. В кладке до 4 — 5 яиц светло-охристого цвета с красновато-бурым крапом. Поселяется в районах гнездовых скоплений водных птиц, которые составляют основу его питания. Жертвами сапсана становятся утки, чайки, крачки, ку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ecosystema.ru/08nature/birds/038.jpg"/>
          <p:cNvPicPr/>
          <p:nvPr/>
        </p:nvPicPr>
        <p:blipFill>
          <a:blip r:embed="rId1"/>
          <a:stretch/>
        </p:blipFill>
        <p:spPr>
          <a:xfrm>
            <a:off x="457200" y="1600200"/>
            <a:ext cx="563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й крупный сокол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гнездится в тундре, у нас отмечается в качестве очень редкого пролет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ecosystema.ru/08nature/birds/037.jpg"/>
          <p:cNvPicPr/>
          <p:nvPr/>
        </p:nvPicPr>
        <p:blipFill>
          <a:blip r:embed="rId1"/>
          <a:stretch/>
        </p:blipFill>
        <p:spPr>
          <a:xfrm>
            <a:off x="380880" y="1143000"/>
            <a:ext cx="5410440" cy="54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upload.wikimedia.org/wikipedia/commons/thumb/c/c8/Falco_rusticolus_white_cropped.jpg/275px-Falco_rusticolus_white_cropped.jpg"/>
          <p:cNvPicPr/>
          <p:nvPr/>
        </p:nvPicPr>
        <p:blipFill>
          <a:blip r:embed="rId2"/>
          <a:stretch/>
        </p:blipFill>
        <p:spPr>
          <a:xfrm>
            <a:off x="5943600" y="838080"/>
            <a:ext cx="303228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rushunt.ru/UserFiles/Image/Pticy/Krechet2.jpg"/>
          <p:cNvPicPr/>
          <p:nvPr/>
        </p:nvPicPr>
        <p:blipFill>
          <a:blip r:embed="rId3"/>
          <a:stretch/>
        </p:blipFill>
        <p:spPr>
          <a:xfrm>
            <a:off x="5943600" y="42670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г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елии этот сокол населяет главным образом южные районы. На севере встречается крайне редко, хотя гнездование его известно даже в Лоух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Чеглок"/>
          <p:cNvPicPr/>
          <p:nvPr/>
        </p:nvPicPr>
        <p:blipFill>
          <a:blip r:embed="rId1"/>
          <a:stretch/>
        </p:blipFill>
        <p:spPr>
          <a:xfrm>
            <a:off x="4876920" y="1096920"/>
            <a:ext cx="4047840" cy="56088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52280" y="16765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рритории республики чеглок распределен очень неравномерно. Сравнительно обычен он на Ладожском и Онежском озерах, где постоянно гнездится, но местами даже в южной Карелии его нет. Кроме побережий и островов крупных озер, в гнездовое время чеглок населяет опушки леса и недорубы на больших площадях вырубок, около обширных сенокосных угодий и п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льшой соколок, отличающийся укороченными крыльями. В пределах нашей республики дербник встречается повсеместно, но всюду численность его невыс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Дербник"/>
          <p:cNvPicPr/>
          <p:nvPr/>
        </p:nvPicPr>
        <p:blipFill>
          <a:blip r:embed="rId1"/>
          <a:stretch/>
        </p:blipFill>
        <p:spPr>
          <a:xfrm>
            <a:off x="152280" y="1523880"/>
            <a:ext cx="5553360" cy="4724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5791320" y="122544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яется в различных типах леса, недалеко от опушек. В южной Карелии появляется в середине апреля — начале мая. Для гнездования использует обычно старые гнезда ворон. К откладке яиц приступает в середине — конце мая. Яиц обычно не более четырех. Они окрашены в охристый цвет и покрыты светло-бурыми и красноваты - ми пятнами различной величины и формы. Насиживание продолжается 26 — 28 дней, выкармливание птенцов в гнезде — окол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41560" y="22860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ыкновенная пусте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28600" y="6714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недавнего времени обыкновенная пустельга была самым многочисленным соколом в Карелии. Но в 60-х годах нашего столетия повсеместно в республике численность ее резко сократилась, и в настоящее время она стала очень редкой птицей. Причина этого — массовое отравление птиц видами на местах зимовки и пролета. Родентициды — применяемые для уничтожения мышевидных грызунов ядохимикаты — стойкие химические соединения. Питаясь отравленными зверьками, пустельга постепенно накапливает в своем организме дозу химиката, которая оказывается для нее смер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ecosystema.ru/08nature/birds/042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nnature.kz/images/photoalbum/album_40/falco-tinnunculus_04.jpg"/>
          <p:cNvPicPr/>
          <p:nvPr/>
        </p:nvPicPr>
        <p:blipFill>
          <a:blip r:embed="rId2"/>
          <a:stretch/>
        </p:blipFill>
        <p:spPr>
          <a:xfrm>
            <a:off x="4038480" y="4724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alabin.ru/images/news3/509/08.jpg"/>
          <p:cNvPicPr/>
          <p:nvPr/>
        </p:nvPicPr>
        <p:blipFill>
          <a:blip r:embed="rId3"/>
          <a:stretch/>
        </p:blipFill>
        <p:spPr>
          <a:xfrm>
            <a:off x="5867280" y="472428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152280"/>
            <a:ext cx="44197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Карелии обитает 285 видов п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 которых 36 видов внесены в Красную книгу Карелии. Самые распространённые птицы — это зяблики. Встре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вая ди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рябчики, тетерева, белые куропатки, глухари. Каждую весну в Карелию из тёплых стран прилетают г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остранены хищные птицы: совы, ястреба, орлы-беркуты, болотные луни. Также обитает 40 пар редких орланов - белохвос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лавающих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тки, гагары, кулики, множество чаек и самая крупная из нырковых уток Карелии — обыкновенная гага, ценная своим тёплым п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karelohota.ru/images1/ris65.jpg"/>
          <p:cNvPicPr/>
          <p:nvPr/>
        </p:nvPicPr>
        <p:blipFill>
          <a:blip r:embed="rId1"/>
          <a:stretch/>
        </p:blipFill>
        <p:spPr>
          <a:xfrm>
            <a:off x="4495680" y="152280"/>
            <a:ext cx="4508640" cy="389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kgkm.karelia.ru/files/exhibit/11/image_1.jpg"/>
          <p:cNvPicPr/>
          <p:nvPr/>
        </p:nvPicPr>
        <p:blipFill>
          <a:blip r:embed="rId2"/>
          <a:stretch/>
        </p:blipFill>
        <p:spPr>
          <a:xfrm>
            <a:off x="4495680" y="4114800"/>
            <a:ext cx="340992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edu.zelenogorsk.ru/projs/eko/ornitol/066.jpg"/>
          <p:cNvPicPr/>
          <p:nvPr/>
        </p:nvPicPr>
        <p:blipFill>
          <a:blip r:embed="rId3"/>
          <a:stretch/>
        </p:blipFill>
        <p:spPr>
          <a:xfrm>
            <a:off x="7010280" y="5370480"/>
            <a:ext cx="2133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80880" y="30492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указанных выше видов соколиных, в южной Карелии иногда удается наблюдать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бч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меющего у нас не только северную, но и западную границу своей гнездовой области. Этот соколок питается главным образом насекомыми. В центральных частях своего ареала кобчики гнездятся колониями. В нашей республике они встречаются крайне 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ecosystema.ru/08nature/birds/041.jpg"/>
          <p:cNvPicPr/>
          <p:nvPr/>
        </p:nvPicPr>
        <p:blipFill>
          <a:blip r:embed="rId1"/>
          <a:stretch/>
        </p:blipFill>
        <p:spPr>
          <a:xfrm>
            <a:off x="3886200" y="190512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upload.wikimedia.org/wikipedia/commons/thumb/2/2c/Rotfu%C3%9Ffalke_Falco_vespertinus.jpg/275px-Rotfu%C3%9Ffalke_Falco_vespertinus.jpg"/>
          <p:cNvPicPr/>
          <p:nvPr/>
        </p:nvPicPr>
        <p:blipFill>
          <a:blip r:embed="rId2"/>
          <a:stretch/>
        </p:blipFill>
        <p:spPr>
          <a:xfrm>
            <a:off x="228600" y="1828800"/>
            <a:ext cx="371628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www.naturelight.ru/photo/2009-07-28/23656.jpg"/>
          <p:cNvPicPr/>
          <p:nvPr/>
        </p:nvPicPr>
        <p:blipFill>
          <a:blip r:embed="rId3"/>
          <a:stretch/>
        </p:blipFill>
        <p:spPr>
          <a:xfrm>
            <a:off x="228600" y="4267080"/>
            <a:ext cx="37339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4920" y="2286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, имеющие специальное охотничье вооружение — острые изогнутые когти (чтобы относительно крупную живую добычу успешно отлавливать) и такой же клюв (чтобы пойманную добычу успешно разрывать). Именно «хищные» особенности строения лап и клюва — главный пропуск в отряды хищных птиц и 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ернатых хищников плотоядны, т. е. кормятся позвоночными животными. Но есть среди них немало оригиналов с особым вкусом: потребители падали, охотники за насекомыми и даже ловцы... крабов. Вот только истинных вегетарианцев в их рядах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lukich.smugmug.com/Birds/BIRDS-OF-PREY/i-GF9WTpc/0/L/201201312450-L.jpg"/>
          <p:cNvPicPr/>
          <p:nvPr/>
        </p:nvPicPr>
        <p:blipFill>
          <a:blip r:embed="rId1"/>
          <a:stretch/>
        </p:blipFill>
        <p:spPr>
          <a:xfrm>
            <a:off x="4267080" y="380880"/>
            <a:ext cx="4648320" cy="31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naturelight.ru/photo/2008-10-23/13728.jpg"/>
          <p:cNvPicPr/>
          <p:nvPr/>
        </p:nvPicPr>
        <p:blipFill>
          <a:blip r:embed="rId2"/>
          <a:stretch/>
        </p:blipFill>
        <p:spPr>
          <a:xfrm>
            <a:off x="4267080" y="3657600"/>
            <a:ext cx="4648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04920" y="32004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а хищных птиц весьма разнообразна. По характеру питания их делят на несколько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ояд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ники (скопа, орланбелохвост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комо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обчик, осое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еяд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уни, ястребы, сокол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е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анюки, обыкновенная пустельг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, выделить еще группу некрофагов — птиц, питающихся падалью. На юге — это грифы и сипы. У нас типичных некрофагов нет, хотя трупами павших животных кормятся черные коршуны и орланы. Вообще строгой привязанности к какой-то одной группе кормов у хищных птиц нет, и они легко переходят с одного вида жертв на другие. Мышееды, например, в годы низкой численности грызунов могут нападать на птиц, рептилий и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-fotki.yandex.ru/get/5907/alekc-kol.16/0_80ee6_dc1d8769_L"/>
          <p:cNvPicPr/>
          <p:nvPr/>
        </p:nvPicPr>
        <p:blipFill>
          <a:blip r:embed="rId1"/>
          <a:stretch/>
        </p:blipFill>
        <p:spPr>
          <a:xfrm>
            <a:off x="2743200" y="380880"/>
            <a:ext cx="337356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g-fotki.yandex.ru/get/5408/alekc-kol.16/0_80ee4_ca3e1c56_L"/>
          <p:cNvPicPr/>
          <p:nvPr/>
        </p:nvPicPr>
        <p:blipFill>
          <a:blip r:embed="rId2"/>
          <a:stretch/>
        </p:blipFill>
        <p:spPr>
          <a:xfrm>
            <a:off x="6172200" y="380880"/>
            <a:ext cx="2971800" cy="261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g-fotki.yandex.ru/get/4408/alekc-kol.16/0_80ee5_a15b978e_L"/>
          <p:cNvPicPr/>
          <p:nvPr/>
        </p:nvPicPr>
        <p:blipFill>
          <a:blip r:embed="rId3"/>
          <a:stretch/>
        </p:blipFill>
        <p:spPr>
          <a:xfrm>
            <a:off x="228600" y="380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3808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хищных птиц только кобчики и черные коршуны образуют гнездовые колонии. Остальные гнездятся отдельными изолированными парами. Гнезда размещаются на земле, на уступах скал или на деревьях. Некоторые хищные птицы сами гнезд не строят и занимают старые гнезда друг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енцы хищных птиц развиваются и растут очень медленно. У крупных видов они проводят в гнезде около трех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pics.livejournal.com/strelec_new/pic/002pgc80"/>
          <p:cNvPicPr/>
          <p:nvPr/>
        </p:nvPicPr>
        <p:blipFill>
          <a:blip r:embed="rId1"/>
          <a:stretch/>
        </p:blipFill>
        <p:spPr>
          <a:xfrm>
            <a:off x="3657600" y="228600"/>
            <a:ext cx="5295960" cy="353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foto.mail.ru/mail/luchshevagv/751/i-778.jpg"/>
          <p:cNvPicPr/>
          <p:nvPr/>
        </p:nvPicPr>
        <p:blipFill>
          <a:blip r:embed="rId2"/>
          <a:stretch/>
        </p:blipFill>
        <p:spPr>
          <a:xfrm>
            <a:off x="228600" y="48769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zoomet.ru/mal/foto43.jpg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ttp://www.lapland-nature.info/ru/N021.jpg"/>
          <p:cNvPicPr/>
          <p:nvPr/>
        </p:nvPicPr>
        <p:blipFill>
          <a:blip r:embed="rId4"/>
          <a:stretch/>
        </p:blipFill>
        <p:spPr>
          <a:xfrm>
            <a:off x="6172200" y="4038480"/>
            <a:ext cx="28195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87000" y="2286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тр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еделах нашей республики обитают два вида ястребов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елят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ят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вый из них значительно меньше по размерам. Оба вида встречаются по всей территории Карелии. Ястреб-перепелятник вполне обычен, тетеревятник — довольно ре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Ястреб-тетеревятник"/>
          <p:cNvPicPr/>
          <p:nvPr/>
        </p:nvPicPr>
        <p:blipFill>
          <a:blip r:embed="rId1"/>
          <a:stretch/>
        </p:blipFill>
        <p:spPr>
          <a:xfrm>
            <a:off x="380880" y="1905120"/>
            <a:ext cx="2676600" cy="3971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276720" y="1981080"/>
            <a:ext cx="56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ов отличают по сравнительно широким коротким крыльям и длинному хвосту. Нижняя часть тела у них серовато-белая, с темными поперечными полосами. Верх тела окрашен в серовато-бурый цвет. Охристые каемки перьев спины и кроющих перьев крыла образуют своеобразный рисунок. Самцы всегда значительно меньше самок. Так, самки ястреба-перепелятника весят до 300 г, а самцы — до 170 г. Оба вида — типично лесные хищники, отличающиеся быстрым маневренным полетом. Относительно длинные неоперенные ноги приспособлены для схватывания жертвы в ветвях деревьев, и кустарников. Ястребы могут ловить добычу на лету и с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86280" y="1522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28600" y="457200"/>
            <a:ext cx="335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ищные птицы средней величины. Обычно они летают невысоко над землей по берегам водоемов, над полями и лугами. В полете для луней характерны редкие взмахи крыльями. В Карелии встречается два вида 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вой лунь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селяющий всю территорию республики, 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ыш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ли болотный, лунь, гнездящийся только в южных районах. Оба вида у нас 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28600" y="4876920"/>
            <a:ext cx="403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ец полевого луня может быть определен по чисто белому оперению на нижней части тела и темно-серому верху. В полете у него ясно различимы черные концы крыльев. Самка окрашена несколько темнее. На груди у нее заметны продольные пестрины, а на хвосте и концах крыльев — неясные поперечные пол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34340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ец болотного луня похож на самку полевого, но концы крыльев у него темнее, а хвост светлый, без полос. Самка — бурая, верхняя часть головы и горло у нее окрашены в желтовато-охрист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ecosystema.ru/08nature/birds/035.jpg"/>
          <p:cNvPicPr/>
          <p:nvPr/>
        </p:nvPicPr>
        <p:blipFill>
          <a:blip r:embed="rId1"/>
          <a:stretch/>
        </p:blipFill>
        <p:spPr>
          <a:xfrm>
            <a:off x="3505320" y="0"/>
            <a:ext cx="5333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14280" y="2286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304920" y="762120"/>
            <a:ext cx="3657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бережьях озер и крупных рек Карелии иногда встречается довольно крупный хищник с треугольной вырезкой на хвосте. Это черный коршун. Оперение верхней части тела у него темно-бурое, а низ рыжеватый, с продольными бурыми пестр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елии черный коршун редок и встречается отдельными парами, хотя в более южных областях, где численность его высока, образует гнездовые колонии. В пище коршун неприхотлив. Основу его добычи составляют мелкие грызуны, землеройки, насекомые, мелкие птицы и их птенцы. Сравнительно часто коршуны поедают погибшую рыбу и мясо павш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ecosystema.ru/08nature/birds/031.jpg"/>
          <p:cNvPicPr/>
          <p:nvPr/>
        </p:nvPicPr>
        <p:blipFill>
          <a:blip r:embed="rId1"/>
          <a:stretch/>
        </p:blipFill>
        <p:spPr>
          <a:xfrm>
            <a:off x="3962520" y="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birdsofprey.ucoz.org/_ph/31/2/817233958.jpg"/>
          <p:cNvPicPr/>
          <p:nvPr/>
        </p:nvPicPr>
        <p:blipFill>
          <a:blip r:embed="rId2"/>
          <a:stretch/>
        </p:blipFill>
        <p:spPr>
          <a:xfrm>
            <a:off x="3886200" y="464832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topguns.ru/images/birdsdata/data/20900b.jpg"/>
          <p:cNvPicPr/>
          <p:nvPr/>
        </p:nvPicPr>
        <p:blipFill>
          <a:blip r:embed="rId3"/>
          <a:stretch/>
        </p:blipFill>
        <p:spPr>
          <a:xfrm>
            <a:off x="6248520" y="4648320"/>
            <a:ext cx="2895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48760" y="2286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канюк или сар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28600" y="838080"/>
            <a:ext cx="426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республике сарычи встречаются гораздо чаще других крупных хищных птиц. Распространены они по всей территории Карелии и всюду вполне обычны, за исключением крайних северных рай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юк — довольно крупная птица. Размах его крыльев достигает 1,2 м, а вес — около 700 г. Окраска весьма изменчива. Обычно на спинной стороне преобладают темно-бурые тона, а низ бывает охристым или бурым, с неясным поперечным рисунком. Хвост — поперечно-полосатый. В полете на конце широкого округлого хвоста заметна темная полоса, а на широких крыльях светлые пятна. Крик — протяжное гнусавое «ки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kgkm.karelia.ru/files/exhibit/14/image_2.jpg"/>
          <p:cNvPicPr/>
          <p:nvPr/>
        </p:nvPicPr>
        <p:blipFill>
          <a:blip r:embed="rId1"/>
          <a:stretch/>
        </p:blipFill>
        <p:spPr>
          <a:xfrm>
            <a:off x="4648320" y="1981080"/>
            <a:ext cx="4076640" cy="464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ticrk.ru/resources/7690-original.jpeg"/>
          <p:cNvPicPr/>
          <p:nvPr/>
        </p:nvPicPr>
        <p:blipFill>
          <a:blip r:embed="rId2"/>
          <a:stretch/>
        </p:blipFill>
        <p:spPr>
          <a:xfrm>
            <a:off x="4572000" y="152280"/>
            <a:ext cx="1943280" cy="198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zooclub.ru/attach/birds/611.jpg"/>
          <p:cNvPicPr/>
          <p:nvPr/>
        </p:nvPicPr>
        <p:blipFill>
          <a:blip r:embed="rId3"/>
          <a:stretch/>
        </p:blipFill>
        <p:spPr>
          <a:xfrm>
            <a:off x="6553080" y="0"/>
            <a:ext cx="13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21:28Z</dcterms:created>
  <dc:creator>Ученик</dc:creator>
  <dc:description/>
  <dc:language>en-US</dc:language>
  <cp:lastModifiedBy>Admin</cp:lastModifiedBy>
  <dcterms:modified xsi:type="dcterms:W3CDTF">2012-03-27T09:20:34Z</dcterms:modified>
  <cp:revision>16</cp:revision>
  <dc:subject/>
  <dc:title>Слайд 1</dc:title>
</cp:coreProperties>
</file>