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DB27-BF90-43DF-8702-8661FB3091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00D4-62D3-4E4D-AF79-AA45A506A4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0976-4387-4656-884F-64FD173E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24FB-75A1-4672-867D-822235B1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6B32-731F-48FD-ACF5-DB4CD558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BE76-C154-47E8-99EF-9EE22F84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9779-CCB8-4682-B29B-95C63DD1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F84-7D10-4A8E-8721-1C746CA9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560-A6D3-46B3-B3F5-1D627376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4DF5-D46B-4283-B226-7CD6E8C2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C129-7E6F-4BF1-9677-9356127A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AAB5-9219-426A-8CCC-1AB51E52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19BB-EDA2-4B7F-9389-F627CE6C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1500-8795-45D2-BA9B-52558135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03E7-D4E8-4208-83DF-D4547B76BC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974840" y="228600"/>
            <a:ext cx="3441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c8c93"/>
                </a:solidFill>
                <a:latin typeface="Arial"/>
              </a:rPr>
              <a:t>Хищны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c8c93"/>
                </a:solidFill>
                <a:latin typeface="Arial"/>
              </a:rPr>
              <a:t>пти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3c8c93"/>
                </a:solidFill>
                <a:latin typeface="Arial"/>
              </a:rPr>
              <a:t>Карели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piterhunt.ru/files/library/books/spravo4nik_egerya/27.jpg"/>
          <p:cNvPicPr/>
          <p:nvPr/>
        </p:nvPicPr>
        <p:blipFill>
          <a:blip r:embed="rId1"/>
          <a:stretch/>
        </p:blipFill>
        <p:spPr>
          <a:xfrm>
            <a:off x="0" y="0"/>
            <a:ext cx="4724280" cy="673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rog007.do.am/JPG-DIKIE/717.jpg"/>
          <p:cNvPicPr/>
          <p:nvPr/>
        </p:nvPicPr>
        <p:blipFill>
          <a:blip r:embed="rId2"/>
          <a:stretch/>
        </p:blipFill>
        <p:spPr>
          <a:xfrm>
            <a:off x="7094520" y="2819520"/>
            <a:ext cx="2049480" cy="3771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tourism.onego.ru/karelia/orel.jpg"/>
          <p:cNvPicPr/>
          <p:nvPr/>
        </p:nvPicPr>
        <p:blipFill>
          <a:blip r:embed="rId3"/>
          <a:stretch/>
        </p:blipFill>
        <p:spPr>
          <a:xfrm>
            <a:off x="4572000" y="3809880"/>
            <a:ext cx="25588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538920" y="3049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4952880" y="304920"/>
            <a:ext cx="41911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еляет преимущественно южную половину республики, где вполне обычен местами по численности не уступает малому канюку. В полете, осоед напоминает канюка, но отличается от него двумя полосами на хво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нездовое время осоед поселяется на опушках различных типов леса. Гнезда строит на деревь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по внешнему виду всем остальным признакам осоед — хищная птица, хищничеством, в прямом смысле этого слова, он занимается редко. Основу его питания составляют насекомые и их личинки: осы, шмели, жуки, бабочки. В поисках насекомых и гнезд ос и шмелей он часто бродит по земле. Попутно поедает ящериц, лягушек, птенцов и яйца птиц. Последние, правда, не играют существенной роли в его пит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Осоед"/>
          <p:cNvPicPr/>
          <p:nvPr/>
        </p:nvPicPr>
        <p:blipFill>
          <a:blip r:embed="rId1"/>
          <a:stretch/>
        </p:blipFill>
        <p:spPr>
          <a:xfrm>
            <a:off x="152280" y="685800"/>
            <a:ext cx="4762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228600" y="228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лан-белохв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крупная птица. Вес самок орлана, а они несколько крупнее самцов, достигает 5 кг; размах крыльев — более 2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Орлан-белохвост"/>
          <p:cNvPicPr/>
          <p:nvPr/>
        </p:nvPicPr>
        <p:blipFill>
          <a:blip r:embed="rId1"/>
          <a:stretch/>
        </p:blipFill>
        <p:spPr>
          <a:xfrm>
            <a:off x="228600" y="1143000"/>
            <a:ext cx="3809880" cy="55627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4191120" y="1371600"/>
            <a:ext cx="4572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ланы-белохвосты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речаются у нас в основном на побережье и островах Белого моря, Ладожского, Онежского и некоторых других крупных озер. Довольно редок. Гнездится отдельными парами неподалеку от водоемов. Для гнездования орланам необходимы крупные деревья с уплощенной вершиной. Их гнезда — одни из самых крупных в мире. Основание гнезда выкладывается из толстых сучьев до 10 см в диаметре, а в поперечнике оно превышает 2 м. Лоток гнезда выстилается лишайниками, мхом и шерстью различных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236880" y="2286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к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152280" y="685800"/>
            <a:ext cx="3810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ый орел. Размах крыльев достигает 2 м, а вес — 4 и более кг. В настоящее время в Карелии очень редок. Даже на осеннем пролете вдоль восточного берега Ладожского озера, где отмечается значительная концентрация мигрирующих хищных птиц, беркут встречается 1 — 2 раза за осень. О гнездовании этого орла в Карелии за последние годы нет никаких с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лете очень похож на орланабелохвоста, но отличается от него округлым хвостом (у орлана он имеет клиновидную форму). У старых птиц хвост темный (у молодых орланов тоже), а у молодых — светлый, с темной широкой полосой на кон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Беркут"/>
          <p:cNvPicPr/>
          <p:nvPr/>
        </p:nvPicPr>
        <p:blipFill>
          <a:blip r:embed="rId1"/>
          <a:stretch/>
        </p:blipFill>
        <p:spPr>
          <a:xfrm>
            <a:off x="4191120" y="228600"/>
            <a:ext cx="4572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308880" y="152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228600" y="533520"/>
            <a:ext cx="3352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ая птица, по размерам лишь немного уступающая орлам и белохвосту. Размах крыльев — более 1,5 м, вес — около 1,5 кг. В окраске скопы много белого цвета. Верх тела бурый, голова, задняя часть шеи и низ — белые. На маховых перьях отчетливо выражены светлые поперечные полосы. На груди и брюхе — рыжевато-бурый поперечный рисунок. Ноги желтые, с длинными округлыми в поперечнике когт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па встречается в Карелии повсеместно и гнездится на большинстве крупных озер и на Белом м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www.ecosystema.ru/08nature/birds/024.jpg"/>
          <p:cNvPicPr/>
          <p:nvPr/>
        </p:nvPicPr>
        <p:blipFill>
          <a:blip r:embed="rId1"/>
          <a:stretch/>
        </p:blipFill>
        <p:spPr>
          <a:xfrm>
            <a:off x="3657600" y="228600"/>
            <a:ext cx="5257800" cy="5257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upload.wikimedia.org/wikipedia/commons/thumb/5/5e/Osprey_mg_9605.jpg/220px-Osprey_mg_9605.jpg"/>
          <p:cNvPicPr/>
          <p:nvPr/>
        </p:nvPicPr>
        <p:blipFill>
          <a:blip r:embed="rId2"/>
          <a:stretch/>
        </p:blipFill>
        <p:spPr>
          <a:xfrm>
            <a:off x="3657600" y="5257800"/>
            <a:ext cx="952560" cy="126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www.floranimal.ru/pages/animal/s/1058.jpg"/>
          <p:cNvPicPr/>
          <p:nvPr/>
        </p:nvPicPr>
        <p:blipFill>
          <a:blip r:embed="rId3"/>
          <a:stretch/>
        </p:blipFill>
        <p:spPr>
          <a:xfrm>
            <a:off x="5334120" y="5181480"/>
            <a:ext cx="2171520" cy="1447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ttp://basik.ru/images/osprey/short.jpg"/>
          <p:cNvPicPr/>
          <p:nvPr/>
        </p:nvPicPr>
        <p:blipFill>
          <a:blip r:embed="rId4"/>
          <a:stretch/>
        </p:blipFill>
        <p:spPr>
          <a:xfrm>
            <a:off x="7491240" y="5181480"/>
            <a:ext cx="16527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238680" y="15228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ство Соколи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228600" y="671400"/>
            <a:ext cx="3733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цы крупных и средних размеров с типичным обликом хищника. Оперение плотное, разнообразной, иногда довольно яркой расцветки. Характерным признаком соколов является наличие на надклювье острого выступа — зубца. На нижней челюсти ему соответствует вырезка. С помощью зубца соколы быстро умерщвляют добычу, расчленяя шейные позвонки, и нередко откусывают, таким образом, голову своей жертве. В полете соколов легко отличить от других хищников по узким, острым крыльям. Полет очень быстрый. При нападениями на добычу сокол пикирует на нее с высоты и бьет на лету, ударяя когтем заднего паль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zoomet.ru/xr/imxrabr_97-100.gif"/>
          <p:cNvPicPr/>
          <p:nvPr/>
        </p:nvPicPr>
        <p:blipFill>
          <a:blip r:embed="rId1"/>
          <a:stretch/>
        </p:blipFill>
        <p:spPr>
          <a:xfrm>
            <a:off x="4419720" y="152280"/>
            <a:ext cx="449568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228600" y="2286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й крупный из наших соколов —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псан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редок. Единичные пары этих соколов гнездятся у нас на Белом море и крупных озерах. В последние десятилетия сапсан стал настолько малочислен, что практически не отмечается наблюдателями даже в периоды мигр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6477120" y="1523880"/>
            <a:ext cx="228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нездится на деревьях или на уступах скал. В кладке до 4 — 5 яиц светло-охристого цвета с красновато-бурым крапом. Поселяется в районах гнездовых скоплений водных птиц, которые составляют основу его питания. Жертвами сапсана становятся утки, чайки, крачки, кул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://www.ecosystema.ru/08nature/birds/038.jpg"/>
          <p:cNvPicPr/>
          <p:nvPr/>
        </p:nvPicPr>
        <p:blipFill>
          <a:blip r:embed="rId1"/>
          <a:stretch/>
        </p:blipFill>
        <p:spPr>
          <a:xfrm>
            <a:off x="457200" y="1600200"/>
            <a:ext cx="5638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228600" y="304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ой крупный сокол —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ч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гнездится в тундре, у нас отмечается в качестве очень редкого пролетного в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www.ecosystema.ru/08nature/birds/037.jpg"/>
          <p:cNvPicPr/>
          <p:nvPr/>
        </p:nvPicPr>
        <p:blipFill>
          <a:blip r:embed="rId1"/>
          <a:stretch/>
        </p:blipFill>
        <p:spPr>
          <a:xfrm>
            <a:off x="380880" y="1143000"/>
            <a:ext cx="5410440" cy="5410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upload.wikimedia.org/wikipedia/commons/thumb/c/c8/Falco_rusticolus_white_cropped.jpg/275px-Falco_rusticolus_white_cropped.jpg"/>
          <p:cNvPicPr/>
          <p:nvPr/>
        </p:nvPicPr>
        <p:blipFill>
          <a:blip r:embed="rId2"/>
          <a:stretch/>
        </p:blipFill>
        <p:spPr>
          <a:xfrm>
            <a:off x="5943600" y="838080"/>
            <a:ext cx="3032280" cy="3429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ttp://www.rushunt.ru/UserFiles/Image/Pticy/Krechet2.jpg"/>
          <p:cNvPicPr/>
          <p:nvPr/>
        </p:nvPicPr>
        <p:blipFill>
          <a:blip r:embed="rId3"/>
          <a:stretch/>
        </p:blipFill>
        <p:spPr>
          <a:xfrm>
            <a:off x="5943600" y="4267080"/>
            <a:ext cx="3000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228600" y="152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г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релии этот сокол населяет главным образом южные районы. На севере встречается крайне редко, хотя гнездование его известно даже в Лоухском рай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Чеглок"/>
          <p:cNvPicPr/>
          <p:nvPr/>
        </p:nvPicPr>
        <p:blipFill>
          <a:blip r:embed="rId1"/>
          <a:stretch/>
        </p:blipFill>
        <p:spPr>
          <a:xfrm>
            <a:off x="4876920" y="1096920"/>
            <a:ext cx="4047840" cy="56088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152280" y="167652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территории республики чеглок распределен очень неравномерно. Сравнительно обычен он на Ладожском и Онежском озерах, где постоянно гнездится, но местами даже в южной Карелии его нет. Кроме побережий и островов крупных озер, в гнездовое время чеглок населяет опушки леса и недорубы на больших площадях вырубок, около обширных сенокосных угодий и паш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228600" y="228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рб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ольшой соколок, отличающийся укороченными крыльями. В пределах нашей республики дербник встречается повсеместно, но всюду численность его невыс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Дербник"/>
          <p:cNvPicPr/>
          <p:nvPr/>
        </p:nvPicPr>
        <p:blipFill>
          <a:blip r:embed="rId1"/>
          <a:stretch/>
        </p:blipFill>
        <p:spPr>
          <a:xfrm>
            <a:off x="152280" y="1523880"/>
            <a:ext cx="5553360" cy="47246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3"/>
          <p:cNvSpPr/>
          <p:nvPr/>
        </p:nvSpPr>
        <p:spPr>
          <a:xfrm>
            <a:off x="5791320" y="1225440"/>
            <a:ext cx="3200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ляется в различных типах леса, недалеко от опушек. В южной Карелии появляется в середине апреля — начале мая. Для гнездования использует обычно старые гнезда ворон. К откладке яиц приступает в середине — конце мая. Яиц обычно не более четырех. Они окрашены в охристый цвет и покрыты светло-бурыми и красноваты - ми пятнами различной величины и формы. Насиживание продолжается 26 — 28 дней, выкармливание птенцов в гнезде — около меся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241560" y="22860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ыкновенная пустель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228600" y="671400"/>
            <a:ext cx="3886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недавнего времени обыкновенная пустельга была самым многочисленным соколом в Карелии. Но в 60-х годах нашего столетия повсеместно в республике численность ее резко сократилась, и в настоящее время она стала очень редкой птицей. Причина этого — массовое отравление птиц видами на местах зимовки и пролета. Родентициды — применяемые для уничтожения мышевидных грызунов ядохимикаты — стойкие химические соединения. Питаясь отравленными зверьками, пустельга постепенно накапливает в своем организме дозу химиката, которая оказывается для нее смерте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http://www.ecosystema.ru/08nature/birds/042.jpg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4952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ttp://innature.kz/images/photoalbum/album_40/falco-tinnunculus_04.jpg"/>
          <p:cNvPicPr/>
          <p:nvPr/>
        </p:nvPicPr>
        <p:blipFill>
          <a:blip r:embed="rId2"/>
          <a:stretch/>
        </p:blipFill>
        <p:spPr>
          <a:xfrm>
            <a:off x="4038480" y="4724280"/>
            <a:ext cx="1676520" cy="1905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ttp://alabin.ru/images/news3/509/08.jpg"/>
          <p:cNvPicPr/>
          <p:nvPr/>
        </p:nvPicPr>
        <p:blipFill>
          <a:blip r:embed="rId3"/>
          <a:stretch/>
        </p:blipFill>
        <p:spPr>
          <a:xfrm>
            <a:off x="5867280" y="4724280"/>
            <a:ext cx="3124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0" y="152280"/>
            <a:ext cx="441972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 Карелии обитает 285 видов пти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 которых 36 видов внесены в Красную книгу Карелии. Самые распространённые птицы — это зяблики. Встреч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ровая дич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 рябчики, тетерева, белые куропатки, глухари. Каждую весну в Карелию из тёплых стран прилетают гу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пространены хищные птицы: совы, ястреба, орлы-беркуты, болотные луни. Также обитает 40 пар редких орланов - белохвост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плавающих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утки, гагары, кулики, множество чаек и самая крупная из нырковых уток Карелии — обыкновенная гага, ценная своим тёплым пух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http://karelohota.ru/images1/ris65.jpg"/>
          <p:cNvPicPr/>
          <p:nvPr/>
        </p:nvPicPr>
        <p:blipFill>
          <a:blip r:embed="rId1"/>
          <a:stretch/>
        </p:blipFill>
        <p:spPr>
          <a:xfrm>
            <a:off x="4495680" y="152280"/>
            <a:ext cx="4508640" cy="389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kgkm.karelia.ru/files/exhibit/11/image_1.jpg"/>
          <p:cNvPicPr/>
          <p:nvPr/>
        </p:nvPicPr>
        <p:blipFill>
          <a:blip r:embed="rId2"/>
          <a:stretch/>
        </p:blipFill>
        <p:spPr>
          <a:xfrm>
            <a:off x="4495680" y="4114800"/>
            <a:ext cx="3409920" cy="2514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http://edu.zelenogorsk.ru/projs/eko/ornitol/066.jpg"/>
          <p:cNvPicPr/>
          <p:nvPr/>
        </p:nvPicPr>
        <p:blipFill>
          <a:blip r:embed="rId3"/>
          <a:stretch/>
        </p:blipFill>
        <p:spPr>
          <a:xfrm>
            <a:off x="7010280" y="5370480"/>
            <a:ext cx="213372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380880" y="304920"/>
            <a:ext cx="838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указанных выше видов соколиных, в южной Карелии иногда удается наблюдать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бч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меющего у нас не только северную, но и западную границу своей гнездовой области. Этот соколок питается главным образом насекомыми. В центральных частях своего ареала кобчики гнездятся колониями. В нашей республике они встречаются крайне ред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http://www.ecosystema.ru/08nature/birds/041.jpg"/>
          <p:cNvPicPr/>
          <p:nvPr/>
        </p:nvPicPr>
        <p:blipFill>
          <a:blip r:embed="rId1"/>
          <a:stretch/>
        </p:blipFill>
        <p:spPr>
          <a:xfrm>
            <a:off x="3886200" y="1905120"/>
            <a:ext cx="4952880" cy="4952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://upload.wikimedia.org/wikipedia/commons/thumb/2/2c/Rotfu%C3%9Ffalke_Falco_vespertinus.jpg/275px-Rotfu%C3%9Ffalke_Falco_vespertinus.jpg"/>
          <p:cNvPicPr/>
          <p:nvPr/>
        </p:nvPicPr>
        <p:blipFill>
          <a:blip r:embed="rId2"/>
          <a:stretch/>
        </p:blipFill>
        <p:spPr>
          <a:xfrm>
            <a:off x="228600" y="1828800"/>
            <a:ext cx="3716280" cy="274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ttp://www.naturelight.ru/photo/2009-07-28/23656.jpg"/>
          <p:cNvPicPr/>
          <p:nvPr/>
        </p:nvPicPr>
        <p:blipFill>
          <a:blip r:embed="rId3"/>
          <a:stretch/>
        </p:blipFill>
        <p:spPr>
          <a:xfrm>
            <a:off x="228600" y="4267080"/>
            <a:ext cx="373392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304920" y="228600"/>
            <a:ext cx="3886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, имеющие специальное охотничье вооружение — острые изогнутые когти (чтобы относительно крупную живую добычу успешно отлавливать) и такой же клюв (чтобы пойманную добычу успешно разрывать). Именно «хищные» особенности строения лап и клюва — главный пропуск в отряды хищных птиц и 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нство пернатых хищников плотоядны, т. е. кормятся позвоночными животными. Но есть среди них немало оригиналов с особым вкусом: потребители падали, охотники за насекомыми и даже ловцы... крабов. Вот только истинных вегетарианцев в их рядах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ttp://lukich.smugmug.com/Birds/BIRDS-OF-PREY/i-GF9WTpc/0/L/201201312450-L.jpg"/>
          <p:cNvPicPr/>
          <p:nvPr/>
        </p:nvPicPr>
        <p:blipFill>
          <a:blip r:embed="rId1"/>
          <a:stretch/>
        </p:blipFill>
        <p:spPr>
          <a:xfrm>
            <a:off x="4267080" y="380880"/>
            <a:ext cx="4648320" cy="310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www.naturelight.ru/photo/2008-10-23/13728.jpg"/>
          <p:cNvPicPr/>
          <p:nvPr/>
        </p:nvPicPr>
        <p:blipFill>
          <a:blip r:embed="rId2"/>
          <a:stretch/>
        </p:blipFill>
        <p:spPr>
          <a:xfrm>
            <a:off x="4267080" y="3657600"/>
            <a:ext cx="464832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04920" y="320040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ща хищных птиц весьма разнообразна. По характеру питания их делят на несколько гру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бояд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щники (скопа, орланбелохвост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комояд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кобчик, осоед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тицеяд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луни, ястребы, соколы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шеяд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канюки, обыкновенная пустельг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, выделить еще группу некрофагов — птиц, питающихся падалью. На юге — это грифы и сипы. У нас типичных некрофагов нет, хотя трупами павших животных кормятся черные коршуны и орланы. Вообще строгой привязанности к какой-то одной группе кормов у хищных птиц нет, и они легко переходят с одного вида жертв на другие. Мышееды, например, в годы низкой численности грызунов могут нападать на птиц, рептилий и насеко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img-fotki.yandex.ru/get/5907/alekc-kol.16/0_80ee6_dc1d8769_L"/>
          <p:cNvPicPr/>
          <p:nvPr/>
        </p:nvPicPr>
        <p:blipFill>
          <a:blip r:embed="rId1"/>
          <a:stretch/>
        </p:blipFill>
        <p:spPr>
          <a:xfrm>
            <a:off x="2743200" y="380880"/>
            <a:ext cx="3373560" cy="2590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img-fotki.yandex.ru/get/5408/alekc-kol.16/0_80ee4_ca3e1c56_L"/>
          <p:cNvPicPr/>
          <p:nvPr/>
        </p:nvPicPr>
        <p:blipFill>
          <a:blip r:embed="rId2"/>
          <a:stretch/>
        </p:blipFill>
        <p:spPr>
          <a:xfrm>
            <a:off x="6172200" y="380880"/>
            <a:ext cx="2971800" cy="261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img-fotki.yandex.ru/get/4408/alekc-kol.16/0_80ee5_a15b978e_L"/>
          <p:cNvPicPr/>
          <p:nvPr/>
        </p:nvPicPr>
        <p:blipFill>
          <a:blip r:embed="rId3"/>
          <a:stretch/>
        </p:blipFill>
        <p:spPr>
          <a:xfrm>
            <a:off x="228600" y="3808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0" y="380880"/>
            <a:ext cx="3581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хищных птиц только кобчики и черные коршуны образуют гнездовые колонии. Остальные гнездятся отдельными изолированными парами. Гнезда размещаются на земле, на уступах скал или на деревьях. Некоторые хищные птицы сами гнезд не строят и занимают старые гнезда други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енцы хищных птиц развиваются и растут очень медленно. У крупных видов они проводят в гнезде около трех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pics.livejournal.com/strelec_new/pic/002pgc80"/>
          <p:cNvPicPr/>
          <p:nvPr/>
        </p:nvPicPr>
        <p:blipFill>
          <a:blip r:embed="rId1"/>
          <a:stretch/>
        </p:blipFill>
        <p:spPr>
          <a:xfrm>
            <a:off x="3657600" y="228600"/>
            <a:ext cx="5295960" cy="353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foto.mail.ru/mail/luchshevagv/751/i-778.jpg"/>
          <p:cNvPicPr/>
          <p:nvPr/>
        </p:nvPicPr>
        <p:blipFill>
          <a:blip r:embed="rId2"/>
          <a:stretch/>
        </p:blipFill>
        <p:spPr>
          <a:xfrm>
            <a:off x="228600" y="4876920"/>
            <a:ext cx="2895480" cy="1930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http://zoomet.ru/mal/foto43.jpg"/>
          <p:cNvPicPr/>
          <p:nvPr/>
        </p:nvPicPr>
        <p:blipFill>
          <a:blip r:embed="rId3"/>
          <a:stretch/>
        </p:blipFill>
        <p:spPr>
          <a:xfrm>
            <a:off x="3657600" y="3809880"/>
            <a:ext cx="24382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http://www.lapland-nature.info/ru/N021.jpg"/>
          <p:cNvPicPr/>
          <p:nvPr/>
        </p:nvPicPr>
        <p:blipFill>
          <a:blip r:embed="rId4"/>
          <a:stretch/>
        </p:blipFill>
        <p:spPr>
          <a:xfrm>
            <a:off x="6172200" y="4038480"/>
            <a:ext cx="281952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387000" y="2286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стре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228600" y="609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еделах нашей республики обитают два вида ястребов —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елят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теревят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ервый из них значительно меньше по размерам. Оба вида встречаются по всей территории Карелии. Ястреб-перепелятник вполне обычен, тетеревятник — довольно ред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Ястреб-тетеревятник"/>
          <p:cNvPicPr/>
          <p:nvPr/>
        </p:nvPicPr>
        <p:blipFill>
          <a:blip r:embed="rId1"/>
          <a:stretch/>
        </p:blipFill>
        <p:spPr>
          <a:xfrm>
            <a:off x="380880" y="1905120"/>
            <a:ext cx="2676600" cy="39718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3276720" y="1981080"/>
            <a:ext cx="5638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требов отличают по сравнительно широким коротким крыльям и длинному хвосту. Нижняя часть тела у них серовато-белая, с темными поперечными полосами. Верх тела окрашен в серовато-бурый цвет. Охристые каемки перьев спины и кроющих перьев крыла образуют своеобразный рисунок. Самцы всегда значительно меньше самок. Так, самки ястреба-перепелятника весят до 300 г, а самцы — до 170 г. Оба вида — типично лесные хищники, отличающиеся быстрым маневренным полетом. Относительно длинные неоперенные ноги приспособлены для схватывания жертвы в ветвях деревьев, и кустарников. Ястребы могут ловить добычу на лету и с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386280" y="1522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228600" y="457200"/>
            <a:ext cx="3352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хищные птицы средней величины. Обычно они летают невысоко над землей по берегам водоемов, над полями и лугами. В полете для луней характерны редкие взмахи крыльями. В Карелии встречается два вида —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евой лунь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селяющий всю территорию республики, и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мышов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ли болотный, лунь, гнездящийся только в южных районах. Оба вида у нас ре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228600" y="4876920"/>
            <a:ext cx="4038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ец полевого луня может быть определен по чисто белому оперению на нижней части тела и темно-серому верху. В полете у него ясно различимы черные концы крыльев. Самка окрашена несколько темнее. На груди у нее заметны продольные пестрины, а на хвосте и концах крыльев — неясные поперечные поло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4343400" y="4724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ец болотного луня похож на самку полевого, но концы крыльев у него темнее, а хвост светлый, без полос. Самка — бурая, верхняя часть головы и горло у нее окрашены в желтовато-охристый ц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www.ecosystema.ru/08nature/birds/035.jpg"/>
          <p:cNvPicPr/>
          <p:nvPr/>
        </p:nvPicPr>
        <p:blipFill>
          <a:blip r:embed="rId1"/>
          <a:stretch/>
        </p:blipFill>
        <p:spPr>
          <a:xfrm>
            <a:off x="3505320" y="0"/>
            <a:ext cx="5333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314280" y="2286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ный корш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304920" y="762120"/>
            <a:ext cx="3657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обережьях озер и крупных рек Карелии иногда встречается довольно крупный хищник с треугольной вырезкой на хвосте. Это черный коршун. Оперение верхней части тела у него темно-бурое, а низ рыжеватый, с продольными бурыми пестри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релии черный коршун редок и встречается отдельными парами, хотя в более южных областях, где численность его высока, образует гнездовые колонии. В пище коршун неприхотлив. Основу его добычи составляют мелкие грызуны, землеройки, насекомые, мелкие птицы и их птенцы. Сравнительно часто коршуны поедают погибшую рыбу и мясо павших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www.ecosystema.ru/08nature/birds/031.jpg"/>
          <p:cNvPicPr/>
          <p:nvPr/>
        </p:nvPicPr>
        <p:blipFill>
          <a:blip r:embed="rId1"/>
          <a:stretch/>
        </p:blipFill>
        <p:spPr>
          <a:xfrm>
            <a:off x="3962520" y="0"/>
            <a:ext cx="4952880" cy="4952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birdsofprey.ucoz.org/_ph/31/2/817233958.jpg"/>
          <p:cNvPicPr/>
          <p:nvPr/>
        </p:nvPicPr>
        <p:blipFill>
          <a:blip r:embed="rId2"/>
          <a:stretch/>
        </p:blipFill>
        <p:spPr>
          <a:xfrm>
            <a:off x="3886200" y="4648320"/>
            <a:ext cx="1562040" cy="1828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http://www.topguns.ru/images/birdsdata/data/20900b.jpg"/>
          <p:cNvPicPr/>
          <p:nvPr/>
        </p:nvPicPr>
        <p:blipFill>
          <a:blip r:embed="rId3"/>
          <a:stretch/>
        </p:blipFill>
        <p:spPr>
          <a:xfrm>
            <a:off x="6248520" y="4648320"/>
            <a:ext cx="28954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248760" y="228600"/>
            <a:ext cx="30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ый канюк или сары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228600" y="838080"/>
            <a:ext cx="426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ей республике сарычи встречаются гораздо чаще других крупных хищных птиц. Распространены они по всей территории Карелии и всюду вполне обычны, за исключением крайних северных райо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юк — довольно крупная птица. Размах его крыльев достигает 1,2 м, а вес — около 700 г. Окраска весьма изменчива. Обычно на спинной стороне преобладают темно-бурые тона, а низ бывает охристым или бурым, с неясным поперечным рисунком. Хвост — поперечно-полосатый. В полете на конце широкого округлого хвоста заметна темная полоса, а на широких крыльях светлые пятна. Крик — протяжное гнусавое «ки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kgkm.karelia.ru/files/exhibit/14/image_2.jpg"/>
          <p:cNvPicPr/>
          <p:nvPr/>
        </p:nvPicPr>
        <p:blipFill>
          <a:blip r:embed="rId1"/>
          <a:stretch/>
        </p:blipFill>
        <p:spPr>
          <a:xfrm>
            <a:off x="4648320" y="1981080"/>
            <a:ext cx="4076640" cy="4648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www.ticrk.ru/resources/7690-original.jpeg"/>
          <p:cNvPicPr/>
          <p:nvPr/>
        </p:nvPicPr>
        <p:blipFill>
          <a:blip r:embed="rId2"/>
          <a:stretch/>
        </p:blipFill>
        <p:spPr>
          <a:xfrm>
            <a:off x="4572000" y="152280"/>
            <a:ext cx="1943280" cy="1986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http://zooclub.ru/attach/birds/611.jpg"/>
          <p:cNvPicPr/>
          <p:nvPr/>
        </p:nvPicPr>
        <p:blipFill>
          <a:blip r:embed="rId3"/>
          <a:stretch/>
        </p:blipFill>
        <p:spPr>
          <a:xfrm>
            <a:off x="6553080" y="0"/>
            <a:ext cx="1333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22:21:28Z</dcterms:created>
  <dc:creator>Ученик</dc:creator>
  <dc:description/>
  <dc:language>en-US</dc:language>
  <cp:lastModifiedBy>Admin</cp:lastModifiedBy>
  <dcterms:modified xsi:type="dcterms:W3CDTF">2012-03-27T09:20:34Z</dcterms:modified>
  <cp:revision>16</cp:revision>
  <dc:subject/>
  <dc:title>Слайд 1</dc:title>
</cp:coreProperties>
</file>