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693-FE35-46C7-88F2-E6A11670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5F3-B4BF-4FBD-9B5D-95F6F58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768-74F6-49BB-B3ED-720B7A61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53-B892-4758-82C0-1F694A54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04B-4CFF-4D29-B283-FACE95A4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BD3-FA18-43EC-A807-1081146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400-6BC7-47F0-8ED2-5960C7B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11F-4602-4801-99EF-496232B0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B88-3F2D-4105-ACC4-A995A77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A60-369D-4584-848B-170038F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AA6-994D-40B4-995F-E40F7168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667-54DF-4F99-81F4-FD52D3A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EB6-C8A0-48AF-BA3D-9DE8E974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norama.karelia.ru/pictures/12.jpg" TargetMode="External"/><Relationship Id="rId2" Type="http://schemas.openxmlformats.org/officeDocument/2006/relationships/hyperlink" Target="http://www.panorama.karelia.ru/pictures/12.jpg" TargetMode="External"/><Relationship Id="rId3" Type="http://schemas.openxmlformats.org/officeDocument/2006/relationships/hyperlink" Target="http://www.panorama.karelia.ru/pictures/8.jpg" TargetMode="External"/><Relationship Id="rId4" Type="http://schemas.openxmlformats.org/officeDocument/2006/relationships/hyperlink" Target="http://www.panorama.karelia.ru/pictures/9.jpg" TargetMode="External"/><Relationship Id="rId5" Type="http://schemas.openxmlformats.org/officeDocument/2006/relationships/hyperlink" Target="http://www.panorama.karelia.ru/pictures/9.jpg" TargetMode="External"/><Relationship Id="rId6" Type="http://schemas.openxmlformats.org/officeDocument/2006/relationships/hyperlink" Target="http://www.panorama.karelia.ru/pictures/13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nego.ru/win/pages/larionov/kizhi2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anorama.karelia.ru/pictures/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5111640" cy="339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896000" cy="326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8560" y="3632040"/>
            <a:ext cx="275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Кижи – остров сокров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35840" y="281160"/>
            <a:ext cx="282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трове Кижи в Онежском озере построен музей под открытым небом. Из разных районов Карелии свезли туда чудом сохранившиеся старинные деревянные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496800"/>
            <a:ext cx="727236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оитель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самб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 переводе это слово означает «вмес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тектурный ансамб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сколько построек, которые смотрятся, как одно це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одч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 старину талантливый строитель, архит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апреля – международный День охраны памятников старины. В Карелии более 4 тысяч таких памятников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9440" cy="46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17560" y="5373720"/>
            <a:ext cx="74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Главная достопримечательность остров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Кижский ансамбль:    Преображенская церковь(1714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Покровская церковь(1764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bf2107"/>
                </a:solidFill>
                <a:latin typeface="Arial"/>
              </a:rPr>
              <a:t>Колокольня с 6 колоколами (186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kizi7.jpg (18897 bytes)"/>
          <p:cNvPicPr/>
          <p:nvPr/>
        </p:nvPicPr>
        <p:blipFill>
          <a:blip r:embed="rId2"/>
          <a:stretch/>
        </p:blipFill>
        <p:spPr>
          <a:xfrm>
            <a:off x="4572000" y="836640"/>
            <a:ext cx="374508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3480" y="13644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вляется ли главная достопримечательность Кижей постройкой, созданной в одно 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3860640"/>
            <a:ext cx="85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ижском музее </a:t>
            </a:r>
            <a:r>
              <a:rPr b="1" lang="ru-RU" sz="2400" spc="-1" strike="noStrike">
                <a:solidFill>
                  <a:srgbClr val="bf2107"/>
                </a:solidFill>
                <a:latin typeface="Arial"/>
              </a:rPr>
              <a:t>расположено на островах более 80 объектов (дома, церкви, часовни, мельницы, риги, бани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ивезённых сюда в разное время после того, как было </a:t>
            </a:r>
            <a:r>
              <a:rPr b="1" lang="ru-RU" sz="2400" spc="-1" strike="noStrike">
                <a:solidFill>
                  <a:srgbClr val="bf2107"/>
                </a:solidFill>
                <a:latin typeface="Arial"/>
              </a:rPr>
              <a:t>принято решение в 1961году создать музей под открыты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бом на острове К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11280" cy="21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3024000" cy="226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64000" y="1413000"/>
            <a:ext cx="217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601e"/>
                </a:solidFill>
                <a:latin typeface="Arial"/>
              </a:rPr>
              <a:t>церковь Воскрещения Лазаря из Муромского монастыря и часовня Архангела Миха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200" y="33336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еще постройки свезены на остров Кижи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/>
          </p:cNvPr>
          <p:cNvSpPr/>
          <p:nvPr/>
        </p:nvSpPr>
        <p:spPr>
          <a:xfrm>
            <a:off x="34066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/>
          </p:cNvPr>
          <p:cNvSpPr/>
          <p:nvPr/>
        </p:nvSpPr>
        <p:spPr>
          <a:xfrm>
            <a:off x="9159840" y="1295280"/>
            <a:ext cx="3352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2760" y="631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58136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601e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a8601e"/>
                </a:solidFill>
                <a:latin typeface="Times New Roman"/>
                <a:ea typeface="Times New Roman"/>
              </a:rPr>
              <a:t> центре находится крестьянский дом, принадлежащий семье Ошевневых из деревни Ошевнево, которому уже более 100лет. Этот дом-комплекс относится к типу “кошель”, очень распространённому в Заонеж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10oztn5" descr=""/>
          <p:cNvPicPr/>
          <p:nvPr/>
        </p:nvPicPr>
        <p:blipFill>
          <a:blip r:embed="rId7"/>
          <a:srcRect l="0" t="0" r="0" b="14073"/>
          <a:stretch/>
        </p:blipFill>
        <p:spPr>
          <a:xfrm>
            <a:off x="1476360" y="765000"/>
            <a:ext cx="5977080" cy="431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56440" y="189000"/>
            <a:ext cx="58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вы узнали об этом крестьянском  д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ictor13_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victor3_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4724280"/>
            <a:ext cx="816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8601e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a8601e"/>
                </a:solidFill>
                <a:latin typeface="Times New Roman"/>
                <a:ea typeface="Times New Roman"/>
              </a:rPr>
              <a:t>ом,который топится по-чёрному - это дом Елизарова. Поодаль дом более скромный,так как принадлежал бедному крестьянину Якову Петровичу Щеп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46240" y="3078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еще дома свезены на ост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70" name="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60280"/>
            <a:ext cx="4064040" cy="424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4724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елких построек в Кижах вы сможете увидеть ригу из деревни Берёзовая Сельга, ветряную мельницу из деревни Волкос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440" y="111240"/>
            <a:ext cx="33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мелкие постро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ть на остро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55164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53737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всем Онежском озере лучшей лодкой считала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дка-кижанк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ая отменно приспособленна к 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59892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76720" y="476280"/>
            <a:ext cx="37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новник  из Петрозаводска Павел Рыбников лучшие былины записал у кижского крестьянина Трофима Рябинина и других столь же талантливых заонежских сказител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60213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офим Григорьевич Рябин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56920" y="395136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е это был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00560" y="4600440"/>
            <a:ext cx="35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 Илье Муромце и Владимире Красно Солнышко, о Добрыне-змееборце, о Вольге и Мику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1:11:54Z</dcterms:created>
  <dc:creator>начальная школа</dc:creator>
  <dc:description/>
  <dc:language>en-US</dc:language>
  <cp:lastModifiedBy>Римма</cp:lastModifiedBy>
  <dcterms:modified xsi:type="dcterms:W3CDTF">2009-12-13T06:56:43Z</dcterms:modified>
  <cp:revision>9</cp:revision>
  <dc:subject/>
  <dc:title>Слайд 1</dc:title>
</cp:coreProperties>
</file>