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113-D72E-4C54-8306-617DC961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E2E-0579-498B-A1AC-7EB5E455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682-1B84-4BC8-9999-3D6BADD9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D5F-A631-4289-84C2-1FE37C12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00D-B2EB-4080-9A32-601AA89B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C61-D228-4F25-A0C4-0DC74214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C57-0730-42AC-9A1B-C17C0F0C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1A8-8FDE-4549-9F3E-5277BC27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726-AF0F-449C-9A8D-BFB65D77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9CF-0C90-4C46-B04F-989304E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3E3-1644-4B6E-9BE7-C2F1951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CA8-F7C0-428C-A799-3574C9E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B179-A880-44D5-8484-E686F49116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43920" y="692280"/>
            <a:ext cx="7272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Разнообразие лесов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Карел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684360" y="5084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мчужины карельских лесов - реликтовые сосновые боры. Их противоположность - леса еловые, темные, загадоч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40012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516720" y="2133720"/>
            <a:ext cx="2303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193680"/>
            <a:ext cx="3581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ЧНЫЕ РЕДКИЕ ВИДЫ ДЕРЕВЬ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 древостое следующих видов древесных раст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и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а карельска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ха черна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400800" y="-1635120"/>
            <a:ext cx="36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5029200" cy="3217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0" y="855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760" y="-1654200"/>
            <a:ext cx="36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5029200" y="358128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0" y="84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65040" y="345960"/>
            <a:ext cx="336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ЧНЫЕ 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СТОЙНЫЕ, ПЕРЕСТОЙНЫЕ, ПО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ЫЕ ДЕРЕВ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ТОЛО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чные сухостойные, перестойные, полуживые деревья, остолопы; обломанные на различной высоте дерев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490840" y="69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47480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41360" y="270000"/>
            <a:ext cx="3139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МИ И 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И МЕСТООБИТА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с крупными гнездами и дуплами различного диаметра (представляют собой местообитания крупных редких птиц и мелких животны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49552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28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193680"/>
            <a:ext cx="3809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ЫЕ В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е валуны более 2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являются местообитани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ющимся от окрестных условий леса больш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ю, сухостью, доступностью для ветра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х внешних факторов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одержит непосредственно на себе ли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легающей территории редкие в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ов, мхов, сосудистых раст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49552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4902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89080" y="270000"/>
            <a:ext cx="336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Я ОСИНА НА КОРН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старые деревья осины диаметром более 30 см (являются местообитанием редких и исчезающих видов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486160" y="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4659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35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51768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80880" y="304920"/>
            <a:ext cx="365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ЛОЧЕННЫ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КИ ЛЕ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избыточно увлажненные почвы (болотные, торфяны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болотная раститель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наличие валеж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еобладающие типы леса — cфагновые, багульниковы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48616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5146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12760" y="304920"/>
            <a:ext cx="4435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А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ТА С РЕДКИМ ЛЕС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остое преобладает сос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 безлесный или с редким древосто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полнота древостоя (0,4 и ниж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сушенные территор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ухостоя, в основном, сосн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тные почв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лизости зачастую встречается валеж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ие мхов в напочвенном покро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49084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4267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5300640"/>
            <a:ext cx="83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КИ ЛЕСА ВОК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Х ВОДНЫХ О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Ъ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64184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12760" y="117360"/>
            <a:ext cx="420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КИ ЛЕСА ВД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Х ВОДОТО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и леса вокруг пересыхающих ручь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х временных водото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учейные типы ле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вода видна только мест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но журчание воды под камнями или почв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8616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114800" y="609480"/>
            <a:ext cx="4851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304920"/>
            <a:ext cx="472428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 НА СКАЛЬНЫХ ВЫХОД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и леса на скальных выход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и леса на бедных скальных почв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вержены эрози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листый, каменистый, завалуненный участ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редкий лес или безлесный участ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остое преобладает сос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стойные деревья, валеж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ы камней на поверхности поч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49552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267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93680"/>
            <a:ext cx="4816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 ОКОЛО СКАЛ И 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и леса на краях обрывов, разломов в скала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х промышленных карьер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листый участ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м в скалах, отличающийся от окружающей сре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стойные деревья, валеж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нистых обрывах встречаются мхи, лишайни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оротн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обрывом часто каменистые россып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обрывом растет осина и сравнительно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 лиственных пород, чем в окружающем лес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49552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4152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3780000" cy="66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КИ ЛЕСА С ПРЕОБЛАДАНИЕМ ПЕРЕСТОЙНЫХ ДЕРЕВЬ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 верхнем ярусе древостоя круп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ев старше 180 лет (для сосны) и 150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ели), с диаметром ствола на уровне груд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ыше 30-40 см и в количестве не менее 50 шту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екта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крупномерного сухостоя и валеж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аметром 30-40 см) с запасом не менее 20-30 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екта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генное воздействие незначитель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встречаться следы выборочных руб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й интенсив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наличие подсочки в насажде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ледовавшего отпада древостоя не более 15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830760" y="765000"/>
            <a:ext cx="48337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0"/>
            <a:ext cx="839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вшие стволы всех пород на раз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разлож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трутовых грибов на стволах валеж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49552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816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6:25:29Z</dcterms:created>
  <dc:creator>Nikolai</dc:creator>
  <dc:description/>
  <dc:language>en-US</dc:language>
  <cp:lastModifiedBy>Admin</cp:lastModifiedBy>
  <dcterms:modified xsi:type="dcterms:W3CDTF">2012-03-27T10:19:38Z</dcterms:modified>
  <cp:revision>5</cp:revision>
  <dc:subject/>
  <dc:title>Презентация PowerPoint</dc:title>
</cp:coreProperties>
</file>