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8D1-055E-4F4D-A409-9D3766A6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80F-F5F8-43FD-B500-57D3ED6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7B1-DD28-4E76-82A9-90792D7A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164-A936-4860-BE5A-DFEEEC52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732-AE9A-49DC-900F-8BDD2235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34C-92DC-4C8A-BC4E-5E116B61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122-AC6D-4ECA-A006-A58BB44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F8F-2AAB-4CE3-84E0-E129027A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682-075E-4ABA-ACCB-EAE0AF0E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2F7-032F-49C4-95EC-2BDE5649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946-0874-4956-BFEC-612F83F0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40C-757F-46ED-A239-8344BBE8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4A0F-989B-4C9E-A019-4C34FCACF1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43920" y="692280"/>
            <a:ext cx="7272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Разнообразие лесов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Карел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684360" y="5084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мчужины карельских лесов - реликтовые сосновые боры. Их противоположность - леса еловые, темные, загадоч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40012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516720" y="2133720"/>
            <a:ext cx="2303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193680"/>
            <a:ext cx="3581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ЧНЫЕ РЕДКИЕ ВИДЫ ДЕРЕВЬ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древостое следующих видов древесных раст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и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а карельска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ха черна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400800" y="-1635120"/>
            <a:ext cx="36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5029200" cy="321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0" y="855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760" y="-1654200"/>
            <a:ext cx="36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5029200" y="35812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0" y="84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5040" y="345960"/>
            <a:ext cx="336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ЧНЫЕ 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СТОЙНЫЕ, ПЕРЕСТОЙНЫЕ, ПО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ЫЕ ДЕРЕВ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ТОЛО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чные сухостойные, перестойные, полуживые деревья, остолопы; обломанные на различной высоте дерев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490840" y="69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4748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41360" y="270000"/>
            <a:ext cx="3139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МИ И 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И МЕСТООБИТА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с крупными гнездами и дуплами различного диаметра (представляют собой местообитания крупных редких птиц и мелких животны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49552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28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193680"/>
            <a:ext cx="3809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ЫЕ В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е валуны более 2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являются местообитан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ющимся от окрестных условий леса больш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ю, сухостью, доступностью для ветра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х внешних факторов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одержит непосредственно на себе ли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легающей территории редкие в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ов, мхов, сосудистых раст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49552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4902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89080" y="270000"/>
            <a:ext cx="336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Я ОСИНА НА КОРН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старые деревья осины диаметром более 30 см (являются местообитанием редких и исчезающих вид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48616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4659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35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1768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80880" y="304920"/>
            <a:ext cx="365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ЛОЧЕННЫ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И ЛЕ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избыточно увлажненные почвы (болотные, торфяны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болотная раститель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наличие валеж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еобладающие типы леса — cфагновые, багульниковы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48616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5146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12760" y="304920"/>
            <a:ext cx="4435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А С РЕДКИМ ЛЕС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остое преобладает сос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 безлесный или с редким древосто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полнота древостоя (0,4 и ниж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ушенные территор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хостоя, в основном, сос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ные почв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лизости зачастую встречается валеж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ие мхов в напочвенном покро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49084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267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530064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И ЛЕСА ВОК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Х ВОДНЫХ О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Ъ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64184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12760" y="117360"/>
            <a:ext cx="420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И ЛЕСА ВД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Х ВОДОТО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леса вокруг пересыхающих ручь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х временных водото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учейные типы ле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вода видна только мест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но журчание воды под камнями или почв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8616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4851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304920"/>
            <a:ext cx="472428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НА СКАЛЬНЫХ ВЫХОД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леса на скальных выход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леса на бедных скальных почв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вержены эрози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листый, каменистый, завалуненный участ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редкий лес или безлесный участ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остое преобладает сос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стойные деревья, валеж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ы камней на поверхности поч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49552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267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93680"/>
            <a:ext cx="481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ОКОЛО СКАЛ И 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леса на краях обрывов, разломов в скала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х промышленных карьер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листый участ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м в скалах, отличающийся от окружающей сре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стойные деревья, валеж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нистых обрывах встречаются мхи, лишайни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оротн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брывом часто каменистые россып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брывом растет осина и сравнительно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 лиственных пород, чем в окружающем лес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49552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152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3780000" cy="66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И ЛЕСА С ПРЕОБЛАДАНИЕМ ПЕРЕСТОЙНЫХ ДЕРЕВЬ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верхнем ярусе древостоя круп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ев старше 180 лет (для сосны) и 150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ели), с диаметром ствола на уровне груд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ыше 30-40 см и в количестве не менее 50 шту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екта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крупномерного сухостоя и валеж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аметром 30-40 см) с запасом не менее 20-30 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екта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генное воздействие незначитель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встречаться следы выборочных руб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й интенсив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наличие подсочки в насажде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ледовавшего отпада древостоя не более 15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830760" y="765000"/>
            <a:ext cx="48337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0"/>
            <a:ext cx="839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вшие стволы всех пород на раз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разлож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трутовых грибов на стволах валеж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49552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816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6:25:29Z</dcterms:created>
  <dc:creator>Nikolai</dc:creator>
  <dc:description/>
  <dc:language>en-US</dc:language>
  <cp:lastModifiedBy>Admin</cp:lastModifiedBy>
  <dcterms:modified xsi:type="dcterms:W3CDTF">2012-03-27T10:19:38Z</dcterms:modified>
  <cp:revision>5</cp:revision>
  <dc:subject/>
  <dc:title>Презентация PowerPoint</dc:title>
</cp:coreProperties>
</file>