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E1E-9DED-4A32-B054-07742148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54D-F9C1-4158-9317-5A79AFFB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5C5-37B7-410A-A7AE-953888E8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213-8CA7-4845-95BA-8C36A58C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2711-069B-4E32-A0BD-35B5873F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FAB3-5FA1-43C6-B9BA-0E218E23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8A8C-9C3D-4F00-BBFF-72BE7B9A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79C9-7AEF-43A3-8FED-5DB6EEEC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BF5-64E0-422A-91E4-D4E6F79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8F0B-708C-4F27-828C-6B95BC06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C76C-2EB8-43BF-88F1-2217A5A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476-EDFC-491D-BBC9-50FBE98E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13A3-D137-468A-8E8B-333467A8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A28-FE43-4897-9BE3-5CA6E7E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8C1F-2338-4183-A8B9-2E0316B2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5060-1727-43D4-AE2F-BE541861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DA01-6E78-40B7-86B5-6578D399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2BE4-2BE5-4017-A623-7C5C0928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548A-84F0-4F66-912E-E803CA8D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68BF-92B2-4FA4-B967-84C169DC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7AFF-F9AE-4BC0-8572-0CBD17B1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F9FD-416B-4B09-9AF2-067181FE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8C3-0C18-412F-B664-0EC705B5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21C9-016D-4825-AB4F-B865EBE6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52DE-753B-40C1-BA20-5C57F159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93A2-0644-4262-A416-E86E2313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7B87-C79A-4C66-8A86-6DD2457C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24D6-D3E1-4820-B838-0F765C8E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7349-2710-4DE6-B7A0-E5465087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A9CC-F049-49EF-8A85-DBA6C54E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5293-8564-41F7-9D52-23719BB7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9598-0BA8-4D12-9A4F-91500194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FDF5-8569-4818-A3C7-1DACAA34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6B0-FFA7-4876-9BBB-10A6641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274E-3228-4BA2-B788-5D6E14DD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81E2-4749-44B1-9798-A99642D7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1929-141C-4349-9F08-2EB4F59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5653-1E91-4EEE-897D-F870DEC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53C9-0ADE-42D4-8F54-E2DA1EB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6186D-AFBE-48D8-9D69-FA79215D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0883-66BA-49A4-9DBF-3CE73534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44A45-61CA-4BD2-9214-C6E747D5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ACB3-F07E-4FC1-A7F2-14EB47BC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90D-356A-4041-83C8-AA6FA67C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B5A-EE0B-43C9-ACA9-76BA3916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27A-FA6F-43E0-99C1-A89E4A9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575-8411-47B6-83A5-D708B8AC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8E7-A060-4264-A060-5C16FA4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691F5-8F9D-4C29-B334-E9588E9940AE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C1724-3532-431B-85A8-0BCDCE20C10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176B4-8033-4B1B-BB5D-4B0D7844227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F40E1-37CC-4844-8C4F-2866C6434A3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0066ff"/>
                </a:solidFill>
                <a:latin typeface="Century Gothic"/>
              </a:rPr>
              <a:t>МОРСКИЕ</a:t>
            </a:r>
            <a:br>
              <a:rPr sz="9600"/>
            </a:br>
            <a:r>
              <a:rPr b="1" lang="ru-RU" sz="9600" spc="-1" strike="noStrike">
                <a:solidFill>
                  <a:srgbClr val="0066ff"/>
                </a:solidFill>
                <a:latin typeface="Century Gothic"/>
              </a:rPr>
              <a:t>ОБИТАТЕЛИ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27600" y="-360"/>
            <a:ext cx="5216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ОСЬМИНОГ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526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РСКАЯ ЗВЕЗ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334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СТРИЦ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5661000"/>
            <a:ext cx="5651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АУТИЛУС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РСКАЯ ЧЕРЕПАХ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-324000" y="0"/>
            <a:ext cx="979344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651280" y="259920"/>
            <a:ext cx="349236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КРАБ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ОМАР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ОРАЛЛ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250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70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Gothic"/>
              </a:rPr>
              <a:t>МОРЕ…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50920" y="4869000"/>
            <a:ext cx="64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В нем обитают тысячи удивительных сущест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advTm="3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ЛИТК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940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РАКОВИ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БЕЛАЯ АКУЛ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590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КУЛА-МОЛОТ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-360" y="5877000"/>
            <a:ext cx="59324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Яркие рыбки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252360" y="0"/>
            <a:ext cx="1008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90560" y="-360"/>
            <a:ext cx="475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СКАТ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8:44:32Z</dcterms:created>
  <dc:creator>Инна</dc:creator>
  <dc:description/>
  <dc:language>en-US</dc:language>
  <cp:lastModifiedBy>Оксана Синотова</cp:lastModifiedBy>
  <dcterms:modified xsi:type="dcterms:W3CDTF">2023-02-17T20:18:16Z</dcterms:modified>
  <cp:revision>7</cp:revision>
  <dc:subject/>
  <dc:title>Слайд 1</dc:title>
</cp:coreProperties>
</file>