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9219-D852-4857-87AB-8D045C4E1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7610-A9B6-410D-B63D-4DC346FDE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5FF5-F1D6-43EE-B3A9-1642D3A88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779F-9692-4C85-84EA-8B65A885E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9D937-3B8B-4BF6-93E5-465D86BCD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9EE90-CEE8-4949-A747-BC8A3F882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AAF1F-95A7-429B-A15F-D583E616C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52C72-6DF0-4510-B49A-09CF7156B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A6055-2EA9-4BC2-8ED7-4F5F586D7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B4CD7-0E25-4581-AD12-DD3FF415F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D2C1B-C1F7-42C4-B605-D26C274D8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5ABA-691A-488E-A201-0D648B00E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05FE8-3AAD-4E49-970E-6241E9A30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916D8-E4C7-470A-9F44-398476D24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1B314-E32A-466A-BBF4-5D2A2790B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5A81C-215F-452B-9D44-4B9A5DA9D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96C07-862D-4CC8-AD46-30A0F514F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3CCB1-4195-4F5B-A696-E1C270CC8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DDE8B-905E-47A2-8977-274C95DAA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8410F-68FD-4C33-8C7C-9351043E3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EC52B-49D9-4A84-94AE-8A2BA60AD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80548-DDDD-4113-8FC2-D91691107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43FB-DE57-4A4B-AC1E-A6C73A9EB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376F9-4959-4E93-8B60-9597E79DA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5CA8E-8E7C-48C1-9E98-90A0F8402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A2B97-0BBA-49E1-993C-D465DDE18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E3415-4BA4-4442-AD80-F51C653C6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E5091-0F33-4272-A953-A7FAD3EFE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925F5-6FDB-4237-9F6B-8A2EC08BB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9F533-81EA-4378-8F38-5E62D2C2D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9ED6D5-9E94-4EC7-9BF4-6AF653E13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857BF-4F92-476A-A467-427BAB6CD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03CA3-AB1E-4691-83D6-D7603EAB6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CB1A-C4FB-4169-96F6-67915A4FD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EC28F-2A3F-448D-BE02-E32118FB5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6CA78-5E11-49E3-B2BA-764E85CC3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457E4-F9D1-456F-AD25-69CF1B8B2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5B1D7-5102-493C-B568-D876C660D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0A811-515B-4344-8508-9EB59D4AB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0E6D5-01DB-4A48-ABCE-B2D83B1B8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DD687-7700-4B58-921D-876C833EB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E9114-F154-44FE-A04B-B28791653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69B69-1E7F-4A35-A66F-DDE7FD37F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28B4-AE6F-4EB1-9242-500A38B90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F2F2-7DD4-44D3-A346-B17FDBE29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4F17-4ACA-4113-B666-40EB2C378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2806-56F4-450A-8AB8-9E50D063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2E2F-19C6-4BD5-B8A5-425FF4400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6670440" y="3894120"/>
            <a:ext cx="2469960" cy="2658960"/>
            <a:chOff x="6670440" y="3894120"/>
            <a:chExt cx="2469960" cy="2658960"/>
          </a:xfrm>
        </p:grpSpPr>
        <p:sp>
          <p:nvSpPr>
            <p:cNvPr id="1" name="Straight Connector 7"/>
            <p:cNvSpPr/>
            <p:nvPr/>
          </p:nvSpPr>
          <p:spPr>
            <a:xfrm flipH="1">
              <a:off x="8384760" y="3894120"/>
              <a:ext cx="755640" cy="7556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" name="Straight Connector 8"/>
            <p:cNvSpPr/>
            <p:nvPr/>
          </p:nvSpPr>
          <p:spPr>
            <a:xfrm flipH="1">
              <a:off x="6670440" y="4081320"/>
              <a:ext cx="2469960" cy="24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3" name="Straight Connector 9"/>
            <p:cNvSpPr/>
            <p:nvPr/>
          </p:nvSpPr>
          <p:spPr>
            <a:xfrm flipH="1">
              <a:off x="7569000" y="4160520"/>
              <a:ext cx="1571400" cy="15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" name="Straight Connector 10"/>
            <p:cNvSpPr/>
            <p:nvPr/>
          </p:nvSpPr>
          <p:spPr>
            <a:xfrm flipH="1">
              <a:off x="7694640" y="4038480"/>
              <a:ext cx="144144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" name="Straight Connector 11"/>
            <p:cNvSpPr/>
            <p:nvPr/>
          </p:nvSpPr>
          <p:spPr>
            <a:xfrm flipH="1">
              <a:off x="8088480" y="4495680"/>
              <a:ext cx="1047600" cy="10476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37D918-C0CE-4C33-B66E-9714CF861374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15"/>
          <p:cNvGrpSpPr/>
          <p:nvPr/>
        </p:nvGrpSpPr>
        <p:grpSpPr>
          <a:xfrm>
            <a:off x="4335120" y="1170000"/>
            <a:ext cx="4815000" cy="4994280"/>
            <a:chOff x="4335120" y="1170000"/>
            <a:chExt cx="4815000" cy="4994280"/>
          </a:xfrm>
        </p:grpSpPr>
        <p:sp>
          <p:nvSpPr>
            <p:cNvPr id="48" name="Straight Connector 16"/>
            <p:cNvSpPr/>
            <p:nvPr/>
          </p:nvSpPr>
          <p:spPr>
            <a:xfrm flipH="1">
              <a:off x="6009840" y="1170000"/>
              <a:ext cx="3133800" cy="313524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9" name="Straight Connector 18"/>
            <p:cNvSpPr/>
            <p:nvPr/>
          </p:nvSpPr>
          <p:spPr>
            <a:xfrm flipH="1">
              <a:off x="4335120" y="1349280"/>
              <a:ext cx="4815000" cy="481500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0" name="Straight Connector 20"/>
            <p:cNvSpPr/>
            <p:nvPr/>
          </p:nvSpPr>
          <p:spPr>
            <a:xfrm flipH="1">
              <a:off x="5226120" y="1469880"/>
              <a:ext cx="3911760" cy="391176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1" name="Straight Connector 21"/>
            <p:cNvSpPr/>
            <p:nvPr/>
          </p:nvSpPr>
          <p:spPr>
            <a:xfrm flipH="1">
              <a:off x="5304960" y="1307880"/>
              <a:ext cx="3838680" cy="384012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2" name="Straight Connector 22"/>
            <p:cNvSpPr/>
            <p:nvPr/>
          </p:nvSpPr>
          <p:spPr>
            <a:xfrm flipH="1">
              <a:off x="5707080" y="1769760"/>
              <a:ext cx="3430800" cy="343080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8EECCF-1C5E-452A-A13E-7CC9C56779C5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6"/>
          <p:cNvGrpSpPr/>
          <p:nvPr/>
        </p:nvGrpSpPr>
        <p:grpSpPr>
          <a:xfrm>
            <a:off x="6670440" y="3894120"/>
            <a:ext cx="2469960" cy="2658960"/>
            <a:chOff x="6670440" y="3894120"/>
            <a:chExt cx="2469960" cy="2658960"/>
          </a:xfrm>
        </p:grpSpPr>
        <p:sp>
          <p:nvSpPr>
            <p:cNvPr id="95" name="Straight Connector 7"/>
            <p:cNvSpPr/>
            <p:nvPr/>
          </p:nvSpPr>
          <p:spPr>
            <a:xfrm flipH="1">
              <a:off x="8384760" y="3894120"/>
              <a:ext cx="755640" cy="7556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6" name="Straight Connector 8"/>
            <p:cNvSpPr/>
            <p:nvPr/>
          </p:nvSpPr>
          <p:spPr>
            <a:xfrm flipH="1">
              <a:off x="6670440" y="4081320"/>
              <a:ext cx="2469960" cy="24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7" name="Straight Connector 9"/>
            <p:cNvSpPr/>
            <p:nvPr/>
          </p:nvSpPr>
          <p:spPr>
            <a:xfrm flipH="1">
              <a:off x="7569000" y="4160520"/>
              <a:ext cx="1571400" cy="15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8" name="Straight Connector 10"/>
            <p:cNvSpPr/>
            <p:nvPr/>
          </p:nvSpPr>
          <p:spPr>
            <a:xfrm flipH="1">
              <a:off x="7694640" y="4038480"/>
              <a:ext cx="144144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9" name="Straight Connector 11"/>
            <p:cNvSpPr/>
            <p:nvPr/>
          </p:nvSpPr>
          <p:spPr>
            <a:xfrm flipH="1">
              <a:off x="8088480" y="4495680"/>
              <a:ext cx="1047600" cy="10476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00" name="TextBox 12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TextBox 13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521F5A-BBD9-4CEF-9FF3-5480A63E9D58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6"/>
          <p:cNvGrpSpPr/>
          <p:nvPr/>
        </p:nvGrpSpPr>
        <p:grpSpPr>
          <a:xfrm>
            <a:off x="6670440" y="3894120"/>
            <a:ext cx="2469960" cy="2658960"/>
            <a:chOff x="6670440" y="3894120"/>
            <a:chExt cx="2469960" cy="2658960"/>
          </a:xfrm>
        </p:grpSpPr>
        <p:sp>
          <p:nvSpPr>
            <p:cNvPr id="144" name="Straight Connector 7"/>
            <p:cNvSpPr/>
            <p:nvPr/>
          </p:nvSpPr>
          <p:spPr>
            <a:xfrm flipH="1">
              <a:off x="8384760" y="3894120"/>
              <a:ext cx="755640" cy="7556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5" name="Straight Connector 8"/>
            <p:cNvSpPr/>
            <p:nvPr/>
          </p:nvSpPr>
          <p:spPr>
            <a:xfrm flipH="1">
              <a:off x="6670440" y="4081320"/>
              <a:ext cx="2469960" cy="24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6" name="Straight Connector 9"/>
            <p:cNvSpPr/>
            <p:nvPr/>
          </p:nvSpPr>
          <p:spPr>
            <a:xfrm flipH="1">
              <a:off x="7569000" y="4160520"/>
              <a:ext cx="1571400" cy="15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7" name="Straight Connector 10"/>
            <p:cNvSpPr/>
            <p:nvPr/>
          </p:nvSpPr>
          <p:spPr>
            <a:xfrm flipH="1">
              <a:off x="7694640" y="4038480"/>
              <a:ext cx="144144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8" name="Straight Connector 11"/>
            <p:cNvSpPr/>
            <p:nvPr/>
          </p:nvSpPr>
          <p:spPr>
            <a:xfrm flipH="1">
              <a:off x="8088480" y="4495680"/>
              <a:ext cx="1047600" cy="10476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49" name="TextBox 12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TextBox 13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32E8AC-40B1-4D8B-8B52-D5C826734BAC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8229600" cy="409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9600" spc="-1" strike="noStrike">
                <a:solidFill>
                  <a:srgbClr val="0066ff"/>
                </a:solidFill>
                <a:latin typeface="Century Gothic"/>
              </a:rPr>
              <a:t>МОРСКИЕ</a:t>
            </a:r>
            <a:br>
              <a:rPr sz="9600"/>
            </a:br>
            <a:r>
              <a:rPr b="1" lang="ru-RU" sz="9600" spc="-1" strike="noStrike">
                <a:solidFill>
                  <a:srgbClr val="0066ff"/>
                </a:solidFill>
                <a:latin typeface="Century Gothic"/>
              </a:rPr>
              <a:t>ОБИТАТЕЛИ</a:t>
            </a:r>
            <a:endParaRPr b="0" lang="en-US" sz="9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927600" y="-360"/>
            <a:ext cx="52164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ОСЬМИНОГ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6420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75261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МОРСКАЯ ЗВЕЗДА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4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30864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796000" y="-360"/>
            <a:ext cx="3348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УСТРИЦА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4" descr=""/>
          <p:cNvPicPr/>
          <p:nvPr/>
        </p:nvPicPr>
        <p:blipFill>
          <a:blip r:embed="rId1"/>
          <a:stretch/>
        </p:blipFill>
        <p:spPr>
          <a:xfrm>
            <a:off x="-25236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-360" y="5661000"/>
            <a:ext cx="56516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НАУТИЛУС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588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МОРСКАЯ ЧЕРЕПАХА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-324000" y="0"/>
            <a:ext cx="979344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651280" y="259920"/>
            <a:ext cx="3492360" cy="112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entury Gothic"/>
              </a:rPr>
              <a:t>КРАБ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492000" y="0"/>
            <a:ext cx="565164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ОМАР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284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КОРАЛЛЫ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4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7920000" cy="59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24" name="Picture 4" descr=""/>
          <p:cNvPicPr/>
          <p:nvPr/>
        </p:nvPicPr>
        <p:blipFill>
          <a:blip r:embed="rId1"/>
          <a:stretch/>
        </p:blipFill>
        <p:spPr>
          <a:xfrm>
            <a:off x="826920" y="692280"/>
            <a:ext cx="7525080" cy="564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4" descr=""/>
          <p:cNvPicPr/>
          <p:nvPr/>
        </p:nvPicPr>
        <p:blipFill>
          <a:blip r:embed="rId1"/>
          <a:stretch/>
        </p:blipFill>
        <p:spPr>
          <a:xfrm>
            <a:off x="-144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708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entury Gothic"/>
              </a:rPr>
              <a:t>МОРЕ…</a:t>
            </a:r>
            <a:endParaRPr b="0" lang="en-US" sz="6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Rectangle 8"/>
          <p:cNvSpPr/>
          <p:nvPr/>
        </p:nvSpPr>
        <p:spPr>
          <a:xfrm>
            <a:off x="250920" y="4869000"/>
            <a:ext cx="6481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entury Gothic"/>
              </a:rPr>
              <a:t>В нем обитают тысячи удивительных существ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advTm="3000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468360" y="0"/>
            <a:ext cx="820908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2847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УЛИТКА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756720" cy="694044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0036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РАКОВИНА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5387760"/>
            <a:ext cx="5292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БЕЛАЯ АКУЛА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5387760"/>
            <a:ext cx="59054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АКУЛА-МОЛОТ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-360" y="5877000"/>
            <a:ext cx="593244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Яркие рыбки</a:t>
            </a:r>
            <a:endParaRPr b="0" lang="en-US" sz="36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-252360" y="0"/>
            <a:ext cx="10080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390560" y="-360"/>
            <a:ext cx="4753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entury Gothic"/>
              </a:rPr>
              <a:t>СКАТ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9T18:44:32Z</dcterms:created>
  <dc:creator>Инна</dc:creator>
  <dc:description/>
  <dc:language>en-US</dc:language>
  <cp:lastModifiedBy>Оксана Синотова</cp:lastModifiedBy>
  <dcterms:modified xsi:type="dcterms:W3CDTF">2023-02-17T20:18:16Z</dcterms:modified>
  <cp:revision>7</cp:revision>
  <dc:subject/>
  <dc:title>Слайд 1</dc:title>
</cp:coreProperties>
</file>