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922-E519-4B07-9498-5EE13703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64A-196E-4CE0-A3C9-942896B6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F1041-90AA-4D47-9A5A-6D9F9ADC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3F9D2-7A51-4AF0-A0D8-63BCA2B5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D98D3-9760-4C8A-BDA9-3BA01EC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61300-404E-4CDF-BC67-F578DA0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21FE4-11F8-4DC0-81C5-43BD6B01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5006E-0DC5-45E7-AEEC-369ADF03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192ED-76AC-4AC1-B7A4-81AB9F99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45580-DFCF-4BAD-B997-CB638AD2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51D26-76A2-4F80-BD4B-8008268A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2209A-1C07-4C04-B3EF-F482EDD1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DB5-92D3-416C-A7D4-816F813E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3F7F3-D690-4BC3-9260-0D86FD0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EBA83-9544-48FD-A379-9B3B9A54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A7884-A01B-4560-869A-384A70AD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6BD7C-207D-400B-B0F8-E7BD148F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6AE48-5AF6-44F1-AFD9-28036129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B5189-0968-4399-99EE-023EBD9E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34EF3-4D12-4D01-A10C-AF6B651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42797-10FC-48E0-97D9-2F3D6CE3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06AE3-0F37-47ED-918B-34DBFB18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4B955-083A-4540-9F2A-46CC11A2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A1A-B0BE-4545-87A5-F40A1F7C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65601-048C-4974-AFD1-04F269C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40DCA-A217-45CD-95EA-50B355EA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C7F73-987A-40FD-9090-55B9447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D08FD-74D8-4636-A82D-4029AE84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8737C-F417-4916-A8C9-3FAF63E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EFD22-20C0-4165-844E-0087613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CA2B4-590E-4F5A-8078-84A7B6E3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EBEF2-AF8B-4BFE-9388-261E80C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A4D4A-F4D1-4CBB-B1B4-1FD1E55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FF8F3-EB3C-4200-8DEF-088433A2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FD33-905E-4C93-A031-30546BE8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8E421-9B73-48BD-A067-DFA1CE96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8CA82-CAFD-4D6D-A230-BAC8A51B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30143-3500-4F61-9B79-10A2AE2D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5A02E-F79B-4F44-B88A-D72AF55B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42516-BE63-4FF5-BE4F-C754511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85693-0839-402F-97C7-C86CA64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2DF16-4FB9-4E50-8F54-60D4555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881D7-0069-44A1-8E84-66651896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2DC37-312B-4500-BB88-8E27D8BE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9441C-2ADD-4E4A-AD49-3E3150F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DBE8-365F-4939-A2E1-4CB497AD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B91C5-2FB4-404B-A8AB-599F38C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31F9A-240C-4417-B1CC-89B6D64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DADAF-6595-413E-B674-D0805053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A175B-C5F6-4A58-B17E-394B52B8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FD5C5-BE0D-4DA5-896F-E17BB30B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98975-C60F-447A-B5AA-14E7EDE6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2BF51-93EC-49F6-BF37-86F6F70C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DFB3F-3813-4728-AFE5-D9C97F4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68C8B-EB96-4A97-827D-F0BC2968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A1E94-3B71-4B9F-B636-EAC29757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E5D-2873-40CB-8090-01DA548B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215E3-3C1A-400B-8A8D-A6CA1BC5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EAC8F-5C13-4893-BE1A-8A84577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D00F4-41A8-4344-9582-2DF0222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AAC8C-E8EB-41F5-A7FB-B5ED072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3F1FC-B48F-4D88-9EEE-F1E02616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0D40E-8960-44E3-9DE0-986F8893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38A5C-8E0D-471D-B2F8-4F28B870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03BDF-B1D8-42B6-BFAF-2C2CCA1E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831B4-7A46-42B9-A8A3-B8D82C61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677FB-3D32-454A-BD07-344F316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5EE2-1A29-46BD-B02E-D45D236E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F99C7-A9C5-4847-A652-E02B26A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77C5A-3E77-47FF-B08F-E8C719C1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FFBCE-1854-48DB-9153-9CD4A47A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3F44A-6260-45AB-8309-75383097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51C32-DCE5-47CD-A152-A3A9E61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60B17-DAA2-4D05-844D-3E47EA7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993F3-423F-479E-804D-77AB4860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837DA-6229-40A1-AF65-F838226C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5E37D-D419-470C-AAFA-F4A92E64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FEA67-FFAC-44CD-B87A-CC0CB047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EF57-65AC-438A-BF40-AA281987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696B0-647D-40B8-BB84-E6AC4735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3E3A7-80ED-4239-977D-5A038667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508C0-2018-450D-A7CF-A7D66AD0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99E22-F008-43F4-B7B8-E1A4FAB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4C99F-8361-409C-8B66-B80CF71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61AF2-8D5A-4060-9CE4-49AD5342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60924-C140-4E51-AC32-0624DE6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3AF47-5D50-47BB-9EC4-C69177B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1B440-F1D3-4326-B7D9-7DE51B72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17A92-2697-4DC1-A2CF-FD4F8449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7BEB-57DB-4A5C-8B15-2C9CD0A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4848F-7A19-4EBD-83ED-F018E521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E734A-47D1-4A29-A811-6FF58BE3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5CAFC-75AE-492C-A35C-6A659E61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BC8FE-1830-44C8-9C0D-7F507B05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762AA-D52E-4C2D-82EE-FBDE471B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8AFEF-9A6E-4A95-A249-4E5D1121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70C62-A061-4BFC-84A9-4DA5A15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80CB3-48BA-4080-AB99-F97B98B0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C6F8F-3ED3-439C-8305-A8FFC99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47BCD-E965-47B1-B524-5E6C3E7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3714-1A81-4C28-906E-86FAEA9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F107F-5E6F-4E8D-8759-C15F8AD5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613A0-76AA-4E41-A9A1-5527BAFA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1069A-5632-4DC5-90D7-06807C6C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07E83-C384-425C-8F09-6BB589D9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84F13-3724-4930-9538-0511472D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EB12A-A01E-48FF-854B-0C70670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55E0B-4855-4164-881C-4D117B0F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952A1-01F4-453C-A143-C6E59274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D6734-750C-47F7-B478-F90C9B7C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45145-9F31-43F1-A029-83CA91C1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991-8A66-45C2-A146-0EAE5CF8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988-8026-4F9A-B4E5-23F4B8B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B0969-2AD3-492D-9937-3FCE8D3B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6AB42-B1EF-4CF8-BBDC-61CE570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9773B-60A3-4378-9056-4BC79528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A8C19-92C1-4DD0-9FFA-65F83C3E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06FF2-5F1E-4271-B26A-093806B3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CF69D-D50A-4DAE-B38E-00A3B403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C35EA-8C57-40F3-BCD9-3127EAF2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251B94-D53E-48E0-885E-137A86F3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606D3-2EDC-4042-8B16-EF04C32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9D0C7-DB70-4987-8665-A363D07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CF3F-0223-4296-995F-2015E55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86FAC-F9B7-458A-AA71-E10A7827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9852E-F873-4E9E-8FC7-9934EE4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21CD1-1AA7-4761-9905-DD23514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D60EB-3822-4984-AD25-7E4F5B7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5B6C6-50B5-4209-855C-3850F34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C5E82-AA6F-437B-BE08-7B344402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3DC3F-6B26-4D57-B756-CB11ACBF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06459-EE8C-4104-903F-00C46E69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36D09-AD6D-4590-8C9E-B25303A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074AD-DB80-4228-88B1-BFE2392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0A24-5F4C-4361-AE43-847539CE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6E0C5-205B-4BCB-A2FD-F50A829B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F84C0-1DE2-4B15-93A5-89D38A5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9C4EE-E9F7-475B-8406-5F69E7E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4A5508-34B3-4182-91A2-6442B13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2479D-7501-4CED-9B05-FEAD8ACA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79E64-DDEE-4D41-BCC1-C4540FF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EB172-F4E1-496A-BD84-EC6F892A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F9782-4D11-4814-8DD6-2DC75491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20CEC-4077-46F8-B38E-B56A4968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34F5-89D4-45B5-BD1C-31387CC7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26F4-091E-43D2-84C7-BC059B71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8577-85DC-42DC-95BB-0A367C6B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DA1F-DBFD-41B0-AC40-AB6365D1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EF8F-636F-470C-8FEC-42CBD0EA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1FC1-AC57-4FC8-9E28-9CC49D4B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91E8-4823-41BD-A85E-B9243A6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9DB-5CA8-403B-83B3-82DB6643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D8B7-E665-4FF3-B789-3FA514F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1B37-C89C-4F44-8FA1-78767F29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31B0-1A91-4E7E-8815-10D6C1D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180E-1BCD-4D82-843A-7F5E4CBF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CB98-F8B2-4B80-B5FC-28ED498D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6D48-F2F1-4736-8119-D3785BDE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AB52-BC7B-4999-A519-B9A8B416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A02B-02A1-4A53-B1EE-7E39D168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AF16-5188-4117-8DBE-B3B5E9ED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A2D9-E6DB-4DED-85B7-AAB0B256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4EC-EE8D-4586-A763-CC5946EE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4197-F9B2-4AF6-8C9D-4DCBD17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C170-0892-4CD3-B981-1CC00D92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073D-3674-4B7E-A828-1F8E0536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B0E7-64CC-4B18-893B-45C96665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02D0D-0F07-4AD1-B8FF-8EFC7B9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6E5C7-AC2F-4FFF-B0EF-221B0C2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A837-1D1F-43BD-8503-E4C68C6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F416-1418-4A7E-ACDF-F3110ADD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B109-FFA0-408D-A36F-03AE9E39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55FC-0BD0-43E2-A4BB-EA66F4F4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0DB-5F5C-42AD-B442-612056A9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CA6D4-5328-48C5-8B9A-E91A780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68D4-A31A-4EE0-99E9-F73A417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37AB-EF53-499F-8327-E5EA6B28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FA6C-50A0-413D-B2E4-BD3A7264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AB3A-5BA2-4452-B9A9-2B87DEFF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086C-82E9-41D3-ABEE-5DE78D6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F60FA-DF98-4D38-98B1-55BD662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38AEA-F8D0-4315-9D6E-DA6DDFA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B2AC-3CE7-44E3-9589-A31F388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E4B5F-DE42-4B7E-954A-BD8E87E7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CB2-D0E7-4A97-8F2A-D5DF9CC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8BB3-5FA5-4B67-8E72-7841BD6C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0BC6D-988A-47E9-AE3C-5E45CBC7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D2DB-8E09-4CA9-9B6E-AE50EC6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3C2FC-EE1C-4883-8BEA-4D01B37F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20567-BDCA-4821-B227-D739A3FB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61BEB-370F-4960-8693-8DA9819F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26AC-A95E-4D41-A0FE-0CCF7CF5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77F49-0233-4546-A902-973B024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EB12-AD06-4A29-A2D8-4502065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3BE5-A7EC-478B-96E2-8A06683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D92-1638-46E5-B51B-EC20FED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BFE86-9F8D-43F2-B89E-E53B9CE8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25ADE-98A9-445A-9DD9-5D188999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46D4-C71B-4039-9B77-0A0E0945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4EAA-8B7C-4C19-8064-E15C1254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B098-2E6C-4DAD-B4FD-242B02D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E726C-97FD-45FC-B9BC-91DCCF05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0350-B436-426F-A1E7-311C2E3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2DA82-CAA0-4A56-BFCF-BBF5BC6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141A2-3FC7-467E-B38B-BCB192E7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DDF8-6A8A-4946-98E8-F41B838C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21C-2FA3-4AAC-8BC9-69B87E0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58314-C941-44F9-9EF2-83F1D025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EA78B-72F4-43B7-908A-F73715E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5EF0D-A5ED-4AFD-9ECD-C70AC51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FF9D-FE79-44B3-B036-6A905BFE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BFAEC-9FF5-470A-B05F-ECF18753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8FB3A-1C87-4B01-A05B-C94D142B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C719D-A02B-40FD-B188-D42F03BC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C90A6-5F30-4C1D-BAA4-AA723461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CF2E-495A-4655-AEA3-08CAD27E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BE19A-B7F5-4CDB-8A3D-2D36ADC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EC7-296F-45B6-98D5-885B674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2FEC-610A-4482-85EC-C1741299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AB04-5BB3-44D8-8A68-2561F8CB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AE2DD-0659-4DAF-AE27-4A5A62A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7F9D0-A9EB-4962-AD28-F3D9E13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323C-6A35-42EA-A4D7-052A3DC8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FD41-25C5-4B49-BCA4-1FBE73B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A42F2-0FFF-4554-95A7-C9BBBD30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DA1E-E51A-480F-8982-076CDFCC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BE261-6A36-4B9B-A230-27ADE15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3CF3F-CDC1-44CA-BBE8-C52336ED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9857-35D6-491A-96C5-DA7B88F31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6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7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327C-2049-4A8F-8AAD-6E5FDB038F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3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4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0B10-6439-43FF-A13F-100CE34FE4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0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1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3521-E167-41CF-9127-5EC8BFFA8B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58BA-62E4-460C-B58B-D2B931FE7D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4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4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D44A-8399-4D57-8170-4CECCFEF24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A6B2-852F-43B0-B924-321A703AFF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00B9-0218-4DCB-A5DF-4F450FA331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C79-C79D-4AE9-82CC-D19BEF001F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6B3B-2D4E-4A6D-A2CD-50CB5C8895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8187-2135-4213-A0B6-4B29B0D7F7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7B2-4AC6-4B70-8CDF-983C5F893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23FA-F999-41D9-BB47-7EF89FF08C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026-FD11-4536-9A85-0EF9C4F9AD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867-C0C5-4BAF-AC04-02BF65B3A2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401-D1BD-485B-AD56-D13CF81235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24C-28E8-48D1-BE0E-F78BF00993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508F-9833-43A2-B98F-A27C9AEB0E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86E5-17C7-4280-900F-B02122A3A6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800" spc="-1" strike="noStrike">
                <a:solidFill>
                  <a:srgbClr val="262626"/>
                </a:solidFill>
                <a:latin typeface="Century Gothic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5 класс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Учитель:  Тембрел В.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entury Gothic"/>
              </a:rPr>
              <a:t>Привести дроби</a:t>
            </a:r>
            <a:r>
              <a:rPr b="1" lang="ru-RU" sz="36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46166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4800"/>
                </a:solidFill>
                <a:latin typeface="Century Gothic"/>
              </a:rPr>
              <a:t>к знаменателю 16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Object 4"/>
              <p:cNvSpPr txBox="1"/>
              <p:nvPr/>
            </p:nvSpPr>
            <p:spPr>
              <a:xfrm>
                <a:off x="1371600" y="1447920"/>
                <a:ext cx="63036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Object 5"/>
              <p:cNvSpPr txBox="1"/>
              <p:nvPr/>
            </p:nvSpPr>
            <p:spPr>
              <a:xfrm>
                <a:off x="2362320" y="1447920"/>
                <a:ext cx="588960" cy="16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5" name="Номер слайда 7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F24-25EC-4812-B4AD-C402259454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6"/>
          <p:cNvSpPr/>
          <p:nvPr/>
        </p:nvSpPr>
        <p:spPr>
          <a:xfrm>
            <a:off x="1905120" y="198108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Object 7"/>
              <p:cNvSpPr txBox="1"/>
              <p:nvPr/>
            </p:nvSpPr>
            <p:spPr>
              <a:xfrm>
                <a:off x="1552680" y="3357720"/>
                <a:ext cx="63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8" name="Line 8"/>
          <p:cNvSpPr/>
          <p:nvPr/>
        </p:nvSpPr>
        <p:spPr>
          <a:xfrm>
            <a:off x="1781280" y="3357720"/>
            <a:ext cx="342720" cy="23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9"/>
          <p:cNvSpPr/>
          <p:nvPr/>
        </p:nvSpPr>
        <p:spPr>
          <a:xfrm>
            <a:off x="1933560" y="3205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0"/>
          <p:cNvSpPr/>
          <p:nvPr/>
        </p:nvSpPr>
        <p:spPr>
          <a:xfrm>
            <a:off x="2085840" y="3738600"/>
            <a:ext cx="77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Object 11"/>
              <p:cNvSpPr txBox="1"/>
              <p:nvPr/>
            </p:nvSpPr>
            <p:spPr>
              <a:xfrm>
                <a:off x="2771640" y="3357720"/>
                <a:ext cx="865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ct 12"/>
              <p:cNvSpPr txBox="1"/>
              <p:nvPr/>
            </p:nvSpPr>
            <p:spPr>
              <a:xfrm>
                <a:off x="4829040" y="3433680"/>
                <a:ext cx="58896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3" name="Line 13"/>
          <p:cNvSpPr/>
          <p:nvPr/>
        </p:nvSpPr>
        <p:spPr>
          <a:xfrm>
            <a:off x="5133960" y="3433680"/>
            <a:ext cx="2570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14"/>
          <p:cNvSpPr/>
          <p:nvPr/>
        </p:nvSpPr>
        <p:spPr>
          <a:xfrm>
            <a:off x="5210280" y="32050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5"/>
          <p:cNvSpPr/>
          <p:nvPr/>
        </p:nvSpPr>
        <p:spPr>
          <a:xfrm>
            <a:off x="5362560" y="3738600"/>
            <a:ext cx="77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Object 16"/>
              <p:cNvSpPr txBox="1"/>
              <p:nvPr/>
            </p:nvSpPr>
            <p:spPr>
              <a:xfrm>
                <a:off x="6048360" y="3357720"/>
                <a:ext cx="8650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Учебник: страница 62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№ </a:t>
            </a:r>
            <a:r>
              <a:rPr b="1" lang="ru-RU" sz="5400" spc="-1" strike="noStrike" u="sng">
                <a:solidFill>
                  <a:srgbClr val="404040"/>
                </a:solidFill>
                <a:uFillTx/>
                <a:latin typeface="Century Gothic"/>
              </a:rPr>
              <a:t>364</a:t>
            </a:r>
            <a:r>
              <a:rPr b="1" lang="ru-RU" sz="5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F0E0-7873-4197-A6C1-81BE6EFEFE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817-64C3-48A5-B210-CBCFB6352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814560" y="1773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Picture 4" descr="14_80159"/>
          <p:cNvPicPr/>
          <p:nvPr/>
        </p:nvPicPr>
        <p:blipFill>
          <a:blip r:embed="rId2"/>
          <a:stretch/>
        </p:blipFill>
        <p:spPr>
          <a:xfrm>
            <a:off x="4716360" y="5373720"/>
            <a:ext cx="938160" cy="93024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5" descr="81058_1786"/>
          <p:cNvPicPr/>
          <p:nvPr/>
        </p:nvPicPr>
        <p:blipFill>
          <a:blip r:embed="rId3"/>
          <a:stretch/>
        </p:blipFill>
        <p:spPr>
          <a:xfrm>
            <a:off x="4572000" y="2997360"/>
            <a:ext cx="3024360" cy="21556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6" descr="RTEmagicC_Matematika_04"/>
          <p:cNvPicPr/>
          <p:nvPr/>
        </p:nvPicPr>
        <p:blipFill>
          <a:blip r:embed="rId4"/>
          <a:stretch/>
        </p:blipFill>
        <p:spPr>
          <a:xfrm>
            <a:off x="5435640" y="476280"/>
            <a:ext cx="1873080" cy="161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2017-222A-470B-A71F-DD5308E0B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А можем ли мы?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3708000" y="2349360"/>
            <a:ext cx="53276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знаменателю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Object 4"/>
              <p:cNvSpPr txBox="1"/>
              <p:nvPr/>
            </p:nvSpPr>
            <p:spPr>
              <a:xfrm>
                <a:off x="858960" y="1628640"/>
                <a:ext cx="8557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Object 5"/>
              <p:cNvSpPr txBox="1"/>
              <p:nvPr/>
            </p:nvSpPr>
            <p:spPr>
              <a:xfrm>
                <a:off x="2666880" y="1600200"/>
                <a:ext cx="8827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9" name="Text Box 6"/>
          <p:cNvSpPr/>
          <p:nvPr/>
        </p:nvSpPr>
        <p:spPr>
          <a:xfrm>
            <a:off x="1905120" y="2514600"/>
            <a:ext cx="6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Прямоугольник 98"/>
          <p:cNvSpPr/>
          <p:nvPr/>
        </p:nvSpPr>
        <p:spPr>
          <a:xfrm>
            <a:off x="533520" y="419112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и можно приводить только к тем знаменателям, которые </a:t>
            </a:r>
            <a:r>
              <a:rPr b="1" lang="ru-RU" sz="4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кратн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ны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1" name="Object 2"/>
              <p:cNvSpPr txBox="1"/>
              <p:nvPr/>
            </p:nvSpPr>
            <p:spPr>
              <a:xfrm>
                <a:off x="1908000" y="907920"/>
                <a:ext cx="1659240" cy="428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Object 3"/>
              <p:cNvSpPr txBox="1"/>
              <p:nvPr/>
            </p:nvSpPr>
            <p:spPr>
              <a:xfrm>
                <a:off x="4956120" y="831960"/>
                <a:ext cx="1720800" cy="44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3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C8FA-4055-47C0-8E10-167DBD5071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3508200" y="258444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5"/>
          <p:cNvSpPr/>
          <p:nvPr/>
        </p:nvSpPr>
        <p:spPr>
          <a:xfrm>
            <a:off x="2746440" y="984240"/>
            <a:ext cx="9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6"/>
          <p:cNvSpPr/>
          <p:nvPr/>
        </p:nvSpPr>
        <p:spPr>
          <a:xfrm>
            <a:off x="5641920" y="907920"/>
            <a:ext cx="9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7"/>
          <p:cNvSpPr/>
          <p:nvPr/>
        </p:nvSpPr>
        <p:spPr>
          <a:xfrm>
            <a:off x="3051000" y="679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8"/>
          <p:cNvSpPr/>
          <p:nvPr/>
        </p:nvSpPr>
        <p:spPr>
          <a:xfrm>
            <a:off x="6099120" y="679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0"/>
          <p:cNvSpPr/>
          <p:nvPr/>
        </p:nvSpPr>
        <p:spPr>
          <a:xfrm>
            <a:off x="971640" y="5157720"/>
            <a:ext cx="6697440" cy="1008360"/>
          </a:xfrm>
          <a:prstGeom prst="rect">
            <a:avLst/>
          </a:prstGeom>
          <a:solidFill>
            <a:srgbClr val="fb931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</a:rPr>
              <a:t>7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и 9 кратны 6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0" name="Object 2"/>
              <p:cNvSpPr txBox="1"/>
              <p:nvPr/>
            </p:nvSpPr>
            <p:spPr>
              <a:xfrm>
                <a:off x="1676520" y="1219320"/>
                <a:ext cx="2087280" cy="38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Object 3"/>
              <p:cNvSpPr txBox="1"/>
              <p:nvPr/>
            </p:nvSpPr>
            <p:spPr>
              <a:xfrm>
                <a:off x="4952880" y="1219320"/>
                <a:ext cx="2089440" cy="38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2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902-18B2-43C1-9F29-A24F28B988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"/>
          <p:cNvSpPr/>
          <p:nvPr/>
        </p:nvSpPr>
        <p:spPr>
          <a:xfrm>
            <a:off x="3505320" y="27432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CCC4-CACA-4C94-942D-4E423DD003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Box 1"/>
          <p:cNvSpPr/>
          <p:nvPr/>
        </p:nvSpPr>
        <p:spPr>
          <a:xfrm>
            <a:off x="3203640" y="162864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Box 2"/>
          <p:cNvSpPr/>
          <p:nvPr/>
        </p:nvSpPr>
        <p:spPr>
          <a:xfrm>
            <a:off x="305928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Прямая соединительная линия 3"/>
          <p:cNvSpPr/>
          <p:nvPr/>
        </p:nvSpPr>
        <p:spPr>
          <a:xfrm>
            <a:off x="3182760" y="2276640"/>
            <a:ext cx="525600" cy="936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Box 4"/>
          <p:cNvSpPr/>
          <p:nvPr/>
        </p:nvSpPr>
        <p:spPr>
          <a:xfrm>
            <a:off x="4859280" y="1628640"/>
            <a:ext cx="56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Box 5"/>
          <p:cNvSpPr/>
          <p:nvPr/>
        </p:nvSpPr>
        <p:spPr>
          <a:xfrm>
            <a:off x="4716360" y="2205000"/>
            <a:ext cx="8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Прямая соединительная линия 6"/>
          <p:cNvSpPr/>
          <p:nvPr/>
        </p:nvSpPr>
        <p:spPr>
          <a:xfrm>
            <a:off x="4788000" y="2276640"/>
            <a:ext cx="57600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Box 7"/>
          <p:cNvSpPr/>
          <p:nvPr/>
        </p:nvSpPr>
        <p:spPr>
          <a:xfrm>
            <a:off x="3995640" y="1916280"/>
            <a:ext cx="51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Box 8"/>
          <p:cNvSpPr/>
          <p:nvPr/>
        </p:nvSpPr>
        <p:spPr>
          <a:xfrm>
            <a:off x="2898720" y="5382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елится на </a:t>
            </a: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Скругленный прямоугольник 9"/>
          <p:cNvSpPr/>
          <p:nvPr/>
        </p:nvSpPr>
        <p:spPr>
          <a:xfrm>
            <a:off x="2916360" y="538200"/>
            <a:ext cx="3384360" cy="863640"/>
          </a:xfrm>
          <a:prstGeom prst="roundRect">
            <a:avLst>
              <a:gd name="adj" fmla="val 16667"/>
            </a:avLst>
          </a:prstGeom>
          <a:noFill/>
          <a:ln cap="rnd" w="38160">
            <a:solidFill>
              <a:srgbClr val="c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TextBox 10" descr=""/>
          <p:cNvPicPr/>
          <p:nvPr/>
        </p:nvPicPr>
        <p:blipFill>
          <a:blip r:embed="rId1"/>
          <a:stretch/>
        </p:blipFill>
        <p:spPr>
          <a:xfrm>
            <a:off x="2554200" y="438120"/>
            <a:ext cx="506520" cy="1109520"/>
          </a:xfrm>
          <a:prstGeom prst="rect">
            <a:avLst/>
          </a:prstGeom>
          <a:ln w="0">
            <a:noFill/>
          </a:ln>
        </p:spPr>
      </p:pic>
      <p:sp>
        <p:nvSpPr>
          <p:cNvPr id="1345" name="TextBox 12"/>
          <p:cNvSpPr/>
          <p:nvPr/>
        </p:nvSpPr>
        <p:spPr>
          <a:xfrm>
            <a:off x="5979960" y="3884760"/>
            <a:ext cx="6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5835600" y="4427640"/>
            <a:ext cx="6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Прямая соединительная линия 14"/>
          <p:cNvSpPr/>
          <p:nvPr/>
        </p:nvSpPr>
        <p:spPr>
          <a:xfrm>
            <a:off x="5943600" y="4419720"/>
            <a:ext cx="46188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Box 15"/>
          <p:cNvSpPr/>
          <p:nvPr/>
        </p:nvSpPr>
        <p:spPr>
          <a:xfrm>
            <a:off x="2987640" y="5652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1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Прямая соединительная линия 16"/>
          <p:cNvSpPr/>
          <p:nvPr/>
        </p:nvSpPr>
        <p:spPr>
          <a:xfrm flipV="1">
            <a:off x="1447920" y="3886200"/>
            <a:ext cx="360360" cy="28728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Box 17"/>
          <p:cNvSpPr/>
          <p:nvPr/>
        </p:nvSpPr>
        <p:spPr>
          <a:xfrm>
            <a:off x="5076720" y="6238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Box 18"/>
          <p:cNvSpPr/>
          <p:nvPr/>
        </p:nvSpPr>
        <p:spPr>
          <a:xfrm>
            <a:off x="1560600" y="390996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Box 19"/>
          <p:cNvSpPr/>
          <p:nvPr/>
        </p:nvSpPr>
        <p:spPr>
          <a:xfrm>
            <a:off x="1476360" y="4471920"/>
            <a:ext cx="7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Прямая соединительная линия 20"/>
          <p:cNvSpPr/>
          <p:nvPr/>
        </p:nvSpPr>
        <p:spPr>
          <a:xfrm>
            <a:off x="1523880" y="4495680"/>
            <a:ext cx="46044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Box 21"/>
          <p:cNvSpPr/>
          <p:nvPr/>
        </p:nvSpPr>
        <p:spPr>
          <a:xfrm>
            <a:off x="2124000" y="41324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Box 22"/>
          <p:cNvSpPr/>
          <p:nvPr/>
        </p:nvSpPr>
        <p:spPr>
          <a:xfrm>
            <a:off x="2625840" y="389736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Box 23"/>
          <p:cNvSpPr/>
          <p:nvPr/>
        </p:nvSpPr>
        <p:spPr>
          <a:xfrm>
            <a:off x="2608200" y="445932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Прямая соединительная линия 24"/>
          <p:cNvSpPr/>
          <p:nvPr/>
        </p:nvSpPr>
        <p:spPr>
          <a:xfrm>
            <a:off x="2666880" y="4419720"/>
            <a:ext cx="460440" cy="0"/>
          </a:xfrm>
          <a:prstGeom prst="line">
            <a:avLst/>
          </a:prstGeom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Овал 25"/>
          <p:cNvSpPr/>
          <p:nvPr/>
        </p:nvSpPr>
        <p:spPr>
          <a:xfrm>
            <a:off x="4140360" y="3922560"/>
            <a:ext cx="792000" cy="960480"/>
          </a:xfrm>
          <a:prstGeom prst="ellipse">
            <a:avLst/>
          </a:prstGeom>
          <a:noFill/>
          <a:ln cap="rnd" w="15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Box 26"/>
          <p:cNvSpPr/>
          <p:nvPr/>
        </p:nvSpPr>
        <p:spPr>
          <a:xfrm>
            <a:off x="4200480" y="400860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alibri"/>
                <a:ea typeface="Times New Roman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Прямая со стрелкой 28"/>
          <p:cNvCxnSpPr>
            <a:stCxn id="1339" idx="2"/>
          </p:cNvCxnSpPr>
          <p:nvPr/>
        </p:nvCxnSpPr>
        <p:spPr>
          <a:xfrm>
            <a:off x="5140080" y="2966760"/>
            <a:ext cx="897480" cy="88956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61" name="Скругленная прямоугольная выноска 38"/>
          <p:cNvSpPr/>
          <p:nvPr/>
        </p:nvSpPr>
        <p:spPr>
          <a:xfrm rot="5400000">
            <a:off x="5536440" y="4078800"/>
            <a:ext cx="1247760" cy="935280"/>
          </a:xfrm>
          <a:prstGeom prst="wedgeRoundRectCallout">
            <a:avLst>
              <a:gd name="adj1" fmla="val -15745"/>
              <a:gd name="adj2" fmla="val 121513"/>
              <a:gd name="adj3" fmla="val 16667"/>
            </a:avLst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Скругленная прямоугольная выноска 39"/>
          <p:cNvSpPr/>
          <p:nvPr/>
        </p:nvSpPr>
        <p:spPr>
          <a:xfrm flipH="1" rot="16200000">
            <a:off x="2368440" y="4078080"/>
            <a:ext cx="1247760" cy="936720"/>
          </a:xfrm>
          <a:prstGeom prst="wedgeRoundRectCallout">
            <a:avLst>
              <a:gd name="adj1" fmla="val -16763"/>
              <a:gd name="adj2" fmla="val 111337"/>
              <a:gd name="adj3" fmla="val 16667"/>
            </a:avLst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6972E-006 L -0.39983 0.40759 E">
                                      <p:cBhvr>
                                        <p:cTn id="217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5D7-BE35-4326-B1ED-FA25B7B4A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Прямоугольник 9"/>
          <p:cNvSpPr/>
          <p:nvPr/>
        </p:nvSpPr>
        <p:spPr>
          <a:xfrm>
            <a:off x="179280" y="549360"/>
            <a:ext cx="878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две дроби можно привести к одному и тому же знаменателю, или, иначе, к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му знаменателю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Прямоугольник 10"/>
          <p:cNvSpPr/>
          <p:nvPr/>
        </p:nvSpPr>
        <p:spPr>
          <a:xfrm>
            <a:off x="304920" y="3733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дроби приводят к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именьшему общему знаменател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entury Gothic"/>
              </a:rPr>
              <a:t>Домашнее задание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468360" y="2708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п. 35 (учить),  № 5.387, 5.388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8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F16-1E7C-4EAC-9A5F-D92237482B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Объект 2" descr=""/>
          <p:cNvPicPr/>
          <p:nvPr/>
        </p:nvPicPr>
        <p:blipFill>
          <a:blip r:embed="rId1"/>
          <a:stretch/>
        </p:blipFill>
        <p:spPr>
          <a:xfrm>
            <a:off x="353880" y="324000"/>
            <a:ext cx="2273400" cy="5716440"/>
          </a:xfrm>
          <a:prstGeom prst="rect">
            <a:avLst/>
          </a:prstGeom>
          <a:ln w="0">
            <a:noFill/>
          </a:ln>
        </p:spPr>
      </p:pic>
      <p:sp>
        <p:nvSpPr>
          <p:cNvPr id="126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E6FB-1A40-4AD5-97F7-C8C70F47CEBE}" type="slidenum"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Объект 2" descr=""/>
          <p:cNvPicPr/>
          <p:nvPr/>
        </p:nvPicPr>
        <p:blipFill>
          <a:blip r:embed="rId2"/>
          <a:stretch/>
        </p:blipFill>
        <p:spPr>
          <a:xfrm>
            <a:off x="2090880" y="285840"/>
            <a:ext cx="1371600" cy="5713200"/>
          </a:xfrm>
          <a:prstGeom prst="rect">
            <a:avLst/>
          </a:prstGeom>
          <a:ln w="0">
            <a:noFill/>
          </a:ln>
        </p:spPr>
      </p:pic>
      <p:pic>
        <p:nvPicPr>
          <p:cNvPr id="1263" name="Объект 2" descr=""/>
          <p:cNvPicPr/>
          <p:nvPr/>
        </p:nvPicPr>
        <p:blipFill>
          <a:blip r:embed="rId3"/>
          <a:stretch/>
        </p:blipFill>
        <p:spPr>
          <a:xfrm>
            <a:off x="4784760" y="133200"/>
            <a:ext cx="2244600" cy="5713560"/>
          </a:xfrm>
          <a:prstGeom prst="rect">
            <a:avLst/>
          </a:prstGeom>
          <a:ln w="0">
            <a:noFill/>
          </a:ln>
        </p:spPr>
      </p:pic>
      <p:pic>
        <p:nvPicPr>
          <p:cNvPr id="1264" name="Объект 2" descr=""/>
          <p:cNvPicPr/>
          <p:nvPr/>
        </p:nvPicPr>
        <p:blipFill>
          <a:blip r:embed="rId4"/>
          <a:stretch/>
        </p:blipFill>
        <p:spPr>
          <a:xfrm>
            <a:off x="7321680" y="115920"/>
            <a:ext cx="13777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Объект 2" descr=""/>
          <p:cNvPicPr/>
          <p:nvPr/>
        </p:nvPicPr>
        <p:blipFill>
          <a:blip r:embed="rId1"/>
          <a:stretch/>
        </p:blipFill>
        <p:spPr>
          <a:xfrm>
            <a:off x="2438280" y="536400"/>
            <a:ext cx="2346480" cy="4535640"/>
          </a:xfrm>
          <a:prstGeom prst="rect">
            <a:avLst/>
          </a:prstGeom>
          <a:ln w="0">
            <a:noFill/>
          </a:ln>
        </p:spPr>
      </p:pic>
      <p:pic>
        <p:nvPicPr>
          <p:cNvPr id="1266" name="Объект 6" descr=""/>
          <p:cNvPicPr/>
          <p:nvPr/>
        </p:nvPicPr>
        <p:blipFill>
          <a:blip r:embed="rId2"/>
          <a:stretch/>
        </p:blipFill>
        <p:spPr>
          <a:xfrm>
            <a:off x="4280040" y="536400"/>
            <a:ext cx="974520" cy="5803920"/>
          </a:xfrm>
          <a:prstGeom prst="rect">
            <a:avLst/>
          </a:prstGeom>
          <a:ln w="0">
            <a:noFill/>
          </a:ln>
        </p:spPr>
      </p:pic>
      <p:sp>
        <p:nvSpPr>
          <p:cNvPr id="1267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CCF8-A193-4236-BFB1-02EE68BA449A}" type="slidenum"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Расположить в порядке возрастания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Object 9"/>
              <p:cNvSpPr txBox="1"/>
              <p:nvPr/>
            </p:nvSpPr>
            <p:spPr>
              <a:xfrm>
                <a:off x="3943440" y="1989000"/>
                <a:ext cx="1689120" cy="32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Object 10"/>
              <p:cNvSpPr txBox="1"/>
              <p:nvPr/>
            </p:nvSpPr>
            <p:spPr>
              <a:xfrm>
                <a:off x="6591240" y="24969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Object 11"/>
              <p:cNvSpPr txBox="1"/>
              <p:nvPr/>
            </p:nvSpPr>
            <p:spPr>
              <a:xfrm>
                <a:off x="1476360" y="2205000"/>
                <a:ext cx="1957320" cy="28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2" name="Номер слайда 7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8141-D873-47FB-A089-C858B081DD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3" name="Object 2"/>
              <p:cNvSpPr txBox="1"/>
              <p:nvPr/>
            </p:nvSpPr>
            <p:spPr>
              <a:xfrm>
                <a:off x="1905120" y="1066680"/>
                <a:ext cx="1658880" cy="428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4952880" y="990720"/>
                <a:ext cx="1720800" cy="44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5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A010-3478-489D-946B-71F091E8C8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3505320" y="27432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C90F-0B79-4EE1-B91D-55E522A899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WordArt 2"/>
          <p:cNvSpPr txBox="1"/>
          <p:nvPr/>
        </p:nvSpPr>
        <p:spPr>
          <a:xfrm>
            <a:off x="324000" y="1219320"/>
            <a:ext cx="8351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232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ведение дробей к </a:t>
            </a:r>
            <a:endParaRPr b="0" lang="en-US" sz="4800" spc="1" strike="noStrike">
              <a:ln w="2232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232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му знаменателю</a:t>
            </a:r>
            <a:endParaRPr b="0" lang="en-US" sz="4800" spc="1" strike="noStrike">
              <a:ln w="2232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262626"/>
                </a:solidFill>
                <a:latin typeface="Century Gothic"/>
              </a:rPr>
              <a:t>Цель урока: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68360" y="198900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100" spc="-1" strike="noStrike">
                <a:solidFill>
                  <a:srgbClr val="404040"/>
                </a:solidFill>
                <a:latin typeface="Century Gothic"/>
              </a:rPr>
              <a:t>научиться простым методам приведения дробей к общему знаменателю. </a:t>
            </a:r>
            <a:endParaRPr b="0" lang="en-US" sz="4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D277-58C2-483A-89E2-D816A876E6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Объект 5" descr=""/>
          <p:cNvPicPr/>
          <p:nvPr/>
        </p:nvPicPr>
        <p:blipFill>
          <a:blip r:embed="rId1"/>
          <a:stretch/>
        </p:blipFill>
        <p:spPr>
          <a:xfrm>
            <a:off x="414360" y="841320"/>
            <a:ext cx="628560" cy="944640"/>
          </a:xfrm>
          <a:prstGeom prst="rect">
            <a:avLst/>
          </a:prstGeom>
          <a:ln w="0">
            <a:noFill/>
          </a:ln>
        </p:spPr>
      </p:pic>
      <p:pic>
        <p:nvPicPr>
          <p:cNvPr id="1283" name="Объект 6" descr=""/>
          <p:cNvPicPr/>
          <p:nvPr/>
        </p:nvPicPr>
        <p:blipFill>
          <a:blip r:embed="rId2"/>
          <a:stretch/>
        </p:blipFill>
        <p:spPr>
          <a:xfrm>
            <a:off x="858960" y="865080"/>
            <a:ext cx="7499160" cy="1347840"/>
          </a:xfrm>
          <a:prstGeom prst="rect">
            <a:avLst/>
          </a:prstGeom>
          <a:ln w="0">
            <a:noFill/>
          </a:ln>
        </p:spPr>
      </p:pic>
      <p:sp>
        <p:nvSpPr>
          <p:cNvPr id="1284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DE70-6068-4BEC-9142-F356A1179AB4}" type="slidenum"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Объект 6" descr=""/>
          <p:cNvPicPr/>
          <p:nvPr/>
        </p:nvPicPr>
        <p:blipFill>
          <a:blip r:embed="rId3"/>
          <a:stretch/>
        </p:blipFill>
        <p:spPr>
          <a:xfrm>
            <a:off x="3419640" y="1316160"/>
            <a:ext cx="5333760" cy="725400"/>
          </a:xfrm>
          <a:prstGeom prst="rect">
            <a:avLst/>
          </a:prstGeom>
          <a:ln w="0">
            <a:noFill/>
          </a:ln>
        </p:spPr>
      </p:pic>
      <p:pic>
        <p:nvPicPr>
          <p:cNvPr id="1286" name="Объект 6" descr=""/>
          <p:cNvPicPr/>
          <p:nvPr/>
        </p:nvPicPr>
        <p:blipFill>
          <a:blip r:embed="rId4"/>
          <a:stretch/>
        </p:blipFill>
        <p:spPr>
          <a:xfrm>
            <a:off x="3060720" y="2346480"/>
            <a:ext cx="244944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7" name="Object 2"/>
              <p:cNvSpPr txBox="1"/>
              <p:nvPr/>
            </p:nvSpPr>
            <p:spPr>
              <a:xfrm>
                <a:off x="1905120" y="1066680"/>
                <a:ext cx="1658880" cy="428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Object 3"/>
              <p:cNvSpPr txBox="1"/>
              <p:nvPr/>
            </p:nvSpPr>
            <p:spPr>
              <a:xfrm>
                <a:off x="4952880" y="990720"/>
                <a:ext cx="1720800" cy="44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9" name="Номер слайда 6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2A4E-6BDC-4D8A-B89F-164EBC6019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3505320" y="27432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читель</cp:lastModifiedBy>
  <dcterms:modified xsi:type="dcterms:W3CDTF">2023-02-17T05:17:28Z</dcterms:modified>
  <cp:revision>105</cp:revision>
  <dc:subject/>
  <dc:title>Слайд 1</dc:title>
</cp:coreProperties>
</file>