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1ECA-0971-4457-A17B-4290E4B9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B5C-09A4-4C5A-9A61-26A7C61B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FB162-9A26-43E5-A4A4-254CD6A1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4953F-F651-4D04-A622-36565FE0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360CB-4AA0-4DB6-B662-7BC756CC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0F4DB-253D-47DC-BB9A-DF785B0F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97D11-9F0C-43E8-A202-813FDCDD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DA63C-2130-4577-BF52-563840CD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B4E5B-F789-4CC1-BF94-F098663E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C9B98-E87D-44CC-B555-C12A085D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16F80-D93D-4FF7-8002-AE036EDD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E758A-4E53-41B2-94A0-B53067AA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FCF-7B02-4FA3-9B2C-ADBB90FE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E5C4C-0ECC-4CD5-AFAE-538AAF29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91D62-989B-4A20-85E6-A55B4478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2FAAB-4931-4253-9EF1-2DB7DEA3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92DD9-3046-4348-BB9B-0E9C5EC1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79969-7AC2-4E59-ACD1-9300E753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33BF8-3C5B-4BF6-B1C9-AE28A415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8B38E-C01F-4EE3-9A6B-5BE3F131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51A48-C2C5-4255-A348-EBF5A4BA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4FA90-4B9E-48EC-BE82-2E19CED9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BB99D-8734-45D9-9469-116BD15F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039A-588C-48D4-87D8-52CE407E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4C7A4-6893-449C-9C27-3576DB58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0F730-EBB1-4E02-8909-BEAA1DBF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48EFF-7D8F-430F-B6E1-FE386C8D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F2423-F623-40EB-86DA-2F9D5EAB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9DE84-D982-40A2-A9F5-AA2A5A4D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3549E-686B-4D2F-BF73-21E624DB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0B1B1-B5F8-4559-BFFD-817D7E77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73510-841F-4F1C-9D48-6FDC92B4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3C4A8-793C-4F53-9AC1-54780F32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7BF99-93FD-4820-AD4F-F37C7EE6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D1C5-2242-4763-9D74-B18891BE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FD2C5-40FB-48F9-A5DE-90E6B2BA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8D178-515B-42CF-9E83-F6088780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BFA17-8372-4850-BB08-EC5ADAD3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BCDFA-7475-457D-AFED-552BE547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8E828-07DC-47DC-9FE6-FD77FAFD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43D0B-02C2-4099-A652-4D45D6AB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56A71-A20F-4A9A-9E73-6F8EB499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FB83C-375B-4E77-A5B0-5876558D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F7D6A-5A84-4C08-AC05-7088E9F6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7F302-A2FC-41E1-8807-2F0B7FB6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769C-9522-4282-8227-E089D38F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4B347-3238-4251-9F76-D2AFDCF3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BF4C9-8192-40B2-BF96-E3F4A209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CA80B-C47A-4B9B-8E75-BF4EEF60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60F95-B3A7-4081-93ED-D987521B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860BA-EFB6-43F2-8A4A-D2F01E55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11D78-B3BE-496B-946B-8FA4A944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79F00F-3146-46E0-B972-2A21CE91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49751-63EB-4655-B574-C700B400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52664-C237-4EAA-9456-CFC96404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DE525-B39F-4B2D-AF03-8F164161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6D2B-1FB6-4CAF-8887-58B2F459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E5FF75-D0ED-45E3-B831-40E994F6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5E5AF-D8CC-4039-BCF9-AE12EEB7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8A7DC-74C2-4A8E-B528-E58966C8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1E2E8-5DC2-4E56-A497-1E70CAA1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489B8-0AC4-4AC4-80B0-37E4FB57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15CF5-A73D-474A-8D31-81DD09AE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593BCB-8797-46C0-BB31-D4464842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CF9C63-0574-4380-823D-0D47D030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EEFEB5-3A59-430F-981F-EDF09965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F9708-BAB2-4468-B8DF-362AE5CB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5258-8000-445F-A2D5-882AA536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8A882A-BB1D-428C-B6D0-DE102336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901FD-D0F7-4DF5-8AF3-BB2E03B1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CDB49B-430F-46AC-A9E6-D259E766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BB65E-F9FA-4DD1-A87B-C83365A0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6F2AD-3D24-45CB-ADED-762DC7FD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19D252-B3CB-4078-978B-FE821576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65B2C-02F4-49EA-93E6-55A25405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4797E8-4BAC-4516-A40C-650F567F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97E73-05B7-456E-8707-2F63250A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C255EC-6529-4625-AA8E-28C4D92B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FA5C-E641-411C-B332-F2C337B8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1126E8-9848-4EC2-9A83-73997E57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B5C4B9-4A3C-4F62-9408-427B2D7B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524316-93C1-43F1-BA7D-66EDB59F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67BA9-5276-4D24-B467-4610583F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FDEC3F-4A71-4B9B-ABA2-32029C9E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A26462-1E6B-4C6F-886E-B6CE8715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46074A-72DF-43CA-BBAF-17C7132D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04160D-8779-4A66-9326-ED4F96FC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2B5257-EDA1-4A07-B542-915E253A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B2E1E2-3975-494D-A6D0-AB81F57E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16D5-6660-4303-B2F3-481B9D68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F453CA-C33D-408E-B24A-F233F7B4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4B316B-D330-425E-B727-C4BF8A1B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9E5ECA-ACA3-4596-9269-9FC76391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E5CCDC-C486-45DC-8838-005DDC34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9CF65-74CA-4D7E-9397-7A1504E6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AC23AB-C753-4A2C-A275-B14E06C1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4F743A-547C-438B-9C1D-884C3CD4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899049-521B-42AF-8104-8A801DF5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5FE61A-310A-4DB3-AB77-466FFFFB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9CA79C-B224-4F09-9821-EE5AF951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4212-6AB6-4585-A6A3-B1891D04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FBAE4F-5CCC-4BB9-890F-416A08B7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3185D8-D562-4A7F-8BD1-61C5A45B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4737CA-5760-4813-970F-9F0E28A0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93F57C-2A9E-447F-AA03-3D8A9645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620198-53D6-4F53-A3BF-E5DD39DA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1D4236-A07F-4A48-A686-D02CD012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FECCFD-B836-4F69-8BB8-2F8F8FB8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144288-FE2B-48AF-91D2-F2222095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F15173-DEE6-4464-B5A6-F7330498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0D6805-C01C-45D3-BB88-39AA00AB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594F-7D7C-4E7D-B366-8FB77DD5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7D0A-06B9-4F65-A9D7-42C4FEAF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271B30-CA77-4E1E-9541-0A84064E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242B11-539D-49D6-8121-F904EE0F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D996CA-6D08-421D-A687-8F0CD0BF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24323F-DB4B-4600-BB49-E9A974E1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DA0C80-E00B-4407-96E9-EB3C18E2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399B3A-61EE-4291-9067-723E38FB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B34178-B9E2-413A-8E8F-BC9CBC68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EDB82E-0AC2-4534-AF2C-B909D99E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C22BAB-09D1-481C-9459-E819D886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CB0D1E-5451-4E9A-8EE2-2496499F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7944-05EF-4E80-9E5E-D59CBA84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17DE06-25F7-4A06-ADB6-A36ECD35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9E7E7D-16F9-4DC5-9089-5E377753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170381-F1E3-44C1-8087-03124580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9981B5-AD46-4BA0-81DF-6A76B4A2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9C69BB-9A83-4C21-AE34-72288455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52C006-12C0-4DF7-BE41-B74CBACF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AB84CB-C6EC-49BC-8424-73FEC8BB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AC74C0-52C4-4981-8FA5-3BC75F25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FE26A4-A05F-4A5D-BADF-8F55E097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36C250-8B78-4BA0-B6F7-D95ED4D1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46D2-9951-4BDF-9B09-FF1B6942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8F252D-6C2F-4DA4-94D8-18611404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7488F6-3F40-459C-B8D7-4DADBE3F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AE9427-76BC-45FF-9728-9ADA787C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1E8573-5B60-4DA9-8BAA-DF896141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442BE9-74EC-4B69-82E9-FD0C4F1B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052CEF-2ED6-4122-A270-3CB74ABF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F7F47A-90E1-4D4A-93D3-06A7A823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CFEEDF-9A79-4E2B-B555-901DFEC1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167B67-9D4D-4D2F-818A-9CF69698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CE26-393C-4DBC-9778-C0106718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217F-9F0E-43CB-8E0C-DC48DA99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E52CA-B0FD-4D5D-8ABC-2F6AAD82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FB72B-CE12-4020-B2D3-67DFF0C4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92F16-35F4-406A-A520-505489B7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A7AE8-2B33-45C3-AC37-EFC5DC1F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72346-66B2-4A1B-8C7B-F5E1F936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DA0-4A21-477E-99D8-C0A7FF3A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4C365-F141-455C-9040-873063BB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76DD4-0B26-4746-84AB-759A3B8A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F177B-5AEF-46CE-A599-5A9C2AF5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3C20B-A468-4973-8A0C-8F543D18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8996F-7BB3-4A73-BADD-9C0AE43F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B44D7-D234-4449-AA56-9A232FF7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097C5-CB74-4132-B6FD-152C892B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1E332-D5EE-4F6A-826C-277FC2FC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3E7EC-F9AB-4197-9765-C1AD48F6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3713F-BA20-47B5-8C89-B8569EC7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FACC-DFE0-4792-B558-D2B927D9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16047-B5FD-413B-9E1D-41E8BB7A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2CF28-5140-4419-9B33-E577DCAD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D46EC-5A4F-434C-B915-269F9B6D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3E5C7-95BA-452F-A0D9-A6B54DC6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6720E-2403-48AA-A60A-9B702AD5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97524-B739-4585-BA9A-3E7B49C7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A33E9-ED58-45C0-9D95-E7751324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DAD26-8223-4254-984B-27DCC9B8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57CF4-3B3E-44C4-B6F0-997D3F3F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9A9E0-6A61-4015-A8DD-46E53323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8E2-5E15-4E15-AB9D-F894F1FB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EE7F3-E693-42BA-BA9C-8CD99076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C3C37-0E21-4355-B246-1089DA32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06A47-A17B-48A3-BA10-818C35D7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618D9-85FE-4D2B-819E-66A57A6F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7BECE-C2DB-4BC6-886B-9FDEE201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1DD28-0183-468F-BE3D-B1788E5F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EB026-A68C-47B0-9B99-4A137A97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A6A8D-5584-4053-BD29-CCBAA501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8661A-02BB-43E3-A026-A9C1679F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E49A7-F8CD-47A8-ABD9-6F40B9A4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8EC-4677-40DF-8D02-D8F74789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397AD-57AD-4E8F-9CB8-649A6053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6230A-2A50-4933-A560-D13FC5F9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BAE2F-FF18-4927-8216-74AA1980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D6721-0C7F-44BB-BBFD-10FF683C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78E24-FBB9-4A35-B6C0-67FC580B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2CAD2-833D-4F87-8366-121F7C15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23076-196F-45A6-9E08-B54A826D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6BAD7-18DB-49F0-9991-DFD763A3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6B563-4766-4903-9E13-16EE295F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5C633-366B-48E4-875F-B006379E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159-EED5-4A16-A134-6C0C3369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BF8AD-B0F5-426B-9F9E-F61DA401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8BF1E-8316-465A-BDE2-9BF521B3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6F444-33CB-4C15-AF7B-BF5492F7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6BA64-EE2E-4560-B4CA-D8077E40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4B142-CA61-4373-9247-BFB9D0EE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3D2E1-0910-4B27-9F7E-90D681EB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8D25B-5DF8-4204-A3D4-D76517C0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02651-27BA-4512-862E-0C33277D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1A156-BB44-4DA6-8B51-90CBFECB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467A9-4774-4C72-A69C-2B656B87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A38-D306-49FF-ABEF-2016925E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C7FA7-D40D-4529-8092-65AFE78D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88958-8003-4E72-BABD-DAA25752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97775-0F83-4C03-BB80-6267B3E4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57414-AA1E-4EF2-A549-4A54F4D3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A5143-0170-4D92-BE09-34788DEA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BBA0D-D26A-40A9-869F-A8478AFB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05AD5-8206-40B1-A9B1-B0403691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9C760-3969-48EE-8B16-E7A53CD6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AC466-512E-4A65-8633-4DD640FA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3BF89-E47C-49E4-925D-7B9D11FE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4BF-CD68-4437-877B-81769132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FA3A4-2A35-4BBD-AF7A-5BFD1D86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8DE6F-B988-4B9F-8D2B-40A2B967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FF2E5-6E68-4B62-A780-10FE5BAE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1C65A-D8F0-4BE5-AAFC-CECA7D6E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C7DA1-2614-45D6-B735-9FA75816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14A7F-99EB-408C-8460-615295EA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A95DD-6023-4AB5-9D47-B4A8CCC2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2B351-793C-4A96-8948-4A03EEFE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CC9F3-2DB2-40BA-A9F7-61D4E6BA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2B58E-244A-4584-B948-D296F341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2DD8-AD87-49FE-9662-0503D51AC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6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7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FA12-47D4-4B97-824C-2233821D767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3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4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6550-E2B4-40FE-B3E5-A3B16178C42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0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1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6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A792-6A75-4D8E-81AC-24155496843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7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8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39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0643-8295-45E0-988D-624DF7D14A8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4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5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4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D24A-7A75-490B-A4D9-8746CFC605E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1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2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52B6-1D1A-4F9C-A169-C49D24E2E8F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8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9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 type="sldNum" idx="48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516D-4EEE-4A75-852B-A3647880B41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 type="sldNum" idx="51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1794-95FF-4C3C-8A2B-39A54ADCD0D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0210-53EA-4301-9461-ED21764586E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5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5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5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03E9-4DDF-4C69-B320-BFF7B8659EA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680A-E9D0-44A0-ACB0-C4B47E9334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0726-44E5-4479-A7C1-247ED3648E1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30A7-250A-46FC-9BFA-F64526AAF81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3D1B-E268-47FC-AF9F-26C124ED83F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8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8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FCE3-BC29-4729-8FD6-4A310DB20CD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5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7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2067-F9F9-4E1F-9AD6-25458EF4D54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2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4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8A34-7925-4AEE-BBE3-575B2E05162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4A5B-033E-41AD-BD51-EAFAEE7935D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800" spc="-1" strike="noStrike">
                <a:solidFill>
                  <a:srgbClr val="262626"/>
                </a:solidFill>
                <a:latin typeface="Century Gothic"/>
              </a:rPr>
              <a:t>Математика</a:t>
            </a:r>
            <a:br>
              <a:rPr sz="4400"/>
            </a:br>
            <a:r>
              <a:rPr b="0" lang="ru-RU" sz="4400" spc="-1" strike="noStrike">
                <a:solidFill>
                  <a:srgbClr val="262626"/>
                </a:solidFill>
                <a:latin typeface="Century Gothic"/>
              </a:rPr>
              <a:t>5 класс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entury Gothic"/>
              </a:rPr>
              <a:t>Учитель:  Тембрел В.О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entury Gothic"/>
              </a:rPr>
              <a:t>Привести дроби</a:t>
            </a:r>
            <a:r>
              <a:rPr b="1" lang="ru-RU" sz="3600" spc="-1" strike="noStrike">
                <a:solidFill>
                  <a:srgbClr val="0000cc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3124080" y="1828800"/>
            <a:ext cx="461664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004800"/>
                </a:solidFill>
                <a:latin typeface="Century Gothic"/>
              </a:rPr>
              <a:t>к знаменателю 16</a:t>
            </a: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3" name="Object 4"/>
              <p:cNvSpPr txBox="1"/>
              <p:nvPr/>
            </p:nvSpPr>
            <p:spPr>
              <a:xfrm>
                <a:off x="1371600" y="1447920"/>
                <a:ext cx="63036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Object 5"/>
              <p:cNvSpPr txBox="1"/>
              <p:nvPr/>
            </p:nvSpPr>
            <p:spPr>
              <a:xfrm>
                <a:off x="2362320" y="1447920"/>
                <a:ext cx="588960" cy="16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5" name="Номер слайда 7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5DF0-DF85-4D16-B0FE-A0E15A816E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6"/>
          <p:cNvSpPr/>
          <p:nvPr/>
        </p:nvSpPr>
        <p:spPr>
          <a:xfrm>
            <a:off x="1905120" y="1981080"/>
            <a:ext cx="6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7" name="Object 7"/>
              <p:cNvSpPr txBox="1"/>
              <p:nvPr/>
            </p:nvSpPr>
            <p:spPr>
              <a:xfrm>
                <a:off x="1552680" y="3357720"/>
                <a:ext cx="63000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8" name="Line 8"/>
          <p:cNvSpPr/>
          <p:nvPr/>
        </p:nvSpPr>
        <p:spPr>
          <a:xfrm>
            <a:off x="1781280" y="3357720"/>
            <a:ext cx="342720" cy="231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9"/>
          <p:cNvSpPr/>
          <p:nvPr/>
        </p:nvSpPr>
        <p:spPr>
          <a:xfrm>
            <a:off x="1933560" y="32050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10"/>
          <p:cNvSpPr/>
          <p:nvPr/>
        </p:nvSpPr>
        <p:spPr>
          <a:xfrm>
            <a:off x="2085840" y="3738600"/>
            <a:ext cx="77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Object 11"/>
              <p:cNvSpPr txBox="1"/>
              <p:nvPr/>
            </p:nvSpPr>
            <p:spPr>
              <a:xfrm>
                <a:off x="2771640" y="3357720"/>
                <a:ext cx="86544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Object 12"/>
              <p:cNvSpPr txBox="1"/>
              <p:nvPr/>
            </p:nvSpPr>
            <p:spPr>
              <a:xfrm>
                <a:off x="4829040" y="3433680"/>
                <a:ext cx="588960" cy="16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3" name="Line 13"/>
          <p:cNvSpPr/>
          <p:nvPr/>
        </p:nvSpPr>
        <p:spPr>
          <a:xfrm>
            <a:off x="5133960" y="3433680"/>
            <a:ext cx="2570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14"/>
          <p:cNvSpPr/>
          <p:nvPr/>
        </p:nvSpPr>
        <p:spPr>
          <a:xfrm>
            <a:off x="5210280" y="32050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15"/>
          <p:cNvSpPr/>
          <p:nvPr/>
        </p:nvSpPr>
        <p:spPr>
          <a:xfrm>
            <a:off x="5362560" y="3738600"/>
            <a:ext cx="77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6" name="Object 16"/>
              <p:cNvSpPr txBox="1"/>
              <p:nvPr/>
            </p:nvSpPr>
            <p:spPr>
              <a:xfrm>
                <a:off x="6048360" y="3357720"/>
                <a:ext cx="86508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ver dir="l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 txBox="1"/>
          <p:nvPr/>
        </p:nvSpPr>
        <p:spPr>
          <a:xfrm>
            <a:off x="457200" y="1218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 u="sng">
                <a:solidFill>
                  <a:srgbClr val="404040"/>
                </a:solidFill>
                <a:uFillTx/>
                <a:latin typeface="Century Gothic"/>
              </a:rPr>
              <a:t>Учебник: страница 62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 u="sng">
                <a:solidFill>
                  <a:srgbClr val="404040"/>
                </a:solidFill>
                <a:uFillTx/>
                <a:latin typeface="Century Gothic"/>
              </a:rPr>
              <a:t> 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 u="sng">
                <a:solidFill>
                  <a:srgbClr val="404040"/>
                </a:solidFill>
                <a:uFillTx/>
                <a:latin typeface="Century Gothic"/>
              </a:rPr>
              <a:t>№ </a:t>
            </a:r>
            <a:r>
              <a:rPr b="1" lang="ru-RU" sz="5400" spc="-1" strike="noStrike" u="sng">
                <a:solidFill>
                  <a:srgbClr val="404040"/>
                </a:solidFill>
                <a:uFillTx/>
                <a:latin typeface="Century Gothic"/>
              </a:rPr>
              <a:t>364</a:t>
            </a:r>
            <a:r>
              <a:rPr b="1" lang="ru-RU" sz="54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28D5-9FC9-472F-97E5-58A590AAB7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368B-A345-42CF-91E8-09A37FDF3D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814560" y="177300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1" name="Picture 4" descr="14_80159"/>
          <p:cNvPicPr/>
          <p:nvPr/>
        </p:nvPicPr>
        <p:blipFill>
          <a:blip r:embed="rId2"/>
          <a:stretch/>
        </p:blipFill>
        <p:spPr>
          <a:xfrm>
            <a:off x="4716360" y="5373720"/>
            <a:ext cx="938160" cy="93024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5" descr="81058_1786"/>
          <p:cNvPicPr/>
          <p:nvPr/>
        </p:nvPicPr>
        <p:blipFill>
          <a:blip r:embed="rId3"/>
          <a:stretch/>
        </p:blipFill>
        <p:spPr>
          <a:xfrm>
            <a:off x="4572000" y="2997360"/>
            <a:ext cx="3024360" cy="21556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6" descr="RTEmagicC_Matematika_04"/>
          <p:cNvPicPr/>
          <p:nvPr/>
        </p:nvPicPr>
        <p:blipFill>
          <a:blip r:embed="rId4"/>
          <a:stretch/>
        </p:blipFill>
        <p:spPr>
          <a:xfrm>
            <a:off x="5435640" y="476280"/>
            <a:ext cx="1873080" cy="1617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2B80-93B1-4E94-A2E2-30EF1D39D3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А можем ли мы?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3708000" y="2349360"/>
            <a:ext cx="532764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 знаменателю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Object 4"/>
              <p:cNvSpPr txBox="1"/>
              <p:nvPr/>
            </p:nvSpPr>
            <p:spPr>
              <a:xfrm>
                <a:off x="858960" y="1628640"/>
                <a:ext cx="855720" cy="22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Object 5"/>
              <p:cNvSpPr txBox="1"/>
              <p:nvPr/>
            </p:nvSpPr>
            <p:spPr>
              <a:xfrm>
                <a:off x="2666880" y="1600200"/>
                <a:ext cx="8827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9" name="Text Box 6"/>
          <p:cNvSpPr/>
          <p:nvPr/>
        </p:nvSpPr>
        <p:spPr>
          <a:xfrm>
            <a:off x="1905120" y="2514600"/>
            <a:ext cx="6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Прямоугольник 98"/>
          <p:cNvSpPr/>
          <p:nvPr/>
        </p:nvSpPr>
        <p:spPr>
          <a:xfrm>
            <a:off x="533520" y="419112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и можно приводить только к тем знаменателям, которые </a:t>
            </a:r>
            <a:r>
              <a:rPr b="1" lang="ru-RU" sz="40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кратны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ны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1" name="Object 2"/>
              <p:cNvSpPr txBox="1"/>
              <p:nvPr/>
            </p:nvSpPr>
            <p:spPr>
              <a:xfrm>
                <a:off x="1908000" y="907920"/>
                <a:ext cx="1659240" cy="428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Object 3"/>
              <p:cNvSpPr txBox="1"/>
              <p:nvPr/>
            </p:nvSpPr>
            <p:spPr>
              <a:xfrm>
                <a:off x="4956120" y="831960"/>
                <a:ext cx="1720800" cy="44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3" name="Номер слайда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D796-F255-4C48-AC44-50A02F0063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4"/>
          <p:cNvSpPr/>
          <p:nvPr/>
        </p:nvSpPr>
        <p:spPr>
          <a:xfrm>
            <a:off x="3508200" y="2584440"/>
            <a:ext cx="144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Line 5"/>
          <p:cNvSpPr/>
          <p:nvPr/>
        </p:nvSpPr>
        <p:spPr>
          <a:xfrm>
            <a:off x="2746440" y="984240"/>
            <a:ext cx="9144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Line 6"/>
          <p:cNvSpPr/>
          <p:nvPr/>
        </p:nvSpPr>
        <p:spPr>
          <a:xfrm>
            <a:off x="5641920" y="907920"/>
            <a:ext cx="9144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7"/>
          <p:cNvSpPr/>
          <p:nvPr/>
        </p:nvSpPr>
        <p:spPr>
          <a:xfrm>
            <a:off x="3051000" y="6793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8"/>
          <p:cNvSpPr/>
          <p:nvPr/>
        </p:nvSpPr>
        <p:spPr>
          <a:xfrm>
            <a:off x="6099120" y="6793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10"/>
          <p:cNvSpPr/>
          <p:nvPr/>
        </p:nvSpPr>
        <p:spPr>
          <a:xfrm>
            <a:off x="971640" y="5157720"/>
            <a:ext cx="6697440" cy="1008360"/>
          </a:xfrm>
          <a:prstGeom prst="rect">
            <a:avLst/>
          </a:prstGeom>
          <a:solidFill>
            <a:srgbClr val="fb931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Times New Roman"/>
              </a:rPr>
              <a:t>7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и 9 кратны 6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0" name="Object 2"/>
              <p:cNvSpPr txBox="1"/>
              <p:nvPr/>
            </p:nvSpPr>
            <p:spPr>
              <a:xfrm>
                <a:off x="1676520" y="1219320"/>
                <a:ext cx="2087280" cy="38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Object 3"/>
              <p:cNvSpPr txBox="1"/>
              <p:nvPr/>
            </p:nvSpPr>
            <p:spPr>
              <a:xfrm>
                <a:off x="4952880" y="1219320"/>
                <a:ext cx="2089440" cy="38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2" name="Номер слайда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2BDB-65CF-42FF-A8BE-E31201D0C4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4"/>
          <p:cNvSpPr/>
          <p:nvPr/>
        </p:nvSpPr>
        <p:spPr>
          <a:xfrm>
            <a:off x="3505320" y="274320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06B8-D9E3-4231-990C-2C44580713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Box 1"/>
          <p:cNvSpPr/>
          <p:nvPr/>
        </p:nvSpPr>
        <p:spPr>
          <a:xfrm>
            <a:off x="3203640" y="162864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Box 2"/>
          <p:cNvSpPr/>
          <p:nvPr/>
        </p:nvSpPr>
        <p:spPr>
          <a:xfrm>
            <a:off x="305928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Прямая соединительная линия 3"/>
          <p:cNvSpPr/>
          <p:nvPr/>
        </p:nvSpPr>
        <p:spPr>
          <a:xfrm>
            <a:off x="3182760" y="2276640"/>
            <a:ext cx="525600" cy="9360"/>
          </a:xfrm>
          <a:prstGeom prst="line">
            <a:avLst/>
          </a:prstGeom>
          <a:ln cap="rnd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Box 4"/>
          <p:cNvSpPr/>
          <p:nvPr/>
        </p:nvSpPr>
        <p:spPr>
          <a:xfrm>
            <a:off x="4859280" y="1628640"/>
            <a:ext cx="56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Box 5"/>
          <p:cNvSpPr/>
          <p:nvPr/>
        </p:nvSpPr>
        <p:spPr>
          <a:xfrm>
            <a:off x="4716360" y="2205000"/>
            <a:ext cx="84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Прямая соединительная линия 6"/>
          <p:cNvSpPr/>
          <p:nvPr/>
        </p:nvSpPr>
        <p:spPr>
          <a:xfrm>
            <a:off x="4788000" y="2276640"/>
            <a:ext cx="576000" cy="0"/>
          </a:xfrm>
          <a:prstGeom prst="line">
            <a:avLst/>
          </a:prstGeom>
          <a:ln cap="rnd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Box 7"/>
          <p:cNvSpPr/>
          <p:nvPr/>
        </p:nvSpPr>
        <p:spPr>
          <a:xfrm>
            <a:off x="3995640" y="1916280"/>
            <a:ext cx="51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Box 8"/>
          <p:cNvSpPr/>
          <p:nvPr/>
        </p:nvSpPr>
        <p:spPr>
          <a:xfrm>
            <a:off x="2898720" y="5382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48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делится на </a:t>
            </a: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Скругленный прямоугольник 9"/>
          <p:cNvSpPr/>
          <p:nvPr/>
        </p:nvSpPr>
        <p:spPr>
          <a:xfrm>
            <a:off x="2916360" y="538200"/>
            <a:ext cx="3384360" cy="863640"/>
          </a:xfrm>
          <a:prstGeom prst="roundRect">
            <a:avLst>
              <a:gd name="adj" fmla="val 16667"/>
            </a:avLst>
          </a:prstGeom>
          <a:noFill/>
          <a:ln cap="rnd" w="38160">
            <a:solidFill>
              <a:srgbClr val="c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TextBox 10" descr=""/>
          <p:cNvPicPr/>
          <p:nvPr/>
        </p:nvPicPr>
        <p:blipFill>
          <a:blip r:embed="rId1"/>
          <a:stretch/>
        </p:blipFill>
        <p:spPr>
          <a:xfrm>
            <a:off x="2554200" y="438120"/>
            <a:ext cx="506520" cy="1109520"/>
          </a:xfrm>
          <a:prstGeom prst="rect">
            <a:avLst/>
          </a:prstGeom>
          <a:ln w="0">
            <a:noFill/>
          </a:ln>
        </p:spPr>
      </p:pic>
      <p:sp>
        <p:nvSpPr>
          <p:cNvPr id="1345" name="TextBox 12"/>
          <p:cNvSpPr/>
          <p:nvPr/>
        </p:nvSpPr>
        <p:spPr>
          <a:xfrm>
            <a:off x="5979960" y="3884760"/>
            <a:ext cx="69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5835600" y="4427640"/>
            <a:ext cx="6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Прямая соединительная линия 14"/>
          <p:cNvSpPr/>
          <p:nvPr/>
        </p:nvSpPr>
        <p:spPr>
          <a:xfrm>
            <a:off x="5943600" y="4419720"/>
            <a:ext cx="461880" cy="0"/>
          </a:xfrm>
          <a:prstGeom prst="line">
            <a:avLst/>
          </a:prstGeom>
          <a:ln cap="rnd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Box 15"/>
          <p:cNvSpPr/>
          <p:nvPr/>
        </p:nvSpPr>
        <p:spPr>
          <a:xfrm>
            <a:off x="2987640" y="5652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48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: </a:t>
            </a: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12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Прямая соединительная линия 16"/>
          <p:cNvSpPr/>
          <p:nvPr/>
        </p:nvSpPr>
        <p:spPr>
          <a:xfrm flipV="1">
            <a:off x="1447920" y="3886200"/>
            <a:ext cx="360360" cy="28728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Box 17"/>
          <p:cNvSpPr/>
          <p:nvPr/>
        </p:nvSpPr>
        <p:spPr>
          <a:xfrm>
            <a:off x="5076720" y="62388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Box 18"/>
          <p:cNvSpPr/>
          <p:nvPr/>
        </p:nvSpPr>
        <p:spPr>
          <a:xfrm>
            <a:off x="1560600" y="390996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Box 19"/>
          <p:cNvSpPr/>
          <p:nvPr/>
        </p:nvSpPr>
        <p:spPr>
          <a:xfrm>
            <a:off x="1476360" y="4471920"/>
            <a:ext cx="72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Прямая соединительная линия 20"/>
          <p:cNvSpPr/>
          <p:nvPr/>
        </p:nvSpPr>
        <p:spPr>
          <a:xfrm>
            <a:off x="1523880" y="4495680"/>
            <a:ext cx="460440" cy="0"/>
          </a:xfrm>
          <a:prstGeom prst="line">
            <a:avLst/>
          </a:prstGeom>
          <a:ln cap="rnd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Box 21"/>
          <p:cNvSpPr/>
          <p:nvPr/>
        </p:nvSpPr>
        <p:spPr>
          <a:xfrm>
            <a:off x="2124000" y="41324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Box 22"/>
          <p:cNvSpPr/>
          <p:nvPr/>
        </p:nvSpPr>
        <p:spPr>
          <a:xfrm>
            <a:off x="2625840" y="3897360"/>
            <a:ext cx="6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Box 23"/>
          <p:cNvSpPr/>
          <p:nvPr/>
        </p:nvSpPr>
        <p:spPr>
          <a:xfrm>
            <a:off x="2608200" y="4459320"/>
            <a:ext cx="7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Прямая соединительная линия 24"/>
          <p:cNvSpPr/>
          <p:nvPr/>
        </p:nvSpPr>
        <p:spPr>
          <a:xfrm>
            <a:off x="2666880" y="4419720"/>
            <a:ext cx="460440" cy="0"/>
          </a:xfrm>
          <a:prstGeom prst="line">
            <a:avLst/>
          </a:prstGeom>
          <a:ln cap="rnd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Овал 25"/>
          <p:cNvSpPr/>
          <p:nvPr/>
        </p:nvSpPr>
        <p:spPr>
          <a:xfrm>
            <a:off x="4140360" y="3922560"/>
            <a:ext cx="792000" cy="960480"/>
          </a:xfrm>
          <a:prstGeom prst="ellipse">
            <a:avLst/>
          </a:prstGeom>
          <a:noFill/>
          <a:ln cap="rnd" w="15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Box 26"/>
          <p:cNvSpPr/>
          <p:nvPr/>
        </p:nvSpPr>
        <p:spPr>
          <a:xfrm>
            <a:off x="4200480" y="4008600"/>
            <a:ext cx="6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Calibri"/>
                <a:ea typeface="Times New Roman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0" name="Прямая со стрелкой 28"/>
          <p:cNvCxnSpPr>
            <a:stCxn id="1339" idx="2"/>
          </p:cNvCxnSpPr>
          <p:nvPr/>
        </p:nvCxnSpPr>
        <p:spPr>
          <a:xfrm>
            <a:off x="5140080" y="2966760"/>
            <a:ext cx="897480" cy="889560"/>
          </a:xfrm>
          <a:prstGeom prst="straightConnector1">
            <a:avLst/>
          </a:prstGeom>
          <a:ln cap="rnd"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61" name="Скругленная прямоугольная выноска 38"/>
          <p:cNvSpPr/>
          <p:nvPr/>
        </p:nvSpPr>
        <p:spPr>
          <a:xfrm rot="5400000">
            <a:off x="5536440" y="4078800"/>
            <a:ext cx="1247760" cy="935280"/>
          </a:xfrm>
          <a:prstGeom prst="wedgeRoundRectCallout">
            <a:avLst>
              <a:gd name="adj1" fmla="val -15745"/>
              <a:gd name="adj2" fmla="val 121513"/>
              <a:gd name="adj3" fmla="val 16667"/>
            </a:avLst>
          </a:prstGeom>
          <a:noFill/>
          <a:ln cap="rnd"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Скругленная прямоугольная выноска 39"/>
          <p:cNvSpPr/>
          <p:nvPr/>
        </p:nvSpPr>
        <p:spPr>
          <a:xfrm flipH="1" rot="16200000">
            <a:off x="2368440" y="4078080"/>
            <a:ext cx="1247760" cy="936720"/>
          </a:xfrm>
          <a:prstGeom prst="wedgeRoundRectCallout">
            <a:avLst>
              <a:gd name="adj1" fmla="val -16763"/>
              <a:gd name="adj2" fmla="val 111337"/>
              <a:gd name="adj3" fmla="val 16667"/>
            </a:avLst>
          </a:prstGeom>
          <a:noFill/>
          <a:ln cap="rnd"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6972E-006 L -0.39983 0.40759 E">
                                      <p:cBhvr>
                                        <p:cTn id="217" dur="2000" fill="hold"/>
                                        <p:tgtEl>
                                          <p:spTgt spid="1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1D36-CBF9-41E9-A534-454F764669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Прямоугольник 9"/>
          <p:cNvSpPr/>
          <p:nvPr/>
        </p:nvSpPr>
        <p:spPr>
          <a:xfrm>
            <a:off x="179280" y="549360"/>
            <a:ext cx="878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ые две дроби можно привести к одному и тому же знаменателю, или, иначе, к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му знаменателю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Прямоугольник 10"/>
          <p:cNvSpPr/>
          <p:nvPr/>
        </p:nvSpPr>
        <p:spPr>
          <a:xfrm>
            <a:off x="304920" y="37339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дроби приводят к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именьшему общему знаменател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Century Gothic"/>
              </a:rPr>
              <a:t>Домашнее задание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468360" y="2708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1" lang="ru-RU" sz="4000" spc="-1" strike="noStrike">
                <a:solidFill>
                  <a:srgbClr val="404040"/>
                </a:solidFill>
                <a:latin typeface="Century Gothic"/>
              </a:rPr>
              <a:t>п. 35 (учить),  № 5.387, 5.388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8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1E9D-3C10-46F1-BE93-446955C1A5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Объект 2" descr=""/>
          <p:cNvPicPr/>
          <p:nvPr/>
        </p:nvPicPr>
        <p:blipFill>
          <a:blip r:embed="rId1"/>
          <a:stretch/>
        </p:blipFill>
        <p:spPr>
          <a:xfrm>
            <a:off x="353880" y="324000"/>
            <a:ext cx="2273400" cy="5716440"/>
          </a:xfrm>
          <a:prstGeom prst="rect">
            <a:avLst/>
          </a:prstGeom>
          <a:ln w="0">
            <a:noFill/>
          </a:ln>
        </p:spPr>
      </p:pic>
      <p:sp>
        <p:nvSpPr>
          <p:cNvPr id="1261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9E56-D14E-4F39-93AE-D2A45A898B5A}" type="slidenum"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2" name="Объект 2" descr=""/>
          <p:cNvPicPr/>
          <p:nvPr/>
        </p:nvPicPr>
        <p:blipFill>
          <a:blip r:embed="rId2"/>
          <a:stretch/>
        </p:blipFill>
        <p:spPr>
          <a:xfrm>
            <a:off x="2090880" y="285840"/>
            <a:ext cx="1371600" cy="5713200"/>
          </a:xfrm>
          <a:prstGeom prst="rect">
            <a:avLst/>
          </a:prstGeom>
          <a:ln w="0">
            <a:noFill/>
          </a:ln>
        </p:spPr>
      </p:pic>
      <p:pic>
        <p:nvPicPr>
          <p:cNvPr id="1263" name="Объект 2" descr=""/>
          <p:cNvPicPr/>
          <p:nvPr/>
        </p:nvPicPr>
        <p:blipFill>
          <a:blip r:embed="rId3"/>
          <a:stretch/>
        </p:blipFill>
        <p:spPr>
          <a:xfrm>
            <a:off x="4784760" y="133200"/>
            <a:ext cx="2244600" cy="5713560"/>
          </a:xfrm>
          <a:prstGeom prst="rect">
            <a:avLst/>
          </a:prstGeom>
          <a:ln w="0">
            <a:noFill/>
          </a:ln>
        </p:spPr>
      </p:pic>
      <p:pic>
        <p:nvPicPr>
          <p:cNvPr id="1264" name="Объект 2" descr=""/>
          <p:cNvPicPr/>
          <p:nvPr/>
        </p:nvPicPr>
        <p:blipFill>
          <a:blip r:embed="rId4"/>
          <a:stretch/>
        </p:blipFill>
        <p:spPr>
          <a:xfrm>
            <a:off x="7321680" y="115920"/>
            <a:ext cx="13777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Объект 2" descr=""/>
          <p:cNvPicPr/>
          <p:nvPr/>
        </p:nvPicPr>
        <p:blipFill>
          <a:blip r:embed="rId1"/>
          <a:stretch/>
        </p:blipFill>
        <p:spPr>
          <a:xfrm>
            <a:off x="2438280" y="536400"/>
            <a:ext cx="2346480" cy="4535640"/>
          </a:xfrm>
          <a:prstGeom prst="rect">
            <a:avLst/>
          </a:prstGeom>
          <a:ln w="0">
            <a:noFill/>
          </a:ln>
        </p:spPr>
      </p:pic>
      <p:pic>
        <p:nvPicPr>
          <p:cNvPr id="1266" name="Объект 6" descr=""/>
          <p:cNvPicPr/>
          <p:nvPr/>
        </p:nvPicPr>
        <p:blipFill>
          <a:blip r:embed="rId2"/>
          <a:stretch/>
        </p:blipFill>
        <p:spPr>
          <a:xfrm>
            <a:off x="4280040" y="536400"/>
            <a:ext cx="974520" cy="5803920"/>
          </a:xfrm>
          <a:prstGeom prst="rect">
            <a:avLst/>
          </a:prstGeom>
          <a:ln w="0">
            <a:noFill/>
          </a:ln>
        </p:spPr>
      </p:pic>
      <p:sp>
        <p:nvSpPr>
          <p:cNvPr id="1267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DB77-5435-4B54-BB7D-37CDB3670D8D}" type="slidenum"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Расположить в порядке возрастания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9" name="Object 9"/>
              <p:cNvSpPr txBox="1"/>
              <p:nvPr/>
            </p:nvSpPr>
            <p:spPr>
              <a:xfrm>
                <a:off x="3943440" y="1989000"/>
                <a:ext cx="1689120" cy="327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Object 10"/>
              <p:cNvSpPr txBox="1"/>
              <p:nvPr/>
            </p:nvSpPr>
            <p:spPr>
              <a:xfrm>
                <a:off x="6591240" y="2496960"/>
                <a:ext cx="152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Object 11"/>
              <p:cNvSpPr txBox="1"/>
              <p:nvPr/>
            </p:nvSpPr>
            <p:spPr>
              <a:xfrm>
                <a:off x="1476360" y="2205000"/>
                <a:ext cx="1957320" cy="28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2" name="Номер слайда 7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4938-C34F-4B05-8B42-07408E3D6F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3" name="Object 2"/>
              <p:cNvSpPr txBox="1"/>
              <p:nvPr/>
            </p:nvSpPr>
            <p:spPr>
              <a:xfrm>
                <a:off x="1905120" y="1066680"/>
                <a:ext cx="1658880" cy="428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Object 3"/>
              <p:cNvSpPr txBox="1"/>
              <p:nvPr/>
            </p:nvSpPr>
            <p:spPr>
              <a:xfrm>
                <a:off x="4952880" y="990720"/>
                <a:ext cx="1720800" cy="44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5" name="Номер слайда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3C92-8733-4F38-A28A-88F84A8DA9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4"/>
          <p:cNvSpPr/>
          <p:nvPr/>
        </p:nvSpPr>
        <p:spPr>
          <a:xfrm>
            <a:off x="3505320" y="274320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80F9-3ED5-4FE2-9F08-D0C9C06C90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WordArt 2"/>
          <p:cNvSpPr txBox="1"/>
          <p:nvPr/>
        </p:nvSpPr>
        <p:spPr>
          <a:xfrm>
            <a:off x="324000" y="1219320"/>
            <a:ext cx="83516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232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ведение дробей к </a:t>
            </a:r>
            <a:endParaRPr b="0" lang="en-US" sz="4800" spc="1" strike="noStrike">
              <a:ln w="2232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232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му знаменателю</a:t>
            </a:r>
            <a:endParaRPr b="0" lang="en-US" sz="4800" spc="1" strike="noStrike">
              <a:ln w="2232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200" spc="-1" strike="noStrike">
                <a:solidFill>
                  <a:srgbClr val="262626"/>
                </a:solidFill>
                <a:latin typeface="Century Gothic"/>
              </a:rPr>
              <a:t>Цель урока:</a:t>
            </a:r>
            <a:endParaRPr b="0" lang="en-US" sz="7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468360" y="1989000"/>
            <a:ext cx="822960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100" spc="-1" strike="noStrike">
                <a:solidFill>
                  <a:srgbClr val="404040"/>
                </a:solidFill>
                <a:latin typeface="Century Gothic"/>
              </a:rPr>
              <a:t>научиться простым методам приведения дробей к общему знаменателю. </a:t>
            </a:r>
            <a:endParaRPr b="0" lang="en-US" sz="41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1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86B4-09AC-47F9-A7F8-2843876F10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2" name="Объект 5" descr=""/>
          <p:cNvPicPr/>
          <p:nvPr/>
        </p:nvPicPr>
        <p:blipFill>
          <a:blip r:embed="rId1"/>
          <a:stretch/>
        </p:blipFill>
        <p:spPr>
          <a:xfrm>
            <a:off x="414360" y="841320"/>
            <a:ext cx="628560" cy="944640"/>
          </a:xfrm>
          <a:prstGeom prst="rect">
            <a:avLst/>
          </a:prstGeom>
          <a:ln w="0">
            <a:noFill/>
          </a:ln>
        </p:spPr>
      </p:pic>
      <p:pic>
        <p:nvPicPr>
          <p:cNvPr id="1283" name="Объект 6" descr=""/>
          <p:cNvPicPr/>
          <p:nvPr/>
        </p:nvPicPr>
        <p:blipFill>
          <a:blip r:embed="rId2"/>
          <a:stretch/>
        </p:blipFill>
        <p:spPr>
          <a:xfrm>
            <a:off x="858960" y="865080"/>
            <a:ext cx="7499160" cy="1347840"/>
          </a:xfrm>
          <a:prstGeom prst="rect">
            <a:avLst/>
          </a:prstGeom>
          <a:ln w="0">
            <a:noFill/>
          </a:ln>
        </p:spPr>
      </p:pic>
      <p:sp>
        <p:nvSpPr>
          <p:cNvPr id="1284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6F30-E570-44F7-B678-031B1CB32C1B}" type="slidenum"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5" name="Объект 6" descr=""/>
          <p:cNvPicPr/>
          <p:nvPr/>
        </p:nvPicPr>
        <p:blipFill>
          <a:blip r:embed="rId3"/>
          <a:stretch/>
        </p:blipFill>
        <p:spPr>
          <a:xfrm>
            <a:off x="3419640" y="1316160"/>
            <a:ext cx="5333760" cy="725400"/>
          </a:xfrm>
          <a:prstGeom prst="rect">
            <a:avLst/>
          </a:prstGeom>
          <a:ln w="0">
            <a:noFill/>
          </a:ln>
        </p:spPr>
      </p:pic>
      <p:pic>
        <p:nvPicPr>
          <p:cNvPr id="1286" name="Объект 6" descr=""/>
          <p:cNvPicPr/>
          <p:nvPr/>
        </p:nvPicPr>
        <p:blipFill>
          <a:blip r:embed="rId4"/>
          <a:stretch/>
        </p:blipFill>
        <p:spPr>
          <a:xfrm>
            <a:off x="3060720" y="2346480"/>
            <a:ext cx="244944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7" name="Object 2"/>
              <p:cNvSpPr txBox="1"/>
              <p:nvPr/>
            </p:nvSpPr>
            <p:spPr>
              <a:xfrm>
                <a:off x="1905120" y="1066680"/>
                <a:ext cx="1658880" cy="428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Object 3"/>
              <p:cNvSpPr txBox="1"/>
              <p:nvPr/>
            </p:nvSpPr>
            <p:spPr>
              <a:xfrm>
                <a:off x="4952880" y="990720"/>
                <a:ext cx="1720800" cy="44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9" name="Номер слайда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F0E3-BAE3-4ECF-819C-A19BDD130D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4"/>
          <p:cNvSpPr/>
          <p:nvPr/>
        </p:nvSpPr>
        <p:spPr>
          <a:xfrm>
            <a:off x="3505320" y="274320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Учитель</cp:lastModifiedBy>
  <dcterms:modified xsi:type="dcterms:W3CDTF">2023-02-17T05:17:28Z</dcterms:modified>
  <cp:revision>105</cp:revision>
  <dc:subject/>
  <dc:title>Слайд 1</dc:title>
</cp:coreProperties>
</file>