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709-903C-4675-8CCA-8A146F3B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35F-6FBC-445B-9B64-9E30F925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814-46D7-445B-B722-EED1A2B0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A2D-70E5-410D-B7A7-5C948C43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C6B-788B-4A36-B43C-20968A84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82C-9A26-4020-9662-E2B0A6BA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EF4-0594-41A3-97F1-C5F034A8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7E6-E63E-4AC6-93A1-242BB9D2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3BC-7DCD-4CC9-ACBA-718FD053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BB7-9803-4610-B324-7E83D869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554-9A94-485C-9EA6-3902A7B7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FA4-F612-4C31-9221-5F8F1FCB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A160-550F-48B3-A053-7BF58C5A9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762120" y="9144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Мой посёлок ро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Ты навеки любим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4(231)"/>
          <p:cNvPicPr/>
          <p:nvPr/>
        </p:nvPicPr>
        <p:blipFill>
          <a:blip r:embed="rId2"/>
          <a:stretch/>
        </p:blipFill>
        <p:spPr>
          <a:xfrm>
            <a:off x="609480" y="2438280"/>
            <a:ext cx="5639040" cy="3915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" name="Rectangle 7"/>
          <p:cNvSpPr/>
          <p:nvPr/>
        </p:nvSpPr>
        <p:spPr>
          <a:xfrm>
            <a:off x="1752480" y="67816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ссказы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готов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упп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тский сад «Одува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174680" cy="1523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2" name="Rectangle 6"/>
          <p:cNvSpPr/>
          <p:nvPr/>
        </p:nvSpPr>
        <p:spPr>
          <a:xfrm>
            <a:off x="2516040" y="106668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Щёкотов Антон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33520" y="1905120"/>
            <a:ext cx="5562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России есть добрый посёлок Вахт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то моя малая Родина.  Здесь родился я, мой брат Толи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й папа и мама. У нас в посёлке есть много красивых мест: парк, там все отдыхают, и там ещё всегда проходят праздники, красивая аллея, детская и спортивная площадка, фонтан, детский сад, школа, спортзал, в который мы любим ходить всей семьёй.            А также есть пожарная часть, в которой работает мой папа. Мне очень нравится к нему приходить на работу, там мне разрешают посидеть в пожарной маш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рассказывают много интересного. У папы сложная и опасная работ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гда я вырасту, я буду пожарным, как па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304920" y="5029200"/>
            <a:ext cx="3124080" cy="2971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3657600" y="5410080"/>
            <a:ext cx="2873520" cy="2971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Picture 11" descr=""/>
          <p:cNvPicPr/>
          <p:nvPr/>
        </p:nvPicPr>
        <p:blipFill>
          <a:blip r:embed="rId5"/>
          <a:stretch/>
        </p:blipFill>
        <p:spPr>
          <a:xfrm>
            <a:off x="2438280" y="304920"/>
            <a:ext cx="2667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905120" y="6858000"/>
            <a:ext cx="321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д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ский сад «Одува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790960" cy="3665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1371600" y="228600"/>
            <a:ext cx="4114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304920" y="1371600"/>
            <a:ext cx="632448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родилась и живу в небольшом, но очень красивом             посёлке Вахтан. Моя бабушка  мне очень много рассказывала    про наш посёлок. Она говорила, что на месте, где расположен наш Вахтан, был дремучий лес с дикими зверями и птицами.                    Я даже не могла представить, что это так было. А ещё она рассказывала, что не было дорог, они все были в грязи.          Машин тоже не было, ездили на лошадях и все пешком ходи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ш посёлок возник давным давно, назвали его Вахтан пот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что, есть такая река, которая называется Большой Вахта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йчас наш посёлок хороший и красивый. В нём есть детские сады, школа, в которой я буду скоро учиться, дом культуры,        где все выступают на сцене и поют песни когда какой - нибуд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аздник бывает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щё есть музыкальная школа, художка, есть больница, но я не очень люблю туда ходить, потому что мне     не нравится болеть. И когда я вырасту, школу закончу и институт тоже, я буду врачём. Буду всех лечить на Вахтане.         А ещё наш посёлок окружён весь лесом. Летом и осенью люди ходят туда за грибами и ягодами. К нам на Вахтан приезжают люди из других городов, чтобы подышать чистым воздухом и просто погулять по улицам. А ещё моя мама мне говорила, что наш посёлок воспитал не мало замечательных людей.            Летом у нашего посёлка будет день рождения, и ему исполниться 100 лет. Это ведь так много. Я люблю свой посёлок, и я хочу, чтобы люди в нём жили всех лучше. Мы с мамой даже на день рождения нашего посёлка выучили небольшой стиш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ежит копейкой на плане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и лесов и дальних стр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н мне дороже всех на свете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сёлок мой – родной Вахтан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061000" y="76212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брамова Анастасия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28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1143000" y="7010280"/>
            <a:ext cx="1209600" cy="1905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Picture 14" descr=""/>
          <p:cNvPicPr/>
          <p:nvPr/>
        </p:nvPicPr>
        <p:blipFill>
          <a:blip r:embed="rId4"/>
          <a:stretch/>
        </p:blipFill>
        <p:spPr>
          <a:xfrm>
            <a:off x="2438280" y="228600"/>
            <a:ext cx="2514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24632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3" name="Rectangle 6"/>
          <p:cNvSpPr/>
          <p:nvPr/>
        </p:nvSpPr>
        <p:spPr>
          <a:xfrm>
            <a:off x="2517480" y="91440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линин Никита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09480" y="1676520"/>
            <a:ext cx="57913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сть на свете посёлок красивый, называется он Вахтан.    В этом посёлке живу я с бабушкой и дедушкой.                           У моей бабушки очень ответственная работа, она помогает пожилым людям, которые живут одни и не могут ухаживать за собой. А ещё у нас в посёлке есть дом престарелых, там тоже помогают старым людям.         Недавно в посёлке у нас построили спортивную площадку.                        Мы с бабушкой и дедушкой часто ходим туда. Там есть        шар - скалодром. Я не боюсь по нему лазить. Когда я залезу на скалодром, посижу, посмотрю по сторонам, а потом съезжаю. Так здорово!  Этот шар вечером светит разными цветами. На этой спортивной площадке ещё есть различные тренажёры и всякие лазилки. Мне так не охота уходить со спортивной площадки, когда я туда прихожу. Там очень весело и много всегда нар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щё мы с бабушкой и дедушкой ходим в парк погибшим воинам. Там есть памятник погибшим воинам и мне кажется, что этот солдат охраняет наш посёл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гда ветром роняет венки, которые возлагают к памятнику, я все их ставлю на мест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нашем посёлке есть и другие места, куда мы ходим            с бабушкой и дедуш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3733920" y="6400800"/>
            <a:ext cx="2235240" cy="2514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533520" y="6553080"/>
            <a:ext cx="2819160" cy="2203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Picture 11" descr=""/>
          <p:cNvPicPr/>
          <p:nvPr/>
        </p:nvPicPr>
        <p:blipFill>
          <a:blip r:embed="rId5"/>
          <a:stretch/>
        </p:blipFill>
        <p:spPr>
          <a:xfrm>
            <a:off x="2590920" y="228600"/>
            <a:ext cx="2666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1069920" cy="1390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Rectangle 6"/>
          <p:cNvSpPr/>
          <p:nvPr/>
        </p:nvSpPr>
        <p:spPr>
          <a:xfrm>
            <a:off x="2214360" y="99072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льгина Анастасия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0880" y="1752480"/>
            <a:ext cx="61722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живу в маленьком посёлке Вахтан.  В нём есть школа, детский сад, музей, библиотека, пожарная часть, полиция, больница, церковь, спортзал и магазины. Наш посёлок окружает лес, в котором живёт много зверей разных. Очень хорошо летом в нашем посёлке, потому что приезжает много гостей в посёлок из других городов. Летом мы купаемся на речке, катаемся на велосипедах, играем на детских площадках. А зимой тоже хорошо, потому что у нас есть каток. В этом году я научилась кататься на конь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люблю свой посёлок, потому что здесь живут мои друзья и родные и мы весело проводим время. С мамой, папой, с братом и сестрой мы часто ездим в лес на отдых.  Там мы жарим сосиски, пьём чай. Летом ловим рыбу, а зимой ещё катаемся на лыж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ольше всего в нашем посёлке мне нравится школа. Она очень большая. В ней четыре этажа и много окон. Сюда ходят много детей. В этой школе работала моя бабушка, а теперь и моя мама. Сейчас мой брат Богдан, учится в 4 классе, а я этой осенью, я сама пойду в первый класс. Я очень этого жду!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етом нашему посёлку исполнится 100 лет, все люди готовятся к этому празднику, всё делают, чтобы посёлок   был ещё красивее.  Я очень люблю свой посёло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304920" y="6781680"/>
            <a:ext cx="2971800" cy="1927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3581280" y="6781680"/>
            <a:ext cx="2962440" cy="1986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" name="Picture 10" descr=""/>
          <p:cNvPicPr/>
          <p:nvPr/>
        </p:nvPicPr>
        <p:blipFill>
          <a:blip r:embed="rId5"/>
          <a:stretch/>
        </p:blipFill>
        <p:spPr>
          <a:xfrm>
            <a:off x="2438280" y="228600"/>
            <a:ext cx="2667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1297080" cy="152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7" name="Rectangle 6"/>
          <p:cNvSpPr/>
          <p:nvPr/>
        </p:nvSpPr>
        <p:spPr>
          <a:xfrm>
            <a:off x="2286720" y="76212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ибанов Николай 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523880"/>
            <a:ext cx="57913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родился и живу в самом красивом посёлке,       даже название у него необычное - Вахтан. Мой папа, Саша, тоже здесь родился. Вот он мне и сказал почему посёлок назвали именно так. И всё очень просто, потому что здесь протекает река -Большой Вахтан. Посёлок небольшой,           но очень красивый, здесь чистый воздух, много зелёных деревьев и кустов. Летом мы с папой и братом Андреем ходим рыбачим, катаемся на велосипедах, а зимой      катаемся на лыжах и играем в снежки, катаемся с горки                           на спортивной площадке. Раньше было не очень хорошо                 в посёлке, а сейчас появилось много всяких  детских площадок, спортивные площадки, на стадионе зимой сделали каток. Я люблю свой посёлок. Здесь у меня много друзей и родственников. Я хожу в детский сад,                совсем скоро пойду в шко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хтан - это мой дом, в котором хорошо и спокойно. Летом - это в августе, будет 100 лет нашему посёлку.              И мы с папой, мамой и с братом Андреем хотим, чтобы         наш посёлок становился ещё лучше и лучш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3429000" cy="2971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0" name="Picture 10" descr=""/>
          <p:cNvPicPr/>
          <p:nvPr/>
        </p:nvPicPr>
        <p:blipFill>
          <a:blip r:embed="rId4"/>
          <a:stretch/>
        </p:blipFill>
        <p:spPr>
          <a:xfrm>
            <a:off x="4038480" y="5867280"/>
            <a:ext cx="2408400" cy="2962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1" name="Picture 11" descr=""/>
          <p:cNvPicPr/>
          <p:nvPr/>
        </p:nvPicPr>
        <p:blipFill>
          <a:blip r:embed="rId5"/>
          <a:stretch/>
        </p:blipFill>
        <p:spPr>
          <a:xfrm>
            <a:off x="2666880" y="228600"/>
            <a:ext cx="2438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839880" cy="112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4" name="Rectangle 6"/>
          <p:cNvSpPr/>
          <p:nvPr/>
        </p:nvSpPr>
        <p:spPr>
          <a:xfrm>
            <a:off x="2058840" y="76212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олонкова Софья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0880" y="1295280"/>
            <a:ext cx="60962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хтан – это моя маленькая Родина. У меня здесь есть друзья. В моём посёлке чистый и свежий воздух, потому что он находится среди леса, в котором живёт много разных зверей. Я очень люблю природу нашего посёлка, потому что она красив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йчас идёт зима и на улице очень много снега. А ещё дома стоят в белых шубках. В нашем посёлке всё есть: детский сад, школа, Дворец культуры, художественная школа, там я учусь рисовать, музыкальная школа, в которую я хожу и учусь там играть на пианино, ещё есть музей и много разных магазинов. Я очень жду весну, потому что весной просыпаются все деревья , на них распускаются листочки. Всё зеленеет, журчит речка, становится очень красиво. Весной прилетает много перелётных птичек. Я их кормлю, а они поют весёлые песенки. Мой дом стоит на берегу реки и каждую весну к нам прилетают уточки и остаются до холодов. Они уже привыкли ко мне и не боятся, даже подходят близко-близко. А ещё в нашем скворечнике весной, которая была, поселился скворец        и очень долго жил, пока его птенцы не подросли, потом они все улетели в ле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нашем посёлке, как в заповеднике, всё живое: природа, звери, птицы. Весной и летом на улице слышны песенки птиц, и когда они улетают, мы ждём зимних птичек, чтобы ими любовать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люблю свой посёлок в любое время года. Он всегда красив        и приветлив. Я хочу чтобы он всегда, всегда оставался таким и чтобы все люди были весёлые и добрые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3"/>
          <a:stretch/>
        </p:blipFill>
        <p:spPr>
          <a:xfrm>
            <a:off x="685800" y="7086600"/>
            <a:ext cx="2590920" cy="1814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7" name="Picture 13" descr=""/>
          <p:cNvPicPr/>
          <p:nvPr/>
        </p:nvPicPr>
        <p:blipFill>
          <a:blip r:embed="rId4"/>
          <a:stretch/>
        </p:blipFill>
        <p:spPr>
          <a:xfrm>
            <a:off x="3505320" y="7086600"/>
            <a:ext cx="2514600" cy="184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8" name="Picture 14" descr=""/>
          <p:cNvPicPr/>
          <p:nvPr/>
        </p:nvPicPr>
        <p:blipFill>
          <a:blip r:embed="rId5"/>
          <a:stretch/>
        </p:blipFill>
        <p:spPr>
          <a:xfrm>
            <a:off x="2438280" y="152280"/>
            <a:ext cx="2743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1152720" cy="161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Rectangle 6"/>
          <p:cNvSpPr/>
          <p:nvPr/>
        </p:nvSpPr>
        <p:spPr>
          <a:xfrm>
            <a:off x="2364120" y="12193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бедев Иван  ( 7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990720" y="2362320"/>
            <a:ext cx="5105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родился и живу в самом красивом посёлке Вахтан.   У нас в посёлке есть детский сад, школа, больница. В больнице, уже много лет, работает моя бабушка. Она медицинская сестра. Нашему посёлку скоро будет 100лет. Я люблю свой родной посёл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952720" cy="3448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3657600" y="5257800"/>
            <a:ext cx="2660760" cy="3581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5" name="Picture 10" descr=""/>
          <p:cNvPicPr/>
          <p:nvPr/>
        </p:nvPicPr>
        <p:blipFill>
          <a:blip r:embed="rId5"/>
          <a:stretch/>
        </p:blipFill>
        <p:spPr>
          <a:xfrm>
            <a:off x="2514600" y="380880"/>
            <a:ext cx="2666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062000" cy="1447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8" name="Rectangle 7"/>
          <p:cNvSpPr/>
          <p:nvPr/>
        </p:nvSpPr>
        <p:spPr>
          <a:xfrm>
            <a:off x="2289600" y="91440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йцева Алёна 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09480" y="1600200"/>
            <a:ext cx="5867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хтан – это небольшой посёлок , в котором                 я живу. Он маленький и очень тихий. В нашем посёлке е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сё: и мой любимый детский сад, красивая, большая школа. Раньше она была не очень красивая, а сейчас её отремонтировали и она стала очень красивой,                                 как в городе. Гости, которые приезжают к нам на Вахтан даже завидуют, что у нас такая шко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ещё моя мама сказала, что скоро  наш детский сад тоже будет красивый, но я уже буду ходить  в школу.                           У нас ещё в посёлке есть больница, фанерный комбинат,      дом культуры и много магазинов, даже магазин «Пятёрочка» есть, ну прямо как в  настоящем го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ш посёлок очень красивый. Когда я вырасту, я хочу стать художником. На своих картинах я нарисую нашу речку, лес, парк с красивым фонтаном и детской площадкой.                       Мои картины увидят много людей и они узнают,                      что есть на земле такой посёлок Вахт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3733920" y="5486400"/>
            <a:ext cx="2514600" cy="3352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Picture 10" descr=""/>
          <p:cNvPicPr/>
          <p:nvPr/>
        </p:nvPicPr>
        <p:blipFill>
          <a:blip r:embed="rId4"/>
          <a:stretch/>
        </p:blipFill>
        <p:spPr>
          <a:xfrm>
            <a:off x="380880" y="5486400"/>
            <a:ext cx="2662200" cy="3352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Picture 11" descr=""/>
          <p:cNvPicPr/>
          <p:nvPr/>
        </p:nvPicPr>
        <p:blipFill>
          <a:blip r:embed="rId5"/>
          <a:stretch/>
        </p:blipFill>
        <p:spPr>
          <a:xfrm>
            <a:off x="2438280" y="228600"/>
            <a:ext cx="2667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288880" y="83808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луков Виктор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09480" y="1447920"/>
            <a:ext cx="6096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хтан – это родной и любимый мой посёл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одной, потому что я родился в нём, а любим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тому что в нём есть у меня любимые ме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т например, моё любимое место для игр – э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ортивная площадка, куда  мы с мамой ход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чти что каждый день. Там есть огромный ш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 которому можно лазить, а вечером он свет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личные тренажёры есть, там всегда весело. А ещ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ё любимое место – это водопадики на плотине, осе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ы с мамой ходили туда и пускали по воде корабл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осенних листочков. У нас в посёлке много есть крас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ест, где можно отдохнуть. Я бы вот ещё хотел, 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 нас в посёлке, в спортзале был басейн, было бы оч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дорово. Я люблю свой посёлок, потому что в нём чист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здух, не как в городе. В городе одни машины загрязня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сь воздух и очень шумно. И как там люди живут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у нас в посёлке очень тихо, я всегда высыпаю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когда мы с мамой ездили в Нижний Новгород, я да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спаться не мог, потому что был шум от ма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ш посёлок самый лучший и летом ему будет 100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4343400" y="11049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1981080" y="5867280"/>
            <a:ext cx="3048120" cy="3048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533520" y="304920"/>
            <a:ext cx="1238040" cy="141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Picture 11" descr=""/>
          <p:cNvPicPr/>
          <p:nvPr/>
        </p:nvPicPr>
        <p:blipFill>
          <a:blip r:embed="rId5"/>
          <a:stretch/>
        </p:blipFill>
        <p:spPr>
          <a:xfrm>
            <a:off x="2362320" y="228600"/>
            <a:ext cx="2438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5T07:07:40Z</dcterms:created>
  <dc:creator>Bhbyf</dc:creator>
  <dc:description/>
  <dc:language>en-US</dc:language>
  <cp:lastModifiedBy>RePack by Diakov</cp:lastModifiedBy>
  <dcterms:modified xsi:type="dcterms:W3CDTF">2023-02-17T05:00:4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