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66E-DCE6-44FA-A266-8B4B601A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72C-6E19-4C70-B040-8DCF1AAF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27E-5A39-457C-9960-1BF42547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096-C447-46F2-9C2A-BB1CBD1D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4F1-2768-4C56-8EE3-FBA8CB9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D11-527B-4CF0-98C7-9D569CAB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43B-E6D9-46C7-91D2-FFAA710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055-A5D2-4F42-87C1-D42CDCC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31C-99BE-488E-A4CB-879D03AA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F5C-D80B-4519-BBC1-99F770E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485-3A47-4AC8-A981-0F2E620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6B6-19F6-43BF-AA6A-15F1427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611-EADB-41A2-9E85-76D5B7BE0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99000" y="333360"/>
            <a:ext cx="710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575d1"/>
                </a:solidFill>
                <a:latin typeface="Arial"/>
              </a:rPr>
              <a:t>Реки Карел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www.ticrk.ru/resources/4729-original.jpeg"/>
          <p:cNvPicPr/>
          <p:nvPr/>
        </p:nvPicPr>
        <p:blipFill>
          <a:blip r:embed="rId1"/>
          <a:stretch/>
        </p:blipFill>
        <p:spPr>
          <a:xfrm>
            <a:off x="684360" y="1700280"/>
            <a:ext cx="77752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Шуя"/>
          <p:cNvPicPr/>
          <p:nvPr/>
        </p:nvPicPr>
        <p:blipFill>
          <a:blip r:embed="rId1"/>
          <a:stretch/>
        </p:blipFill>
        <p:spPr>
          <a:xfrm>
            <a:off x="324000" y="333360"/>
            <a:ext cx="3935160" cy="295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4427640" y="33336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уя - крупная и полноводная р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ой Карелии (в переводе с карельского - "глубокая"). Берет начало в северо-восточной оконечности оз. Суоярви, впадает в Петрозаводскую губу Онежского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протяженность реки 265 км, ширина до 70-100 м, на порогах сужения до 20-40 м. Протяженность Южной Шуи от озера Суоярви более 200 километров. Категория сложности реки вторая. Пороги на Шуе локальные, ступенчатые с большим количеством стоя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гов около 30, по реке они располагаются довольно равномерно. В большую воду пороги проходятся легче, в низкую сложность прохождения многих из них значительно возрастает, есть сливы до 1,5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ека Шуя"/>
          <p:cNvPicPr/>
          <p:nvPr/>
        </p:nvPicPr>
        <p:blipFill>
          <a:blip r:embed="rId2"/>
          <a:stretch/>
        </p:blipFill>
        <p:spPr>
          <a:xfrm>
            <a:off x="395280" y="3716280"/>
            <a:ext cx="37767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 flipV="1" rot="10800000">
            <a:off x="250560" y="80280"/>
            <a:ext cx="33843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Вод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Реку Илекса считают началом реки Водла, которая имеет исток в Архангельской области и только в нижней части переходящая на территорию Карелии. В Карелии река впадает в одно из крупных озер Водлозеро. Короткие реки Сухая Водла и Вама (35 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20 км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соответственно) вытекая из Водлозера и сливаясь вместе, дают начало Водле. В свою очередь с востока Водла впадает в Онежское озеро. Общая протяженность этой водной системы -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401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 flipV="1" rot="10800000">
            <a:off x="178920" y="5378400"/>
            <a:ext cx="864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Водла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–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 река полноводная, имеет крупный водосборный бассейн.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На Водле более 25 порогов, известнейшим из которых есть водопад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«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Падун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 . Южнее устья Водлы находится знаменитый мыс Бесов Нос, давший название большой группе широко известных Онежских петроглифов, а в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30 к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Segoe UI"/>
                <a:ea typeface="Segoe UI"/>
              </a:rPr>
              <a:t>выше по течению - исторический город Пудож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ticrk.ru/resources/doc-4820-ph-gallery-4821-middle.jpg"/>
          <p:cNvPicPr/>
          <p:nvPr/>
        </p:nvPicPr>
        <p:blipFill>
          <a:blip r:embed="rId1"/>
          <a:stretch/>
        </p:blipFill>
        <p:spPr>
          <a:xfrm>
            <a:off x="4211640" y="189000"/>
            <a:ext cx="4248000" cy="263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ticrk.ru/resources/doc-4820-ph-gallery-4822-middle.jpg"/>
          <p:cNvPicPr/>
          <p:nvPr/>
        </p:nvPicPr>
        <p:blipFill>
          <a:blip r:embed="rId2"/>
          <a:stretch/>
        </p:blipFill>
        <p:spPr>
          <a:xfrm>
            <a:off x="4067280" y="2997360"/>
            <a:ext cx="4392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 flipV="1" rot="10800000">
            <a:off x="250920" y="208440"/>
            <a:ext cx="406872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Ол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На высоте около 70 метров Олонка вытекает из озера Утозеро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Река течет с севера на юг, но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около впадения притока Мегреги река поворачивает и течёт с востока на запад к Ладожскому озеру, куда и впадает. В нижнем течении вдоль реки проходит железная дорога Янисъярви-Лодейное Поле. До конца 1975 года река использовалась для лесосплава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2000" spc="-1" strike="noStrike">
                <a:solidFill>
                  <a:srgbClr val="333333"/>
                </a:solidFill>
                <a:latin typeface="Segoe UI"/>
                <a:ea typeface="Segoe UI"/>
              </a:rPr>
              <a:t>В реке добывался даже жемчуг, используемый для изготовления украшений. Важнейшие притоки Мегрега и Тукса. При впадении Мегреги в Олонку расположен город Олонец, названный по названию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://www.ticrk.ru/resources/4753-original.jpeg"/>
          <p:cNvPicPr/>
          <p:nvPr/>
        </p:nvPicPr>
        <p:blipFill>
          <a:blip r:embed="rId1"/>
          <a:stretch/>
        </p:blipFill>
        <p:spPr>
          <a:xfrm>
            <a:off x="4643280" y="333360"/>
            <a:ext cx="399744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357 из 31396"/>
          <p:cNvPicPr/>
          <p:nvPr/>
        </p:nvPicPr>
        <p:blipFill>
          <a:blip r:embed="rId2"/>
          <a:stretch/>
        </p:blipFill>
        <p:spPr>
          <a:xfrm>
            <a:off x="4572000" y="3141720"/>
            <a:ext cx="41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79280" y="189000"/>
            <a:ext cx="43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ек в Карелии превыш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000, суммарная протяженность - около 54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ассейн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ого мо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ятся речные системы средней и северной части республ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звестные реки Карелии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г и Кем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сколько  меньше по протяженности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ньга, Шуя, Поньгома, Кузема, Сиг, Кереть, а также Сума, Вирма, Колежма, Нюх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ассейн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тийского мор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т реки, впадающие в Онежское и Ладожское озе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уна, Шуя, Олонка, Видлиц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ибольшую протяжен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системы ре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оло 400 км.)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60 км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 северных районов Карелии изобилуют порогами, чем напоминают тае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rossiya.turne.com.ua/Data/rImg/CompanyMap572.jpg"/>
          <p:cNvPicPr/>
          <p:nvPr/>
        </p:nvPicPr>
        <p:blipFill>
          <a:blip r:embed="rId1"/>
          <a:stretch/>
        </p:blipFill>
        <p:spPr>
          <a:xfrm>
            <a:off x="4500720" y="260280"/>
            <a:ext cx="4489200" cy="633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7888320" y="5300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Вод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6304320" y="580536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024320" y="29242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Вы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6447960" y="45086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Су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6591240" y="508464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Шу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6234840" y="256536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Чирка-Кем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5799960" y="22050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.Ох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260280"/>
            <a:ext cx="331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 подсчитали, что на больших реках, таких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Су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Вы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Кем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Вод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Шу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ги и водопады составляют не менее 10-12% от их протяж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алых – вообще до 50%.  Протяженность-то их  83 тысячи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rossiya.turne.com.ua/Data/rImg/CompanyMap572.jpg"/>
          <p:cNvPicPr/>
          <p:nvPr/>
        </p:nvPicPr>
        <p:blipFill>
          <a:blip r:embed="rId1"/>
          <a:stretch/>
        </p:blipFill>
        <p:spPr>
          <a:xfrm>
            <a:off x="3635280" y="189000"/>
            <a:ext cx="5113440" cy="6492960"/>
          </a:xfrm>
          <a:prstGeom prst="rect">
            <a:avLst/>
          </a:prstGeom>
          <a:ln w="0">
            <a:noFill/>
          </a:ln>
        </p:spPr>
      </p:pic>
      <p:sp>
        <p:nvSpPr>
          <p:cNvPr id="54" name="5-конечная звезда 3"/>
          <p:cNvSpPr/>
          <p:nvPr/>
        </p:nvSpPr>
        <p:spPr>
          <a:xfrm>
            <a:off x="5867280" y="4508640"/>
            <a:ext cx="339840" cy="266400"/>
          </a:xfrm>
          <a:custGeom>
            <a:avLst/>
            <a:gdLst>
              <a:gd name="textAreaLeft" fmla="*/ 105120 w 339840"/>
              <a:gd name="textAreaRight" fmla="*/ 234720 w 339840"/>
              <a:gd name="textAreaTop" fmla="*/ 101880 h 266400"/>
              <a:gd name="textAreaBottom" fmla="*/ 203760 h 266400"/>
            </a:gdLst>
            <a:ahLst/>
            <a:rect l="textAreaLeft" t="textAreaTop" r="textAreaRight" b="textAreaBottom"/>
            <a:pathLst>
              <a:path w="339725" h="266700">
                <a:moveTo>
                  <a:pt x="0" y="101870"/>
                </a:moveTo>
                <a:lnTo>
                  <a:pt x="129764" y="101871"/>
                </a:lnTo>
                <a:lnTo>
                  <a:pt x="169863" y="0"/>
                </a:lnTo>
                <a:lnTo>
                  <a:pt x="209961" y="101871"/>
                </a:lnTo>
                <a:lnTo>
                  <a:pt x="339725" y="101870"/>
                </a:lnTo>
                <a:lnTo>
                  <a:pt x="234743" y="164829"/>
                </a:lnTo>
                <a:lnTo>
                  <a:pt x="274843" y="266699"/>
                </a:lnTo>
                <a:lnTo>
                  <a:pt x="169863" y="203739"/>
                </a:lnTo>
                <a:lnTo>
                  <a:pt x="64882" y="266699"/>
                </a:lnTo>
                <a:lnTo>
                  <a:pt x="104982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конечная звезда 4"/>
          <p:cNvSpPr/>
          <p:nvPr/>
        </p:nvSpPr>
        <p:spPr>
          <a:xfrm>
            <a:off x="6372360" y="2781360"/>
            <a:ext cx="338040" cy="266760"/>
          </a:xfrm>
          <a:custGeom>
            <a:avLst/>
            <a:gdLst>
              <a:gd name="textAreaLeft" fmla="*/ 104400 w 338040"/>
              <a:gd name="textAreaRight" fmla="*/ 233640 w 338040"/>
              <a:gd name="textAreaTop" fmla="*/ 101880 h 266760"/>
              <a:gd name="textAreaBottom" fmla="*/ 203760 h 26676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-конечная звезда 5"/>
          <p:cNvSpPr/>
          <p:nvPr/>
        </p:nvSpPr>
        <p:spPr>
          <a:xfrm>
            <a:off x="5724360" y="1916280"/>
            <a:ext cx="338400" cy="26640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880 h 266400"/>
              <a:gd name="textAreaBottom" fmla="*/ 203760 h 26640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-конечная звезда 6"/>
          <p:cNvSpPr/>
          <p:nvPr/>
        </p:nvSpPr>
        <p:spPr>
          <a:xfrm>
            <a:off x="7451640" y="5013360"/>
            <a:ext cx="338400" cy="26676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880 h 266760"/>
              <a:gd name="textAreaBottom" fmla="*/ 203760 h 266760"/>
            </a:gdLst>
            <a:ahLst/>
            <a:rect l="textAreaLeft" t="textAreaTop" r="textAreaRight" b="textAreaBottom"/>
            <a:pathLst>
              <a:path w="338138" h="266700">
                <a:moveTo>
                  <a:pt x="0" y="101870"/>
                </a:moveTo>
                <a:lnTo>
                  <a:pt x="129158" y="101871"/>
                </a:lnTo>
                <a:lnTo>
                  <a:pt x="169069" y="0"/>
                </a:lnTo>
                <a:lnTo>
                  <a:pt x="208980" y="101871"/>
                </a:lnTo>
                <a:lnTo>
                  <a:pt x="338138" y="101870"/>
                </a:lnTo>
                <a:lnTo>
                  <a:pt x="233647" y="164829"/>
                </a:lnTo>
                <a:lnTo>
                  <a:pt x="273560" y="266699"/>
                </a:lnTo>
                <a:lnTo>
                  <a:pt x="169069" y="203739"/>
                </a:lnTo>
                <a:lnTo>
                  <a:pt x="64578" y="266699"/>
                </a:lnTo>
                <a:lnTo>
                  <a:pt x="104491" y="16482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конечная звезда 7"/>
          <p:cNvSpPr/>
          <p:nvPr/>
        </p:nvSpPr>
        <p:spPr>
          <a:xfrm>
            <a:off x="6084720" y="5157720"/>
            <a:ext cx="338400" cy="265320"/>
          </a:xfrm>
          <a:custGeom>
            <a:avLst/>
            <a:gdLst>
              <a:gd name="textAreaLeft" fmla="*/ 104400 w 338400"/>
              <a:gd name="textAreaRight" fmla="*/ 234000 w 338400"/>
              <a:gd name="textAreaTop" fmla="*/ 101160 h 265320"/>
              <a:gd name="textAreaBottom" fmla="*/ 202680 h 265320"/>
            </a:gdLst>
            <a:ahLst/>
            <a:rect l="textAreaLeft" t="textAreaTop" r="textAreaRight" b="textAreaBottom"/>
            <a:pathLst>
              <a:path w="338137" h="265112">
                <a:moveTo>
                  <a:pt x="0" y="101263"/>
                </a:moveTo>
                <a:lnTo>
                  <a:pt x="129158" y="101264"/>
                </a:lnTo>
                <a:lnTo>
                  <a:pt x="169069" y="0"/>
                </a:lnTo>
                <a:lnTo>
                  <a:pt x="208979" y="101264"/>
                </a:lnTo>
                <a:lnTo>
                  <a:pt x="338137" y="101263"/>
                </a:lnTo>
                <a:lnTo>
                  <a:pt x="233646" y="163847"/>
                </a:lnTo>
                <a:lnTo>
                  <a:pt x="273559" y="265111"/>
                </a:lnTo>
                <a:lnTo>
                  <a:pt x="169069" y="202526"/>
                </a:lnTo>
                <a:lnTo>
                  <a:pt x="64578" y="265111"/>
                </a:lnTo>
                <a:lnTo>
                  <a:pt x="104491" y="163847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140360" y="3333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ь – крупнейшая река Каре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длина составляет 358 км. Начинаясь у границы с Финляндией, река пересекает в широтном направлении всю Карелию и впадает в Белое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мь берет свое начало из озера Нижнее Куйтто, однако гидрологи считают ее фактическим началом реку Куржму, впадающую в Верхнее Куйтто. На своем пути Куржма-Кемь связывают 19 озер. Река Кемь отличается крутым падением. Ранее на ней насчитывалось до 35 порогов и водопадов. Среди последних выделялся водопад Ужма, высота которого составляла 11,8 м при очень большом расходе воды. Со строительством каскада Кемских ГЭС река была зарегулирована, превратившись в цепь водохранилищ, пороги и водопады исчезли. В устье реки лежит исто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Кем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ассейн реки Кемь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38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емь река.jpg"/>
          <p:cNvPicPr/>
          <p:nvPr/>
        </p:nvPicPr>
        <p:blipFill>
          <a:blip r:embed="rId2"/>
          <a:stretch/>
        </p:blipFill>
        <p:spPr>
          <a:xfrm>
            <a:off x="324000" y="4149720"/>
            <a:ext cx="36716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33336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а Чирко-Кем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авый приток Кеми, вытекает из озера Чирко, расположенного в 20 км к западу от поселка Волома. Стремительность порогов захватывает дух, а гладь озер располагает к спокойствию. Уникальная девственная природа карельской глубинки никого не оставит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Чирко Кемь"/>
          <p:cNvPicPr/>
          <p:nvPr/>
        </p:nvPicPr>
        <p:blipFill>
          <a:blip r:embed="rId1"/>
          <a:stretch/>
        </p:blipFill>
        <p:spPr>
          <a:xfrm>
            <a:off x="250920" y="4365720"/>
            <a:ext cx="336528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Бассейн реки Кемь"/>
          <p:cNvPicPr/>
          <p:nvPr/>
        </p:nvPicPr>
        <p:blipFill>
          <a:blip r:embed="rId2"/>
          <a:stretch/>
        </p:blipFill>
        <p:spPr>
          <a:xfrm>
            <a:off x="4140360" y="260280"/>
            <a:ext cx="4679640" cy="47926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067280" y="5157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221 км, площадь бассейна 8270 км². Начало берёт из озера  Наоманго на Западно-Карельской возвышенности. В своём течении проходит ряд озёр, впадает в озеро  Юшкоя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а Ох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положена в северной части Карелии и является правым притоком крупной реки Кемь, впадающей в Белое море. Охта берет начало из озера Валтума на высоте 123 м над уровнем моря и впадает в Кемь справа выше поселка Подужемье. Охта – это, по сути, озерно-речная система, состоящая из большого числа (около 10) небольших и средних озер, соединенных речными учас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большому количеству озер, питающих бассейн Охты, река многоводна, несмотря на небольшую длину - около 180 км. Средняя скорость течения 2-3 км/час, основной перепад приходится на пороги, где скорость резко увеличи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Чирко Кемь"/>
          <p:cNvPicPr/>
          <p:nvPr/>
        </p:nvPicPr>
        <p:blipFill>
          <a:blip r:embed="rId1"/>
          <a:stretch/>
        </p:blipFill>
        <p:spPr>
          <a:xfrm>
            <a:off x="324000" y="404640"/>
            <a:ext cx="4186080" cy="30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Бассейн реки Кемь"/>
          <p:cNvPicPr/>
          <p:nvPr/>
        </p:nvPicPr>
        <p:blipFill>
          <a:blip r:embed="rId2"/>
          <a:stretch/>
        </p:blipFill>
        <p:spPr>
          <a:xfrm>
            <a:off x="4788000" y="189000"/>
            <a:ext cx="403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404640"/>
          <a:ext cx="6095880" cy="465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548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27927"/>
                          </a:solidFill>
                          <a:latin typeface="Tahoma"/>
                        </a:rPr>
                        <a:t>Выг (Верхний Выг, Нижний Вы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9280" y="1341360"/>
          <a:ext cx="3816360" cy="530388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Выг — река протекающая по территории Карелии. Речка состоит из двух частей: Верхний Выг — вытекает из озера Верхотинное, впадает в Выгозеро; Нижний Выг — вытегает из Выгозера, впадает в Онежскую губу Белого моря двумя путями около города Беломорск. Длина Верхнего Выга — 135 км, Нижнего Выга — 102 км. Верхний Выг лежит в заболоченной местности, протекая через систему небольших озё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8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Течение Нижнего Выга контролируемое, входит в систему Беломорско-Балтийского кан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www.ticrk.ru/resources/doc-4895-ph-gallery-6172-middle.jpg"/>
          <p:cNvPicPr/>
          <p:nvPr/>
        </p:nvPicPr>
        <p:blipFill>
          <a:blip r:embed="rId1"/>
          <a:stretch/>
        </p:blipFill>
        <p:spPr>
          <a:xfrm>
            <a:off x="4356000" y="260280"/>
            <a:ext cx="4673880" cy="309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ticrk.ru/resources/doc-4895-ph-gallery-4897-middle.jpg"/>
          <p:cNvPicPr/>
          <p:nvPr/>
        </p:nvPicPr>
        <p:blipFill>
          <a:blip r:embed="rId2"/>
          <a:stretch/>
        </p:blipFill>
        <p:spPr>
          <a:xfrm>
            <a:off x="4284720" y="3573360"/>
            <a:ext cx="4680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 flipV="1" rot="10800000">
            <a:off x="178920" y="154440"/>
            <a:ext cx="3816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  <a:ea typeface="Segoe UI"/>
              </a:rPr>
              <a:t>Река Кер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Кереть вытекает из озера Кереть, пробивая на своем пути кварцевые скальные породы. Таким образом, в русле камни имеют заостренную форму. Кереть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–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 широкая, многоводная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горно-таежная река.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За счет одноименного озера Кереть, из которого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Segoe UI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Segoe UI"/>
                <a:ea typeface="Segoe UI"/>
              </a:rPr>
              <a:t>вытекает река , уровень воды меняется не так резко, как в других карельских реках. Кереть представляет собой цепь озер и ламбин, которые соединяются участками с порогами. Около 30 порогов на протяжении 120 км реки Кереть. Берега реки в основном болотистые. Кереть впадает в Белое море в 40 км от поселка Ч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Иовское водохранилище.jpg"/>
          <p:cNvPicPr/>
          <p:nvPr/>
        </p:nvPicPr>
        <p:blipFill>
          <a:blip r:embed="rId1"/>
          <a:stretch/>
        </p:blipFill>
        <p:spPr>
          <a:xfrm>
            <a:off x="4211640" y="260280"/>
            <a:ext cx="4595760" cy="345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www.ticrk.ru/resources/doc-4824-ph-gallery-8548-middle.jpg"/>
          <p:cNvPicPr/>
          <p:nvPr/>
        </p:nvPicPr>
        <p:blipFill>
          <a:blip r:embed="rId2"/>
          <a:stretch/>
        </p:blipFill>
        <p:spPr>
          <a:xfrm>
            <a:off x="4211640" y="3860640"/>
            <a:ext cx="45370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00720" y="260280"/>
          <a:ext cx="6095880" cy="465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512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27927"/>
                          </a:solidFill>
                          <a:latin typeface="Tahoma"/>
                        </a:rPr>
                        <a:t>Суна (с водопадом Кива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27640" y="836640"/>
          <a:ext cx="4321080" cy="734220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7342200">
                <a:tc>
                  <a:txBody>
                    <a:bodyPr lIns="88200" rIns="88200" tIns="44280" bIns="442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звание реки Суна произносится с ударением на букву у. Протяженность реки составляет около 280 км. Истоком является озеро Киви-Ярви, далее протекает через несколько озёр, впадает в Онежское озеро, образуя Кондопожскую губу. Питание реки — дождевое и снеговое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В 27 км от устья реки Суна расположен знаменитый водопад Кивач. Кивач один из больших равнинных водопадов. В 32 км от Кивача расположен другой известный вопопад Гирвас. На реке всего более 50 порогов и водопадов, но ниже Кивача Суна судоходн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 всем протяжении реки — сплав леса, для обхода Кивача устроен особый спуск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     </a:t>
                      </a:r>
                      <a:r>
                        <a:rPr b="0" lang="ru-RU" sz="1700" spc="-1" strike="noStrike">
                          <a:solidFill>
                            <a:srgbClr val="707070"/>
                          </a:solidFill>
                          <a:latin typeface="Tahoma"/>
                        </a:rPr>
                        <a:t>На реке построен Сунский каскад ГЭС, наиболее крупные — Кондопожская ГЭС и Пальеозерская ГЭ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200" marR="88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http://www.ticrk.ru/resources/doc-4817-ph-gallery-4818-middle.jpg"/>
          <p:cNvPicPr/>
          <p:nvPr/>
        </p:nvPicPr>
        <p:blipFill>
          <a:blip r:embed="rId1"/>
          <a:stretch/>
        </p:blipFill>
        <p:spPr>
          <a:xfrm>
            <a:off x="324000" y="260280"/>
            <a:ext cx="3914640" cy="261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Картинка 354 из 31396"/>
          <p:cNvPicPr/>
          <p:nvPr/>
        </p:nvPicPr>
        <p:blipFill>
          <a:blip r:embed="rId2"/>
          <a:stretch/>
        </p:blipFill>
        <p:spPr>
          <a:xfrm>
            <a:off x="250920" y="3284640"/>
            <a:ext cx="4003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8:01:54Z</dcterms:created>
  <dc:creator>География</dc:creator>
  <dc:description/>
  <dc:language>en-US</dc:language>
  <cp:lastModifiedBy>Admin</cp:lastModifiedBy>
  <dcterms:modified xsi:type="dcterms:W3CDTF">2012-04-10T06:02:12Z</dcterms:modified>
  <cp:revision>27</cp:revision>
  <dc:subject/>
  <dc:title>Слайд 1</dc:title>
</cp:coreProperties>
</file>