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B5A-A3E1-4D4A-970D-D94AB0A9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BD9-A136-4E37-B9F2-58D2BCF2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B50-EC99-4787-98DB-0F419937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27E-7F76-4E07-8C8F-EE3EA8EC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43E-813E-471C-9820-3195EFFB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46D-F24A-4007-950A-B3CAA72B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1FF-2185-47B0-A732-D615F8BC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D6C-7041-4DCC-B70A-3CC3E5EE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6BA-C353-46C0-A888-AAD8CFCC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340-6E6C-4066-B43C-33D5F5B2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225-F6E5-43AB-A9BF-CCFDD4C9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95B-720D-457F-B381-BB123ED9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5A88-1B4D-4555-B91A-176166A6F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999000" y="333360"/>
            <a:ext cx="710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575d1"/>
                </a:solidFill>
                <a:latin typeface="Arial"/>
              </a:rPr>
              <a:t>Реки Карели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://www.ticrk.ru/resources/4729-original.jpeg"/>
          <p:cNvPicPr/>
          <p:nvPr/>
        </p:nvPicPr>
        <p:blipFill>
          <a:blip r:embed="rId1"/>
          <a:stretch/>
        </p:blipFill>
        <p:spPr>
          <a:xfrm>
            <a:off x="684360" y="1700280"/>
            <a:ext cx="777528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Шуя"/>
          <p:cNvPicPr/>
          <p:nvPr/>
        </p:nvPicPr>
        <p:blipFill>
          <a:blip r:embed="rId1"/>
          <a:stretch/>
        </p:blipFill>
        <p:spPr>
          <a:xfrm>
            <a:off x="324000" y="333360"/>
            <a:ext cx="3935160" cy="29512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4427640" y="333360"/>
            <a:ext cx="424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Шуя - крупная и полноводная ре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ой Карелии (в переводе с карельского - "глубокая"). Берет начало в северо-восточной оконечности оз. Суоярви, впадает в Петрозаводскую губу Онежского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протяженность реки 265 км, ширина до 70-100 м, на порогах сужения до 20-40 м. Протяженность Южной Шуи от озера Суоярви более 200 километров. Категория сложности реки вторая. Пороги на Шуе локальные, ступенчатые с большим количеством стоя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гов около 30, по реке они располагаются довольно равномерно. В большую воду пороги проходятся легче, в низкую сложность прохождения многих из них значительно возрастает, есть сливы до 1,5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Река Шуя"/>
          <p:cNvPicPr/>
          <p:nvPr/>
        </p:nvPicPr>
        <p:blipFill>
          <a:blip r:embed="rId2"/>
          <a:stretch/>
        </p:blipFill>
        <p:spPr>
          <a:xfrm>
            <a:off x="395280" y="3716280"/>
            <a:ext cx="377676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 flipV="1" rot="10800000">
            <a:off x="250560" y="80280"/>
            <a:ext cx="338436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egoe UI"/>
                <a:ea typeface="Segoe UI"/>
              </a:rPr>
              <a:t>Река Вод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Реку Илекса считают началом реки Водла, которая имеет исток в Архангельской области и только в нижней части переходящая на территорию Карелии. В Карелии река впадает в одно из крупных озер Водлозеро. Короткие реки Сухая Водла и Вама (35 и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20 км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соответственно) вытекая из Водлозера и сливаясь вместе, дают начало Водле. В свою очередь с востока Водла впадает в Онежское озеро. Общая протяженность этой водной системы -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401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 flipV="1" rot="10800000">
            <a:off x="178920" y="5378400"/>
            <a:ext cx="864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Segoe UI"/>
                <a:ea typeface="Segoe UI"/>
              </a:rPr>
              <a:t>Водла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Segoe UI"/>
              </a:rPr>
              <a:t>–</a:t>
            </a:r>
            <a:r>
              <a:rPr b="0" lang="ru-RU" sz="1600" spc="-1" strike="noStrike">
                <a:solidFill>
                  <a:srgbClr val="333333"/>
                </a:solidFill>
                <a:latin typeface="Segoe UI"/>
                <a:ea typeface="Segoe UI"/>
              </a:rPr>
              <a:t> река полноводная, имеет крупный водосборный бассейн.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600" spc="-1" strike="noStrike">
                <a:solidFill>
                  <a:srgbClr val="333333"/>
                </a:solidFill>
                <a:latin typeface="Segoe UI"/>
                <a:ea typeface="Segoe UI"/>
              </a:rPr>
              <a:t>На Водле более 25 порогов, известнейшим из которых есть водопад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Segoe UI"/>
              </a:rPr>
              <a:t>«</a:t>
            </a:r>
            <a:r>
              <a:rPr b="0" lang="ru-RU" sz="1600" spc="-1" strike="noStrike">
                <a:solidFill>
                  <a:srgbClr val="333333"/>
                </a:solidFill>
                <a:latin typeface="Segoe UI"/>
                <a:ea typeface="Segoe UI"/>
              </a:rPr>
              <a:t>Падун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Segoe UI"/>
              </a:rPr>
              <a:t>»</a:t>
            </a:r>
            <a:r>
              <a:rPr b="0" lang="ru-RU" sz="1600" spc="-1" strike="noStrike">
                <a:solidFill>
                  <a:srgbClr val="333333"/>
                </a:solidFill>
                <a:latin typeface="Segoe UI"/>
                <a:ea typeface="Segoe UI"/>
              </a:rPr>
              <a:t> . Южнее устья Водлы находится знаменитый мыс Бесов Нос, давший название большой группе широко известных Онежских петроглифов, а в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600" spc="-1" strike="noStrike">
                <a:solidFill>
                  <a:srgbClr val="333333"/>
                </a:solidFill>
                <a:latin typeface="Segoe UI"/>
                <a:ea typeface="Segoe UI"/>
              </a:rPr>
              <a:t>30 км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600" spc="-1" strike="noStrike">
                <a:solidFill>
                  <a:srgbClr val="333333"/>
                </a:solidFill>
                <a:latin typeface="Segoe UI"/>
                <a:ea typeface="Segoe UI"/>
              </a:rPr>
              <a:t>выше по течению - исторический город Пудож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://www.ticrk.ru/resources/doc-4820-ph-gallery-4821-middle.jpg"/>
          <p:cNvPicPr/>
          <p:nvPr/>
        </p:nvPicPr>
        <p:blipFill>
          <a:blip r:embed="rId1"/>
          <a:stretch/>
        </p:blipFill>
        <p:spPr>
          <a:xfrm>
            <a:off x="4211640" y="189000"/>
            <a:ext cx="4248000" cy="2636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ticrk.ru/resources/doc-4820-ph-gallery-4822-middle.jpg"/>
          <p:cNvPicPr/>
          <p:nvPr/>
        </p:nvPicPr>
        <p:blipFill>
          <a:blip r:embed="rId2"/>
          <a:stretch/>
        </p:blipFill>
        <p:spPr>
          <a:xfrm>
            <a:off x="4067280" y="2997360"/>
            <a:ext cx="4392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 flipV="1" rot="10800000">
            <a:off x="250920" y="208440"/>
            <a:ext cx="4068720" cy="64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Segoe UI"/>
                <a:ea typeface="Segoe UI"/>
              </a:rPr>
              <a:t>Река Оло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Segoe UI"/>
                <a:ea typeface="Segoe UI"/>
              </a:rPr>
              <a:t>На высоте около 70 метров Олонка вытекает из озера Утозеро.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2000" spc="-1" strike="noStrike">
                <a:solidFill>
                  <a:srgbClr val="333333"/>
                </a:solidFill>
                <a:latin typeface="Segoe UI"/>
                <a:ea typeface="Segoe UI"/>
              </a:rPr>
              <a:t>Река течет с севера на юг, но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2000" spc="-1" strike="noStrike">
                <a:solidFill>
                  <a:srgbClr val="333333"/>
                </a:solidFill>
                <a:latin typeface="Segoe UI"/>
                <a:ea typeface="Segoe UI"/>
              </a:rPr>
              <a:t>около впадения притока Мегреги река поворачивает и течёт с востока на запад к Ладожскому озеру, куда и впадает. В нижнем течении вдоль реки проходит железная дорога Янисъярви-Лодейное Поле. До конца 1975 года река использовалась для лесосплава.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2000" spc="-1" strike="noStrike">
                <a:solidFill>
                  <a:srgbClr val="333333"/>
                </a:solidFill>
                <a:latin typeface="Segoe UI"/>
                <a:ea typeface="Segoe UI"/>
              </a:rPr>
              <a:t>В реке добывался даже жемчуг, используемый для изготовления украшений. Важнейшие притоки Мегрега и Тукса. При впадении Мегреги в Олонку расположен город Олонец, названный по названию р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http://www.ticrk.ru/resources/4753-original.jpeg"/>
          <p:cNvPicPr/>
          <p:nvPr/>
        </p:nvPicPr>
        <p:blipFill>
          <a:blip r:embed="rId1"/>
          <a:stretch/>
        </p:blipFill>
        <p:spPr>
          <a:xfrm>
            <a:off x="4643280" y="333360"/>
            <a:ext cx="3997440" cy="266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Картинка 357 из 31396"/>
          <p:cNvPicPr/>
          <p:nvPr/>
        </p:nvPicPr>
        <p:blipFill>
          <a:blip r:embed="rId2"/>
          <a:stretch/>
        </p:blipFill>
        <p:spPr>
          <a:xfrm>
            <a:off x="4572000" y="3141720"/>
            <a:ext cx="4133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79280" y="189000"/>
            <a:ext cx="4392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рек в Карелии превыш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 000, суммарная протяженность - около 54 000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бассейн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лого мо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ятся речные системы средней и северной части республ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известные реки Карелии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г и Кем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есколько  меньше по протяженности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ньга, Шуя, Поньгома, Кузема, Сиг, Кереть, а также Сума, Вирма, Колежма, Нюхч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бассейн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тийского мор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ят реки, впадающие в Онежское и Ладожское озер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уна, Шуя, Олонка, Видлица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ибольшую протяженн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т системы ре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д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коло 400 км.)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м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60 км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и северных районов Карелии изобилуют порогами, чем напоминают тае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rossiya.turne.com.ua/Data/rImg/CompanyMap572.jpg"/>
          <p:cNvPicPr/>
          <p:nvPr/>
        </p:nvPicPr>
        <p:blipFill>
          <a:blip r:embed="rId1"/>
          <a:stretch/>
        </p:blipFill>
        <p:spPr>
          <a:xfrm>
            <a:off x="4500720" y="260280"/>
            <a:ext cx="4489200" cy="63374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7888320" y="5300640"/>
            <a:ext cx="7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.Вод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6304320" y="5805360"/>
            <a:ext cx="87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.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7024320" y="292428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.Вы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6447960" y="450864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.Су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6591240" y="508464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.Шу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6234840" y="256536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.Чирка-Кем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0"/>
          <p:cNvSpPr/>
          <p:nvPr/>
        </p:nvSpPr>
        <p:spPr>
          <a:xfrm>
            <a:off x="5799960" y="220500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.Ох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68360" y="260280"/>
            <a:ext cx="3311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ы подсчитали, что на больших реках, таких,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Су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Вы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Кем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Вод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Шу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ги и водопады составляют не менее 10-12% от их протяж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алых – вообще до 50%.  Протяженность-то их  83 тысячи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rossiya.turne.com.ua/Data/rImg/CompanyMap572.jpg"/>
          <p:cNvPicPr/>
          <p:nvPr/>
        </p:nvPicPr>
        <p:blipFill>
          <a:blip r:embed="rId1"/>
          <a:stretch/>
        </p:blipFill>
        <p:spPr>
          <a:xfrm>
            <a:off x="3635280" y="189000"/>
            <a:ext cx="5113440" cy="6492960"/>
          </a:xfrm>
          <a:prstGeom prst="rect">
            <a:avLst/>
          </a:prstGeom>
          <a:ln w="0">
            <a:noFill/>
          </a:ln>
        </p:spPr>
      </p:pic>
      <p:sp>
        <p:nvSpPr>
          <p:cNvPr id="54" name="5-конечная звезда 3"/>
          <p:cNvSpPr/>
          <p:nvPr/>
        </p:nvSpPr>
        <p:spPr>
          <a:xfrm>
            <a:off x="5867280" y="4508640"/>
            <a:ext cx="339840" cy="266400"/>
          </a:xfrm>
          <a:custGeom>
            <a:avLst/>
            <a:gdLst>
              <a:gd name="textAreaLeft" fmla="*/ 105120 w 339840"/>
              <a:gd name="textAreaRight" fmla="*/ 234720 w 339840"/>
              <a:gd name="textAreaTop" fmla="*/ 101880 h 266400"/>
              <a:gd name="textAreaBottom" fmla="*/ 203760 h 266400"/>
            </a:gdLst>
            <a:ahLst/>
            <a:rect l="textAreaLeft" t="textAreaTop" r="textAreaRight" b="textAreaBottom"/>
            <a:pathLst>
              <a:path w="339725" h="266700">
                <a:moveTo>
                  <a:pt x="0" y="101870"/>
                </a:moveTo>
                <a:lnTo>
                  <a:pt x="129764" y="101871"/>
                </a:lnTo>
                <a:lnTo>
                  <a:pt x="169863" y="0"/>
                </a:lnTo>
                <a:lnTo>
                  <a:pt x="209961" y="101871"/>
                </a:lnTo>
                <a:lnTo>
                  <a:pt x="339725" y="101870"/>
                </a:lnTo>
                <a:lnTo>
                  <a:pt x="234743" y="164829"/>
                </a:lnTo>
                <a:lnTo>
                  <a:pt x="274843" y="266699"/>
                </a:lnTo>
                <a:lnTo>
                  <a:pt x="169863" y="203739"/>
                </a:lnTo>
                <a:lnTo>
                  <a:pt x="64882" y="266699"/>
                </a:lnTo>
                <a:lnTo>
                  <a:pt x="104982" y="164829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-конечная звезда 4"/>
          <p:cNvSpPr/>
          <p:nvPr/>
        </p:nvSpPr>
        <p:spPr>
          <a:xfrm>
            <a:off x="6372360" y="2781360"/>
            <a:ext cx="338040" cy="266760"/>
          </a:xfrm>
          <a:custGeom>
            <a:avLst/>
            <a:gdLst>
              <a:gd name="textAreaLeft" fmla="*/ 104400 w 338040"/>
              <a:gd name="textAreaRight" fmla="*/ 233640 w 338040"/>
              <a:gd name="textAreaTop" fmla="*/ 101880 h 266760"/>
              <a:gd name="textAreaBottom" fmla="*/ 203760 h 266760"/>
            </a:gdLst>
            <a:ahLst/>
            <a:rect l="textAreaLeft" t="textAreaTop" r="textAreaRight" b="textAreaBottom"/>
            <a:pathLst>
              <a:path w="338138" h="266700">
                <a:moveTo>
                  <a:pt x="0" y="101870"/>
                </a:moveTo>
                <a:lnTo>
                  <a:pt x="129158" y="101871"/>
                </a:lnTo>
                <a:lnTo>
                  <a:pt x="169069" y="0"/>
                </a:lnTo>
                <a:lnTo>
                  <a:pt x="208980" y="101871"/>
                </a:lnTo>
                <a:lnTo>
                  <a:pt x="338138" y="101870"/>
                </a:lnTo>
                <a:lnTo>
                  <a:pt x="233647" y="164829"/>
                </a:lnTo>
                <a:lnTo>
                  <a:pt x="273560" y="266699"/>
                </a:lnTo>
                <a:lnTo>
                  <a:pt x="169069" y="203739"/>
                </a:lnTo>
                <a:lnTo>
                  <a:pt x="64578" y="266699"/>
                </a:lnTo>
                <a:lnTo>
                  <a:pt x="104491" y="164829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5-конечная звезда 5"/>
          <p:cNvSpPr/>
          <p:nvPr/>
        </p:nvSpPr>
        <p:spPr>
          <a:xfrm>
            <a:off x="5724360" y="1916280"/>
            <a:ext cx="338400" cy="266400"/>
          </a:xfrm>
          <a:custGeom>
            <a:avLst/>
            <a:gdLst>
              <a:gd name="textAreaLeft" fmla="*/ 104400 w 338400"/>
              <a:gd name="textAreaRight" fmla="*/ 234000 w 338400"/>
              <a:gd name="textAreaTop" fmla="*/ 101880 h 266400"/>
              <a:gd name="textAreaBottom" fmla="*/ 203760 h 266400"/>
            </a:gdLst>
            <a:ahLst/>
            <a:rect l="textAreaLeft" t="textAreaTop" r="textAreaRight" b="textAreaBottom"/>
            <a:pathLst>
              <a:path w="338138" h="266700">
                <a:moveTo>
                  <a:pt x="0" y="101870"/>
                </a:moveTo>
                <a:lnTo>
                  <a:pt x="129158" y="101871"/>
                </a:lnTo>
                <a:lnTo>
                  <a:pt x="169069" y="0"/>
                </a:lnTo>
                <a:lnTo>
                  <a:pt x="208980" y="101871"/>
                </a:lnTo>
                <a:lnTo>
                  <a:pt x="338138" y="101870"/>
                </a:lnTo>
                <a:lnTo>
                  <a:pt x="233647" y="164829"/>
                </a:lnTo>
                <a:lnTo>
                  <a:pt x="273560" y="266699"/>
                </a:lnTo>
                <a:lnTo>
                  <a:pt x="169069" y="203739"/>
                </a:lnTo>
                <a:lnTo>
                  <a:pt x="64578" y="266699"/>
                </a:lnTo>
                <a:lnTo>
                  <a:pt x="104491" y="164829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-конечная звезда 6"/>
          <p:cNvSpPr/>
          <p:nvPr/>
        </p:nvSpPr>
        <p:spPr>
          <a:xfrm>
            <a:off x="7451640" y="5013360"/>
            <a:ext cx="338400" cy="266760"/>
          </a:xfrm>
          <a:custGeom>
            <a:avLst/>
            <a:gdLst>
              <a:gd name="textAreaLeft" fmla="*/ 104400 w 338400"/>
              <a:gd name="textAreaRight" fmla="*/ 234000 w 338400"/>
              <a:gd name="textAreaTop" fmla="*/ 101880 h 266760"/>
              <a:gd name="textAreaBottom" fmla="*/ 203760 h 266760"/>
            </a:gdLst>
            <a:ahLst/>
            <a:rect l="textAreaLeft" t="textAreaTop" r="textAreaRight" b="textAreaBottom"/>
            <a:pathLst>
              <a:path w="338138" h="266700">
                <a:moveTo>
                  <a:pt x="0" y="101870"/>
                </a:moveTo>
                <a:lnTo>
                  <a:pt x="129158" y="101871"/>
                </a:lnTo>
                <a:lnTo>
                  <a:pt x="169069" y="0"/>
                </a:lnTo>
                <a:lnTo>
                  <a:pt x="208980" y="101871"/>
                </a:lnTo>
                <a:lnTo>
                  <a:pt x="338138" y="101870"/>
                </a:lnTo>
                <a:lnTo>
                  <a:pt x="233647" y="164829"/>
                </a:lnTo>
                <a:lnTo>
                  <a:pt x="273560" y="266699"/>
                </a:lnTo>
                <a:lnTo>
                  <a:pt x="169069" y="203739"/>
                </a:lnTo>
                <a:lnTo>
                  <a:pt x="64578" y="266699"/>
                </a:lnTo>
                <a:lnTo>
                  <a:pt x="104491" y="164829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5-конечная звезда 7"/>
          <p:cNvSpPr/>
          <p:nvPr/>
        </p:nvSpPr>
        <p:spPr>
          <a:xfrm>
            <a:off x="6084720" y="5157720"/>
            <a:ext cx="338400" cy="265320"/>
          </a:xfrm>
          <a:custGeom>
            <a:avLst/>
            <a:gdLst>
              <a:gd name="textAreaLeft" fmla="*/ 104400 w 338400"/>
              <a:gd name="textAreaRight" fmla="*/ 234000 w 338400"/>
              <a:gd name="textAreaTop" fmla="*/ 101160 h 265320"/>
              <a:gd name="textAreaBottom" fmla="*/ 202680 h 265320"/>
            </a:gdLst>
            <a:ahLst/>
            <a:rect l="textAreaLeft" t="textAreaTop" r="textAreaRight" b="textAreaBottom"/>
            <a:pathLst>
              <a:path w="338137" h="265112">
                <a:moveTo>
                  <a:pt x="0" y="101263"/>
                </a:moveTo>
                <a:lnTo>
                  <a:pt x="129158" y="101264"/>
                </a:lnTo>
                <a:lnTo>
                  <a:pt x="169069" y="0"/>
                </a:lnTo>
                <a:lnTo>
                  <a:pt x="208979" y="101264"/>
                </a:lnTo>
                <a:lnTo>
                  <a:pt x="338137" y="101263"/>
                </a:lnTo>
                <a:lnTo>
                  <a:pt x="233646" y="163847"/>
                </a:lnTo>
                <a:lnTo>
                  <a:pt x="273559" y="265111"/>
                </a:lnTo>
                <a:lnTo>
                  <a:pt x="169069" y="202526"/>
                </a:lnTo>
                <a:lnTo>
                  <a:pt x="64578" y="265111"/>
                </a:lnTo>
                <a:lnTo>
                  <a:pt x="104491" y="163847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140360" y="33336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мь – крупнейшая река Карел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длина составляет 358 км. Начинаясь у границы с Финляндией, река пересекает в широтном направлении всю Карелию и впадает в Белое мо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мь берет свое начало из озера Нижнее Куйтто, однако гидрологи считают ее фактическим началом реку Куржму, впадающую в Верхнее Куйтто. На своем пути Куржма-Кемь связывают 19 озер. Река Кемь отличается крутым падением. Ранее на ней насчитывалось до 35 порогов и водопадов. Среди последних выделялся водопад Ужма, высота которого составляла 11,8 м при очень большом расходе воды. Со строительством каскада Кемских ГЭС река была зарегулирована, превратившись в цепь водохранилищ, пороги и водопады исчезли. В устье реки лежит истор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 Кем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Бассейн реки Кемь"/>
          <p:cNvPicPr/>
          <p:nvPr/>
        </p:nvPicPr>
        <p:blipFill>
          <a:blip r:embed="rId1"/>
          <a:stretch/>
        </p:blipFill>
        <p:spPr>
          <a:xfrm>
            <a:off x="250920" y="189000"/>
            <a:ext cx="3744720" cy="38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емь река.jpg"/>
          <p:cNvPicPr/>
          <p:nvPr/>
        </p:nvPicPr>
        <p:blipFill>
          <a:blip r:embed="rId2"/>
          <a:stretch/>
        </p:blipFill>
        <p:spPr>
          <a:xfrm>
            <a:off x="324000" y="4149720"/>
            <a:ext cx="367164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95280" y="33336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ка Чирко-Кем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авый приток Кеми, вытекает из озера Чирко, расположенного в 20 км к западу от поселка Волома. Стремительность порогов захватывает дух, а гладь озер располагает к спокойствию. Уникальная девственная природа карельской глубинки никого не оставит равнодуш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Чирко Кемь"/>
          <p:cNvPicPr/>
          <p:nvPr/>
        </p:nvPicPr>
        <p:blipFill>
          <a:blip r:embed="rId1"/>
          <a:stretch/>
        </p:blipFill>
        <p:spPr>
          <a:xfrm>
            <a:off x="250920" y="4365720"/>
            <a:ext cx="3365280" cy="20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Бассейн реки Кемь"/>
          <p:cNvPicPr/>
          <p:nvPr/>
        </p:nvPicPr>
        <p:blipFill>
          <a:blip r:embed="rId2"/>
          <a:stretch/>
        </p:blipFill>
        <p:spPr>
          <a:xfrm>
            <a:off x="4140360" y="260280"/>
            <a:ext cx="4679640" cy="47926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4067280" y="5157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221 км, площадь бассейна 8270 км². Начало берёт из озера  Наоманго на Западно-Карельской возвышенности. В своём течении проходит ряд озёр, впадает в озеро  Юшкоя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250920" y="371628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ка Ох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сположена в северной части Карелии и является правым притоком крупной реки Кемь, впадающей в Белое море. Охта берет начало из озера Валтума на высоте 123 м над уровнем моря и впадает в Кемь справа выше поселка Подужемье. Охта – это, по сути, озерно-речная система, состоящая из большого числа (около 10) небольших и средних озер, соединенных речными учас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большому количеству озер, питающих бассейн Охты, река многоводна, несмотря на небольшую длину - около 180 км. Средняя скорость течения 2-3 км/час, основной перепад приходится на пороги, где скорость резко увеличив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Чирко Кемь"/>
          <p:cNvPicPr/>
          <p:nvPr/>
        </p:nvPicPr>
        <p:blipFill>
          <a:blip r:embed="rId1"/>
          <a:stretch/>
        </p:blipFill>
        <p:spPr>
          <a:xfrm>
            <a:off x="324000" y="404640"/>
            <a:ext cx="4186080" cy="309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Бассейн реки Кемь"/>
          <p:cNvPicPr/>
          <p:nvPr/>
        </p:nvPicPr>
        <p:blipFill>
          <a:blip r:embed="rId2"/>
          <a:stretch/>
        </p:blipFill>
        <p:spPr>
          <a:xfrm>
            <a:off x="4788000" y="189000"/>
            <a:ext cx="4032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404640"/>
          <a:ext cx="6095880" cy="4654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65480"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27927"/>
                          </a:solidFill>
                          <a:latin typeface="Tahoma"/>
                        </a:rPr>
                        <a:t>Выг (Верхний Выг, Нижний Вы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9280" y="1341360"/>
          <a:ext cx="3816360" cy="530388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     </a:t>
                      </a:r>
                      <a:r>
                        <a:rPr b="0" lang="ru-RU" sz="18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Выг — река протекающая по территории Карелии. Речка состоит из двух частей: Верхний Выг — вытекает из озера Верхотинное, впадает в Выгозеро; Нижний Выг — вытегает из Выгозера, впадает в Онежскую губу Белого моря двумя путями около города Беломорск. Длина Верхнего Выга — 135 км, Нижнего Выга — 102 км. Верхний Выг лежит в заболоченной местности, протекая через систему небольших озё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     </a:t>
                      </a:r>
                      <a:r>
                        <a:rPr b="0" lang="ru-RU" sz="18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Течение Нижнего Выга контролируемое, входит в систему Беломорско-Балтийского кана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http://www.ticrk.ru/resources/doc-4895-ph-gallery-6172-middle.jpg"/>
          <p:cNvPicPr/>
          <p:nvPr/>
        </p:nvPicPr>
        <p:blipFill>
          <a:blip r:embed="rId1"/>
          <a:stretch/>
        </p:blipFill>
        <p:spPr>
          <a:xfrm>
            <a:off x="4356000" y="260280"/>
            <a:ext cx="4673880" cy="309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www.ticrk.ru/resources/doc-4895-ph-gallery-4897-middle.jpg"/>
          <p:cNvPicPr/>
          <p:nvPr/>
        </p:nvPicPr>
        <p:blipFill>
          <a:blip r:embed="rId2"/>
          <a:stretch/>
        </p:blipFill>
        <p:spPr>
          <a:xfrm>
            <a:off x="4284720" y="3573360"/>
            <a:ext cx="46800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 flipV="1" rot="10800000">
            <a:off x="178920" y="154440"/>
            <a:ext cx="3816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egoe UI"/>
                <a:ea typeface="Segoe UI"/>
              </a:rPr>
              <a:t>Река Кер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Кереть вытекает из озера Кереть, пробивая на своем пути кварцевые скальные породы. Таким образом, в русле камни имеют заостренную форму. Кереть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Segoe UI"/>
              </a:rPr>
              <a:t>–</a:t>
            </a: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 широкая, многоводная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горно-таежная река.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За счет одноименного озера Кереть, из которого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вытекает река , уровень воды меняется не так резко, как в других карельских реках. Кереть представляет собой цепь озер и ламбин, которые соединяются участками с порогами. Около 30 порогов на протяжении 120 км реки Кереть. Берега реки в основном болотистые. Кереть впадает в Белое море в 40 км от поселка Ч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Иовское водохранилище.jpg"/>
          <p:cNvPicPr/>
          <p:nvPr/>
        </p:nvPicPr>
        <p:blipFill>
          <a:blip r:embed="rId1"/>
          <a:stretch/>
        </p:blipFill>
        <p:spPr>
          <a:xfrm>
            <a:off x="4211640" y="260280"/>
            <a:ext cx="4595760" cy="345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http://www.ticrk.ru/resources/doc-4824-ph-gallery-8548-middle.jpg"/>
          <p:cNvPicPr/>
          <p:nvPr/>
        </p:nvPicPr>
        <p:blipFill>
          <a:blip r:embed="rId2"/>
          <a:stretch/>
        </p:blipFill>
        <p:spPr>
          <a:xfrm>
            <a:off x="4211640" y="3860640"/>
            <a:ext cx="45370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500720" y="260280"/>
          <a:ext cx="6095880" cy="4651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65120"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27927"/>
                          </a:solidFill>
                          <a:latin typeface="Tahoma"/>
                        </a:rPr>
                        <a:t>Суна (с водопадом Кива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427640" y="836640"/>
          <a:ext cx="4321080" cy="7342200"/>
        </p:xfrm>
        <a:graphic>
          <a:graphicData uri="http://schemas.openxmlformats.org/drawingml/2006/table">
            <a:tbl>
              <a:tblPr/>
              <a:tblGrid>
                <a:gridCol w="4321080"/>
              </a:tblGrid>
              <a:tr h="7342200">
                <a:tc>
                  <a:txBody>
                    <a:bodyPr lIns="88200" rIns="88200" tIns="44280" bIns="442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     </a:t>
                      </a:r>
                      <a:r>
                        <a:rPr b="0" lang="ru-RU" sz="17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Название реки Суна произносится с ударением на букву у. Протяженность реки составляет около 280 км. Истоком является озеро Киви-Ярви, далее протекает через несколько озёр, впадает в Онежское озеро, образуя Кондопожскую губу. Питание реки — дождевое и снеговое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     </a:t>
                      </a:r>
                      <a:r>
                        <a:rPr b="0" lang="ru-RU" sz="17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В 27 км от устья реки Суна расположен знаменитый водопад Кивач. Кивач один из больших равнинных водопадов. В 32 км от Кивача расположен другой известный вопопад Гирвас. На реке всего более 50 порогов и водопадов, но ниже Кивача Суна судоходн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     </a:t>
                      </a:r>
                      <a:r>
                        <a:rPr b="0" lang="ru-RU" sz="17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На всем протяжении реки — сплав леса, для обхода Кивача устроен особый спуск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     </a:t>
                      </a:r>
                      <a:r>
                        <a:rPr b="0" lang="ru-RU" sz="17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На реке построен Сунский каскад ГЭС, наиболее крупные — Кондопожская ГЭС и Пальеозерская ГЭ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200" marR="88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http://www.ticrk.ru/resources/doc-4817-ph-gallery-4818-middle.jpg"/>
          <p:cNvPicPr/>
          <p:nvPr/>
        </p:nvPicPr>
        <p:blipFill>
          <a:blip r:embed="rId1"/>
          <a:stretch/>
        </p:blipFill>
        <p:spPr>
          <a:xfrm>
            <a:off x="324000" y="260280"/>
            <a:ext cx="3914640" cy="261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Картинка 354 из 31396"/>
          <p:cNvPicPr/>
          <p:nvPr/>
        </p:nvPicPr>
        <p:blipFill>
          <a:blip r:embed="rId2"/>
          <a:stretch/>
        </p:blipFill>
        <p:spPr>
          <a:xfrm>
            <a:off x="250920" y="3284640"/>
            <a:ext cx="40035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08:01:54Z</dcterms:created>
  <dc:creator>География</dc:creator>
  <dc:description/>
  <dc:language>en-US</dc:language>
  <cp:lastModifiedBy>Admin</cp:lastModifiedBy>
  <dcterms:modified xsi:type="dcterms:W3CDTF">2012-04-10T06:02:12Z</dcterms:modified>
  <cp:revision>27</cp:revision>
  <dc:subject/>
  <dc:title>Слайд 1</dc:title>
</cp:coreProperties>
</file>