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2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7.jpeg" ContentType="image/jpeg"/>
  <Override PartName="/ppt/media/image18.png" ContentType="image/png"/>
  <Override PartName="/ppt/media/image2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346C-1E3B-4398-B86B-80765F2A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0493-CD44-4E9A-91BE-885DF349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7EC6-CC97-4D9E-84E4-06642B7F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9F7F-0275-463B-B2CD-7B94D7C9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2C2F-C656-4FDE-A758-49186343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EC1F-CF66-49E2-8A80-17C0E897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8AF9-E7E3-4669-820E-FA473AE5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89AF-D755-4987-B138-26AFFE6B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D081-98EF-44D7-9481-12D34A4E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FDD6-2CB8-4856-BB49-AC68FD2D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4941-81B0-4B05-AA45-894DF806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A82F-8C42-4864-B85A-FE1E20EF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E82B-1F90-4E07-8B40-6E60546AFF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dukat.ua/" TargetMode="External"/><Relationship Id="rId2" Type="http://schemas.openxmlformats.org/officeDocument/2006/relationships/hyperlink" Target="http://www.familyhome.ru/" TargetMode="External"/><Relationship Id="rId3" Type="http://schemas.openxmlformats.org/officeDocument/2006/relationships/hyperlink" Target="http://www.kanstovary.ru/published/publicdata/KANS/attachments/SC/products_pictures/963101a.gif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Гигиена жилищ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940000" y="4868640"/>
            <a:ext cx="32036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8ec000"/>
              </a:solidFill>
              <a:latin typeface="Tahoma"/>
            </a:endParaRPr>
          </a:p>
        </p:txBody>
      </p:sp>
      <p:pic>
        <p:nvPicPr>
          <p:cNvPr id="43" name="Picture 14" descr="p0104"/>
          <p:cNvPicPr/>
          <p:nvPr/>
        </p:nvPicPr>
        <p:blipFill>
          <a:blip r:embed="rId1"/>
          <a:stretch/>
        </p:blipFill>
        <p:spPr>
          <a:xfrm>
            <a:off x="5867280" y="4599000"/>
            <a:ext cx="2556000" cy="225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5" descr="c8defe0c42fb8f3c58b5ef23f68494df"/>
          <p:cNvPicPr/>
          <p:nvPr/>
        </p:nvPicPr>
        <p:blipFill>
          <a:blip r:embed="rId1"/>
          <a:stretch/>
        </p:blipFill>
        <p:spPr>
          <a:xfrm>
            <a:off x="14400" y="0"/>
            <a:ext cx="9129600" cy="4508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628"/>
          <p:cNvPicPr/>
          <p:nvPr/>
        </p:nvPicPr>
        <p:blipFill>
          <a:blip r:embed="rId2"/>
          <a:stretch/>
        </p:blipFill>
        <p:spPr>
          <a:xfrm>
            <a:off x="4427640" y="4437000"/>
            <a:ext cx="1903320" cy="2421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22"/>
          <p:cNvPicPr/>
          <p:nvPr/>
        </p:nvPicPr>
        <p:blipFill>
          <a:blip r:embed="rId3"/>
          <a:stretch/>
        </p:blipFill>
        <p:spPr>
          <a:xfrm>
            <a:off x="7199280" y="4437000"/>
            <a:ext cx="1944720" cy="2421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klin2"/>
          <p:cNvPicPr/>
          <p:nvPr/>
        </p:nvPicPr>
        <p:blipFill>
          <a:blip r:embed="rId4"/>
          <a:stretch/>
        </p:blipFill>
        <p:spPr>
          <a:xfrm>
            <a:off x="5940360" y="4437000"/>
            <a:ext cx="1295640" cy="2421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31-1877"/>
          <p:cNvPicPr/>
          <p:nvPr/>
        </p:nvPicPr>
        <p:blipFill>
          <a:blip r:embed="rId5"/>
          <a:stretch/>
        </p:blipFill>
        <p:spPr>
          <a:xfrm>
            <a:off x="2771640" y="4437000"/>
            <a:ext cx="1981440" cy="2421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window7"/>
          <p:cNvPicPr/>
          <p:nvPr/>
        </p:nvPicPr>
        <p:blipFill>
          <a:blip r:embed="rId6"/>
          <a:stretch/>
        </p:blipFill>
        <p:spPr>
          <a:xfrm>
            <a:off x="0" y="4508640"/>
            <a:ext cx="3059280" cy="234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ытье  ванны, раковины, унитаз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ачала снимите с полочек все баночки с кремом, тюбики и флакончики - их можно сложить в раковину или в пластиковую мис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трите шкафчики, полочки и зеркало. Поставьте ваши баночки обратно, предварительно вытирая их чистой влажной тряпочк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рошенько выполощите все тряпочки и губки, которыми вы пользовались во время уборки, вымойте ведро и налейте туда чистой воды - это нужно для мытья пола в ванной в конце убор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лее, если необходимо, протрите кафель специальным средством, которое не оставляет разводов, почистите ванну, раковину, натрите кран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мойте пол, выполощите тряпку и вылейте воду в туал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перь почистите туалет дезинфицирующими средства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lambo1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446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25b00"/>
                </a:solidFill>
                <a:latin typeface="Tahoma"/>
              </a:rPr>
              <a:t>Средства для мытья сантехни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8" descr="thumbnail"/>
          <p:cNvPicPr/>
          <p:nvPr/>
        </p:nvPicPr>
        <p:blipFill>
          <a:blip r:embed="rId1"/>
          <a:stretch/>
        </p:blipFill>
        <p:spPr>
          <a:xfrm>
            <a:off x="0" y="4262400"/>
            <a:ext cx="4067280" cy="2595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95280" y="404280"/>
            <a:ext cx="5311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25b00"/>
                </a:solidFill>
                <a:latin typeface="Tahoma"/>
              </a:rPr>
              <a:t>Дезинфицирующие и чистящие средст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11" descr="963101a"/>
          <p:cNvPicPr/>
          <p:nvPr/>
        </p:nvPicPr>
        <p:blipFill>
          <a:blip r:embed="rId2"/>
          <a:stretch/>
        </p:blipFill>
        <p:spPr>
          <a:xfrm>
            <a:off x="4211640" y="2354400"/>
            <a:ext cx="4932360" cy="4503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gubka_seitz"/>
          <p:cNvPicPr/>
          <p:nvPr/>
        </p:nvPicPr>
        <p:blipFill>
          <a:blip r:embed="rId3"/>
          <a:stretch/>
        </p:blipFill>
        <p:spPr>
          <a:xfrm>
            <a:off x="0" y="2205000"/>
            <a:ext cx="4067280" cy="2060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santeh-1"/>
          <p:cNvPicPr/>
          <p:nvPr/>
        </p:nvPicPr>
        <p:blipFill>
          <a:blip r:embed="rId4"/>
          <a:stretch/>
        </p:blipFill>
        <p:spPr>
          <a:xfrm>
            <a:off x="0" y="0"/>
            <a:ext cx="4067280" cy="2212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Organization Chart 18"/>
          <p:cNvGrpSpPr/>
          <p:nvPr/>
        </p:nvGrpSpPr>
        <p:grpSpPr>
          <a:xfrm>
            <a:off x="0" y="189000"/>
            <a:ext cx="9142920" cy="6667200"/>
            <a:chOff x="0" y="189000"/>
            <a:chExt cx="9142920" cy="6667200"/>
          </a:xfrm>
        </p:grpSpPr>
        <p:cxnSp>
          <p:nvCxnSpPr>
            <p:cNvPr id="84" name="_s2052"/>
            <p:cNvCxnSpPr>
              <a:stCxn id="85" idx="0"/>
              <a:endCxn id="86" idx="2"/>
            </p:cNvCxnSpPr>
            <p:nvPr/>
          </p:nvCxnSpPr>
          <p:spPr>
            <a:xfrm flipV="1" rot="16200000">
              <a:off x="5135400" y="2291400"/>
              <a:ext cx="1334160" cy="2461680"/>
            </a:xfrm>
            <a:prstGeom prst="bentConnector3">
              <a:avLst>
                <a:gd name="adj1" fmla="val 127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" name="_s2053"/>
            <p:cNvCxnSpPr>
              <a:stCxn id="88" idx="0"/>
              <a:endCxn id="86" idx="2"/>
            </p:cNvCxnSpPr>
            <p:nvPr/>
          </p:nvCxnSpPr>
          <p:spPr>
            <a:xfrm flipH="1" flipV="1" rot="5400000">
              <a:off x="2673720" y="2291040"/>
              <a:ext cx="1334160" cy="2462760"/>
            </a:xfrm>
            <a:prstGeom prst="bentConnector3">
              <a:avLst>
                <a:gd name="adj1" fmla="val 127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6" name="_s2054"/>
            <p:cNvSpPr/>
            <p:nvPr/>
          </p:nvSpPr>
          <p:spPr>
            <a:xfrm>
              <a:off x="2462040" y="189000"/>
              <a:ext cx="4219920" cy="2666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Создание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микроклимата в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жилых помещениях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_s2055"/>
            <p:cNvSpPr/>
            <p:nvPr/>
          </p:nvSpPr>
          <p:spPr>
            <a:xfrm>
              <a:off x="0" y="4189320"/>
              <a:ext cx="4219920" cy="2666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Воздухоувлажнитель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_s2056"/>
            <p:cNvSpPr/>
            <p:nvPr/>
          </p:nvSpPr>
          <p:spPr>
            <a:xfrm>
              <a:off x="4923000" y="4189320"/>
              <a:ext cx="4219920" cy="2666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Кондиционер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ВЛАЖНИТЕЛ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Picture 9" descr="_________________4f7c0a92eef28"/>
          <p:cNvPicPr/>
          <p:nvPr/>
        </p:nvPicPr>
        <p:blipFill>
          <a:blip r:embed="rId1"/>
          <a:stretch/>
        </p:blipFill>
        <p:spPr>
          <a:xfrm>
            <a:off x="0" y="1773360"/>
            <a:ext cx="2484360" cy="2376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452e5b57434ce8daf2df77e94acbf0a0"/>
          <p:cNvPicPr/>
          <p:nvPr/>
        </p:nvPicPr>
        <p:blipFill>
          <a:blip r:embed="rId2"/>
          <a:stretch/>
        </p:blipFill>
        <p:spPr>
          <a:xfrm>
            <a:off x="6588000" y="1773360"/>
            <a:ext cx="2556000" cy="2376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cfeb79cdefb32f0f230bfa400ce2a171"/>
          <p:cNvPicPr/>
          <p:nvPr/>
        </p:nvPicPr>
        <p:blipFill>
          <a:blip r:embed="rId3"/>
          <a:stretch/>
        </p:blipFill>
        <p:spPr>
          <a:xfrm>
            <a:off x="0" y="4229280"/>
            <a:ext cx="2484360" cy="2628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2752"/>
          <p:cNvPicPr/>
          <p:nvPr/>
        </p:nvPicPr>
        <p:blipFill>
          <a:blip r:embed="rId4"/>
          <a:stretch/>
        </p:blipFill>
        <p:spPr>
          <a:xfrm>
            <a:off x="6588000" y="4221000"/>
            <a:ext cx="2556000" cy="2637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3072040"/>
          <p:cNvPicPr/>
          <p:nvPr/>
        </p:nvPicPr>
        <p:blipFill>
          <a:blip r:embed="rId5"/>
          <a:stretch/>
        </p:blipFill>
        <p:spPr>
          <a:xfrm>
            <a:off x="2484360" y="1773360"/>
            <a:ext cx="4103640" cy="5084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ОНДИЦИОНЕР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Picture 9" descr="6ee0175459de"/>
          <p:cNvPicPr/>
          <p:nvPr/>
        </p:nvPicPr>
        <p:blipFill>
          <a:blip r:embed="rId1"/>
          <a:stretch/>
        </p:blipFill>
        <p:spPr>
          <a:xfrm>
            <a:off x="1116000" y="1773360"/>
            <a:ext cx="2664000" cy="2636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110754-1"/>
          <p:cNvPicPr/>
          <p:nvPr/>
        </p:nvPicPr>
        <p:blipFill>
          <a:blip r:embed="rId2"/>
          <a:stretch/>
        </p:blipFill>
        <p:spPr>
          <a:xfrm>
            <a:off x="684360" y="4481640"/>
            <a:ext cx="3384360" cy="237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tim_fr_sd"/>
          <p:cNvPicPr/>
          <p:nvPr/>
        </p:nvPicPr>
        <p:blipFill>
          <a:blip r:embed="rId3"/>
          <a:stretch/>
        </p:blipFill>
        <p:spPr>
          <a:xfrm>
            <a:off x="5580000" y="1773360"/>
            <a:ext cx="2295720" cy="2563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92"/>
          <p:cNvPicPr/>
          <p:nvPr/>
        </p:nvPicPr>
        <p:blipFill>
          <a:blip r:embed="rId4"/>
          <a:stretch/>
        </p:blipFill>
        <p:spPr>
          <a:xfrm>
            <a:off x="5003640" y="4437000"/>
            <a:ext cx="3384720" cy="2408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ечатные источни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Технология. Обслуживающий труд» 6 класс, учебник для учащихся общеобразовательных учреждений, Ю. В. Крупская, О. А. Кожина, Н. В. Синица ,под редакцией В.Д. Симоненко, Москва, Вентана – Граф, 2011 год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нтернет-ресурс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ww.artclining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klimats-control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www.dukat.u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eco-tovary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forum.0day.kiev.u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familyhome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ртинки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http://www.kanstovary.ru/published/publicdata/KANS/attachments/SC/products_pictures/963101a.gif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www.charufa.ru/products_pictures/santeh-1m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files.storeland.ru/web/upload/sitefiles/1/83/82562/%D0%B3%D1%83%D0%B1%D0%BA%D0%B0%20%D0%97%D0%BE%D0%BB%D1%83%D1%88%D0%BA%D0%B0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www.dukat.ua/img/Z/A/ZA0100_b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www.sarbc.ru/img/enterprise/29448/gen1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bis.marimedia.ru/media/photos/17053/4351e3611d1502952c7b6325df16870e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www.sibmedport.ru/media/1252089518_1251794858_c26-01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www.uborkadom.ru/assets/images/uborka-ofisnyj-pomeschenie-ezhednevnyj-kompleksnyj-biznes-centr-1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ponedelnik.info/resources/filesDb/b/32/b321663c9cf250c5d103b1740185b705.gif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stroka.info/userfiles/board/large/000082666-20120226161031-XhotT4ibrOTm2hZ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spec-yborka.ru/gallery/lambo1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писок использованных ресурсов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Organization Chart 6"/>
          <p:cNvGrpSpPr/>
          <p:nvPr/>
        </p:nvGrpSpPr>
        <p:grpSpPr>
          <a:xfrm>
            <a:off x="582480" y="480960"/>
            <a:ext cx="7909920" cy="5586120"/>
            <a:chOff x="582480" y="480960"/>
            <a:chExt cx="7909920" cy="5586120"/>
          </a:xfrm>
        </p:grpSpPr>
        <p:cxnSp>
          <p:nvCxnSpPr>
            <p:cNvPr id="45" name="_s1028"/>
            <p:cNvCxnSpPr>
              <a:stCxn id="46" idx="0"/>
              <a:endCxn id="47" idx="2"/>
            </p:cNvCxnSpPr>
            <p:nvPr/>
          </p:nvCxnSpPr>
          <p:spPr>
            <a:xfrm flipV="1" rot="16200000">
              <a:off x="5362560" y="1888920"/>
              <a:ext cx="1117800" cy="2769120"/>
            </a:xfrm>
            <a:prstGeom prst="bentConnector3">
              <a:avLst>
                <a:gd name="adj1" fmla="val 97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8" name="_s1029"/>
            <p:cNvCxnSpPr>
              <a:stCxn id="49" idx="0"/>
              <a:endCxn id="47" idx="2"/>
            </p:cNvCxnSpPr>
            <p:nvPr/>
          </p:nvCxnSpPr>
          <p:spPr>
            <a:xfrm flipV="1">
              <a:off x="4537440" y="2714760"/>
              <a:ext cx="3600" cy="1117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0" name="_s1030"/>
            <p:cNvCxnSpPr>
              <a:stCxn id="51" idx="0"/>
              <a:endCxn id="47" idx="2"/>
            </p:cNvCxnSpPr>
            <p:nvPr/>
          </p:nvCxnSpPr>
          <p:spPr>
            <a:xfrm flipH="1" flipV="1" rot="5400000">
              <a:off x="2594160" y="1889280"/>
              <a:ext cx="1117800" cy="2769120"/>
            </a:xfrm>
            <a:prstGeom prst="bentConnector3">
              <a:avLst>
                <a:gd name="adj1" fmla="val 97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7" name="_s1031"/>
            <p:cNvSpPr/>
            <p:nvPr/>
          </p:nvSpPr>
          <p:spPr>
            <a:xfrm>
              <a:off x="3350880" y="480960"/>
              <a:ext cx="2372760" cy="2234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Уборка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_s1032"/>
            <p:cNvSpPr/>
            <p:nvPr/>
          </p:nvSpPr>
          <p:spPr>
            <a:xfrm>
              <a:off x="582480" y="3832560"/>
              <a:ext cx="2372760" cy="2234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Ежедневная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 сухая 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_s1033"/>
            <p:cNvSpPr/>
            <p:nvPr/>
          </p:nvSpPr>
          <p:spPr>
            <a:xfrm>
              <a:off x="3350880" y="3832560"/>
              <a:ext cx="2372760" cy="2234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Еженедельная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влажная 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_s1034"/>
            <p:cNvSpPr/>
            <p:nvPr/>
          </p:nvSpPr>
          <p:spPr>
            <a:xfrm>
              <a:off x="6119640" y="3832560"/>
              <a:ext cx="2372760" cy="2234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Сезонная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генеральная 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етри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борка посте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тирание пы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лажная уборка пола в кух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тье унитаза дезинфицирующим средств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Ежедневна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41927_1"/>
          <p:cNvPicPr/>
          <p:nvPr/>
        </p:nvPicPr>
        <p:blipFill>
          <a:blip r:embed="rId1"/>
          <a:stretch/>
        </p:blipFill>
        <p:spPr>
          <a:xfrm>
            <a:off x="0" y="3716280"/>
            <a:ext cx="4572000" cy="3141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gen1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789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uborka-ofisnyj-pomeschenie-ezhednevnyj-kompleksnyj-biznes-centr-1"/>
          <p:cNvPicPr/>
          <p:nvPr/>
        </p:nvPicPr>
        <p:blipFill>
          <a:blip r:embed="rId3"/>
          <a:stretch/>
        </p:blipFill>
        <p:spPr>
          <a:xfrm>
            <a:off x="4427640" y="3716280"/>
            <a:ext cx="4716360" cy="3141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b321663c9cf250c5d103b1740185b705"/>
          <p:cNvPicPr/>
          <p:nvPr/>
        </p:nvPicPr>
        <p:blipFill>
          <a:blip r:embed="rId4"/>
          <a:stretch/>
        </p:blipFill>
        <p:spPr>
          <a:xfrm>
            <a:off x="0" y="0"/>
            <a:ext cx="4427640" cy="3716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Удаление пыли с любой поверхности, ламп, торшеров, светильников, приборах ночного видения.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отирка сантехники, мойка ванной и туалетных комнат, протирка кухонных гарнитуров, вытяжек, кулеров, микроволновых печь, газовых пли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отирка коридоров, прихожих,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ытье полов (паркет, ламинат, линолеум, плитка, дерево и т.д.), мытье натяжных потолк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истка ковролина, ковров и всевозможных ковровых покрыт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истка мягкой  мебел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чистка кондиционеров, радиаторов, батарей отопления.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лажная убор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2" descr="000082666-20120226161031-XhotT4ibrOTm2h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252720" y="5510160"/>
            <a:ext cx="572436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ec000"/>
                </a:solidFill>
                <a:latin typeface="Tahoma"/>
              </a:rPr>
              <a:t>Влажная убор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1252089518_1251794858_c26-0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783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5486400"/>
            <a:ext cx="7164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25b00"/>
                </a:solidFill>
                <a:latin typeface="Tahoma"/>
              </a:rPr>
              <a:t>Генеральная убор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ытье окон и двере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даление пыли мягкой тряпкой со стек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тье рамы и подоконников теплой водой с моющим средств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тье стекол специальным моющим средством с одной стороны по горизонтали, а с другой по вертика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оласкивание стекол холодной вод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тирание стекол салфеткой из нетканых материа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4351e3611d1502952c7b6325df16870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37800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ahoma"/>
              </a:rPr>
              <a:t>Средства для мытья окон и двере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6:55:26Z</dcterms:created>
  <dc:creator>1</dc:creator>
  <dc:description/>
  <dc:language>en-US</dc:language>
  <cp:lastModifiedBy>1</cp:lastModifiedBy>
  <dcterms:modified xsi:type="dcterms:W3CDTF">2017-04-21T01:55:35Z</dcterms:modified>
  <cp:revision>10</cp:revision>
  <dc:subject/>
  <dc:title>Гигиена жилища</dc:title>
</cp:coreProperties>
</file>