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3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34.png" ContentType="image/png"/>
  <Override PartName="/ppt/media/image38.jpeg" ContentType="image/jpeg"/>
  <Override PartName="/ppt/media/image12.png" ContentType="image/png"/>
  <Override PartName="/ppt/media/image31.jpeg" ContentType="image/jpeg"/>
  <Override PartName="/ppt/media/image25.jpeg" ContentType="image/jpeg"/>
  <Override PartName="/ppt/media/image33.png" ContentType="image/png"/>
  <Override PartName="/ppt/media/image1.jpeg" ContentType="image/jpeg"/>
  <Override PartName="/ppt/media/image35.jpeg" ContentType="image/jpeg"/>
  <Override PartName="/ppt/media/image29.jpeg" ContentType="image/jpeg"/>
  <Override PartName="/ppt/media/image41.jpeg" ContentType="image/jpeg"/>
  <Override PartName="/ppt/media/image8.png" ContentType="image/png"/>
  <Override PartName="/ppt/media/image39.jpeg" ContentType="image/jpeg"/>
  <Override PartName="/ppt/media/image42.jpeg" ContentType="image/jpeg"/>
  <Override PartName="/ppt/media/image10.jpeg" ContentType="image/jpeg"/>
  <Override PartName="/ppt/media/image14.png" ContentType="image/png"/>
  <Override PartName="/ppt/media/image27.jpeg" ContentType="image/jpeg"/>
  <Override PartName="/ppt/media/image5.jpeg" ContentType="image/jpeg"/>
  <Override PartName="/ppt/media/image4.jpeg" ContentType="image/jpeg"/>
  <Override PartName="/ppt/media/image40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06C02-9EB7-4B5E-84E7-4E8FF309BB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F0B3D-9DA5-4084-9C7D-6F53127D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EEB94-2E1F-4CAD-B7A0-1B864C3F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3C723-ADFE-4359-8970-EF9322C5CB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FFFC2-16A0-4A85-810B-654B4D96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87B4E-903D-4569-BB0A-5E1D22E4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5FDC5-7002-4822-9262-F8F79664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B2414-1856-4FD8-BF96-F703C7CC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9D5DE-3A92-4E47-8CD1-A33A3E64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15327-DAD2-4A04-8F24-DE4203C7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F2FE7-EFA4-4425-8D69-E4C02655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C1BC4-96F1-4413-B350-019465D1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AA4127-9FF5-4053-A867-4DEA259BFA2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pn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image" Target="../media/image35.jpeg"/><Relationship Id="rId14" Type="http://schemas.openxmlformats.org/officeDocument/2006/relationships/image" Target="../media/image36.jpeg"/><Relationship Id="rId15" Type="http://schemas.openxmlformats.org/officeDocument/2006/relationships/image" Target="../media/image37.jpeg"/><Relationship Id="rId16" Type="http://schemas.openxmlformats.org/officeDocument/2006/relationships/image" Target="../media/image38.jpeg"/><Relationship Id="rId17" Type="http://schemas.openxmlformats.org/officeDocument/2006/relationships/image" Target="../media/image39.jpeg"/><Relationship Id="rId18" Type="http://schemas.openxmlformats.org/officeDocument/2006/relationships/image" Target="../media/image40.pn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  <a:ea typeface="Microsoft YaHei"/>
              </a:rPr>
              <a:t>Уход за одеждо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2133720" cy="2133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  <a:ea typeface="Microsoft YaHei"/>
              </a:rPr>
              <a:t>       </a:t>
            </a:r>
            <a:r>
              <a:rPr b="1" i="1" lang="ru-RU" sz="4400" spc="-1" strike="noStrike">
                <a:solidFill>
                  <a:srgbClr val="c00000"/>
                </a:solidFill>
                <a:latin typeface="Calibri"/>
                <a:ea typeface="Microsoft YaHe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Microsoft YaHe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Microsoft YaHei"/>
              </a:rPr>
              <a:t>Самое интересное на уроке было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Microsoft YaHei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Microsoft YaHei"/>
              </a:rPr>
              <a:t>Чему я научилась……………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Microsoft YaHe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Microsoft YaHei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Microsoft YaHei"/>
              </a:rPr>
              <a:t>Что я узнала нового…………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1371600"/>
            <a:ext cx="82296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  <a:ea typeface="Microsoft YaHei"/>
              </a:rPr>
              <a:t>Спасибо 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  <a:ea typeface="Microsoft YaHei"/>
              </a:rPr>
              <a:t>Из ис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2209680" cy="2819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486400" y="533520"/>
            <a:ext cx="1903320" cy="2243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095880" y="2971800"/>
            <a:ext cx="1903680" cy="211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3352680" y="2057400"/>
            <a:ext cx="1903680" cy="3062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9" name=""/>
          <p:cNvSpPr/>
          <p:nvPr/>
        </p:nvSpPr>
        <p:spPr>
          <a:xfrm>
            <a:off x="1295280" y="5181480"/>
            <a:ext cx="662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У разных народов существовали различные способы стирки. Но все они сводились, в основном, к замачиванию белья в холодной или горячей воде, после чего его терли, били, колотили по плоским камням на берегу реки, полоскали, выжимали и суши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Microsoft YaHei"/>
              </a:rPr>
              <a:t>Разнообразие стирального поро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35200" y="3273480"/>
            <a:ext cx="3438360" cy="2762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321600" y="1139760"/>
            <a:ext cx="2066760" cy="2298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03360" y="1749600"/>
            <a:ext cx="1689120" cy="2828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6172200" y="3505320"/>
            <a:ext cx="1962000" cy="2914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4038480" y="3276720"/>
            <a:ext cx="2057400" cy="2361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2279520" y="1517760"/>
            <a:ext cx="1920960" cy="2158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4260960" y="1139760"/>
            <a:ext cx="2146320" cy="214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  <a:ea typeface="Microsoft YaHei"/>
              </a:rPr>
              <a:t>Средства для стир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35200" y="1139760"/>
            <a:ext cx="1815840" cy="2444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03360" y="3578400"/>
            <a:ext cx="4163760" cy="2298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394320" y="907920"/>
            <a:ext cx="2011320" cy="3140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2432160" y="1292400"/>
            <a:ext cx="1841400" cy="2145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5084640" y="4035600"/>
            <a:ext cx="3419640" cy="3803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4071960" y="1609560"/>
            <a:ext cx="2335320" cy="21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  <a:ea typeface="Microsoft YaHei"/>
              </a:rPr>
              <a:t>Два золотых прави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1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  <a:ea typeface="Microsoft YaHe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1" i="1" lang="ru-RU" sz="4400" spc="-1" strike="noStrike">
                <a:solidFill>
                  <a:srgbClr val="c00000"/>
                </a:solidFill>
                <a:latin typeface="Calibri"/>
                <a:ea typeface="Microsoft YaHei"/>
              </a:rPr>
              <a:t>Белые вещи не стирай с             цветным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  <a:ea typeface="Microsoft YaHei"/>
              </a:rPr>
              <a:t> </a:t>
            </a:r>
            <a:r>
              <a:rPr b="1" i="1" lang="ru-RU" sz="4400" spc="-1" strike="noStrike">
                <a:solidFill>
                  <a:srgbClr val="c00000"/>
                </a:solidFill>
                <a:latin typeface="Calibri"/>
                <a:ea typeface="Microsoft YaHei"/>
              </a:rPr>
              <a:t>Цветные вещи никогда не кипят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  <a:ea typeface="Microsoft YaHei"/>
              </a:rPr>
              <a:t>Символы стирки бел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430440" y="1219320"/>
            <a:ext cx="4795920" cy="4876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82560" y="3651120"/>
            <a:ext cx="2792520" cy="23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  <a:ea typeface="Microsoft YaHei"/>
              </a:rPr>
              <a:t>Символы стирки бел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562200" y="1219320"/>
            <a:ext cx="4667400" cy="5029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14400" y="3581280"/>
            <a:ext cx="2511360" cy="25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1100160" cy="2538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 rot="19980000">
            <a:off x="1358640" y="2971440"/>
            <a:ext cx="1233360" cy="914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822320" y="450720"/>
            <a:ext cx="2468520" cy="1854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6400800" y="533520"/>
            <a:ext cx="685800" cy="1771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2133720" y="4952880"/>
            <a:ext cx="1542960" cy="1543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2590920" y="2209680"/>
            <a:ext cx="1752480" cy="2336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4797360" y="450720"/>
            <a:ext cx="1000080" cy="1805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 rot="240000">
            <a:off x="5375160" y="5451480"/>
            <a:ext cx="1104840" cy="1112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1" name="" descr=""/>
          <p:cNvPicPr/>
          <p:nvPr/>
        </p:nvPicPr>
        <p:blipFill>
          <a:blip r:embed="rId10"/>
          <a:stretch/>
        </p:blipFill>
        <p:spPr>
          <a:xfrm>
            <a:off x="3657600" y="4648320"/>
            <a:ext cx="1130400" cy="1585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1"/>
          <a:stretch/>
        </p:blipFill>
        <p:spPr>
          <a:xfrm>
            <a:off x="603360" y="4565520"/>
            <a:ext cx="1427040" cy="18957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2"/>
          <a:stretch/>
        </p:blipFill>
        <p:spPr>
          <a:xfrm>
            <a:off x="4718160" y="3956040"/>
            <a:ext cx="1073160" cy="1609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3"/>
          <a:stretch/>
        </p:blipFill>
        <p:spPr>
          <a:xfrm>
            <a:off x="5791320" y="2666880"/>
            <a:ext cx="533160" cy="165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5" name="" descr=""/>
          <p:cNvPicPr/>
          <p:nvPr/>
        </p:nvPicPr>
        <p:blipFill>
          <a:blip r:embed="rId14"/>
          <a:stretch/>
        </p:blipFill>
        <p:spPr>
          <a:xfrm>
            <a:off x="4419720" y="2209680"/>
            <a:ext cx="1218960" cy="1509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6" name="" descr=""/>
          <p:cNvPicPr/>
          <p:nvPr/>
        </p:nvPicPr>
        <p:blipFill>
          <a:blip r:embed="rId15"/>
          <a:stretch/>
        </p:blipFill>
        <p:spPr>
          <a:xfrm>
            <a:off x="533520" y="3048120"/>
            <a:ext cx="709560" cy="1523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6"/>
          <a:stretch/>
        </p:blipFill>
        <p:spPr>
          <a:xfrm>
            <a:off x="6781680" y="2819520"/>
            <a:ext cx="762120" cy="1371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7"/>
          <a:stretch/>
        </p:blipFill>
        <p:spPr>
          <a:xfrm>
            <a:off x="7696080" y="914400"/>
            <a:ext cx="762120" cy="2133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" name="" descr=""/>
          <p:cNvPicPr/>
          <p:nvPr/>
        </p:nvPicPr>
        <p:blipFill>
          <a:blip r:embed="rId18"/>
          <a:stretch/>
        </p:blipFill>
        <p:spPr>
          <a:xfrm>
            <a:off x="6321600" y="4035600"/>
            <a:ext cx="2603160" cy="210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Microsoft YaHei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990720" y="1447920"/>
            <a:ext cx="3512880" cy="4830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800600" y="1371600"/>
            <a:ext cx="3513240" cy="4754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игорь</cp:lastModifiedBy>
  <dcterms:modified xsi:type="dcterms:W3CDTF">2012-11-17T17:36:06Z</dcterms:modified>
  <cp:revision>29</cp:revision>
  <dc:subject/>
  <dc:title>Название презентации</dc:title>
</cp:coreProperties>
</file>