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38.jpeg" ContentType="image/jpeg"/>
  <Override PartName="/ppt/media/image12.png" ContentType="image/png"/>
  <Override PartName="/ppt/media/image31.jpeg" ContentType="image/jpeg"/>
  <Override PartName="/ppt/media/image25.jpeg" ContentType="image/jpeg"/>
  <Override PartName="/ppt/media/image33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42.jpeg" ContentType="image/jpeg"/>
  <Override PartName="/ppt/media/image10.jpeg" ContentType="image/jpeg"/>
  <Override PartName="/ppt/media/image14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2E76-4CFE-48FC-A1E5-064646B91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A69F-95F0-48BC-B462-8EFA7654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F3AD-8D73-4D8A-BBAB-36A25EA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6D35-72F4-4319-8D42-0C171C9DA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D9E9-D2FF-49A7-884E-661B3F5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C012-7092-435D-A3FB-7A21DBF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572C-2962-4400-9C79-2536C019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10C5-C0E8-4DEC-ABE7-1D91294D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C651-7E2F-482E-9721-101193EF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6D11-3E84-4E8D-91E0-F4A28CA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B4CA-1691-44D1-B341-DA0F9463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72B3-CFB9-48F6-90B0-15C0FDA9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D1DA1-8404-49FB-929A-8AFA48D072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Microsoft YaHei"/>
              </a:rPr>
              <a:t>Уход за одежд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13372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    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Самое интересное на уроке было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Чему я научилась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Что я узнала нового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3716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209680" cy="281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190332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5880" y="2971800"/>
            <a:ext cx="19036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52680" y="2057400"/>
            <a:ext cx="1903680" cy="3062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1295280" y="5181480"/>
            <a:ext cx="66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У разных народов существовали различные способы стирки. Но все они сводились, в основном, к замачиванию белья в холодной или горячей воде, после чего его терли, били, колотили по плоским камням на берегу реки, полоскали, выжимали и суш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Разнообразие стирального п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5200" y="3273480"/>
            <a:ext cx="3438360" cy="276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21600" y="1139760"/>
            <a:ext cx="2066760" cy="22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3360" y="1749600"/>
            <a:ext cx="1689120" cy="2828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3505320"/>
            <a:ext cx="196200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038480" y="32767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279520" y="1517760"/>
            <a:ext cx="192096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4260960" y="1139760"/>
            <a:ext cx="214632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Средства для сти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5200" y="1139760"/>
            <a:ext cx="1815840" cy="244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3360" y="3578400"/>
            <a:ext cx="41637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394320" y="907920"/>
            <a:ext cx="2011320" cy="314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32160" y="1292400"/>
            <a:ext cx="1841400" cy="214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084640" y="4035600"/>
            <a:ext cx="3419640" cy="380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071960" y="1609560"/>
            <a:ext cx="23353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Два золотых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Белые вещи не стирай с             цветным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Цветные вещи никогда не кипя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Символы стирки бел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30440" y="1219320"/>
            <a:ext cx="479592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2560" y="3651120"/>
            <a:ext cx="279252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Microsoft YaHei"/>
              </a:rPr>
              <a:t>Символы стирки бел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62200" y="1219320"/>
            <a:ext cx="4667400" cy="502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251136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100160" cy="253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19980000">
            <a:off x="1358640" y="2971440"/>
            <a:ext cx="1233360" cy="9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822320" y="450720"/>
            <a:ext cx="2468520" cy="185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00800" y="533520"/>
            <a:ext cx="6858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133720" y="495288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590920" y="220968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797360" y="450720"/>
            <a:ext cx="1000080" cy="18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 rot="240000">
            <a:off x="5375160" y="5451480"/>
            <a:ext cx="1104840" cy="11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657600" y="4648320"/>
            <a:ext cx="1130400" cy="158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03360" y="4565520"/>
            <a:ext cx="1427040" cy="189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4718160" y="395604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5791320" y="2666880"/>
            <a:ext cx="53316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4419720" y="2209680"/>
            <a:ext cx="1218960" cy="15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33520" y="3048120"/>
            <a:ext cx="70956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6781680" y="281952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7696080" y="914400"/>
            <a:ext cx="762120" cy="21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6321600" y="4035600"/>
            <a:ext cx="2603160" cy="21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512880" cy="483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513240" cy="4754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игорь</cp:lastModifiedBy>
  <dcterms:modified xsi:type="dcterms:W3CDTF">2012-11-17T17:36:06Z</dcterms:modified>
  <cp:revision>29</cp:revision>
  <dc:subject/>
  <dc:title>Название презентации</dc:title>
</cp:coreProperties>
</file>