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EA9-6C23-48AF-B7EE-15FF39C2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D9A-261F-476B-924F-9CB2DDF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131-C1F5-49E1-A522-69DB5427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965-33F7-433A-82F2-FFCFBF69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597B-0D23-4248-AE07-563B5A2C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41C0-3533-4839-A83C-0E656E9E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5242-0A89-4355-A651-673EFFAE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F287-4832-4CC5-96ED-AC5D520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9FD0-EAED-494B-9AA1-331759E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479-729F-4715-9D48-6D8F4FDE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8CAF-F990-4634-9826-3B6BD0D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B84-4B89-4AE4-9356-34E88B51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9AA-F7D8-4166-90C5-7BAED38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2702-3C9A-4DF7-A855-CDD9D6E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5B5C-DD5E-4DF2-ABDE-70F43B1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7F37-C502-4578-9165-6F34097C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A1EF-1105-4EE4-BD6A-927F129F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FEB-B207-4E3F-85AE-C09A0CF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7C9-E977-4F5E-971D-B61794C8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653-5AB4-4706-B328-00324C2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463-A4A4-4A1F-A848-064C5AF6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3F0-D042-4971-B022-8E8566A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C54-362C-4848-9696-CBE609C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F8F-E190-41D9-98F1-12AA5543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0FAA-E1E9-4BB0-B027-B3D5C34B21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7D63-84E7-499D-BF74-018BC16C51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2;&#1091;&#1083;&#1072;&#1090;&#1091;&#1088;&#1072;" TargetMode="External"/><Relationship Id="rId2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3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4" Type="http://schemas.openxmlformats.org/officeDocument/2006/relationships/hyperlink" Target="http://ru.wikipedia.org/wiki/&#1057;&#1090;&#1086;&#1095;&#1085;&#1099;&#1077;_&#1074;&#1086;&#1076;&#1099;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2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3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4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5" Type="http://schemas.openxmlformats.org/officeDocument/2006/relationships/hyperlink" Target="http://ru.wikipedia.org/wiki/&#1058;&#1074;&#1105;&#1088;&#1076;&#1099;&#1077;_&#1073;&#1099;&#1090;&#1086;&#1074;&#1099;&#1077;_&#1086;&#1090;&#1093;&#1086;&#1076;&#1099;" TargetMode="External"/><Relationship Id="rId6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7" Type="http://schemas.openxmlformats.org/officeDocument/2006/relationships/hyperlink" Target="http://ru.wikipedia.org/wiki/&#1059;&#1090;&#1080;&#1083;&#1080;&#1079;&#1072;&#1094;&#1080;&#1103;" TargetMode="External"/><Relationship Id="rId8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9" Type="http://schemas.openxmlformats.org/officeDocument/2006/relationships/hyperlink" Target="http://ru.wikipedia.org/wiki/&#1052;&#1077;&#1090;&#1072;&#1083;&#1083;&#1091;&#1088;&#1075;&#1080;&#1103;" TargetMode="External"/><Relationship Id="rId10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7;&#1082;&#1083;&#1086;" TargetMode="External"/><Relationship Id="rId2" Type="http://schemas.openxmlformats.org/officeDocument/2006/relationships/hyperlink" Target="http://tolkslovar.ru/s2730.html" TargetMode="External"/><Relationship Id="rId3" Type="http://schemas.openxmlformats.org/officeDocument/2006/relationships/hyperlink" Target="http://ru.wikipedia.org/wiki/&#1057;&#1090;&#1077;&#1082;&#1083;&#1086;" TargetMode="External"/><Relationship Id="rId4" Type="http://schemas.openxmlformats.org/officeDocument/2006/relationships/hyperlink" Target="http://tolkslovar.ru/s11340.html" TargetMode="External"/><Relationship Id="rId5" Type="http://schemas.openxmlformats.org/officeDocument/2006/relationships/hyperlink" Target="http://ru.wikipedia.org/wiki/&#1057;&#1090;&#1077;&#1082;&#1083;&#1086;" TargetMode="External"/><Relationship Id="rId6" Type="http://schemas.openxmlformats.org/officeDocument/2006/relationships/hyperlink" Target="http://tolkslovar.ru/b7616.html" TargetMode="External"/><Relationship Id="rId7" Type="http://schemas.openxmlformats.org/officeDocument/2006/relationships/hyperlink" Target="http://ru.wikipedia.org/wiki/&#1057;&#1090;&#1077;&#1082;&#1083;&#1086;" TargetMode="External"/><Relationship Id="rId8" Type="http://schemas.openxmlformats.org/officeDocument/2006/relationships/hyperlink" Target="http://tolkslovar.ru/o8794.html" TargetMode="External"/><Relationship Id="rId9" Type="http://schemas.openxmlformats.org/officeDocument/2006/relationships/hyperlink" Target="http://ru.wikipedia.org/wiki/&#1057;&#1090;&#1077;&#1082;&#1083;&#1086;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торичное сырьё</a:t>
            </a:r>
            <a:br>
              <a:rPr sz="4800"/>
            </a:b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урок технологии 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овогодняя снежин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4" descr="оригами к новому году"/>
          <p:cNvPicPr/>
          <p:nvPr/>
        </p:nvPicPr>
        <p:blipFill>
          <a:blip r:embed="rId1"/>
          <a:srcRect l="47295" t="83210" r="24801" b="836"/>
          <a:stretch/>
        </p:blipFill>
        <p:spPr>
          <a:xfrm>
            <a:off x="1763640" y="1444680"/>
            <a:ext cx="5472360" cy="46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222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1. Лист формата А4 складываем пополам и разрезаем, 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2. Каждый лист складываем по диагонали, получаем 2 квадрата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4" descr="оригами к новому году"/>
          <p:cNvPicPr/>
          <p:nvPr/>
        </p:nvPicPr>
        <p:blipFill>
          <a:blip r:embed="rId1"/>
          <a:srcRect l="14" t="20911" r="74206" b="59911"/>
          <a:stretch/>
        </p:blipFill>
        <p:spPr>
          <a:xfrm>
            <a:off x="3564000" y="2050920"/>
            <a:ext cx="5040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3. Получившиеся квадраты складываем еще раз пополам по диагонали. 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4" descr="оригами к новому году"/>
          <p:cNvPicPr/>
          <p:nvPr/>
        </p:nvPicPr>
        <p:blipFill>
          <a:blip r:embed="rId1"/>
          <a:srcRect l="23651" t="20856" r="48425" b="59955"/>
          <a:stretch/>
        </p:blipFill>
        <p:spPr>
          <a:xfrm>
            <a:off x="2700360" y="1652760"/>
            <a:ext cx="5184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4. Делаем надрез (два или три) по середин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оригами к новому году"/>
          <p:cNvPicPr/>
          <p:nvPr/>
        </p:nvPicPr>
        <p:blipFill>
          <a:blip r:embed="rId1"/>
          <a:srcRect l="51149" t="22749" r="21373" b="61198"/>
          <a:stretch/>
        </p:blipFill>
        <p:spPr>
          <a:xfrm>
            <a:off x="539640" y="1441440"/>
            <a:ext cx="6337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5.Раскрываем квадра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4" descr="оригами к новому году"/>
          <p:cNvPicPr/>
          <p:nvPr/>
        </p:nvPicPr>
        <p:blipFill>
          <a:blip r:embed="rId1"/>
          <a:srcRect l="2170" t="40095" r="74199" b="41685"/>
          <a:stretch/>
        </p:blipFill>
        <p:spPr>
          <a:xfrm>
            <a:off x="1692360" y="1488960"/>
            <a:ext cx="53276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6.Склеиваем отрезанные углы внутреннего квадра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4" descr="оригами к новому году"/>
          <p:cNvPicPr/>
          <p:nvPr/>
        </p:nvPicPr>
        <p:blipFill>
          <a:blip r:embed="rId1"/>
          <a:srcRect l="25801" t="40095" r="1183" b="40711"/>
          <a:stretch/>
        </p:blipFill>
        <p:spPr>
          <a:xfrm>
            <a:off x="0" y="1719360"/>
            <a:ext cx="9144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7.Переворачиваем изделие и склеиваем углы внешнего квадра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4" descr="оригами к новому году"/>
          <p:cNvPicPr/>
          <p:nvPr/>
        </p:nvPicPr>
        <p:blipFill>
          <a:blip r:embed="rId1"/>
          <a:srcRect l="34" t="59300" r="50561" b="17841"/>
          <a:stretch/>
        </p:blipFill>
        <p:spPr>
          <a:xfrm>
            <a:off x="250920" y="1413000"/>
            <a:ext cx="8388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8. Делаем 6 таких заготовок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Picture 4" descr="оригами к новому году"/>
          <p:cNvPicPr/>
          <p:nvPr/>
        </p:nvPicPr>
        <p:blipFill>
          <a:blip r:embed="rId1"/>
          <a:srcRect l="49432" t="59295" r="3327" b="17935"/>
          <a:stretch/>
        </p:blipFill>
        <p:spPr>
          <a:xfrm>
            <a:off x="611280" y="1719360"/>
            <a:ext cx="8137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9.Склеиваем верхний угол всех заготовок вмест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Picture 4" descr="оригами к новому году"/>
          <p:cNvPicPr/>
          <p:nvPr/>
        </p:nvPicPr>
        <p:blipFill>
          <a:blip r:embed="rId1"/>
          <a:srcRect l="21501" t="81801" r="50575" b="836"/>
          <a:stretch/>
        </p:blipFill>
        <p:spPr>
          <a:xfrm>
            <a:off x="2340000" y="1700280"/>
            <a:ext cx="583236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пользуемые ресурс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металлолом%20картинки&amp;fp=0&amp;pos=2&amp;uinfo=ww-1007-wh-653-fw-782-fh-448-pd-1&amp;rpt=sima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металлолом%20картинки&amp;fp=0&amp;pos=16&amp;uinfo=ww-1007-wh-653-fw-782-fh-448-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mages.yandex.ru/yandsearch?p=1&amp;text=макулатура%20картинки&amp;fp=1&amp;pos=34&amp;uinfo=ww-1007-wh-653-fw-782-fh-448-pd-1&amp;rpt=simage&amp;img_url=http%3A%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p=1&amp;text=макулатура%20картинки&amp;fp=1&amp;pos=49&amp;uinfo=ww-1007-wh-653-fw-782-fh-448-pd-1&amp;rpt=simage&amp;img_url=http%3A%2F%2Fimg.nr2.ru%2Fpict%2Farts1%2F36%2F89%2F36894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ь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влечь внимание людей к проблеме увеличения объемов образования отх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167"/>
          <p:cNvPicPr/>
          <p:nvPr/>
        </p:nvPicPr>
        <p:blipFill>
          <a:blip r:embed="rId1"/>
          <a:stretch/>
        </p:blipFill>
        <p:spPr>
          <a:xfrm>
            <a:off x="4788000" y="2852640"/>
            <a:ext cx="3827520" cy="2335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5282235_w640_h640_y31051499"/>
          <p:cNvPicPr/>
          <p:nvPr/>
        </p:nvPicPr>
        <p:blipFill>
          <a:blip r:embed="rId2"/>
          <a:stretch/>
        </p:blipFill>
        <p:spPr>
          <a:xfrm>
            <a:off x="611280" y="3645000"/>
            <a:ext cx="3529080" cy="236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За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-развитие познавательно-исследовательской деятельности, проектировочных и технологических умений,  художественно-эстетических способносте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-формирование представлений о том, что такое вторсырьё, как можно использовать текстильные и промышленные отходы, как влияют данные отходы на экологию окружающе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0120614120029"/>
          <p:cNvPicPr/>
          <p:nvPr/>
        </p:nvPicPr>
        <p:blipFill>
          <a:blip r:embed="rId1"/>
          <a:stretch/>
        </p:blipFill>
        <p:spPr>
          <a:xfrm>
            <a:off x="4572000" y="115920"/>
            <a:ext cx="3384720" cy="245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Вторичное сырье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 -  это  вторичные материальные ресурсы, которые в настоящее время могут повторно использоваться в народном хозяйст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1125394_0"/>
          <p:cNvPicPr/>
          <p:nvPr/>
        </p:nvPicPr>
        <p:blipFill>
          <a:blip r:embed="rId1"/>
          <a:stretch/>
        </p:blipFill>
        <p:spPr>
          <a:xfrm>
            <a:off x="5867280" y="429264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TQ618_1"/>
          <p:cNvPicPr/>
          <p:nvPr/>
        </p:nvPicPr>
        <p:blipFill>
          <a:blip r:embed="rId2"/>
          <a:stretch/>
        </p:blipFill>
        <p:spPr>
          <a:xfrm>
            <a:off x="539640" y="4221000"/>
            <a:ext cx="3073680" cy="230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Виды вторичного сырья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Маку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Стек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2"/>
              </a:rPr>
              <a:t>Металлоло́м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3"/>
              </a:rPr>
              <a:t>Химик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Нефте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Пластм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Ре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Древе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4"/>
              </a:rPr>
              <a:t>Сточ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20100709095830"/>
          <p:cNvPicPr/>
          <p:nvPr/>
        </p:nvPicPr>
        <p:blipFill>
          <a:blip r:embed="rId5"/>
          <a:stretch/>
        </p:blipFill>
        <p:spPr>
          <a:xfrm>
            <a:off x="5886360" y="4005360"/>
            <a:ext cx="3257640" cy="267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макулатуры экономит 3,5 мЗ древесин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вторичного полимерного сырья - 0,7 т первичного полимерного сырь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изношенных шин - 0,33 т каучука синтетического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вторичного текстильного сырья - 0,7 т натуральных или синтетических волоко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00124577-20120608024018-9pikJaO0ptaEx2U"/>
          <p:cNvPicPr/>
          <p:nvPr/>
        </p:nvPicPr>
        <p:blipFill>
          <a:blip r:embed="rId1"/>
          <a:stretch/>
        </p:blipFill>
        <p:spPr>
          <a:xfrm>
            <a:off x="0" y="189000"/>
            <a:ext cx="1994040" cy="149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аллол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(металлический л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— общее, собир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    название различ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   металлического 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мусора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 (пришедших в негодность металлических изделий), 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утилизируемог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или не утилизируемого во вторичном 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металлургическом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 цикле. Чаще всего к металлолому относят специально концентрируемый в отведенных местах металлический мусор для последующей переработки (утилиз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pb_b_111114"/>
          <p:cNvPicPr/>
          <p:nvPr/>
        </p:nvPicPr>
        <p:blipFill>
          <a:blip r:embed="rId11"/>
          <a:stretch/>
        </p:blipFill>
        <p:spPr>
          <a:xfrm>
            <a:off x="4932360" y="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укулату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Отслужившие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свой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срок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 изделия из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бумаги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 и картона, старые газеты, бумажные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отходы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 и т.п., которые используются в качестве вторичного сырья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musor_2"/>
          <p:cNvPicPr/>
          <p:nvPr/>
        </p:nvPicPr>
        <p:blipFill>
          <a:blip r:embed="rId10"/>
          <a:stretch/>
        </p:blipFill>
        <p:spPr>
          <a:xfrm>
            <a:off x="5796000" y="3630600"/>
            <a:ext cx="3348000" cy="322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Из макулатуры  получают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упаковочную и оберточную бумаг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карто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лотки для яиц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упаковку для бытовой техник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горшки для высадки семя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дноразовые стаканч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писчую, типографскую и туалетную бумагу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стройматериалы, используемые для теплоизоляции помещений, в частности экологически чистую строительную ват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кровельные материал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контейнеры для транспортировки овощей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дноразовые автомобильные коврик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средства личной гигиены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дноразовую одежд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собо тонкую бумагу для орига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0:35:39Z</dcterms:created>
  <dc:creator>User</dc:creator>
  <dc:description/>
  <dc:language>en-US</dc:language>
  <cp:lastModifiedBy>1</cp:lastModifiedBy>
  <dcterms:modified xsi:type="dcterms:W3CDTF">2020-09-30T01:42:10Z</dcterms:modified>
  <cp:revision>10</cp:revision>
  <dc:subject/>
  <dc:title>Вторичное сырьё урок технологии в 4 классе</dc:title>
</cp:coreProperties>
</file>