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5F3-D790-4CAD-AF0F-24A0C0DF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D52-595D-41C7-BBD9-659A48D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96C-8BE7-4FD8-BE25-FE3313C2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315-E08E-41B8-9A26-A54B7982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C4FC-27BA-4B5E-B4A0-D78EEF0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EA6-DE3C-4AA4-BB06-722A746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AB7-9208-410B-AF49-4B18FB2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DEF0-76C4-481C-BF02-7EE2D22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594B-FA43-409C-A198-390F76C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DB2-6B2A-4554-97D4-0FBA1486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BECE-1F3C-4F64-9AD0-634AFF3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E46-AFD4-437C-B401-BF9FBBA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082F-69CD-4F53-BE8F-1569FEE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A6D-A4C7-4DDA-AA1F-5200019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929-CB0B-4126-970F-8F68188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FC7A-E3EB-47CE-B75E-3FD5DC86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812D-30F7-4AA5-B354-E28AFEAE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31E-0455-4C17-A195-5D25E35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3BE-8DD7-4A0D-9B1D-DFA737E0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426-8383-47F9-A765-D771BD9B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E5B-049A-4FDC-8FFA-9A03EFE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F5A-1058-43CC-883B-732259B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F28-EEF8-457E-8E7D-3048EC3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BE5-CA01-428B-B475-CA950E1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A66-1C29-4B93-BE9D-4CB644E465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924-2E68-4291-B6F2-34D4F84998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83;&#1072;&#1090;&#1091;&#1088;&#1072;" TargetMode="External"/><Relationship Id="rId2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3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4" Type="http://schemas.openxmlformats.org/officeDocument/2006/relationships/hyperlink" Target="http://ru.wikipedia.org/wiki/&#1057;&#1090;&#1086;&#1095;&#1085;&#1099;&#1077;_&#1074;&#1086;&#1076;&#1099;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2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3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4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5" Type="http://schemas.openxmlformats.org/officeDocument/2006/relationships/hyperlink" Target="http://ru.wikipedia.org/wiki/&#1058;&#1074;&#1105;&#1088;&#1076;&#1099;&#1077;_&#1073;&#1099;&#1090;&#1086;&#1074;&#1099;&#1077;_&#1086;&#1090;&#1093;&#1086;&#1076;&#1099;" TargetMode="External"/><Relationship Id="rId6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7" Type="http://schemas.openxmlformats.org/officeDocument/2006/relationships/hyperlink" Target="http://ru.wikipedia.org/wiki/&#1059;&#1090;&#1080;&#1083;&#1080;&#1079;&#1072;&#1094;&#1080;&#1103;" TargetMode="External"/><Relationship Id="rId8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9" Type="http://schemas.openxmlformats.org/officeDocument/2006/relationships/hyperlink" Target="http://ru.wikipedia.org/wiki/&#1052;&#1077;&#1090;&#1072;&#1083;&#1083;&#1091;&#1088;&#1075;&#1080;&#1103;" TargetMode="External"/><Relationship Id="rId10" Type="http://schemas.openxmlformats.org/officeDocument/2006/relationships/hyperlink" Target="http://ru.wikipedia.org/wiki/&#1061;&#1080;&#1084;&#1080;&#1095;&#1077;&#1089;&#1082;&#1080;&#1077;_&#1088;&#1077;&#1072;&#1082;&#1090;&#1080;&#1074;&#1099;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7;&#1082;&#1083;&#1086;" TargetMode="External"/><Relationship Id="rId2" Type="http://schemas.openxmlformats.org/officeDocument/2006/relationships/hyperlink" Target="http://tolkslovar.ru/s2730.html" TargetMode="External"/><Relationship Id="rId3" Type="http://schemas.openxmlformats.org/officeDocument/2006/relationships/hyperlink" Target="http://ru.wikipedia.org/wiki/&#1057;&#1090;&#1077;&#1082;&#1083;&#1086;" TargetMode="External"/><Relationship Id="rId4" Type="http://schemas.openxmlformats.org/officeDocument/2006/relationships/hyperlink" Target="http://tolkslovar.ru/s11340.html" TargetMode="External"/><Relationship Id="rId5" Type="http://schemas.openxmlformats.org/officeDocument/2006/relationships/hyperlink" Target="http://ru.wikipedia.org/wiki/&#1057;&#1090;&#1077;&#1082;&#1083;&#1086;" TargetMode="External"/><Relationship Id="rId6" Type="http://schemas.openxmlformats.org/officeDocument/2006/relationships/hyperlink" Target="http://tolkslovar.ru/b7616.html" TargetMode="External"/><Relationship Id="rId7" Type="http://schemas.openxmlformats.org/officeDocument/2006/relationships/hyperlink" Target="http://ru.wikipedia.org/wiki/&#1057;&#1090;&#1077;&#1082;&#1083;&#1086;" TargetMode="External"/><Relationship Id="rId8" Type="http://schemas.openxmlformats.org/officeDocument/2006/relationships/hyperlink" Target="http://tolkslovar.ru/o8794.html" TargetMode="External"/><Relationship Id="rId9" Type="http://schemas.openxmlformats.org/officeDocument/2006/relationships/hyperlink" Target="http://ru.wikipedia.org/wiki/&#1057;&#1090;&#1077;&#1082;&#1083;&#1086;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торичное сырьё</a:t>
            </a: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рок технологии 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овогодняя снежин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4" descr="оригами к новому году"/>
          <p:cNvPicPr/>
          <p:nvPr/>
        </p:nvPicPr>
        <p:blipFill>
          <a:blip r:embed="rId1"/>
          <a:srcRect l="47295" t="83210" r="24801" b="836"/>
          <a:stretch/>
        </p:blipFill>
        <p:spPr>
          <a:xfrm>
            <a:off x="1763640" y="1444680"/>
            <a:ext cx="547236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222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1. Лист формата А4 складываем пополам и разрезаем,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2. Каждый лист складываем по диагонали, получаем 2 квадрата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4" descr="оригами к новому году"/>
          <p:cNvPicPr/>
          <p:nvPr/>
        </p:nvPicPr>
        <p:blipFill>
          <a:blip r:embed="rId1"/>
          <a:srcRect l="14" t="20911" r="74206" b="59911"/>
          <a:stretch/>
        </p:blipFill>
        <p:spPr>
          <a:xfrm>
            <a:off x="3564000" y="2050920"/>
            <a:ext cx="5040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3. Получившиеся квадраты складываем еще раз пополам по диагонали. 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4" descr="оригами к новому году"/>
          <p:cNvPicPr/>
          <p:nvPr/>
        </p:nvPicPr>
        <p:blipFill>
          <a:blip r:embed="rId1"/>
          <a:srcRect l="23651" t="20856" r="48425" b="59955"/>
          <a:stretch/>
        </p:blipFill>
        <p:spPr>
          <a:xfrm>
            <a:off x="2700360" y="1652760"/>
            <a:ext cx="5184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4. Делаем надрез (два или три) по середин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оригами к новому году"/>
          <p:cNvPicPr/>
          <p:nvPr/>
        </p:nvPicPr>
        <p:blipFill>
          <a:blip r:embed="rId1"/>
          <a:srcRect l="51149" t="22749" r="21373" b="61198"/>
          <a:stretch/>
        </p:blipFill>
        <p:spPr>
          <a:xfrm>
            <a:off x="539640" y="1441440"/>
            <a:ext cx="6337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5.Раскрываем квадра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4" descr="оригами к новому году"/>
          <p:cNvPicPr/>
          <p:nvPr/>
        </p:nvPicPr>
        <p:blipFill>
          <a:blip r:embed="rId1"/>
          <a:srcRect l="2170" t="40095" r="74199" b="41685"/>
          <a:stretch/>
        </p:blipFill>
        <p:spPr>
          <a:xfrm>
            <a:off x="1692360" y="1488960"/>
            <a:ext cx="53276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6.Склеиваем отрезанные углы внутреннего квадра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4" descr="оригами к новому году"/>
          <p:cNvPicPr/>
          <p:nvPr/>
        </p:nvPicPr>
        <p:blipFill>
          <a:blip r:embed="rId1"/>
          <a:srcRect l="25801" t="40095" r="1183" b="40711"/>
          <a:stretch/>
        </p:blipFill>
        <p:spPr>
          <a:xfrm>
            <a:off x="0" y="1719360"/>
            <a:ext cx="9144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7.Переворачиваем изделие и склеиваем углы внешнего квадра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4" descr="оригами к новому году"/>
          <p:cNvPicPr/>
          <p:nvPr/>
        </p:nvPicPr>
        <p:blipFill>
          <a:blip r:embed="rId1"/>
          <a:srcRect l="34" t="59300" r="50561" b="17841"/>
          <a:stretch/>
        </p:blipFill>
        <p:spPr>
          <a:xfrm>
            <a:off x="250920" y="1413000"/>
            <a:ext cx="8388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8. Делаем 6 таких заготовок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Picture 4" descr="оригами к новому году"/>
          <p:cNvPicPr/>
          <p:nvPr/>
        </p:nvPicPr>
        <p:blipFill>
          <a:blip r:embed="rId1"/>
          <a:srcRect l="49432" t="59295" r="3327" b="17935"/>
          <a:stretch/>
        </p:blipFill>
        <p:spPr>
          <a:xfrm>
            <a:off x="611280" y="1719360"/>
            <a:ext cx="8137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Arial"/>
              </a:rPr>
              <a:t>9.Склеиваем верхний угол всех заготовок вмес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Picture 4" descr="оригами к новому году"/>
          <p:cNvPicPr/>
          <p:nvPr/>
        </p:nvPicPr>
        <p:blipFill>
          <a:blip r:embed="rId1"/>
          <a:srcRect l="21501" t="81801" r="50575" b="836"/>
          <a:stretch/>
        </p:blipFill>
        <p:spPr>
          <a:xfrm>
            <a:off x="2340000" y="1700280"/>
            <a:ext cx="583236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пользуемые ресурс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металлолом%20картинки&amp;fp=0&amp;pos=2&amp;uinfo=ww-1007-wh-653-fw-782-fh-448-pd-1&amp;rpt=sima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металлолом%20картинки&amp;fp=0&amp;pos=16&amp;uinfo=ww-1007-wh-653-fw-782-fh-448-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mages.yandex.ru/yandsearch?p=1&amp;text=макулатура%20картинки&amp;fp=1&amp;pos=34&amp;uinfo=ww-1007-wh-653-fw-782-fh-448-pd-1&amp;rpt=simage&amp;img_url=http%3A%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p=1&amp;text=макулатура%20картинки&amp;fp=1&amp;pos=49&amp;uinfo=ww-1007-wh-653-fw-782-fh-448-pd-1&amp;rpt=simage&amp;img_url=http%3A%2F%2Fimg.nr2.ru%2Fpict%2Farts1%2F36%2F89%2F36894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ь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ривлечь внимание людей к проблеме увеличения объемов образования отх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167"/>
          <p:cNvPicPr/>
          <p:nvPr/>
        </p:nvPicPr>
        <p:blipFill>
          <a:blip r:embed="rId1"/>
          <a:stretch/>
        </p:blipFill>
        <p:spPr>
          <a:xfrm>
            <a:off x="4788000" y="2852640"/>
            <a:ext cx="3827520" cy="2335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5282235_w640_h640_y31051499"/>
          <p:cNvPicPr/>
          <p:nvPr/>
        </p:nvPicPr>
        <p:blipFill>
          <a:blip r:embed="rId2"/>
          <a:stretch/>
        </p:blipFill>
        <p:spPr>
          <a:xfrm>
            <a:off x="611280" y="3645000"/>
            <a:ext cx="3529080" cy="236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-развитие познавательно-исследовательской деятельности, проектировочных и технологических умений,  художественно-эстетических способносте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-формирование представлений о том, что такое вторсырьё, как можно использовать текстильные и промышленные отходы, как влияют данные отходы на экологию окружающе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120614120029"/>
          <p:cNvPicPr/>
          <p:nvPr/>
        </p:nvPicPr>
        <p:blipFill>
          <a:blip r:embed="rId1"/>
          <a:stretch/>
        </p:blipFill>
        <p:spPr>
          <a:xfrm>
            <a:off x="4572000" y="115920"/>
            <a:ext cx="3384720" cy="245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Вторичное сырье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 -  это  вторичные материальные ресурсы, которые в настоящее время могут повторно использоваться в народном хозяйст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1125394_0"/>
          <p:cNvPicPr/>
          <p:nvPr/>
        </p:nvPicPr>
        <p:blipFill>
          <a:blip r:embed="rId1"/>
          <a:stretch/>
        </p:blipFill>
        <p:spPr>
          <a:xfrm>
            <a:off x="5867280" y="429264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TQ618_1"/>
          <p:cNvPicPr/>
          <p:nvPr/>
        </p:nvPicPr>
        <p:blipFill>
          <a:blip r:embed="rId2"/>
          <a:stretch/>
        </p:blipFill>
        <p:spPr>
          <a:xfrm>
            <a:off x="539640" y="422100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иды вторичного сырья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Ма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Сте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2"/>
              </a:rPr>
              <a:t>Металлоло́м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Хими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Нефте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Пластм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Ре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</a:rPr>
              <a:t>Древе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Сточ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20100709095830"/>
          <p:cNvPicPr/>
          <p:nvPr/>
        </p:nvPicPr>
        <p:blipFill>
          <a:blip r:embed="rId5"/>
          <a:stretch/>
        </p:blipFill>
        <p:spPr>
          <a:xfrm>
            <a:off x="5886360" y="4005360"/>
            <a:ext cx="3257640" cy="267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макулатуры экономит 3,5 мЗ древесин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вторичного полимерного сырья - 0,7 т первичного полимерного сырь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изношенных шин - 0,33 т каучука синтетическог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1 т вторичного текстильного сырья - 0,7 т натуральных или синтетических волоко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00124577-20120608024018-9pikJaO0ptaEx2U"/>
          <p:cNvPicPr/>
          <p:nvPr/>
        </p:nvPicPr>
        <p:blipFill>
          <a:blip r:embed="rId1"/>
          <a:stretch/>
        </p:blipFill>
        <p:spPr>
          <a:xfrm>
            <a:off x="0" y="189000"/>
            <a:ext cx="1994040" cy="149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аллол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(металлический л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— общее, собир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    название разли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   металлического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мусора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 (пришедших в негодность металлических изделий),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утилизируемог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ли не утилизируемого во вторичном 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металлургическом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 цикле. Чаще всего к металлолому относят специально концентрируемый в отведенных местах металлический мусор для последующей переработки (утил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pb_b_111114"/>
          <p:cNvPicPr/>
          <p:nvPr/>
        </p:nvPicPr>
        <p:blipFill>
          <a:blip r:embed="rId11"/>
          <a:stretch/>
        </p:blipFill>
        <p:spPr>
          <a:xfrm>
            <a:off x="4932360" y="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укулату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Отслужившие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свой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срок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 изделия из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бумаги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 и картона, старые газеты, бумажные 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отходы</a:t>
            </a: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 и т.п., которые используются в качестве вторичного сырья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musor_2"/>
          <p:cNvPicPr/>
          <p:nvPr/>
        </p:nvPicPr>
        <p:blipFill>
          <a:blip r:embed="rId10"/>
          <a:stretch/>
        </p:blipFill>
        <p:spPr>
          <a:xfrm>
            <a:off x="5796000" y="3630600"/>
            <a:ext cx="3348000" cy="32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Из макулатуры  получают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упаковочную и оберточную бумаг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арто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лотки для яиц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упаковку для бытовой техник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горшки для высадки семя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ые стаканч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писчую, типографскую и туалетную бума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стройматериалы, используемые для теплоизоляции помещений, в частности экологически чистую строительную ват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ровельные материал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контейнеры для транспортировки овощей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ые автомобильные коврик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средства личной гигиены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дноразовую одежд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Arial"/>
              </a:rPr>
              <a:t>особо тонкую бумагу для орига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0:35:39Z</dcterms:created>
  <dc:creator>User</dc:creator>
  <dc:description/>
  <dc:language>en-US</dc:language>
  <cp:lastModifiedBy>1</cp:lastModifiedBy>
  <dcterms:modified xsi:type="dcterms:W3CDTF">2020-09-30T01:42:10Z</dcterms:modified>
  <cp:revision>10</cp:revision>
  <dc:subject/>
  <dc:title>Вторичное сырьё урок технологии в 4 классе</dc:title>
</cp:coreProperties>
</file>