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226A-0578-4C96-A8E8-C8CA8CEBD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E49A-55B7-4A06-9817-CB3A3BAF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3795-6583-42C6-BC9D-49FEFC557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4BA1-A7B9-4DF3-97AE-BBC4E108F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59A7-67C5-4B8D-8041-B2E33194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6DFB-20E1-478C-9334-8DC35897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2CA4-4E70-44B2-814E-F563B93B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FCD7-4607-494C-9AB0-9C030226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A179-F0C6-4D96-B0CB-8D410208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1AFB-EAF2-4990-9F84-51C485D3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5A43-9970-49BE-B042-011F6877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96BD-825A-4603-B62A-3BD5F70D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992E-C063-4C85-BE2B-08CFE3CF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4F94-D0EA-41E3-A991-0639DD53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EDB6-8801-4F23-A8A5-185777E4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456D-027C-49D7-A890-A5327AB1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9D1F-8422-4C1B-BB1A-2BE3BC6EF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672E2-67CE-475A-9B97-EBB7AFB7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D1E26-28C9-479C-B415-50FEA759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14206-DD1E-460B-857C-D1230413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DCB60-6FFA-4A2C-ACA6-82C343A9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D8CED-0395-4189-96ED-41DF1F60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E073-B5D0-411D-9E4D-7E900C1F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1086D-CFEA-4F42-A42A-0F3FCB07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1410E-CB78-4FD9-9AC6-7F6A49CC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817C2-EFC0-4A58-88D4-46547C5F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B9E65-651C-45D5-9C14-10BF0FCA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5F0A3-4852-468D-9D77-35BBD9D0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CEB96-FB10-468F-B1D9-C03DD254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A5730-1F24-4047-85AD-B0648A595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13942-1EC6-4125-931C-553E8771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23A6A-E727-4B9C-81CE-38017996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6883C-72ED-4432-8512-D1472662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E1EF-A697-4A48-AC70-3BD660DE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AD6ED-12D7-4694-A6B1-6945BAF9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1AD2A-D47F-436E-AB63-92C0179D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045B9-93A0-4688-A2AC-6D101517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CFA85-4AC1-497F-90A3-CE7EE788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DAE5B-32E7-4F4C-9CDF-0125F485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45D76-373D-466E-B28B-6CD09AA5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7DE34-D72F-47E5-BA4E-70D1088E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CA7DC-78AD-4FE6-99C8-D6E717F20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BF34E-509F-407F-ACBE-7FE3F489A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94564-8254-4188-A000-C8026F4B1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8A2F-F576-4C9B-99C4-07FE1F43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65BAD-38EE-4BF2-9AD3-C74EC7B1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49947-941F-45EB-A9CC-A1320738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17958-1C92-4969-89F1-74DE5409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AF1E7-666C-4977-999C-4152A682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7A92C-7978-4952-944D-9D9054FD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B75A8-37F9-40B3-83E6-32C3A8E4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A1754-1B5A-4DAC-89B7-238074C5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1036F-948A-410A-9D77-AD66CD43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2135B-6AB0-405D-931E-82204E0A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41777-B6DE-4D8E-A4A0-F367D0FCC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4EDE-1A77-4783-8D64-A28DE1F8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A59B2-D778-4BFA-AFC3-072FD8841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4AA4A-90DF-4CD4-9850-CB246634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9F91B-51E0-45B5-B9F4-7345815E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493B7-CA51-45CF-8EDB-5B6F0319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C5CEB-B7B8-4836-997B-D79BCE47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7A1D2-9686-423D-8292-DFD512CD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85832-FD4D-4E4C-B612-56D41933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4EE50-8A76-4414-B4D3-55067BCD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0C382-31F9-4A27-99D1-97C58E73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27960-7C36-4AE2-8D26-B3E79089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0BDD-B851-4AEE-8EE9-DDD3F929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E7B9E-A0DD-44D0-B45E-D8F6D76E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1434E-E344-4769-9C3A-2CE7CCC4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A3485-400E-4F21-93C5-90046D4DE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90E32-22FD-4865-8E72-70F243A3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EF9B7-502D-4140-A239-DCF8071E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149C3-962F-40AF-893E-43DB8DC1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84147-669E-4175-90FD-5CDF6B99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E3227-19C7-4E88-BC2D-2AE12A1D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F1B08-F918-4E01-8433-0A9D5F9E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1155E-0710-4DE8-BA3D-0CC40105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E22F-EE8B-4420-8F89-528F5AA1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94103-5823-4727-BA08-DB219FCC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5A8DA-BBC9-4CDA-820E-E658654F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8656E-F666-4CDE-895B-AD304342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D5412-DBC0-41B9-B381-94C9C3BC7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C7178-6DAD-497A-93C0-E98256CA7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8254-F5CE-4F31-A8E2-D71E286C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276D-3408-4CDD-B75A-5E784B3D11BE}" type="slidenum"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2-HD-BTM.png"/>
          <p:cNvPicPr/>
          <p:nvPr/>
        </p:nvPicPr>
        <p:blipFill>
          <a:blip r:embed="rId3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932080" y="4324320"/>
            <a:ext cx="229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040" y="4324320"/>
            <a:ext cx="487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058080" y="143028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5BD4-20F3-4C55-B689-72FA8E331626}" type="slidenum"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A113-E4BA-4D5B-8AEE-64FFA5CA043F}" type="slidenum"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1140-99EE-4D47-9F09-ACC0F6D3A196}" type="slidenum"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4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231840" y="80820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8147160" y="3021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5895-0E68-4AA2-A41A-F5321DA2B9B8}" type="slidenum"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556236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65A0-000C-45F0-B008-662D64C0A207}" type="slidenum"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7397-7A44-4157-A5D4-CAC1E5071EC6}" type="slidenum"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714680" y="4535280"/>
            <a:ext cx="6400800" cy="7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7030a0"/>
                </a:solidFill>
                <a:latin typeface="Century Gothic"/>
              </a:rPr>
              <a:t>Подготовила: Суркова Милена, ученица 1 класс ЧММШ г.Силифке.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7030a0"/>
                </a:solidFill>
                <a:latin typeface="Century Gothic"/>
              </a:rPr>
              <a:t>Учитель: Бельтюкова О.А.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98" name="Прямоугольник 5" descr=""/>
          <p:cNvPicPr/>
          <p:nvPr/>
        </p:nvPicPr>
        <p:blipFill>
          <a:blip r:embed="rId1"/>
          <a:stretch/>
        </p:blipFill>
        <p:spPr>
          <a:xfrm>
            <a:off x="1450800" y="2206800"/>
            <a:ext cx="6931080" cy="707760"/>
          </a:xfrm>
          <a:prstGeom prst="rect">
            <a:avLst/>
          </a:prstGeom>
          <a:ln w="0">
            <a:noFill/>
          </a:ln>
        </p:spPr>
      </p:pic>
      <p:pic>
        <p:nvPicPr>
          <p:cNvPr id="299" name="TextBox 6" descr=""/>
          <p:cNvPicPr/>
          <p:nvPr/>
        </p:nvPicPr>
        <p:blipFill>
          <a:blip r:embed="rId2"/>
          <a:stretch/>
        </p:blipFill>
        <p:spPr>
          <a:xfrm>
            <a:off x="2498760" y="426960"/>
            <a:ext cx="4432320" cy="174312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1" descr=""/>
          <p:cNvPicPr/>
          <p:nvPr/>
        </p:nvPicPr>
        <p:blipFill>
          <a:blip r:embed="rId3"/>
          <a:stretch/>
        </p:blipFill>
        <p:spPr>
          <a:xfrm>
            <a:off x="187200" y="351000"/>
            <a:ext cx="1292400" cy="1750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3920" y="658440"/>
            <a:ext cx="47527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   </a:t>
            </a:r>
            <a:r>
              <a:rPr b="1" lang="ru-RU" sz="2200" spc="-1" strike="noStrike">
                <a:solidFill>
                  <a:srgbClr val="ff0000"/>
                </a:solidFill>
                <a:latin typeface="Century Gothic"/>
              </a:rPr>
              <a:t>ЭТО НАША КРАСАВИЦА –БОНИЧКА. В НАШЕЙ СЕМЬЕ ОНА ПОЯВИЛАСЬ 5 ЛЕТ НАЗАД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02" name="Объект 2" descr=""/>
          <p:cNvPicPr/>
          <p:nvPr/>
        </p:nvPicPr>
        <p:blipFill>
          <a:blip r:embed="rId1"/>
          <a:stretch/>
        </p:blipFill>
        <p:spPr>
          <a:xfrm>
            <a:off x="1403280" y="2637000"/>
            <a:ext cx="1944720" cy="2600280"/>
          </a:xfrm>
          <a:prstGeom prst="rect">
            <a:avLst/>
          </a:prstGeom>
          <a:ln w="0">
            <a:noFill/>
          </a:ln>
        </p:spPr>
      </p:pic>
      <p:pic>
        <p:nvPicPr>
          <p:cNvPr id="303" name="Рисунок 1" descr=""/>
          <p:cNvPicPr/>
          <p:nvPr/>
        </p:nvPicPr>
        <p:blipFill>
          <a:blip r:embed="rId2"/>
          <a:stretch/>
        </p:blipFill>
        <p:spPr>
          <a:xfrm>
            <a:off x="6267600" y="2795760"/>
            <a:ext cx="1644480" cy="2217600"/>
          </a:xfrm>
          <a:prstGeom prst="rect">
            <a:avLst/>
          </a:prstGeom>
          <a:ln w="0">
            <a:noFill/>
          </a:ln>
        </p:spPr>
      </p:pic>
      <p:sp>
        <p:nvSpPr>
          <p:cNvPr id="304" name="Прямоугольник 3"/>
          <p:cNvSpPr/>
          <p:nvPr/>
        </p:nvSpPr>
        <p:spPr>
          <a:xfrm>
            <a:off x="5076720" y="94284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А ЭТОГО КРАСАВЧИКА ЗОВУТ – БАРСИК! В ЭТОМ ГОДУ ЕМУ ИСПОЛНИТСЯ 2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367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entury Gothic"/>
              </a:rPr>
              <a:t>ВОТ ТАК НАША БОНИЧКА ЛЮБИТ ПОНЕЖИТЬСЯ НА ДИВАНЕ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06" name="Объект 2" descr=""/>
          <p:cNvPicPr/>
          <p:nvPr/>
        </p:nvPicPr>
        <p:blipFill>
          <a:blip r:embed="rId1"/>
          <a:stretch/>
        </p:blipFill>
        <p:spPr>
          <a:xfrm>
            <a:off x="1476360" y="2421000"/>
            <a:ext cx="1943280" cy="2590560"/>
          </a:xfrm>
          <a:prstGeom prst="rect">
            <a:avLst/>
          </a:prstGeom>
          <a:ln w="0">
            <a:noFill/>
          </a:ln>
        </p:spPr>
      </p:pic>
      <p:pic>
        <p:nvPicPr>
          <p:cNvPr id="307" name="Рисунок 1" descr=""/>
          <p:cNvPicPr/>
          <p:nvPr/>
        </p:nvPicPr>
        <p:blipFill>
          <a:blip r:embed="rId2"/>
          <a:stretch/>
        </p:blipFill>
        <p:spPr>
          <a:xfrm>
            <a:off x="5292720" y="1098720"/>
            <a:ext cx="3206880" cy="76356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2" descr=""/>
          <p:cNvPicPr/>
          <p:nvPr/>
        </p:nvPicPr>
        <p:blipFill>
          <a:blip r:embed="rId3"/>
          <a:stretch/>
        </p:blipFill>
        <p:spPr>
          <a:xfrm>
            <a:off x="6060960" y="2276640"/>
            <a:ext cx="1886040" cy="25207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520848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МЫ В ОТВЕТЕ ЗА ТЕХ, КОГО ПРИРУЧИЛИ!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24000" y="2420640"/>
            <a:ext cx="83628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Century Gothic"/>
              </a:rPr>
              <a:t>Есть где-то Кошачья планета.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Century Gothic"/>
              </a:rPr>
              <a:t>Там кошки, как люди живут.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Century Gothic"/>
              </a:rPr>
              <a:t>Читают в постели газеты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Century Gothic"/>
              </a:rPr>
              <a:t>И кофе со сливками пьют.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Century Gothic"/>
              </a:rPr>
              <a:t>У них есть квартиры и дачи,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Century Gothic"/>
              </a:rPr>
              <a:t>Машины и прочий комфорт.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Century Gothic"/>
              </a:rPr>
              <a:t>Они обожают рыбачить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Century Gothic"/>
              </a:rPr>
              <a:t>И возят детей на курорт.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Century Gothic"/>
              </a:rPr>
              <a:t>Роскошная жизнь на планете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Century Gothic"/>
              </a:rPr>
              <a:t>У кошек, котов и котят!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Century Gothic"/>
              </a:rPr>
              <a:t>                             </a:t>
            </a:r>
            <a:r>
              <a:rPr b="1" lang="ru-RU" sz="1900" spc="-1" strike="noStrike">
                <a:solidFill>
                  <a:srgbClr val="7030a0"/>
                </a:solidFill>
                <a:latin typeface="Century Gothic"/>
              </a:rPr>
              <a:t>Спасибо за внимание!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31T18:57:55Z</dcterms:created>
  <dc:creator>45</dc:creator>
  <dc:description/>
  <dc:language>en-US</dc:language>
  <cp:lastModifiedBy>Пользователь</cp:lastModifiedBy>
  <dcterms:modified xsi:type="dcterms:W3CDTF">2023-02-18T05:46:32Z</dcterms:modified>
  <cp:revision>3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