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BEE-39AE-473A-98D3-42ED94CC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BA3-8DD1-4E71-8395-B8D82382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CCC-247A-4F2C-BF22-D7CC65E8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8E5-5C19-4F28-AA63-F9B4766F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2AC8-A213-43CD-BDF5-3FB1B9F9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B3F5-A343-49AC-AA7C-95E96FE8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2FCB-29CF-46F7-90FF-35D4041B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2FAD-27A7-425B-8280-BC800A9B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86A5-2A71-44B9-BACB-23735F3A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D1D8-84FB-4474-A382-4E3279CF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FB2A-053E-468F-AB27-0BE50376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59D-8419-49B4-9F65-3DB4CED1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AF91-E83A-4A5F-AD5A-D33CD2F7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2946-A9C0-4CF3-9AB7-90DADC17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2BF3-FD99-47A7-9623-97F74F39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FD7C-0560-4682-A25D-C120C635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BEE6-B35C-4267-809B-B154CB3F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1FBA9-F771-487F-99E0-E3881736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079D-9662-43CD-A31F-3F7692A1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F26C-8937-4022-A342-BD50DD3C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CDAF-804C-424A-98A1-8B3FCA10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D5D6-B52A-43D1-964C-4CC22F60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D2D-26A6-4924-8F4C-9C09A641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A30F-A26B-480A-881B-177FDC86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3B9E-BB31-4DF8-A576-97AE644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C9E7-9ED5-4E86-A4F2-88458DF3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EA04-A24C-4944-9ADA-BFC100F3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B02F-8BD9-4054-9FC8-8A336DFF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2CFB-F747-4227-A2F8-90AB5509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368A-1300-4DB8-930E-7DF12A14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3E78-0D8E-4C3C-80B3-322AE374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F3BB-1498-4977-9DAD-CB0432F3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9FFEB-D2A2-4B9E-BB2B-48A26656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13B-0F75-46B1-9141-0871A311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8D4A-A587-480A-AA1E-9D3AAF78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AABA-F973-457A-A70F-A7CDD4BF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C61D-5FA0-4723-8E6F-AD8D29C7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5CF33-D340-40A8-B76F-DB0C39E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129B-345E-4D98-9842-EC547C1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E92A-56A3-4CA7-9225-FFE0326F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C475F-1F10-4F2D-B0F8-56810895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D9DA-37F7-4798-89B7-F3B17DD6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06CEC-7159-4D6C-A341-E3D264CE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57109-5490-4438-A658-F3CA1556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3DC-8FE5-4D29-BB73-D2FF030F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19247-E9A5-4D91-A64E-501175CC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AB8ED-EEEA-4AF7-BDD1-51556513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8DDD5-CC9F-4179-B861-479063BD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478A6-DC0C-4598-989B-679E412A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0FB6-5954-4778-97A9-C9634091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46CC-14BE-464C-84A2-697CD25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6CF28-C0AF-4B07-BCAE-0906776D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50018-B4B3-4F1B-BF3E-A0ECDB6F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EA2B4-2C76-4567-BC4F-4E19024A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F2667-3B16-4DAC-B897-C0D84895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506-F6E0-4571-9230-F25CC3C0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AEBD-5F83-4BE3-81A6-4BB8CDF3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8BAD1-4ACD-4684-9498-B953E401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7DAE9-D4F2-41F4-94F0-8D5534F4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11C7A-05D9-46F9-9E49-4D43AB82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CDDF9-698B-47EA-AC8C-25F29C34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9280B-1C94-4CB1-BDE1-39AA0EE4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8DA3F-95B3-4B50-AB15-7047D248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3286F-1835-47C0-98C6-4E8266F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AF14C-F221-4E42-89F9-BC9F4CD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6AC6B-DC70-44B8-97E5-78C4FD81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37D-55C7-41A6-87F1-E4F5EC78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80E22-61BF-4DCD-A0DE-FC8591A2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9A1D0-41F4-45C9-A68F-36BF0CD7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92AA7-FAB7-421E-9F66-8435C87F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D43DC-64B0-48BC-911F-5659088C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25F2E-2646-43DE-8786-F9DB701E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BE728-B252-4B01-AC9D-2C79E49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D6B35-CB58-46E8-AC95-690881B1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0E332-D94B-435B-BE1F-E4BF6457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A771A-4CE4-4DE2-A767-477883B7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AD6E8-CFD8-4223-8BF5-8859E228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6B3-5603-4C3F-8621-A5A59742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A400F-8F50-47F9-867F-B365DD38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4FF63-2A3F-4C1C-9EFB-ED93891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A2124-BE55-4ABC-99CF-DD7245F0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85D15-5271-45B5-8184-B044636D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96755-276C-4F99-A423-96EC66E1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F87-48BC-4E66-B9ED-6DF8FFFB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8908-A2F6-4B9C-A7A0-C87C0BFFF17F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6A74-FA73-49DB-A239-D31C5B01FC1D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040F-75C0-456D-8DE5-3A187EBA6D74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5961-14CE-4968-AA71-6390BD00EBD7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EC60-3DF5-4013-9C44-DC8BBD421109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4579-09D7-4931-821E-882734269013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ABF4-D57E-4C77-AD15-A9FD98DB001F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714680" y="4535280"/>
            <a:ext cx="64008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030a0"/>
                </a:solidFill>
                <a:latin typeface="Century Gothic"/>
              </a:rPr>
              <a:t>Подготовила: Суркова Милена, ученица 1 класс ЧММШ г.Силифке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030a0"/>
                </a:solidFill>
                <a:latin typeface="Century Gothic"/>
              </a:rPr>
              <a:t>Учитель: Бельтюкова О.А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8" name="Прямоугольник 5" descr=""/>
          <p:cNvPicPr/>
          <p:nvPr/>
        </p:nvPicPr>
        <p:blipFill>
          <a:blip r:embed="rId1"/>
          <a:stretch/>
        </p:blipFill>
        <p:spPr>
          <a:xfrm>
            <a:off x="1450800" y="2206800"/>
            <a:ext cx="6931080" cy="707760"/>
          </a:xfrm>
          <a:prstGeom prst="rect">
            <a:avLst/>
          </a:prstGeom>
          <a:ln w="0">
            <a:noFill/>
          </a:ln>
        </p:spPr>
      </p:pic>
      <p:pic>
        <p:nvPicPr>
          <p:cNvPr id="299" name="TextBox 6" descr=""/>
          <p:cNvPicPr/>
          <p:nvPr/>
        </p:nvPicPr>
        <p:blipFill>
          <a:blip r:embed="rId2"/>
          <a:stretch/>
        </p:blipFill>
        <p:spPr>
          <a:xfrm>
            <a:off x="2498760" y="426960"/>
            <a:ext cx="4432320" cy="1743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" descr=""/>
          <p:cNvPicPr/>
          <p:nvPr/>
        </p:nvPicPr>
        <p:blipFill>
          <a:blip r:embed="rId3"/>
          <a:stretch/>
        </p:blipFill>
        <p:spPr>
          <a:xfrm>
            <a:off x="187200" y="351000"/>
            <a:ext cx="1292400" cy="175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3920" y="658440"/>
            <a:ext cx="4752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ЭТО НАША КРАСАВИЦА –БОНИЧКА. В НАШЕЙ СЕМЬЕ ОНА ПОЯВИЛАСЬ 5 ЛЕТ НАЗАД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2" name="Объект 2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1944720" cy="260028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1" descr=""/>
          <p:cNvPicPr/>
          <p:nvPr/>
        </p:nvPicPr>
        <p:blipFill>
          <a:blip r:embed="rId2"/>
          <a:stretch/>
        </p:blipFill>
        <p:spPr>
          <a:xfrm>
            <a:off x="6267600" y="2795760"/>
            <a:ext cx="1644480" cy="221760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3"/>
          <p:cNvSpPr/>
          <p:nvPr/>
        </p:nvSpPr>
        <p:spPr>
          <a:xfrm>
            <a:off x="5076720" y="9428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А ЭТОГО КРАСАВЧИКА ЗОВУТ – БАРСИК! В ЭТОМ ГОДУ ЕМУ ИСПОЛНИТСЯ 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367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ВОТ ТАК НАША БОНИЧКА ЛЮБИТ ПОНЕЖИТЬСЯ НА ДИВАНЕ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6" name="Объект 2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1943280" cy="259056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" descr=""/>
          <p:cNvPicPr/>
          <p:nvPr/>
        </p:nvPicPr>
        <p:blipFill>
          <a:blip r:embed="rId2"/>
          <a:stretch/>
        </p:blipFill>
        <p:spPr>
          <a:xfrm>
            <a:off x="5292720" y="1098720"/>
            <a:ext cx="3206880" cy="76356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2" descr=""/>
          <p:cNvPicPr/>
          <p:nvPr/>
        </p:nvPicPr>
        <p:blipFill>
          <a:blip r:embed="rId3"/>
          <a:stretch/>
        </p:blipFill>
        <p:spPr>
          <a:xfrm>
            <a:off x="6060960" y="2276640"/>
            <a:ext cx="1886040" cy="252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52084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МЫ В ОТВЕТЕ ЗА ТЕХ, КОГО ПРИРУЧИЛИ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24000" y="2420640"/>
            <a:ext cx="8362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Есть где-то Кошачья планета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Там кошки, как люди живут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Читают в постели газеты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И кофе со сливками пьют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У них есть квартиры и дачи,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Машины и прочий комфорт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Они обожают рыбачить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И возят детей на курорт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Роскошная жизнь на планете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У кошек, котов и котят!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                             </a:t>
            </a: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Спасибо за внимание!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8:57:55Z</dcterms:created>
  <dc:creator>45</dc:creator>
  <dc:description/>
  <dc:language>en-US</dc:language>
  <cp:lastModifiedBy>Пользователь</cp:lastModifiedBy>
  <dcterms:modified xsi:type="dcterms:W3CDTF">2023-02-18T05:46:32Z</dcterms:modified>
  <cp:revision>3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