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F987-405E-4AF4-B51F-B8EFD265F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394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5920" y="3971880"/>
            <a:ext cx="7394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7D4EB-8684-474A-8C91-235AD4F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5920" y="397188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4920" y="397188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D2C5-8D85-4B15-A0E1-6FA165B2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120" y="160020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960" y="160020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5920" y="397188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120" y="397188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5960" y="3971880"/>
            <a:ext cx="23806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E5DD-AA48-49EB-BC24-4EBD02B7FF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3944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7DB3-EE92-480A-99B0-33F5704B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394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BB67-7DF2-476D-9029-C30DE99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AA22-2B6B-46F7-ACDD-E6AFDD7E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5C2B-3AC2-44A8-88B1-9ED1621F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520" y="2468520"/>
            <a:ext cx="78944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A6D8-ACA8-44BD-BABB-0E5018B6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5920" y="397188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91C0-02C4-48D6-A608-EBADB33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4920" y="397188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D374-D058-4C05-AEC1-77A7C048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4920" y="1600200"/>
            <a:ext cx="36082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5920" y="3971880"/>
            <a:ext cx="7394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E1A2-A162-4518-8C2F-9A10BA1A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520" y="-1487520"/>
            <a:ext cx="7894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tScript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394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nsellaris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292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Полилиния 4"/>
          <p:cNvSpPr/>
          <p:nvPr/>
        </p:nvSpPr>
        <p:spPr>
          <a:xfrm>
            <a:off x="3124080" y="6354720"/>
            <a:ext cx="2895840" cy="36828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292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92D2A79-DCC2-47F9-B806-50501C66F4A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"/>
          <p:cNvSpPr/>
          <p:nvPr/>
        </p:nvSpPr>
        <p:spPr>
          <a:xfrm>
            <a:off x="4863960" y="189000"/>
            <a:ext cx="371520" cy="368280"/>
          </a:xfrm>
          <a:custGeom>
            <a:avLst/>
            <a:gdLst>
              <a:gd name="textAreaLeft" fmla="*/ 0 w 371520"/>
              <a:gd name="textAreaRight" fmla="*/ 371880 w 3715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2"/>
          <p:cNvSpPr/>
          <p:nvPr/>
        </p:nvSpPr>
        <p:spPr>
          <a:xfrm>
            <a:off x="755640" y="1260360"/>
            <a:ext cx="7920000" cy="155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БДОУ детский сад «Солныш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.Цветочное Белогорского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спублики Кр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рождение крымскотатарских тради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лилиния 4"/>
          <p:cNvSpPr/>
          <p:nvPr/>
        </p:nvSpPr>
        <p:spPr>
          <a:xfrm>
            <a:off x="3836880" y="5940360"/>
            <a:ext cx="2319480" cy="45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лилиния 3"/>
          <p:cNvSpPr/>
          <p:nvPr/>
        </p:nvSpPr>
        <p:spPr>
          <a:xfrm>
            <a:off x="5508720" y="4005360"/>
            <a:ext cx="3166920" cy="70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лилова Л.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21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987640" y="40464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кануне вечером, самый уважаемый житель села разжигал огонь, прыгал через него сам, затем мужчины и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44-300x228"/>
          <p:cNvPicPr/>
          <p:nvPr/>
        </p:nvPicPr>
        <p:blipFill>
          <a:blip r:embed="rId2"/>
          <a:stretch/>
        </p:blipFill>
        <p:spPr>
          <a:xfrm>
            <a:off x="3132000" y="2492280"/>
            <a:ext cx="53294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ard3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059280" y="33336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нь праздника каждая семья старалась посадить дер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вушки катались на высоких качелях, обвитых весен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выми цв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Paeoniasuffruticosa27"/>
          <p:cNvPicPr/>
          <p:nvPr/>
        </p:nvPicPr>
        <p:blipFill>
          <a:blip r:embed="rId2"/>
          <a:stretch/>
        </p:blipFill>
        <p:spPr>
          <a:xfrm>
            <a:off x="2916360" y="2852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30310496237625-1"/>
          <p:cNvPicPr/>
          <p:nvPr/>
        </p:nvPicPr>
        <p:blipFill>
          <a:blip r:embed="rId3"/>
          <a:stretch/>
        </p:blipFill>
        <p:spPr>
          <a:xfrm>
            <a:off x="5796000" y="4292640"/>
            <a:ext cx="302400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2"/>
          <p:cNvSpPr/>
          <p:nvPr/>
        </p:nvSpPr>
        <p:spPr>
          <a:xfrm>
            <a:off x="2195640" y="3429000"/>
            <a:ext cx="6406920" cy="1922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тъемлемая часть праздника — это спуск с горки заранее испеченных хлебцев. Если хлебец упадет лицевой  стороной вверх, то будет хороший урожай, а если наоборот, то год будет неурожай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"/>
          <p:cNvPicPr/>
          <p:nvPr/>
        </p:nvPicPr>
        <p:blipFill>
          <a:blip r:embed="rId1"/>
          <a:stretch/>
        </p:blipFill>
        <p:spPr>
          <a:xfrm rot="5400000">
            <a:off x="-2403720" y="2403360"/>
            <a:ext cx="6858000" cy="20509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3025800" cy="21434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3"/>
          <a:stretch/>
        </p:blipFill>
        <p:spPr>
          <a:xfrm>
            <a:off x="5292720" y="398520"/>
            <a:ext cx="3346560" cy="2246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"/>
          <p:cNvSpPr/>
          <p:nvPr/>
        </p:nvSpPr>
        <p:spPr>
          <a:xfrm>
            <a:off x="2268360" y="5157720"/>
            <a:ext cx="6158160" cy="459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ужчины состязаются по борьбе (куреш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5" descr=""/>
          <p:cNvPicPr/>
          <p:nvPr/>
        </p:nvPicPr>
        <p:blipFill>
          <a:blip r:embed="rId1"/>
          <a:stretch/>
        </p:blipFill>
        <p:spPr>
          <a:xfrm rot="5400000">
            <a:off x="-2383200" y="2424240"/>
            <a:ext cx="6816600" cy="2050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2"/>
          <a:stretch/>
        </p:blipFill>
        <p:spPr>
          <a:xfrm>
            <a:off x="4803840" y="2166840"/>
            <a:ext cx="3846600" cy="2565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3"/>
          <a:stretch/>
        </p:blipFill>
        <p:spPr>
          <a:xfrm>
            <a:off x="2073240" y="41400"/>
            <a:ext cx="365112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2"/>
          <p:cNvSpPr/>
          <p:nvPr/>
        </p:nvSpPr>
        <p:spPr>
          <a:xfrm>
            <a:off x="6322320" y="1052640"/>
            <a:ext cx="1968480" cy="702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рв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3"/>
          <p:cNvSpPr/>
          <p:nvPr/>
        </p:nvSpPr>
        <p:spPr>
          <a:xfrm>
            <a:off x="2735280" y="2637000"/>
            <a:ext cx="6408720" cy="3020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пецифика календарной обрядности дополняется осенним праздником — Дервиза. Он отмечается в день солнечного равноденствия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сле этого дня начинается осень. Название Дервиза состоит из двух слов: «дер»- дверь  «виза» - разрешение на въезд. Иными словами,  «вхожу в новый мир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 rot="16200000">
            <a:off x="-2279520" y="2309760"/>
            <a:ext cx="6858000" cy="223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319262201_0_88cbd_b91ea77d_xxl"/>
          <p:cNvPicPr/>
          <p:nvPr/>
        </p:nvPicPr>
        <p:blipFill>
          <a:blip r:embed="rId2"/>
          <a:stretch/>
        </p:blipFill>
        <p:spPr>
          <a:xfrm>
            <a:off x="2843280" y="333360"/>
            <a:ext cx="338436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3"/>
          <p:cNvSpPr/>
          <p:nvPr/>
        </p:nvSpPr>
        <p:spPr>
          <a:xfrm>
            <a:off x="2268360" y="3933720"/>
            <a:ext cx="6553440" cy="155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се эти праздники завершаются обязательным исполнением общего танца хоран, который олицетворяет единство народа в достижении общей ц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t21"/>
          <p:cNvPicPr/>
          <p:nvPr/>
        </p:nvPicPr>
        <p:blipFill>
          <a:blip r:embed="rId1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_52f6ceed"/>
          <p:cNvPicPr/>
          <p:nvPr/>
        </p:nvPicPr>
        <p:blipFill>
          <a:blip r:embed="rId2"/>
          <a:stretch/>
        </p:blipFill>
        <p:spPr>
          <a:xfrm>
            <a:off x="2484360" y="260280"/>
            <a:ext cx="3167280" cy="239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imgpreview"/>
          <p:cNvPicPr/>
          <p:nvPr/>
        </p:nvPicPr>
        <p:blipFill>
          <a:blip r:embed="rId3"/>
          <a:stretch/>
        </p:blipFill>
        <p:spPr>
          <a:xfrm>
            <a:off x="5724360" y="1847880"/>
            <a:ext cx="295128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18160" y="33577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ard4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олилиния 3"/>
          <p:cNvSpPr/>
          <p:nvPr/>
        </p:nvSpPr>
        <p:spPr>
          <a:xfrm>
            <a:off x="2124000" y="303120"/>
            <a:ext cx="6264360" cy="946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Среди явлений духовной жизни крымских татар наиболее ярки праздники, в которых, как в зеркале , отражается образ жизни на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К таким праздникам относятся: Наврез, Хыдырлез и Дерви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01" descr=""/>
          <p:cNvPicPr/>
          <p:nvPr/>
        </p:nvPicPr>
        <p:blipFill>
          <a:blip r:embed="rId1"/>
          <a:stretch/>
        </p:blipFill>
        <p:spPr>
          <a:xfrm rot="5400000">
            <a:off x="-2422440" y="2422440"/>
            <a:ext cx="6858000" cy="201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pages_168_18899909"/>
          <p:cNvPicPr/>
          <p:nvPr/>
        </p:nvPicPr>
        <p:blipFill>
          <a:blip r:embed="rId2"/>
          <a:stretch/>
        </p:blipFill>
        <p:spPr>
          <a:xfrm>
            <a:off x="2124000" y="1125360"/>
            <a:ext cx="3456000" cy="22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лилиния 1"/>
          <p:cNvSpPr/>
          <p:nvPr/>
        </p:nvSpPr>
        <p:spPr>
          <a:xfrm>
            <a:off x="2908440" y="2692440"/>
            <a:ext cx="4832280" cy="368280"/>
          </a:xfrm>
          <a:custGeom>
            <a:avLst/>
            <a:gdLst>
              <a:gd name="textAreaLeft" fmla="*/ 0 w 4832280"/>
              <a:gd name="textAreaRight" fmla="*/ 4832640 w 4832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лилиния 2"/>
          <p:cNvSpPr/>
          <p:nvPr/>
        </p:nvSpPr>
        <p:spPr>
          <a:xfrm>
            <a:off x="2050920" y="333360"/>
            <a:ext cx="6624720" cy="733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рымскотатарские весенние праздники Наврез и Хыдырлез представляют собой комплекс обрядов, направленных на задабривание сил природы с целью получения богатого урожая и увеличения   поголовья ско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8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367568561_hydyrlez-bayram"/>
          <p:cNvPicPr/>
          <p:nvPr/>
        </p:nvPicPr>
        <p:blipFill>
          <a:blip r:embed="rId2"/>
          <a:stretch/>
        </p:blipFill>
        <p:spPr>
          <a:xfrm>
            <a:off x="2556000" y="2637000"/>
            <a:ext cx="5553000" cy="40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олилиния 1"/>
          <p:cNvSpPr/>
          <p:nvPr/>
        </p:nvSpPr>
        <p:spPr>
          <a:xfrm>
            <a:off x="2556000" y="476280"/>
            <a:ext cx="5976720" cy="1191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Как правило, перед праздниками хозяйки затевают уборку дома, пекут кобете, курабье, пахл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54"/>
          <p:cNvPicPr/>
          <p:nvPr/>
        </p:nvPicPr>
        <p:blipFill>
          <a:blip r:embed="rId1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пакълава"/>
          <p:cNvPicPr/>
          <p:nvPr/>
        </p:nvPicPr>
        <p:blipFill>
          <a:blip r:embed="rId2"/>
          <a:stretch/>
        </p:blipFill>
        <p:spPr>
          <a:xfrm>
            <a:off x="2484360" y="1916280"/>
            <a:ext cx="3240000" cy="285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курабие"/>
          <p:cNvPicPr/>
          <p:nvPr/>
        </p:nvPicPr>
        <p:blipFill>
          <a:blip r:embed="rId3"/>
          <a:stretch/>
        </p:blipFill>
        <p:spPr>
          <a:xfrm>
            <a:off x="5148360" y="378936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олилиния 2"/>
          <p:cNvSpPr/>
          <p:nvPr/>
        </p:nvSpPr>
        <p:spPr>
          <a:xfrm>
            <a:off x="2484360" y="333360"/>
            <a:ext cx="6120000" cy="825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се праздники начинаются с молитвы и жертвоприношения бар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card2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молитва"/>
          <p:cNvPicPr/>
          <p:nvPr/>
        </p:nvPicPr>
        <p:blipFill>
          <a:blip r:embed="rId2"/>
          <a:stretch/>
        </p:blipFill>
        <p:spPr>
          <a:xfrm>
            <a:off x="2843280" y="1700280"/>
            <a:ext cx="2665440" cy="249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2"/>
          <p:cNvPicPr/>
          <p:nvPr/>
        </p:nvPicPr>
        <p:blipFill>
          <a:blip r:embed="rId3"/>
          <a:stretch/>
        </p:blipFill>
        <p:spPr>
          <a:xfrm>
            <a:off x="5580000" y="3860640"/>
            <a:ext cx="3095640" cy="2005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олилиния 2"/>
          <p:cNvSpPr/>
          <p:nvPr/>
        </p:nvSpPr>
        <p:spPr>
          <a:xfrm>
            <a:off x="4470840" y="3060720"/>
            <a:ext cx="1735560" cy="70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вре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лилиния 3"/>
          <p:cNvSpPr/>
          <p:nvPr/>
        </p:nvSpPr>
        <p:spPr>
          <a:xfrm>
            <a:off x="2109960" y="3760920"/>
            <a:ext cx="6854760" cy="210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ревний праздник земледельцев. Отмечается как начало нового хозяйственного года и вес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врез — это иранское слово: «нав» — нов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 «рез» — день. Праздник нового года по солнечному летоисчеслению совпадает с весенним равноденст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1"/>
          <a:stretch/>
        </p:blipFill>
        <p:spPr>
          <a:xfrm rot="5400000">
            <a:off x="-2313720" y="2348640"/>
            <a:ext cx="685800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"/>
          <p:cNvPicPr/>
          <p:nvPr/>
        </p:nvPicPr>
        <p:blipFill>
          <a:blip r:embed="rId2"/>
          <a:stretch/>
        </p:blipFill>
        <p:spPr>
          <a:xfrm>
            <a:off x="2228760" y="193680"/>
            <a:ext cx="2990880" cy="2443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"/>
          <p:cNvPicPr/>
          <p:nvPr/>
        </p:nvPicPr>
        <p:blipFill>
          <a:blip r:embed="rId3"/>
          <a:stretch/>
        </p:blipFill>
        <p:spPr>
          <a:xfrm>
            <a:off x="5364000" y="193680"/>
            <a:ext cx="3403800" cy="2430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04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700360" y="549360"/>
            <a:ext cx="589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нь Навреза мужчины выходят на поле, где самый уважаемый старец, прочитав молитву проводит первую борозду и бросает в землю первую горсть семя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118"/>
          <p:cNvPicPr/>
          <p:nvPr/>
        </p:nvPicPr>
        <p:blipFill>
          <a:blip r:embed="rId2"/>
          <a:stretch/>
        </p:blipFill>
        <p:spPr>
          <a:xfrm>
            <a:off x="3564000" y="2565360"/>
            <a:ext cx="3960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008"/>
          <p:cNvPicPr/>
          <p:nvPr/>
        </p:nvPicPr>
        <p:blipFill>
          <a:blip r:embed="rId1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2843280" y="33336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овогоднюю ночь девушки гадали: бросали в кувшин с вод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и кольца и узнавали кто в этом году выйдет заму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4f4c8931955eb"/>
          <p:cNvPicPr/>
          <p:nvPr/>
        </p:nvPicPr>
        <p:blipFill>
          <a:blip r:embed="rId2"/>
          <a:stretch/>
        </p:blipFill>
        <p:spPr>
          <a:xfrm>
            <a:off x="2771640" y="2276640"/>
            <a:ext cx="590400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олилиния 1"/>
          <p:cNvSpPr/>
          <p:nvPr/>
        </p:nvSpPr>
        <p:spPr>
          <a:xfrm>
            <a:off x="3839760" y="2879640"/>
            <a:ext cx="2413440" cy="70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ыдырле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олилиния 2"/>
          <p:cNvSpPr/>
          <p:nvPr/>
        </p:nvSpPr>
        <p:spPr>
          <a:xfrm>
            <a:off x="2411280" y="3716280"/>
            <a:ext cx="6337440" cy="265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есенние обряды завершаются вместе с праздн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ыдырлез, который отмечается 6 мая. Название празд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стоит из двух мусульманских имен святых: Хыдыр и Илья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8" descr=""/>
          <p:cNvPicPr/>
          <p:nvPr/>
        </p:nvPicPr>
        <p:blipFill>
          <a:blip r:embed="rId1"/>
          <a:stretch/>
        </p:blipFill>
        <p:spPr>
          <a:xfrm rot="5400000">
            <a:off x="-2251800" y="2265840"/>
            <a:ext cx="6858000" cy="23256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"/>
          <p:cNvPicPr/>
          <p:nvPr/>
        </p:nvPicPr>
        <p:blipFill>
          <a:blip r:embed="rId2"/>
          <a:stretch/>
        </p:blipFill>
        <p:spPr>
          <a:xfrm>
            <a:off x="2549520" y="333360"/>
            <a:ext cx="3335400" cy="2629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"/>
          <p:cNvPicPr/>
          <p:nvPr/>
        </p:nvPicPr>
        <p:blipFill>
          <a:blip r:embed="rId3"/>
          <a:stretch/>
        </p:blipFill>
        <p:spPr>
          <a:xfrm>
            <a:off x="5997600" y="250920"/>
            <a:ext cx="26654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9:34:02Z</dcterms:created>
  <dc:creator>Алексей</dc:creator>
  <dc:description/>
  <dc:language>en-US</dc:language>
  <cp:lastModifiedBy>alim</cp:lastModifiedBy>
  <dcterms:modified xsi:type="dcterms:W3CDTF">2019-12-11T18:58:47Z</dcterms:modified>
  <cp:revision>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оле 1">
    <vt:lpwstr/>
  </property>
  <property fmtid="{D5CDD505-2E9C-101B-9397-08002B2CF9AE}" pid="3" name="Поле 2">
    <vt:lpwstr/>
  </property>
  <property fmtid="{D5CDD505-2E9C-101B-9397-08002B2CF9AE}" pid="4" name="Поле 3">
    <vt:lpwstr/>
  </property>
  <property fmtid="{D5CDD505-2E9C-101B-9397-08002B2CF9AE}" pid="5" name="Поле 4">
    <vt:lpwstr/>
  </property>
</Properties>
</file>