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7AB-4F1C-41B9-8950-7E49FAA8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C63-B00A-4C20-AE5F-4F638D7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4EA-8FEE-4B65-9706-F1ADDFB1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071-5B7F-4E6C-B05A-FB3D1AA9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463-B7DE-4FDB-AD6E-051E644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E99-8C6F-4738-9A72-9842B5D9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581-1339-4CC0-ACFA-B5124DF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C35-C17D-40CF-A736-53CCBC9D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690-81DA-4832-AFA0-EC2A463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632-2805-4075-9F69-7DAFC12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B1D-9C89-4FC5-8221-07F81FC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ED9-2CA5-46A3-9B6E-098C06F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8813-5F60-46BA-90F7-6DA94F8CB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021.radikal.ru/0802/94/96ffb376c6f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nnm.ru/imagez/gallery/c/8/6/3/8/c86381382d8c602456511bc664be9641_ful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tzona.net/public/users/img/img_852772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7720" y="1643040"/>
            <a:ext cx="5340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ександр Не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1"/>
          <p:cNvPicPr/>
          <p:nvPr/>
        </p:nvPicPr>
        <p:blipFill>
          <a:blip r:embed="rId1"/>
          <a:stretch/>
        </p:blipFill>
        <p:spPr>
          <a:xfrm>
            <a:off x="928800" y="1000080"/>
            <a:ext cx="227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Картинка 26 из 1490"/>
          <p:cNvPicPr/>
          <p:nvPr/>
        </p:nvPicPr>
        <p:blipFill>
          <a:blip r:embed="rId1"/>
          <a:stretch/>
        </p:blipFill>
        <p:spPr>
          <a:xfrm>
            <a:off x="1071720" y="571680"/>
            <a:ext cx="6858000" cy="3422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14200" y="400068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битве молодой князь Александр Невский (ему в то  время было все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) проявил себя как мудрый и опытный полководец. Узнав, что рыцари движутся на Псков чере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ское озер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кованное льдом, Невский расположил свое войско у крутого берега озера. Его позиция была удобна тем, что враг не мог видеть всего русского войска и не мог определить его численности. А неприятельское войско было для русских как на ладони, так как двигалось по открытому льду. Силы были приблизительно равны –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яч воинов с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схему сражения. Немецкие рыцари для атаки выстроились в форме тупого клина, который русские назва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инье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 порядок не раз помогал рыцарям прорывать строй противника и громить его по частям. Но Александр Невский смог обмануть врага. Князь сосредоточил свои основные силы не в центре, куда была направлена основная мощь рыцарей, а на флангах. Это позволило ему окружить и уничтожить проти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0 из 179"/>
          <p:cNvPicPr/>
          <p:nvPr/>
        </p:nvPicPr>
        <p:blipFill>
          <a:blip r:embed="rId1"/>
          <a:stretch/>
        </p:blipFill>
        <p:spPr>
          <a:xfrm>
            <a:off x="5500800" y="785880"/>
            <a:ext cx="27972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6160" y="713880"/>
            <a:ext cx="4400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ванные в тяжелые доспехи рыцари врезались в русское войско и решили, что победа уже за ними. Но внезапно их атаковали с флангов главные силы русских дружин – конники и лучники. Спасаясь бегством, рыцари в панике стали отступать на лед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ского озе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десь они и нашли свою моги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976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Внешнеполитические принципы великого княз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в силе Бог, а в правд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ть не преступая в чужие части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с мечом к нам придет - от меча и погибнет».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епить оборону на Западе, а друзей искать на Востоке»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189 из 211"/>
          <p:cNvPicPr/>
          <p:nvPr/>
        </p:nvPicPr>
        <p:blipFill>
          <a:blip r:embed="rId1"/>
          <a:stretch/>
        </p:blipFill>
        <p:spPr>
          <a:xfrm>
            <a:off x="4713120" y="1641600"/>
            <a:ext cx="39085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28720" y="713880"/>
            <a:ext cx="4257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устанно заботился о распространении православной христианской веры и Православной Церкви за пределы Руси. После смерти Александр Невский был канонизирован, т. 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слен к лику святых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lexnevsk"/>
          <p:cNvPicPr/>
          <p:nvPr/>
        </p:nvPicPr>
        <p:blipFill>
          <a:blip r:embed="rId1"/>
          <a:stretch/>
        </p:blipFill>
        <p:spPr>
          <a:xfrm>
            <a:off x="279360" y="785880"/>
            <a:ext cx="4064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14520" y="713880"/>
            <a:ext cx="4786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 — одно из тех имён, что известны каждому в нашем Отечестве. Князь, покрытый воинской славой, удостоившийся литературной повести о своих деяниях вскоре после смерти, канонизированный церковью; человек, чьё имя продолжало вдохновлять поколения, жившие много веков спустя: в 1725 г. был учреждён орден святого Александра Невского, а в 1942 г. — советский орден Александра Невского (единственный советский орден, названный именем деятеля эпохи русского средневековья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Татьяна\Desktop\Рисунок1.jpg"/>
          <p:cNvPicPr/>
          <p:nvPr/>
        </p:nvPicPr>
        <p:blipFill>
          <a:blip r:embed="rId1"/>
          <a:stretch/>
        </p:blipFill>
        <p:spPr>
          <a:xfrm>
            <a:off x="500040" y="1143000"/>
            <a:ext cx="3886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Картинка 2 из 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3492360" y="4500720"/>
            <a:ext cx="5651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III веке Русь переживала очень тяжелые времена. Она была раздроблена, русские князья непрерывно воевали между собой. Этой слабостью и раздробленностью воспользовались монгольские завоеватели. Они разоряли русские города, уводили в рабство сотни тысячи люде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Картинка 17 из 2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0"/>
            <a:ext cx="55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итая Русь легкой добычей, папа римский объявил крестовой поход против русского православия, и на Русь двинулись полчища датских, шведских и немецких рыцарей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115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Невская битва 124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6160" y="999720"/>
            <a:ext cx="4400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240 г. множество шведских кораблей подошло к Неве под командованием Биргера. Александр, ему не было тогда еще 20 лет, долго молился в новгородском храме Святой Софии. Выйдя из храма, он укрепил дружину исполненными веры словами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в силе Бог, а в правде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– с оружием, иные – на конях, а мы Имя Господа Бога нашего призовем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артинка 13 из 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71720"/>
            <a:ext cx="37148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500040"/>
            <a:ext cx="4352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ольшой дружиной князь поспешил на врагов. Накануне битвы было видение: стоявший в морском дозоре воин увидел ладью, плывущую по морю, и на ней святых мучеников Бориса и Глеба, в одеждах багряных. Александр, ободренный предзнаменованием мужественно, с молитвой повел войско на шве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202 из 1188"/>
          <p:cNvPicPr/>
          <p:nvPr/>
        </p:nvPicPr>
        <p:blipFill>
          <a:blip r:embed="rId1"/>
          <a:stretch/>
        </p:blipFill>
        <p:spPr>
          <a:xfrm>
            <a:off x="4500720" y="642960"/>
            <a:ext cx="39654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«Повесть о житии и о храбрости благоверного и великого князя Александр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1448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была сеча великая с латинянами, и перебил их бесчисленное множество, и самому предводителю возложил печать на лицо острым копьем». За эту победу на реке Неве народ назвал Александр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Картинка 3 из 21"/>
          <p:cNvPicPr/>
          <p:nvPr/>
        </p:nvPicPr>
        <p:blipFill>
          <a:blip r:embed="rId1"/>
          <a:stretch/>
        </p:blipFill>
        <p:spPr>
          <a:xfrm>
            <a:off x="428760" y="1357200"/>
            <a:ext cx="30002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71720" y="5572080"/>
            <a:ext cx="70005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месте, где по преданию была Невская битва, поставили Александро-Невскую ла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Свято-Троицкая Александро-Невская Лавра.jpg"/>
          <p:cNvPicPr/>
          <p:nvPr/>
        </p:nvPicPr>
        <p:blipFill>
          <a:blip r:embed="rId1"/>
          <a:stretch/>
        </p:blipFill>
        <p:spPr>
          <a:xfrm>
            <a:off x="1143000" y="973080"/>
            <a:ext cx="6858000" cy="4541760"/>
          </a:xfrm>
          <a:prstGeom prst="rect">
            <a:avLst/>
          </a:prstGeom>
          <a:ln w="28440">
            <a:solidFill>
              <a:srgbClr val="8d3c15"/>
            </a:solidFill>
            <a:miter/>
          </a:ln>
        </p:spPr>
      </p:pic>
      <p:sp>
        <p:nvSpPr>
          <p:cNvPr id="61" name="Прямоугольник 3"/>
          <p:cNvSpPr/>
          <p:nvPr/>
        </p:nvSpPr>
        <p:spPr>
          <a:xfrm>
            <a:off x="3929040" y="10717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-Троицкая Александро-Невская Лав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Stencil"/>
              </a:rPr>
              <a:t>    </a:t>
            </a:r>
            <a:r>
              <a:rPr b="0" lang="ru-RU" sz="32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1242 г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на льду Чудского озера вошла в историю под названием </a:t>
            </a:r>
            <a:r>
              <a:rPr b="0" lang="ru-RU" sz="28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Ледового побоищ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116 из 179"/>
          <p:cNvPicPr/>
          <p:nvPr/>
        </p:nvPicPr>
        <p:blipFill>
          <a:blip r:embed="rId1"/>
          <a:stretch/>
        </p:blipFill>
        <p:spPr>
          <a:xfrm>
            <a:off x="714240" y="785880"/>
            <a:ext cx="350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7:02:37Z</dcterms:created>
  <dc:creator>кЫся</dc:creator>
  <dc:description/>
  <dc:language>en-US</dc:language>
  <cp:lastModifiedBy>Пользователь</cp:lastModifiedBy>
  <dcterms:modified xsi:type="dcterms:W3CDTF">2023-02-18T05:25:18Z</dcterms:modified>
  <cp:revision>41</cp:revision>
  <dc:subject/>
  <dc:title>«Лик Святого в житийной литературе»</dc:title>
</cp:coreProperties>
</file>