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A5E-ED94-412C-9A04-20FEEECD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E813-BC2E-4F37-AAD1-03FF3788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157-A1A2-4650-BB96-36383DF4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1CFE-5950-4F9F-A7F5-D53F7E3A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9EC9-3775-4EE7-BDED-6E82622E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A915-EDA4-420A-A28F-01240936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90B6-66C7-4348-BE24-CD79A22F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1774-99F3-433D-9130-50B91777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C714-FBDC-4C9B-A5BB-03E7D5EA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5712-33FF-410F-9A3C-892160EB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CEA9-4412-4332-BE50-CE31DFF4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F7D5-C951-460B-B149-48BA9B4D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EA36-9624-4CB1-BD2E-DD06119705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021.radikal.ru/0802/94/96ffb376c6f3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1.nnm.ru/imagez/gallery/c/8/6/3/8/c86381382d8c602456511bc664be9641_full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itzona.net/public/users/img/img_8527726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57720" y="1643040"/>
            <a:ext cx="534024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лександр Не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1"/>
          <p:cNvPicPr/>
          <p:nvPr/>
        </p:nvPicPr>
        <p:blipFill>
          <a:blip r:embed="rId1"/>
          <a:stretch/>
        </p:blipFill>
        <p:spPr>
          <a:xfrm>
            <a:off x="928800" y="1000080"/>
            <a:ext cx="227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Картинка 26 из 1490"/>
          <p:cNvPicPr/>
          <p:nvPr/>
        </p:nvPicPr>
        <p:blipFill>
          <a:blip r:embed="rId1"/>
          <a:stretch/>
        </p:blipFill>
        <p:spPr>
          <a:xfrm>
            <a:off x="1071720" y="571680"/>
            <a:ext cx="6858000" cy="34225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214200" y="4000680"/>
            <a:ext cx="8643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битве молодой князь Александр Невский (ему в то  время было всег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а) проявил себя как мудрый и опытный полководец. Узнав, что рыцари движутся на Псков через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ское озер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кованное льдом, Невский расположил свое войско у крутого берега озера. Его позиция была удобна тем, что враг не мог видеть всего русского войска и не мог определить его численности. А неприятельское войско было для русских как на ладони, так как двигалось по открытому льду. Силы были приблизительно равны – п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яч воинов с обеих стор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360" y="571320"/>
            <a:ext cx="54291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идим схему сражения. Немецкие рыцари для атаки выстроились в форме тупого клина, который русские назвал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иньей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ой порядок не раз помогал рыцарям прорывать строй противника и громить его по частям. Но Александр Невский смог обмануть врага. Князь сосредоточил свои основные силы не в центре, куда была направлена основная мощь рыцарей, а на флангах. Это позволило ему окружить и уничтожить против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Картинка 10 из 179"/>
          <p:cNvPicPr/>
          <p:nvPr/>
        </p:nvPicPr>
        <p:blipFill>
          <a:blip r:embed="rId1"/>
          <a:stretch/>
        </p:blipFill>
        <p:spPr>
          <a:xfrm>
            <a:off x="5500800" y="785880"/>
            <a:ext cx="27972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6160" y="713880"/>
            <a:ext cx="4400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ванные в тяжелые доспехи рыцари врезались в русское войско и решили, что победа уже за ними. Но внезапно их атаковали с флангов главные силы русских дружин – конники и лучники. Спасаясь бегством, рыцари в панике стали отступать на лед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ского озер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десь они и нашли свою могил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976"/>
          <p:cNvPicPr/>
          <p:nvPr/>
        </p:nvPicPr>
        <p:blipFill>
          <a:blip r:embed="rId1"/>
          <a:stretch/>
        </p:blipFill>
        <p:spPr>
          <a:xfrm>
            <a:off x="214200" y="85716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d3c15"/>
                </a:solidFill>
                <a:latin typeface="Times New Roman"/>
                <a:ea typeface="Times New Roman"/>
              </a:rPr>
              <a:t>Внешнеполитические принципы великого княз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 в силе Бог, а в правде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ть не преступая в чужие части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с мечом к нам придет - от меча и погибнет». 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епить оборону на Западе, а друзей искать на Востоке»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Картинка 189 из 211"/>
          <p:cNvPicPr/>
          <p:nvPr/>
        </p:nvPicPr>
        <p:blipFill>
          <a:blip r:embed="rId1"/>
          <a:stretch/>
        </p:blipFill>
        <p:spPr>
          <a:xfrm>
            <a:off x="4713120" y="1641600"/>
            <a:ext cx="390852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428720" y="713880"/>
            <a:ext cx="42577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неустанно заботился о распространении православной христианской веры и Православной Церкви за пределы Руси. После смерти Александр Невский был канонизирован, т. е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слен к лику святых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alexnevsk"/>
          <p:cNvPicPr/>
          <p:nvPr/>
        </p:nvPicPr>
        <p:blipFill>
          <a:blip r:embed="rId1"/>
          <a:stretch/>
        </p:blipFill>
        <p:spPr>
          <a:xfrm>
            <a:off x="279360" y="785880"/>
            <a:ext cx="4064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14520" y="713880"/>
            <a:ext cx="47862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Невский — одно из тех имён, что известны каждому в нашем Отечестве. Князь, покрытый воинской славой, удостоившийся литературной повести о своих деяниях вскоре после смерти, канонизированный церковью; человек, чьё имя продолжало вдохновлять поколения, жившие много веков спустя: в 1725 г. был учреждён орден святого Александра Невского, а в 1942 г. — советский орден Александра Невского (единственный советский орден, названный именем деятеля эпохи русского средневековья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Татьяна\Desktop\Рисунок1.jpg"/>
          <p:cNvPicPr/>
          <p:nvPr/>
        </p:nvPicPr>
        <p:blipFill>
          <a:blip r:embed="rId1"/>
          <a:stretch/>
        </p:blipFill>
        <p:spPr>
          <a:xfrm>
            <a:off x="500040" y="1143000"/>
            <a:ext cx="38862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Картинка 2 из 5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3492360" y="4500720"/>
            <a:ext cx="56516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XIII веке Русь переживала очень тяжелые времена. Она была раздроблена, русские князья непрерывно воевали между собой. Этой слабостью и раздробленностью воспользовались монгольские завоеватели. Они разоряли русские города, уводили в рабство сотни тысячи людей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Картинка 17 из 2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0" y="0"/>
            <a:ext cx="55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читая Русь легкой добычей, папа римский объявил крестовой поход против русского православия, и на Русь двинулись полчища датских, шведских и немецких рыцарей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811512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d3c15"/>
                </a:solidFill>
                <a:latin typeface="Times New Roman"/>
                <a:ea typeface="Times New Roman"/>
              </a:rPr>
              <a:t>Невская битва 1240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6160" y="999720"/>
            <a:ext cx="44006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240 г. множество шведских кораблей подошло к Неве под командованием Биргера. Александр, ему не было тогда еще 20 лет, долго молился в новгородском храме Святой Софии. Выйдя из храма, он укрепил дружину исполненными веры словами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 в силе Бог, а в правде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– с оружием, иные – на конях, а мы Имя Господа Бога нашего призовем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Картинка 13 из 2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071720"/>
            <a:ext cx="37148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2560" y="500040"/>
            <a:ext cx="43527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ебольшой дружиной князь поспешил на врагов. Накануне битвы было видение: стоявший в морском дозоре воин увидел ладью, плывущую по морю, и на ней святых мучеников Бориса и Глеба, в одеждах багряных. Александр, ободренный предзнаменованием мужественно, с молитвой повел войско на швед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Картинка 202 из 1188"/>
          <p:cNvPicPr/>
          <p:nvPr/>
        </p:nvPicPr>
        <p:blipFill>
          <a:blip r:embed="rId1"/>
          <a:stretch/>
        </p:blipFill>
        <p:spPr>
          <a:xfrm>
            <a:off x="4500720" y="642960"/>
            <a:ext cx="396540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8d3c15"/>
                </a:solidFill>
                <a:latin typeface="Times New Roman"/>
                <a:ea typeface="Times New Roman"/>
              </a:rPr>
              <a:t>«Повесть о житии и о храбрости благоверного и великого князя Александра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1448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 была сеча великая с латинянами, и перебил их бесчисленное множество, и самому предводителю возложил печать на лицо острым копьем». За эту победу на реке Неве народ назвал Александр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с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Картинка 3 из 21"/>
          <p:cNvPicPr/>
          <p:nvPr/>
        </p:nvPicPr>
        <p:blipFill>
          <a:blip r:embed="rId1"/>
          <a:stretch/>
        </p:blipFill>
        <p:spPr>
          <a:xfrm>
            <a:off x="428760" y="1357200"/>
            <a:ext cx="30002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1071720" y="5572080"/>
            <a:ext cx="7000560" cy="70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8d3c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месте, где по преданию была Невская битва, поставили Александро-Невскую лав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Свято-Троицкая Александро-Невская Лавра.jpg"/>
          <p:cNvPicPr/>
          <p:nvPr/>
        </p:nvPicPr>
        <p:blipFill>
          <a:blip r:embed="rId1"/>
          <a:stretch/>
        </p:blipFill>
        <p:spPr>
          <a:xfrm>
            <a:off x="1143000" y="973080"/>
            <a:ext cx="6858000" cy="4541760"/>
          </a:xfrm>
          <a:prstGeom prst="rect">
            <a:avLst/>
          </a:prstGeom>
          <a:ln w="28440">
            <a:solidFill>
              <a:srgbClr val="8d3c15"/>
            </a:solidFill>
            <a:miter/>
          </a:ln>
        </p:spPr>
      </p:pic>
      <p:sp>
        <p:nvSpPr>
          <p:cNvPr id="61" name="Прямоугольник 3"/>
          <p:cNvSpPr/>
          <p:nvPr/>
        </p:nvSpPr>
        <p:spPr>
          <a:xfrm>
            <a:off x="3929040" y="1071720"/>
            <a:ext cx="42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то-Троицкая Александро-Невская Лав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0" y="1600200"/>
            <a:ext cx="36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Stencil"/>
              </a:rPr>
              <a:t>    </a:t>
            </a:r>
            <a:r>
              <a:rPr b="0" lang="ru-RU" sz="3200" spc="-1" strike="noStrike">
                <a:solidFill>
                  <a:srgbClr val="8d3c15"/>
                </a:solidFill>
                <a:latin typeface="Times New Roman"/>
                <a:ea typeface="Times New Roman"/>
              </a:rPr>
              <a:t>1242 г</a:t>
            </a:r>
            <a:r>
              <a:rPr b="0" lang="ru-RU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ва на льду Чудского озера вошла в историю под названием </a:t>
            </a:r>
            <a:r>
              <a:rPr b="0" lang="ru-RU" sz="2800" spc="-1" strike="noStrike">
                <a:solidFill>
                  <a:srgbClr val="8d3c15"/>
                </a:solidFill>
                <a:latin typeface="Times New Roman"/>
                <a:ea typeface="Times New Roman"/>
              </a:rPr>
              <a:t>Ледового побоищ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а 116 из 179"/>
          <p:cNvPicPr/>
          <p:nvPr/>
        </p:nvPicPr>
        <p:blipFill>
          <a:blip r:embed="rId1"/>
          <a:stretch/>
        </p:blipFill>
        <p:spPr>
          <a:xfrm>
            <a:off x="714240" y="785880"/>
            <a:ext cx="35006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07:02:37Z</dcterms:created>
  <dc:creator>кЫся</dc:creator>
  <dc:description/>
  <dc:language>en-US</dc:language>
  <cp:lastModifiedBy>Пользователь</cp:lastModifiedBy>
  <dcterms:modified xsi:type="dcterms:W3CDTF">2023-02-18T05:25:18Z</dcterms:modified>
  <cp:revision>41</cp:revision>
  <dc:subject/>
  <dc:title>«Лик Святого в житийной литературе»</dc:title>
</cp:coreProperties>
</file>