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F7A-CF2E-41DE-8976-69988874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7C8-1200-4897-B988-8346B7B6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B53-39B1-4B57-80BC-E06A2A41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D15-0277-476C-89AD-7D5685CB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77E-C8F3-41FB-AA20-49ED9EBC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376-25D5-4739-8CCB-6F77CC1A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77E-F0AD-43E9-BD23-BD2B64D1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EE8-4B97-4728-9552-928526D7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6A7-94A0-4131-A2F2-EB0BD4F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754-0F6C-4402-AEEA-1BDAF438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B92-F9C4-4272-A1F8-178BC5B2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940-2665-4CAF-AA1E-0236B2D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3D39-0972-4BDF-92BC-6724DF2DA14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«Бархатцы для школьной клумбы 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728600" y="428760"/>
            <a:ext cx="39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Эртильская СОШ с УИ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018600" y="107172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« Фестиваль проек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214880" y="378612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286240" y="3719880"/>
            <a:ext cx="350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белева Мария, 2В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Лысикова И.А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71680" y="1028880"/>
            <a:ext cx="7929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ь и за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акие цветы нужно сажать на школьной клум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Изучить, вырастить и применить рассадный способ выращивания бархатцев в домашни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oprezi.ru/fl/image.raw?view=image&amp;type=img&amp;id=97"/>
          <p:cNvPicPr/>
          <p:nvPr/>
        </p:nvPicPr>
        <p:blipFill>
          <a:blip r:embed="rId1"/>
          <a:stretch/>
        </p:blipFill>
        <p:spPr>
          <a:xfrm>
            <a:off x="5072040" y="4143240"/>
            <a:ext cx="2428920" cy="258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я\Desktop\Бархатцы для школьной клумбы\фото\пиир.jpg"/>
          <p:cNvPicPr/>
          <p:nvPr/>
        </p:nvPicPr>
        <p:blipFill>
          <a:blip r:embed="rId1"/>
          <a:stretch/>
        </p:blipFill>
        <p:spPr>
          <a:xfrm>
            <a:off x="3633840" y="1414440"/>
            <a:ext cx="2571840" cy="3425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157560" y="50004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ик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7964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Результа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0920" y="907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-704" t="-962" r="-799" b="-1086"/>
          <a:stretch/>
        </p:blipFill>
        <p:spPr>
          <a:xfrm>
            <a:off x="2484360" y="1174680"/>
            <a:ext cx="3346560" cy="384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adulibka.ru/wp-content/uploads/2018/01/0015-015-Spasibo-za-vnimanie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40:35Z</dcterms:created>
  <dc:creator>Мама</dc:creator>
  <dc:description/>
  <dc:language>en-US</dc:language>
  <cp:lastModifiedBy>я</cp:lastModifiedBy>
  <dcterms:modified xsi:type="dcterms:W3CDTF">2023-02-17T16:51:42Z</dcterms:modified>
  <cp:revision>75</cp:revision>
  <dc:subject/>
  <dc:title>Слайд 1</dc:title>
</cp:coreProperties>
</file>