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9F3-782F-4C18-B1D1-2A85E1E5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4C1-6196-4EBE-BFF1-A54F514D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B94-374D-44FC-9019-91D78382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DA9-80DC-42DE-B937-8D355074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C4E-7A4B-4881-B258-5356C9D5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135-1CF9-4841-8489-15C330D9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E18-CEBC-4293-B2F2-0DA9F0AF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553-4F3B-4211-A9F1-49E9AFC0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830-C6D6-4EF1-93C6-E5D9D3C7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B4D-DFF5-40B1-966C-17857FC3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E92-8DE6-44AE-96E5-433E99C7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769-116E-4DEB-A1B3-9C25B73C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712D-1894-4723-BCE8-356B7B76E85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85920" y="1714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«Бархатцы для школьной клумбы 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728600" y="428760"/>
            <a:ext cx="39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Эртильская СОШ с УИО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018600" y="107172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« Фестиваль проек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214880" y="3786120"/>
            <a:ext cx="228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286240" y="3719880"/>
            <a:ext cx="350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белева Мария, 2В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 Лысикова И.А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71680" y="1028880"/>
            <a:ext cx="7929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ель и зада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акие цветы нужно сажать на школьной клумб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Изучить, вырастить и применить рассадный способ выращивания бархатцев в домашни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oprezi.ru/fl/image.raw?view=image&amp;type=img&amp;id=97"/>
          <p:cNvPicPr/>
          <p:nvPr/>
        </p:nvPicPr>
        <p:blipFill>
          <a:blip r:embed="rId1"/>
          <a:stretch/>
        </p:blipFill>
        <p:spPr>
          <a:xfrm>
            <a:off x="5072040" y="4143240"/>
            <a:ext cx="2428920" cy="258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я\Desktop\Бархатцы для школьной клумбы\фото\пиир.jpg"/>
          <p:cNvPicPr/>
          <p:nvPr/>
        </p:nvPicPr>
        <p:blipFill>
          <a:blip r:embed="rId1"/>
          <a:stretch/>
        </p:blipFill>
        <p:spPr>
          <a:xfrm>
            <a:off x="3633840" y="1414440"/>
            <a:ext cx="2571840" cy="3425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157560" y="50004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ик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97964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Результа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50920" y="9079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-704" t="-962" r="-799" b="-1086"/>
          <a:stretch/>
        </p:blipFill>
        <p:spPr>
          <a:xfrm>
            <a:off x="2484360" y="1174680"/>
            <a:ext cx="3346560" cy="3843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sadulibka.ru/wp-content/uploads/2018/01/0015-015-Spasibo-za-vnimanie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40:35Z</dcterms:created>
  <dc:creator>Мама</dc:creator>
  <dc:description/>
  <dc:language>en-US</dc:language>
  <cp:lastModifiedBy>я</cp:lastModifiedBy>
  <dcterms:modified xsi:type="dcterms:W3CDTF">2023-02-17T16:51:42Z</dcterms:modified>
  <cp:revision>75</cp:revision>
  <dc:subject/>
  <dc:title>Слайд 1</dc:title>
</cp:coreProperties>
</file>