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7.jpeg" ContentType="image/jpeg"/>
  <Override PartName="/ppt/media/image28.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6.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2027C-9978-4348-B83A-3E7447466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4D44-F476-4946-8AF5-28A622B9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6B052-B8FF-4092-B361-BAD8A1F37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0CD58-DC2A-4248-AB03-2DA259009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C5B3E-9F7C-4B7C-80B9-A96C43908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548A-E93F-46B5-B81C-26702C98A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BF72D-524F-4C39-8F07-A0D26B886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48F98-9B3B-48B2-BFCC-EA780892B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59B3D-5BD2-4E47-9E14-ECF6F748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5A3F0-7913-46BF-8C54-709EFB062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411A2-277B-48D8-9DB4-8C1F5A525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BA51-5D77-48E5-A0FA-2915E17B5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5DA1F-FC38-406B-AAEC-DE89BDCEF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65920-8602-4FE9-A1FA-AA4F62D5D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4E116-7199-4A6A-890C-A427E142E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2F202-37FA-4E84-8D6B-958E25C79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549A1-918A-4D3B-944E-232EF0F66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878CD-E0BF-4F3E-B58A-5170968F98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22FD7-4995-45FF-B7F1-190E69FF12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1B004-167A-42B3-AE70-EEF83C249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5D5DE-934B-4D8C-9525-A6244C208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A53A4-7553-4F55-899C-41E4AA60F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D6AA-3D05-4220-B252-ED8ACACA4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ACE77-CAEE-4BF3-8900-7D8FBAA56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14280-8296-4F30-9522-3C5886BCC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5BA07-9C6F-4E86-9EBE-2C8FF3CCA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6ACB2-B3F7-4A6F-8D37-A60A0C78E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5948E-4723-4672-83C1-F51BC5436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3ABF2F-7B03-4F6C-9C29-8E320ECF54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52ED5E-889F-4D44-8F5F-AD59252E52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018DBF-A4EB-411C-9DAA-6A59772D21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38651-552F-425F-9598-FCF6B4C94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0D545-0627-459D-B11D-F516D626A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FB01-EC33-4E20-B50B-2655D639A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59CB2-752E-4641-970F-714533683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0563E-3C9B-4312-80BA-E8E61559A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B17B6-A31A-40E4-9A42-1DB3C74BD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AAB21-12D6-423D-A1ED-44F58BCB6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E9B32-AA9B-440E-B28D-D2D267DEF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CF53E-3A47-4D97-90E9-592BF5152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1DFE7-F8A4-4E8C-8D37-43B5B44C4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9E4D2-7096-42C8-BE2F-81102476F4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A2B7C2-ADFF-4A6F-B0EB-793C5AFD14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F74D-2B9C-40A9-B875-830537870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81CC3-9120-4EF3-B35C-A721758A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402C-CE8C-478B-9FBC-6B83542B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52E24-03A6-43C2-AB8D-E2E5F909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CF0F-B758-4A2A-8E85-E3B7F7CFC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C1AD-4194-4BAA-9FB7-248ECC8AA67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DBEA-C85B-4F65-99F0-BE67760294B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199B-2C2F-492C-A75B-9B38609094E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62A6-7EF6-4823-A744-42139BB8D8C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21.xml"/><Relationship Id="rId6" Type="http://schemas.openxmlformats.org/officeDocument/2006/relationships/slide" Target="slide20.xml"/><Relationship Id="rId7" Type="http://schemas.openxmlformats.org/officeDocument/2006/relationships/image" Target="../media/image19.jpeg"/><Relationship Id="rId8" Type="http://schemas.openxmlformats.org/officeDocument/2006/relationships/slide" Target="slide15.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22.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4.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30.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38.xml"/><Relationship Id="rId8" Type="http://schemas.openxmlformats.org/officeDocument/2006/relationships/slide" Target="slide40.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litera.ru/stixiya/authors/pasternak/all.html#sneg-idet-sneg"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33160" y="3228480"/>
            <a:ext cx="7854840" cy="3095640"/>
          </a:xfrm>
          <a:prstGeom prst="rect">
            <a:avLst/>
          </a:prstGeom>
          <a:noFill/>
          <a:ln w="0">
            <a:noFill/>
          </a:ln>
        </p:spPr>
        <p:txBody>
          <a:bodyPr lIns="0" rIns="18360" anchor="t">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Жить, </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Думать, </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Чувствовать, </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Любить,</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Свершать открытья…</a:t>
            </a:r>
            <a:endParaRPr b="0" lang="en-US" sz="3700" spc="-1" strike="noStrike">
              <a:solidFill>
                <a:srgbClr val="ffffff"/>
              </a:solidFill>
              <a:latin typeface="Constantia"/>
            </a:endParaRPr>
          </a:p>
        </p:txBody>
      </p:sp>
      <p:pic>
        <p:nvPicPr>
          <p:cNvPr id="196" name="Picture 4" descr="d:\Мои документы\Для уроков литературы\Пастернак\фото о пастернаке\0_23ace_425295a9_XL.jpg"/>
          <p:cNvPicPr/>
          <p:nvPr/>
        </p:nvPicPr>
        <p:blipFill>
          <a:blip r:embed="rId1"/>
          <a:stretch/>
        </p:blipFill>
        <p:spPr>
          <a:xfrm>
            <a:off x="6019920" y="2286000"/>
            <a:ext cx="2057400" cy="3214800"/>
          </a:xfrm>
          <a:prstGeom prst="rect">
            <a:avLst/>
          </a:prstGeom>
          <a:ln w="0">
            <a:noFill/>
          </a:ln>
        </p:spPr>
      </p:pic>
      <p:pic>
        <p:nvPicPr>
          <p:cNvPr id="197" name="Прямоугольник 4" descr=""/>
          <p:cNvPicPr/>
          <p:nvPr/>
        </p:nvPicPr>
        <p:blipFill>
          <a:blip r:embed="rId2"/>
          <a:stretch/>
        </p:blipFill>
        <p:spPr>
          <a:xfrm>
            <a:off x="884160" y="1006560"/>
            <a:ext cx="7332840" cy="113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Прямоугольник 1"/>
          <p:cNvSpPr/>
          <p:nvPr/>
        </p:nvSpPr>
        <p:spPr>
          <a:xfrm>
            <a:off x="609480" y="3048120"/>
            <a:ext cx="3962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943 совершил поездку на фронт, результатом чего явились очерки "В армии", а стихи "Смерть сапера", "Ожившая фреска", "Весна" вошли в книгу "На ранних поездах" (как и цикл "Переделкино), 1943.</a:t>
            </a:r>
            <a:endParaRPr b="0" lang="en-US" sz="2000" spc="-1" strike="noStrike">
              <a:solidFill>
                <a:srgbClr val="000000"/>
              </a:solidFill>
              <a:latin typeface="Arial"/>
            </a:endParaRPr>
          </a:p>
        </p:txBody>
      </p:sp>
      <p:pic>
        <p:nvPicPr>
          <p:cNvPr id="244" name="Picture 1" descr="d:\Мои документы\Для уроков литературы\Пастернак\фото о пастернаке\397705.jpg"/>
          <p:cNvPicPr/>
          <p:nvPr/>
        </p:nvPicPr>
        <p:blipFill>
          <a:blip r:embed="rId1"/>
          <a:stretch/>
        </p:blipFill>
        <p:spPr>
          <a:xfrm>
            <a:off x="5029200" y="2743200"/>
            <a:ext cx="3809880" cy="2857680"/>
          </a:xfrm>
          <a:prstGeom prst="rect">
            <a:avLst/>
          </a:prstGeom>
          <a:ln w="0">
            <a:noFill/>
          </a:ln>
        </p:spPr>
      </p:pic>
      <p:sp>
        <p:nvSpPr>
          <p:cNvPr id="245"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В годы Великой Отечественной войны</a:t>
            </a:r>
            <a:endParaRPr b="0" lang="en-US" sz="5000" spc="-1" strike="noStrike">
              <a:solidFill>
                <a:srgbClr val="000000"/>
              </a:solidFill>
              <a:latin typeface="Arial"/>
            </a:endParaRPr>
          </a:p>
        </p:txBody>
      </p:sp>
      <p:sp>
        <p:nvSpPr>
          <p:cNvPr id="246" name="Управляющая кнопка: назад 4">
            <a:hlinkClick r:id="" action="ppaction://hlinkshowjump?jump=previousslide"/>
          </p:cNvPr>
          <p:cNvSpPr/>
          <p:nvPr/>
        </p:nvSpPr>
        <p:spPr>
          <a:xfrm>
            <a:off x="57150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Управляющая кнопка: далее 5">
            <a:hlinkClick r:id="" action="ppaction://hlinkshowjump?jump=nextslide"/>
          </p:cNvPr>
          <p:cNvSpPr/>
          <p:nvPr/>
        </p:nvSpPr>
        <p:spPr>
          <a:xfrm>
            <a:off x="670572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Управляющая кнопка: в начало 6">
            <a:hlinkClick r:id="rId2" action="ppaction://hlinksldjump"/>
          </p:cNvPr>
          <p:cNvSpPr/>
          <p:nvPr/>
        </p:nvSpPr>
        <p:spPr>
          <a:xfrm>
            <a:off x="754380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8076" y="10800"/>
                </a:moveTo>
                <a:lnTo>
                  <a:pt x="28581" y="3794"/>
                </a:lnTo>
                <a:lnTo>
                  <a:pt x="28581" y="17806"/>
                </a:lnTo>
                <a:close/>
              </a:path>
              <a:path fill="darken" w="43149" h="21600">
                <a:moveTo>
                  <a:pt x="14568" y="3794"/>
                </a:moveTo>
                <a:lnTo>
                  <a:pt x="16230" y="3794"/>
                </a:lnTo>
                <a:lnTo>
                  <a:pt x="16230" y="17806"/>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Прямоугольник 1"/>
          <p:cNvSpPr/>
          <p:nvPr/>
        </p:nvSpPr>
        <p:spPr>
          <a:xfrm>
            <a:off x="609480" y="190512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Доктор Живаго" Пастернак писал долгие годы, завершив его в конце 1950-х. За этот роман, опубликованный в 1958 за границей, Пастернак был удостоен Нобелевской премии. Однако на родине этот роман не только не был напечатан, но вызвал резкую критику со стороны официальных властей. Автор был исключен из Союза писателей. (В 1987 это решение было отменено, а в 1988 роман опубликован в журнале "Новый мир".) "Стихотворения Юрия Живаго", завершающие роман, подчеркивают нравственно-философский пафос авторской позиции.</a:t>
            </a:r>
            <a:endParaRPr b="0" lang="en-US" sz="1800" spc="-1" strike="noStrike">
              <a:solidFill>
                <a:srgbClr val="000000"/>
              </a:solidFill>
              <a:latin typeface="Arial"/>
            </a:endParaRPr>
          </a:p>
        </p:txBody>
      </p:sp>
      <p:sp>
        <p:nvSpPr>
          <p:cNvPr id="250"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Главная  книга</a:t>
            </a:r>
            <a:endParaRPr b="0" lang="en-US" sz="5000" spc="-1" strike="noStrike">
              <a:solidFill>
                <a:srgbClr val="000000"/>
              </a:solidFill>
              <a:latin typeface="Arial"/>
            </a:endParaRPr>
          </a:p>
        </p:txBody>
      </p:sp>
      <p:pic>
        <p:nvPicPr>
          <p:cNvPr id="251" name="Picture 1" descr="d:\Мои документы\Для уроков литературы\Пастернак\фото о пастернаке\pasternak3.jpg"/>
          <p:cNvPicPr/>
          <p:nvPr/>
        </p:nvPicPr>
        <p:blipFill>
          <a:blip r:embed="rId1"/>
          <a:stretch/>
        </p:blipFill>
        <p:spPr>
          <a:xfrm>
            <a:off x="5638680" y="1523880"/>
            <a:ext cx="2819520" cy="3946680"/>
          </a:xfrm>
          <a:prstGeom prst="rect">
            <a:avLst/>
          </a:prstGeom>
          <a:ln w="0">
            <a:noFill/>
          </a:ln>
        </p:spPr>
      </p:pic>
      <p:sp>
        <p:nvSpPr>
          <p:cNvPr id="252" name="Управляющая кнопка: назад 4">
            <a:hlinkClick r:id="" action="ppaction://hlinkshowjump?jump=previousslide"/>
          </p:cNvPr>
          <p:cNvSpPr/>
          <p:nvPr/>
        </p:nvSpPr>
        <p:spPr>
          <a:xfrm>
            <a:off x="65530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Управляющая кнопка: далее 5">
            <a:hlinkClick r:id="" action="ppaction://hlinkshowjump?jump=nextslide"/>
          </p:cNvPr>
          <p:cNvSpPr/>
          <p:nvPr/>
        </p:nvSpPr>
        <p:spPr>
          <a:xfrm>
            <a:off x="73915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Управляющая кнопка: в начало 6">
            <a:hlinkClick r:id="rId2" action="ppaction://hlinksldjump"/>
          </p:cNvPr>
          <p:cNvSpPr/>
          <p:nvPr/>
        </p:nvSpPr>
        <p:spPr>
          <a:xfrm>
            <a:off x="822960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Прямоугольник 1"/>
          <p:cNvSpPr/>
          <p:nvPr/>
        </p:nvSpPr>
        <p:spPr>
          <a:xfrm>
            <a:off x="380880" y="1066680"/>
            <a:ext cx="5191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56 — 1959 вышла последняя книга стихотворений Пастернака "Когда разгу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58 году Пастернаку была присуждена Нобелевская премия «За выдающиеся заслуги в современной лирической поэзии и на традиционном поприще великой русской прозы», от которой поэт вынужден был отказаться из-за травли на родин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60 поэт умер от тяжелой болезни 30 мая в Переделкино. В последних своих книгах Пастернак говорил о замене культа революционного преобразования мира идеей постепенного его обновления на почве христианской жертвенност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е потрясенья и перевороты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ля новой жизни очищают путь,</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откровенья, бури и щедроты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уши воспламенённой чьей-нибудь.</a:t>
            </a:r>
            <a:endParaRPr b="0" lang="en-US" sz="1800" spc="-1" strike="noStrike">
              <a:solidFill>
                <a:srgbClr val="000000"/>
              </a:solidFill>
              <a:latin typeface="Arial"/>
            </a:endParaRPr>
          </a:p>
        </p:txBody>
      </p:sp>
      <p:pic>
        <p:nvPicPr>
          <p:cNvPr id="256" name="Picture 2" descr="d:\Мои документы\Для уроков литературы\Пастернак\фото о пастернаке\beveled_vertical-1936-gornung3n.jpg"/>
          <p:cNvPicPr/>
          <p:nvPr/>
        </p:nvPicPr>
        <p:blipFill>
          <a:blip r:embed="rId1"/>
          <a:stretch/>
        </p:blipFill>
        <p:spPr>
          <a:xfrm>
            <a:off x="5857920" y="1357200"/>
            <a:ext cx="2620800" cy="3919680"/>
          </a:xfrm>
          <a:prstGeom prst="rect">
            <a:avLst/>
          </a:prstGeom>
          <a:ln w="0">
            <a:noFill/>
          </a:ln>
        </p:spPr>
      </p:pic>
      <p:sp>
        <p:nvSpPr>
          <p:cNvPr id="257"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тоги</a:t>
            </a:r>
            <a:endParaRPr b="0" lang="en-US" sz="5000" spc="-1" strike="noStrike">
              <a:solidFill>
                <a:srgbClr val="000000"/>
              </a:solidFill>
              <a:latin typeface="Arial"/>
            </a:endParaRPr>
          </a:p>
        </p:txBody>
      </p:sp>
      <p:sp>
        <p:nvSpPr>
          <p:cNvPr id="258" name="Управляющая кнопка: назад 5">
            <a:hlinkClick r:id="" action="ppaction://hlinkshowjump?jump=previousslide"/>
          </p:cNvPr>
          <p:cNvSpPr/>
          <p:nvPr/>
        </p:nvSpPr>
        <p:spPr>
          <a:xfrm>
            <a:off x="5867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Управляющая кнопка: далее 6">
            <a:hlinkClick r:id="" action="ppaction://hlinkshowjump?jump=nextslide"/>
          </p:cNvPr>
          <p:cNvSpPr/>
          <p:nvPr/>
        </p:nvSpPr>
        <p:spPr>
          <a:xfrm>
            <a:off x="67816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Управляющая кнопка: в начало 7">
            <a:hlinkClick r:id="rId2" action="ppaction://hlinksldjump"/>
          </p:cNvPr>
          <p:cNvSpPr/>
          <p:nvPr/>
        </p:nvSpPr>
        <p:spPr>
          <a:xfrm>
            <a:off x="762012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8076" y="10800"/>
                </a:moveTo>
                <a:lnTo>
                  <a:pt x="28581" y="3794"/>
                </a:lnTo>
                <a:lnTo>
                  <a:pt x="28581" y="17806"/>
                </a:lnTo>
                <a:close/>
              </a:path>
              <a:path fill="darken" w="43149" h="21600">
                <a:moveTo>
                  <a:pt x="14568" y="3794"/>
                </a:moveTo>
                <a:lnTo>
                  <a:pt x="16230" y="3794"/>
                </a:lnTo>
                <a:lnTo>
                  <a:pt x="16230" y="17806"/>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920"/>
            <a:ext cx="8229600" cy="1752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сновные произведения Бориса Пастернака</a:t>
            </a:r>
            <a:endParaRPr b="0" lang="en-US" sz="5000" spc="-1" strike="noStrike">
              <a:solidFill>
                <a:srgbClr val="04617b"/>
              </a:solidFill>
              <a:latin typeface="Calibri"/>
            </a:endParaRPr>
          </a:p>
        </p:txBody>
      </p:sp>
      <p:sp>
        <p:nvSpPr>
          <p:cNvPr id="262" name=""/>
          <p:cNvSpPr txBox="1"/>
          <p:nvPr/>
        </p:nvSpPr>
        <p:spPr>
          <a:xfrm>
            <a:off x="685800" y="2743200"/>
            <a:ext cx="6781680" cy="37339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Цель творчества – самоотдача, </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А не шумиха , на успех.</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Позорно, ничего не знача,</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Быть притчей на устах у всех…</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И должен ни единой долькой </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Не отступаться от лица,</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И быть живым, живым и только,</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Живым и только до конца.</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3" name="Управляющая кнопка: назад 5">
            <a:hlinkClick r:id="" action="ppaction://hlinkshowjump?jump=previousslide"/>
          </p:cNvPr>
          <p:cNvSpPr/>
          <p:nvPr/>
        </p:nvSpPr>
        <p:spPr>
          <a:xfrm>
            <a:off x="64008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Управляющая кнопка: далее 6">
            <a:hlinkClick r:id="" action="ppaction://hlinkshowjump?jump=nextslide"/>
          </p:cNvPr>
          <p:cNvSpPr/>
          <p:nvPr/>
        </p:nvSpPr>
        <p:spPr>
          <a:xfrm>
            <a:off x="731520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Управляющая кнопка: в начало 7">
            <a:hlinkClick r:id="rId1" action="ppaction://hlinksldjump"/>
          </p:cNvPr>
          <p:cNvSpPr/>
          <p:nvPr/>
        </p:nvSpPr>
        <p:spPr>
          <a:xfrm>
            <a:off x="822960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сновные книги</a:t>
            </a:r>
            <a:endParaRPr b="0" lang="en-US" sz="5000" spc="-1" strike="noStrike">
              <a:solidFill>
                <a:srgbClr val="000000"/>
              </a:solidFill>
              <a:latin typeface="Arial"/>
            </a:endParaRPr>
          </a:p>
        </p:txBody>
      </p:sp>
      <p:sp>
        <p:nvSpPr>
          <p:cNvPr id="267" name="Скругленный прямоугольник 3"/>
          <p:cNvSpPr/>
          <p:nvPr/>
        </p:nvSpPr>
        <p:spPr>
          <a:xfrm>
            <a:off x="457200" y="2819520"/>
            <a:ext cx="2057400" cy="144756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1" action="ppaction://hlinksldjump"/>
              </a:rPr>
              <a:t>Поверх барьеров</a:t>
            </a:r>
            <a:endParaRPr b="0" lang="en-US" sz="2800" spc="-1" strike="noStrike">
              <a:solidFill>
                <a:srgbClr val="000000"/>
              </a:solidFill>
              <a:latin typeface="Arial"/>
            </a:endParaRPr>
          </a:p>
        </p:txBody>
      </p:sp>
      <p:sp>
        <p:nvSpPr>
          <p:cNvPr id="268" name="Скругленный прямоугольник 4"/>
          <p:cNvSpPr/>
          <p:nvPr/>
        </p:nvSpPr>
        <p:spPr>
          <a:xfrm>
            <a:off x="609480" y="4572000"/>
            <a:ext cx="205740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2" action="ppaction://hlinksldjump"/>
              </a:rPr>
              <a:t>Сестра моя жизн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Скругленный прямоугольник 5"/>
          <p:cNvSpPr/>
          <p:nvPr/>
        </p:nvSpPr>
        <p:spPr>
          <a:xfrm>
            <a:off x="5638680" y="4572000"/>
            <a:ext cx="213372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3" action="ppaction://hlinksldjump"/>
              </a:rPr>
              <a:t>Переводы </a:t>
            </a:r>
            <a:endParaRPr b="0" lang="en-US" sz="2800" spc="-1" strike="noStrike">
              <a:solidFill>
                <a:srgbClr val="000000"/>
              </a:solidFill>
              <a:latin typeface="Arial"/>
            </a:endParaRPr>
          </a:p>
        </p:txBody>
      </p:sp>
      <p:sp>
        <p:nvSpPr>
          <p:cNvPr id="270" name="Скругленный прямоугольник 6"/>
          <p:cNvSpPr/>
          <p:nvPr/>
        </p:nvSpPr>
        <p:spPr>
          <a:xfrm>
            <a:off x="3048120" y="4876920"/>
            <a:ext cx="2209680" cy="144756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4" action="ppaction://hlinksldjump"/>
              </a:rPr>
              <a:t>Поэмы</a:t>
            </a:r>
            <a:r>
              <a:rPr b="1" lang="ru-RU" sz="2800" spc="-1" strike="noStrike">
                <a:solidFill>
                  <a:srgbClr val="7f7f7f"/>
                </a:solidFill>
                <a:latin typeface="Constantia"/>
              </a:rPr>
              <a:t> </a:t>
            </a:r>
            <a:endParaRPr b="0" lang="en-US" sz="2800" spc="-1" strike="noStrike">
              <a:solidFill>
                <a:srgbClr val="000000"/>
              </a:solidFill>
              <a:latin typeface="Arial"/>
            </a:endParaRPr>
          </a:p>
        </p:txBody>
      </p:sp>
      <p:sp>
        <p:nvSpPr>
          <p:cNvPr id="271" name="Скругленный прямоугольник 9"/>
          <p:cNvSpPr/>
          <p:nvPr/>
        </p:nvSpPr>
        <p:spPr>
          <a:xfrm>
            <a:off x="5638680" y="2819520"/>
            <a:ext cx="2514600" cy="144756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5" action="ppaction://hlinksldjump"/>
              </a:rPr>
              <a:t>Когда разгуляется</a:t>
            </a:r>
            <a:endParaRPr b="0" lang="en-US" sz="2800" spc="-1" strike="noStrike">
              <a:solidFill>
                <a:srgbClr val="000000"/>
              </a:solidFill>
              <a:latin typeface="Arial"/>
            </a:endParaRPr>
          </a:p>
        </p:txBody>
      </p:sp>
      <p:sp>
        <p:nvSpPr>
          <p:cNvPr id="272" name="Скругленный прямоугольник 10"/>
          <p:cNvSpPr/>
          <p:nvPr/>
        </p:nvSpPr>
        <p:spPr>
          <a:xfrm>
            <a:off x="5410080" y="1143000"/>
            <a:ext cx="213372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6" action="ppaction://hlinksldjump"/>
              </a:rPr>
              <a:t>Доктор Живаго</a:t>
            </a:r>
            <a:endParaRPr b="0" lang="en-US" sz="2800" spc="-1" strike="noStrike">
              <a:solidFill>
                <a:srgbClr val="000000"/>
              </a:solidFill>
              <a:latin typeface="Arial"/>
            </a:endParaRPr>
          </a:p>
        </p:txBody>
      </p:sp>
      <p:pic>
        <p:nvPicPr>
          <p:cNvPr id="273" name="Picture 3" descr="d:\Мои документы\Для уроков литературы\Пастернак\фото о пастернаке\6255.jpg"/>
          <p:cNvPicPr/>
          <p:nvPr/>
        </p:nvPicPr>
        <p:blipFill>
          <a:blip r:embed="rId7"/>
          <a:stretch/>
        </p:blipFill>
        <p:spPr>
          <a:xfrm>
            <a:off x="3048120" y="1600200"/>
            <a:ext cx="2152440" cy="2962440"/>
          </a:xfrm>
          <a:prstGeom prst="rect">
            <a:avLst/>
          </a:prstGeom>
          <a:ln w="0">
            <a:noFill/>
          </a:ln>
        </p:spPr>
      </p:pic>
      <p:sp>
        <p:nvSpPr>
          <p:cNvPr id="274" name="Скругленный прямоугольник 7"/>
          <p:cNvSpPr/>
          <p:nvPr/>
        </p:nvSpPr>
        <p:spPr>
          <a:xfrm>
            <a:off x="685800" y="1066680"/>
            <a:ext cx="213372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8" action="ppaction://hlinksldjump"/>
              </a:rPr>
              <a:t>Близнец в тучах</a:t>
            </a:r>
            <a:endParaRPr b="0" lang="en-US" sz="2800" spc="-1" strike="noStrike">
              <a:solidFill>
                <a:srgbClr val="000000"/>
              </a:solidFill>
              <a:latin typeface="Arial"/>
            </a:endParaRPr>
          </a:p>
        </p:txBody>
      </p:sp>
      <p:sp>
        <p:nvSpPr>
          <p:cNvPr id="275" name="Управляющая кнопка: назад 13">
            <a:hlinkClick r:id="" action="ppaction://hlinkshowjump?jump=previousslide"/>
          </p:cNvPr>
          <p:cNvSpPr/>
          <p:nvPr/>
        </p:nvSpPr>
        <p:spPr>
          <a:xfrm>
            <a:off x="64771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Управляющая кнопка: далее 14">
            <a:hlinkClick r:id="" action="ppaction://hlinkshowjump?jump=nextslide"/>
          </p:cNvPr>
          <p:cNvSpPr/>
          <p:nvPr/>
        </p:nvSpPr>
        <p:spPr>
          <a:xfrm>
            <a:off x="71629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Управляющая кнопка: в начало 15">
            <a:hlinkClick r:id="rId9" action="ppaction://hlinksldjump"/>
          </p:cNvPr>
          <p:cNvSpPr/>
          <p:nvPr/>
        </p:nvSpPr>
        <p:spPr>
          <a:xfrm>
            <a:off x="79246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Скругленный прямоугольник 1"/>
          <p:cNvSpPr/>
          <p:nvPr/>
        </p:nvSpPr>
        <p:spPr>
          <a:xfrm>
            <a:off x="1219320" y="533520"/>
            <a:ext cx="213336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Близнец в тучах</a:t>
            </a:r>
            <a:endParaRPr b="0" lang="en-US" sz="2800" spc="-1" strike="noStrike">
              <a:solidFill>
                <a:srgbClr val="000000"/>
              </a:solidFill>
              <a:latin typeface="Arial"/>
            </a:endParaRPr>
          </a:p>
        </p:txBody>
      </p:sp>
      <p:sp>
        <p:nvSpPr>
          <p:cNvPr id="279" name="Прямоугольник 3"/>
          <p:cNvSpPr/>
          <p:nvPr/>
        </p:nvSpPr>
        <p:spPr>
          <a:xfrm>
            <a:off x="6477120" y="1676520"/>
            <a:ext cx="2133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14 году вышла первая книга Пастернака «Близнец в тучах» - совсем тонкая, книга-тетрадь.  В ней он выступает как начинающий поэт-футурист (сотрудничал с группой «Центрифуга»).</a:t>
            </a:r>
            <a:endParaRPr b="0" lang="en-US" sz="1800" spc="-1" strike="noStrike">
              <a:solidFill>
                <a:srgbClr val="000000"/>
              </a:solidFill>
              <a:latin typeface="Arial"/>
            </a:endParaRPr>
          </a:p>
        </p:txBody>
      </p:sp>
      <p:pic>
        <p:nvPicPr>
          <p:cNvPr id="280" name="Picture 1" descr="d:\Мои документы\Для уроков литературы\Пастернак\фото о пастернаке\504b.jpg"/>
          <p:cNvPicPr/>
          <p:nvPr/>
        </p:nvPicPr>
        <p:blipFill>
          <a:blip r:embed="rId1"/>
          <a:stretch/>
        </p:blipFill>
        <p:spPr>
          <a:xfrm>
            <a:off x="533520" y="2209680"/>
            <a:ext cx="5724360" cy="4276800"/>
          </a:xfrm>
          <a:prstGeom prst="rect">
            <a:avLst/>
          </a:prstGeom>
          <a:ln w="0">
            <a:noFill/>
          </a:ln>
        </p:spPr>
      </p:pic>
      <p:sp>
        <p:nvSpPr>
          <p:cNvPr id="281" name="Управляющая кнопка: назад 6">
            <a:hlinkClick r:id="" action="ppaction://hlinkshowjump?jump=previousslide"/>
          </p:cNvPr>
          <p:cNvSpPr/>
          <p:nvPr/>
        </p:nvSpPr>
        <p:spPr>
          <a:xfrm>
            <a:off x="6477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Управляющая кнопка: далее 7">
            <a:hlinkClick r:id="" action="ppaction://hlinkshowjump?jump=nextslide"/>
          </p:cNvPr>
          <p:cNvSpPr/>
          <p:nvPr/>
        </p:nvSpPr>
        <p:spPr>
          <a:xfrm>
            <a:off x="7238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Управляющая кнопка: в начало 8">
            <a:hlinkClick r:id="rId2" action="ppaction://hlinksldjump"/>
          </p:cNvPr>
          <p:cNvSpPr/>
          <p:nvPr/>
        </p:nvSpPr>
        <p:spPr>
          <a:xfrm>
            <a:off x="84582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12707" y="10800"/>
                </a:moveTo>
                <a:lnTo>
                  <a:pt x="23213" y="3794"/>
                </a:lnTo>
                <a:lnTo>
                  <a:pt x="23213" y="17806"/>
                </a:lnTo>
                <a:close/>
              </a:path>
              <a:path fill="darken" w="32413" h="21600">
                <a:moveTo>
                  <a:pt x="9200" y="3794"/>
                </a:moveTo>
                <a:lnTo>
                  <a:pt x="10862" y="3794"/>
                </a:lnTo>
                <a:lnTo>
                  <a:pt x="10862" y="17806"/>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Управляющая кнопка: возврат 9">
            <a:hlinkClick r:id="rId3" action="ppaction://hlinksldjump"/>
          </p:cNvPr>
          <p:cNvSpPr/>
          <p:nvPr/>
        </p:nvSpPr>
        <p:spPr>
          <a:xfrm>
            <a:off x="79246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6509" y="7493"/>
                </a:moveTo>
                <a:lnTo>
                  <a:pt x="10017" y="7493"/>
                </a:lnTo>
                <a:lnTo>
                  <a:pt x="10017" y="12828"/>
                </a:lnTo>
                <a:cubicBezTo>
                  <a:pt x="10017" y="13751"/>
                  <a:pt x="10818" y="14482"/>
                  <a:pt x="11854" y="14482"/>
                </a:cubicBezTo>
                <a:lnTo>
                  <a:pt x="13516" y="14482"/>
                </a:lnTo>
                <a:cubicBezTo>
                  <a:pt x="14552" y="14482"/>
                  <a:pt x="15352" y="13751"/>
                  <a:pt x="15352" y="12828"/>
                </a:cubicBezTo>
                <a:lnTo>
                  <a:pt x="15352" y="7493"/>
                </a:lnTo>
                <a:lnTo>
                  <a:pt x="13516" y="7493"/>
                </a:lnTo>
                <a:lnTo>
                  <a:pt x="17024" y="3985"/>
                </a:lnTo>
                <a:lnTo>
                  <a:pt x="20696" y="7493"/>
                </a:lnTo>
                <a:lnTo>
                  <a:pt x="18860" y="7493"/>
                </a:lnTo>
                <a:lnTo>
                  <a:pt x="18860" y="12828"/>
                </a:lnTo>
                <a:cubicBezTo>
                  <a:pt x="18860" y="15596"/>
                  <a:pt x="16284" y="18155"/>
                  <a:pt x="13516" y="18155"/>
                </a:cubicBezTo>
                <a:lnTo>
                  <a:pt x="11854" y="18155"/>
                </a:lnTo>
                <a:cubicBezTo>
                  <a:pt x="9086" y="18155"/>
                  <a:pt x="6509" y="15596"/>
                  <a:pt x="650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Скругленный прямоугольник 1"/>
          <p:cNvSpPr/>
          <p:nvPr/>
        </p:nvSpPr>
        <p:spPr>
          <a:xfrm>
            <a:off x="1066680" y="609480"/>
            <a:ext cx="2057400" cy="144792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Поверх барьеров</a:t>
            </a:r>
            <a:endParaRPr b="0" lang="en-US" sz="2800" spc="-1" strike="noStrike">
              <a:solidFill>
                <a:srgbClr val="000000"/>
              </a:solidFill>
              <a:latin typeface="Arial"/>
            </a:endParaRPr>
          </a:p>
        </p:txBody>
      </p:sp>
      <p:sp>
        <p:nvSpPr>
          <p:cNvPr id="286" name="Прямоугольник 3"/>
          <p:cNvSpPr/>
          <p:nvPr/>
        </p:nvSpPr>
        <p:spPr>
          <a:xfrm>
            <a:off x="4419720" y="1295280"/>
            <a:ext cx="388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16 год – вторая книга Пастернака «Поверх барьеров». Так поэт был склонен называть не только свою книгу, но и свою новую поэтическую манеру. Поверх барьеров – поэтика крайностей, диссонансов. Это взрыв, который в кратчайший срок создал своеобразную поэтическую вселенную. Книга знаменовала появление необычного,  самобытного поэта. Сам Пастернак считал «Поверх барьеров» экспериментальной книгой, в которой он искал путь к достоверному изображению человеческой личности.</a:t>
            </a:r>
            <a:endParaRPr b="0" lang="en-US" sz="1800" spc="-1" strike="noStrike">
              <a:solidFill>
                <a:srgbClr val="000000"/>
              </a:solidFill>
              <a:latin typeface="Arial"/>
            </a:endParaRPr>
          </a:p>
        </p:txBody>
      </p:sp>
      <p:pic>
        <p:nvPicPr>
          <p:cNvPr id="287" name="Picture 1" descr="d:\Мои документы\Для уроков литературы\Пастернак\фото о пастернаке\70607456_BLP1.jpg"/>
          <p:cNvPicPr/>
          <p:nvPr/>
        </p:nvPicPr>
        <p:blipFill>
          <a:blip r:embed="rId1"/>
          <a:stretch/>
        </p:blipFill>
        <p:spPr>
          <a:xfrm>
            <a:off x="1219320" y="2514600"/>
            <a:ext cx="2514600" cy="3117960"/>
          </a:xfrm>
          <a:prstGeom prst="rect">
            <a:avLst/>
          </a:prstGeom>
          <a:ln w="0">
            <a:noFill/>
          </a:ln>
        </p:spPr>
      </p:pic>
      <p:sp>
        <p:nvSpPr>
          <p:cNvPr id="288" name="TextBox 5"/>
          <p:cNvSpPr/>
          <p:nvPr/>
        </p:nvSpPr>
        <p:spPr>
          <a:xfrm>
            <a:off x="1081080" y="5943600"/>
            <a:ext cx="29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нок Юрия Анненского</a:t>
            </a:r>
            <a:endParaRPr b="0" lang="en-US" sz="1800" spc="-1" strike="noStrike">
              <a:solidFill>
                <a:srgbClr val="000000"/>
              </a:solidFill>
              <a:latin typeface="Arial"/>
            </a:endParaRPr>
          </a:p>
        </p:txBody>
      </p:sp>
      <p:sp>
        <p:nvSpPr>
          <p:cNvPr id="289" name="Управляющая кнопка: назад 6">
            <a:hlinkClick r:id="" action="ppaction://hlinkshowjump?jump=previousslide"/>
          </p:cNvPr>
          <p:cNvSpPr/>
          <p:nvPr/>
        </p:nvSpPr>
        <p:spPr>
          <a:xfrm>
            <a:off x="5029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Управляющая кнопка: далее 7">
            <a:hlinkClick r:id="" action="ppaction://hlinkshowjump?jump=nextslide"/>
          </p:cNvPr>
          <p:cNvSpPr/>
          <p:nvPr/>
        </p:nvSpPr>
        <p:spPr>
          <a:xfrm>
            <a:off x="594360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Управляющая кнопка: в начало 8">
            <a:hlinkClick r:id="rId2" action="ppaction://hlinksldjump"/>
          </p:cNvPr>
          <p:cNvSpPr/>
          <p:nvPr/>
        </p:nvSpPr>
        <p:spPr>
          <a:xfrm>
            <a:off x="746748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Управляющая кнопка: возврат 9">
            <a:hlinkClick r:id="rId3" action="ppaction://hlinksldjump"/>
          </p:cNvPr>
          <p:cNvSpPr/>
          <p:nvPr/>
        </p:nvSpPr>
        <p:spPr>
          <a:xfrm>
            <a:off x="678168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7493"/>
                </a:moveTo>
                <a:lnTo>
                  <a:pt x="15388" y="7493"/>
                </a:lnTo>
                <a:lnTo>
                  <a:pt x="15388" y="12828"/>
                </a:lnTo>
                <a:cubicBezTo>
                  <a:pt x="15388" y="13751"/>
                  <a:pt x="16189" y="14482"/>
                  <a:pt x="17225" y="14482"/>
                </a:cubicBezTo>
                <a:lnTo>
                  <a:pt x="18887" y="14482"/>
                </a:lnTo>
                <a:cubicBezTo>
                  <a:pt x="19923" y="14482"/>
                  <a:pt x="20724" y="13751"/>
                  <a:pt x="20724" y="12828"/>
                </a:cubicBezTo>
                <a:lnTo>
                  <a:pt x="20724" y="7493"/>
                </a:lnTo>
                <a:lnTo>
                  <a:pt x="18887" y="7493"/>
                </a:lnTo>
                <a:lnTo>
                  <a:pt x="22395" y="3985"/>
                </a:lnTo>
                <a:lnTo>
                  <a:pt x="26068" y="7493"/>
                </a:lnTo>
                <a:lnTo>
                  <a:pt x="24231" y="7493"/>
                </a:lnTo>
                <a:lnTo>
                  <a:pt x="24231" y="12828"/>
                </a:lnTo>
                <a:cubicBezTo>
                  <a:pt x="24231" y="15596"/>
                  <a:pt x="21655" y="18155"/>
                  <a:pt x="18887" y="18155"/>
                </a:cubicBezTo>
                <a:lnTo>
                  <a:pt x="17225" y="18155"/>
                </a:lnTo>
                <a:cubicBezTo>
                  <a:pt x="14457" y="18155"/>
                  <a:pt x="11881" y="15596"/>
                  <a:pt x="118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Скругленный прямоугольник 1"/>
          <p:cNvSpPr/>
          <p:nvPr/>
        </p:nvSpPr>
        <p:spPr>
          <a:xfrm>
            <a:off x="1066680" y="762120"/>
            <a:ext cx="205740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Сестра моя жизн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Прямоугольник 2"/>
          <p:cNvSpPr/>
          <p:nvPr/>
        </p:nvSpPr>
        <p:spPr>
          <a:xfrm>
            <a:off x="4495680" y="1219320"/>
            <a:ext cx="388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2 году опубликовал книгу «Сестра моя - жизнь». О Пастернаке заговорили как о лучшем современном поэте, живом классике, наследнике Пушкина, Лермонтова, Тютче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а книга – своеобразный роман в стихах. В основе фабулы лежит нехитрая любовная история. Счастливые весенние и летние встречи меняются разрывом, потому что Она Его разлюбила.  Стихи вобрали в себя не только любовные переживания, но и большое философское, психологическое, бытовое содержание. </a:t>
            </a:r>
            <a:endParaRPr b="0" lang="en-US" sz="1800" spc="-1" strike="noStrike">
              <a:solidFill>
                <a:srgbClr val="000000"/>
              </a:solidFill>
              <a:latin typeface="Arial"/>
            </a:endParaRPr>
          </a:p>
        </p:txBody>
      </p:sp>
      <p:pic>
        <p:nvPicPr>
          <p:cNvPr id="295" name="Picture 1" descr="d:\Мои документы\Для уроков литературы\Пастернак\фото о пастернаке\392_300_14952_pasterbigjpg.jpg"/>
          <p:cNvPicPr/>
          <p:nvPr/>
        </p:nvPicPr>
        <p:blipFill>
          <a:blip r:embed="rId1"/>
          <a:stretch/>
        </p:blipFill>
        <p:spPr>
          <a:xfrm>
            <a:off x="685800" y="2666880"/>
            <a:ext cx="3733920" cy="2857680"/>
          </a:xfrm>
          <a:prstGeom prst="rect">
            <a:avLst/>
          </a:prstGeom>
          <a:ln w="0">
            <a:noFill/>
          </a:ln>
        </p:spPr>
      </p:pic>
      <p:sp>
        <p:nvSpPr>
          <p:cNvPr id="296" name="Управляющая кнопка: назад 4">
            <a:hlinkClick r:id="" action="ppaction://hlinkshowjump?jump=previousslide"/>
          </p:cNvPr>
          <p:cNvSpPr/>
          <p:nvPr/>
        </p:nvSpPr>
        <p:spPr>
          <a:xfrm>
            <a:off x="480060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Управляющая кнопка: далее 5">
            <a:hlinkClick r:id="" action="ppaction://hlinkshowjump?jump=nextslide"/>
          </p:cNvPr>
          <p:cNvSpPr/>
          <p:nvPr/>
        </p:nvSpPr>
        <p:spPr>
          <a:xfrm>
            <a:off x="56386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Управляющая кнопка: в начало 6">
            <a:hlinkClick r:id="rId2" action="ppaction://hlinksldjump"/>
          </p:cNvPr>
          <p:cNvSpPr/>
          <p:nvPr/>
        </p:nvSpPr>
        <p:spPr>
          <a:xfrm>
            <a:off x="73915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Управляющая кнопка: возврат 7">
            <a:hlinkClick r:id="rId3" action="ppaction://hlinksldjump"/>
          </p:cNvPr>
          <p:cNvSpPr/>
          <p:nvPr/>
        </p:nvSpPr>
        <p:spPr>
          <a:xfrm>
            <a:off x="65530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7493"/>
                </a:moveTo>
                <a:lnTo>
                  <a:pt x="12688" y="7493"/>
                </a:lnTo>
                <a:lnTo>
                  <a:pt x="12688" y="12828"/>
                </a:lnTo>
                <a:cubicBezTo>
                  <a:pt x="12688" y="13751"/>
                  <a:pt x="13489" y="14482"/>
                  <a:pt x="14525" y="14482"/>
                </a:cubicBezTo>
                <a:lnTo>
                  <a:pt x="16187" y="14482"/>
                </a:lnTo>
                <a:cubicBezTo>
                  <a:pt x="17223" y="14482"/>
                  <a:pt x="18024" y="13751"/>
                  <a:pt x="18024" y="12828"/>
                </a:cubicBezTo>
                <a:lnTo>
                  <a:pt x="18024" y="7493"/>
                </a:lnTo>
                <a:lnTo>
                  <a:pt x="16187" y="7493"/>
                </a:lnTo>
                <a:lnTo>
                  <a:pt x="19695" y="3985"/>
                </a:lnTo>
                <a:lnTo>
                  <a:pt x="23368" y="7493"/>
                </a:lnTo>
                <a:lnTo>
                  <a:pt x="21531" y="7493"/>
                </a:lnTo>
                <a:lnTo>
                  <a:pt x="21531" y="12828"/>
                </a:lnTo>
                <a:cubicBezTo>
                  <a:pt x="21531" y="15596"/>
                  <a:pt x="18955" y="18155"/>
                  <a:pt x="16187" y="18155"/>
                </a:cubicBezTo>
                <a:lnTo>
                  <a:pt x="14525" y="18155"/>
                </a:lnTo>
                <a:cubicBezTo>
                  <a:pt x="11757" y="18155"/>
                  <a:pt x="9181" y="15596"/>
                  <a:pt x="91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Скругленный прямоугольник 1"/>
          <p:cNvSpPr/>
          <p:nvPr/>
        </p:nvSpPr>
        <p:spPr>
          <a:xfrm>
            <a:off x="990720" y="838080"/>
            <a:ext cx="2209680" cy="144792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Поэмы </a:t>
            </a:r>
            <a:endParaRPr b="0" lang="en-US" sz="2800" spc="-1" strike="noStrike">
              <a:solidFill>
                <a:srgbClr val="000000"/>
              </a:solidFill>
              <a:latin typeface="Arial"/>
            </a:endParaRPr>
          </a:p>
        </p:txBody>
      </p:sp>
      <p:sp>
        <p:nvSpPr>
          <p:cNvPr id="301" name="Прямоугольник 2"/>
          <p:cNvSpPr/>
          <p:nvPr/>
        </p:nvSpPr>
        <p:spPr>
          <a:xfrm>
            <a:off x="4572000" y="251460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0-е годы Пастернак пишет поэ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сокая болез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05-ый г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йтенант Шмид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ектор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всё произведения о революции. </a:t>
            </a:r>
            <a:endParaRPr b="0" lang="en-US" sz="1800" spc="-1" strike="noStrike">
              <a:solidFill>
                <a:srgbClr val="000000"/>
              </a:solidFill>
              <a:latin typeface="Arial"/>
            </a:endParaRPr>
          </a:p>
        </p:txBody>
      </p:sp>
      <p:pic>
        <p:nvPicPr>
          <p:cNvPr id="302" name="Picture 1" descr="d:\Мои документы\Для уроков литературы\Пастернак\фото о пастернаке\f_1910m_73c77d4.jpg"/>
          <p:cNvPicPr/>
          <p:nvPr/>
        </p:nvPicPr>
        <p:blipFill>
          <a:blip r:embed="rId1"/>
          <a:stretch/>
        </p:blipFill>
        <p:spPr>
          <a:xfrm>
            <a:off x="1066680" y="2819520"/>
            <a:ext cx="3135600" cy="3098520"/>
          </a:xfrm>
          <a:prstGeom prst="rect">
            <a:avLst/>
          </a:prstGeom>
          <a:ln w="0">
            <a:noFill/>
          </a:ln>
        </p:spPr>
      </p:pic>
      <p:sp>
        <p:nvSpPr>
          <p:cNvPr id="303" name="Управляющая кнопка: назад 4">
            <a:hlinkClick r:id="" action="ppaction://hlinkshowjump?jump=previousslide"/>
          </p:cNvPr>
          <p:cNvSpPr/>
          <p:nvPr/>
        </p:nvSpPr>
        <p:spPr>
          <a:xfrm>
            <a:off x="54100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10800"/>
                </a:moveTo>
                <a:lnTo>
                  <a:pt x="25916" y="3794"/>
                </a:lnTo>
                <a:lnTo>
                  <a:pt x="2591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Управляющая кнопка: далее 5">
            <a:hlinkClick r:id="" action="ppaction://hlinkshowjump?jump=nextslide"/>
          </p:cNvPr>
          <p:cNvSpPr/>
          <p:nvPr/>
        </p:nvSpPr>
        <p:spPr>
          <a:xfrm>
            <a:off x="61722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Управляющая кнопка: в начало 6">
            <a:hlinkClick r:id="rId2" action="ppaction://hlinksldjump"/>
          </p:cNvPr>
          <p:cNvSpPr/>
          <p:nvPr/>
        </p:nvSpPr>
        <p:spPr>
          <a:xfrm>
            <a:off x="76960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12707" y="10800"/>
                </a:moveTo>
                <a:lnTo>
                  <a:pt x="23213" y="3794"/>
                </a:lnTo>
                <a:lnTo>
                  <a:pt x="23213" y="17806"/>
                </a:lnTo>
                <a:close/>
              </a:path>
              <a:path fill="darken" w="32413" h="21600">
                <a:moveTo>
                  <a:pt x="9200" y="3794"/>
                </a:moveTo>
                <a:lnTo>
                  <a:pt x="10862" y="3794"/>
                </a:lnTo>
                <a:lnTo>
                  <a:pt x="10862" y="17806"/>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Управляющая кнопка: возврат 7">
            <a:hlinkClick r:id="rId3" action="ppaction://hlinksldjump"/>
          </p:cNvPr>
          <p:cNvSpPr/>
          <p:nvPr/>
        </p:nvSpPr>
        <p:spPr>
          <a:xfrm>
            <a:off x="693432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7493"/>
                </a:moveTo>
                <a:lnTo>
                  <a:pt x="12707" y="7493"/>
                </a:lnTo>
                <a:lnTo>
                  <a:pt x="12707" y="12828"/>
                </a:lnTo>
                <a:cubicBezTo>
                  <a:pt x="12707" y="13751"/>
                  <a:pt x="13508" y="14482"/>
                  <a:pt x="14544" y="14482"/>
                </a:cubicBezTo>
                <a:lnTo>
                  <a:pt x="16206" y="14482"/>
                </a:lnTo>
                <a:cubicBezTo>
                  <a:pt x="17242" y="14482"/>
                  <a:pt x="18043" y="13751"/>
                  <a:pt x="18043" y="12828"/>
                </a:cubicBezTo>
                <a:lnTo>
                  <a:pt x="18043" y="7493"/>
                </a:lnTo>
                <a:lnTo>
                  <a:pt x="16206" y="7493"/>
                </a:lnTo>
                <a:lnTo>
                  <a:pt x="19714" y="3985"/>
                </a:lnTo>
                <a:lnTo>
                  <a:pt x="23387" y="7493"/>
                </a:lnTo>
                <a:lnTo>
                  <a:pt x="21550" y="7493"/>
                </a:lnTo>
                <a:lnTo>
                  <a:pt x="21550" y="12828"/>
                </a:lnTo>
                <a:cubicBezTo>
                  <a:pt x="21550" y="15596"/>
                  <a:pt x="18974" y="18155"/>
                  <a:pt x="16206" y="18155"/>
                </a:cubicBezTo>
                <a:lnTo>
                  <a:pt x="14544" y="18155"/>
                </a:lnTo>
                <a:cubicBezTo>
                  <a:pt x="11776" y="18155"/>
                  <a:pt x="9200" y="15596"/>
                  <a:pt x="9200"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Скругленный прямоугольник 1"/>
          <p:cNvSpPr/>
          <p:nvPr/>
        </p:nvSpPr>
        <p:spPr>
          <a:xfrm>
            <a:off x="1295280" y="990720"/>
            <a:ext cx="221004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Переводы </a:t>
            </a:r>
            <a:endParaRPr b="0" lang="en-US" sz="2800" spc="-1" strike="noStrike">
              <a:solidFill>
                <a:srgbClr val="000000"/>
              </a:solidFill>
              <a:latin typeface="Arial"/>
            </a:endParaRPr>
          </a:p>
        </p:txBody>
      </p:sp>
      <p:sp>
        <p:nvSpPr>
          <p:cNvPr id="308" name="Прямоугольник 2"/>
          <p:cNvSpPr/>
          <p:nvPr/>
        </p:nvSpPr>
        <p:spPr>
          <a:xfrm>
            <a:off x="4495680" y="13716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переводам Пастернака  (30-е годы) относятся переводы стихов с грузинского, немецкого, английского, французского и эпизодически с других язык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а грандиозных массива переводов Пастернака – семь трагедий Шекспира, в том числе «Гамлет», «Король Лир», «Отелло», «Ромео и Джульетта», и обе части «Фауста» Гё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водил Пастернак очень свободно, передавая мысли и образы автора и в то же время свои собственные мысли и образы. </a:t>
            </a:r>
            <a:endParaRPr b="0" lang="en-US" sz="1800" spc="-1" strike="noStrike">
              <a:solidFill>
                <a:srgbClr val="000000"/>
              </a:solidFill>
              <a:latin typeface="Arial"/>
            </a:endParaRPr>
          </a:p>
        </p:txBody>
      </p:sp>
      <p:pic>
        <p:nvPicPr>
          <p:cNvPr id="309" name="Picture 1" descr="d:\Мои документы\Для уроков литературы\Пастернак\фото о пастернаке\b9b34db752d5.jpg"/>
          <p:cNvPicPr/>
          <p:nvPr/>
        </p:nvPicPr>
        <p:blipFill>
          <a:blip r:embed="rId1"/>
          <a:stretch/>
        </p:blipFill>
        <p:spPr>
          <a:xfrm>
            <a:off x="762120" y="3048120"/>
            <a:ext cx="3476520" cy="2385720"/>
          </a:xfrm>
          <a:prstGeom prst="rect">
            <a:avLst/>
          </a:prstGeom>
          <a:ln w="0">
            <a:noFill/>
          </a:ln>
        </p:spPr>
      </p:pic>
      <p:sp>
        <p:nvSpPr>
          <p:cNvPr id="310" name="Управляющая кнопка: назад 4">
            <a:hlinkClick r:id="" action="ppaction://hlinkshowjump?jump=previousslide"/>
          </p:cNvPr>
          <p:cNvSpPr/>
          <p:nvPr/>
        </p:nvSpPr>
        <p:spPr>
          <a:xfrm>
            <a:off x="4952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Управляющая кнопка: далее 5">
            <a:hlinkClick r:id="" action="ppaction://hlinkshowjump?jump=nextslide"/>
          </p:cNvPr>
          <p:cNvSpPr/>
          <p:nvPr/>
        </p:nvSpPr>
        <p:spPr>
          <a:xfrm>
            <a:off x="57913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Управляющая кнопка: в начало 6">
            <a:hlinkClick r:id="rId2" action="ppaction://hlinksldjump"/>
          </p:cNvPr>
          <p:cNvSpPr/>
          <p:nvPr/>
        </p:nvSpPr>
        <p:spPr>
          <a:xfrm>
            <a:off x="73915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Управляющая кнопка: возврат 7">
            <a:hlinkClick r:id="rId3" action="ppaction://hlinksldjump"/>
          </p:cNvPr>
          <p:cNvSpPr/>
          <p:nvPr/>
        </p:nvSpPr>
        <p:spPr>
          <a:xfrm>
            <a:off x="67057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7493"/>
                </a:moveTo>
                <a:lnTo>
                  <a:pt x="12688" y="7493"/>
                </a:lnTo>
                <a:lnTo>
                  <a:pt x="12688" y="12828"/>
                </a:lnTo>
                <a:cubicBezTo>
                  <a:pt x="12688" y="13751"/>
                  <a:pt x="13489" y="14482"/>
                  <a:pt x="14525" y="14482"/>
                </a:cubicBezTo>
                <a:lnTo>
                  <a:pt x="16187" y="14482"/>
                </a:lnTo>
                <a:cubicBezTo>
                  <a:pt x="17223" y="14482"/>
                  <a:pt x="18024" y="13751"/>
                  <a:pt x="18024" y="12828"/>
                </a:cubicBezTo>
                <a:lnTo>
                  <a:pt x="18024" y="7493"/>
                </a:lnTo>
                <a:lnTo>
                  <a:pt x="16187" y="7493"/>
                </a:lnTo>
                <a:lnTo>
                  <a:pt x="19695" y="3985"/>
                </a:lnTo>
                <a:lnTo>
                  <a:pt x="23368" y="7493"/>
                </a:lnTo>
                <a:lnTo>
                  <a:pt x="21531" y="7493"/>
                </a:lnTo>
                <a:lnTo>
                  <a:pt x="21531" y="12828"/>
                </a:lnTo>
                <a:cubicBezTo>
                  <a:pt x="21531" y="15596"/>
                  <a:pt x="18955" y="18155"/>
                  <a:pt x="16187" y="18155"/>
                </a:cubicBezTo>
                <a:lnTo>
                  <a:pt x="14525" y="18155"/>
                </a:lnTo>
                <a:cubicBezTo>
                  <a:pt x="11757" y="18155"/>
                  <a:pt x="9181" y="15596"/>
                  <a:pt x="91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571680" y="1785960"/>
            <a:ext cx="4566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1" action="ppaction://hlinksldjump"/>
              </a:rPr>
              <a:t>Биограф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2" action="ppaction://hlinksldjump"/>
              </a:rPr>
              <a:t>Основные книг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3" action="ppaction://hlinksldjump"/>
              </a:rPr>
              <a:t>Поэти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 action="ppaction://hlinksldjump"/>
              </a:rPr>
              <a:t>Значение творчества Пастерна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5" action="ppaction://hlinksldjump"/>
              </a:rPr>
              <a:t>Источни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Picture 1" descr="d:\Мои документы\Для уроков литературы\Пастернак\фото о пастернаке\47625~001.jpg"/>
          <p:cNvPicPr/>
          <p:nvPr/>
        </p:nvPicPr>
        <p:blipFill>
          <a:blip r:embed="rId6"/>
          <a:stretch/>
        </p:blipFill>
        <p:spPr>
          <a:xfrm>
            <a:off x="5410080" y="914400"/>
            <a:ext cx="3035520" cy="496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Скругленный прямоугольник 1"/>
          <p:cNvSpPr/>
          <p:nvPr/>
        </p:nvSpPr>
        <p:spPr>
          <a:xfrm>
            <a:off x="1219320" y="609480"/>
            <a:ext cx="2133360" cy="144792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Доктор Живаго</a:t>
            </a:r>
            <a:endParaRPr b="0" lang="en-US" sz="2800" spc="-1" strike="noStrike">
              <a:solidFill>
                <a:srgbClr val="000000"/>
              </a:solidFill>
              <a:latin typeface="Arial"/>
            </a:endParaRPr>
          </a:p>
        </p:txBody>
      </p:sp>
      <p:sp>
        <p:nvSpPr>
          <p:cNvPr id="315" name="Прямоугольник 2"/>
          <p:cNvSpPr/>
          <p:nvPr/>
        </p:nvSpPr>
        <p:spPr>
          <a:xfrm>
            <a:off x="4495680" y="1600200"/>
            <a:ext cx="3886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том 1945 года Пастернак стал работать над романом «Доктор Живаго», который стал актом мужественного противостояния сталинщине. Уже в 1943 году Пастернак  задумался о своём будущем романе: «Без ориентации искусства на образ Христа  как архетип искусство всегда будет мёртвым, чего в романе я не хочу, поэтому в «Живаго» архетипом будет Христос». Первое издание книги вышло в 1957 году в Милане.</a:t>
            </a:r>
            <a:endParaRPr b="0" lang="en-US" sz="1800" spc="-1" strike="noStrike">
              <a:solidFill>
                <a:srgbClr val="000000"/>
              </a:solidFill>
              <a:latin typeface="Arial"/>
            </a:endParaRPr>
          </a:p>
        </p:txBody>
      </p:sp>
      <p:pic>
        <p:nvPicPr>
          <p:cNvPr id="316" name="Picture 1" descr="d:\Мои документы\Для уроков литературы\Пастернак\фото о пастернаке\47625~001.jpg"/>
          <p:cNvPicPr/>
          <p:nvPr/>
        </p:nvPicPr>
        <p:blipFill>
          <a:blip r:embed="rId1"/>
          <a:stretch/>
        </p:blipFill>
        <p:spPr>
          <a:xfrm>
            <a:off x="1295280" y="2362320"/>
            <a:ext cx="2197080" cy="3593880"/>
          </a:xfrm>
          <a:prstGeom prst="rect">
            <a:avLst/>
          </a:prstGeom>
          <a:ln w="0">
            <a:noFill/>
          </a:ln>
        </p:spPr>
      </p:pic>
      <p:sp>
        <p:nvSpPr>
          <p:cNvPr id="317" name="Управляющая кнопка: назад 4">
            <a:hlinkClick r:id="" action="ppaction://hlinkshowjump?jump=previousslide"/>
          </p:cNvPr>
          <p:cNvSpPr/>
          <p:nvPr/>
        </p:nvSpPr>
        <p:spPr>
          <a:xfrm>
            <a:off x="5334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Управляющая кнопка: далее 5">
            <a:hlinkClick r:id="" action="ppaction://hlinkshowjump?jump=nextslide"/>
          </p:cNvPr>
          <p:cNvSpPr/>
          <p:nvPr/>
        </p:nvSpPr>
        <p:spPr>
          <a:xfrm>
            <a:off x="6095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Управляющая кнопка: возврат 6">
            <a:hlinkClick r:id="rId2" action="ppaction://hlinksldjump"/>
          </p:cNvPr>
          <p:cNvSpPr/>
          <p:nvPr/>
        </p:nvSpPr>
        <p:spPr>
          <a:xfrm>
            <a:off x="68580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7493"/>
                </a:moveTo>
                <a:lnTo>
                  <a:pt x="12707" y="7493"/>
                </a:lnTo>
                <a:lnTo>
                  <a:pt x="12707" y="12828"/>
                </a:lnTo>
                <a:cubicBezTo>
                  <a:pt x="12707" y="13751"/>
                  <a:pt x="13508" y="14482"/>
                  <a:pt x="14544" y="14482"/>
                </a:cubicBezTo>
                <a:lnTo>
                  <a:pt x="16206" y="14482"/>
                </a:lnTo>
                <a:cubicBezTo>
                  <a:pt x="17242" y="14482"/>
                  <a:pt x="18043" y="13751"/>
                  <a:pt x="18043" y="12828"/>
                </a:cubicBezTo>
                <a:lnTo>
                  <a:pt x="18043" y="7493"/>
                </a:lnTo>
                <a:lnTo>
                  <a:pt x="16206" y="7493"/>
                </a:lnTo>
                <a:lnTo>
                  <a:pt x="19714" y="3985"/>
                </a:lnTo>
                <a:lnTo>
                  <a:pt x="23387" y="7493"/>
                </a:lnTo>
                <a:lnTo>
                  <a:pt x="21550" y="7493"/>
                </a:lnTo>
                <a:lnTo>
                  <a:pt x="21550" y="12828"/>
                </a:lnTo>
                <a:cubicBezTo>
                  <a:pt x="21550" y="15596"/>
                  <a:pt x="18974" y="18155"/>
                  <a:pt x="16206" y="18155"/>
                </a:cubicBezTo>
                <a:lnTo>
                  <a:pt x="14544" y="18155"/>
                </a:lnTo>
                <a:cubicBezTo>
                  <a:pt x="11776" y="18155"/>
                  <a:pt x="9200" y="15596"/>
                  <a:pt x="9200"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Управляющая кнопка: в начало 7">
            <a:hlinkClick r:id="rId3" action="ppaction://hlinksldjump"/>
          </p:cNvPr>
          <p:cNvSpPr/>
          <p:nvPr/>
        </p:nvSpPr>
        <p:spPr>
          <a:xfrm>
            <a:off x="7620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5398" y="10800"/>
                </a:moveTo>
                <a:lnTo>
                  <a:pt x="25903" y="3794"/>
                </a:lnTo>
                <a:lnTo>
                  <a:pt x="25903" y="17806"/>
                </a:lnTo>
                <a:close/>
              </a:path>
              <a:path fill="darken" w="37794" h="21600">
                <a:moveTo>
                  <a:pt x="11890" y="3794"/>
                </a:moveTo>
                <a:lnTo>
                  <a:pt x="13553" y="3794"/>
                </a:lnTo>
                <a:lnTo>
                  <a:pt x="13553" y="17806"/>
                </a:lnTo>
                <a:lnTo>
                  <a:pt x="11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Скругленный прямоугольник 1"/>
          <p:cNvSpPr/>
          <p:nvPr/>
        </p:nvSpPr>
        <p:spPr>
          <a:xfrm>
            <a:off x="990720" y="990720"/>
            <a:ext cx="251460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Когда разгуляется</a:t>
            </a:r>
            <a:endParaRPr b="0" lang="en-US" sz="2800" spc="-1" strike="noStrike">
              <a:solidFill>
                <a:srgbClr val="000000"/>
              </a:solidFill>
              <a:latin typeface="Arial"/>
            </a:endParaRPr>
          </a:p>
        </p:txBody>
      </p:sp>
      <p:sp>
        <p:nvSpPr>
          <p:cNvPr id="322" name="Прямоугольник 2"/>
          <p:cNvSpPr/>
          <p:nvPr/>
        </p:nvSpPr>
        <p:spPr>
          <a:xfrm>
            <a:off x="4495680" y="144792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дняя и самая большая книга стихов Пастернака. Своё понимание её смысла он раскрыл  в таких словах: «Я думаю о жизни абсолютно ясной. Список её действующих лиц – Бог, Женщина, Природа, Призвание, Смерть… Вот истинные соучастники,  друзья, собеседники».  В книге выражено христианское миропонимание. Сборник был издан в Париже в 1959 году . На родине книга была напечатана только в 1988 году, когда цензура уже была бессильна.</a:t>
            </a:r>
            <a:endParaRPr b="0" lang="en-US" sz="1800" spc="-1" strike="noStrike">
              <a:solidFill>
                <a:srgbClr val="000000"/>
              </a:solidFill>
              <a:latin typeface="Arial"/>
            </a:endParaRPr>
          </a:p>
        </p:txBody>
      </p:sp>
      <p:pic>
        <p:nvPicPr>
          <p:cNvPr id="323" name="Picture 1" descr="d:\Мои документы\Для уроков литературы\Пастернак\фото о пастернаке\pasternak 4.jpg"/>
          <p:cNvPicPr/>
          <p:nvPr/>
        </p:nvPicPr>
        <p:blipFill>
          <a:blip r:embed="rId1"/>
          <a:stretch/>
        </p:blipFill>
        <p:spPr>
          <a:xfrm>
            <a:off x="1295280" y="3048120"/>
            <a:ext cx="2179800" cy="2819160"/>
          </a:xfrm>
          <a:prstGeom prst="rect">
            <a:avLst/>
          </a:prstGeom>
          <a:ln w="0">
            <a:noFill/>
          </a:ln>
        </p:spPr>
      </p:pic>
      <p:sp>
        <p:nvSpPr>
          <p:cNvPr id="324" name="Управляющая кнопка: назад 4">
            <a:hlinkClick r:id="" action="ppaction://hlinkshowjump?jump=previousslide"/>
          </p:cNvPr>
          <p:cNvSpPr/>
          <p:nvPr/>
        </p:nvSpPr>
        <p:spPr>
          <a:xfrm>
            <a:off x="510552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Управляющая кнопка: далее 5">
            <a:hlinkClick r:id="" action="ppaction://hlinkshowjump?jump=nextslide"/>
          </p:cNvPr>
          <p:cNvSpPr/>
          <p:nvPr/>
        </p:nvSpPr>
        <p:spPr>
          <a:xfrm>
            <a:off x="5867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Управляющая кнопка: в начало 6">
            <a:hlinkClick r:id="rId2" action="ppaction://hlinksldjump"/>
          </p:cNvPr>
          <p:cNvSpPr/>
          <p:nvPr/>
        </p:nvSpPr>
        <p:spPr>
          <a:xfrm>
            <a:off x="73915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5376" y="10800"/>
                </a:moveTo>
                <a:lnTo>
                  <a:pt x="25881" y="3794"/>
                </a:lnTo>
                <a:lnTo>
                  <a:pt x="25881" y="17806"/>
                </a:lnTo>
                <a:close/>
              </a:path>
              <a:path fill="darken" w="37749" h="21600">
                <a:moveTo>
                  <a:pt x="11868" y="3794"/>
                </a:moveTo>
                <a:lnTo>
                  <a:pt x="13530" y="3794"/>
                </a:lnTo>
                <a:lnTo>
                  <a:pt x="13530" y="17806"/>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Управляющая кнопка: возврат 8">
            <a:hlinkClick r:id="rId3" action="ppaction://hlinksldjump"/>
          </p:cNvPr>
          <p:cNvSpPr/>
          <p:nvPr/>
        </p:nvSpPr>
        <p:spPr>
          <a:xfrm>
            <a:off x="6705720" y="61722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7493"/>
                </a:moveTo>
                <a:lnTo>
                  <a:pt x="12688" y="7493"/>
                </a:lnTo>
                <a:lnTo>
                  <a:pt x="12688" y="12828"/>
                </a:lnTo>
                <a:cubicBezTo>
                  <a:pt x="12688" y="13751"/>
                  <a:pt x="13489" y="14482"/>
                  <a:pt x="14525" y="14482"/>
                </a:cubicBezTo>
                <a:lnTo>
                  <a:pt x="16187" y="14482"/>
                </a:lnTo>
                <a:cubicBezTo>
                  <a:pt x="17223" y="14482"/>
                  <a:pt x="18024" y="13751"/>
                  <a:pt x="18024" y="12828"/>
                </a:cubicBezTo>
                <a:lnTo>
                  <a:pt x="18024" y="7493"/>
                </a:lnTo>
                <a:lnTo>
                  <a:pt x="16187" y="7493"/>
                </a:lnTo>
                <a:lnTo>
                  <a:pt x="19695" y="3985"/>
                </a:lnTo>
                <a:lnTo>
                  <a:pt x="23368" y="7493"/>
                </a:lnTo>
                <a:lnTo>
                  <a:pt x="21531" y="7493"/>
                </a:lnTo>
                <a:lnTo>
                  <a:pt x="21531" y="12828"/>
                </a:lnTo>
                <a:cubicBezTo>
                  <a:pt x="21531" y="15596"/>
                  <a:pt x="18955" y="18155"/>
                  <a:pt x="16187" y="18155"/>
                </a:cubicBezTo>
                <a:lnTo>
                  <a:pt x="14525" y="18155"/>
                </a:lnTo>
                <a:cubicBezTo>
                  <a:pt x="11757" y="18155"/>
                  <a:pt x="9181" y="15596"/>
                  <a:pt x="91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этика</a:t>
            </a:r>
            <a:endParaRPr b="0" lang="en-US" sz="5000" spc="-1" strike="noStrike">
              <a:solidFill>
                <a:srgbClr val="000000"/>
              </a:solidFill>
              <a:latin typeface="Arial"/>
            </a:endParaRPr>
          </a:p>
        </p:txBody>
      </p:sp>
      <p:sp>
        <p:nvSpPr>
          <p:cNvPr id="329" name="Содержимое 4"/>
          <p:cNvSpPr/>
          <p:nvPr/>
        </p:nvSpPr>
        <p:spPr>
          <a:xfrm>
            <a:off x="457200" y="1600200"/>
            <a:ext cx="67816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И чем случайней, тем верн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Слагаются стихи навзрыд…</a:t>
            </a:r>
            <a:endParaRPr b="0" lang="en-US" sz="2800" spc="-1" strike="noStrike">
              <a:solidFill>
                <a:srgbClr val="000000"/>
              </a:solidFill>
              <a:latin typeface="Arial"/>
            </a:endParaRPr>
          </a:p>
        </p:txBody>
      </p:sp>
      <p:sp>
        <p:nvSpPr>
          <p:cNvPr id="330" name="Прямоугольник 4"/>
          <p:cNvSpPr/>
          <p:nvPr/>
        </p:nvSpPr>
        <p:spPr>
          <a:xfrm>
            <a:off x="2057400" y="2743200"/>
            <a:ext cx="6477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рис Пастернак увлекался рисованием, серьёзно занимался музыкой, готовился стать профессором философии. Увлечения молодости не прошли бесследно; поэзия Бориса Пастернака изобразительна, музыкальна, муд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Художник, композитор, философ умерли, чтобы воскреснуть в ПОЭТЕ.</a:t>
            </a:r>
            <a:endParaRPr b="0" lang="en-US" sz="2400" spc="-1" strike="noStrike">
              <a:solidFill>
                <a:srgbClr val="000000"/>
              </a:solidFill>
              <a:latin typeface="Arial"/>
            </a:endParaRPr>
          </a:p>
        </p:txBody>
      </p:sp>
      <p:sp>
        <p:nvSpPr>
          <p:cNvPr id="331" name="Управляющая кнопка: назад 5">
            <a:hlinkClick r:id="" action="ppaction://hlinkshowjump?jump=previousslide"/>
          </p:cNvPr>
          <p:cNvSpPr/>
          <p:nvPr/>
        </p:nvSpPr>
        <p:spPr>
          <a:xfrm>
            <a:off x="67057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Управляющая кнопка: далее 6">
            <a:hlinkClick r:id="" action="ppaction://hlinkshowjump?jump=nextslide"/>
          </p:cNvPr>
          <p:cNvSpPr/>
          <p:nvPr/>
        </p:nvSpPr>
        <p:spPr>
          <a:xfrm>
            <a:off x="74674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Управляющая кнопка: в начало 7">
            <a:hlinkClick r:id="rId1" action="ppaction://hlinksldjump"/>
          </p:cNvPr>
          <p:cNvSpPr/>
          <p:nvPr/>
        </p:nvSpPr>
        <p:spPr>
          <a:xfrm>
            <a:off x="822960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Прямоугольник 1"/>
          <p:cNvSpPr/>
          <p:nvPr/>
        </p:nvSpPr>
        <p:spPr>
          <a:xfrm>
            <a:off x="1905120" y="2286000"/>
            <a:ext cx="6019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1" action="ppaction://hlinksldjump"/>
              </a:rPr>
              <a:t>Футуристические черты стих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2" action="ppaction://hlinksldjump"/>
              </a:rPr>
              <a:t>Поток ассоциац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3" action="ppaction://hlinksldjump"/>
              </a:rPr>
              <a:t>Особенности размера и ритма. </a:t>
            </a:r>
            <a:r>
              <a:rPr b="0" lang="ru-RU" sz="2400" spc="-1" strike="noStrike" u="sng">
                <a:solidFill>
                  <a:srgbClr val="e2d700"/>
                </a:solidFill>
                <a:uFillTx/>
                <a:latin typeface="Arial"/>
                <a:hlinkClick r:id="rId4" action="ppaction://hlinksldjump"/>
              </a:rPr>
              <a:t>Музыкальность стих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5" action="ppaction://hlinksldjump"/>
              </a:rPr>
              <a:t>Метафо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6" action="ppaction://hlinksldjump"/>
              </a:rPr>
              <a:t>Наслоение смысл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7" action="ppaction://hlinksldjump"/>
              </a:rPr>
              <a:t>Приём очеловечивания приро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8" action="ppaction://hlinksldjump"/>
              </a:rPr>
              <a:t>Другие пастернаковские приём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335"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этика</a:t>
            </a:r>
            <a:endParaRPr b="0" lang="en-US" sz="5000" spc="-1" strike="noStrike">
              <a:solidFill>
                <a:srgbClr val="000000"/>
              </a:solidFill>
              <a:latin typeface="Arial"/>
            </a:endParaRPr>
          </a:p>
        </p:txBody>
      </p:sp>
      <p:sp>
        <p:nvSpPr>
          <p:cNvPr id="336" name="Управляющая кнопка: назад 3">
            <a:hlinkClick r:id="" action="ppaction://hlinkshowjump?jump=previousslide"/>
          </p:cNvPr>
          <p:cNvSpPr/>
          <p:nvPr/>
        </p:nvSpPr>
        <p:spPr>
          <a:xfrm>
            <a:off x="64771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Управляющая кнопка: далее 4">
            <a:hlinkClick r:id="" action="ppaction://hlinkshowjump?jump=nextslide"/>
          </p:cNvPr>
          <p:cNvSpPr/>
          <p:nvPr/>
        </p:nvSpPr>
        <p:spPr>
          <a:xfrm>
            <a:off x="7238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Управляющая кнопка: в начало 5">
            <a:hlinkClick r:id="rId9" action="ppaction://hlinksldjump"/>
          </p:cNvPr>
          <p:cNvSpPr/>
          <p:nvPr/>
        </p:nvSpPr>
        <p:spPr>
          <a:xfrm>
            <a:off x="81532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Заголовок 3"/>
          <p:cNvSpPr/>
          <p:nvPr/>
        </p:nvSpPr>
        <p:spPr>
          <a:xfrm>
            <a:off x="214200" y="571680"/>
            <a:ext cx="8786880" cy="12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Футуристические черты стихов Пастернака</a:t>
            </a:r>
            <a:endParaRPr b="0" lang="en-US" sz="3600" spc="-1" strike="noStrike">
              <a:solidFill>
                <a:srgbClr val="000000"/>
              </a:solidFill>
              <a:latin typeface="Arial"/>
            </a:endParaRPr>
          </a:p>
        </p:txBody>
      </p:sp>
      <p:sp>
        <p:nvSpPr>
          <p:cNvPr id="340" name="Прямоугольник 4"/>
          <p:cNvSpPr/>
          <p:nvPr/>
        </p:nvSpPr>
        <p:spPr>
          <a:xfrm>
            <a:off x="214200" y="1857240"/>
            <a:ext cx="8358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ые же стихи Пастернака выходят за традиционные рамки; по накалу чувств, мощи приёмов они футуристичны. Для стихов Пастернака характер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лный отказ от ямба </a:t>
            </a:r>
            <a:r>
              <a:rPr b="0" lang="ru-RU" sz="2400" spc="-1" strike="noStrike">
                <a:solidFill>
                  <a:srgbClr val="000000"/>
                </a:solidFill>
                <a:latin typeface="Arial"/>
              </a:rPr>
              <a:t>– самого распространённого стихотворного размер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иск новых поэтических размеров,</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ток ассоциативных образов,</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ыщенность метафорам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лоение образов, приёмов и смыслов</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Управляющая кнопка: назад 3">
            <a:hlinkClick r:id="" action="ppaction://hlinkshowjump?jump=previousslide"/>
          </p:cNvPr>
          <p:cNvSpPr/>
          <p:nvPr/>
        </p:nvSpPr>
        <p:spPr>
          <a:xfrm>
            <a:off x="65721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10800"/>
                </a:moveTo>
                <a:lnTo>
                  <a:pt x="25913" y="3794"/>
                </a:lnTo>
                <a:lnTo>
                  <a:pt x="259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Управляющая кнопка: далее 4">
            <a:hlinkClick r:id="" action="ppaction://hlinkshowjump?jump=nextslide"/>
          </p:cNvPr>
          <p:cNvSpPr/>
          <p:nvPr/>
        </p:nvSpPr>
        <p:spPr>
          <a:xfrm>
            <a:off x="72867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Управляющая кнопка: возврат 5">
            <a:hlinkClick r:id="rId1" action="ppaction://hlinksldjump"/>
          </p:cNvPr>
          <p:cNvSpPr/>
          <p:nvPr/>
        </p:nvSpPr>
        <p:spPr>
          <a:xfrm>
            <a:off x="792972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7493"/>
                </a:moveTo>
                <a:lnTo>
                  <a:pt x="15408" y="7493"/>
                </a:lnTo>
                <a:lnTo>
                  <a:pt x="15408" y="12828"/>
                </a:lnTo>
                <a:cubicBezTo>
                  <a:pt x="15408" y="13751"/>
                  <a:pt x="16209" y="14482"/>
                  <a:pt x="17244" y="14482"/>
                </a:cubicBezTo>
                <a:lnTo>
                  <a:pt x="18907" y="14482"/>
                </a:lnTo>
                <a:cubicBezTo>
                  <a:pt x="19943" y="14482"/>
                  <a:pt x="20743" y="13751"/>
                  <a:pt x="20743" y="12828"/>
                </a:cubicBezTo>
                <a:lnTo>
                  <a:pt x="20743" y="7493"/>
                </a:lnTo>
                <a:lnTo>
                  <a:pt x="18907" y="7493"/>
                </a:lnTo>
                <a:lnTo>
                  <a:pt x="22414" y="3985"/>
                </a:lnTo>
                <a:lnTo>
                  <a:pt x="26087" y="7493"/>
                </a:lnTo>
                <a:lnTo>
                  <a:pt x="24251" y="7493"/>
                </a:lnTo>
                <a:lnTo>
                  <a:pt x="24251" y="12828"/>
                </a:lnTo>
                <a:cubicBezTo>
                  <a:pt x="24251" y="15596"/>
                  <a:pt x="21675" y="18155"/>
                  <a:pt x="18907" y="18155"/>
                </a:cubicBezTo>
                <a:lnTo>
                  <a:pt x="17244" y="18155"/>
                </a:lnTo>
                <a:cubicBezTo>
                  <a:pt x="14477" y="18155"/>
                  <a:pt x="11900" y="15596"/>
                  <a:pt x="11900"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Управляющая кнопка: в начало 6">
            <a:hlinkClick r:id="rId2" action="ppaction://hlinksldjump"/>
          </p:cNvPr>
          <p:cNvSpPr/>
          <p:nvPr/>
        </p:nvSpPr>
        <p:spPr>
          <a:xfrm>
            <a:off x="8572680" y="6286680"/>
            <a:ext cx="428400" cy="285480"/>
          </a:xfrm>
          <a:custGeom>
            <a:avLst/>
            <a:gdLst>
              <a:gd name="textAreaLeft" fmla="*/ 18360 w 428400"/>
              <a:gd name="textAreaRight" fmla="*/ 410040 w 428400"/>
              <a:gd name="textAreaTop" fmla="*/ 18360 h 285480"/>
              <a:gd name="textAreaBottom" fmla="*/ 267120 h 285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2701" y="10800"/>
                </a:moveTo>
                <a:lnTo>
                  <a:pt x="23206" y="3794"/>
                </a:lnTo>
                <a:lnTo>
                  <a:pt x="23206" y="17806"/>
                </a:lnTo>
                <a:close/>
              </a:path>
              <a:path fill="darken" w="32400" h="21600">
                <a:moveTo>
                  <a:pt x="9194" y="3794"/>
                </a:moveTo>
                <a:lnTo>
                  <a:pt x="10856" y="3794"/>
                </a:lnTo>
                <a:lnTo>
                  <a:pt x="10856" y="17806"/>
                </a:lnTo>
                <a:lnTo>
                  <a:pt x="91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d:\Мои документы\Для уроков литературы\Пастернак\фото  пастернак\1302278204_31639501_1220374588_103772.jpg"/>
          <p:cNvPicPr/>
          <p:nvPr/>
        </p:nvPicPr>
        <p:blipFill>
          <a:blip r:embed="rId1"/>
          <a:stretch/>
        </p:blipFill>
        <p:spPr>
          <a:xfrm>
            <a:off x="142920" y="285840"/>
            <a:ext cx="2589120" cy="3000240"/>
          </a:xfrm>
          <a:prstGeom prst="rect">
            <a:avLst/>
          </a:prstGeom>
          <a:ln w="0">
            <a:noFill/>
          </a:ln>
        </p:spPr>
      </p:pic>
      <p:sp>
        <p:nvSpPr>
          <p:cNvPr id="346" name="Rectangle 3"/>
          <p:cNvSpPr/>
          <p:nvPr/>
        </p:nvSpPr>
        <p:spPr>
          <a:xfrm>
            <a:off x="214200" y="2802960"/>
            <a:ext cx="707256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ffffff"/>
                </a:solidFill>
                <a:latin typeface="Arial"/>
                <a:ea typeface="Times New Roman"/>
              </a:rPr>
              <a:t>ВЕСНА</a:t>
            </a:r>
            <a:r>
              <a:rPr b="0" lang="ru-RU" sz="2800" spc="-1" strike="noStrike">
                <a:solidFill>
                  <a:srgbClr val="004e6d"/>
                </a:solidFill>
                <a:latin typeface="Arial"/>
                <a:ea typeface="Times New Roman"/>
              </a:rPr>
              <a:t> </a:t>
            </a:r>
            <a:endParaRPr b="0" lang="en-US" sz="2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Что почек, что клейких заплывших огарков</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алеплено к веткам! Затеплен</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Апрель. Возмужалостью тянет из парка,</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реплики леса окрепл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Лес стянут по горлу петлею пернатых</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Гортаней, как буйвол арканом,</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стонет в сетях, как стенает в сонатах</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Стальной гладиатор органа.</a:t>
            </a:r>
            <a:endParaRPr b="0" lang="en-US" sz="2400" spc="-1" strike="noStrike">
              <a:solidFill>
                <a:srgbClr val="000000"/>
              </a:solidFill>
              <a:latin typeface="Arial"/>
            </a:endParaRPr>
          </a:p>
        </p:txBody>
      </p:sp>
      <p:sp>
        <p:nvSpPr>
          <p:cNvPr id="347" name="Прямоугольник 5"/>
          <p:cNvSpPr/>
          <p:nvPr/>
        </p:nvSpPr>
        <p:spPr>
          <a:xfrm>
            <a:off x="3071880" y="500040"/>
            <a:ext cx="572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я к стихотворению  (после прочтения):</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ите  метафоры  и сравнения в стихотворении, подсчитайте их количество.</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ую роль в каждой из строф выполняет аллитерация  «пл», «т</a:t>
            </a:r>
            <a:r>
              <a:rPr b="0" lang="en-US" sz="1800" spc="-1" strike="noStrike">
                <a:solidFill>
                  <a:srgbClr val="000000"/>
                </a:solidFill>
                <a:latin typeface="Arial"/>
              </a:rPr>
              <a:t>`</a:t>
            </a:r>
            <a:r>
              <a:rPr b="0" lang="ru-RU" sz="1800" spc="-1" strike="noStrike">
                <a:solidFill>
                  <a:srgbClr val="000000"/>
                </a:solidFill>
                <a:latin typeface="Arial"/>
              </a:rPr>
              <a:t>», «ст», «р»?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ите словосочетания, «разорванные» строками.  Что они придают ритму и смыслу стихотворения?</a:t>
            </a:r>
            <a:endParaRPr b="0" lang="en-US" sz="1800" spc="-1" strike="noStrike">
              <a:solidFill>
                <a:srgbClr val="000000"/>
              </a:solidFill>
              <a:latin typeface="Arial"/>
            </a:endParaRPr>
          </a:p>
        </p:txBody>
      </p:sp>
      <p:sp>
        <p:nvSpPr>
          <p:cNvPr id="348" name="Управляющая кнопка: назад 4">
            <a:hlinkClick r:id="" action="ppaction://hlinkshowjump?jump=previousslide"/>
          </p:cNvPr>
          <p:cNvSpPr/>
          <p:nvPr/>
        </p:nvSpPr>
        <p:spPr>
          <a:xfrm>
            <a:off x="621504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Управляющая кнопка: далее 6">
            <a:hlinkClick r:id="" action="ppaction://hlinkshowjump?jump=nextslide"/>
          </p:cNvPr>
          <p:cNvSpPr/>
          <p:nvPr/>
        </p:nvSpPr>
        <p:spPr>
          <a:xfrm>
            <a:off x="700092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3794"/>
                </a:moveTo>
                <a:lnTo>
                  <a:pt x="25890" y="10800"/>
                </a:lnTo>
                <a:lnTo>
                  <a:pt x="1187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Управляющая кнопка: в начало 7">
            <a:hlinkClick r:id="rId2" action="ppaction://hlinksldjump"/>
          </p:cNvPr>
          <p:cNvSpPr/>
          <p:nvPr/>
        </p:nvSpPr>
        <p:spPr>
          <a:xfrm>
            <a:off x="8358120" y="635796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12694" y="10800"/>
                </a:moveTo>
                <a:lnTo>
                  <a:pt x="23200" y="3794"/>
                </a:lnTo>
                <a:lnTo>
                  <a:pt x="23200" y="17806"/>
                </a:lnTo>
                <a:close/>
              </a:path>
              <a:path fill="darken" w="32386" h="21600">
                <a:moveTo>
                  <a:pt x="9187" y="3794"/>
                </a:moveTo>
                <a:lnTo>
                  <a:pt x="10849" y="3794"/>
                </a:lnTo>
                <a:lnTo>
                  <a:pt x="10849" y="17806"/>
                </a:lnTo>
                <a:lnTo>
                  <a:pt x="918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Управляющая кнопка: возврат 8">
            <a:hlinkClick r:id="rId3" action="ppaction://hlinksldjump"/>
          </p:cNvPr>
          <p:cNvSpPr/>
          <p:nvPr/>
        </p:nvSpPr>
        <p:spPr>
          <a:xfrm>
            <a:off x="778680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7493"/>
                </a:moveTo>
                <a:lnTo>
                  <a:pt x="12681" y="7493"/>
                </a:lnTo>
                <a:lnTo>
                  <a:pt x="12681" y="12828"/>
                </a:lnTo>
                <a:cubicBezTo>
                  <a:pt x="12681" y="13751"/>
                  <a:pt x="13481" y="14482"/>
                  <a:pt x="14517" y="14482"/>
                </a:cubicBezTo>
                <a:lnTo>
                  <a:pt x="16180" y="14482"/>
                </a:lnTo>
                <a:cubicBezTo>
                  <a:pt x="17215" y="14482"/>
                  <a:pt x="18016" y="13751"/>
                  <a:pt x="18016" y="12828"/>
                </a:cubicBezTo>
                <a:lnTo>
                  <a:pt x="18016" y="7493"/>
                </a:lnTo>
                <a:lnTo>
                  <a:pt x="16180" y="7493"/>
                </a:lnTo>
                <a:lnTo>
                  <a:pt x="19687" y="3985"/>
                </a:lnTo>
                <a:lnTo>
                  <a:pt x="23360" y="7493"/>
                </a:lnTo>
                <a:lnTo>
                  <a:pt x="21524" y="7493"/>
                </a:lnTo>
                <a:lnTo>
                  <a:pt x="21524" y="12828"/>
                </a:lnTo>
                <a:cubicBezTo>
                  <a:pt x="21524" y="15596"/>
                  <a:pt x="18947" y="18155"/>
                  <a:pt x="16180" y="18155"/>
                </a:cubicBezTo>
                <a:lnTo>
                  <a:pt x="14517" y="18155"/>
                </a:lnTo>
                <a:cubicBezTo>
                  <a:pt x="11749" y="18155"/>
                  <a:pt x="9173" y="15596"/>
                  <a:pt x="917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47">
                                            <p:txEl>
                                              <p:pRg st="0" end="0"/>
                                            </p:txEl>
                                          </p:spTgt>
                                        </p:tgtEl>
                                        <p:attrNameLst>
                                          <p:attrName>style.visibility</p:attrName>
                                        </p:attrNameLst>
                                      </p:cBhvr>
                                      <p:to>
                                        <p:strVal val="visible"/>
                                      </p:to>
                                    </p:set>
                                    <p:animEffect filter="wipe(up)" transition="in">
                                      <p:cBhvr additive="repl">
                                        <p:cTn id="7" dur="500"/>
                                        <p:tgtEl>
                                          <p:spTgt spid="3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47">
                                            <p:txEl>
                                              <p:pRg st="1" end="1"/>
                                            </p:txEl>
                                          </p:spTgt>
                                        </p:tgtEl>
                                        <p:attrNameLst>
                                          <p:attrName>style.visibility</p:attrName>
                                        </p:attrNameLst>
                                      </p:cBhvr>
                                      <p:to>
                                        <p:strVal val="visible"/>
                                      </p:to>
                                    </p:set>
                                    <p:animEffect filter="wipe(up)" transition="in">
                                      <p:cBhvr additive="repl">
                                        <p:cTn id="12" dur="500"/>
                                        <p:tgtEl>
                                          <p:spTgt spid="34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47">
                                            <p:txEl>
                                              <p:pRg st="2" end="2"/>
                                            </p:txEl>
                                          </p:spTgt>
                                        </p:tgtEl>
                                        <p:attrNameLst>
                                          <p:attrName>style.visibility</p:attrName>
                                        </p:attrNameLst>
                                      </p:cBhvr>
                                      <p:to>
                                        <p:strVal val="visible"/>
                                      </p:to>
                                    </p:set>
                                    <p:animEffect filter="wipe(up)" transition="in">
                                      <p:cBhvr additive="repl">
                                        <p:cTn id="17" dur="500"/>
                                        <p:tgtEl>
                                          <p:spTgt spid="34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347">
                                            <p:txEl>
                                              <p:pRg st="3" end="3"/>
                                            </p:txEl>
                                          </p:spTgt>
                                        </p:tgtEl>
                                        <p:attrNameLst>
                                          <p:attrName>style.visibility</p:attrName>
                                        </p:attrNameLst>
                                      </p:cBhvr>
                                      <p:to>
                                        <p:strVal val="visible"/>
                                      </p:to>
                                    </p:set>
                                    <p:animEffect filter="wipe(up)" transition="in">
                                      <p:cBhvr additive="repl">
                                        <p:cTn id="22" dur="5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Заголовок 3"/>
          <p:cNvSpPr/>
          <p:nvPr/>
        </p:nvSpPr>
        <p:spPr>
          <a:xfrm>
            <a:off x="2428920" y="714240"/>
            <a:ext cx="37861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Поток ассоциаций</a:t>
            </a:r>
            <a:endParaRPr b="0" lang="en-US" sz="3600" spc="-1" strike="noStrike">
              <a:solidFill>
                <a:srgbClr val="000000"/>
              </a:solidFill>
              <a:latin typeface="Arial"/>
            </a:endParaRPr>
          </a:p>
        </p:txBody>
      </p:sp>
      <p:sp>
        <p:nvSpPr>
          <p:cNvPr id="353" name="Прямоугольник 4"/>
          <p:cNvSpPr/>
          <p:nvPr/>
        </p:nvSpPr>
        <p:spPr>
          <a:xfrm>
            <a:off x="214200" y="1857240"/>
            <a:ext cx="8358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и Пастернака воплощают прорыв авангарда в будуще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эт строил свои стихи, как будто следовал </a:t>
            </a:r>
            <a:r>
              <a:rPr b="1" lang="ru-RU" sz="2400" spc="-1" strike="noStrike">
                <a:solidFill>
                  <a:srgbClr val="000000"/>
                </a:solidFill>
                <a:latin typeface="Arial"/>
              </a:rPr>
              <a:t>неконтролируемому потоку сознания </a:t>
            </a:r>
            <a:r>
              <a:rPr b="0" lang="ru-RU" sz="2400" spc="-1" strike="noStrike">
                <a:solidFill>
                  <a:srgbClr val="000000"/>
                </a:solidFill>
                <a:latin typeface="Arial"/>
              </a:rPr>
              <a:t>Логическую последовательность мыслей он заменил, на первый взгляд, </a:t>
            </a:r>
            <a:r>
              <a:rPr b="1" lang="ru-RU" sz="2400" spc="-1" strike="noStrike">
                <a:solidFill>
                  <a:srgbClr val="000000"/>
                </a:solidFill>
                <a:latin typeface="Arial"/>
              </a:rPr>
              <a:t>случайными ассоциациями</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 поэт делает вид, что подчиняется субъективным ассоциациям, стремясь достигнуть </a:t>
            </a:r>
            <a:r>
              <a:rPr b="1" lang="ru-RU" sz="2400" spc="-1" strike="noStrike">
                <a:solidFill>
                  <a:srgbClr val="000000"/>
                </a:solidFill>
                <a:latin typeface="Arial"/>
              </a:rPr>
              <a:t>впечатления мгновенной лёгкости</a:t>
            </a:r>
            <a:r>
              <a:rPr b="0" lang="ru-RU" sz="2400" spc="-1" strike="noStrike">
                <a:solidFill>
                  <a:srgbClr val="000000"/>
                </a:solidFill>
                <a:latin typeface="Arial"/>
              </a:rPr>
              <a:t>, записи </a:t>
            </a:r>
            <a:r>
              <a:rPr b="1" lang="ru-RU" sz="2400" spc="-1" strike="noStrike">
                <a:solidFill>
                  <a:srgbClr val="000000"/>
                </a:solidFill>
                <a:latin typeface="Arial"/>
              </a:rPr>
              <a:t>сиюминутного состояния души</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Управляющая кнопка: назад 3">
            <a:hlinkClick r:id="" action="ppaction://hlinkshowjump?jump=previousslide"/>
          </p:cNvPr>
          <p:cNvSpPr/>
          <p:nvPr/>
        </p:nvSpPr>
        <p:spPr>
          <a:xfrm>
            <a:off x="657216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10800"/>
                </a:moveTo>
                <a:lnTo>
                  <a:pt x="28570" y="3794"/>
                </a:lnTo>
                <a:lnTo>
                  <a:pt x="2857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Управляющая кнопка: далее 4">
            <a:hlinkClick r:id="" action="ppaction://hlinkshowjump?jump=nextslide"/>
          </p:cNvPr>
          <p:cNvSpPr/>
          <p:nvPr/>
        </p:nvSpPr>
        <p:spPr>
          <a:xfrm>
            <a:off x="72151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3794"/>
                </a:moveTo>
                <a:lnTo>
                  <a:pt x="32152" y="10800"/>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Управляющая кнопка: в начало 5">
            <a:hlinkClick r:id="rId1" action="ppaction://hlinksldjump"/>
          </p:cNvPr>
          <p:cNvSpPr/>
          <p:nvPr/>
        </p:nvSpPr>
        <p:spPr>
          <a:xfrm>
            <a:off x="850104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8065" y="10800"/>
                </a:moveTo>
                <a:lnTo>
                  <a:pt x="28570" y="3794"/>
                </a:lnTo>
                <a:lnTo>
                  <a:pt x="28570" y="17806"/>
                </a:lnTo>
                <a:close/>
              </a:path>
              <a:path fill="darken" w="43128" h="21600">
                <a:moveTo>
                  <a:pt x="14557" y="3794"/>
                </a:moveTo>
                <a:lnTo>
                  <a:pt x="16220" y="3794"/>
                </a:lnTo>
                <a:lnTo>
                  <a:pt x="16220" y="17806"/>
                </a:lnTo>
                <a:lnTo>
                  <a:pt x="1455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Управляющая кнопка: возврат 6">
            <a:hlinkClick r:id="rId2" action="ppaction://hlinksldjump"/>
          </p:cNvPr>
          <p:cNvSpPr/>
          <p:nvPr/>
        </p:nvSpPr>
        <p:spPr>
          <a:xfrm>
            <a:off x="792972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4539" y="7493"/>
                </a:moveTo>
                <a:lnTo>
                  <a:pt x="18047" y="7493"/>
                </a:lnTo>
                <a:lnTo>
                  <a:pt x="18047" y="12828"/>
                </a:lnTo>
                <a:cubicBezTo>
                  <a:pt x="18047" y="13751"/>
                  <a:pt x="18848" y="14482"/>
                  <a:pt x="19883" y="14482"/>
                </a:cubicBezTo>
                <a:lnTo>
                  <a:pt x="21546" y="14482"/>
                </a:lnTo>
                <a:cubicBezTo>
                  <a:pt x="22581" y="14482"/>
                  <a:pt x="23382" y="13751"/>
                  <a:pt x="23382" y="12828"/>
                </a:cubicBezTo>
                <a:lnTo>
                  <a:pt x="23382" y="7493"/>
                </a:lnTo>
                <a:lnTo>
                  <a:pt x="21546" y="7493"/>
                </a:lnTo>
                <a:lnTo>
                  <a:pt x="25053" y="3985"/>
                </a:lnTo>
                <a:lnTo>
                  <a:pt x="28726" y="7493"/>
                </a:lnTo>
                <a:lnTo>
                  <a:pt x="26890" y="7493"/>
                </a:lnTo>
                <a:lnTo>
                  <a:pt x="26890" y="12828"/>
                </a:lnTo>
                <a:cubicBezTo>
                  <a:pt x="26890" y="15596"/>
                  <a:pt x="24314" y="18155"/>
                  <a:pt x="21546" y="18155"/>
                </a:cubicBezTo>
                <a:lnTo>
                  <a:pt x="19883" y="18155"/>
                </a:lnTo>
                <a:cubicBezTo>
                  <a:pt x="17116" y="18155"/>
                  <a:pt x="14539" y="15596"/>
                  <a:pt x="1453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Прямоугольник 1"/>
          <p:cNvSpPr/>
          <p:nvPr/>
        </p:nvSpPr>
        <p:spPr>
          <a:xfrm>
            <a:off x="500040" y="64296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до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пишите собственные ассоциации со словом «февраль»:</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мы видим?    2. Что чувствуем?   3. Каково состояние природы?</a:t>
            </a:r>
            <a:endParaRPr b="0" lang="en-US" sz="2000" spc="-1" strike="noStrike">
              <a:solidFill>
                <a:srgbClr val="000000"/>
              </a:solidFill>
              <a:latin typeface="Arial"/>
            </a:endParaRPr>
          </a:p>
        </p:txBody>
      </p:sp>
      <p:sp>
        <p:nvSpPr>
          <p:cNvPr id="359" name="Прямоугольник 2"/>
          <p:cNvSpPr/>
          <p:nvPr/>
        </p:nvSpPr>
        <p:spPr>
          <a:xfrm>
            <a:off x="428760" y="421488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ое мгновенное впечатление автора отражает стихотворени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чему весна у Пастернака названа «чёрною»?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ясните, как может слякоть «гореть»? Какие она вызывает ассоциации у автора?</a:t>
            </a:r>
            <a:endParaRPr b="0" lang="en-US" sz="2000" spc="-1" strike="noStrike">
              <a:solidFill>
                <a:srgbClr val="000000"/>
              </a:solidFill>
              <a:latin typeface="Arial"/>
            </a:endParaRPr>
          </a:p>
        </p:txBody>
      </p:sp>
      <p:sp>
        <p:nvSpPr>
          <p:cNvPr id="360" name="Rectangle 3"/>
          <p:cNvSpPr/>
          <p:nvPr/>
        </p:nvSpPr>
        <p:spPr>
          <a:xfrm>
            <a:off x="1500120" y="2292480"/>
            <a:ext cx="59295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Февраль. Достать чернил и плакать!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Писать о феврале навзрыд,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Пока грохочущая слякоть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Весною черною горит.</a:t>
            </a:r>
            <a:endParaRPr b="0" lang="en-US" sz="2400" spc="-1" strike="noStrike">
              <a:solidFill>
                <a:srgbClr val="000000"/>
              </a:solidFill>
              <a:latin typeface="Arial"/>
            </a:endParaRPr>
          </a:p>
        </p:txBody>
      </p:sp>
      <p:sp>
        <p:nvSpPr>
          <p:cNvPr id="361" name="Управляющая кнопка: назад 4">
            <a:hlinkClick r:id="" action="ppaction://hlinkshowjump?jump=previousslide"/>
          </p:cNvPr>
          <p:cNvSpPr/>
          <p:nvPr/>
        </p:nvSpPr>
        <p:spPr>
          <a:xfrm>
            <a:off x="6286680" y="6286680"/>
            <a:ext cx="571320" cy="285480"/>
          </a:xfrm>
          <a:custGeom>
            <a:avLst/>
            <a:gdLst>
              <a:gd name="textAreaLeft" fmla="*/ 18360 w 571320"/>
              <a:gd name="textAreaRight" fmla="*/ 552960 w 571320"/>
              <a:gd name="textAreaTop" fmla="*/ 18360 h 285480"/>
              <a:gd name="textAreaBottom" fmla="*/ 267120 h 285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Управляющая кнопка: далее 5">
            <a:hlinkClick r:id="" action="ppaction://hlinkshowjump?jump=nextslide"/>
          </p:cNvPr>
          <p:cNvSpPr/>
          <p:nvPr/>
        </p:nvSpPr>
        <p:spPr>
          <a:xfrm>
            <a:off x="700092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Управляющая кнопка: в начало 6">
            <a:hlinkClick r:id="rId1" action="ppaction://hlinksldjump"/>
          </p:cNvPr>
          <p:cNvSpPr/>
          <p:nvPr/>
        </p:nvSpPr>
        <p:spPr>
          <a:xfrm>
            <a:off x="84297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5408" y="10800"/>
                </a:moveTo>
                <a:lnTo>
                  <a:pt x="25913" y="3794"/>
                </a:lnTo>
                <a:lnTo>
                  <a:pt x="25913" y="17806"/>
                </a:lnTo>
                <a:close/>
              </a:path>
              <a:path fill="darken" w="37814" h="21600">
                <a:moveTo>
                  <a:pt x="11900" y="3794"/>
                </a:moveTo>
                <a:lnTo>
                  <a:pt x="13563" y="3794"/>
                </a:lnTo>
                <a:lnTo>
                  <a:pt x="13563" y="17806"/>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Управляющая кнопка: возврат 7">
            <a:hlinkClick r:id="rId2" action="ppaction://hlinksldjump"/>
          </p:cNvPr>
          <p:cNvSpPr/>
          <p:nvPr/>
        </p:nvSpPr>
        <p:spPr>
          <a:xfrm>
            <a:off x="7786800" y="6286680"/>
            <a:ext cx="428400" cy="285480"/>
          </a:xfrm>
          <a:custGeom>
            <a:avLst/>
            <a:gdLst>
              <a:gd name="textAreaLeft" fmla="*/ 18360 w 428400"/>
              <a:gd name="textAreaRight" fmla="*/ 410040 w 428400"/>
              <a:gd name="textAreaTop" fmla="*/ 18360 h 285480"/>
              <a:gd name="textAreaBottom" fmla="*/ 267120 h 285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29" dur="500"/>
                                        <p:tgtEl>
                                          <p:spTgt spid="3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58">
                                            <p:txEl>
                                              <p:pRg st="1" end="1"/>
                                            </p:txEl>
                                          </p:spTgt>
                                        </p:tgtEl>
                                        <p:attrNameLst>
                                          <p:attrName>style.visibility</p:attrName>
                                        </p:attrNameLst>
                                      </p:cBhvr>
                                      <p:to>
                                        <p:strVal val="visible"/>
                                      </p:to>
                                    </p:set>
                                    <p:animEffect filter="wipe(up)" transition="in">
                                      <p:cBhvr additive="repl">
                                        <p:cTn id="34" dur="500"/>
                                        <p:tgtEl>
                                          <p:spTgt spid="35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358">
                                            <p:txEl>
                                              <p:pRg st="2" end="2"/>
                                            </p:txEl>
                                          </p:spTgt>
                                        </p:tgtEl>
                                        <p:attrNameLst>
                                          <p:attrName>style.visibility</p:attrName>
                                        </p:attrNameLst>
                                      </p:cBhvr>
                                      <p:to>
                                        <p:strVal val="visible"/>
                                      </p:to>
                                    </p:set>
                                    <p:animEffect filter="wipe(up)" transition="in">
                                      <p:cBhvr additive="repl">
                                        <p:cTn id="39" dur="500"/>
                                        <p:tgtEl>
                                          <p:spTgt spid="35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359">
                                            <p:txEl>
                                              <p:pRg st="0" end="0"/>
                                            </p:txEl>
                                          </p:spTgt>
                                        </p:tgtEl>
                                        <p:attrNameLst>
                                          <p:attrName>style.visibility</p:attrName>
                                        </p:attrNameLst>
                                      </p:cBhvr>
                                      <p:to>
                                        <p:strVal val="visible"/>
                                      </p:to>
                                    </p:set>
                                    <p:animEffect filter="wipe(up)" transition="in">
                                      <p:cBhvr additive="repl">
                                        <p:cTn id="44" dur="500"/>
                                        <p:tgtEl>
                                          <p:spTgt spid="35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359">
                                            <p:txEl>
                                              <p:pRg st="1" end="1"/>
                                            </p:txEl>
                                          </p:spTgt>
                                        </p:tgtEl>
                                        <p:attrNameLst>
                                          <p:attrName>style.visibility</p:attrName>
                                        </p:attrNameLst>
                                      </p:cBhvr>
                                      <p:to>
                                        <p:strVal val="visible"/>
                                      </p:to>
                                    </p:set>
                                    <p:animEffect filter="wipe(up)" transition="in">
                                      <p:cBhvr additive="repl">
                                        <p:cTn id="49" dur="500"/>
                                        <p:tgtEl>
                                          <p:spTgt spid="35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359">
                                            <p:txEl>
                                              <p:pRg st="2" end="2"/>
                                            </p:txEl>
                                          </p:spTgt>
                                        </p:tgtEl>
                                        <p:attrNameLst>
                                          <p:attrName>style.visibility</p:attrName>
                                        </p:attrNameLst>
                                      </p:cBhvr>
                                      <p:to>
                                        <p:strVal val="visible"/>
                                      </p:to>
                                    </p:set>
                                    <p:animEffect filter="wipe(up)" transition="in">
                                      <p:cBhvr additive="repl">
                                        <p:cTn id="54" dur="500"/>
                                        <p:tgtEl>
                                          <p:spTgt spid="359">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359">
                                            <p:txEl>
                                              <p:pRg st="3" end="3"/>
                                            </p:txEl>
                                          </p:spTgt>
                                        </p:tgtEl>
                                        <p:attrNameLst>
                                          <p:attrName>style.visibility</p:attrName>
                                        </p:attrNameLst>
                                      </p:cBhvr>
                                      <p:to>
                                        <p:strVal val="visible"/>
                                      </p:to>
                                    </p:set>
                                    <p:animEffect filter="wipe(up)" transition="in">
                                      <p:cBhvr additive="repl">
                                        <p:cTn id="59"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Прямоугольник 1"/>
          <p:cNvSpPr/>
          <p:nvPr/>
        </p:nvSpPr>
        <p:spPr>
          <a:xfrm>
            <a:off x="714240" y="1428840"/>
            <a:ext cx="7596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ервой же книге Пастернак заявил о себе как о самобытном поэт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ждое стихотворение  написано </a:t>
            </a:r>
            <a:r>
              <a:rPr b="1" lang="ru-RU" sz="2400" spc="-1" strike="noStrike">
                <a:solidFill>
                  <a:srgbClr val="000000"/>
                </a:solidFill>
                <a:latin typeface="Arial"/>
              </a:rPr>
              <a:t>индивидуальным размером</a:t>
            </a:r>
            <a:r>
              <a:rPr b="0" lang="ru-RU"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эт ищет </a:t>
            </a:r>
            <a:r>
              <a:rPr b="1" lang="ru-RU" sz="2400" spc="-1" strike="noStrike">
                <a:solidFill>
                  <a:srgbClr val="000000"/>
                </a:solidFill>
                <a:latin typeface="Arial"/>
              </a:rPr>
              <a:t>соответствия ритма и метра стиха с ритмом скачки, бега на коньках, музыкальным метром</a:t>
            </a:r>
            <a:r>
              <a:rPr b="0" lang="ru-RU"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и Пастернака можно назвать </a:t>
            </a:r>
            <a:r>
              <a:rPr b="1" lang="ru-RU" sz="2400" spc="-1" strike="noStrike">
                <a:solidFill>
                  <a:srgbClr val="000000"/>
                </a:solidFill>
                <a:latin typeface="Arial"/>
              </a:rPr>
              <a:t>полиметрическими</a:t>
            </a:r>
            <a:r>
              <a:rPr b="0" lang="ru-RU" sz="2400" spc="-1" strike="noStrike">
                <a:solidFill>
                  <a:srgbClr val="000000"/>
                </a:solidFill>
                <a:latin typeface="Arial"/>
              </a:rPr>
              <a:t>, поскольку часто они </a:t>
            </a:r>
            <a:r>
              <a:rPr b="1" lang="ru-RU" sz="2400" spc="-1" strike="noStrike">
                <a:solidFill>
                  <a:srgbClr val="000000"/>
                </a:solidFill>
                <a:latin typeface="Arial"/>
              </a:rPr>
              <a:t>объединяют  разные размер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366"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Особенности размера и ритма </a:t>
            </a:r>
            <a:endParaRPr b="0" lang="en-US" sz="3600" spc="-1" strike="noStrike">
              <a:solidFill>
                <a:srgbClr val="000000"/>
              </a:solidFill>
              <a:latin typeface="Arial"/>
            </a:endParaRPr>
          </a:p>
        </p:txBody>
      </p:sp>
      <p:sp>
        <p:nvSpPr>
          <p:cNvPr id="367" name="Управляющая кнопка: назад 3">
            <a:hlinkClick r:id="" action="ppaction://hlinkshowjump?jump=previousslide"/>
          </p:cNvPr>
          <p:cNvSpPr/>
          <p:nvPr/>
        </p:nvSpPr>
        <p:spPr>
          <a:xfrm>
            <a:off x="60721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10800"/>
                </a:moveTo>
                <a:lnTo>
                  <a:pt x="32152" y="3794"/>
                </a:lnTo>
                <a:lnTo>
                  <a:pt x="321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Управляющая кнопка: далее 4">
            <a:hlinkClick r:id="" action="ppaction://hlinkshowjump?jump=nextslide"/>
          </p:cNvPr>
          <p:cNvSpPr/>
          <p:nvPr/>
        </p:nvSpPr>
        <p:spPr>
          <a:xfrm>
            <a:off x="67867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3794"/>
                </a:moveTo>
                <a:lnTo>
                  <a:pt x="32152" y="10800"/>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Управляющая кнопка: в начало 5">
            <a:hlinkClick r:id="rId1" action="ppaction://hlinksldjump"/>
          </p:cNvPr>
          <p:cNvSpPr/>
          <p:nvPr/>
        </p:nvSpPr>
        <p:spPr>
          <a:xfrm>
            <a:off x="81439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21647" y="10800"/>
                </a:moveTo>
                <a:lnTo>
                  <a:pt x="32152" y="3794"/>
                </a:lnTo>
                <a:lnTo>
                  <a:pt x="32152" y="17806"/>
                </a:lnTo>
                <a:close/>
              </a:path>
              <a:path fill="darken" w="50291" h="21600">
                <a:moveTo>
                  <a:pt x="18139" y="3794"/>
                </a:moveTo>
                <a:lnTo>
                  <a:pt x="19802" y="3794"/>
                </a:lnTo>
                <a:lnTo>
                  <a:pt x="19802" y="17806"/>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Управляющая кнопка: возврат 6">
            <a:hlinkClick r:id="rId2" action="ppaction://hlinksldjump"/>
          </p:cNvPr>
          <p:cNvSpPr/>
          <p:nvPr/>
        </p:nvSpPr>
        <p:spPr>
          <a:xfrm>
            <a:off x="757224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7493"/>
                </a:moveTo>
                <a:lnTo>
                  <a:pt x="18065" y="7493"/>
                </a:lnTo>
                <a:lnTo>
                  <a:pt x="18065" y="12828"/>
                </a:lnTo>
                <a:cubicBezTo>
                  <a:pt x="18065" y="13751"/>
                  <a:pt x="18866" y="14482"/>
                  <a:pt x="19901" y="14482"/>
                </a:cubicBezTo>
                <a:lnTo>
                  <a:pt x="21564" y="14482"/>
                </a:lnTo>
                <a:cubicBezTo>
                  <a:pt x="22600" y="14482"/>
                  <a:pt x="23400" y="13751"/>
                  <a:pt x="23400" y="12828"/>
                </a:cubicBezTo>
                <a:lnTo>
                  <a:pt x="23400" y="7493"/>
                </a:lnTo>
                <a:lnTo>
                  <a:pt x="21564" y="7493"/>
                </a:lnTo>
                <a:lnTo>
                  <a:pt x="25071" y="3985"/>
                </a:lnTo>
                <a:lnTo>
                  <a:pt x="28744" y="7493"/>
                </a:lnTo>
                <a:lnTo>
                  <a:pt x="26908" y="7493"/>
                </a:lnTo>
                <a:lnTo>
                  <a:pt x="26908" y="12828"/>
                </a:lnTo>
                <a:cubicBezTo>
                  <a:pt x="26908" y="15596"/>
                  <a:pt x="24332" y="18155"/>
                  <a:pt x="21564" y="18155"/>
                </a:cubicBezTo>
                <a:lnTo>
                  <a:pt x="19901" y="18155"/>
                </a:lnTo>
                <a:cubicBezTo>
                  <a:pt x="17134" y="18155"/>
                  <a:pt x="14557" y="15596"/>
                  <a:pt x="1455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3"/>
          <p:cNvSpPr/>
          <p:nvPr/>
        </p:nvSpPr>
        <p:spPr>
          <a:xfrm>
            <a:off x="357120" y="935280"/>
            <a:ext cx="70725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Артиллерист стоит у кормила,</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земля, зачерпывая бортом скорбь,</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есётся под давленьем в миллиард атмосфер,</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Озверев, со всеми батареями в пучину.</a:t>
            </a:r>
            <a:endParaRPr b="0" lang="en-US" sz="2400" spc="-1" strike="noStrike">
              <a:solidFill>
                <a:srgbClr val="000000"/>
              </a:solidFill>
              <a:latin typeface="Arial"/>
            </a:endParaRPr>
          </a:p>
        </p:txBody>
      </p:sp>
      <p:sp>
        <p:nvSpPr>
          <p:cNvPr id="372" name="Прямоугольник 2"/>
          <p:cNvSpPr/>
          <p:nvPr/>
        </p:nvSpPr>
        <p:spPr>
          <a:xfrm>
            <a:off x="571680" y="3214800"/>
            <a:ext cx="42861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ите черты верлибра и акцентного стиха в  данной строф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кую роль они выполняют в изображении картины войны? </a:t>
            </a:r>
            <a:endParaRPr b="0" lang="en-US" sz="2000" spc="-1" strike="noStrike">
              <a:solidFill>
                <a:srgbClr val="000000"/>
              </a:solidFill>
              <a:latin typeface="Arial"/>
            </a:endParaRPr>
          </a:p>
        </p:txBody>
      </p:sp>
      <p:pic>
        <p:nvPicPr>
          <p:cNvPr id="373" name="Picture 2" descr="d:\Мои документы\Для уроков литературы\Пастернак\фото  пастернак\70373297_1297133424_Boris_Pasternak_Ottepel___portret_YUriya_Pimenova.jpg"/>
          <p:cNvPicPr/>
          <p:nvPr/>
        </p:nvPicPr>
        <p:blipFill>
          <a:blip r:embed="rId1"/>
          <a:stretch/>
        </p:blipFill>
        <p:spPr>
          <a:xfrm>
            <a:off x="5143680" y="2571840"/>
            <a:ext cx="2973240" cy="3211560"/>
          </a:xfrm>
          <a:prstGeom prst="rect">
            <a:avLst/>
          </a:prstGeom>
          <a:ln w="0">
            <a:noFill/>
          </a:ln>
        </p:spPr>
      </p:pic>
      <p:sp>
        <p:nvSpPr>
          <p:cNvPr id="374" name="Управляющая кнопка: назад 4">
            <a:hlinkClick r:id="" action="ppaction://hlinkshowjump?jump=previousslide"/>
          </p:cNvPr>
          <p:cNvSpPr/>
          <p:nvPr/>
        </p:nvSpPr>
        <p:spPr>
          <a:xfrm>
            <a:off x="5929200" y="6429240"/>
            <a:ext cx="571680" cy="214560"/>
          </a:xfrm>
          <a:custGeom>
            <a:avLst/>
            <a:gdLst>
              <a:gd name="textAreaLeft" fmla="*/ 13680 w 571680"/>
              <a:gd name="textAreaRight" fmla="*/ 558000 w 571680"/>
              <a:gd name="textAreaTop" fmla="*/ 13680 h 214560"/>
              <a:gd name="textAreaBottom" fmla="*/ 200880 h 214560"/>
            </a:gdLst>
            <a:ahLst/>
            <a:rect l="textAreaLeft" t="textAreaTop" r="textAreaRight" b="textAreaBottom"/>
            <a:pathLst>
              <a:path w="57491" h="21600">
                <a:moveTo>
                  <a:pt x="0" y="0"/>
                </a:moveTo>
                <a:lnTo>
                  <a:pt x="57491" y="0"/>
                </a:lnTo>
                <a:lnTo>
                  <a:pt x="57491" y="21600"/>
                </a:lnTo>
                <a:lnTo>
                  <a:pt x="0" y="21600"/>
                </a:lnTo>
                <a:close/>
              </a:path>
              <a:path fill="lightenLess" w="57491" h="21600">
                <a:moveTo>
                  <a:pt x="0" y="0"/>
                </a:moveTo>
                <a:lnTo>
                  <a:pt x="57491" y="0"/>
                </a:lnTo>
                <a:lnTo>
                  <a:pt x="56091" y="1400"/>
                </a:lnTo>
                <a:lnTo>
                  <a:pt x="1400" y="1400"/>
                </a:lnTo>
                <a:close/>
              </a:path>
              <a:path fill="darken" w="57491" h="21600">
                <a:moveTo>
                  <a:pt x="57491" y="0"/>
                </a:moveTo>
                <a:lnTo>
                  <a:pt x="57491" y="21600"/>
                </a:lnTo>
                <a:lnTo>
                  <a:pt x="56091" y="20200"/>
                </a:lnTo>
                <a:lnTo>
                  <a:pt x="56091" y="1400"/>
                </a:lnTo>
                <a:close/>
              </a:path>
              <a:path fill="darkenLess" w="57491" h="21600">
                <a:moveTo>
                  <a:pt x="57491" y="21600"/>
                </a:moveTo>
                <a:lnTo>
                  <a:pt x="0" y="21600"/>
                </a:lnTo>
                <a:lnTo>
                  <a:pt x="1400" y="20200"/>
                </a:lnTo>
                <a:lnTo>
                  <a:pt x="56091" y="20200"/>
                </a:lnTo>
                <a:close/>
              </a:path>
              <a:path fill="lighten" w="57491" h="21600">
                <a:moveTo>
                  <a:pt x="0" y="21600"/>
                </a:moveTo>
                <a:lnTo>
                  <a:pt x="0" y="0"/>
                </a:lnTo>
                <a:lnTo>
                  <a:pt x="1400" y="1400"/>
                </a:lnTo>
                <a:lnTo>
                  <a:pt x="1400" y="20200"/>
                </a:lnTo>
                <a:close/>
              </a:path>
              <a:path fill="darken" w="57491" h="21600">
                <a:moveTo>
                  <a:pt x="21739" y="10800"/>
                </a:moveTo>
                <a:lnTo>
                  <a:pt x="35752" y="3794"/>
                </a:lnTo>
                <a:lnTo>
                  <a:pt x="357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Управляющая кнопка: далее 5">
            <a:hlinkClick r:id="" action="ppaction://hlinkshowjump?jump=nextslide"/>
          </p:cNvPr>
          <p:cNvSpPr/>
          <p:nvPr/>
        </p:nvSpPr>
        <p:spPr>
          <a:xfrm>
            <a:off x="6715080" y="6429240"/>
            <a:ext cx="571680" cy="214560"/>
          </a:xfrm>
          <a:custGeom>
            <a:avLst/>
            <a:gdLst>
              <a:gd name="textAreaLeft" fmla="*/ 13680 w 571680"/>
              <a:gd name="textAreaRight" fmla="*/ 558000 w 571680"/>
              <a:gd name="textAreaTop" fmla="*/ 13680 h 214560"/>
              <a:gd name="textAreaBottom" fmla="*/ 200880 h 214560"/>
            </a:gdLst>
            <a:ahLst/>
            <a:rect l="textAreaLeft" t="textAreaTop" r="textAreaRight" b="textAreaBottom"/>
            <a:pathLst>
              <a:path w="57491" h="21600">
                <a:moveTo>
                  <a:pt x="0" y="0"/>
                </a:moveTo>
                <a:lnTo>
                  <a:pt x="57491" y="0"/>
                </a:lnTo>
                <a:lnTo>
                  <a:pt x="57491" y="21600"/>
                </a:lnTo>
                <a:lnTo>
                  <a:pt x="0" y="21600"/>
                </a:lnTo>
                <a:close/>
              </a:path>
              <a:path fill="lightenLess" w="57491" h="21600">
                <a:moveTo>
                  <a:pt x="0" y="0"/>
                </a:moveTo>
                <a:lnTo>
                  <a:pt x="57491" y="0"/>
                </a:lnTo>
                <a:lnTo>
                  <a:pt x="56091" y="1400"/>
                </a:lnTo>
                <a:lnTo>
                  <a:pt x="1400" y="1400"/>
                </a:lnTo>
                <a:close/>
              </a:path>
              <a:path fill="darken" w="57491" h="21600">
                <a:moveTo>
                  <a:pt x="57491" y="0"/>
                </a:moveTo>
                <a:lnTo>
                  <a:pt x="57491" y="21600"/>
                </a:lnTo>
                <a:lnTo>
                  <a:pt x="56091" y="20200"/>
                </a:lnTo>
                <a:lnTo>
                  <a:pt x="56091" y="1400"/>
                </a:lnTo>
                <a:close/>
              </a:path>
              <a:path fill="darkenLess" w="57491" h="21600">
                <a:moveTo>
                  <a:pt x="57491" y="21600"/>
                </a:moveTo>
                <a:lnTo>
                  <a:pt x="0" y="21600"/>
                </a:lnTo>
                <a:lnTo>
                  <a:pt x="1400" y="20200"/>
                </a:lnTo>
                <a:lnTo>
                  <a:pt x="56091" y="20200"/>
                </a:lnTo>
                <a:close/>
              </a:path>
              <a:path fill="lighten" w="57491" h="21600">
                <a:moveTo>
                  <a:pt x="0" y="21600"/>
                </a:moveTo>
                <a:lnTo>
                  <a:pt x="0" y="0"/>
                </a:lnTo>
                <a:lnTo>
                  <a:pt x="1400" y="1400"/>
                </a:lnTo>
                <a:lnTo>
                  <a:pt x="1400" y="20200"/>
                </a:lnTo>
                <a:close/>
              </a:path>
              <a:path fill="darken" w="57491" h="21600">
                <a:moveTo>
                  <a:pt x="21739" y="3794"/>
                </a:moveTo>
                <a:lnTo>
                  <a:pt x="35752" y="10800"/>
                </a:lnTo>
                <a:lnTo>
                  <a:pt x="217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Управляющая кнопка: в начало 6">
            <a:hlinkClick r:id="rId2" action="ppaction://hlinksldjump"/>
          </p:cNvPr>
          <p:cNvSpPr/>
          <p:nvPr/>
        </p:nvSpPr>
        <p:spPr>
          <a:xfrm>
            <a:off x="828684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21647" y="10800"/>
                </a:moveTo>
                <a:lnTo>
                  <a:pt x="32152" y="3794"/>
                </a:lnTo>
                <a:lnTo>
                  <a:pt x="32152" y="17806"/>
                </a:lnTo>
                <a:close/>
              </a:path>
              <a:path fill="darken" w="50291" h="21600">
                <a:moveTo>
                  <a:pt x="18139" y="3794"/>
                </a:moveTo>
                <a:lnTo>
                  <a:pt x="19802" y="3794"/>
                </a:lnTo>
                <a:lnTo>
                  <a:pt x="19802" y="17806"/>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Управляющая кнопка: возврат 7">
            <a:hlinkClick r:id="rId3" action="ppaction://hlinksldjump"/>
          </p:cNvPr>
          <p:cNvSpPr/>
          <p:nvPr/>
        </p:nvSpPr>
        <p:spPr>
          <a:xfrm>
            <a:off x="757224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7493"/>
                </a:moveTo>
                <a:lnTo>
                  <a:pt x="21647" y="7493"/>
                </a:lnTo>
                <a:lnTo>
                  <a:pt x="21647" y="12828"/>
                </a:lnTo>
                <a:cubicBezTo>
                  <a:pt x="21647" y="13751"/>
                  <a:pt x="22448" y="14482"/>
                  <a:pt x="23483" y="14482"/>
                </a:cubicBezTo>
                <a:lnTo>
                  <a:pt x="25146" y="14482"/>
                </a:lnTo>
                <a:cubicBezTo>
                  <a:pt x="26181" y="14482"/>
                  <a:pt x="26982" y="13751"/>
                  <a:pt x="26982" y="12828"/>
                </a:cubicBezTo>
                <a:lnTo>
                  <a:pt x="26982" y="7493"/>
                </a:lnTo>
                <a:lnTo>
                  <a:pt x="25146" y="7493"/>
                </a:lnTo>
                <a:lnTo>
                  <a:pt x="28653" y="3985"/>
                </a:lnTo>
                <a:lnTo>
                  <a:pt x="32326" y="7493"/>
                </a:lnTo>
                <a:lnTo>
                  <a:pt x="30490" y="7493"/>
                </a:lnTo>
                <a:lnTo>
                  <a:pt x="30490" y="12828"/>
                </a:lnTo>
                <a:cubicBezTo>
                  <a:pt x="30490" y="15596"/>
                  <a:pt x="27914" y="18155"/>
                  <a:pt x="25146" y="18155"/>
                </a:cubicBezTo>
                <a:lnTo>
                  <a:pt x="23483" y="18155"/>
                </a:lnTo>
                <a:cubicBezTo>
                  <a:pt x="20716" y="18155"/>
                  <a:pt x="18139" y="15596"/>
                  <a:pt x="1813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72">
                                            <p:txEl>
                                              <p:pRg st="0" end="0"/>
                                            </p:txEl>
                                          </p:spTgt>
                                        </p:tgtEl>
                                        <p:attrNameLst>
                                          <p:attrName>style.visibility</p:attrName>
                                        </p:attrNameLst>
                                      </p:cBhvr>
                                      <p:to>
                                        <p:strVal val="visible"/>
                                      </p:to>
                                    </p:set>
                                    <p:animEffect filter="wipe(up)" transition="in">
                                      <p:cBhvr additive="repl">
                                        <p:cTn id="66" dur="500"/>
                                        <p:tgtEl>
                                          <p:spTgt spid="37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372">
                                            <p:txEl>
                                              <p:pRg st="2" end="2"/>
                                            </p:txEl>
                                          </p:spTgt>
                                        </p:tgtEl>
                                        <p:attrNameLst>
                                          <p:attrName>style.visibility</p:attrName>
                                        </p:attrNameLst>
                                      </p:cBhvr>
                                      <p:to>
                                        <p:strVal val="visible"/>
                                      </p:to>
                                    </p:set>
                                    <p:animEffect filter="wipe(up)" transition="in">
                                      <p:cBhvr additive="repl">
                                        <p:cTn id="71" dur="500"/>
                                        <p:tgtEl>
                                          <p:spTgt spid="37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372">
                                            <p:txEl>
                                              <p:pRg st="3" end="3"/>
                                            </p:txEl>
                                          </p:spTgt>
                                        </p:tgtEl>
                                        <p:attrNameLst>
                                          <p:attrName>style.visibility</p:attrName>
                                        </p:attrNameLst>
                                      </p:cBhvr>
                                      <p:to>
                                        <p:strVal val="visible"/>
                                      </p:to>
                                    </p:set>
                                    <p:animEffect filter="wipe(up)" transition="in">
                                      <p:cBhvr additive="repl">
                                        <p:cTn id="76" dur="5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922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Биография Бориса Пастернака</a:t>
            </a:r>
            <a:endParaRPr b="0" lang="en-US" sz="5000" spc="-1" strike="noStrike">
              <a:solidFill>
                <a:srgbClr val="04617b"/>
              </a:solidFill>
              <a:latin typeface="Calibri"/>
            </a:endParaRPr>
          </a:p>
        </p:txBody>
      </p:sp>
      <p:sp>
        <p:nvSpPr>
          <p:cNvPr id="201" name=""/>
          <p:cNvSpPr txBox="1"/>
          <p:nvPr/>
        </p:nvSpPr>
        <p:spPr>
          <a:xfrm>
            <a:off x="533520" y="1523520"/>
            <a:ext cx="6248160" cy="16002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На протяженьи многих зим</a:t>
            </a:r>
            <a:endParaRPr b="0" lang="en-US" sz="26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Я помню дни солнцеворота,</a:t>
            </a:r>
            <a:endParaRPr b="0" lang="en-US" sz="26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И каждый был неповторим</a:t>
            </a:r>
            <a:endParaRPr b="0" lang="en-US" sz="26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И повторялся вновь без счёта…</a:t>
            </a:r>
            <a:endParaRPr b="0" lang="en-US" sz="2600" spc="-1" strike="noStrike">
              <a:solidFill>
                <a:srgbClr val="000000"/>
              </a:solidFill>
              <a:latin typeface="Constantia"/>
            </a:endParaRPr>
          </a:p>
        </p:txBody>
      </p:sp>
      <p:sp>
        <p:nvSpPr>
          <p:cNvPr id="202" name="Содержимое 4"/>
          <p:cNvSpPr/>
          <p:nvPr/>
        </p:nvSpPr>
        <p:spPr>
          <a:xfrm>
            <a:off x="2971800" y="3276720"/>
            <a:ext cx="579132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1" action="ppaction://hlinksldjump"/>
              </a:rPr>
              <a:t>Детство, семь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2" action="ppaction://hlinksldjump"/>
              </a:rPr>
              <a:t>Увлечени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3" action="ppaction://hlinksldjump"/>
              </a:rPr>
              <a:t>Учёб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 action="ppaction://hlinksldjump"/>
              </a:rPr>
              <a:t>Литературный дебют.</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5" action="ppaction://hlinksldjump"/>
              </a:rPr>
              <a:t>Переход к прозе.</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6" action="ppaction://hlinksldjump"/>
              </a:rPr>
              <a:t>30-е год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7" action="ppaction://hlinksldjump"/>
              </a:rPr>
              <a:t>В годы Великой Отечественной войн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8" action="ppaction://hlinksldjump"/>
              </a:rPr>
              <a:t>Главная книг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9" action="ppaction://hlinksldjump"/>
              </a:rPr>
              <a:t>Итоги.</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Управляющая кнопка: далее 8">
            <a:hlinkClick r:id="" action="ppaction://hlinkshowjump?jump=nextslide"/>
          </p:cNvPr>
          <p:cNvSpPr/>
          <p:nvPr/>
        </p:nvSpPr>
        <p:spPr>
          <a:xfrm>
            <a:off x="731520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Управляющая кнопка: в начало 9">
            <a:hlinkClick r:id="rId10" action="ppaction://hlinksldjump"/>
          </p:cNvPr>
          <p:cNvSpPr/>
          <p:nvPr/>
        </p:nvSpPr>
        <p:spPr>
          <a:xfrm>
            <a:off x="8229600" y="61722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5939" y="10800"/>
                </a:moveTo>
                <a:lnTo>
                  <a:pt x="26444" y="3794"/>
                </a:lnTo>
                <a:lnTo>
                  <a:pt x="26444" y="17806"/>
                </a:lnTo>
                <a:close/>
              </a:path>
              <a:path fill="darken" w="38876" h="21600">
                <a:moveTo>
                  <a:pt x="12431" y="3794"/>
                </a:moveTo>
                <a:lnTo>
                  <a:pt x="14094" y="3794"/>
                </a:lnTo>
                <a:lnTo>
                  <a:pt x="14094" y="17806"/>
                </a:lnTo>
                <a:lnTo>
                  <a:pt x="1243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Заголовок 3"/>
          <p:cNvSpPr/>
          <p:nvPr/>
        </p:nvSpPr>
        <p:spPr>
          <a:xfrm>
            <a:off x="457200" y="609480"/>
            <a:ext cx="82296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4617b"/>
                </a:solidFill>
                <a:latin typeface="Calibri"/>
              </a:rPr>
              <a:t>Музыкальность стихов Пастернака.</a:t>
            </a:r>
            <a:endParaRPr b="0" lang="en-US" sz="3900" spc="-1" strike="noStrike">
              <a:solidFill>
                <a:srgbClr val="000000"/>
              </a:solidFill>
              <a:latin typeface="Arial"/>
            </a:endParaRPr>
          </a:p>
        </p:txBody>
      </p:sp>
      <p:sp>
        <p:nvSpPr>
          <p:cNvPr id="379" name="Прямоугольник 2"/>
          <p:cNvSpPr/>
          <p:nvPr/>
        </p:nvSpPr>
        <p:spPr>
          <a:xfrm>
            <a:off x="642960" y="1371600"/>
            <a:ext cx="7786800" cy="49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и Пастернака отличаются </a:t>
            </a:r>
            <a:r>
              <a:rPr b="1" lang="ru-RU" sz="2400" spc="-1" strike="noStrike">
                <a:solidFill>
                  <a:srgbClr val="000000"/>
                </a:solidFill>
                <a:latin typeface="Arial"/>
              </a:rPr>
              <a:t>симфонизмом:</a:t>
            </a:r>
            <a:r>
              <a:rPr b="0" lang="ru-RU" sz="2400" spc="-1" strike="noStrike">
                <a:solidFill>
                  <a:srgbClr val="000000"/>
                </a:solidFill>
                <a:latin typeface="Arial"/>
              </a:rPr>
              <a:t> нарастанием, борьбой, сплетением, разрешением тем, интонационными контрастами, острым драматизмом, нарастанием эмоционального напряж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матика некоторых стихотворений выстроена по принципу музыкального </a:t>
            </a:r>
            <a:r>
              <a:rPr b="1" lang="ru-RU" sz="2400" spc="-1" strike="noStrike">
                <a:solidFill>
                  <a:srgbClr val="000000"/>
                </a:solidFill>
                <a:latin typeface="Arial"/>
              </a:rPr>
              <a:t>контрапункта</a:t>
            </a:r>
            <a:r>
              <a:rPr b="0" lang="ru-RU" sz="2400" spc="-1" strike="noStrike">
                <a:solidFill>
                  <a:srgbClr val="000000"/>
                </a:solidFill>
                <a:latin typeface="Arial"/>
              </a:rPr>
              <a:t>: изображение контрастных психологически напряжённых  звуковых сц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 многим стихам Пастернака написана музыка: «Снег идёт»,  «Никого не будет в доме», «Свеча горела на столе» и другим.   </a:t>
            </a:r>
            <a:endParaRPr b="0" lang="en-US" sz="2400" spc="-1" strike="noStrike">
              <a:solidFill>
                <a:srgbClr val="000000"/>
              </a:solidFill>
              <a:latin typeface="Arial"/>
            </a:endParaRPr>
          </a:p>
        </p:txBody>
      </p:sp>
      <p:sp>
        <p:nvSpPr>
          <p:cNvPr id="380" name="Управляющая кнопка: документ 5"/>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Less" w="25203" h="21600">
                <a:moveTo>
                  <a:pt x="7075" y="3985"/>
                </a:moveTo>
                <a:lnTo>
                  <a:pt x="14072" y="3985"/>
                </a:lnTo>
                <a:lnTo>
                  <a:pt x="18128" y="7484"/>
                </a:lnTo>
                <a:lnTo>
                  <a:pt x="18128" y="17615"/>
                </a:lnTo>
                <a:lnTo>
                  <a:pt x="7075" y="17615"/>
                </a:lnTo>
                <a:close/>
              </a:path>
              <a:path fill="darken" w="25203" h="21600">
                <a:moveTo>
                  <a:pt x="14072" y="3985"/>
                </a:moveTo>
                <a:lnTo>
                  <a:pt x="18128" y="7484"/>
                </a:lnTo>
                <a:lnTo>
                  <a:pt x="14072" y="7484"/>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Управляющая кнопка: назад 6">
            <a:hlinkClick r:id="" action="ppaction://hlinkshowjump?jump=previousslide"/>
          </p:cNvPr>
          <p:cNvSpPr/>
          <p:nvPr/>
        </p:nvSpPr>
        <p:spPr>
          <a:xfrm>
            <a:off x="510552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Управляющая кнопка: далее 7">
            <a:hlinkClick r:id="" action="ppaction://hlinkshowjump?jump=nextslide"/>
          </p:cNvPr>
          <p:cNvSpPr/>
          <p:nvPr/>
        </p:nvSpPr>
        <p:spPr>
          <a:xfrm>
            <a:off x="594360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Управляющая кнопка: в начало 8">
            <a:hlinkClick r:id="rId1" action="ppaction://hlinksldjump"/>
          </p:cNvPr>
          <p:cNvSpPr/>
          <p:nvPr/>
        </p:nvSpPr>
        <p:spPr>
          <a:xfrm>
            <a:off x="7620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5398" y="10800"/>
                </a:moveTo>
                <a:lnTo>
                  <a:pt x="25903" y="3794"/>
                </a:lnTo>
                <a:lnTo>
                  <a:pt x="25903" y="17806"/>
                </a:lnTo>
                <a:close/>
              </a:path>
              <a:path fill="darken" w="37794" h="21600">
                <a:moveTo>
                  <a:pt x="11890" y="3794"/>
                </a:moveTo>
                <a:lnTo>
                  <a:pt x="13553" y="3794"/>
                </a:lnTo>
                <a:lnTo>
                  <a:pt x="13553" y="17806"/>
                </a:lnTo>
                <a:lnTo>
                  <a:pt x="11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Управляющая кнопка: возврат 9">
            <a:hlinkClick r:id="rId2" action="ppaction://hlinksldjump"/>
          </p:cNvPr>
          <p:cNvSpPr/>
          <p:nvPr/>
        </p:nvSpPr>
        <p:spPr>
          <a:xfrm>
            <a:off x="67816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7493"/>
                </a:moveTo>
                <a:lnTo>
                  <a:pt x="15411" y="7493"/>
                </a:lnTo>
                <a:lnTo>
                  <a:pt x="15411" y="12828"/>
                </a:lnTo>
                <a:cubicBezTo>
                  <a:pt x="15411" y="13751"/>
                  <a:pt x="16211" y="14482"/>
                  <a:pt x="17247" y="14482"/>
                </a:cubicBezTo>
                <a:lnTo>
                  <a:pt x="18910" y="14482"/>
                </a:lnTo>
                <a:cubicBezTo>
                  <a:pt x="19945" y="14482"/>
                  <a:pt x="20746" y="13751"/>
                  <a:pt x="20746" y="12828"/>
                </a:cubicBezTo>
                <a:lnTo>
                  <a:pt x="20746" y="7493"/>
                </a:lnTo>
                <a:lnTo>
                  <a:pt x="18910" y="7493"/>
                </a:lnTo>
                <a:lnTo>
                  <a:pt x="22417" y="3985"/>
                </a:lnTo>
                <a:lnTo>
                  <a:pt x="26090" y="7493"/>
                </a:lnTo>
                <a:lnTo>
                  <a:pt x="24254" y="7493"/>
                </a:lnTo>
                <a:lnTo>
                  <a:pt x="24254" y="12828"/>
                </a:lnTo>
                <a:cubicBezTo>
                  <a:pt x="24254" y="15596"/>
                  <a:pt x="21677" y="18155"/>
                  <a:pt x="18910" y="18155"/>
                </a:cubicBezTo>
                <a:lnTo>
                  <a:pt x="17247" y="18155"/>
                </a:lnTo>
                <a:cubicBezTo>
                  <a:pt x="14479" y="18155"/>
                  <a:pt x="11903" y="15596"/>
                  <a:pt x="1190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3"/>
          <p:cNvSpPr/>
          <p:nvPr/>
        </p:nvSpPr>
        <p:spPr>
          <a:xfrm>
            <a:off x="1143000" y="1752480"/>
            <a:ext cx="7086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какие две части можно разделить стихотворени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кую роль выполняет повтор названия  в самом стихотворении?</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им приёмом Пастернак рисует образ зимы?</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соотносятся пейзажная зарисовка и философское размышление автора?</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означают образы «перекрёстка поворот» и «убелённый пешеход»?</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ие аллитерации и с какой целью использованы в стихотворении?</a:t>
            </a:r>
            <a:endParaRPr b="0" lang="en-US" sz="2000" spc="-1" strike="noStrike">
              <a:solidFill>
                <a:srgbClr val="000000"/>
              </a:solidFill>
              <a:latin typeface="Arial"/>
            </a:endParaRPr>
          </a:p>
        </p:txBody>
      </p:sp>
      <p:sp>
        <p:nvSpPr>
          <p:cNvPr id="386" name="Заголовок 3"/>
          <p:cNvSpPr/>
          <p:nvPr/>
        </p:nvSpPr>
        <p:spPr>
          <a:xfrm>
            <a:off x="457200" y="304920"/>
            <a:ext cx="34290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Снег идёт…</a:t>
            </a:r>
            <a:endParaRPr b="0" lang="en-US" sz="4600" spc="-1" strike="noStrike">
              <a:solidFill>
                <a:srgbClr val="000000"/>
              </a:solidFill>
              <a:latin typeface="Arial"/>
            </a:endParaRPr>
          </a:p>
        </p:txBody>
      </p:sp>
      <p:sp>
        <p:nvSpPr>
          <p:cNvPr id="387" name="Управляющая кнопка: документ 5"/>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Less" w="25203" h="21600">
                <a:moveTo>
                  <a:pt x="7075" y="3985"/>
                </a:moveTo>
                <a:lnTo>
                  <a:pt x="14072" y="3985"/>
                </a:lnTo>
                <a:lnTo>
                  <a:pt x="18128" y="7484"/>
                </a:lnTo>
                <a:lnTo>
                  <a:pt x="18128" y="17615"/>
                </a:lnTo>
                <a:lnTo>
                  <a:pt x="7075" y="17615"/>
                </a:lnTo>
                <a:close/>
              </a:path>
              <a:path fill="darken" w="25203" h="21600">
                <a:moveTo>
                  <a:pt x="14072" y="3985"/>
                </a:moveTo>
                <a:lnTo>
                  <a:pt x="18128" y="7484"/>
                </a:lnTo>
                <a:lnTo>
                  <a:pt x="14072" y="7484"/>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Управляющая кнопка: возврат 6">
            <a:hlinkClick r:id="rId1" action="ppaction://hlinksldjump"/>
          </p:cNvPr>
          <p:cNvSpPr/>
          <p:nvPr/>
        </p:nvSpPr>
        <p:spPr>
          <a:xfrm>
            <a:off x="67816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7493"/>
                </a:moveTo>
                <a:lnTo>
                  <a:pt x="15411" y="7493"/>
                </a:lnTo>
                <a:lnTo>
                  <a:pt x="15411" y="12828"/>
                </a:lnTo>
                <a:cubicBezTo>
                  <a:pt x="15411" y="13751"/>
                  <a:pt x="16211" y="14482"/>
                  <a:pt x="17247" y="14482"/>
                </a:cubicBezTo>
                <a:lnTo>
                  <a:pt x="18910" y="14482"/>
                </a:lnTo>
                <a:cubicBezTo>
                  <a:pt x="19945" y="14482"/>
                  <a:pt x="20746" y="13751"/>
                  <a:pt x="20746" y="12828"/>
                </a:cubicBezTo>
                <a:lnTo>
                  <a:pt x="20746" y="7493"/>
                </a:lnTo>
                <a:lnTo>
                  <a:pt x="18910" y="7493"/>
                </a:lnTo>
                <a:lnTo>
                  <a:pt x="22417" y="3985"/>
                </a:lnTo>
                <a:lnTo>
                  <a:pt x="26090" y="7493"/>
                </a:lnTo>
                <a:lnTo>
                  <a:pt x="24254" y="7493"/>
                </a:lnTo>
                <a:lnTo>
                  <a:pt x="24254" y="12828"/>
                </a:lnTo>
                <a:cubicBezTo>
                  <a:pt x="24254" y="15596"/>
                  <a:pt x="21677" y="18155"/>
                  <a:pt x="18910" y="18155"/>
                </a:cubicBezTo>
                <a:lnTo>
                  <a:pt x="17247" y="18155"/>
                </a:lnTo>
                <a:cubicBezTo>
                  <a:pt x="14479" y="18155"/>
                  <a:pt x="11903" y="15596"/>
                  <a:pt x="1190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Управляющая кнопка: в начало 7">
            <a:hlinkClick r:id="rId2" action="ppaction://hlinksldjump"/>
          </p:cNvPr>
          <p:cNvSpPr/>
          <p:nvPr/>
        </p:nvSpPr>
        <p:spPr>
          <a:xfrm>
            <a:off x="7620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5398" y="10800"/>
                </a:moveTo>
                <a:lnTo>
                  <a:pt x="25903" y="3794"/>
                </a:lnTo>
                <a:lnTo>
                  <a:pt x="25903" y="17806"/>
                </a:lnTo>
                <a:close/>
              </a:path>
              <a:path fill="darken" w="37794" h="21600">
                <a:moveTo>
                  <a:pt x="11890" y="3794"/>
                </a:moveTo>
                <a:lnTo>
                  <a:pt x="13553" y="3794"/>
                </a:lnTo>
                <a:lnTo>
                  <a:pt x="13553" y="17806"/>
                </a:lnTo>
                <a:lnTo>
                  <a:pt x="11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Управляющая кнопка: назад 8">
            <a:hlinkClick r:id="" action="ppaction://hlinkshowjump?jump=previousslide"/>
          </p:cNvPr>
          <p:cNvSpPr/>
          <p:nvPr/>
        </p:nvSpPr>
        <p:spPr>
          <a:xfrm>
            <a:off x="54864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Управляющая кнопка: далее 9">
            <a:hlinkClick r:id="" action="ppaction://hlinkshowjump?jump=nextslide"/>
          </p:cNvPr>
          <p:cNvSpPr/>
          <p:nvPr/>
        </p:nvSpPr>
        <p:spPr>
          <a:xfrm>
            <a:off x="6095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83" dur="500"/>
                                        <p:tgtEl>
                                          <p:spTgt spid="38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88" dur="500"/>
                                        <p:tgtEl>
                                          <p:spTgt spid="38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93" dur="500"/>
                                        <p:tgtEl>
                                          <p:spTgt spid="38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98" dur="500"/>
                                        <p:tgtEl>
                                          <p:spTgt spid="385">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385">
                                            <p:txEl>
                                              <p:pRg st="5" end="5"/>
                                            </p:txEl>
                                          </p:spTgt>
                                        </p:tgtEl>
                                        <p:attrNameLst>
                                          <p:attrName>style.visibility</p:attrName>
                                        </p:attrNameLst>
                                      </p:cBhvr>
                                      <p:to>
                                        <p:strVal val="visible"/>
                                      </p:to>
                                    </p:set>
                                    <p:animEffect filter="wipe(up)" transition="in">
                                      <p:cBhvr additive="repl">
                                        <p:cTn id="103" dur="500"/>
                                        <p:tgtEl>
                                          <p:spTgt spid="385">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385">
                                            <p:txEl>
                                              <p:pRg st="6" end="6"/>
                                            </p:txEl>
                                          </p:spTgt>
                                        </p:tgtEl>
                                        <p:attrNameLst>
                                          <p:attrName>style.visibility</p:attrName>
                                        </p:attrNameLst>
                                      </p:cBhvr>
                                      <p:to>
                                        <p:strVal val="visible"/>
                                      </p:to>
                                    </p:set>
                                    <p:animEffect filter="wipe(up)" transition="in">
                                      <p:cBhvr additive="repl">
                                        <p:cTn id="108" dur="500"/>
                                        <p:tgtEl>
                                          <p:spTgt spid="385">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385">
                                            <p:txEl>
                                              <p:pRg st="7" end="7"/>
                                            </p:txEl>
                                          </p:spTgt>
                                        </p:tgtEl>
                                        <p:attrNameLst>
                                          <p:attrName>style.visibility</p:attrName>
                                        </p:attrNameLst>
                                      </p:cBhvr>
                                      <p:to>
                                        <p:strVal val="visible"/>
                                      </p:to>
                                    </p:set>
                                    <p:animEffect filter="wipe(up)" transition="in">
                                      <p:cBhvr additive="repl">
                                        <p:cTn id="113" dur="500"/>
                                        <p:tgtEl>
                                          <p:spTgt spid="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d:\Мои документы\Для уроков литературы\Пастернак\фото о пастернаке\geran_snow_window_pasternak.jpg"/>
          <p:cNvPicPr/>
          <p:nvPr/>
        </p:nvPicPr>
        <p:blipFill>
          <a:blip r:embed="rId1">
            <a:lum bright="10000"/>
          </a:blip>
          <a:stretch/>
        </p:blipFill>
        <p:spPr>
          <a:xfrm>
            <a:off x="228600" y="1295280"/>
            <a:ext cx="8915400" cy="5562720"/>
          </a:xfrm>
          <a:prstGeom prst="rect">
            <a:avLst/>
          </a:prstGeom>
          <a:ln w="0">
            <a:noFill/>
          </a:ln>
        </p:spPr>
      </p:pic>
      <p:sp>
        <p:nvSpPr>
          <p:cNvPr id="393" name="Управляющая кнопка: звук 2"/>
          <p:cNvSpPr/>
          <p:nvPr/>
        </p:nvSpPr>
        <p:spPr>
          <a:xfrm>
            <a:off x="8534520" y="579132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8998"/>
                </a:moveTo>
                <a:lnTo>
                  <a:pt x="8224" y="8998"/>
                </a:lnTo>
                <a:lnTo>
                  <a:pt x="12645" y="4385"/>
                </a:lnTo>
                <a:lnTo>
                  <a:pt x="12645" y="18398"/>
                </a:lnTo>
                <a:lnTo>
                  <a:pt x="8224" y="13785"/>
                </a:lnTo>
                <a:lnTo>
                  <a:pt x="3794" y="13785"/>
                </a:lnTo>
                <a:close/>
              </a:path>
              <a:path fill="darken" w="21600" h="22783">
                <a:moveTo>
                  <a:pt x="14299" y="11392"/>
                </a:moveTo>
                <a:lnTo>
                  <a:pt x="17806" y="11392"/>
                </a:lnTo>
              </a:path>
              <a:path fill="darken" w="21600" h="22783">
                <a:moveTo>
                  <a:pt x="14299" y="8998"/>
                </a:moveTo>
                <a:lnTo>
                  <a:pt x="17806" y="6230"/>
                </a:lnTo>
              </a:path>
              <a:path fill="darken" w="21600" h="22783">
                <a:moveTo>
                  <a:pt x="14299" y="13785"/>
                </a:moveTo>
                <a:lnTo>
                  <a:pt x="17806" y="16553"/>
                </a:lnTo>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Прямоугольник 3"/>
          <p:cNvSpPr/>
          <p:nvPr/>
        </p:nvSpPr>
        <p:spPr>
          <a:xfrm>
            <a:off x="1357200" y="1000080"/>
            <a:ext cx="7086600" cy="253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слушивания песн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узыка помогает представить образы стихотворения?</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развивается музыкальный темп песни?</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узыка помогает соединить два плана стихотворения – пейзажный и философский?</a:t>
            </a:r>
            <a:endParaRPr b="0" lang="en-US" sz="2000" spc="-1" strike="noStrike">
              <a:solidFill>
                <a:srgbClr val="000000"/>
              </a:solidFill>
              <a:latin typeface="Arial"/>
            </a:endParaRPr>
          </a:p>
        </p:txBody>
      </p:sp>
      <p:sp>
        <p:nvSpPr>
          <p:cNvPr id="395" name="Заголовок 3"/>
          <p:cNvSpPr/>
          <p:nvPr/>
        </p:nvSpPr>
        <p:spPr>
          <a:xfrm>
            <a:off x="457200" y="304920"/>
            <a:ext cx="34290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Снег идёт…</a:t>
            </a:r>
            <a:endParaRPr b="0" lang="en-US" sz="4600" spc="-1" strike="noStrike">
              <a:solidFill>
                <a:srgbClr val="000000"/>
              </a:solidFill>
              <a:latin typeface="Arial"/>
            </a:endParaRPr>
          </a:p>
        </p:txBody>
      </p:sp>
      <p:sp>
        <p:nvSpPr>
          <p:cNvPr id="396" name="Управляющая кнопка: назад 5">
            <a:hlinkClick r:id="" action="ppaction://hlinkshowjump?jump=previousslide"/>
          </p:cNvPr>
          <p:cNvSpPr/>
          <p:nvPr/>
        </p:nvSpPr>
        <p:spPr>
          <a:xfrm>
            <a:off x="655308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Управляющая кнопка: далее 6">
            <a:hlinkClick r:id="" action="ppaction://hlinkshowjump?jump=nextslide"/>
          </p:cNvPr>
          <p:cNvSpPr/>
          <p:nvPr/>
        </p:nvSpPr>
        <p:spPr>
          <a:xfrm>
            <a:off x="716292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Управляющая кнопка: в начало 7">
            <a:hlinkClick r:id="rId2" action="ppaction://hlinksldjump"/>
          </p:cNvPr>
          <p:cNvSpPr/>
          <p:nvPr/>
        </p:nvSpPr>
        <p:spPr>
          <a:xfrm>
            <a:off x="845820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8084" y="10800"/>
                </a:moveTo>
                <a:lnTo>
                  <a:pt x="28590" y="3794"/>
                </a:lnTo>
                <a:lnTo>
                  <a:pt x="28590" y="17806"/>
                </a:lnTo>
                <a:close/>
              </a:path>
              <a:path fill="darken" w="43166" h="21600">
                <a:moveTo>
                  <a:pt x="14577" y="3794"/>
                </a:moveTo>
                <a:lnTo>
                  <a:pt x="16239" y="3794"/>
                </a:lnTo>
                <a:lnTo>
                  <a:pt x="16239" y="17806"/>
                </a:lnTo>
                <a:lnTo>
                  <a:pt x="1457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Управляющая кнопка: возврат 8">
            <a:hlinkClick r:id="rId3" action="ppaction://hlinksldjump"/>
          </p:cNvPr>
          <p:cNvSpPr/>
          <p:nvPr/>
        </p:nvSpPr>
        <p:spPr>
          <a:xfrm>
            <a:off x="777240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7493"/>
                </a:moveTo>
                <a:lnTo>
                  <a:pt x="18084" y="7493"/>
                </a:lnTo>
                <a:lnTo>
                  <a:pt x="18084" y="12828"/>
                </a:lnTo>
                <a:cubicBezTo>
                  <a:pt x="18084" y="13751"/>
                  <a:pt x="18885" y="14482"/>
                  <a:pt x="19921" y="14482"/>
                </a:cubicBezTo>
                <a:lnTo>
                  <a:pt x="21583" y="14482"/>
                </a:lnTo>
                <a:cubicBezTo>
                  <a:pt x="22619" y="14482"/>
                  <a:pt x="23420" y="13751"/>
                  <a:pt x="23420" y="12828"/>
                </a:cubicBezTo>
                <a:lnTo>
                  <a:pt x="23420" y="7493"/>
                </a:lnTo>
                <a:lnTo>
                  <a:pt x="21583" y="7493"/>
                </a:lnTo>
                <a:lnTo>
                  <a:pt x="25091" y="3985"/>
                </a:lnTo>
                <a:lnTo>
                  <a:pt x="28764" y="7493"/>
                </a:lnTo>
                <a:lnTo>
                  <a:pt x="26927" y="7493"/>
                </a:lnTo>
                <a:lnTo>
                  <a:pt x="26927" y="12828"/>
                </a:lnTo>
                <a:cubicBezTo>
                  <a:pt x="26927" y="15596"/>
                  <a:pt x="24351" y="18155"/>
                  <a:pt x="21583" y="18155"/>
                </a:cubicBezTo>
                <a:lnTo>
                  <a:pt x="19921" y="18155"/>
                </a:lnTo>
                <a:cubicBezTo>
                  <a:pt x="17153" y="18155"/>
                  <a:pt x="14577" y="15596"/>
                  <a:pt x="1457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120" dur="500"/>
                                        <p:tgtEl>
                                          <p:spTgt spid="394">
                                            <p:txEl>
                                              <p:pRg st="0" end="0"/>
                                            </p:txEl>
                                          </p:spTgt>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24" dur="500"/>
                                        <p:tgtEl>
                                          <p:spTgt spid="394">
                                            <p:txEl>
                                              <p:pRg st="2" end="2"/>
                                            </p:txEl>
                                          </p:spTgt>
                                        </p:tgtEl>
                                      </p:cBhvr>
                                    </p:animEffect>
                                  </p:childTnLst>
                                </p:cTn>
                              </p:par>
                            </p:childTnLst>
                          </p:cTn>
                        </p:par>
                        <p:par>
                          <p:cTn id="125" fill="hold">
                            <p:stCondLst>
                              <p:cond delay="1000"/>
                            </p:stCondLst>
                            <p:childTnLst>
                              <p:par>
                                <p:cTn id="126" nodeType="afterEffect" fill="hold" presetClass="entr" presetID="22" presetSubtype="1">
                                  <p:stCondLst>
                                    <p:cond delay="0"/>
                                  </p:stCondLst>
                                  <p:childTnLst>
                                    <p:set>
                                      <p:cBhvr>
                                        <p:cTn id="12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28" dur="500"/>
                                        <p:tgtEl>
                                          <p:spTgt spid="394">
                                            <p:txEl>
                                              <p:pRg st="3" end="3"/>
                                            </p:txEl>
                                          </p:spTgt>
                                        </p:tgtEl>
                                      </p:cBhvr>
                                    </p:animEffect>
                                  </p:childTnLst>
                                </p:cTn>
                              </p:par>
                            </p:childTnLst>
                          </p:cTn>
                        </p:par>
                        <p:par>
                          <p:cTn id="129" fill="hold">
                            <p:stCondLst>
                              <p:cond delay="1500"/>
                            </p:stCondLst>
                            <p:childTnLst>
                              <p:par>
                                <p:cTn id="130" nodeType="afterEffect" fill="hold" presetClass="entr" presetID="22" presetSubtype="1">
                                  <p:stCondLst>
                                    <p:cond delay="0"/>
                                  </p:stCondLst>
                                  <p:childTnLst>
                                    <p:set>
                                      <p:cBhvr>
                                        <p:cTn id="13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32" dur="500"/>
                                        <p:tgtEl>
                                          <p:spTgt spid="394">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92"/>
                                        </p:tgtEl>
                                        <p:attrNameLst>
                                          <p:attrName>style.visibility</p:attrName>
                                        </p:attrNameLst>
                                      </p:cBhvr>
                                      <p:to>
                                        <p:strVal val="visible"/>
                                      </p:to>
                                    </p:set>
                                    <p:animEffect filter="fade" transition="in">
                                      <p:cBhvr additive="repl">
                                        <p:cTn id="137" dur="5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Метафоры</a:t>
            </a:r>
            <a:endParaRPr b="0" lang="en-US" sz="3600" spc="-1" strike="noStrike">
              <a:solidFill>
                <a:srgbClr val="000000"/>
              </a:solidFill>
              <a:latin typeface="Arial"/>
            </a:endParaRPr>
          </a:p>
        </p:txBody>
      </p:sp>
      <p:sp>
        <p:nvSpPr>
          <p:cNvPr id="401" name="Прямоугольник 1"/>
          <p:cNvSpPr/>
          <p:nvPr/>
        </p:nvSpPr>
        <p:spPr>
          <a:xfrm>
            <a:off x="642960" y="1785960"/>
            <a:ext cx="7858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отворения Пастернака </a:t>
            </a:r>
            <a:r>
              <a:rPr b="1" lang="ru-RU" sz="2400" spc="-1" strike="noStrike">
                <a:solidFill>
                  <a:srgbClr val="000000"/>
                </a:solidFill>
                <a:latin typeface="Arial"/>
              </a:rPr>
              <a:t>насыщены метафорами </a:t>
            </a:r>
            <a:r>
              <a:rPr b="0" lang="ru-RU" sz="2400" spc="-1" strike="noStrike">
                <a:solidFill>
                  <a:srgbClr val="000000"/>
                </a:solidFill>
                <a:latin typeface="Arial"/>
              </a:rPr>
              <a:t>до предел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эт использует метафоры</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жные,</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ёрнутые,</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лаивает их одну на другую.</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Управляющая кнопка: назад 3">
            <a:hlinkClick r:id="" action="ppaction://hlinkshowjump?jump=previousslide"/>
          </p:cNvPr>
          <p:cNvSpPr/>
          <p:nvPr/>
        </p:nvSpPr>
        <p:spPr>
          <a:xfrm>
            <a:off x="650088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Управляющая кнопка: далее 4">
            <a:hlinkClick r:id="" action="ppaction://hlinkshowjump?jump=nextslide"/>
          </p:cNvPr>
          <p:cNvSpPr/>
          <p:nvPr/>
        </p:nvSpPr>
        <p:spPr>
          <a:xfrm>
            <a:off x="7215120" y="635796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3794"/>
                </a:moveTo>
                <a:lnTo>
                  <a:pt x="23200" y="10800"/>
                </a:lnTo>
                <a:lnTo>
                  <a:pt x="918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Управляющая кнопка: в начало 5">
            <a:hlinkClick r:id="rId1" action="ppaction://hlinksldjump"/>
          </p:cNvPr>
          <p:cNvSpPr/>
          <p:nvPr/>
        </p:nvSpPr>
        <p:spPr>
          <a:xfrm>
            <a:off x="842976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12681" y="10800"/>
                </a:moveTo>
                <a:lnTo>
                  <a:pt x="23186" y="3794"/>
                </a:lnTo>
                <a:lnTo>
                  <a:pt x="23186" y="17806"/>
                </a:lnTo>
                <a:close/>
              </a:path>
              <a:path fill="darken" w="32359" h="21600">
                <a:moveTo>
                  <a:pt x="9173" y="3794"/>
                </a:moveTo>
                <a:lnTo>
                  <a:pt x="10836" y="3794"/>
                </a:lnTo>
                <a:lnTo>
                  <a:pt x="10836" y="17806"/>
                </a:lnTo>
                <a:lnTo>
                  <a:pt x="917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Управляющая кнопка: возврат 6">
            <a:hlinkClick r:id="rId2" action="ppaction://hlinksldjump"/>
          </p:cNvPr>
          <p:cNvSpPr/>
          <p:nvPr/>
        </p:nvSpPr>
        <p:spPr>
          <a:xfrm>
            <a:off x="7858080" y="635796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7493"/>
                </a:moveTo>
                <a:lnTo>
                  <a:pt x="12694" y="7493"/>
                </a:lnTo>
                <a:lnTo>
                  <a:pt x="12694" y="12828"/>
                </a:lnTo>
                <a:cubicBezTo>
                  <a:pt x="12694" y="13751"/>
                  <a:pt x="13495" y="14482"/>
                  <a:pt x="14531" y="14482"/>
                </a:cubicBezTo>
                <a:lnTo>
                  <a:pt x="16193" y="14482"/>
                </a:lnTo>
                <a:cubicBezTo>
                  <a:pt x="17229" y="14482"/>
                  <a:pt x="18030" y="13751"/>
                  <a:pt x="18030" y="12828"/>
                </a:cubicBezTo>
                <a:lnTo>
                  <a:pt x="18030" y="7493"/>
                </a:lnTo>
                <a:lnTo>
                  <a:pt x="16193" y="7493"/>
                </a:lnTo>
                <a:lnTo>
                  <a:pt x="19701" y="3985"/>
                </a:lnTo>
                <a:lnTo>
                  <a:pt x="23374" y="7493"/>
                </a:lnTo>
                <a:lnTo>
                  <a:pt x="21537" y="7493"/>
                </a:lnTo>
                <a:lnTo>
                  <a:pt x="21537" y="12828"/>
                </a:lnTo>
                <a:cubicBezTo>
                  <a:pt x="21537" y="15596"/>
                  <a:pt x="18961" y="18155"/>
                  <a:pt x="16193" y="18155"/>
                </a:cubicBezTo>
                <a:lnTo>
                  <a:pt x="14531" y="18155"/>
                </a:lnTo>
                <a:cubicBezTo>
                  <a:pt x="11763" y="18155"/>
                  <a:pt x="9187" y="15596"/>
                  <a:pt x="918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357120" y="722520"/>
            <a:ext cx="7072560" cy="19836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004e6d"/>
                </a:solidFill>
                <a:latin typeface="Arial"/>
                <a:ea typeface="Times New Roman"/>
              </a:rPr>
              <a:t>Сложа вёсла</a:t>
            </a:r>
            <a:endParaRPr b="0" lang="en-US" sz="2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Лодка колотится в сонной груд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вы нависли, целуют в ключицы,</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В локти, в уключины – о погод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Это ведь с каждым может случиться!</a:t>
            </a:r>
            <a:endParaRPr b="0" lang="en-US" sz="2400" spc="-1" strike="noStrike">
              <a:solidFill>
                <a:srgbClr val="000000"/>
              </a:solidFill>
              <a:latin typeface="Arial"/>
            </a:endParaRPr>
          </a:p>
        </p:txBody>
      </p:sp>
      <p:sp>
        <p:nvSpPr>
          <p:cNvPr id="407" name="Прямоугольник 2"/>
          <p:cNvSpPr/>
          <p:nvPr/>
        </p:nvSpPr>
        <p:spPr>
          <a:xfrm>
            <a:off x="285840" y="3000240"/>
            <a:ext cx="4357440" cy="32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ъясните смысл метафоры в первой строке «лодка колотится в сонной груди».</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 чём говорит название стихотворения?</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какого житейского впечатления возникла метафора «ивы целуют в ключицы»?</a:t>
            </a:r>
            <a:endParaRPr b="0" lang="en-US" sz="2000" spc="-1" strike="noStrike">
              <a:solidFill>
                <a:srgbClr val="000000"/>
              </a:solidFill>
              <a:latin typeface="Arial"/>
            </a:endParaRPr>
          </a:p>
        </p:txBody>
      </p:sp>
      <p:pic>
        <p:nvPicPr>
          <p:cNvPr id="408" name="Picture 1" descr="d:\Мои документы\Для уроков литературы\Пастернак\фото  пастернак\SMALL_~1.JPG"/>
          <p:cNvPicPr/>
          <p:nvPr/>
        </p:nvPicPr>
        <p:blipFill>
          <a:blip r:embed="rId1"/>
          <a:stretch/>
        </p:blipFill>
        <p:spPr>
          <a:xfrm>
            <a:off x="4643280" y="2786040"/>
            <a:ext cx="4096080" cy="3071880"/>
          </a:xfrm>
          <a:prstGeom prst="rect">
            <a:avLst/>
          </a:prstGeom>
          <a:ln w="0">
            <a:noFill/>
          </a:ln>
        </p:spPr>
      </p:pic>
      <p:sp>
        <p:nvSpPr>
          <p:cNvPr id="409" name="Управляющая кнопка: назад 4">
            <a:hlinkClick r:id="" action="ppaction://hlinkshowjump?jump=previousslide"/>
          </p:cNvPr>
          <p:cNvSpPr/>
          <p:nvPr/>
        </p:nvSpPr>
        <p:spPr>
          <a:xfrm>
            <a:off x="628668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4539" y="10800"/>
                </a:moveTo>
                <a:lnTo>
                  <a:pt x="28552" y="3794"/>
                </a:lnTo>
                <a:lnTo>
                  <a:pt x="285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Управляющая кнопка: далее 5">
            <a:hlinkClick r:id="" action="ppaction://hlinkshowjump?jump=nextslide"/>
          </p:cNvPr>
          <p:cNvSpPr/>
          <p:nvPr/>
        </p:nvSpPr>
        <p:spPr>
          <a:xfrm>
            <a:off x="6929280" y="6429240"/>
            <a:ext cx="500400" cy="214560"/>
          </a:xfrm>
          <a:custGeom>
            <a:avLst/>
            <a:gdLst>
              <a:gd name="textAreaLeft" fmla="*/ 13680 w 500400"/>
              <a:gd name="textAreaRight" fmla="*/ 486720 w 500400"/>
              <a:gd name="textAreaTop" fmla="*/ 13680 h 214560"/>
              <a:gd name="textAreaBottom" fmla="*/ 200880 h 214560"/>
            </a:gdLst>
            <a:ahLst/>
            <a:rect l="textAreaLeft" t="textAreaTop" r="textAreaRight" b="textAreaBottom"/>
            <a:pathLst>
              <a:path w="50328" h="21600">
                <a:moveTo>
                  <a:pt x="0" y="0"/>
                </a:moveTo>
                <a:lnTo>
                  <a:pt x="50328" y="0"/>
                </a:lnTo>
                <a:lnTo>
                  <a:pt x="50328" y="21600"/>
                </a:lnTo>
                <a:lnTo>
                  <a:pt x="0" y="21600"/>
                </a:lnTo>
                <a:close/>
              </a:path>
              <a:path fill="lightenLess" w="50328" h="21600">
                <a:moveTo>
                  <a:pt x="0" y="0"/>
                </a:moveTo>
                <a:lnTo>
                  <a:pt x="50328" y="0"/>
                </a:lnTo>
                <a:lnTo>
                  <a:pt x="48928" y="1400"/>
                </a:lnTo>
                <a:lnTo>
                  <a:pt x="1400" y="1400"/>
                </a:lnTo>
                <a:close/>
              </a:path>
              <a:path fill="darken" w="50328" h="21600">
                <a:moveTo>
                  <a:pt x="50328" y="0"/>
                </a:moveTo>
                <a:lnTo>
                  <a:pt x="50328" y="21600"/>
                </a:lnTo>
                <a:lnTo>
                  <a:pt x="48928" y="20200"/>
                </a:lnTo>
                <a:lnTo>
                  <a:pt x="48928" y="1400"/>
                </a:lnTo>
                <a:close/>
              </a:path>
              <a:path fill="darkenLess" w="50328" h="21600">
                <a:moveTo>
                  <a:pt x="50328" y="21600"/>
                </a:moveTo>
                <a:lnTo>
                  <a:pt x="0" y="21600"/>
                </a:lnTo>
                <a:lnTo>
                  <a:pt x="1400" y="20200"/>
                </a:lnTo>
                <a:lnTo>
                  <a:pt x="48928" y="20200"/>
                </a:lnTo>
                <a:close/>
              </a:path>
              <a:path fill="lighten" w="50328" h="21600">
                <a:moveTo>
                  <a:pt x="0" y="21600"/>
                </a:moveTo>
                <a:lnTo>
                  <a:pt x="0" y="0"/>
                </a:lnTo>
                <a:lnTo>
                  <a:pt x="1400" y="1400"/>
                </a:lnTo>
                <a:lnTo>
                  <a:pt x="1400" y="20200"/>
                </a:lnTo>
                <a:close/>
              </a:path>
              <a:path fill="darken" w="50328" h="21600">
                <a:moveTo>
                  <a:pt x="18157" y="3794"/>
                </a:moveTo>
                <a:lnTo>
                  <a:pt x="32170" y="10800"/>
                </a:lnTo>
                <a:lnTo>
                  <a:pt x="1815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Управляющая кнопка: в начало 6">
            <a:hlinkClick r:id="rId2" action="ppaction://hlinksldjump"/>
          </p:cNvPr>
          <p:cNvSpPr/>
          <p:nvPr/>
        </p:nvSpPr>
        <p:spPr>
          <a:xfrm>
            <a:off x="842976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8047" y="10800"/>
                </a:moveTo>
                <a:lnTo>
                  <a:pt x="28552" y="3794"/>
                </a:lnTo>
                <a:lnTo>
                  <a:pt x="28552" y="17806"/>
                </a:lnTo>
                <a:close/>
              </a:path>
              <a:path fill="darken" w="43091" h="21600">
                <a:moveTo>
                  <a:pt x="14539" y="3794"/>
                </a:moveTo>
                <a:lnTo>
                  <a:pt x="16202" y="3794"/>
                </a:lnTo>
                <a:lnTo>
                  <a:pt x="16202" y="17806"/>
                </a:lnTo>
                <a:lnTo>
                  <a:pt x="145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Управляющая кнопка: возврат 7">
            <a:hlinkClick r:id="rId3" action="ppaction://hlinksldjump"/>
          </p:cNvPr>
          <p:cNvSpPr/>
          <p:nvPr/>
        </p:nvSpPr>
        <p:spPr>
          <a:xfrm>
            <a:off x="778680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7493"/>
                </a:moveTo>
                <a:lnTo>
                  <a:pt x="21647" y="7493"/>
                </a:lnTo>
                <a:lnTo>
                  <a:pt x="21647" y="12828"/>
                </a:lnTo>
                <a:cubicBezTo>
                  <a:pt x="21647" y="13751"/>
                  <a:pt x="22448" y="14482"/>
                  <a:pt x="23483" y="14482"/>
                </a:cubicBezTo>
                <a:lnTo>
                  <a:pt x="25146" y="14482"/>
                </a:lnTo>
                <a:cubicBezTo>
                  <a:pt x="26181" y="14482"/>
                  <a:pt x="26982" y="13751"/>
                  <a:pt x="26982" y="12828"/>
                </a:cubicBezTo>
                <a:lnTo>
                  <a:pt x="26982" y="7493"/>
                </a:lnTo>
                <a:lnTo>
                  <a:pt x="25146" y="7493"/>
                </a:lnTo>
                <a:lnTo>
                  <a:pt x="28653" y="3985"/>
                </a:lnTo>
                <a:lnTo>
                  <a:pt x="32326" y="7493"/>
                </a:lnTo>
                <a:lnTo>
                  <a:pt x="30490" y="7493"/>
                </a:lnTo>
                <a:lnTo>
                  <a:pt x="30490" y="12828"/>
                </a:lnTo>
                <a:cubicBezTo>
                  <a:pt x="30490" y="15596"/>
                  <a:pt x="27914" y="18155"/>
                  <a:pt x="25146" y="18155"/>
                </a:cubicBezTo>
                <a:lnTo>
                  <a:pt x="23483" y="18155"/>
                </a:lnTo>
                <a:cubicBezTo>
                  <a:pt x="20716" y="18155"/>
                  <a:pt x="18139" y="15596"/>
                  <a:pt x="1813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144" dur="500"/>
                                        <p:tgtEl>
                                          <p:spTgt spid="40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407">
                                            <p:txEl>
                                              <p:pRg st="2" end="2"/>
                                            </p:txEl>
                                          </p:spTgt>
                                        </p:tgtEl>
                                        <p:attrNameLst>
                                          <p:attrName>style.visibility</p:attrName>
                                        </p:attrNameLst>
                                      </p:cBhvr>
                                      <p:to>
                                        <p:strVal val="visible"/>
                                      </p:to>
                                    </p:set>
                                    <p:animEffect filter="wipe(up)" transition="in">
                                      <p:cBhvr additive="repl">
                                        <p:cTn id="149" dur="500"/>
                                        <p:tgtEl>
                                          <p:spTgt spid="407">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407">
                                            <p:txEl>
                                              <p:pRg st="3" end="3"/>
                                            </p:txEl>
                                          </p:spTgt>
                                        </p:tgtEl>
                                        <p:attrNameLst>
                                          <p:attrName>style.visibility</p:attrName>
                                        </p:attrNameLst>
                                      </p:cBhvr>
                                      <p:to>
                                        <p:strVal val="visible"/>
                                      </p:to>
                                    </p:set>
                                    <p:animEffect filter="wipe(up)" transition="in">
                                      <p:cBhvr additive="repl">
                                        <p:cTn id="154" dur="500"/>
                                        <p:tgtEl>
                                          <p:spTgt spid="40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07">
                                            <p:txEl>
                                              <p:pRg st="4" end="4"/>
                                            </p:txEl>
                                          </p:spTgt>
                                        </p:tgtEl>
                                        <p:attrNameLst>
                                          <p:attrName>style.visibility</p:attrName>
                                        </p:attrNameLst>
                                      </p:cBhvr>
                                      <p:to>
                                        <p:strVal val="visible"/>
                                      </p:to>
                                    </p:set>
                                    <p:animEffect filter="wipe(up)" transition="in">
                                      <p:cBhvr additive="repl">
                                        <p:cTn id="159" dur="5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Наслоение смыслов</a:t>
            </a:r>
            <a:endParaRPr b="0" lang="en-US" sz="3600" spc="-1" strike="noStrike">
              <a:solidFill>
                <a:srgbClr val="000000"/>
              </a:solidFill>
              <a:latin typeface="Arial"/>
            </a:endParaRPr>
          </a:p>
        </p:txBody>
      </p:sp>
      <p:sp>
        <p:nvSpPr>
          <p:cNvPr id="414" name="Прямоугольник 1"/>
          <p:cNvSpPr/>
          <p:nvPr/>
        </p:nvSpPr>
        <p:spPr>
          <a:xfrm>
            <a:off x="571680" y="1643040"/>
            <a:ext cx="8001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убеже 20-30-х годов Пастернак отказывается от поэтики авангарда и переходит к </a:t>
            </a:r>
            <a:r>
              <a:rPr b="1" lang="ru-RU" sz="2400" spc="-1" strike="noStrike">
                <a:solidFill>
                  <a:srgbClr val="000000"/>
                </a:solidFill>
                <a:latin typeface="Arial"/>
              </a:rPr>
              <a:t>обманчивой простоте языка</a:t>
            </a:r>
            <a:r>
              <a:rPr b="0" lang="ru-RU" sz="2400" spc="-1" strike="noStrike">
                <a:solidFill>
                  <a:srgbClr val="000000"/>
                </a:solidFill>
                <a:latin typeface="Arial"/>
              </a:rPr>
              <a:t>. Синтаксис становится упорядоченным, слова и образы кажутся простыми. Но под </a:t>
            </a:r>
            <a:r>
              <a:rPr b="1" lang="ru-RU" sz="2400" spc="-1" strike="noStrike">
                <a:solidFill>
                  <a:srgbClr val="000000"/>
                </a:solidFill>
                <a:latin typeface="Arial"/>
              </a:rPr>
              <a:t>поверхностным</a:t>
            </a:r>
            <a:r>
              <a:rPr b="0" lang="ru-RU" sz="2400" spc="-1" strike="noStrike">
                <a:solidFill>
                  <a:srgbClr val="000000"/>
                </a:solidFill>
                <a:latin typeface="Arial"/>
              </a:rPr>
              <a:t> смыслом скрывается </a:t>
            </a:r>
            <a:r>
              <a:rPr b="1" lang="ru-RU" sz="2400" spc="-1" strike="noStrike">
                <a:solidFill>
                  <a:srgbClr val="000000"/>
                </a:solidFill>
                <a:latin typeface="Arial"/>
              </a:rPr>
              <a:t>автобиографически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 ним – </a:t>
            </a:r>
            <a:r>
              <a:rPr b="1" lang="ru-RU" sz="2400" spc="-1" strike="noStrike">
                <a:solidFill>
                  <a:srgbClr val="000000"/>
                </a:solidFill>
                <a:latin typeface="Arial"/>
              </a:rPr>
              <a:t>историко-культурны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лее – </a:t>
            </a:r>
            <a:r>
              <a:rPr b="1" lang="ru-RU" sz="2400" spc="-1" strike="noStrike">
                <a:solidFill>
                  <a:srgbClr val="000000"/>
                </a:solidFill>
                <a:latin typeface="Arial"/>
              </a:rPr>
              <a:t>мифологически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лигиозны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 так дале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хватить эти смыслы и значит понять Пастернака. </a:t>
            </a:r>
            <a:endParaRPr b="0" lang="en-US" sz="2400" spc="-1" strike="noStrike">
              <a:solidFill>
                <a:srgbClr val="000000"/>
              </a:solidFill>
              <a:latin typeface="Arial"/>
            </a:endParaRPr>
          </a:p>
        </p:txBody>
      </p:sp>
      <p:sp>
        <p:nvSpPr>
          <p:cNvPr id="415" name="Управляющая кнопка: назад 3">
            <a:hlinkClick r:id="" action="ppaction://hlinkshowjump?jump=previousslide"/>
          </p:cNvPr>
          <p:cNvSpPr/>
          <p:nvPr/>
        </p:nvSpPr>
        <p:spPr>
          <a:xfrm>
            <a:off x="6357960" y="6429240"/>
            <a:ext cx="571320" cy="285840"/>
          </a:xfrm>
          <a:custGeom>
            <a:avLst/>
            <a:gdLst>
              <a:gd name="textAreaLeft" fmla="*/ 18360 w 571320"/>
              <a:gd name="textAreaRight" fmla="*/ 552960 w 571320"/>
              <a:gd name="textAreaTop" fmla="*/ 18360 h 285840"/>
              <a:gd name="textAreaBottom" fmla="*/ 267480 h 285840"/>
            </a:gdLst>
            <a:ahLst/>
            <a:rect l="textAreaLeft" t="textAreaTop" r="textAreaRight" b="textAreaBottom"/>
            <a:pathLst>
              <a:path w="43146" h="21600">
                <a:moveTo>
                  <a:pt x="0" y="0"/>
                </a:moveTo>
                <a:lnTo>
                  <a:pt x="43146" y="0"/>
                </a:lnTo>
                <a:lnTo>
                  <a:pt x="43146" y="21600"/>
                </a:lnTo>
                <a:lnTo>
                  <a:pt x="0" y="21600"/>
                </a:lnTo>
                <a:close/>
              </a:path>
              <a:path fill="lightenLess" w="43146" h="21600">
                <a:moveTo>
                  <a:pt x="0" y="0"/>
                </a:moveTo>
                <a:lnTo>
                  <a:pt x="43146" y="0"/>
                </a:lnTo>
                <a:lnTo>
                  <a:pt x="41746" y="1400"/>
                </a:lnTo>
                <a:lnTo>
                  <a:pt x="1400" y="1400"/>
                </a:lnTo>
                <a:close/>
              </a:path>
              <a:path fill="darken" w="43146" h="21600">
                <a:moveTo>
                  <a:pt x="43146" y="0"/>
                </a:moveTo>
                <a:lnTo>
                  <a:pt x="43146" y="21600"/>
                </a:lnTo>
                <a:lnTo>
                  <a:pt x="41746" y="20200"/>
                </a:lnTo>
                <a:lnTo>
                  <a:pt x="41746" y="1400"/>
                </a:lnTo>
                <a:close/>
              </a:path>
              <a:path fill="darkenLess" w="43146" h="21600">
                <a:moveTo>
                  <a:pt x="43146" y="21600"/>
                </a:moveTo>
                <a:lnTo>
                  <a:pt x="0" y="21600"/>
                </a:lnTo>
                <a:lnTo>
                  <a:pt x="1400" y="20200"/>
                </a:lnTo>
                <a:lnTo>
                  <a:pt x="41746" y="20200"/>
                </a:lnTo>
                <a:close/>
              </a:path>
              <a:path fill="lighten" w="43146" h="21600">
                <a:moveTo>
                  <a:pt x="0" y="21600"/>
                </a:moveTo>
                <a:lnTo>
                  <a:pt x="0" y="0"/>
                </a:lnTo>
                <a:lnTo>
                  <a:pt x="1400" y="1400"/>
                </a:lnTo>
                <a:lnTo>
                  <a:pt x="1400" y="20200"/>
                </a:lnTo>
                <a:close/>
              </a:path>
              <a:path fill="darken" w="43146" h="21600">
                <a:moveTo>
                  <a:pt x="14566" y="10800"/>
                </a:moveTo>
                <a:lnTo>
                  <a:pt x="28579" y="3794"/>
                </a:lnTo>
                <a:lnTo>
                  <a:pt x="2857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Управляющая кнопка: далее 4">
            <a:hlinkClick r:id="" action="ppaction://hlinkshowjump?jump=nextslide"/>
          </p:cNvPr>
          <p:cNvSpPr/>
          <p:nvPr/>
        </p:nvSpPr>
        <p:spPr>
          <a:xfrm>
            <a:off x="7072200" y="6429240"/>
            <a:ext cx="571680" cy="285840"/>
          </a:xfrm>
          <a:custGeom>
            <a:avLst/>
            <a:gdLst>
              <a:gd name="textAreaLeft" fmla="*/ 18360 w 571680"/>
              <a:gd name="textAreaRight" fmla="*/ 553320 w 571680"/>
              <a:gd name="textAreaTop" fmla="*/ 18360 h 285840"/>
              <a:gd name="textAreaBottom" fmla="*/ 267480 h 285840"/>
            </a:gdLst>
            <a:ahLst/>
            <a:rect l="textAreaLeft" t="textAreaTop" r="textAreaRight" b="textAreaBottom"/>
            <a:pathLst>
              <a:path w="43173" h="21600">
                <a:moveTo>
                  <a:pt x="0" y="0"/>
                </a:moveTo>
                <a:lnTo>
                  <a:pt x="43173" y="0"/>
                </a:lnTo>
                <a:lnTo>
                  <a:pt x="43173" y="21600"/>
                </a:lnTo>
                <a:lnTo>
                  <a:pt x="0" y="21600"/>
                </a:lnTo>
                <a:close/>
              </a:path>
              <a:path fill="lightenLess" w="43173" h="21600">
                <a:moveTo>
                  <a:pt x="0" y="0"/>
                </a:moveTo>
                <a:lnTo>
                  <a:pt x="43173" y="0"/>
                </a:lnTo>
                <a:lnTo>
                  <a:pt x="41773" y="1400"/>
                </a:lnTo>
                <a:lnTo>
                  <a:pt x="1400" y="1400"/>
                </a:lnTo>
                <a:close/>
              </a:path>
              <a:path fill="darken" w="43173" h="21600">
                <a:moveTo>
                  <a:pt x="43173" y="0"/>
                </a:moveTo>
                <a:lnTo>
                  <a:pt x="43173" y="21600"/>
                </a:lnTo>
                <a:lnTo>
                  <a:pt x="41773" y="20200"/>
                </a:lnTo>
                <a:lnTo>
                  <a:pt x="41773" y="1400"/>
                </a:lnTo>
                <a:close/>
              </a:path>
              <a:path fill="darkenLess" w="43173" h="21600">
                <a:moveTo>
                  <a:pt x="43173" y="21600"/>
                </a:moveTo>
                <a:lnTo>
                  <a:pt x="0" y="21600"/>
                </a:lnTo>
                <a:lnTo>
                  <a:pt x="1400" y="20200"/>
                </a:lnTo>
                <a:lnTo>
                  <a:pt x="41773" y="20200"/>
                </a:lnTo>
                <a:close/>
              </a:path>
              <a:path fill="lighten" w="43173" h="21600">
                <a:moveTo>
                  <a:pt x="0" y="21600"/>
                </a:moveTo>
                <a:lnTo>
                  <a:pt x="0" y="0"/>
                </a:lnTo>
                <a:lnTo>
                  <a:pt x="1400" y="1400"/>
                </a:lnTo>
                <a:lnTo>
                  <a:pt x="1400" y="20200"/>
                </a:lnTo>
                <a:close/>
              </a:path>
              <a:path fill="darken" w="43173" h="21600">
                <a:moveTo>
                  <a:pt x="14580" y="3794"/>
                </a:moveTo>
                <a:lnTo>
                  <a:pt x="28593" y="10800"/>
                </a:lnTo>
                <a:lnTo>
                  <a:pt x="145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Управляющая кнопка: возврат 5">
            <a:hlinkClick r:id="rId1" action="ppaction://hlinksldjump"/>
          </p:cNvPr>
          <p:cNvSpPr/>
          <p:nvPr/>
        </p:nvSpPr>
        <p:spPr>
          <a:xfrm>
            <a:off x="7786800" y="64292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7493"/>
                </a:moveTo>
                <a:lnTo>
                  <a:pt x="12681" y="7493"/>
                </a:lnTo>
                <a:lnTo>
                  <a:pt x="12681" y="12828"/>
                </a:lnTo>
                <a:cubicBezTo>
                  <a:pt x="12681" y="13751"/>
                  <a:pt x="13481" y="14482"/>
                  <a:pt x="14517" y="14482"/>
                </a:cubicBezTo>
                <a:lnTo>
                  <a:pt x="16180" y="14482"/>
                </a:lnTo>
                <a:cubicBezTo>
                  <a:pt x="17215" y="14482"/>
                  <a:pt x="18016" y="13751"/>
                  <a:pt x="18016" y="12828"/>
                </a:cubicBezTo>
                <a:lnTo>
                  <a:pt x="18016" y="7493"/>
                </a:lnTo>
                <a:lnTo>
                  <a:pt x="16180" y="7493"/>
                </a:lnTo>
                <a:lnTo>
                  <a:pt x="19687" y="3985"/>
                </a:lnTo>
                <a:lnTo>
                  <a:pt x="23360" y="7493"/>
                </a:lnTo>
                <a:lnTo>
                  <a:pt x="21524" y="7493"/>
                </a:lnTo>
                <a:lnTo>
                  <a:pt x="21524" y="12828"/>
                </a:lnTo>
                <a:cubicBezTo>
                  <a:pt x="21524" y="15596"/>
                  <a:pt x="18947" y="18155"/>
                  <a:pt x="16180" y="18155"/>
                </a:cubicBezTo>
                <a:lnTo>
                  <a:pt x="14517" y="18155"/>
                </a:lnTo>
                <a:cubicBezTo>
                  <a:pt x="11749" y="18155"/>
                  <a:pt x="9173" y="15596"/>
                  <a:pt x="917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Управляющая кнопка: в начало 6">
            <a:hlinkClick r:id="rId2" action="ppaction://hlinksldjump"/>
          </p:cNvPr>
          <p:cNvSpPr/>
          <p:nvPr/>
        </p:nvSpPr>
        <p:spPr>
          <a:xfrm>
            <a:off x="8429760" y="64292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12681" y="10800"/>
                </a:moveTo>
                <a:lnTo>
                  <a:pt x="23186" y="3794"/>
                </a:lnTo>
                <a:lnTo>
                  <a:pt x="23186" y="17806"/>
                </a:lnTo>
                <a:close/>
              </a:path>
              <a:path fill="darken" w="32359" h="21600">
                <a:moveTo>
                  <a:pt x="9173" y="3794"/>
                </a:moveTo>
                <a:lnTo>
                  <a:pt x="10836" y="3794"/>
                </a:lnTo>
                <a:lnTo>
                  <a:pt x="10836" y="17806"/>
                </a:lnTo>
                <a:lnTo>
                  <a:pt x="917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1357200" y="573120"/>
            <a:ext cx="285768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004e6d"/>
                </a:solidFill>
                <a:latin typeface="Arial"/>
                <a:ea typeface="Times New Roman"/>
              </a:rPr>
              <a:t>Гамлет</a:t>
            </a:r>
            <a:endParaRPr b="0" lang="en-US" sz="2800" spc="-1" strike="noStrike">
              <a:solidFill>
                <a:srgbClr val="000000"/>
              </a:solidFill>
              <a:latin typeface="Arial"/>
            </a:endParaRPr>
          </a:p>
        </p:txBody>
      </p:sp>
      <p:sp>
        <p:nvSpPr>
          <p:cNvPr id="420" name="Прямоугольник 2"/>
          <p:cNvSpPr/>
          <p:nvPr/>
        </p:nvSpPr>
        <p:spPr>
          <a:xfrm>
            <a:off x="428760" y="1071720"/>
            <a:ext cx="8143920" cy="49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ния к стихотворению  (после прочт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йдём </a:t>
            </a:r>
            <a:r>
              <a:rPr b="1" lang="ru-RU" sz="2400" spc="-1" strike="noStrike">
                <a:solidFill>
                  <a:srgbClr val="000000"/>
                </a:solidFill>
                <a:latin typeface="Arial"/>
              </a:rPr>
              <a:t>пять</a:t>
            </a:r>
            <a:r>
              <a:rPr b="0" lang="ru-RU" sz="2400" spc="-1" strike="noStrike">
                <a:solidFill>
                  <a:srgbClr val="000000"/>
                </a:solidFill>
                <a:latin typeface="Arial"/>
              </a:rPr>
              <a:t> уровней, слоёв прочтения этого стихотвор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ому в прямом понимании принадлежат слова первой строки «Гул затих. Я вышел на подмостки» , первые две строки второй строфы, третьей строфы (слова «драма», «на меня наставлен сумрак ночи», «бинокли на оси»)?</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тите внимание на вторые части первой и второй строф. О ком говорится в них. Сравните с заголовком стихотворения?</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ой цитатой фактически является вторая часть второй строфы?</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помните, от чьего имени написано это стихотворени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 является настоящим его автором?</a:t>
            </a:r>
            <a:endParaRPr b="0" lang="en-US" sz="2000" spc="-1" strike="noStrike">
              <a:solidFill>
                <a:srgbClr val="000000"/>
              </a:solidFill>
              <a:latin typeface="Arial"/>
            </a:endParaRPr>
          </a:p>
        </p:txBody>
      </p:sp>
      <p:sp>
        <p:nvSpPr>
          <p:cNvPr id="421" name="Управляющая кнопка: документ 3"/>
          <p:cNvSpPr/>
          <p:nvPr/>
        </p:nvSpPr>
        <p:spPr>
          <a:xfrm>
            <a:off x="8358120" y="5500800"/>
            <a:ext cx="357120" cy="500040"/>
          </a:xfrm>
          <a:custGeom>
            <a:avLst/>
            <a:gdLst>
              <a:gd name="textAreaLeft" fmla="*/ 23040 w 357120"/>
              <a:gd name="textAreaRight" fmla="*/ 334080 w 357120"/>
              <a:gd name="textAreaTop" fmla="*/ 23040 h 500040"/>
              <a:gd name="textAreaBottom" fmla="*/ 477000 h 500040"/>
            </a:gdLst>
            <a:ahLst/>
            <a:rect l="textAreaLeft" t="textAreaTop" r="textAreaRight" b="textAreaBottom"/>
            <a:pathLst>
              <a:path w="21600" h="30236">
                <a:moveTo>
                  <a:pt x="0" y="0"/>
                </a:moveTo>
                <a:lnTo>
                  <a:pt x="21600" y="0"/>
                </a:lnTo>
                <a:lnTo>
                  <a:pt x="21600" y="30236"/>
                </a:lnTo>
                <a:lnTo>
                  <a:pt x="0" y="30236"/>
                </a:lnTo>
                <a:close/>
              </a:path>
              <a:path fill="lightenLess" w="21600" h="30236">
                <a:moveTo>
                  <a:pt x="0" y="0"/>
                </a:moveTo>
                <a:lnTo>
                  <a:pt x="21600" y="0"/>
                </a:lnTo>
                <a:lnTo>
                  <a:pt x="20200" y="1400"/>
                </a:lnTo>
                <a:lnTo>
                  <a:pt x="1400" y="1400"/>
                </a:lnTo>
                <a:close/>
              </a:path>
              <a:path fill="darken" w="21600" h="30236">
                <a:moveTo>
                  <a:pt x="21600" y="0"/>
                </a:moveTo>
                <a:lnTo>
                  <a:pt x="21600" y="30236"/>
                </a:lnTo>
                <a:lnTo>
                  <a:pt x="20200" y="28836"/>
                </a:lnTo>
                <a:lnTo>
                  <a:pt x="20200" y="1400"/>
                </a:lnTo>
                <a:close/>
              </a:path>
              <a:path fill="darkenLess" w="21600" h="30236">
                <a:moveTo>
                  <a:pt x="21600" y="30236"/>
                </a:moveTo>
                <a:lnTo>
                  <a:pt x="0" y="30236"/>
                </a:lnTo>
                <a:lnTo>
                  <a:pt x="1400" y="28836"/>
                </a:lnTo>
                <a:lnTo>
                  <a:pt x="20200" y="28836"/>
                </a:lnTo>
                <a:close/>
              </a:path>
              <a:path fill="lighten" w="21600" h="30236">
                <a:moveTo>
                  <a:pt x="0" y="30236"/>
                </a:moveTo>
                <a:lnTo>
                  <a:pt x="0" y="0"/>
                </a:lnTo>
                <a:lnTo>
                  <a:pt x="1400" y="1400"/>
                </a:lnTo>
                <a:lnTo>
                  <a:pt x="1400" y="28836"/>
                </a:lnTo>
                <a:close/>
              </a:path>
              <a:path fill="darkenLess" w="21600" h="30236">
                <a:moveTo>
                  <a:pt x="5273" y="8303"/>
                </a:moveTo>
                <a:lnTo>
                  <a:pt x="12271" y="8303"/>
                </a:lnTo>
                <a:lnTo>
                  <a:pt x="16327" y="11802"/>
                </a:lnTo>
                <a:lnTo>
                  <a:pt x="16327" y="21933"/>
                </a:lnTo>
                <a:lnTo>
                  <a:pt x="5273" y="21933"/>
                </a:lnTo>
                <a:close/>
              </a:path>
              <a:path fill="darken" w="21600" h="30236">
                <a:moveTo>
                  <a:pt x="12271" y="8303"/>
                </a:moveTo>
                <a:lnTo>
                  <a:pt x="16327" y="11802"/>
                </a:lnTo>
                <a:lnTo>
                  <a:pt x="12271" y="11802"/>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Управляющая кнопка: назад 4">
            <a:hlinkClick r:id="" action="ppaction://hlinkshowjump?jump=previousslide"/>
          </p:cNvPr>
          <p:cNvSpPr/>
          <p:nvPr/>
        </p:nvSpPr>
        <p:spPr>
          <a:xfrm>
            <a:off x="63579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10800"/>
                </a:moveTo>
                <a:lnTo>
                  <a:pt x="25913" y="3794"/>
                </a:lnTo>
                <a:lnTo>
                  <a:pt x="259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Управляющая кнопка: далее 5">
            <a:hlinkClick r:id="" action="ppaction://hlinkshowjump?jump=nextslide"/>
          </p:cNvPr>
          <p:cNvSpPr/>
          <p:nvPr/>
        </p:nvSpPr>
        <p:spPr>
          <a:xfrm>
            <a:off x="7072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Управляющая кнопка: в начало 6">
            <a:hlinkClick r:id="rId1" action="ppaction://hlinksldjump"/>
          </p:cNvPr>
          <p:cNvSpPr/>
          <p:nvPr/>
        </p:nvSpPr>
        <p:spPr>
          <a:xfrm>
            <a:off x="8501040" y="6286680"/>
            <a:ext cx="428760" cy="285480"/>
          </a:xfrm>
          <a:custGeom>
            <a:avLst/>
            <a:gdLst>
              <a:gd name="textAreaLeft" fmla="*/ 18360 w 428760"/>
              <a:gd name="textAreaRight" fmla="*/ 410400 w 428760"/>
              <a:gd name="textAreaTop" fmla="*/ 18360 h 285480"/>
              <a:gd name="textAreaBottom" fmla="*/ 267120 h 285480"/>
            </a:gdLst>
            <a:ahLst/>
            <a:rect l="textAreaLeft" t="textAreaTop" r="textAreaRight" b="textAreaBottom"/>
            <a:pathLst>
              <a:path w="32427" h="21600">
                <a:moveTo>
                  <a:pt x="0" y="0"/>
                </a:moveTo>
                <a:lnTo>
                  <a:pt x="32427" y="0"/>
                </a:lnTo>
                <a:lnTo>
                  <a:pt x="32427" y="21600"/>
                </a:lnTo>
                <a:lnTo>
                  <a:pt x="0" y="21600"/>
                </a:lnTo>
                <a:close/>
              </a:path>
              <a:path fill="lightenLess" w="32427" h="21600">
                <a:moveTo>
                  <a:pt x="0" y="0"/>
                </a:moveTo>
                <a:lnTo>
                  <a:pt x="32427" y="0"/>
                </a:lnTo>
                <a:lnTo>
                  <a:pt x="31027" y="1400"/>
                </a:lnTo>
                <a:lnTo>
                  <a:pt x="1400" y="1400"/>
                </a:lnTo>
                <a:close/>
              </a:path>
              <a:path fill="darken" w="32427" h="21600">
                <a:moveTo>
                  <a:pt x="32427" y="0"/>
                </a:moveTo>
                <a:lnTo>
                  <a:pt x="32427" y="21600"/>
                </a:lnTo>
                <a:lnTo>
                  <a:pt x="31027" y="20200"/>
                </a:lnTo>
                <a:lnTo>
                  <a:pt x="31027" y="1400"/>
                </a:lnTo>
                <a:close/>
              </a:path>
              <a:path fill="darkenLess" w="32427" h="21600">
                <a:moveTo>
                  <a:pt x="32427" y="21600"/>
                </a:moveTo>
                <a:lnTo>
                  <a:pt x="0" y="21600"/>
                </a:lnTo>
                <a:lnTo>
                  <a:pt x="1400" y="20200"/>
                </a:lnTo>
                <a:lnTo>
                  <a:pt x="31027" y="20200"/>
                </a:lnTo>
                <a:close/>
              </a:path>
              <a:path fill="lighten" w="32427" h="21600">
                <a:moveTo>
                  <a:pt x="0" y="21600"/>
                </a:moveTo>
                <a:lnTo>
                  <a:pt x="0" y="0"/>
                </a:lnTo>
                <a:lnTo>
                  <a:pt x="1400" y="1400"/>
                </a:lnTo>
                <a:lnTo>
                  <a:pt x="1400" y="20200"/>
                </a:lnTo>
                <a:close/>
              </a:path>
              <a:path fill="darken" w="32427" h="21600">
                <a:moveTo>
                  <a:pt x="12715" y="10800"/>
                </a:moveTo>
                <a:lnTo>
                  <a:pt x="23220" y="3794"/>
                </a:lnTo>
                <a:lnTo>
                  <a:pt x="23220" y="17806"/>
                </a:lnTo>
                <a:close/>
              </a:path>
              <a:path fill="darken" w="32427" h="21600">
                <a:moveTo>
                  <a:pt x="9207" y="3794"/>
                </a:moveTo>
                <a:lnTo>
                  <a:pt x="10870" y="3794"/>
                </a:lnTo>
                <a:lnTo>
                  <a:pt x="10870" y="17806"/>
                </a:lnTo>
                <a:lnTo>
                  <a:pt x="920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Управляющая кнопка: возврат 7">
            <a:hlinkClick r:id="rId2" action="ppaction://hlinksldjump"/>
          </p:cNvPr>
          <p:cNvSpPr/>
          <p:nvPr/>
        </p:nvSpPr>
        <p:spPr>
          <a:xfrm>
            <a:off x="7786800" y="6286680"/>
            <a:ext cx="428400" cy="285480"/>
          </a:xfrm>
          <a:custGeom>
            <a:avLst/>
            <a:gdLst>
              <a:gd name="textAreaLeft" fmla="*/ 18360 w 428400"/>
              <a:gd name="textAreaRight" fmla="*/ 410040 w 428400"/>
              <a:gd name="textAreaTop" fmla="*/ 18360 h 285480"/>
              <a:gd name="textAreaBottom" fmla="*/ 267120 h 285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420">
                                            <p:txEl>
                                              <p:pRg st="0" end="0"/>
                                            </p:txEl>
                                          </p:spTgt>
                                        </p:tgtEl>
                                        <p:attrNameLst>
                                          <p:attrName>style.visibility</p:attrName>
                                        </p:attrNameLst>
                                      </p:cBhvr>
                                      <p:to>
                                        <p:strVal val="visible"/>
                                      </p:to>
                                    </p:set>
                                    <p:animEffect filter="wipe(up)" transition="in">
                                      <p:cBhvr additive="repl">
                                        <p:cTn id="166" dur="500"/>
                                        <p:tgtEl>
                                          <p:spTgt spid="420">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420">
                                            <p:txEl>
                                              <p:pRg st="2" end="2"/>
                                            </p:txEl>
                                          </p:spTgt>
                                        </p:tgtEl>
                                        <p:attrNameLst>
                                          <p:attrName>style.visibility</p:attrName>
                                        </p:attrNameLst>
                                      </p:cBhvr>
                                      <p:to>
                                        <p:strVal val="visible"/>
                                      </p:to>
                                    </p:set>
                                    <p:animEffect filter="wipe(up)" transition="in">
                                      <p:cBhvr additive="repl">
                                        <p:cTn id="171" dur="500"/>
                                        <p:tgtEl>
                                          <p:spTgt spid="420">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420">
                                            <p:txEl>
                                              <p:pRg st="4" end="4"/>
                                            </p:txEl>
                                          </p:spTgt>
                                        </p:tgtEl>
                                        <p:attrNameLst>
                                          <p:attrName>style.visibility</p:attrName>
                                        </p:attrNameLst>
                                      </p:cBhvr>
                                      <p:to>
                                        <p:strVal val="visible"/>
                                      </p:to>
                                    </p:set>
                                    <p:animEffect filter="wipe(up)" transition="in">
                                      <p:cBhvr additive="repl">
                                        <p:cTn id="176" dur="500"/>
                                        <p:tgtEl>
                                          <p:spTgt spid="42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420">
                                            <p:txEl>
                                              <p:pRg st="5" end="5"/>
                                            </p:txEl>
                                          </p:spTgt>
                                        </p:tgtEl>
                                        <p:attrNameLst>
                                          <p:attrName>style.visibility</p:attrName>
                                        </p:attrNameLst>
                                      </p:cBhvr>
                                      <p:to>
                                        <p:strVal val="visible"/>
                                      </p:to>
                                    </p:set>
                                    <p:animEffect filter="wipe(up)" transition="in">
                                      <p:cBhvr additive="repl">
                                        <p:cTn id="181" dur="500"/>
                                        <p:tgtEl>
                                          <p:spTgt spid="420">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420">
                                            <p:txEl>
                                              <p:pRg st="6" end="6"/>
                                            </p:txEl>
                                          </p:spTgt>
                                        </p:tgtEl>
                                        <p:attrNameLst>
                                          <p:attrName>style.visibility</p:attrName>
                                        </p:attrNameLst>
                                      </p:cBhvr>
                                      <p:to>
                                        <p:strVal val="visible"/>
                                      </p:to>
                                    </p:set>
                                    <p:animEffect filter="wipe(up)" transition="in">
                                      <p:cBhvr additive="repl">
                                        <p:cTn id="186" dur="500"/>
                                        <p:tgtEl>
                                          <p:spTgt spid="420">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420">
                                            <p:txEl>
                                              <p:pRg st="7" end="7"/>
                                            </p:txEl>
                                          </p:spTgt>
                                        </p:tgtEl>
                                        <p:attrNameLst>
                                          <p:attrName>style.visibility</p:attrName>
                                        </p:attrNameLst>
                                      </p:cBhvr>
                                      <p:to>
                                        <p:strVal val="visible"/>
                                      </p:to>
                                    </p:set>
                                    <p:animEffect filter="wipe(up)" transition="in">
                                      <p:cBhvr additive="repl">
                                        <p:cTn id="191" dur="500"/>
                                        <p:tgtEl>
                                          <p:spTgt spid="420">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20">
                                            <p:txEl>
                                              <p:pRg st="8" end="8"/>
                                            </p:txEl>
                                          </p:spTgt>
                                        </p:tgtEl>
                                        <p:attrNameLst>
                                          <p:attrName>style.visibility</p:attrName>
                                        </p:attrNameLst>
                                      </p:cBhvr>
                                      <p:to>
                                        <p:strVal val="visible"/>
                                      </p:to>
                                    </p:set>
                                    <p:animEffect filter="wipe(up)" transition="in">
                                      <p:cBhvr additive="repl">
                                        <p:cTn id="196" dur="500"/>
                                        <p:tgtEl>
                                          <p:spTgt spid="4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Прямоугольник 1"/>
          <p:cNvSpPr/>
          <p:nvPr/>
        </p:nvSpPr>
        <p:spPr>
          <a:xfrm>
            <a:off x="642960" y="1357200"/>
            <a:ext cx="8001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делайте вывод о пяти носителях авторского «я» в этом стихотворении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актёре</a:t>
            </a:r>
            <a:r>
              <a:rPr b="0" lang="ru-RU" sz="2000" spc="-1" strike="noStrike">
                <a:solidFill>
                  <a:srgbClr val="000000"/>
                </a:solidFill>
                <a:latin typeface="Arial"/>
              </a:rPr>
              <a:t>, играющем роль Гамлет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Гамлете</a:t>
            </a:r>
            <a:r>
              <a:rPr b="0" lang="ru-RU" sz="2000" spc="-1" strike="noStrike">
                <a:solidFill>
                  <a:srgbClr val="000000"/>
                </a:solidFill>
                <a:latin typeface="Arial"/>
              </a:rPr>
              <a:t> , размышляющем о своём предназначении,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ристе</a:t>
            </a:r>
            <a:r>
              <a:rPr b="0" lang="ru-RU" sz="2000" spc="-1" strike="noStrike">
                <a:solidFill>
                  <a:srgbClr val="000000"/>
                </a:solidFill>
                <a:latin typeface="Arial"/>
              </a:rPr>
              <a:t>, который знает о предстоящем ему крестном пути,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Юрии Живаго</a:t>
            </a:r>
            <a:r>
              <a:rPr b="0" lang="ru-RU" sz="2000" spc="-1" strike="noStrike">
                <a:solidFill>
                  <a:srgbClr val="000000"/>
                </a:solidFill>
                <a:latin typeface="Arial"/>
              </a:rPr>
              <a:t>, прозревающем свои страдания и гибель,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a:t>
            </a:r>
            <a:r>
              <a:rPr b="1" lang="ru-RU" sz="2000" spc="-1" strike="noStrike">
                <a:solidFill>
                  <a:srgbClr val="000000"/>
                </a:solidFill>
                <a:latin typeface="Arial"/>
              </a:rPr>
              <a:t>Пастернаке</a:t>
            </a:r>
            <a:r>
              <a:rPr b="0" lang="ru-RU" sz="2000" spc="-1" strike="noStrike">
                <a:solidFill>
                  <a:srgbClr val="000000"/>
                </a:solidFill>
                <a:latin typeface="Arial"/>
              </a:rPr>
              <a:t>, знавшем, что власть не простит ему его роман.</a:t>
            </a:r>
            <a:endParaRPr b="0" lang="en-US" sz="2000" spc="-1" strike="noStrike">
              <a:solidFill>
                <a:srgbClr val="000000"/>
              </a:solidFill>
              <a:latin typeface="Arial"/>
            </a:endParaRPr>
          </a:p>
        </p:txBody>
      </p:sp>
      <p:sp>
        <p:nvSpPr>
          <p:cNvPr id="427" name="Rectangle 3"/>
          <p:cNvSpPr/>
          <p:nvPr/>
        </p:nvSpPr>
        <p:spPr>
          <a:xfrm>
            <a:off x="785880" y="573120"/>
            <a:ext cx="285732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004e6d"/>
                </a:solidFill>
                <a:latin typeface="Arial"/>
                <a:ea typeface="Times New Roman"/>
              </a:rPr>
              <a:t>Гамлет</a:t>
            </a:r>
            <a:endParaRPr b="0" lang="en-US" sz="2800" spc="-1" strike="noStrike">
              <a:solidFill>
                <a:srgbClr val="000000"/>
              </a:solidFill>
              <a:latin typeface="Arial"/>
            </a:endParaRPr>
          </a:p>
        </p:txBody>
      </p:sp>
      <p:sp>
        <p:nvSpPr>
          <p:cNvPr id="428" name="Управляющая кнопка: документ 4"/>
          <p:cNvSpPr/>
          <p:nvPr/>
        </p:nvSpPr>
        <p:spPr>
          <a:xfrm>
            <a:off x="8501040" y="5643720"/>
            <a:ext cx="357120" cy="428400"/>
          </a:xfrm>
          <a:custGeom>
            <a:avLst/>
            <a:gdLst>
              <a:gd name="textAreaLeft" fmla="*/ 23040 w 357120"/>
              <a:gd name="textAreaRight" fmla="*/ 334080 w 357120"/>
              <a:gd name="textAreaTop" fmla="*/ 23040 h 428400"/>
              <a:gd name="textAreaBottom" fmla="*/ 405360 h 428400"/>
            </a:gdLst>
            <a:ahLst/>
            <a:rect l="textAreaLeft" t="textAreaTop" r="textAreaRight" b="textAreaBottom"/>
            <a:pathLst>
              <a:path w="21600" h="25907">
                <a:moveTo>
                  <a:pt x="0" y="0"/>
                </a:moveTo>
                <a:lnTo>
                  <a:pt x="21600" y="0"/>
                </a:lnTo>
                <a:lnTo>
                  <a:pt x="21600" y="25907"/>
                </a:lnTo>
                <a:lnTo>
                  <a:pt x="0" y="25907"/>
                </a:lnTo>
                <a:close/>
              </a:path>
              <a:path fill="lightenLess" w="21600" h="25907">
                <a:moveTo>
                  <a:pt x="0" y="0"/>
                </a:moveTo>
                <a:lnTo>
                  <a:pt x="21600" y="0"/>
                </a:lnTo>
                <a:lnTo>
                  <a:pt x="20200" y="1400"/>
                </a:lnTo>
                <a:lnTo>
                  <a:pt x="1400" y="1400"/>
                </a:lnTo>
                <a:close/>
              </a:path>
              <a:path fill="darken" w="21600" h="25907">
                <a:moveTo>
                  <a:pt x="21600" y="0"/>
                </a:moveTo>
                <a:lnTo>
                  <a:pt x="21600" y="25907"/>
                </a:lnTo>
                <a:lnTo>
                  <a:pt x="20200" y="24507"/>
                </a:lnTo>
                <a:lnTo>
                  <a:pt x="20200" y="1400"/>
                </a:lnTo>
                <a:close/>
              </a:path>
              <a:path fill="darkenLess" w="21600" h="25907">
                <a:moveTo>
                  <a:pt x="21600" y="25907"/>
                </a:moveTo>
                <a:lnTo>
                  <a:pt x="0" y="25907"/>
                </a:lnTo>
                <a:lnTo>
                  <a:pt x="1400" y="24507"/>
                </a:lnTo>
                <a:lnTo>
                  <a:pt x="20200" y="24507"/>
                </a:lnTo>
                <a:close/>
              </a:path>
              <a:path fill="lighten" w="21600" h="25907">
                <a:moveTo>
                  <a:pt x="0" y="25907"/>
                </a:moveTo>
                <a:lnTo>
                  <a:pt x="0" y="0"/>
                </a:lnTo>
                <a:lnTo>
                  <a:pt x="1400" y="1400"/>
                </a:lnTo>
                <a:lnTo>
                  <a:pt x="1400" y="24507"/>
                </a:lnTo>
                <a:close/>
              </a:path>
              <a:path fill="darkenLess" w="21600" h="25907">
                <a:moveTo>
                  <a:pt x="5273" y="6138"/>
                </a:moveTo>
                <a:lnTo>
                  <a:pt x="12271" y="6138"/>
                </a:lnTo>
                <a:lnTo>
                  <a:pt x="16327" y="9637"/>
                </a:lnTo>
                <a:lnTo>
                  <a:pt x="16327" y="19768"/>
                </a:lnTo>
                <a:lnTo>
                  <a:pt x="5273" y="19768"/>
                </a:lnTo>
                <a:close/>
              </a:path>
              <a:path fill="darken" w="21600" h="25907">
                <a:moveTo>
                  <a:pt x="12271" y="6138"/>
                </a:moveTo>
                <a:lnTo>
                  <a:pt x="16327" y="9637"/>
                </a:lnTo>
                <a:lnTo>
                  <a:pt x="12271" y="9637"/>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1" descr=""/>
          <p:cNvPicPr/>
          <p:nvPr/>
        </p:nvPicPr>
        <p:blipFill>
          <a:blip r:embed="rId1"/>
          <a:stretch/>
        </p:blipFill>
        <p:spPr>
          <a:xfrm>
            <a:off x="642960" y="3643200"/>
            <a:ext cx="5014800" cy="2714760"/>
          </a:xfrm>
          <a:prstGeom prst="rect">
            <a:avLst/>
          </a:prstGeom>
          <a:ln w="0">
            <a:noFill/>
          </a:ln>
        </p:spPr>
      </p:pic>
      <p:sp>
        <p:nvSpPr>
          <p:cNvPr id="430" name="Управляющая кнопка: назад 6">
            <a:hlinkClick r:id="" action="ppaction://hlinkshowjump?jump=previousslide"/>
          </p:cNvPr>
          <p:cNvSpPr/>
          <p:nvPr/>
        </p:nvSpPr>
        <p:spPr>
          <a:xfrm>
            <a:off x="657216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Управляющая кнопка: далее 7">
            <a:hlinkClick r:id="" action="ppaction://hlinkshowjump?jump=nextslide"/>
          </p:cNvPr>
          <p:cNvSpPr/>
          <p:nvPr/>
        </p:nvSpPr>
        <p:spPr>
          <a:xfrm>
            <a:off x="728676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3794"/>
                </a:moveTo>
                <a:lnTo>
                  <a:pt x="23186" y="10800"/>
                </a:lnTo>
                <a:lnTo>
                  <a:pt x="917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Управляющая кнопка: возврат 8">
            <a:hlinkClick r:id="rId2" action="ppaction://hlinksldjump"/>
          </p:cNvPr>
          <p:cNvSpPr/>
          <p:nvPr/>
        </p:nvSpPr>
        <p:spPr>
          <a:xfrm>
            <a:off x="792972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7493"/>
                </a:moveTo>
                <a:lnTo>
                  <a:pt x="12681" y="7493"/>
                </a:lnTo>
                <a:lnTo>
                  <a:pt x="12681" y="12828"/>
                </a:lnTo>
                <a:cubicBezTo>
                  <a:pt x="12681" y="13751"/>
                  <a:pt x="13481" y="14482"/>
                  <a:pt x="14517" y="14482"/>
                </a:cubicBezTo>
                <a:lnTo>
                  <a:pt x="16180" y="14482"/>
                </a:lnTo>
                <a:cubicBezTo>
                  <a:pt x="17215" y="14482"/>
                  <a:pt x="18016" y="13751"/>
                  <a:pt x="18016" y="12828"/>
                </a:cubicBezTo>
                <a:lnTo>
                  <a:pt x="18016" y="7493"/>
                </a:lnTo>
                <a:lnTo>
                  <a:pt x="16180" y="7493"/>
                </a:lnTo>
                <a:lnTo>
                  <a:pt x="19687" y="3985"/>
                </a:lnTo>
                <a:lnTo>
                  <a:pt x="23360" y="7493"/>
                </a:lnTo>
                <a:lnTo>
                  <a:pt x="21524" y="7493"/>
                </a:lnTo>
                <a:lnTo>
                  <a:pt x="21524" y="12828"/>
                </a:lnTo>
                <a:cubicBezTo>
                  <a:pt x="21524" y="15596"/>
                  <a:pt x="18947" y="18155"/>
                  <a:pt x="16180" y="18155"/>
                </a:cubicBezTo>
                <a:lnTo>
                  <a:pt x="14517" y="18155"/>
                </a:lnTo>
                <a:cubicBezTo>
                  <a:pt x="11749" y="18155"/>
                  <a:pt x="9173" y="15596"/>
                  <a:pt x="917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Управляющая кнопка: в начало 9">
            <a:hlinkClick r:id="rId3" action="ppaction://hlinksldjump"/>
          </p:cNvPr>
          <p:cNvSpPr/>
          <p:nvPr/>
        </p:nvSpPr>
        <p:spPr>
          <a:xfrm>
            <a:off x="8572680" y="6357960"/>
            <a:ext cx="357120" cy="285840"/>
          </a:xfrm>
          <a:custGeom>
            <a:avLst/>
            <a:gdLst>
              <a:gd name="textAreaLeft" fmla="*/ 18360 w 357120"/>
              <a:gd name="textAreaRight" fmla="*/ 338760 w 357120"/>
              <a:gd name="textAreaTop" fmla="*/ 18360 h 285840"/>
              <a:gd name="textAreaBottom" fmla="*/ 267480 h 28584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9991" y="10800"/>
                </a:moveTo>
                <a:lnTo>
                  <a:pt x="20496" y="3794"/>
                </a:lnTo>
                <a:lnTo>
                  <a:pt x="20496" y="17806"/>
                </a:lnTo>
                <a:close/>
              </a:path>
              <a:path fill="darken" w="26980" h="21600">
                <a:moveTo>
                  <a:pt x="6483" y="3794"/>
                </a:moveTo>
                <a:lnTo>
                  <a:pt x="8146" y="3794"/>
                </a:lnTo>
                <a:lnTo>
                  <a:pt x="8146" y="17806"/>
                </a:lnTo>
                <a:lnTo>
                  <a:pt x="648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Приём очеловечивания природы </a:t>
            </a:r>
            <a:endParaRPr b="0" lang="en-US" sz="3600" spc="-1" strike="noStrike">
              <a:solidFill>
                <a:srgbClr val="000000"/>
              </a:solidFill>
              <a:latin typeface="Arial"/>
            </a:endParaRPr>
          </a:p>
        </p:txBody>
      </p:sp>
      <p:sp>
        <p:nvSpPr>
          <p:cNvPr id="435" name="Прямоугольник 1"/>
          <p:cNvSpPr/>
          <p:nvPr/>
        </p:nvSpPr>
        <p:spPr>
          <a:xfrm>
            <a:off x="571680" y="164304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рика Пастернака отличается </a:t>
            </a:r>
            <a:r>
              <a:rPr b="1" lang="ru-RU" sz="2400" spc="-1" strike="noStrike">
                <a:solidFill>
                  <a:srgbClr val="000000"/>
                </a:solidFill>
                <a:latin typeface="Arial"/>
              </a:rPr>
              <a:t>интенсивностью использования этого приёма</a:t>
            </a:r>
            <a:r>
              <a:rPr b="0" lang="ru-RU" sz="2400" spc="-1" strike="noStrike">
                <a:solidFill>
                  <a:srgbClr val="000000"/>
                </a:solidFill>
                <a:latin typeface="Arial"/>
              </a:rPr>
              <a:t>.  Поэт </a:t>
            </a:r>
            <a:r>
              <a:rPr b="1" lang="ru-RU" sz="2400" spc="-1" strike="noStrike">
                <a:solidFill>
                  <a:srgbClr val="000000"/>
                </a:solidFill>
                <a:latin typeface="Arial"/>
              </a:rPr>
              <a:t>очеловечивает</a:t>
            </a:r>
            <a:r>
              <a:rPr b="0" lang="ru-RU" sz="2400" spc="-1" strike="noStrike">
                <a:solidFill>
                  <a:srgbClr val="000000"/>
                </a:solidFill>
                <a:latin typeface="Arial"/>
              </a:rPr>
              <a:t> всё в природе – лес, каждое отдельное дерево, птицу, явления природы, зарю, ночь, осень, зиму, солнце, звезду, планеты… </a:t>
            </a:r>
            <a:r>
              <a:rPr b="1" lang="ru-RU" sz="2400" spc="-1" strike="noStrike">
                <a:solidFill>
                  <a:srgbClr val="000000"/>
                </a:solidFill>
                <a:latin typeface="Arial"/>
              </a:rPr>
              <a:t>Природа олицетворяется </a:t>
            </a:r>
            <a:r>
              <a:rPr b="0" lang="ru-RU" sz="2400" spc="-1" strike="noStrike">
                <a:solidFill>
                  <a:srgbClr val="000000"/>
                </a:solidFill>
                <a:latin typeface="Arial"/>
              </a:rPr>
              <a:t>в человеческой смерти: «погребённая земля». В поэзии Пастернака </a:t>
            </a:r>
            <a:r>
              <a:rPr b="1" lang="ru-RU" sz="2400" spc="-1" strike="noStrike">
                <a:solidFill>
                  <a:srgbClr val="000000"/>
                </a:solidFill>
                <a:latin typeface="Arial"/>
              </a:rPr>
              <a:t>природа и человек являются равноправными участниками мироздания</a:t>
            </a:r>
            <a:r>
              <a:rPr b="0" lang="ru-RU" sz="2400" spc="-1" strike="noStrike">
                <a:solidFill>
                  <a:srgbClr val="000000"/>
                </a:solidFill>
                <a:latin typeface="Arial"/>
              </a:rPr>
              <a:t>. Такое уравнивание человека и природы уходит корнями в фольклор, миф, глубины народного миропонимания.</a:t>
            </a:r>
            <a:endParaRPr b="0" lang="en-US" sz="2400" spc="-1" strike="noStrike">
              <a:solidFill>
                <a:srgbClr val="000000"/>
              </a:solidFill>
              <a:latin typeface="Arial"/>
            </a:endParaRPr>
          </a:p>
        </p:txBody>
      </p:sp>
      <p:sp>
        <p:nvSpPr>
          <p:cNvPr id="436" name="Управляющая кнопка: назад 3">
            <a:hlinkClick r:id="" action="ppaction://hlinkshowjump?jump=previousslide"/>
          </p:cNvPr>
          <p:cNvSpPr/>
          <p:nvPr/>
        </p:nvSpPr>
        <p:spPr>
          <a:xfrm>
            <a:off x="628668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4539" y="10800"/>
                </a:moveTo>
                <a:lnTo>
                  <a:pt x="28552" y="3794"/>
                </a:lnTo>
                <a:lnTo>
                  <a:pt x="285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Управляющая кнопка: далее 4">
            <a:hlinkClick r:id="" action="ppaction://hlinkshowjump?jump=nextslide"/>
          </p:cNvPr>
          <p:cNvSpPr/>
          <p:nvPr/>
        </p:nvSpPr>
        <p:spPr>
          <a:xfrm>
            <a:off x="692928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3794"/>
                </a:moveTo>
                <a:lnTo>
                  <a:pt x="28570" y="10800"/>
                </a:lnTo>
                <a:lnTo>
                  <a:pt x="1455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Управляющая кнопка: возврат 5">
            <a:hlinkClick r:id="rId1" action="ppaction://hlinksldjump"/>
          </p:cNvPr>
          <p:cNvSpPr/>
          <p:nvPr/>
        </p:nvSpPr>
        <p:spPr>
          <a:xfrm>
            <a:off x="757224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7493"/>
                </a:moveTo>
                <a:lnTo>
                  <a:pt x="18065" y="7493"/>
                </a:lnTo>
                <a:lnTo>
                  <a:pt x="18065" y="12828"/>
                </a:lnTo>
                <a:cubicBezTo>
                  <a:pt x="18065" y="13751"/>
                  <a:pt x="18866" y="14482"/>
                  <a:pt x="19901" y="14482"/>
                </a:cubicBezTo>
                <a:lnTo>
                  <a:pt x="21564" y="14482"/>
                </a:lnTo>
                <a:cubicBezTo>
                  <a:pt x="22600" y="14482"/>
                  <a:pt x="23400" y="13751"/>
                  <a:pt x="23400" y="12828"/>
                </a:cubicBezTo>
                <a:lnTo>
                  <a:pt x="23400" y="7493"/>
                </a:lnTo>
                <a:lnTo>
                  <a:pt x="21564" y="7493"/>
                </a:lnTo>
                <a:lnTo>
                  <a:pt x="25071" y="3985"/>
                </a:lnTo>
                <a:lnTo>
                  <a:pt x="28744" y="7493"/>
                </a:lnTo>
                <a:lnTo>
                  <a:pt x="26908" y="7493"/>
                </a:lnTo>
                <a:lnTo>
                  <a:pt x="26908" y="12828"/>
                </a:lnTo>
                <a:cubicBezTo>
                  <a:pt x="26908" y="15596"/>
                  <a:pt x="24332" y="18155"/>
                  <a:pt x="21564" y="18155"/>
                </a:cubicBezTo>
                <a:lnTo>
                  <a:pt x="19901" y="18155"/>
                </a:lnTo>
                <a:cubicBezTo>
                  <a:pt x="17134" y="18155"/>
                  <a:pt x="14557" y="15596"/>
                  <a:pt x="1455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Управляющая кнопка: в начало 6">
            <a:hlinkClick r:id="rId2" action="ppaction://hlinksldjump"/>
          </p:cNvPr>
          <p:cNvSpPr/>
          <p:nvPr/>
        </p:nvSpPr>
        <p:spPr>
          <a:xfrm>
            <a:off x="828684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8047" y="10800"/>
                </a:moveTo>
                <a:lnTo>
                  <a:pt x="28552" y="3794"/>
                </a:lnTo>
                <a:lnTo>
                  <a:pt x="28552" y="17806"/>
                </a:lnTo>
                <a:close/>
              </a:path>
              <a:path fill="darken" w="43091" h="21600">
                <a:moveTo>
                  <a:pt x="14539" y="3794"/>
                </a:moveTo>
                <a:lnTo>
                  <a:pt x="16202" y="3794"/>
                </a:lnTo>
                <a:lnTo>
                  <a:pt x="16202" y="17806"/>
                </a:lnTo>
                <a:lnTo>
                  <a:pt x="145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500040" y="578160"/>
            <a:ext cx="52862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Тенистая полночь стоит на пут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а шлях навалилась звездам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через дорогу за тын перейт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ельзя, не топча мирозданья.</a:t>
            </a:r>
            <a:endParaRPr b="0" lang="en-US" sz="2400" spc="-1" strike="noStrike">
              <a:solidFill>
                <a:srgbClr val="000000"/>
              </a:solidFill>
              <a:latin typeface="Arial"/>
            </a:endParaRPr>
          </a:p>
        </p:txBody>
      </p:sp>
      <p:sp>
        <p:nvSpPr>
          <p:cNvPr id="441" name="Прямоугольник 2"/>
          <p:cNvSpPr/>
          <p:nvPr/>
        </p:nvSpPr>
        <p:spPr>
          <a:xfrm>
            <a:off x="357120" y="2357280"/>
            <a:ext cx="4357800" cy="29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равните по размерам ночь и сельскую дорогу (шлях). Сделайте вывод о соотношении части и целого в поэзии Пастернака.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каких отношениях находятся человек и мироздание в этом стихотворении?</a:t>
            </a:r>
            <a:endParaRPr b="0" lang="en-US" sz="2000" spc="-1" strike="noStrike">
              <a:solidFill>
                <a:srgbClr val="000000"/>
              </a:solidFill>
              <a:latin typeface="Arial"/>
            </a:endParaRPr>
          </a:p>
        </p:txBody>
      </p:sp>
      <p:pic>
        <p:nvPicPr>
          <p:cNvPr id="442" name="Picture 1" descr="d:\Мои документы\Для уроков литературы\Пастернак\фото  пастернак\Ван Гог звездная ночь.jpg"/>
          <p:cNvPicPr/>
          <p:nvPr/>
        </p:nvPicPr>
        <p:blipFill>
          <a:blip r:embed="rId1"/>
          <a:stretch/>
        </p:blipFill>
        <p:spPr>
          <a:xfrm>
            <a:off x="4929120" y="1928880"/>
            <a:ext cx="3783240" cy="3357360"/>
          </a:xfrm>
          <a:prstGeom prst="rect">
            <a:avLst/>
          </a:prstGeom>
          <a:ln w="0">
            <a:noFill/>
          </a:ln>
        </p:spPr>
      </p:pic>
      <p:sp>
        <p:nvSpPr>
          <p:cNvPr id="443" name="TextBox 4"/>
          <p:cNvSpPr/>
          <p:nvPr/>
        </p:nvSpPr>
        <p:spPr>
          <a:xfrm>
            <a:off x="5000760" y="5286240"/>
            <a:ext cx="3714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н Гог. Звёздная ноч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441">
                                            <p:txEl>
                                              <p:pRg st="0" end="0"/>
                                            </p:txEl>
                                          </p:spTgt>
                                        </p:tgtEl>
                                        <p:attrNameLst>
                                          <p:attrName>style.visibility</p:attrName>
                                        </p:attrNameLst>
                                      </p:cBhvr>
                                      <p:to>
                                        <p:strVal val="visible"/>
                                      </p:to>
                                    </p:set>
                                    <p:animEffect filter="wipe(up)" transition="in">
                                      <p:cBhvr additive="repl">
                                        <p:cTn id="203" dur="500"/>
                                        <p:tgtEl>
                                          <p:spTgt spid="4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441">
                                            <p:txEl>
                                              <p:pRg st="2" end="2"/>
                                            </p:txEl>
                                          </p:spTgt>
                                        </p:tgtEl>
                                        <p:attrNameLst>
                                          <p:attrName>style.visibility</p:attrName>
                                        </p:attrNameLst>
                                      </p:cBhvr>
                                      <p:to>
                                        <p:strVal val="visible"/>
                                      </p:to>
                                    </p:set>
                                    <p:animEffect filter="wipe(up)" transition="in">
                                      <p:cBhvr additive="repl">
                                        <p:cTn id="208" dur="500"/>
                                        <p:tgtEl>
                                          <p:spTgt spid="441">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441">
                                            <p:txEl>
                                              <p:pRg st="3" end="3"/>
                                            </p:txEl>
                                          </p:spTgt>
                                        </p:tgtEl>
                                        <p:attrNameLst>
                                          <p:attrName>style.visibility</p:attrName>
                                        </p:attrNameLst>
                                      </p:cBhvr>
                                      <p:to>
                                        <p:strVal val="visible"/>
                                      </p:to>
                                    </p:set>
                                    <p:animEffect filter="wipe(up)" transition="in">
                                      <p:cBhvr additive="repl">
                                        <p:cTn id="213" dur="500"/>
                                        <p:tgtEl>
                                          <p:spTgt spid="4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етство. Семья.</a:t>
            </a:r>
            <a:endParaRPr b="0" lang="en-US" sz="5000" spc="-1" strike="noStrike">
              <a:solidFill>
                <a:srgbClr val="04617b"/>
              </a:solidFill>
              <a:latin typeface="Calibri"/>
            </a:endParaRPr>
          </a:p>
        </p:txBody>
      </p:sp>
      <p:sp>
        <p:nvSpPr>
          <p:cNvPr id="206" name=""/>
          <p:cNvSpPr txBox="1"/>
          <p:nvPr/>
        </p:nvSpPr>
        <p:spPr>
          <a:xfrm>
            <a:off x="380880" y="1294920"/>
            <a:ext cx="1905120" cy="48769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одился 29 января (10 февраля н.с.) 1890 года в Москве в семье известного художника. С детства будущего поэта окружали музыка, живопись, литература. </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07" name="Picture 2" descr="d:\Мои документы\Для уроков литературы\Пастернак\фото о пастернаке\1918-ochak-vse2.jpg"/>
          <p:cNvPicPr/>
          <p:nvPr/>
        </p:nvPicPr>
        <p:blipFill>
          <a:blip r:embed="rId1"/>
          <a:stretch/>
        </p:blipFill>
        <p:spPr>
          <a:xfrm>
            <a:off x="2590920" y="1295280"/>
            <a:ext cx="6086520" cy="4267440"/>
          </a:xfrm>
          <a:prstGeom prst="rect">
            <a:avLst/>
          </a:prstGeom>
          <a:ln w="0">
            <a:noFill/>
          </a:ln>
        </p:spPr>
      </p:pic>
      <p:sp>
        <p:nvSpPr>
          <p:cNvPr id="208" name="TextBox 5"/>
          <p:cNvSpPr/>
          <p:nvPr/>
        </p:nvSpPr>
        <p:spPr>
          <a:xfrm>
            <a:off x="2464560" y="5715000"/>
            <a:ext cx="585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ья Пастернака: слева отец  - Леонид Пастерн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ядом мать – Розалия Пастернак</a:t>
            </a:r>
            <a:endParaRPr b="0" lang="en-US" sz="1800" spc="-1" strike="noStrike">
              <a:solidFill>
                <a:srgbClr val="000000"/>
              </a:solidFill>
              <a:latin typeface="Arial"/>
            </a:endParaRPr>
          </a:p>
        </p:txBody>
      </p:sp>
      <p:sp>
        <p:nvSpPr>
          <p:cNvPr id="209" name="Управляющая кнопка: назад 6">
            <a:hlinkClick r:id="" action="ppaction://hlinkshowjump?jump=previousslide"/>
          </p:cNvPr>
          <p:cNvSpPr/>
          <p:nvPr/>
        </p:nvSpPr>
        <p:spPr>
          <a:xfrm>
            <a:off x="66294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Управляющая кнопка: далее 7">
            <a:hlinkClick r:id="" action="ppaction://hlinkshowjump?jump=nextslide"/>
          </p:cNvPr>
          <p:cNvSpPr/>
          <p:nvPr/>
        </p:nvSpPr>
        <p:spPr>
          <a:xfrm>
            <a:off x="74674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Управляющая кнопка: в начало 8">
            <a:hlinkClick r:id="rId2" action="ppaction://hlinksldjump"/>
          </p:cNvPr>
          <p:cNvSpPr/>
          <p:nvPr/>
        </p:nvSpPr>
        <p:spPr>
          <a:xfrm>
            <a:off x="8229600" y="61722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5939" y="10800"/>
                </a:moveTo>
                <a:lnTo>
                  <a:pt x="26444" y="3794"/>
                </a:lnTo>
                <a:lnTo>
                  <a:pt x="26444" y="17806"/>
                </a:lnTo>
                <a:close/>
              </a:path>
              <a:path fill="darken" w="38876" h="21600">
                <a:moveTo>
                  <a:pt x="12431" y="3794"/>
                </a:moveTo>
                <a:lnTo>
                  <a:pt x="14094" y="3794"/>
                </a:lnTo>
                <a:lnTo>
                  <a:pt x="14094" y="17806"/>
                </a:lnTo>
                <a:lnTo>
                  <a:pt x="1243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Заголовок 3"/>
          <p:cNvSpPr/>
          <p:nvPr/>
        </p:nvSpPr>
        <p:spPr>
          <a:xfrm>
            <a:off x="214200" y="571680"/>
            <a:ext cx="8786880" cy="12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Другие пастернаковские поэтические приёмы</a:t>
            </a:r>
            <a:endParaRPr b="0" lang="en-US" sz="3600" spc="-1" strike="noStrike">
              <a:solidFill>
                <a:srgbClr val="000000"/>
              </a:solidFill>
              <a:latin typeface="Arial"/>
            </a:endParaRPr>
          </a:p>
        </p:txBody>
      </p:sp>
      <p:sp>
        <p:nvSpPr>
          <p:cNvPr id="445" name="Прямоугольник 1"/>
          <p:cNvSpPr/>
          <p:nvPr/>
        </p:nvSpPr>
        <p:spPr>
          <a:xfrm>
            <a:off x="571680" y="1643040"/>
            <a:ext cx="80010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точная рифма</a:t>
            </a:r>
            <a:r>
              <a:rPr b="0" lang="ru-RU" sz="2400" spc="-1" strike="noStrike">
                <a:solidFill>
                  <a:srgbClr val="000000"/>
                </a:solidFill>
                <a:latin typeface="Arial"/>
              </a:rPr>
              <a:t>: «небе-лебедь», «шарфе - гарпий».</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единение слов противоположных стилистических рядов</a:t>
            </a:r>
            <a:r>
              <a:rPr b="0" lang="ru-RU" sz="2400" spc="-1" strike="noStrike">
                <a:solidFill>
                  <a:srgbClr val="000000"/>
                </a:solidFill>
                <a:latin typeface="Arial"/>
              </a:rPr>
              <a:t>, например, торжественного и разговорного: «мироздание» и «тын», «шлях».</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заизация</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46" name="Rectangle 3"/>
          <p:cNvSpPr/>
          <p:nvPr/>
        </p:nvSpPr>
        <p:spPr>
          <a:xfrm>
            <a:off x="2357280" y="3721320"/>
            <a:ext cx="42865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Как будто бы железом,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Обмокнутым в сурьму,</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Тебя вели нарезом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По сердцу моему.</a:t>
            </a:r>
            <a:endParaRPr b="0" lang="en-US" sz="2400" spc="-1" strike="noStrike">
              <a:solidFill>
                <a:srgbClr val="000000"/>
              </a:solidFill>
              <a:latin typeface="Arial"/>
            </a:endParaRPr>
          </a:p>
        </p:txBody>
      </p:sp>
      <p:sp>
        <p:nvSpPr>
          <p:cNvPr id="447" name="Прямоугольник 1"/>
          <p:cNvSpPr/>
          <p:nvPr/>
        </p:nvSpPr>
        <p:spPr>
          <a:xfrm>
            <a:off x="642960" y="5500800"/>
            <a:ext cx="742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 любви говорится как о слесарном ремесл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Прямоугольник 1"/>
          <p:cNvSpPr/>
          <p:nvPr/>
        </p:nvSpPr>
        <p:spPr>
          <a:xfrm>
            <a:off x="571680" y="178596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траннение</a:t>
            </a:r>
            <a:r>
              <a:rPr b="0" lang="ru-RU" sz="2400" spc="-1" strike="noStrike">
                <a:solidFill>
                  <a:srgbClr val="000000"/>
                </a:solidFill>
                <a:latin typeface="Arial"/>
              </a:rPr>
              <a:t> (изображение знакомого необычным, странным) :</a:t>
            </a:r>
            <a:endParaRPr b="0" lang="en-US" sz="2400" spc="-1" strike="noStrike">
              <a:solidFill>
                <a:srgbClr val="000000"/>
              </a:solidFill>
              <a:latin typeface="Arial"/>
            </a:endParaRPr>
          </a:p>
        </p:txBody>
      </p:sp>
      <p:sp>
        <p:nvSpPr>
          <p:cNvPr id="449" name="Заголовок 3"/>
          <p:cNvSpPr/>
          <p:nvPr/>
        </p:nvSpPr>
        <p:spPr>
          <a:xfrm>
            <a:off x="214200" y="571680"/>
            <a:ext cx="8786880" cy="12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Другие пастернаковские поэтические приёмы</a:t>
            </a:r>
            <a:endParaRPr b="0" lang="en-US" sz="3600" spc="-1" strike="noStrike">
              <a:solidFill>
                <a:srgbClr val="000000"/>
              </a:solidFill>
              <a:latin typeface="Arial"/>
            </a:endParaRPr>
          </a:p>
        </p:txBody>
      </p:sp>
      <p:sp>
        <p:nvSpPr>
          <p:cNvPr id="450" name="Rectangle 3"/>
          <p:cNvSpPr/>
          <p:nvPr/>
        </p:nvSpPr>
        <p:spPr>
          <a:xfrm>
            <a:off x="1000080" y="2649600"/>
            <a:ext cx="67150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В тот день всю тебя от гребёнок до ног,</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Как трагик в провинции драму Шекспирову,</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осил я с собою и знал назубок,</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Шатался по городу и репетировал.</a:t>
            </a:r>
            <a:endParaRPr b="0" lang="en-US" sz="2400" spc="-1" strike="noStrike">
              <a:solidFill>
                <a:srgbClr val="000000"/>
              </a:solidFill>
              <a:latin typeface="Arial"/>
            </a:endParaRPr>
          </a:p>
        </p:txBody>
      </p:sp>
      <p:sp>
        <p:nvSpPr>
          <p:cNvPr id="451" name="Прямоугольник 4"/>
          <p:cNvSpPr/>
          <p:nvPr/>
        </p:nvSpPr>
        <p:spPr>
          <a:xfrm>
            <a:off x="642960" y="43578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обно лунатику бродит по городу отвергнутый влюблённый. Автор передаёт исступление  неудовлетворённой страсти, используя образы из очень отдалённых тематических ряд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Заголовок 3"/>
          <p:cNvSpPr/>
          <p:nvPr/>
        </p:nvSpPr>
        <p:spPr>
          <a:xfrm>
            <a:off x="214200" y="571680"/>
            <a:ext cx="8786880" cy="12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О значении творчества Бориса Пастернака</a:t>
            </a:r>
            <a:endParaRPr b="0" lang="en-US" sz="3600" spc="-1" strike="noStrike">
              <a:solidFill>
                <a:srgbClr val="000000"/>
              </a:solidFill>
              <a:latin typeface="Arial"/>
            </a:endParaRPr>
          </a:p>
        </p:txBody>
      </p:sp>
      <p:sp>
        <p:nvSpPr>
          <p:cNvPr id="453" name="Прямоугольник 2"/>
          <p:cNvSpPr/>
          <p:nvPr/>
        </p:nvSpPr>
        <p:spPr>
          <a:xfrm>
            <a:off x="571680" y="22860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рис Пастернак является одним из самых известных русских писателей 20-го века. Вошёл в литературу как сложный поэт, чья лирика совмещает невероятное новаторство с уважением к культурному наследию. Проза Пастернака отразила сложные духовные искания его поколения, собственный взгляд писателя на историю, искусство, христианские ценности. Пастернак разобран на цитаты и прочно вошёл в нашу жизн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Заголовок 3"/>
          <p:cNvSpPr/>
          <p:nvPr/>
        </p:nvSpPr>
        <p:spPr>
          <a:xfrm>
            <a:off x="214200" y="571680"/>
            <a:ext cx="8786880" cy="64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Источники</a:t>
            </a:r>
            <a:endParaRPr b="0" lang="en-US" sz="3600" spc="-1" strike="noStrike">
              <a:solidFill>
                <a:srgbClr val="000000"/>
              </a:solidFill>
              <a:latin typeface="Arial"/>
            </a:endParaRPr>
          </a:p>
        </p:txBody>
      </p:sp>
      <p:sp>
        <p:nvSpPr>
          <p:cNvPr id="455" name="Прямоугольник 2"/>
          <p:cNvSpPr/>
          <p:nvPr/>
        </p:nvSpPr>
        <p:spPr>
          <a:xfrm>
            <a:off x="571680" y="1428840"/>
            <a:ext cx="8001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хи Пастернака  </a:t>
            </a:r>
            <a:r>
              <a:rPr b="0" lang="ru-RU" sz="1800" spc="-1" strike="noStrike" u="sng">
                <a:solidFill>
                  <a:srgbClr val="e2d700"/>
                </a:solidFill>
                <a:uFillTx/>
                <a:latin typeface="Arial"/>
                <a:hlinkClick r:id="rId1"/>
              </a:rPr>
              <a:t>http://www.litera.ru/stixiya/authors/pasternak/all.html#sneg-idet-sneg</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Борисе Пастерна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hran-pasternak.livejournal.c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тографии Бориса Пастернака </a:t>
            </a:r>
            <a:r>
              <a:rPr b="0" lang="ru-RU" sz="1800" spc="-1" strike="noStrike" u="sng">
                <a:solidFill>
                  <a:srgbClr val="000000"/>
                </a:solidFill>
                <a:uFillTx/>
                <a:latin typeface="Arial"/>
              </a:rPr>
              <a:t>http://www.google.ru/search?q=%D0%BF%D0%B0%D1%81%D1%82%D0%B5%D1%80%D0%BD%D0%B0%D0%BA&amp;hl=ru&amp;newwindow=1&amp;biw=1003&amp;bih=516&amp;prmd=ivns&amp;source=lnms&amp;tbm=isch&amp;ei=gaABTrPGGoaDOpGWzZsO&amp;sa=X&amp;oi=mode_link&amp;ct=mode&amp;cd=2&amp;sqi=2&amp;ved=0CBAQ_AUoAQ</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семье Пастерна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http://www.rudata.ru/wiki/%D0%9F%D0%B0%D1%81%D1%82%D0%B5%D1%80%D0%BD%D0%B0%D0%BA,_%D0%9B%D0%B5%D0%BE%D0%BD%D0%B8%D0%B4_%D0%9E%D1%81%D0%B8%D0%BF%D0%BE%D0%B2%D0%B8%D1%8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ство Пастрна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liveinternet.ru/users/silvestrivna/post12513752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Прямоугольник 1"/>
          <p:cNvSpPr/>
          <p:nvPr/>
        </p:nvSpPr>
        <p:spPr>
          <a:xfrm>
            <a:off x="571680" y="857160"/>
            <a:ext cx="7429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я русского языка и литератур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ой гимназии г. Ярцева Смоленской обла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457" name="Picture 1" descr="D:\Мои рисунки\просто я\я я я (1).JPG"/>
          <p:cNvPicPr/>
          <p:nvPr/>
        </p:nvPicPr>
        <p:blipFill>
          <a:blip r:embed="rId1"/>
          <a:stretch/>
        </p:blipFill>
        <p:spPr>
          <a:xfrm>
            <a:off x="3214800" y="2571840"/>
            <a:ext cx="2257200" cy="1857240"/>
          </a:xfrm>
          <a:prstGeom prst="rect">
            <a:avLst/>
          </a:prstGeom>
          <a:ln w="0">
            <a:noFill/>
          </a:ln>
        </p:spPr>
      </p:pic>
      <p:sp>
        <p:nvSpPr>
          <p:cNvPr id="458" name="Прямоугольник 3"/>
          <p:cNvSpPr/>
          <p:nvPr/>
        </p:nvSpPr>
        <p:spPr>
          <a:xfrm>
            <a:off x="2357280" y="4572000"/>
            <a:ext cx="400068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асё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ины</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Александров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Увлечения</a:t>
            </a:r>
            <a:endParaRPr b="0" lang="en-US" sz="5000" spc="-1" strike="noStrike">
              <a:solidFill>
                <a:srgbClr val="04617b"/>
              </a:solidFill>
              <a:latin typeface="Calibri"/>
            </a:endParaRPr>
          </a:p>
        </p:txBody>
      </p:sp>
      <p:sp>
        <p:nvSpPr>
          <p:cNvPr id="213" name=""/>
          <p:cNvSpPr txBox="1"/>
          <p:nvPr/>
        </p:nvSpPr>
        <p:spPr>
          <a:xfrm>
            <a:off x="456840" y="1904760"/>
            <a:ext cx="426708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пытав сильное влияние Скрябина, Пастернак с тринадцати лет занимался музыкальным сочинительством, изучал теорию композиции, но после шестилетних упорных занятий музыка была оставлена навсегда. Ребёнком Пастернак любил рисовать, однако отец не увидел у него таланта в этой области.</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4" name="Picture 1" descr="d:\Мои документы\Для уроков литературы\Пастернак\фото о пастернаке\38714367_pas00.jpg"/>
          <p:cNvPicPr/>
          <p:nvPr/>
        </p:nvPicPr>
        <p:blipFill>
          <a:blip r:embed="rId1"/>
          <a:stretch/>
        </p:blipFill>
        <p:spPr>
          <a:xfrm>
            <a:off x="5486400" y="1295280"/>
            <a:ext cx="2728800" cy="4627800"/>
          </a:xfrm>
          <a:prstGeom prst="rect">
            <a:avLst/>
          </a:prstGeom>
          <a:ln w="0">
            <a:noFill/>
          </a:ln>
        </p:spPr>
      </p:pic>
      <p:sp>
        <p:nvSpPr>
          <p:cNvPr id="215" name="Управляющая кнопка: назад 7">
            <a:hlinkClick r:id="" action="ppaction://hlinkshowjump?jump=previousslide"/>
          </p:cNvPr>
          <p:cNvSpPr/>
          <p:nvPr/>
        </p:nvSpPr>
        <p:spPr>
          <a:xfrm>
            <a:off x="65530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Управляющая кнопка: далее 8">
            <a:hlinkClick r:id="" action="ppaction://hlinkshowjump?jump=nextslide"/>
          </p:cNvPr>
          <p:cNvSpPr/>
          <p:nvPr/>
        </p:nvSpPr>
        <p:spPr>
          <a:xfrm>
            <a:off x="7391520" y="63244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3794"/>
                </a:moveTo>
                <a:lnTo>
                  <a:pt x="26426" y="10800"/>
                </a:lnTo>
                <a:lnTo>
                  <a:pt x="124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Управляющая кнопка: в начало 9">
            <a:hlinkClick r:id="rId2" action="ppaction://hlinksldjump"/>
          </p:cNvPr>
          <p:cNvSpPr/>
          <p:nvPr/>
        </p:nvSpPr>
        <p:spPr>
          <a:xfrm>
            <a:off x="83059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3761" y="10800"/>
                </a:moveTo>
                <a:lnTo>
                  <a:pt x="24266" y="3794"/>
                </a:lnTo>
                <a:lnTo>
                  <a:pt x="24266" y="17806"/>
                </a:lnTo>
                <a:close/>
              </a:path>
              <a:path fill="darken" w="34519" h="21600">
                <a:moveTo>
                  <a:pt x="10253" y="3794"/>
                </a:moveTo>
                <a:lnTo>
                  <a:pt x="11916" y="3794"/>
                </a:lnTo>
                <a:lnTo>
                  <a:pt x="11916" y="17806"/>
                </a:lnTo>
                <a:lnTo>
                  <a:pt x="1025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ольник 1"/>
          <p:cNvSpPr/>
          <p:nvPr/>
        </p:nvSpPr>
        <p:spPr>
          <a:xfrm>
            <a:off x="4038480" y="190512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окончания московской гимназии в 1909 поступил на историко-филологический факультет Московского университета, серьезно увлекся философией. Для усовершенствования философских знаний в 1912 уехал в Германию, где семестр учился в Марбургском университете. Тогда же им была предпринята поездка в Швейцарию и Италию. По возвращении в Москву окончил университет в 1913. Охладев к философии, Пастернак полностью отдается поэтическому искусству, которое стало делом его жизни.</a:t>
            </a:r>
            <a:endParaRPr b="0" lang="en-US" sz="1800" spc="-1" strike="noStrike">
              <a:solidFill>
                <a:srgbClr val="000000"/>
              </a:solidFill>
              <a:latin typeface="Arial"/>
            </a:endParaRPr>
          </a:p>
        </p:txBody>
      </p:sp>
      <p:pic>
        <p:nvPicPr>
          <p:cNvPr id="219" name="Picture 1" descr="d:\Мои документы\Для уроков литературы\Пастернак\фото о пастернаке\Pasternak4.jpg"/>
          <p:cNvPicPr/>
          <p:nvPr/>
        </p:nvPicPr>
        <p:blipFill>
          <a:blip r:embed="rId1"/>
          <a:stretch/>
        </p:blipFill>
        <p:spPr>
          <a:xfrm>
            <a:off x="533520" y="1523880"/>
            <a:ext cx="3200400" cy="4456080"/>
          </a:xfrm>
          <a:prstGeom prst="rect">
            <a:avLst/>
          </a:prstGeom>
          <a:ln w="0">
            <a:noFill/>
          </a:ln>
        </p:spPr>
      </p:pic>
      <p:sp>
        <p:nvSpPr>
          <p:cNvPr id="220" name="Заголовок 3"/>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04617b"/>
                </a:solidFill>
                <a:latin typeface="Calibri"/>
              </a:rPr>
              <a:t>Учёба</a:t>
            </a:r>
            <a:endParaRPr b="0" lang="en-US" sz="4900" spc="-1" strike="noStrike">
              <a:solidFill>
                <a:srgbClr val="000000"/>
              </a:solidFill>
              <a:latin typeface="Arial"/>
            </a:endParaRPr>
          </a:p>
        </p:txBody>
      </p:sp>
      <p:sp>
        <p:nvSpPr>
          <p:cNvPr id="221" name="Управляющая кнопка: назад 4">
            <a:hlinkClick r:id="" action="ppaction://hlinkshowjump?jump=previousslide"/>
          </p:cNvPr>
          <p:cNvSpPr/>
          <p:nvPr/>
        </p:nvSpPr>
        <p:spPr>
          <a:xfrm>
            <a:off x="647712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Управляющая кнопка: далее 5">
            <a:hlinkClick r:id="" action="ppaction://hlinkshowjump?jump=nextslide"/>
          </p:cNvPr>
          <p:cNvSpPr/>
          <p:nvPr/>
        </p:nvSpPr>
        <p:spPr>
          <a:xfrm>
            <a:off x="74674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Управляющая кнопка: в начало 6">
            <a:hlinkClick r:id="rId2" action="ppaction://hlinksldjump"/>
          </p:cNvPr>
          <p:cNvSpPr/>
          <p:nvPr/>
        </p:nvSpPr>
        <p:spPr>
          <a:xfrm>
            <a:off x="83059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3777" y="10800"/>
                </a:moveTo>
                <a:lnTo>
                  <a:pt x="24282" y="3794"/>
                </a:lnTo>
                <a:lnTo>
                  <a:pt x="24282" y="17806"/>
                </a:lnTo>
                <a:close/>
              </a:path>
              <a:path fill="darken" w="34552" h="21600">
                <a:moveTo>
                  <a:pt x="10269" y="3794"/>
                </a:moveTo>
                <a:lnTo>
                  <a:pt x="11932" y="3794"/>
                </a:lnTo>
                <a:lnTo>
                  <a:pt x="11932" y="17806"/>
                </a:lnTo>
                <a:lnTo>
                  <a:pt x="1026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1"/>
          <p:cNvSpPr/>
          <p:nvPr/>
        </p:nvSpPr>
        <p:spPr>
          <a:xfrm>
            <a:off x="533520" y="1219320"/>
            <a:ext cx="4190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стернак вступил в литературу как поэт-футурист, входил в группы «Лирика», «Центрифуга». В 1914-1016 годах выходят первые книги «Близнец в тучах» и «Поверх барьер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2 вышла книга стихотворений "Сестра моя — жизнь", сразу выдвинувшая автора в ряд мастеров современного стиха. С этой книги начинается Пастернак как самобытное поэтическое яв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0-е Пастернак примыкал к литературному объединению "ЛЕФ" (Маяковский, Асеев, О.Брик и др.) больше из-за дружбы с Маяковским, но связи с объединением оказались непрочными и закончились в 1927 разрывом.</a:t>
            </a:r>
            <a:endParaRPr b="0" lang="en-US" sz="1800" spc="-1" strike="noStrike">
              <a:solidFill>
                <a:srgbClr val="000000"/>
              </a:solidFill>
              <a:latin typeface="Arial"/>
            </a:endParaRPr>
          </a:p>
        </p:txBody>
      </p:sp>
      <p:pic>
        <p:nvPicPr>
          <p:cNvPr id="225" name="Picture 1" descr="d:\Мои документы\Для уроков литературы\Пастернак\фото о пастернаке\image001.jpg"/>
          <p:cNvPicPr/>
          <p:nvPr/>
        </p:nvPicPr>
        <p:blipFill>
          <a:blip r:embed="rId1">
            <a:lum bright="10000"/>
          </a:blip>
          <a:stretch/>
        </p:blipFill>
        <p:spPr>
          <a:xfrm>
            <a:off x="5181480" y="1523880"/>
            <a:ext cx="3400560" cy="4572000"/>
          </a:xfrm>
          <a:prstGeom prst="rect">
            <a:avLst/>
          </a:prstGeom>
          <a:ln w="0">
            <a:noFill/>
          </a:ln>
        </p:spPr>
      </p:pic>
      <p:sp>
        <p:nvSpPr>
          <p:cNvPr id="226" name="Заголовок 3"/>
          <p:cNvSpPr/>
          <p:nvPr/>
        </p:nvSpPr>
        <p:spPr>
          <a:xfrm>
            <a:off x="457200" y="30492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04617b"/>
                </a:solidFill>
                <a:latin typeface="Calibri"/>
              </a:rPr>
              <a:t>Литературный дебют</a:t>
            </a:r>
            <a:endParaRPr b="0" lang="en-US" sz="4900" spc="-1" strike="noStrike">
              <a:solidFill>
                <a:srgbClr val="000000"/>
              </a:solidFill>
              <a:latin typeface="Arial"/>
            </a:endParaRPr>
          </a:p>
        </p:txBody>
      </p:sp>
      <p:sp>
        <p:nvSpPr>
          <p:cNvPr id="227" name="Управляющая кнопка: назад 4">
            <a:hlinkClick r:id="" action="ppaction://hlinkshowjump?jump=previousslide"/>
          </p:cNvPr>
          <p:cNvSpPr/>
          <p:nvPr/>
        </p:nvSpPr>
        <p:spPr>
          <a:xfrm>
            <a:off x="609588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Управляющая кнопка: далее 5">
            <a:hlinkClick r:id="" action="ppaction://hlinkshowjump?jump=nextslide"/>
          </p:cNvPr>
          <p:cNvSpPr/>
          <p:nvPr/>
        </p:nvSpPr>
        <p:spPr>
          <a:xfrm>
            <a:off x="7010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Управляющая кнопка: в начало 6">
            <a:hlinkClick r:id="rId2" action="ppaction://hlinksldjump"/>
          </p:cNvPr>
          <p:cNvSpPr/>
          <p:nvPr/>
        </p:nvSpPr>
        <p:spPr>
          <a:xfrm>
            <a:off x="77724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1"/>
          <p:cNvSpPr/>
          <p:nvPr/>
        </p:nvSpPr>
        <p:spPr>
          <a:xfrm>
            <a:off x="609480" y="1295280"/>
            <a:ext cx="4343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0-е годы  Пастернак ощутил, что лирика должна уступить место эпо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 начал работу над романом в стихах "Спекторский" (1925), в значительной мере автобиографическим. Создал стихотворный цикл "Высокая болезнь", поэмы "Девятьсот пятый год" и "Лейтенант Шмид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8 возник замысел прозаической книги "Охранная грамота", законченной два года спустя. Пастернак назвал это произведение "автобиографическими отрывками о том, как складывались мои представления об искусстве и в чем они коренятся".</a:t>
            </a:r>
            <a:endParaRPr b="0" lang="en-US" sz="1800" spc="-1" strike="noStrike">
              <a:solidFill>
                <a:srgbClr val="000000"/>
              </a:solidFill>
              <a:latin typeface="Arial"/>
            </a:endParaRPr>
          </a:p>
        </p:txBody>
      </p:sp>
      <p:pic>
        <p:nvPicPr>
          <p:cNvPr id="231" name="Picture 1" descr="d:\Мои документы\Для уроков литературы\Пастернак\фото о пастернаке\imagesCAN28DCA.jpg"/>
          <p:cNvPicPr/>
          <p:nvPr/>
        </p:nvPicPr>
        <p:blipFill>
          <a:blip r:embed="rId1">
            <a:lum bright="10000"/>
          </a:blip>
          <a:stretch/>
        </p:blipFill>
        <p:spPr>
          <a:xfrm>
            <a:off x="5334120" y="1523880"/>
            <a:ext cx="3100320" cy="4459320"/>
          </a:xfrm>
          <a:prstGeom prst="rect">
            <a:avLst/>
          </a:prstGeom>
          <a:ln w="0">
            <a:noFill/>
          </a:ln>
        </p:spPr>
      </p:pic>
      <p:sp>
        <p:nvSpPr>
          <p:cNvPr id="232"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ереход к прозе</a:t>
            </a:r>
            <a:endParaRPr b="0" lang="en-US" sz="5000" spc="-1" strike="noStrike">
              <a:solidFill>
                <a:srgbClr val="000000"/>
              </a:solidFill>
              <a:latin typeface="Arial"/>
            </a:endParaRPr>
          </a:p>
        </p:txBody>
      </p:sp>
      <p:sp>
        <p:nvSpPr>
          <p:cNvPr id="233" name="Управляющая кнопка: назад 4">
            <a:hlinkClick r:id="" action="ppaction://hlinkshowjump?jump=previousslide"/>
          </p:cNvPr>
          <p:cNvSpPr/>
          <p:nvPr/>
        </p:nvSpPr>
        <p:spPr>
          <a:xfrm>
            <a:off x="5791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Управляющая кнопка: далее 5">
            <a:hlinkClick r:id="" action="ppaction://hlinkshowjump?jump=nextslide"/>
          </p:cNvPr>
          <p:cNvSpPr/>
          <p:nvPr/>
        </p:nvSpPr>
        <p:spPr>
          <a:xfrm>
            <a:off x="65530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Управляющая кнопка: в начало 6">
            <a:hlinkClick r:id="rId2" action="ppaction://hlinksldjump"/>
          </p:cNvPr>
          <p:cNvSpPr/>
          <p:nvPr/>
        </p:nvSpPr>
        <p:spPr>
          <a:xfrm>
            <a:off x="75438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3777" y="10800"/>
                </a:moveTo>
                <a:lnTo>
                  <a:pt x="24282" y="3794"/>
                </a:lnTo>
                <a:lnTo>
                  <a:pt x="24282" y="17806"/>
                </a:lnTo>
                <a:close/>
              </a:path>
              <a:path fill="darken" w="34552" h="21600">
                <a:moveTo>
                  <a:pt x="10269" y="3794"/>
                </a:moveTo>
                <a:lnTo>
                  <a:pt x="11932" y="3794"/>
                </a:lnTo>
                <a:lnTo>
                  <a:pt x="11932" y="17806"/>
                </a:lnTo>
                <a:lnTo>
                  <a:pt x="1026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533520" y="990720"/>
            <a:ext cx="403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за и стихи не приносили достаточно средств, чтобы прокормить семью, помогать друзьям (Пастернак всегда поддерживал несколько близких человек, семьи репрессированных друзей). И Пастернак занимается переводами с немецкого, французского, английского, грузинского.  С1934 перевод стихов приобрел регулярный характер и продолжался до конца его жизни (переводы грузинских поэтов, Шекспира, Гёте, Шиллера, Рильке, Верлена и д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кануне войны, в начале 1941, поэт преодолел творческий кризис и вступил в полосу подъема: написал цикл стихов "Переделкино".</a:t>
            </a:r>
            <a:endParaRPr b="0" lang="en-US" sz="1800" spc="-1" strike="noStrike">
              <a:solidFill>
                <a:srgbClr val="000000"/>
              </a:solidFill>
              <a:latin typeface="Arial"/>
            </a:endParaRPr>
          </a:p>
        </p:txBody>
      </p:sp>
      <p:pic>
        <p:nvPicPr>
          <p:cNvPr id="237" name="Picture 1" descr="d:\Мои документы\Для уроков литературы\Пастернак\фото о пастернаке\1.jpg"/>
          <p:cNvPicPr/>
          <p:nvPr/>
        </p:nvPicPr>
        <p:blipFill>
          <a:blip r:embed="rId1"/>
          <a:stretch/>
        </p:blipFill>
        <p:spPr>
          <a:xfrm>
            <a:off x="5029200" y="1219320"/>
            <a:ext cx="3398760" cy="4647960"/>
          </a:xfrm>
          <a:prstGeom prst="rect">
            <a:avLst/>
          </a:prstGeom>
          <a:ln w="0">
            <a:noFill/>
          </a:ln>
        </p:spPr>
      </p:pic>
      <p:sp>
        <p:nvSpPr>
          <p:cNvPr id="238" name="TextBox 4"/>
          <p:cNvSpPr/>
          <p:nvPr/>
        </p:nvSpPr>
        <p:spPr>
          <a:xfrm>
            <a:off x="4648320" y="5943600"/>
            <a:ext cx="419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женой Евгенией  Лурье и сыном Евгением</a:t>
            </a:r>
            <a:endParaRPr b="0" lang="en-US" sz="1400" spc="-1" strike="noStrike">
              <a:solidFill>
                <a:srgbClr val="000000"/>
              </a:solidFill>
              <a:latin typeface="Arial"/>
            </a:endParaRPr>
          </a:p>
        </p:txBody>
      </p:sp>
      <p:sp>
        <p:nvSpPr>
          <p:cNvPr id="239"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30-е годы</a:t>
            </a:r>
            <a:endParaRPr b="0" lang="en-US" sz="5000" spc="-1" strike="noStrike">
              <a:solidFill>
                <a:srgbClr val="000000"/>
              </a:solidFill>
              <a:latin typeface="Arial"/>
            </a:endParaRPr>
          </a:p>
        </p:txBody>
      </p:sp>
      <p:sp>
        <p:nvSpPr>
          <p:cNvPr id="240" name="Управляющая кнопка: назад 6">
            <a:hlinkClick r:id="" action="ppaction://hlinkshowjump?jump=previousslide"/>
          </p:cNvPr>
          <p:cNvSpPr/>
          <p:nvPr/>
        </p:nvSpPr>
        <p:spPr>
          <a:xfrm>
            <a:off x="65530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Управляющая кнопка: далее 7">
            <a:hlinkClick r:id="" action="ppaction://hlinkshowjump?jump=nextslide"/>
          </p:cNvPr>
          <p:cNvSpPr/>
          <p:nvPr/>
        </p:nvSpPr>
        <p:spPr>
          <a:xfrm>
            <a:off x="731520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Управляющая кнопка: в начало 8">
            <a:hlinkClick r:id="rId2" action="ppaction://hlinksldjump"/>
          </p:cNvPr>
          <p:cNvSpPr/>
          <p:nvPr/>
        </p:nvSpPr>
        <p:spPr>
          <a:xfrm>
            <a:off x="81532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3:29:30Z</dcterms:created>
  <dc:creator>Школа1</dc:creator>
  <dc:description/>
  <dc:language>en-US</dc:language>
  <cp:lastModifiedBy>Komp</cp:lastModifiedBy>
  <dcterms:modified xsi:type="dcterms:W3CDTF">2023-02-18T20:30:30Z</dcterms:modified>
  <cp:revision>78</cp:revision>
  <dc:subject/>
  <dc:title>Борис Пастенак</dc:title>
</cp:coreProperties>
</file>