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2A5-40EA-4527-8A7B-1D865454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F32-0F6A-4268-924C-85F97DF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4FA-7B5D-4670-99B7-8018314D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1C1-07CE-4769-8EBE-48478FF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3CA-D5B9-4941-996E-DB77B65D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24E7-92DA-4BDF-954A-8E63080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8E55-6558-4B94-A25E-230A943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794B-F1B7-448D-8E97-36FD027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5D2-6709-43BE-A1E4-86426A2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FC47-CADF-4E80-870A-DC529B7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A1C-E75B-4C28-BD7E-79FFB84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E9B-37FC-49BD-B65B-C3C02FDD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AE0F-CD69-476D-9F5D-3EEE056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E84-7F07-48C9-AB41-4901BD0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DCB7-5B51-4EEA-8EB9-4B44B60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4E4D-AF4A-433E-A4C5-3064ACC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9616-C03C-4192-BD96-EB501B93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02E8-BA26-458D-A826-A0EB56A7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4568-707C-4BD1-86F7-F0C654BB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01AB-2E5B-4C09-B656-F0645BA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804A-57D2-481B-A05A-6C9965E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859C-57E1-4508-98C5-856F72E7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127-47DC-400E-AA39-CE91FDC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B1F2-6E07-42AA-BFA9-0E9F72A8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9415-68DA-4008-9120-396E8E5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ECFC-B99B-4A38-BC39-D29AF453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58D0-2FCA-4B72-8690-9B6B8FE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8E9B-4898-4FD6-9D3A-1DA52044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ABF3-C96B-41C4-ADBF-C26005A2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AD50-0FE4-434B-B89A-50E2AB81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1E0C-94B8-4C95-89E4-DF644408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CB25-0CF7-41DD-B370-85DBFB2D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7FFF-59EB-4DEB-B482-C4C6593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0A7-EFD2-44A3-8981-32AE394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048B-D173-4360-9B7B-60E8B21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16A3-A7DC-4168-86BB-8CB84DA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C0A0-AC42-4DF0-AE46-4B2E7E4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248D-0946-482F-8544-6E6757D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61EA-32B5-4BEC-8559-CC1D441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5647-777E-4704-AEAB-5ABDA5F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DF01-8AF3-41E3-A268-DC76BAB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6934-4FC9-4136-AC58-D7E03DD8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187E-272E-4775-8880-279FD481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4B1-53B3-455C-B198-DC69467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2F7-D041-42FB-B314-1325F4D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732-E4B8-423B-9ADC-ABC686D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02B-86F4-4634-9973-80318BD7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3FB-0E68-4E86-BFBD-B1DD360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DA1-59FA-4E82-B2D4-6527489E323E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3E7-6AB4-4872-98F0-6F54C1624EBA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12E-060C-4ACF-925E-E42BA873CE0D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16F-5FB0-417E-905F-31B03B4D53B7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900000" y="134136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 и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 растения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84360" y="62064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Bookman Old Style"/>
              </a:rPr>
              <a:t>Урок по окружающему миру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097520" y="3141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4"/>
          <p:cNvSpPr txBox="1"/>
          <p:nvPr/>
        </p:nvSpPr>
        <p:spPr>
          <a:xfrm>
            <a:off x="3851280" y="148428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Picture 6" descr="Food027"/>
          <p:cNvPicPr/>
          <p:nvPr/>
        </p:nvPicPr>
        <p:blipFill>
          <a:blip r:embed="rId1"/>
          <a:stretch/>
        </p:blipFill>
        <p:spPr>
          <a:xfrm>
            <a:off x="1042920" y="1700280"/>
            <a:ext cx="2257560" cy="23050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7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дуванчик от помидор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3" name="Picture 9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932360" y="1125360"/>
            <a:ext cx="25383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Food027"/>
          <p:cNvPicPr/>
          <p:nvPr/>
        </p:nvPicPr>
        <p:blipFill>
          <a:blip r:embed="rId1"/>
          <a:stretch/>
        </p:blipFill>
        <p:spPr>
          <a:xfrm>
            <a:off x="1258920" y="1197000"/>
            <a:ext cx="1692360" cy="172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508720" y="476280"/>
            <a:ext cx="2019240" cy="25923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3635280" y="270828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617280" y="386064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1258920" y="3141720"/>
            <a:ext cx="2252520" cy="6426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508720" y="3141720"/>
            <a:ext cx="2252520" cy="6426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332000" y="4437000"/>
            <a:ext cx="2252520" cy="17398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огороде. Человек сажает, ухаживает, собирает урожай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508720" y="436572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повсюд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какие две групп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жно разделить все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5"/>
          <p:cNvSpPr txBox="1"/>
          <p:nvPr/>
        </p:nvSpPr>
        <p:spPr>
          <a:xfrm>
            <a:off x="2124000" y="177336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6"/>
          <p:cNvSpPr txBox="1"/>
          <p:nvPr/>
        </p:nvSpPr>
        <p:spPr>
          <a:xfrm>
            <a:off x="6227640" y="1844640"/>
            <a:ext cx="5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72000" y="27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выращивает специально человек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11280" y="2781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никто не сажает, они растут сами по себе. Их можно встретить везде: и в лесу, и на лугу, и на водоёме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WordArt 9"/>
          <p:cNvSpPr txBox="1"/>
          <p:nvPr/>
        </p:nvSpPr>
        <p:spPr>
          <a:xfrm>
            <a:off x="5219640" y="1916280"/>
            <a:ext cx="27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0"/>
          <p:cNvSpPr txBox="1"/>
          <p:nvPr/>
        </p:nvSpPr>
        <p:spPr>
          <a:xfrm>
            <a:off x="900000" y="1916280"/>
            <a:ext cx="331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68360" y="1341360"/>
            <a:ext cx="2692440" cy="40323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5"/>
          <p:cNvSpPr txBox="1"/>
          <p:nvPr/>
        </p:nvSpPr>
        <p:spPr>
          <a:xfrm>
            <a:off x="1763640" y="692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это за дерево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132000" y="141300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ерезка получила свое имя из-за светлой белой коры. Видно, сильное впечатление произвел когда-то на наших далеких предков сверкающий серебряный ствол этого чудесного деревца. «Бер» у древних славян означало «светлый, ясный, блестящий, белый». От него-то и пошли слова «береста», «береза»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Line 5"/>
          <p:cNvSpPr/>
          <p:nvPr/>
        </p:nvSpPr>
        <p:spPr>
          <a:xfrm flipH="1">
            <a:off x="2195640" y="184464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4284720" y="1916280"/>
            <a:ext cx="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5724360" y="1844640"/>
            <a:ext cx="71928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61128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327672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594036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ав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611280" y="3357720"/>
            <a:ext cx="216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уш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276720" y="3357720"/>
            <a:ext cx="244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рыжовник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ороди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156360" y="328464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1835280" y="177336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4284720" y="1844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2195640" y="1773360"/>
            <a:ext cx="1224000" cy="22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5219640" y="1773360"/>
            <a:ext cx="936720" cy="2087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6156360" y="1700280"/>
            <a:ext cx="934920" cy="57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24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вощ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13200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лод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611280" y="4076640"/>
            <a:ext cx="367164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коратив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1" name="Oval 14"/>
          <p:cNvSpPr/>
          <p:nvPr/>
        </p:nvSpPr>
        <p:spPr>
          <a:xfrm>
            <a:off x="6012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ерн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2" name="Oval 15"/>
          <p:cNvSpPr/>
          <p:nvPr/>
        </p:nvSpPr>
        <p:spPr>
          <a:xfrm>
            <a:off x="4716360" y="4076640"/>
            <a:ext cx="367200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ядиль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1258920" y="765000"/>
            <a:ext cx="55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тог уро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55640" y="184464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 какие две группы можно разделить все растения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55640" y="414972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риведите примеры растений каждой группы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User\Desktop\1640819554_80-celes-club-p-soika-zimoi-priroda-krasivo-foto-89.jpg"/>
          <p:cNvPicPr/>
          <p:nvPr/>
        </p:nvPicPr>
        <p:blipFill>
          <a:blip r:embed="rId1"/>
          <a:stretch/>
        </p:blipFill>
        <p:spPr>
          <a:xfrm>
            <a:off x="5076720" y="115920"/>
            <a:ext cx="3095640" cy="21589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"/>
          <p:cNvSpPr/>
          <p:nvPr/>
        </p:nvSpPr>
        <p:spPr>
          <a:xfrm>
            <a:off x="611280" y="56116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 связаны между собой белка и сойка в зимнем лесу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User\Desktop\322726866dd5dee42d7ceae31b12850a.jpg"/>
          <p:cNvPicPr/>
          <p:nvPr/>
        </p:nvPicPr>
        <p:blipFill>
          <a:blip r:embed="rId1"/>
          <a:stretch/>
        </p:blipFill>
        <p:spPr>
          <a:xfrm>
            <a:off x="2698920" y="2870280"/>
            <a:ext cx="2663640" cy="1989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5219640" y="139680"/>
            <a:ext cx="3565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йка прячет в своих кладовых жёлуди, но не умеет доставать их из−под снега. На помощь сойке при-ходит белка. Для неё кладовые сойки − чудесная находка. Ловко раскопав глубокий снег, белка съедает часть желудей. После неё на разрытое место прилетает хозяйка кладовой и доедает то, что осталось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1" name="Picture 2" descr="C:\Users\User\Desktop\1640819554_80-celes-club-p-soika-zimoi-priroda-krasivo-foto-89.jpg"/>
          <p:cNvPicPr/>
          <p:nvPr/>
        </p:nvPicPr>
        <p:blipFill>
          <a:blip r:embed="rId2"/>
          <a:stretch/>
        </p:blipFill>
        <p:spPr>
          <a:xfrm>
            <a:off x="2124000" y="-19080"/>
            <a:ext cx="3095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на реке"/>
          <p:cNvPicPr/>
          <p:nvPr/>
        </p:nvPicPr>
        <p:blipFill>
          <a:blip r:embed="rId1"/>
          <a:stretch/>
        </p:blipFill>
        <p:spPr>
          <a:xfrm>
            <a:off x="781200" y="1987560"/>
            <a:ext cx="2770200" cy="2890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23" name="Rectangle 5"/>
          <p:cNvSpPr/>
          <p:nvPr/>
        </p:nvSpPr>
        <p:spPr>
          <a:xfrm>
            <a:off x="4500720" y="1268280"/>
            <a:ext cx="403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Деревья</a:t>
            </a:r>
            <a:r>
              <a:rPr b="1" i="1" lang="ru-RU" sz="3600" spc="-1" strike="noStrike">
                <a:solidFill>
                  <a:srgbClr val="59a8d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1763640" y="1483920"/>
            <a:ext cx="5781600" cy="3690360"/>
            <a:chOff x="1763640" y="1483920"/>
            <a:chExt cx="5781600" cy="3690360"/>
          </a:xfrm>
        </p:grpSpPr>
        <p:sp>
          <p:nvSpPr>
            <p:cNvPr id="225" name="Text Box 7"/>
            <p:cNvSpPr/>
            <p:nvPr/>
          </p:nvSpPr>
          <p:spPr>
            <a:xfrm>
              <a:off x="5364000" y="19872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Кусты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5508720" y="3068280"/>
              <a:ext cx="203652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Травы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) цветы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Б) лишайник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) мх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2340000" y="1483920"/>
              <a:ext cx="287964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1763640" y="2418840"/>
              <a:ext cx="3529080" cy="12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V="1">
              <a:off x="3132000" y="4003200"/>
              <a:ext cx="237672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230" name="AutoShape 12"/>
          <p:cNvSpPr/>
          <p:nvPr/>
        </p:nvSpPr>
        <p:spPr>
          <a:xfrm>
            <a:off x="1116000" y="404640"/>
            <a:ext cx="5543640" cy="936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какие группы делятс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се растения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ое значение для человека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еют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H="1">
            <a:off x="1835280" y="1628640"/>
            <a:ext cx="1008000" cy="3603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2916000" y="1700280"/>
            <a:ext cx="934920" cy="2305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4932360" y="1700280"/>
            <a:ext cx="1152360" cy="2233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5651640" y="1700280"/>
            <a:ext cx="1008000" cy="216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542160" y="1989000"/>
            <a:ext cx="2131560" cy="1974960"/>
            <a:chOff x="542160" y="1989000"/>
            <a:chExt cx="2131560" cy="1974960"/>
          </a:xfrm>
        </p:grpSpPr>
        <p:sp>
          <p:nvSpPr>
            <p:cNvPr id="237" name="Text Box 9"/>
            <p:cNvSpPr/>
            <p:nvPr/>
          </p:nvSpPr>
          <p:spPr>
            <a:xfrm>
              <a:off x="542160" y="19890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мя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38" name="Picture 10" descr="fruits"/>
            <p:cNvPicPr/>
            <p:nvPr/>
          </p:nvPicPr>
          <p:blipFill>
            <a:blip r:embed="rId5"/>
            <a:stretch/>
          </p:blipFill>
          <p:spPr>
            <a:xfrm>
              <a:off x="755640" y="2276640"/>
              <a:ext cx="1800360" cy="16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 Box 12"/>
          <p:cNvSpPr/>
          <p:nvPr/>
        </p:nvSpPr>
        <p:spPr>
          <a:xfrm>
            <a:off x="5081400" y="4076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чат человек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6156360" y="206064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много полезных веществ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41" name="Picture 14" descr="HUTCH_thumb"/>
          <p:cNvPicPr/>
          <p:nvPr/>
        </p:nvPicPr>
        <p:blipFill>
          <a:blip r:embed="rId6"/>
          <a:stretch/>
        </p:blipFill>
        <p:spPr>
          <a:xfrm>
            <a:off x="6372360" y="2997360"/>
            <a:ext cx="571320" cy="9522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1"/>
          <p:cNvGrpSpPr/>
          <p:nvPr/>
        </p:nvGrpSpPr>
        <p:grpSpPr>
          <a:xfrm>
            <a:off x="1332000" y="4076640"/>
            <a:ext cx="2538720" cy="1728720"/>
            <a:chOff x="1332000" y="4076640"/>
            <a:chExt cx="2538720" cy="1728720"/>
          </a:xfrm>
        </p:grpSpPr>
        <p:sp>
          <p:nvSpPr>
            <p:cNvPr id="243" name="Text Box 11"/>
            <p:cNvSpPr/>
            <p:nvPr/>
          </p:nvSpPr>
          <p:spPr>
            <a:xfrm>
              <a:off x="1551960" y="407664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деваю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44" name="Picture 15" descr="Рисунок11"/>
            <p:cNvPicPr/>
            <p:nvPr/>
          </p:nvPicPr>
          <p:blipFill>
            <a:blip r:embed="rId7"/>
            <a:stretch/>
          </p:blipFill>
          <p:spPr>
            <a:xfrm>
              <a:off x="1332000" y="4508640"/>
              <a:ext cx="119196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6" descr="Рисунок56"/>
            <p:cNvPicPr/>
            <p:nvPr/>
          </p:nvPicPr>
          <p:blipFill>
            <a:blip r:embed="rId8"/>
            <a:stretch/>
          </p:blipFill>
          <p:spPr>
            <a:xfrm>
              <a:off x="2556000" y="4437000"/>
              <a:ext cx="1288800" cy="13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7" descr="Рисунок1"/>
          <p:cNvPicPr/>
          <p:nvPr/>
        </p:nvPicPr>
        <p:blipFill>
          <a:blip r:embed="rId9"/>
          <a:stretch/>
        </p:blipFill>
        <p:spPr>
          <a:xfrm>
            <a:off x="6948360" y="2637000"/>
            <a:ext cx="1349640" cy="1460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Рисунок4"/>
          <p:cNvPicPr/>
          <p:nvPr/>
        </p:nvPicPr>
        <p:blipFill>
          <a:blip r:embed="rId10">
            <a:lum bright="-18000"/>
          </a:blip>
          <a:stretch/>
        </p:blipFill>
        <p:spPr>
          <a:xfrm>
            <a:off x="4716360" y="4292640"/>
            <a:ext cx="1230480" cy="1441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Рисунок1"/>
          <p:cNvPicPr/>
          <p:nvPr/>
        </p:nvPicPr>
        <p:blipFill>
          <a:blip r:embed="rId11">
            <a:lum bright="-18000"/>
          </a:blip>
          <a:stretch/>
        </p:blipFill>
        <p:spPr>
          <a:xfrm>
            <a:off x="5940360" y="4437000"/>
            <a:ext cx="82728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J0233040"/>
          <p:cNvPicPr/>
          <p:nvPr/>
        </p:nvPicPr>
        <p:blipFill>
          <a:blip r:embed="rId12"/>
          <a:stretch/>
        </p:blipFill>
        <p:spPr>
          <a:xfrm>
            <a:off x="3780000" y="2349360"/>
            <a:ext cx="135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4"/>
          <p:cNvSpPr/>
          <p:nvPr/>
        </p:nvSpPr>
        <p:spPr>
          <a:xfrm>
            <a:off x="1042920" y="4797360"/>
            <a:ext cx="5904000" cy="646200"/>
          </a:xfrm>
          <a:prstGeom prst="wedgeRoundRectCallout">
            <a:avLst>
              <a:gd name="adj1" fmla="val 39675"/>
              <a:gd name="adj2" fmla="val 1730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971640" y="486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ель от яблони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4140360" y="119700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8" descr="3"/>
          <p:cNvPicPr/>
          <p:nvPr/>
        </p:nvPicPr>
        <p:blipFill>
          <a:blip r:embed="rId1"/>
          <a:stretch/>
        </p:blipFill>
        <p:spPr>
          <a:xfrm>
            <a:off x="5508720" y="836640"/>
            <a:ext cx="2351160" cy="352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tree in bloom 3"/>
          <p:cNvPicPr/>
          <p:nvPr/>
        </p:nvPicPr>
        <p:blipFill>
          <a:blip r:embed="rId2"/>
          <a:stretch/>
        </p:blipFill>
        <p:spPr>
          <a:xfrm>
            <a:off x="755640" y="907920"/>
            <a:ext cx="3046320" cy="388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"/>
          <p:cNvSpPr/>
          <p:nvPr/>
        </p:nvSpPr>
        <p:spPr>
          <a:xfrm>
            <a:off x="1332000" y="29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АБОТА В ПАРАХ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3643200" y="128592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553920" y="407196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429160" y="40719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285920" y="4000680"/>
            <a:ext cx="2252520" cy="11912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ей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285920" y="214308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286240" y="214308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285920" y="29289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357880" y="29289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решник от крыжовник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6" name="WordArt 6"/>
          <p:cNvSpPr txBox="1"/>
          <p:nvPr/>
        </p:nvSpPr>
        <p:spPr>
          <a:xfrm>
            <a:off x="4211640" y="1413000"/>
            <a:ext cx="1152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Picture 9" descr="черёмуха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580000" y="148428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Рисунок1"/>
          <p:cNvPicPr/>
          <p:nvPr/>
        </p:nvPicPr>
        <p:blipFill>
          <a:blip r:embed="rId2"/>
          <a:stretch/>
        </p:blipFill>
        <p:spPr>
          <a:xfrm>
            <a:off x="900000" y="1557360"/>
            <a:ext cx="2808360" cy="25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2" descr="черёмуха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35640" y="76500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Рисунок1"/>
          <p:cNvPicPr/>
          <p:nvPr/>
        </p:nvPicPr>
        <p:blipFill>
          <a:blip r:embed="rId2"/>
          <a:stretch/>
        </p:blipFill>
        <p:spPr>
          <a:xfrm>
            <a:off x="971640" y="1052640"/>
            <a:ext cx="2448000" cy="224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14"/>
          <p:cNvSpPr/>
          <p:nvPr/>
        </p:nvSpPr>
        <p:spPr>
          <a:xfrm>
            <a:off x="3635280" y="321300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1332000" y="35733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364000" y="3573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1332000" y="40053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5364000" y="4005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617280" y="465300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1332000" y="5157720"/>
            <a:ext cx="2252520" cy="11912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им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364000" y="5229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45:10Z</dcterms:created>
  <dc:creator>user</dc:creator>
  <dc:description/>
  <dc:language>en-US</dc:language>
  <cp:lastModifiedBy>Пользователь</cp:lastModifiedBy>
  <dcterms:modified xsi:type="dcterms:W3CDTF">2023-02-18T15:35:30Z</dcterms:modified>
  <cp:revision>17</cp:revision>
  <dc:subject/>
  <dc:title>Слайд 1</dc:title>
</cp:coreProperties>
</file>