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9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E79-4C8D-4974-AA7F-AB3167CF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2C9-D4C4-4492-9535-A28A6E9C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5C6-6634-49FA-9B46-FF326851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A64-CBA3-4336-B2CA-BED9B4F1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7DCE-18C0-4AFC-97A0-66444EF3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F811-1EDF-4D92-8942-B1C1AEBA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B0C3-A9EB-4731-9D30-739AC7F5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FBAE-BD16-48D4-9351-47B3146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E372-EF0A-4E1C-98A4-6CC85DE7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8919-2337-4494-8E83-A0A9B731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6E31-1E83-4FB7-B6B2-31BC8A0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282-F364-4614-AE42-5D5C2E36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6CC1-1F10-4AAF-8675-230B064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863F-3C54-49BB-9863-CF814BC0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3E45-7261-4F4E-86FC-9E22CD45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D74F-8F37-4CD1-A2C8-ECD1D161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8D3B-B7A7-4F2B-81D0-C920145D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332A-3B6D-4381-9E0C-BDC30373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428F-BF30-4267-9289-35462967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B2D0-4EA8-43A8-8283-FB22DFB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1E12-99D3-4954-9F2E-0CBE5221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63A4-F983-4134-82C2-99C10107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C38-7032-407A-88D0-2B5361AC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BE49-74B7-4FD8-B765-9DF5F5C6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8CE4-52F0-4258-B129-EF0A19B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7B64-5DC7-4880-AE40-C3AD7E77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119D-AB44-4BBF-80E7-FE8A705C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E2DE-DB4C-4A10-9167-0B98776C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2053-9EBE-4131-97CF-AC78B39B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D608-7345-4C79-ACE3-8D5B1216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EFAD-BA89-46B8-B171-3C2FEA8E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DD0D-1EA5-4592-BEE4-6E2CE59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B1F8-CCF7-4279-94D8-B5198AE8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934-5ADC-4A0E-824A-0BBDA967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C0DA-6EF2-409A-AC85-99505422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F71E-7A26-4C8F-9313-04E3596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40B0-556A-47A8-B750-66F49246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C4FC-9937-4679-8635-8B668FE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AEA1-DC39-4C36-8B75-738D8C2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D0B9-95C3-4E4D-9858-7EFFE2E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F310-D9CA-4DB4-8313-8880847C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D8998-9FB8-48A1-8067-CAA6412C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A651-CAF3-4B8F-8ACB-922D3F23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705-BF6D-43DA-89DA-C7C2B2B6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264-AFFD-4F22-AEDD-36DFFD86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C1A-A03E-4AD0-BE91-AA09905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95B-A8C7-489E-AE9A-82FF9F71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F91-FD45-49C9-9C24-437B62C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5082-7748-4C63-980F-B35602E3AC40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66E5-81A5-43FE-8ABA-79CEC97DB389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EE5-C4EF-4DED-BEE8-5C1D46FF5C50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B91E-908B-47FE-9E93-604B5108E19A}" type="slidenum">
              <a:rPr b="1" lang="ru-RU" sz="1200" spc="-1" strike="noStrike">
                <a:solidFill>
                  <a:srgbClr val="7f7f7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900000" y="134136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орастущие и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 растения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84360" y="62064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Bookman Old Style"/>
              </a:rPr>
              <a:t>Урок по окружающему миру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097520" y="314172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4"/>
          <p:cNvSpPr txBox="1"/>
          <p:nvPr/>
        </p:nvSpPr>
        <p:spPr>
          <a:xfrm>
            <a:off x="3851280" y="1484280"/>
            <a:ext cx="1152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Picture 6" descr="Food027"/>
          <p:cNvPicPr/>
          <p:nvPr/>
        </p:nvPicPr>
        <p:blipFill>
          <a:blip r:embed="rId1"/>
          <a:stretch/>
        </p:blipFill>
        <p:spPr>
          <a:xfrm>
            <a:off x="1042920" y="1700280"/>
            <a:ext cx="2257560" cy="230508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7"/>
          <p:cNvSpPr/>
          <p:nvPr/>
        </p:nvSpPr>
        <p:spPr>
          <a:xfrm>
            <a:off x="1042920" y="4797360"/>
            <a:ext cx="5904000" cy="1008000"/>
          </a:xfrm>
          <a:prstGeom prst="wedgeRoundRectCallout">
            <a:avLst>
              <a:gd name="adj1" fmla="val 39675"/>
              <a:gd name="adj2" fmla="val 92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116000" y="4869000"/>
            <a:ext cx="56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одуванчик от помидора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83" name="Picture 9" descr="Рисунок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932360" y="1125360"/>
            <a:ext cx="25383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Food027"/>
          <p:cNvPicPr/>
          <p:nvPr/>
        </p:nvPicPr>
        <p:blipFill>
          <a:blip r:embed="rId1"/>
          <a:stretch/>
        </p:blipFill>
        <p:spPr>
          <a:xfrm>
            <a:off x="1258920" y="1197000"/>
            <a:ext cx="1692360" cy="1727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Рисунок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508720" y="476280"/>
            <a:ext cx="2019240" cy="25923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3635280" y="2708280"/>
            <a:ext cx="165744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617280" y="3860640"/>
            <a:ext cx="174132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1258920" y="3141720"/>
            <a:ext cx="2252520" cy="6426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равянистое растени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508720" y="3141720"/>
            <a:ext cx="2252520" cy="6426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равянистое растение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1332000" y="4437000"/>
            <a:ext cx="2252520" cy="17398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огороде. Человек сажает, ухаживает, собирает урожай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5508720" y="436572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повсюд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4"/>
          <p:cNvSpPr txBox="1"/>
          <p:nvPr/>
        </p:nvSpPr>
        <p:spPr>
          <a:xfrm>
            <a:off x="468360" y="476280"/>
            <a:ext cx="7553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какие две групп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жно разделить все растения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WordArt 5"/>
          <p:cNvSpPr txBox="1"/>
          <p:nvPr/>
        </p:nvSpPr>
        <p:spPr>
          <a:xfrm>
            <a:off x="2124000" y="177336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6"/>
          <p:cNvSpPr txBox="1"/>
          <p:nvPr/>
        </p:nvSpPr>
        <p:spPr>
          <a:xfrm>
            <a:off x="6227640" y="1844640"/>
            <a:ext cx="5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572000" y="27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тения, которые  выращивает специально человек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611280" y="27813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тения, которые  никто не сажает, они растут сами по себе. Их можно встретить везде: и в лесу, и на лугу, и на водоёме.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WordArt 9"/>
          <p:cNvSpPr txBox="1"/>
          <p:nvPr/>
        </p:nvSpPr>
        <p:spPr>
          <a:xfrm>
            <a:off x="5219640" y="1916280"/>
            <a:ext cx="27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0"/>
          <p:cNvSpPr txBox="1"/>
          <p:nvPr/>
        </p:nvSpPr>
        <p:spPr>
          <a:xfrm>
            <a:off x="900000" y="1916280"/>
            <a:ext cx="331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орастущ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68360" y="1341360"/>
            <a:ext cx="2692440" cy="40323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5"/>
          <p:cNvSpPr txBox="1"/>
          <p:nvPr/>
        </p:nvSpPr>
        <p:spPr>
          <a:xfrm>
            <a:off x="1763640" y="692280"/>
            <a:ext cx="482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это за дерево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132000" y="1413000"/>
            <a:ext cx="54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ерезка получила свое имя из-за светлой белой коры. Видно, сильное впечатление произвел когда-то на наших далеких предков сверкающий серебряный ствол этого чудесного деревца. «Бер» у древних славян означало «светлый, ясный, блестящий, белый». От него-то и пошли слова «береста», «береза»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4"/>
          <p:cNvSpPr txBox="1"/>
          <p:nvPr/>
        </p:nvSpPr>
        <p:spPr>
          <a:xfrm>
            <a:off x="1979640" y="836640"/>
            <a:ext cx="48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Line 5"/>
          <p:cNvSpPr/>
          <p:nvPr/>
        </p:nvSpPr>
        <p:spPr>
          <a:xfrm flipH="1">
            <a:off x="2195640" y="1844640"/>
            <a:ext cx="792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4284720" y="1916280"/>
            <a:ext cx="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5724360" y="1844640"/>
            <a:ext cx="71928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611280" y="242100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3276720" y="242100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устарник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5940360" y="2349360"/>
            <a:ext cx="237672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ав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611280" y="3357720"/>
            <a:ext cx="216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Яблон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уш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276720" y="3357720"/>
            <a:ext cx="244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рыжовник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ороди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156360" y="3284640"/>
            <a:ext cx="216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4"/>
          <p:cNvSpPr txBox="1"/>
          <p:nvPr/>
        </p:nvSpPr>
        <p:spPr>
          <a:xfrm>
            <a:off x="1979640" y="836640"/>
            <a:ext cx="48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1835280" y="1773360"/>
            <a:ext cx="792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4284720" y="1844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5" name="Line 7"/>
          <p:cNvSpPr/>
          <p:nvPr/>
        </p:nvSpPr>
        <p:spPr>
          <a:xfrm flipH="1">
            <a:off x="2195640" y="1773360"/>
            <a:ext cx="1224000" cy="22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5219640" y="1773360"/>
            <a:ext cx="936720" cy="2087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6156360" y="1700280"/>
            <a:ext cx="934920" cy="57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24000" y="234936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вощ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3132000" y="2349360"/>
            <a:ext cx="237672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лодов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611280" y="4076640"/>
            <a:ext cx="367164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екоратив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1" name="Oval 14"/>
          <p:cNvSpPr/>
          <p:nvPr/>
        </p:nvSpPr>
        <p:spPr>
          <a:xfrm>
            <a:off x="6012000" y="2349360"/>
            <a:ext cx="2376360" cy="503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ернов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2" name="Oval 15"/>
          <p:cNvSpPr/>
          <p:nvPr/>
        </p:nvSpPr>
        <p:spPr>
          <a:xfrm>
            <a:off x="4716360" y="4076640"/>
            <a:ext cx="3672000" cy="72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ядильны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4"/>
          <p:cNvSpPr txBox="1"/>
          <p:nvPr/>
        </p:nvSpPr>
        <p:spPr>
          <a:xfrm>
            <a:off x="1258920" y="765000"/>
            <a:ext cx="55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тог уро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755640" y="1844640"/>
            <a:ext cx="7632720" cy="10688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 какие две группы можно разделить все растения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755640" y="4149720"/>
            <a:ext cx="7632720" cy="10688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риведите примеры растений каждой группы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User\Desktop\1640819554_80-celes-club-p-soika-zimoi-priroda-krasivo-foto-89.jpg"/>
          <p:cNvPicPr/>
          <p:nvPr/>
        </p:nvPicPr>
        <p:blipFill>
          <a:blip r:embed="rId1"/>
          <a:stretch/>
        </p:blipFill>
        <p:spPr>
          <a:xfrm>
            <a:off x="5076720" y="115920"/>
            <a:ext cx="3095640" cy="21589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1"/>
          <p:cNvSpPr/>
          <p:nvPr/>
        </p:nvSpPr>
        <p:spPr>
          <a:xfrm>
            <a:off x="611280" y="56116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к связаны между собой белка и сойка в зимнем лесу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User\Desktop\322726866dd5dee42d7ceae31b12850a.jpg"/>
          <p:cNvPicPr/>
          <p:nvPr/>
        </p:nvPicPr>
        <p:blipFill>
          <a:blip r:embed="rId1"/>
          <a:stretch/>
        </p:blipFill>
        <p:spPr>
          <a:xfrm>
            <a:off x="2698920" y="2870280"/>
            <a:ext cx="2663640" cy="1989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5219640" y="139680"/>
            <a:ext cx="3565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йка прячет в своих кладовых жёлуди, но не умеет доставать их из−под снега. На помощь сойке при-ходит белка. Для неё кладовые сойки − чудесная находка. Ловко раскопав глубокий снег, белка съедает часть желудей. После неё на разрытое место прилетает хозяйка кладовой и доедает то, что осталось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1" name="Picture 2" descr="C:\Users\User\Desktop\1640819554_80-celes-club-p-soika-zimoi-priroda-krasivo-foto-89.jpg"/>
          <p:cNvPicPr/>
          <p:nvPr/>
        </p:nvPicPr>
        <p:blipFill>
          <a:blip r:embed="rId2"/>
          <a:stretch/>
        </p:blipFill>
        <p:spPr>
          <a:xfrm>
            <a:off x="2124000" y="-19080"/>
            <a:ext cx="3095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на реке"/>
          <p:cNvPicPr/>
          <p:nvPr/>
        </p:nvPicPr>
        <p:blipFill>
          <a:blip r:embed="rId1"/>
          <a:stretch/>
        </p:blipFill>
        <p:spPr>
          <a:xfrm>
            <a:off x="781200" y="1987560"/>
            <a:ext cx="2770200" cy="2890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23" name="Rectangle 5"/>
          <p:cNvSpPr/>
          <p:nvPr/>
        </p:nvSpPr>
        <p:spPr>
          <a:xfrm>
            <a:off x="4500720" y="1268280"/>
            <a:ext cx="4030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Деревья</a:t>
            </a:r>
            <a:r>
              <a:rPr b="1" i="1" lang="ru-RU" sz="3600" spc="-1" strike="noStrike">
                <a:solidFill>
                  <a:srgbClr val="59a8d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1763640" y="1483920"/>
            <a:ext cx="5781600" cy="3690360"/>
            <a:chOff x="1763640" y="1483920"/>
            <a:chExt cx="5781600" cy="3690360"/>
          </a:xfrm>
        </p:grpSpPr>
        <p:sp>
          <p:nvSpPr>
            <p:cNvPr id="225" name="Text Box 7"/>
            <p:cNvSpPr/>
            <p:nvPr/>
          </p:nvSpPr>
          <p:spPr>
            <a:xfrm>
              <a:off x="5364000" y="19872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Arial"/>
                </a:rPr>
                <a:t>Кусты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6" name="Text Box 8"/>
            <p:cNvSpPr/>
            <p:nvPr/>
          </p:nvSpPr>
          <p:spPr>
            <a:xfrm>
              <a:off x="5508720" y="3068280"/>
              <a:ext cx="203652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ru-RU" sz="3600" spc="-1" strike="noStrike">
                  <a:solidFill>
                    <a:srgbClr val="008000"/>
                  </a:solidFill>
                  <a:latin typeface="Arial"/>
                </a:rPr>
                <a:t>Травы </a:t>
              </a:r>
              <a:endParaRPr b="0" lang="en-US" sz="36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) цветы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Б) лишайники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) мхи</a:t>
              </a:r>
              <a:endParaRPr b="0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2340000" y="1483920"/>
              <a:ext cx="2879640" cy="50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1763640" y="2418840"/>
              <a:ext cx="3529080" cy="12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 flipV="1">
              <a:off x="3132000" y="4003200"/>
              <a:ext cx="2376720" cy="10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230" name="AutoShape 12"/>
          <p:cNvSpPr/>
          <p:nvPr/>
        </p:nvSpPr>
        <p:spPr>
          <a:xfrm>
            <a:off x="1116000" y="404640"/>
            <a:ext cx="5543640" cy="936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какие группы делятся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се растения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468360" y="476280"/>
            <a:ext cx="7553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ое значение для человека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меют растения?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H="1">
            <a:off x="1835280" y="1628640"/>
            <a:ext cx="1008000" cy="3603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Line 6"/>
          <p:cNvSpPr/>
          <p:nvPr/>
        </p:nvSpPr>
        <p:spPr>
          <a:xfrm flipH="1">
            <a:off x="2916000" y="1700280"/>
            <a:ext cx="934920" cy="2305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4932360" y="1700280"/>
            <a:ext cx="1152360" cy="2233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5651640" y="1700280"/>
            <a:ext cx="1008000" cy="2160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36" name="Group 20"/>
          <p:cNvGrpSpPr/>
          <p:nvPr/>
        </p:nvGrpSpPr>
        <p:grpSpPr>
          <a:xfrm>
            <a:off x="542160" y="1989000"/>
            <a:ext cx="2131560" cy="1974960"/>
            <a:chOff x="542160" y="1989000"/>
            <a:chExt cx="2131560" cy="1974960"/>
          </a:xfrm>
        </p:grpSpPr>
        <p:sp>
          <p:nvSpPr>
            <p:cNvPr id="237" name="Text Box 9"/>
            <p:cNvSpPr/>
            <p:nvPr/>
          </p:nvSpPr>
          <p:spPr>
            <a:xfrm>
              <a:off x="542160" y="198900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мят человека</a:t>
              </a: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238" name="Picture 10" descr="fruits"/>
            <p:cNvPicPr/>
            <p:nvPr/>
          </p:nvPicPr>
          <p:blipFill>
            <a:blip r:embed="rId5"/>
            <a:stretch/>
          </p:blipFill>
          <p:spPr>
            <a:xfrm>
              <a:off x="755640" y="2276640"/>
              <a:ext cx="1800360" cy="16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Text Box 12"/>
          <p:cNvSpPr/>
          <p:nvPr/>
        </p:nvSpPr>
        <p:spPr>
          <a:xfrm>
            <a:off x="5081400" y="40766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чат человека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6156360" y="2060640"/>
            <a:ext cx="25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ют много полезных веществ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41" name="Picture 14" descr="HUTCH_thumb"/>
          <p:cNvPicPr/>
          <p:nvPr/>
        </p:nvPicPr>
        <p:blipFill>
          <a:blip r:embed="rId6"/>
          <a:stretch/>
        </p:blipFill>
        <p:spPr>
          <a:xfrm>
            <a:off x="6372360" y="2997360"/>
            <a:ext cx="571320" cy="95220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21"/>
          <p:cNvGrpSpPr/>
          <p:nvPr/>
        </p:nvGrpSpPr>
        <p:grpSpPr>
          <a:xfrm>
            <a:off x="1332000" y="4076640"/>
            <a:ext cx="2538720" cy="1728720"/>
            <a:chOff x="1332000" y="4076640"/>
            <a:chExt cx="2538720" cy="1728720"/>
          </a:xfrm>
        </p:grpSpPr>
        <p:sp>
          <p:nvSpPr>
            <p:cNvPr id="243" name="Text Box 11"/>
            <p:cNvSpPr/>
            <p:nvPr/>
          </p:nvSpPr>
          <p:spPr>
            <a:xfrm>
              <a:off x="1551960" y="4076640"/>
              <a:ext cx="23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девают человека</a:t>
              </a: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244" name="Picture 15" descr="Рисунок11"/>
            <p:cNvPicPr/>
            <p:nvPr/>
          </p:nvPicPr>
          <p:blipFill>
            <a:blip r:embed="rId7"/>
            <a:stretch/>
          </p:blipFill>
          <p:spPr>
            <a:xfrm>
              <a:off x="1332000" y="4508640"/>
              <a:ext cx="119196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6" descr="Рисунок56"/>
            <p:cNvPicPr/>
            <p:nvPr/>
          </p:nvPicPr>
          <p:blipFill>
            <a:blip r:embed="rId8"/>
            <a:stretch/>
          </p:blipFill>
          <p:spPr>
            <a:xfrm>
              <a:off x="2556000" y="4437000"/>
              <a:ext cx="1288800" cy="136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7" descr="Рисунок1"/>
          <p:cNvPicPr/>
          <p:nvPr/>
        </p:nvPicPr>
        <p:blipFill>
          <a:blip r:embed="rId9"/>
          <a:stretch/>
        </p:blipFill>
        <p:spPr>
          <a:xfrm>
            <a:off x="6948360" y="2637000"/>
            <a:ext cx="1349640" cy="1460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Рисунок4"/>
          <p:cNvPicPr/>
          <p:nvPr/>
        </p:nvPicPr>
        <p:blipFill>
          <a:blip r:embed="rId10">
            <a:lum bright="-18000"/>
          </a:blip>
          <a:stretch/>
        </p:blipFill>
        <p:spPr>
          <a:xfrm>
            <a:off x="4716360" y="4292640"/>
            <a:ext cx="1230480" cy="1441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Рисунок1"/>
          <p:cNvPicPr/>
          <p:nvPr/>
        </p:nvPicPr>
        <p:blipFill>
          <a:blip r:embed="rId11">
            <a:lum bright="-18000"/>
          </a:blip>
          <a:stretch/>
        </p:blipFill>
        <p:spPr>
          <a:xfrm>
            <a:off x="5940360" y="4437000"/>
            <a:ext cx="827280" cy="136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J0233040"/>
          <p:cNvPicPr/>
          <p:nvPr/>
        </p:nvPicPr>
        <p:blipFill>
          <a:blip r:embed="rId12"/>
          <a:stretch/>
        </p:blipFill>
        <p:spPr>
          <a:xfrm>
            <a:off x="3780000" y="2349360"/>
            <a:ext cx="135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4"/>
          <p:cNvSpPr/>
          <p:nvPr/>
        </p:nvSpPr>
        <p:spPr>
          <a:xfrm>
            <a:off x="1042920" y="4797360"/>
            <a:ext cx="5904000" cy="646200"/>
          </a:xfrm>
          <a:prstGeom prst="wedgeRoundRectCallout">
            <a:avLst>
              <a:gd name="adj1" fmla="val 39675"/>
              <a:gd name="adj2" fmla="val 1730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971640" y="486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ель от яблони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4140360" y="1197000"/>
            <a:ext cx="1152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Picture 8" descr="3"/>
          <p:cNvPicPr/>
          <p:nvPr/>
        </p:nvPicPr>
        <p:blipFill>
          <a:blip r:embed="rId1"/>
          <a:stretch/>
        </p:blipFill>
        <p:spPr>
          <a:xfrm>
            <a:off x="5508720" y="836640"/>
            <a:ext cx="2351160" cy="3527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tree in bloom 3"/>
          <p:cNvPicPr/>
          <p:nvPr/>
        </p:nvPicPr>
        <p:blipFill>
          <a:blip r:embed="rId2"/>
          <a:stretch/>
        </p:blipFill>
        <p:spPr>
          <a:xfrm>
            <a:off x="755640" y="907920"/>
            <a:ext cx="3046320" cy="388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"/>
          <p:cNvSpPr/>
          <p:nvPr/>
        </p:nvSpPr>
        <p:spPr>
          <a:xfrm>
            <a:off x="1332000" y="290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АБОТА В ПАРАХ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"/>
          <p:cNvSpPr/>
          <p:nvPr/>
        </p:nvSpPr>
        <p:spPr>
          <a:xfrm>
            <a:off x="3643200" y="1285920"/>
            <a:ext cx="165744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553920" y="4071960"/>
            <a:ext cx="174132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429160" y="40719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лес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1285920" y="4000680"/>
            <a:ext cx="2252520" cy="11912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саду. За ней ухаживает человек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1285920" y="214308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286240" y="214308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285920" y="29289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357880" y="29289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116000" y="4869000"/>
            <a:ext cx="56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ем отличаются орешник от крыжовника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1042920" y="4797360"/>
            <a:ext cx="5904000" cy="1008000"/>
          </a:xfrm>
          <a:prstGeom prst="wedgeRoundRectCallout">
            <a:avLst>
              <a:gd name="adj1" fmla="val 39675"/>
              <a:gd name="adj2" fmla="val 92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6" name="WordArt 6"/>
          <p:cNvSpPr txBox="1"/>
          <p:nvPr/>
        </p:nvSpPr>
        <p:spPr>
          <a:xfrm>
            <a:off x="4211640" y="1413000"/>
            <a:ext cx="1152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7" name="Picture 9" descr="черёмуха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580000" y="1484280"/>
            <a:ext cx="21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Рисунок1"/>
          <p:cNvPicPr/>
          <p:nvPr/>
        </p:nvPicPr>
        <p:blipFill>
          <a:blip r:embed="rId2"/>
          <a:stretch/>
        </p:blipFill>
        <p:spPr>
          <a:xfrm>
            <a:off x="900000" y="1557360"/>
            <a:ext cx="2808360" cy="25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2" descr="черёмуха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35640" y="765000"/>
            <a:ext cx="21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Рисунок1"/>
          <p:cNvPicPr/>
          <p:nvPr/>
        </p:nvPicPr>
        <p:blipFill>
          <a:blip r:embed="rId2"/>
          <a:stretch/>
        </p:blipFill>
        <p:spPr>
          <a:xfrm>
            <a:off x="971640" y="1052640"/>
            <a:ext cx="2448000" cy="2241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14"/>
          <p:cNvSpPr/>
          <p:nvPr/>
        </p:nvSpPr>
        <p:spPr>
          <a:xfrm>
            <a:off x="3635280" y="3213000"/>
            <a:ext cx="165744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ще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1332000" y="35733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устарник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364000" y="35733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устарник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1332000" y="4005360"/>
            <a:ext cx="225252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5364000" y="40053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риносит пользу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617280" y="4653000"/>
            <a:ext cx="1741320" cy="459720"/>
          </a:xfrm>
          <a:prstGeom prst="rect">
            <a:avLst/>
          </a:prstGeom>
          <a:solidFill>
            <a:srgbClr val="59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лич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1332000" y="5157720"/>
            <a:ext cx="2252520" cy="11912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саду. За ним ухаживает человек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5364000" y="5229360"/>
            <a:ext cx="2252880" cy="36828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Растёт в лесу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45:10Z</dcterms:created>
  <dc:creator>user</dc:creator>
  <dc:description/>
  <dc:language>en-US</dc:language>
  <cp:lastModifiedBy>Пользователь</cp:lastModifiedBy>
  <dcterms:modified xsi:type="dcterms:W3CDTF">2023-02-18T15:35:30Z</dcterms:modified>
  <cp:revision>17</cp:revision>
  <dc:subject/>
  <dc:title>Слайд 1</dc:title>
</cp:coreProperties>
</file>