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B44-EF0E-46D5-8B0E-EA990582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BCB-5908-452C-B5CE-9105C98C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7B3-C28C-4925-9595-0AFC550F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9F3-8588-44C1-905F-5CE6064D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4E9-D4CC-4107-AF16-83780F2E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628-6CBF-434C-BBC4-28D9E2B1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86A-FE3A-4E9E-8906-42774EC7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13F-93E3-46EB-811D-9D7E6F9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085-8A51-4863-98BD-DC7AEA1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0F0-A5A9-4FDA-A8F1-CEA0DC1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87F-2FF9-4940-81E8-32891E15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F91-94BA-451F-8973-840F47DA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328-AF2B-4391-8EC5-D38ACB20C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Художники Заураль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4508640"/>
            <a:ext cx="9144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валёва Светлана Виктор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</a:t>
            </a:r>
            <a:br>
              <a:rPr sz="2000"/>
            </a:b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"Курганская специальная (коррекционная) школа № 8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5651640"/>
            <a:ext cx="9144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Курган, 2023 уч.г.</a:t>
            </a:r>
            <a:br>
              <a:rPr sz="2000"/>
            </a:b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4357440"/>
            <a:ext cx="45720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Сказка о попе. Темпера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857840" y="614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Морозко. Акварель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Сказка о попе"/>
          <p:cNvPicPr/>
          <p:nvPr/>
        </p:nvPicPr>
        <p:blipFill>
          <a:blip r:embed="rId1"/>
          <a:stretch/>
        </p:blipFill>
        <p:spPr>
          <a:xfrm>
            <a:off x="285840" y="428760"/>
            <a:ext cx="4498920" cy="392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Морозко"/>
          <p:cNvPicPr/>
          <p:nvPr/>
        </p:nvPicPr>
        <p:blipFill>
          <a:blip r:embed="rId2"/>
          <a:stretch/>
        </p:blipFill>
        <p:spPr>
          <a:xfrm>
            <a:off x="5143680" y="1285920"/>
            <a:ext cx="3821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1785960" y="428760"/>
            <a:ext cx="5715000" cy="41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ерман Алексеевич принял участие в 160 выставках, провёл более 50 персональных выставок на Урале, в Сибири, многих городах страны и за  рубежом. Работает в разной живописной техн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 увлекается музыкой, поэзией, путешествиями, любит отдыхать на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1982 году ему присвоено звание «Заслуженный художник РСФС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2007 году присвоено звание «Народный Художник России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чётное звание Курганской области «Почётный гражданин Курганской области», присвоено 1 апреля 2005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урганскому областному художественному музею присвоено имя Г.А.Травникова в  декабре 2019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Admin\Рабочий стол\Картинки для мобильного\a13.gif"/>
          <p:cNvPicPr/>
          <p:nvPr/>
        </p:nvPicPr>
        <p:blipFill>
          <a:blip r:embed="rId1"/>
          <a:stretch/>
        </p:blipFill>
        <p:spPr>
          <a:xfrm>
            <a:off x="0" y="485784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Картинки для мобильного\a13.gif"/>
          <p:cNvPicPr/>
          <p:nvPr/>
        </p:nvPicPr>
        <p:blipFill>
          <a:blip r:embed="rId2"/>
          <a:stretch/>
        </p:blipFill>
        <p:spPr>
          <a:xfrm flipH="1">
            <a:off x="6858000" y="48578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\Рабочий стол\Картинки для мобильного\a13.gif"/>
          <p:cNvPicPr/>
          <p:nvPr/>
        </p:nvPicPr>
        <p:blipFill>
          <a:blip r:embed="rId3"/>
          <a:stretch/>
        </p:blipFill>
        <p:spPr>
          <a:xfrm>
            <a:off x="0" y="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Admin\Рабочий стол\Картинки для мобильного\a13.gif"/>
          <p:cNvPicPr/>
          <p:nvPr/>
        </p:nvPicPr>
        <p:blipFill>
          <a:blip r:embed="rId4"/>
          <a:stretch/>
        </p:blipFill>
        <p:spPr>
          <a:xfrm flipH="1">
            <a:off x="6858000" y="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3857760" y="928800"/>
            <a:ext cx="500040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равников Герман Алексе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43200" y="928440"/>
            <a:ext cx="5114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дился 1937 году в селе Мехонском Каргапольского района Челябинской области (ныне Шатровского района Курганской области). Начал рисовать в возрасте трёх с половиной лет. В ноябре 1954 состоялась первая персональная выставка (20 рисунков и акварелей) в школе (с. Исетско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Г.А. Травникова находятся в Государственной Третьяковской галерее, Курганском, Архангельском, Красноярском, Туркменском, Карельском художественных музеях, в музеях Польши, Болгарии, Перми, художественных галереях Екатеринбурга, Челябинска, Тюмени и других городов. Его картины есть во многих частных собраниях и организациях разных стран. К примеру, в частных коллекциях Мстислава Ростроповича, у ценителей живописи США, Японии, Италии, Австралии и др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9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214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76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41432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285840" y="192996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Таватуй. Вес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3" descr=""/>
          <p:cNvPicPr/>
          <p:nvPr/>
        </p:nvPicPr>
        <p:blipFill>
          <a:blip r:embed="rId2"/>
          <a:stretch/>
        </p:blipFill>
        <p:spPr>
          <a:xfrm>
            <a:off x="4714920" y="857160"/>
            <a:ext cx="4143240" cy="3643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4714920" y="45018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«На Ура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ия «По поездкам».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сляная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379760" cy="3143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3428640"/>
            <a:ext cx="45720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На гор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Соловецкий сон"/>
          <p:cNvPicPr/>
          <p:nvPr/>
        </p:nvPicPr>
        <p:blipFill>
          <a:blip r:embed="rId2"/>
          <a:stretch/>
        </p:blipFill>
        <p:spPr>
          <a:xfrm>
            <a:off x="5143680" y="1214280"/>
            <a:ext cx="3700440" cy="50007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4857840" y="614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«Соловецкий с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2"/>
          <p:cNvSpPr/>
          <p:nvPr/>
        </p:nvSpPr>
        <p:spPr>
          <a:xfrm>
            <a:off x="142920" y="38581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" Март"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Март"/>
          <p:cNvPicPr/>
          <p:nvPr/>
        </p:nvPicPr>
        <p:blipFill>
          <a:blip r:embed="rId1"/>
          <a:stretch/>
        </p:blipFill>
        <p:spPr>
          <a:xfrm>
            <a:off x="142920" y="571680"/>
            <a:ext cx="429732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2"/>
          <p:cNvSpPr/>
          <p:nvPr/>
        </p:nvSpPr>
        <p:spPr>
          <a:xfrm>
            <a:off x="0" y="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ия «Земля Курганская». Масляная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Осенний Тобол"/>
          <p:cNvPicPr/>
          <p:nvPr/>
        </p:nvPicPr>
        <p:blipFill>
          <a:blip r:embed="rId2"/>
          <a:stretch/>
        </p:blipFill>
        <p:spPr>
          <a:xfrm>
            <a:off x="4643280" y="2857680"/>
            <a:ext cx="4330800" cy="3392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4714920" y="6287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" Осенний Тобол"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285840" y="1572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Лето в Лесник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786200" y="47872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ом под е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Лето в Лесниках"/>
          <p:cNvPicPr/>
          <p:nvPr/>
        </p:nvPicPr>
        <p:blipFill>
          <a:blip r:embed="rId1"/>
          <a:stretch/>
        </p:blipFill>
        <p:spPr>
          <a:xfrm>
            <a:off x="500040" y="2214720"/>
            <a:ext cx="3622680" cy="4278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Дом под елью"/>
          <p:cNvPicPr/>
          <p:nvPr/>
        </p:nvPicPr>
        <p:blipFill>
          <a:blip r:embed="rId2"/>
          <a:stretch/>
        </p:blipFill>
        <p:spPr>
          <a:xfrm>
            <a:off x="5000760" y="357120"/>
            <a:ext cx="3584520" cy="44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2"/>
          <p:cNvSpPr/>
          <p:nvPr/>
        </p:nvSpPr>
        <p:spPr>
          <a:xfrm>
            <a:off x="285840" y="42868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" Светка"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ия «Портреты». Масляная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786200" y="628704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" Бабушка Юлия"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Светка"/>
          <p:cNvPicPr/>
          <p:nvPr/>
        </p:nvPicPr>
        <p:blipFill>
          <a:blip r:embed="rId1"/>
          <a:stretch/>
        </p:blipFill>
        <p:spPr>
          <a:xfrm>
            <a:off x="214200" y="571680"/>
            <a:ext cx="4429080" cy="372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Бабушка Юлия"/>
          <p:cNvPicPr/>
          <p:nvPr/>
        </p:nvPicPr>
        <p:blipFill>
          <a:blip r:embed="rId2"/>
          <a:stretch/>
        </p:blipFill>
        <p:spPr>
          <a:xfrm>
            <a:off x="5214960" y="1285920"/>
            <a:ext cx="3581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000400"/>
            <a:ext cx="38577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Петь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857840" y="614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«Дедушка Ант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Дедушка Антон"/>
          <p:cNvPicPr/>
          <p:nvPr/>
        </p:nvPicPr>
        <p:blipFill>
          <a:blip r:embed="rId1"/>
          <a:stretch/>
        </p:blipFill>
        <p:spPr>
          <a:xfrm>
            <a:off x="5180040" y="1143000"/>
            <a:ext cx="3749760" cy="500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Петька"/>
          <p:cNvPicPr/>
          <p:nvPr/>
        </p:nvPicPr>
        <p:blipFill>
          <a:blip r:embed="rId2"/>
          <a:stretch/>
        </p:blipFill>
        <p:spPr>
          <a:xfrm>
            <a:off x="214200" y="214200"/>
            <a:ext cx="36435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285840" y="23583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расная Шапочка. Масло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5286240" y="5574240"/>
            <a:ext cx="36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юймовочка. Масло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0" y="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ия «Сказ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расная шапочка"/>
          <p:cNvPicPr/>
          <p:nvPr/>
        </p:nvPicPr>
        <p:blipFill>
          <a:blip r:embed="rId1"/>
          <a:stretch/>
        </p:blipFill>
        <p:spPr>
          <a:xfrm>
            <a:off x="285840" y="2857680"/>
            <a:ext cx="4502160" cy="357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Дюймовочка"/>
          <p:cNvPicPr/>
          <p:nvPr/>
        </p:nvPicPr>
        <p:blipFill>
          <a:blip r:embed="rId2"/>
          <a:stretch/>
        </p:blipFill>
        <p:spPr>
          <a:xfrm>
            <a:off x="5286240" y="642960"/>
            <a:ext cx="3622680" cy="49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9:57:30Z</dcterms:created>
  <dc:creator/>
  <dc:description/>
  <dc:language>en-US</dc:language>
  <cp:lastModifiedBy>1206697</cp:lastModifiedBy>
  <dcterms:modified xsi:type="dcterms:W3CDTF">2023-02-18T10:30:49Z</dcterms:modified>
  <cp:revision>75</cp:revision>
  <dc:subject/>
  <dc:title>Слайд 1</dc:title>
</cp:coreProperties>
</file>