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262-D21A-4D9E-B31B-2E9F596F7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72D3-5F0E-4183-859D-886EAC57D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4D38-BB71-4BA4-B6D8-08E0FB243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AAD-44A0-4369-9EA3-737DD157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143-A315-49C8-8C86-5BF70D2B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3B2-EDCC-46B4-A632-0A695710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155-893B-4739-A729-3C8043E6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AD9-6B5C-4812-9D7A-207327D5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34BB-E154-4B7A-9262-2F2AD761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AB84-3801-4C7A-9335-8782EAF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36C9-27BF-4917-AB87-7E973D76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125-7ECF-48D4-9D9C-0436A76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68E-D81A-4F67-817E-AB1CDED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CB61-ECA4-4FBC-9D5A-D847265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2E6-A752-4E3E-817C-AB24B334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42E3-50FC-4CDF-9AE2-069873A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7DD4-D7E2-4C2F-ADFE-24DE14E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FE47-69AC-440A-A1D4-5A1937F4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6987-811B-4CC1-B0C7-BF11A19D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54F-2FD6-4E12-B365-16B7156C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3936-211A-4380-B85C-5163914F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AD8A-A39E-49BC-A7E3-18E2997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7CA6-9E29-4B5D-B71C-88B1E85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1213-6FBA-49C4-9839-95AD8FE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010D-57E4-431C-8E03-2B6A5620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57C-EAF9-410F-93C9-7379E8D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036F-2700-4C68-95B0-FA4E818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4041-7231-43F8-8E38-378C21A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E29D-9181-4F6A-BF14-53C558ED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77AB-B44A-48F9-980F-1CC5994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E3C5-F87C-4158-823C-C29A051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3D06-7D77-4313-BA28-6A4ABF16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55A0-A642-4350-A19E-A891C7B4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90AB-B346-46DC-9ED8-626513F1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5C60-34C8-4733-864A-434AB734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E7EE-169A-4D37-A501-138CAA33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E91-814C-439A-B2AA-6DF4CAD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2808-C43A-4001-85F5-3B15937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7B13-44D3-4E22-B6B2-8F27690A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1BB40-F527-4545-AEFF-0A67847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8452-BF13-4650-8ADE-A47883D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82A8-960A-4D72-AF30-EA48B8D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6502-600C-4E6F-8AE3-60E1175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988C-57A5-454E-BD9D-4BF25669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480F-1B58-4085-A1E0-DD873B6D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F1F2-1249-458B-A1C6-18511CF3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5613-4F94-4515-980D-3E4A1BF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E20-70EF-431E-8271-559B0E5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33D3-32F5-4CAE-ADB4-68EA2182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0B3F-1828-4C3E-B4A6-FF02D31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BEFA0-7749-4FD9-82B8-5A9D9769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A0E9-2ECC-4FE6-A4AE-D4B40010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1126-1CB0-4A58-BA9B-C60C965D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E9E3-0229-4D21-BE53-32F83D0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4C82-7E07-45A3-A9AF-0C260DD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F5FF9-90A6-411C-8A40-4E58AAE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61DB-F426-4051-B1E6-44D3E963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BED00-C87C-454D-8681-8715A711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39D-0A54-4F8F-93C4-DCD0420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7C20-69BB-4CB0-BEE7-B8B052DF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036F-DCB6-4C1A-9562-855805AC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9212-DCF3-40F2-9F65-E3B37D0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1D3C-A86C-4236-9826-246DDBD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C9B4-A143-4710-A151-C077D572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A7EB-5321-4B1C-9D4C-D021BBA6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EFA5-937A-4917-9577-17931B4D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0B27-FBF8-419C-8DA9-EB730FE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6141-E552-47F6-8B9C-033C270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0345-0E90-4619-8842-4AB01CD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FCB-3377-47A2-B0EF-920E6FE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FD40-06C0-4BE7-9463-1743268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45ED-AEDA-423D-A892-C00137EA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BF4E-6A24-4024-87ED-7BA0ECB5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8715-6F75-4F18-BEAC-1769BE8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BB621-AD3B-48F7-AD38-C264CF3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F090-4FCB-43E8-8EF1-2E10655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37B3-3F31-4209-9EB7-7F8B81C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8119-D300-4005-8F58-9E93337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679A-2E97-4070-BAE5-E2A9883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8081-DD1D-4C64-BA3B-C4D5CA5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7DC-799D-4ADE-9525-69F83EC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20AA-1F45-41AC-9040-831B915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EFA2-221C-4461-BC57-2B9D048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C84E-B376-4809-BEF5-19E1045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3C66-B59B-4C6B-B746-AD5B2945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7B8A-1761-4115-B769-CEB25C3D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B6C-A8D0-4C20-8D66-DEE1484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3C0F-D9AC-47E0-A844-BE060D7F749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752E-D092-4AC5-935A-13B97A46AFB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B69-F5E6-4756-8EC2-0E941C30509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E980-22B2-458B-88D9-2E79DD014CE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294-66E8-4EB4-8692-9CA0122DFA4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9BC-2A49-402D-83D9-BD7EEB7ABF6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1CE3-9257-4B7C-9AC7-8343EB2C085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МБДОУ «Детский сад №48 «Пчёлка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Киселёва  Людмила Константиновна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Использование моделирования в экологическом воспитании детей среднего дошкольного возраста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Тамбов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2022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684360" y="187920"/>
            <a:ext cx="7991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Формирующи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17"/>
          <p:cNvSpPr/>
          <p:nvPr/>
        </p:nvSpPr>
        <p:spPr>
          <a:xfrm>
            <a:off x="971640" y="907920"/>
            <a:ext cx="3529080" cy="2675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18"/>
          <p:cNvSpPr/>
          <p:nvPr/>
        </p:nvSpPr>
        <p:spPr>
          <a:xfrm>
            <a:off x="4932360" y="981000"/>
            <a:ext cx="3311640" cy="29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19"/>
          <p:cNvSpPr/>
          <p:nvPr/>
        </p:nvSpPr>
        <p:spPr>
          <a:xfrm>
            <a:off x="971640" y="105264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а первом этапе мы поставили следующие 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углубить знания о комнатных растениях (родина, вид, способы ух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развить осознанное отношение к способу у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20"/>
          <p:cNvSpPr/>
          <p:nvPr/>
        </p:nvSpPr>
        <p:spPr>
          <a:xfrm>
            <a:off x="5003640" y="1052640"/>
            <a:ext cx="331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а втором этапе мы поставили 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развивать способность к совместному моделированию в уходе за комнатными растениями, в соответствии с условиями (свет, полив, влаж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E:\2021-2022 уч.год\ВКР ЗАОЧНОЕ  2022 год + Тётушкина\Киселёва Л.К +++\IMG-20220318-WA0027.jpg"/>
          <p:cNvPicPr/>
          <p:nvPr/>
        </p:nvPicPr>
        <p:blipFill>
          <a:blip r:embed="rId1"/>
          <a:stretch/>
        </p:blipFill>
        <p:spPr>
          <a:xfrm>
            <a:off x="1027080" y="2655720"/>
            <a:ext cx="7732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ый эксперимен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42920" y="1052640"/>
          <a:ext cx="7058160" cy="5257800"/>
        </p:xfrm>
        <a:graphic>
          <a:graphicData uri="http://schemas.openxmlformats.org/drawingml/2006/table">
            <a:tbl>
              <a:tblPr/>
              <a:tblGrid>
                <a:gridCol w="1774800"/>
                <a:gridCol w="1754280"/>
                <a:gridCol w="1754280"/>
                <a:gridCol w="1774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 (узумбарская фиа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ыскиватель (традискан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ирание тряпкой (фику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47736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1505520" y="476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авнительная диа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 rot="19887600">
            <a:off x="1127160" y="2590560"/>
            <a:ext cx="5995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"/>
          <p:cNvSpPr/>
          <p:nvPr/>
        </p:nvSpPr>
        <p:spPr>
          <a:xfrm>
            <a:off x="2195640" y="466092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E:\2021-2022 уч.год\ВКР ЗАОЧНОЕ  2022 год + Тётушкина\Киселёва Л.К +++\IMG-20220430-WA0011.jpg"/>
          <p:cNvPicPr/>
          <p:nvPr/>
        </p:nvPicPr>
        <p:blipFill>
          <a:blip r:embed="rId1"/>
          <a:stretch/>
        </p:blipFill>
        <p:spPr>
          <a:xfrm>
            <a:off x="1042920" y="333360"/>
            <a:ext cx="73486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пределить роль моделирования в экологическом воспитании 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дошкольников</a:t>
            </a:r>
            <a:br>
              <a:rPr sz="2800"/>
            </a:b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БЪЕКТ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: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Экологическое воспитание детей дошкольного возраста</a:t>
            </a:r>
            <a:br>
              <a:rPr sz="28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РЕДМЕТ: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Использование моделей в экологическом образовании детей средн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 исследования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- изучить научную литературу по данной проблем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 -изучить развитие способностей к наглядному пространственному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моделированию у дошкольников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-экспериментально изучить влияние моделирования на процесс познания природы дошкольниками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СЛЕДОВАНИЕ  ПРОВОДИЛОСЬ  НА  БАЗ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4" descr="E:\2021-2022 уч.год\ВКР ЗАОЧНОЕ  2022 год + Тётушкина\Киселёва Л.К +++\IMG-20220430-WA0005.jpg"/>
          <p:cNvPicPr/>
          <p:nvPr/>
        </p:nvPicPr>
        <p:blipFill>
          <a:blip r:embed="rId1"/>
          <a:stretch/>
        </p:blipFill>
        <p:spPr>
          <a:xfrm>
            <a:off x="900000" y="476280"/>
            <a:ext cx="7201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179280" y="836640"/>
            <a:ext cx="417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Модели - это материальные заместители реальных предметов, явлени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4795920" y="4076640"/>
            <a:ext cx="43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Цель моделирования - обеспечить успешное усвоение детьми материала об особенностях объектов природы, их отношениях, существующих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79280" y="2212920"/>
            <a:ext cx="91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E:\2021-2022 уч.год\ВКР ЗАОЧНОЕ  2022 год + Тётушкина\Киселёва Л.К +++\IMG-20220321-WA0054.jpg"/>
          <p:cNvPicPr/>
          <p:nvPr/>
        </p:nvPicPr>
        <p:blipFill>
          <a:blip r:embed="rId1"/>
          <a:stretch/>
        </p:blipFill>
        <p:spPr>
          <a:xfrm>
            <a:off x="324000" y="3500280"/>
            <a:ext cx="4259160" cy="3241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E:\2021-2022 уч.год\ВКР ЗАОЧНОЕ  2022 год + Тётушкина\Киселёва Л.К +++\IMG-20220430-WA0002.jpg"/>
          <p:cNvPicPr/>
          <p:nvPr/>
        </p:nvPicPr>
        <p:blipFill>
          <a:blip r:embed="rId2"/>
          <a:stretch/>
        </p:blipFill>
        <p:spPr>
          <a:xfrm>
            <a:off x="4583160" y="549360"/>
            <a:ext cx="4309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учение моделированию </a:t>
            </a:r>
            <a:r>
              <a:rPr b="1" lang="ru-RU" sz="1800" spc="-1" strike="noStrike" u="sng">
                <a:solidFill>
                  <a:srgbClr val="6600cc"/>
                </a:solidFill>
                <a:uFillTx/>
                <a:latin typeface="Times New Roman"/>
              </a:rPr>
              <a:t>осуществляется в следующей последовательности: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воспитатель предлагает детям описать новые объекты природы с помощью готовой модели, ранее усвоенной ими;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рганизует сравнение двух объектов между собой, учит выделению признаков различия и сходства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дновременно дает задание последовательно отбирать и выкладывать модели, замещающие эти признаки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постепенно увеличивает количество сравниваемых объектов до 3-4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существляет обучение моделированию существенных или значимых для деятельности признаков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существляет руководство созданием моделей элементарных понятий, таких, как «рыбы», «птицы», «звери», «домашние животные», «дикие животные», «растения», «живое», «неживое» и т.д.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бучение детей моделированию должно быть связано с использованием обследовательских действий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  - важно также учить детей планомерно вести анализ и сравнение объектов или явлений природы. 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4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Times New Roman"/>
              </a:rPr>
              <a:t>Экспериментальное исследование влияния моделирования на процесс познания природы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8" descr="E:\2021-2022 уч.год\ВКР ЗАОЧНОЕ  2022 год + Тётушкина\Киселёва Л.К +++\IMG-20220318-WA0026.jpg"/>
          <p:cNvPicPr/>
          <p:nvPr/>
        </p:nvPicPr>
        <p:blipFill>
          <a:blip r:embed="rId1"/>
          <a:stretch/>
        </p:blipFill>
        <p:spPr>
          <a:xfrm>
            <a:off x="185760" y="981000"/>
            <a:ext cx="4537080" cy="4896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:\2021-2022 уч.год\ВКР ЗАОЧНОЕ  2022 год + Тётушкина\Киселёва Л.К +++\IMG-20220430-WA0012.jpg"/>
          <p:cNvPicPr/>
          <p:nvPr/>
        </p:nvPicPr>
        <p:blipFill>
          <a:blip r:embed="rId2"/>
          <a:stretch/>
        </p:blipFill>
        <p:spPr>
          <a:xfrm>
            <a:off x="5162400" y="1484280"/>
            <a:ext cx="37436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95280" y="189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статирующи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79280" y="213372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выявить предоставления детей о способах ухода за комнатными растениями в соответствии с особенностями внешнего вида и родиной произрас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E:\2021-2022 уч.год\ВКР ЗАОЧНОЕ  2022 год + Тётушкина\Киселёва Л.К +++\IMG-20220321-WA0053.jpg"/>
          <p:cNvPicPr/>
          <p:nvPr/>
        </p:nvPicPr>
        <p:blipFill>
          <a:blip r:embed="rId1"/>
          <a:stretch/>
        </p:blipFill>
        <p:spPr>
          <a:xfrm>
            <a:off x="4427640" y="836640"/>
            <a:ext cx="433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15"/>
          <p:cNvSpPr/>
          <p:nvPr/>
        </p:nvSpPr>
        <p:spPr>
          <a:xfrm>
            <a:off x="641520" y="153360"/>
            <a:ext cx="7117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езультат констатирующего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24000" y="907920"/>
          <a:ext cx="3887640" cy="5402520"/>
        </p:xfrm>
        <a:graphic>
          <a:graphicData uri="http://schemas.openxmlformats.org/drawingml/2006/table">
            <a:tbl>
              <a:tblPr/>
              <a:tblGrid>
                <a:gridCol w="977760"/>
                <a:gridCol w="968400"/>
                <a:gridCol w="963720"/>
                <a:gridCol w="97776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  (узумбарская фиа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ыскиватель (традискан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ирание тряпкой (фику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62" name="Picture 1073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759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41:28Z</dcterms:created>
  <dc:creator>Ольга </dc:creator>
  <dc:description/>
  <dc:language>en-US</dc:language>
  <cp:lastModifiedBy>1</cp:lastModifiedBy>
  <dcterms:modified xsi:type="dcterms:W3CDTF">2023-02-18T07:23:03Z</dcterms:modified>
  <cp:revision>49</cp:revision>
  <dc:subject/>
  <dc:title>Слайд 1</dc:title>
</cp:coreProperties>
</file>