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9D27-864A-41A0-AB51-04505A11A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FFF-F4BE-43B2-87F3-61652C046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DEB-BB0F-4127-8C90-1D8E66691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1EA-0EAF-4B04-9857-5386F3A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CCD-E0C3-4BBF-88A8-7DE50FD8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7CF-E6EA-4678-BDDA-894ECD36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140-35C9-4161-B26F-837A2866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45C-E992-48ED-AEDE-52CC5A7B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0355-762D-429C-B965-04CCC78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DA78-05AA-46A4-A2C3-B89E1DE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579-22C8-4FAD-B9FD-4116B5B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0F41-2545-46DD-98C1-45B7EF7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B77A-72D5-4AEA-B700-B6E7467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10B-6F02-43DF-9E95-47C409D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C67-534F-4057-A51A-8DABF38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19B-6D8A-43FE-9662-B1B0E47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A329-7FB6-4871-9CD1-6F710F8B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D661-4A0D-4FB3-BA9A-1DEF20AB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037D-F5A2-4BF9-8513-D5D64F58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A8D0-5A0E-4631-8803-47CD2ECF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3081-3077-4A40-ACB2-12BF284E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B758-CDBF-47A2-9487-CBCE695D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C2EE-19B7-4BBC-8241-AECA09B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7675-7AE5-496F-B7B2-770344B4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760B-7699-4913-8304-CC62CBE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7DD-8ED5-4F62-9CCD-5824A12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21EE-6FB2-458D-882D-E54D635C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01F6-0C93-4A28-AAE9-B690558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8A64-0157-46C0-AE5F-1A384BE3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8560-9963-48E1-91A9-9B3037F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4BB0-A27B-40BA-9B0E-49D9499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D003-9D23-49EB-95D5-B215CD1B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8F61-1D25-4F92-9DF1-5E395177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115B-60CD-451B-8384-0BC6DCD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11AD-192C-441A-A77C-0416A84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FE857-AC0E-4B5C-9CD8-024217A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6EE-A7DD-4093-8035-442D012E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65F1-A88E-4DCE-9BBF-C3FE729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56D4-5D4A-4F15-B98B-9C5269F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55C1-1C8F-419A-8EF9-B7B891E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527A-9A97-4D25-9817-D1BD985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05C9-0590-4922-A69B-55E86D1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05AF-B947-4632-B5B0-EFDBD77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7D0D-02D8-4780-A413-EC54967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FE08-8496-4894-947C-E3726546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2803-1A8B-41E9-B358-DA0F2473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1FF3-D22F-4D5F-B619-B6769551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F94-74E9-4D79-98E7-4D5F057C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FE5C-7045-401F-8DAB-C892022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2095-6BB4-4B08-B76B-F64AFCC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9D09-F2E2-4CD8-901E-B05B2A8B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CEF6-254F-462F-8F31-822B6D8E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F260-4B6A-453B-8774-3F118E3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D093-A085-433A-B932-A5415AC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5EE3-139E-464D-9094-9C7F524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664A-A3C9-49CD-9079-86E0B49A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36ED-3E46-4E1D-A04B-32DFAA0A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3CA5-AF14-44F4-83C7-BD00A6DF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C07-7720-4FE8-AC5B-C3837BBE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4481-7EE0-4782-8FF1-918D843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85DA5-C371-42F9-A0A7-4228C992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77E34-05B5-475A-90A6-43E33FB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3BA5-F083-43A3-B879-4609D7A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C9DD-3895-4F43-BB54-A312D21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A0EB-EBF1-46C7-8E96-08590196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7C21-EFCA-44DA-BF33-6EF04D4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044C-8590-49F7-99BB-F0C5B88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544D-899C-47FF-B746-57078C3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73AC-BFF4-4916-8AEC-937A008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953-A6C0-489F-ADE6-8894596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CC1F0-EE7E-47DE-B127-844E38B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CD9E3-74A8-4038-9073-D3D37D41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0463-8806-4A6C-87E2-08DCB755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E8F7-D019-4DC9-ADD5-B7EC1BF6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EB83-6185-4515-81E9-A34A5B9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68129-3227-43AD-8F6D-01A541D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239BE-F281-433A-9F68-0E448BF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025F-E599-4616-8A1C-2A4B055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50E4-C50E-4C8E-A9A9-DF08F10B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9C04-5F07-40D2-A5BA-B784A52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3ED-2C5A-4534-AF98-6525938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9C3E-FDCA-4954-B598-69643D1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6878-2B26-4F23-8DBC-4D50953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9E7D-F433-420C-AEB7-2AE1384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9411-B0BB-4D40-8A42-4813CBF1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4E32-7E0A-4C75-A175-45BA7071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05A-E64F-4DC4-81CC-0631C18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68D-8086-43B3-ABA6-8BB584119FA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7EE7-7002-40E4-84C6-AC8D9AA62E2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6F0-F89B-4E4E-8C17-37FD3BEAFFD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B8F2-5030-49CF-ADCD-AFB271AF4CE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4089-6E50-44BF-9638-93E6656FED5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E434-A839-40BE-848C-C5E0A046D69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CD7-044F-4643-888B-FCBE4F5BD2F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МБДОУ «Детский сад №48 «Пчёлка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Киселёва  Людмила Константиновна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Использование моделирования в экологическом воспитании детей среднего дошкольного возраста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Тамбов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2022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684360" y="187920"/>
            <a:ext cx="7991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Формирующи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17"/>
          <p:cNvSpPr/>
          <p:nvPr/>
        </p:nvSpPr>
        <p:spPr>
          <a:xfrm>
            <a:off x="971640" y="907920"/>
            <a:ext cx="3529080" cy="2675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18"/>
          <p:cNvSpPr/>
          <p:nvPr/>
        </p:nvSpPr>
        <p:spPr>
          <a:xfrm>
            <a:off x="4932360" y="981000"/>
            <a:ext cx="3311640" cy="29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19"/>
          <p:cNvSpPr/>
          <p:nvPr/>
        </p:nvSpPr>
        <p:spPr>
          <a:xfrm>
            <a:off x="971640" y="105264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а первом этапе мы поставили следующие 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углубить знания о комнатных растениях (родина, вид, способы ух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развить осознанное отношение к способу у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20"/>
          <p:cNvSpPr/>
          <p:nvPr/>
        </p:nvSpPr>
        <p:spPr>
          <a:xfrm>
            <a:off x="5003640" y="1052640"/>
            <a:ext cx="331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На втором этапе мы поставили 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- развивать способность к совместному моделированию в уходе за комнатными растениями, в соответствии с условиями (свет, полив, влаж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E:\2021-2022 уч.год\ВКР ЗАОЧНОЕ  2022 год + Тётушкина\Киселёва Л.К +++\IMG-20220318-WA0027.jpg"/>
          <p:cNvPicPr/>
          <p:nvPr/>
        </p:nvPicPr>
        <p:blipFill>
          <a:blip r:embed="rId1"/>
          <a:stretch/>
        </p:blipFill>
        <p:spPr>
          <a:xfrm>
            <a:off x="1027080" y="2655720"/>
            <a:ext cx="77328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ый эксперимен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42920" y="1052640"/>
          <a:ext cx="7058160" cy="5257800"/>
        </p:xfrm>
        <a:graphic>
          <a:graphicData uri="http://schemas.openxmlformats.org/drawingml/2006/table">
            <a:tbl>
              <a:tblPr/>
              <a:tblGrid>
                <a:gridCol w="1774800"/>
                <a:gridCol w="1754280"/>
                <a:gridCol w="1754280"/>
                <a:gridCol w="1774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 (узумбарская фиа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ыскиватель (традискан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ирание тряпкой (фику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47736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1505520" y="476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авнительная диа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 rot="19887600">
            <a:off x="1127160" y="2590560"/>
            <a:ext cx="5995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"/>
          <p:cNvSpPr/>
          <p:nvPr/>
        </p:nvSpPr>
        <p:spPr>
          <a:xfrm>
            <a:off x="2195640" y="466092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E:\2021-2022 уч.год\ВКР ЗАОЧНОЕ  2022 год + Тётушкина\Киселёва Л.К +++\IMG-20220430-WA0011.jpg"/>
          <p:cNvPicPr/>
          <p:nvPr/>
        </p:nvPicPr>
        <p:blipFill>
          <a:blip r:embed="rId1"/>
          <a:stretch/>
        </p:blipFill>
        <p:spPr>
          <a:xfrm>
            <a:off x="1042920" y="333360"/>
            <a:ext cx="73486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пределить роль моделирования в экологическом воспитании 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дошкольников</a:t>
            </a:r>
            <a:br>
              <a:rPr sz="2800"/>
            </a:b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БЪЕКТ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: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Экологическое воспитание детей дошкольного возраста</a:t>
            </a:r>
            <a:br>
              <a:rPr sz="28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РЕДМЕТ: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Использование моделей в экологическом образовании детей средн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 исследования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- изучить научную литературу по данной проблем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 -изучить развитие способностей к наглядному пространственному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моделированию у дошкольников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-экспериментально изучить влияние моделирования на процесс познания природы дошкольниками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СЛЕДОВАНИЕ  ПРОВОДИЛОСЬ  НА  БАЗ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4" descr="E:\2021-2022 уч.год\ВКР ЗАОЧНОЕ  2022 год + Тётушкина\Киселёва Л.К +++\IMG-20220430-WA0005.jpg"/>
          <p:cNvPicPr/>
          <p:nvPr/>
        </p:nvPicPr>
        <p:blipFill>
          <a:blip r:embed="rId1"/>
          <a:stretch/>
        </p:blipFill>
        <p:spPr>
          <a:xfrm>
            <a:off x="900000" y="476280"/>
            <a:ext cx="7201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179280" y="836640"/>
            <a:ext cx="417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Модели - это материальные заместители реальных предметов, явлени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4795920" y="4076640"/>
            <a:ext cx="43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Цель моделирования - обеспечить успешное усвоение детьми материала об особенностях объектов природы, их отношениях, существующих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79280" y="2212920"/>
            <a:ext cx="91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E:\2021-2022 уч.год\ВКР ЗАОЧНОЕ  2022 год + Тётушкина\Киселёва Л.К +++\IMG-20220321-WA0054.jpg"/>
          <p:cNvPicPr/>
          <p:nvPr/>
        </p:nvPicPr>
        <p:blipFill>
          <a:blip r:embed="rId1"/>
          <a:stretch/>
        </p:blipFill>
        <p:spPr>
          <a:xfrm>
            <a:off x="324000" y="3500280"/>
            <a:ext cx="4259160" cy="3241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E:\2021-2022 уч.год\ВКР ЗАОЧНОЕ  2022 год + Тётушкина\Киселёва Л.К +++\IMG-20220430-WA0002.jpg"/>
          <p:cNvPicPr/>
          <p:nvPr/>
        </p:nvPicPr>
        <p:blipFill>
          <a:blip r:embed="rId2"/>
          <a:stretch/>
        </p:blipFill>
        <p:spPr>
          <a:xfrm>
            <a:off x="4583160" y="549360"/>
            <a:ext cx="4309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учение моделированию </a:t>
            </a:r>
            <a:r>
              <a:rPr b="1" lang="ru-RU" sz="1800" spc="-1" strike="noStrike" u="sng">
                <a:solidFill>
                  <a:srgbClr val="6600cc"/>
                </a:solidFill>
                <a:uFillTx/>
                <a:latin typeface="Times New Roman"/>
              </a:rPr>
              <a:t>осуществляется в следующей последовательности: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воспитатель предлагает детям описать новые объекты природы с помощью готовой модели, ранее усвоенной ими;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рганизует сравнение двух объектов между собой, учит выделению признаков различия и сходства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дновременно дает задание последовательно отбирать и выкладывать модели, замещающие эти признаки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постепенно увеличивает количество сравниваемых объектов до 3-4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существляет обучение моделированию существенных или значимых для деятельности признаков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существляет руководство созданием моделей элементарных понятий, таких, как «рыбы», «птицы», «звери», «домашние животные», «дикие животные», «растения», «живое», «неживое» и т.д.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- обучение детей моделированию должно быть связано с использованием обследовательских действий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   - важно также учить детей планомерно вести анализ и сравнение объектов или явлений природы. 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4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Times New Roman"/>
              </a:rPr>
              <a:t>Экспериментальное исследование влияния моделирования на процесс познания природы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8" descr="E:\2021-2022 уч.год\ВКР ЗАОЧНОЕ  2022 год + Тётушкина\Киселёва Л.К +++\IMG-20220318-WA0026.jpg"/>
          <p:cNvPicPr/>
          <p:nvPr/>
        </p:nvPicPr>
        <p:blipFill>
          <a:blip r:embed="rId1"/>
          <a:stretch/>
        </p:blipFill>
        <p:spPr>
          <a:xfrm>
            <a:off x="185760" y="981000"/>
            <a:ext cx="4537080" cy="4896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:\2021-2022 уч.год\ВКР ЗАОЧНОЕ  2022 год + Тётушкина\Киселёва Л.К +++\IMG-20220430-WA0012.jpg"/>
          <p:cNvPicPr/>
          <p:nvPr/>
        </p:nvPicPr>
        <p:blipFill>
          <a:blip r:embed="rId2"/>
          <a:stretch/>
        </p:blipFill>
        <p:spPr>
          <a:xfrm>
            <a:off x="5162400" y="1484280"/>
            <a:ext cx="37436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95280" y="18900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статирующи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79280" y="213372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выявить предоставления детей о способах ухода за комнатными растениями в соответствии с особенностями внешнего вида и родиной произрас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E:\2021-2022 уч.год\ВКР ЗАОЧНОЕ  2022 год + Тётушкина\Киселёва Л.К +++\IMG-20220321-WA0053.jpg"/>
          <p:cNvPicPr/>
          <p:nvPr/>
        </p:nvPicPr>
        <p:blipFill>
          <a:blip r:embed="rId1"/>
          <a:stretch/>
        </p:blipFill>
        <p:spPr>
          <a:xfrm>
            <a:off x="4427640" y="836640"/>
            <a:ext cx="433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15"/>
          <p:cNvSpPr/>
          <p:nvPr/>
        </p:nvSpPr>
        <p:spPr>
          <a:xfrm>
            <a:off x="641520" y="153360"/>
            <a:ext cx="7117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езультат констатирующего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24000" y="907920"/>
          <a:ext cx="3887640" cy="5402520"/>
        </p:xfrm>
        <a:graphic>
          <a:graphicData uri="http://schemas.openxmlformats.org/drawingml/2006/table">
            <a:tbl>
              <a:tblPr/>
              <a:tblGrid>
                <a:gridCol w="977760"/>
                <a:gridCol w="968400"/>
                <a:gridCol w="963720"/>
                <a:gridCol w="97776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ь  (узумбарская фиа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ыскиватель (традискан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ирание тряпкой (фику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62" name="Picture 1073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759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41:28Z</dcterms:created>
  <dc:creator>Ольга </dc:creator>
  <dc:description/>
  <dc:language>en-US</dc:language>
  <cp:lastModifiedBy>1</cp:lastModifiedBy>
  <dcterms:modified xsi:type="dcterms:W3CDTF">2023-02-18T07:23:03Z</dcterms:modified>
  <cp:revision>49</cp:revision>
  <dc:subject/>
  <dc:title>Слайд 1</dc:title>
</cp:coreProperties>
</file>