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071-8490-4A3D-B613-0769F409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556-22C8-44CD-B079-F716C251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831-A563-4472-BD48-D3CDAD6E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7E8-8779-48DF-A0BF-F1A7D248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E356-63BB-4966-92EA-A48BB6D4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2397-4A24-4509-9D26-2EEA3724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B346-3712-4483-B24B-389967C2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49DD-A28B-4E1A-8874-59B13A78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A11A-3C94-4BB2-BAB3-D9139658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5EA0-3F62-47D8-A010-BEDB4788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A8FE-0012-4245-9306-078B346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C24-02BA-4929-9CEA-D8B849AE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8D20-4889-4A0C-9F7F-BC3A4ADB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F5A5-5D41-44E9-946D-4795893A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5230-DEAD-4B6A-9D70-664291A8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58B5-25FA-4C33-A102-6FADB6A6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B458-3117-4693-993A-3CD4C4FD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7DB-780B-4400-A3FA-5528E459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94C-2F1F-4257-92A2-D5FFD989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AC1-4AD6-41EF-A5C5-DCF0061C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027-2C47-47E4-8875-2B75EA8F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501-EE7E-444D-8ABE-7B07E4D7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470-E906-4F0E-98B2-3E0BB4F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DC1-F037-4852-9882-7D41BB70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8D12-08A0-49AA-8295-6C1E619BED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F006-1AE4-4672-9E5F-CC3BC25940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foniac.ru/news/Neobychnye-zhivotnye-o-kotoryh-vy-ne-znali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расная книг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64000" y="4005000"/>
            <a:ext cx="3600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ю выполнила воспитатель МБДОУ Инжавинский детский  сад «Бёрезка» Попова Н.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i-43"/>
          <p:cNvPicPr/>
          <p:nvPr/>
        </p:nvPicPr>
        <p:blipFill>
          <a:blip r:embed="rId1"/>
          <a:stretch/>
        </p:blipFill>
        <p:spPr>
          <a:xfrm>
            <a:off x="0" y="2190600"/>
            <a:ext cx="46674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альневосточный амурский леопард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ссии этот вид, находящийся на грани исчезновения, можно встретить в Приморском крае. Еще несколько особей можно встретить на северо-востоке Китая и Корейском полуостро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ит отметить, что в 2013 году, в юго-западном Приморье, специалисты сумели по следам насчитать 49 дальневосточных леопардов. Это животное строго охраняется в Китае, где за его убийство предусмотрена смертная казнь. Амурский леопард стал видом на грани вымирания в основном из-за браконьер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зиатский гепард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5" descr="asian-gepard.jpg"/>
          <p:cNvPicPr/>
          <p:nvPr/>
        </p:nvPicPr>
        <p:blipFill>
          <a:blip r:embed="rId1"/>
          <a:stretch/>
        </p:blipFill>
        <p:spPr>
          <a:xfrm>
            <a:off x="3038400" y="2809800"/>
            <a:ext cx="61056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зиатский гепард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ьше его можно было встретить на огромной территории, которая простиралась от Аравийского моря до долины реки Сырдарья. На сегодняшний день в природе этот редкий вид насчитывает всего около 10 особей, а во всех зоопарках мира можно сосчитать 23-х представителей азиатского гепар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мурский тиг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Picture 5" descr="amur-tiger.jpg"/>
          <p:cNvPicPr/>
          <p:nvPr/>
        </p:nvPicPr>
        <p:blipFill>
          <a:blip r:embed="rId1"/>
          <a:stretch/>
        </p:blipFill>
        <p:spPr>
          <a:xfrm>
            <a:off x="0" y="3191040"/>
            <a:ext cx="60865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мурский тиг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ое, что многим приходит на ум, когда речь заходит о самых редких животных России - это амурский тигр. Этот самый северный тигр не только невероятно редкий вид, но и очень красив - на брюхе у него находится пятисантиметровый слой жира, который защищает животное от моро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асная книг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Берегите животных и растений не убивайте их ради интерес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5" descr="1380436983_tigr"/>
          <p:cNvPicPr/>
          <p:nvPr/>
        </p:nvPicPr>
        <p:blipFill>
          <a:blip r:embed="rId1"/>
          <a:stretch/>
        </p:blipFill>
        <p:spPr>
          <a:xfrm>
            <a:off x="0" y="2933640"/>
            <a:ext cx="58672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ивотное красный волк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сный волк – зверь довольно крупный (гораздо крупнее обычного серого волка). Его тело длиной 76-110 см, хвост — до 50 см, а масса тела достигает 20 кг. В облике этого животного сочетаются черты непосредственно волка, а также шакала и лисицы. От всех остальных волков красный волк отличается особенной яркой окраской, более пушистой шерстью и длинным хвостом, который почти касается земли. Для этого вида характерной особенностью является заостренная, чуть укороченная морда. Уши у красного волка большие, стоячие, вершины их слегка закруглены, сами уши высоко посажены на голов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отография красного волк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Picture 5" descr="red_volk2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дкие животны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ая книга России" является аннотированным списком самых редких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животны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и растений на Земле, которые находятся под угрозой вымир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есь вы узнаете о некоторых редчайших животных, занесенных в Красную книгу России, и которых стоит беречь, уделяя им особое вним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вуч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5" descr="sivuch.jpg"/>
          <p:cNvPicPr/>
          <p:nvPr/>
        </p:nvPicPr>
        <p:blipFill>
          <a:blip r:embed="rId1"/>
          <a:stretch/>
        </p:blipFill>
        <p:spPr>
          <a:xfrm>
            <a:off x="0" y="1155600"/>
            <a:ext cx="9144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вуч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т 3-метровый тихоокеанский ушастый тюлень живет на Курильских и Командорских островах, а также на Камчатке и Аляске. Взрослый самец может достигать длину 3 метра, а весить он может до одной тон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45864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еломордый дельфи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5" descr="belomordyi-delphin.jpg"/>
          <p:cNvPicPr/>
          <p:nvPr/>
        </p:nvPicPr>
        <p:blipFill>
          <a:blip r:embed="rId1"/>
          <a:stretch/>
        </p:blipFill>
        <p:spPr>
          <a:xfrm>
            <a:off x="2843280" y="3381480"/>
            <a:ext cx="63007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еломордый дельфи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и тело сивуча, тело этого животного может достигать длины 3 метра. Короткоголовый дельфин отличается черными боками и плавниками. Встретить его можно в Балтийском и Баренцевом мор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альневосточный амурский леопард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5" descr="Amurskiy-leopard.jpg"/>
          <p:cNvPicPr/>
          <p:nvPr/>
        </p:nvPicPr>
        <p:blipFill>
          <a:blip r:embed="rId1"/>
          <a:stretch/>
        </p:blipFill>
        <p:spPr>
          <a:xfrm>
            <a:off x="1792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14:31:03Z</dcterms:created>
  <dc:creator>Пользователь</dc:creator>
  <dc:description/>
  <dc:language>en-US</dc:language>
  <cp:lastModifiedBy>Пользователь</cp:lastModifiedBy>
  <dcterms:modified xsi:type="dcterms:W3CDTF">2018-10-21T18:47:10Z</dcterms:modified>
  <cp:revision>3</cp:revision>
  <dc:subject/>
  <dc:title>Красная книга</dc:title>
</cp:coreProperties>
</file>