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393E-D0A3-4551-BE03-0BC337E0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E388-8E17-4739-8889-4DA2B307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7644-08F3-4F4F-A6D8-D9332947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BAF1-7BC9-4590-B527-81252B33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5405-6A43-43A1-9869-F3BDB140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D0F2-09D0-4482-958D-C80896E3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7E5F-D6B7-4999-99FE-31A7A5DE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0E96-5FDF-4545-9575-1C3B1A53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B814-3206-4F9F-88FC-49CB58BF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C9B0-7978-4CC5-8187-C579055D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9E9B-DB3F-44EB-A13C-2033D700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34D2-CE82-4E3D-B035-DEEF87D3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99B3-AEF4-437C-9708-B2BACE22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E3F5-213F-48AE-A325-EFBDB643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8CD4-512B-44E2-AC0E-1A68C418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1727-8892-409B-92E8-DAC89690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E47B-8B0D-4E92-B5C4-2C9AAA35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EDD3-3301-4773-B595-68D65D10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454-FC1B-4126-8E12-BAB473C0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105A-8FE1-4819-9668-9C75061A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E6B-FD01-400A-A1E8-19A4BA06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2959-6BDB-469E-8D45-2106ED6B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E36C-7F48-448A-AFB0-5CB3DAC2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D0B-0192-437E-A7F7-9BE96B5F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3677-BFCA-403F-97DA-34F2CB097E4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F812-50B5-4FF8-82E0-08D413D0E49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nfoniac.ru/news/Neobychnye-zhivotnye-o-kotoryh-vy-ne-znali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87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Красная книга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64000" y="4005000"/>
            <a:ext cx="36007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зентацию выполнила воспитатель МБДОУ Инжавинский детский  сад «Бёрезка» Попова Н.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i-43"/>
          <p:cNvPicPr/>
          <p:nvPr/>
        </p:nvPicPr>
        <p:blipFill>
          <a:blip r:embed="rId1"/>
          <a:stretch/>
        </p:blipFill>
        <p:spPr>
          <a:xfrm>
            <a:off x="0" y="2190600"/>
            <a:ext cx="46674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Дальневосточный амурский леопард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оссии этот вид, находящийся на грани исчезновения, можно встретить в Приморском крае. Еще несколько особей можно встретить на северо-востоке Китая и Корейском полуостров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ит отметить, что в 2013 году, в юго-западном Приморье, специалисты сумели по следам насчитать 49 дальневосточных леопардов. Это животное строго охраняется в Китае, где за его убийство предусмотрена смертная казнь. Амурский леопард стал видом на грани вымирания в основном из-за браконьер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зиатский гепард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Picture 5" descr="asian-gepard.jpg"/>
          <p:cNvPicPr/>
          <p:nvPr/>
        </p:nvPicPr>
        <p:blipFill>
          <a:blip r:embed="rId1"/>
          <a:stretch/>
        </p:blipFill>
        <p:spPr>
          <a:xfrm>
            <a:off x="3038400" y="2809800"/>
            <a:ext cx="61056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зиатский гепард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ньше его можно было встретить на огромной территории, которая простиралась от Аравийского моря до долины реки Сырдарья. На сегодняшний день в природе этот редкий вид насчитывает всего около 10 особей, а во всех зоопарках мира можно сосчитать 23-х представителей азиатского гепард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мурский тигр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4" name="Picture 5" descr="amur-tiger.jpg"/>
          <p:cNvPicPr/>
          <p:nvPr/>
        </p:nvPicPr>
        <p:blipFill>
          <a:blip r:embed="rId1"/>
          <a:stretch/>
        </p:blipFill>
        <p:spPr>
          <a:xfrm>
            <a:off x="0" y="3191040"/>
            <a:ext cx="608652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мурский тигр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ое, что многим приходит на ум, когда речь заходит о самых редких животных России - это амурский тигр. Этот самый северный тигр не только невероятно редкий вид, но и очень красив - на брюхе у него находится пятисантиметровый слой жира, который защищает животное от мороз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расная книг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Берегите животных и растений не убивайте их ради интерес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5" descr="1380436983_tigr"/>
          <p:cNvPicPr/>
          <p:nvPr/>
        </p:nvPicPr>
        <p:blipFill>
          <a:blip r:embed="rId1"/>
          <a:stretch/>
        </p:blipFill>
        <p:spPr>
          <a:xfrm>
            <a:off x="0" y="2933640"/>
            <a:ext cx="586728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Животное красный волк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асный волк – зверь довольно крупный (гораздо крупнее обычного серого волка). Его тело длиной 76-110 см, хвост — до 50 см, а масса тела достигает 20 кг. В облике этого животного сочетаются черты непосредственно волка, а также шакала и лисицы. От всех остальных волков красный волк отличается особенной яркой окраской, более пушистой шерстью и длинным хвостом, который почти касается земли. Для этого вида характерной особенностью является заостренная, чуть укороченная морда. Уши у красного волка большие, стоячие, вершины их слегка закруглены, сами уши высоко посажены на голов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8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Фотография красного волк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Picture 5" descr="red_volk2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едкие животны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сная книга России" является аннотированным списком самых редких 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животны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и растений на Земле, которые находятся под угрозой вымир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десь вы узнаете о некоторых редчайших животных, занесенных в Красную книгу России, и которых стоит беречь, уделяя им особое вним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ивуч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5" descr="sivuch.jpg"/>
          <p:cNvPicPr/>
          <p:nvPr/>
        </p:nvPicPr>
        <p:blipFill>
          <a:blip r:embed="rId1"/>
          <a:stretch/>
        </p:blipFill>
        <p:spPr>
          <a:xfrm>
            <a:off x="0" y="1155600"/>
            <a:ext cx="91440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ивуч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т 3-метровый тихоокеанский ушастый тюлень живет на Курильских и Командорских островах, а также на Камчатке и Аляске. Взрослый самец может достигать длину 3 метра, а весить он может до одной тонн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458640"/>
            <a:ext cx="8229600" cy="18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Беломордый дельфин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Picture 5" descr="belomordyi-delphin.jpg"/>
          <p:cNvPicPr/>
          <p:nvPr/>
        </p:nvPicPr>
        <p:blipFill>
          <a:blip r:embed="rId1"/>
          <a:stretch/>
        </p:blipFill>
        <p:spPr>
          <a:xfrm>
            <a:off x="2843280" y="3381480"/>
            <a:ext cx="630072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Беломордый дельфин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и тело сивуча, тело этого животного может достигать длины 3 метра. Короткоголовый дельфин отличается черными боками и плавниками. Встретить его можно в Балтийском и Баренцевом моря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Дальневосточный амурский леопард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Picture 5" descr="Amurskiy-leopard.jpg"/>
          <p:cNvPicPr/>
          <p:nvPr/>
        </p:nvPicPr>
        <p:blipFill>
          <a:blip r:embed="rId1"/>
          <a:stretch/>
        </p:blipFill>
        <p:spPr>
          <a:xfrm>
            <a:off x="179280" y="2286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4T14:31:03Z</dcterms:created>
  <dc:creator>Пользователь</dc:creator>
  <dc:description/>
  <dc:language>en-US</dc:language>
  <cp:lastModifiedBy>Пользователь</cp:lastModifiedBy>
  <dcterms:modified xsi:type="dcterms:W3CDTF">2018-10-21T18:47:10Z</dcterms:modified>
  <cp:revision>3</cp:revision>
  <dc:subject/>
  <dc:title>Красная книга</dc:title>
</cp:coreProperties>
</file>