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74D2D-59EF-4C03-86E7-89E02A977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03CF4-8CB6-4059-A4E1-E420E524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183B-11C4-4673-818A-1B1DD27E6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5E4BD-64F8-404C-B380-91C08196F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2DFD9-66B2-4249-B55E-CFFA788E2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4B001-E630-4925-8CD3-DCC09BFCE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C9229-64F7-4AD8-8919-474FF0B50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FFE4B-DF00-4E1B-897B-DE566EFDC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40CB1-C2DA-43B2-8129-28F2026B1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C85DB-BB8D-4A4E-9E99-5AAA700FF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C8A7-A880-4390-B0B1-C7A2BBB87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DD26D-20C4-4C65-9363-B39E30F6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24D7B-7413-43ED-9D4F-21015834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4ADD9-80A5-4147-B092-1A3226554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F54C8-BD01-4D16-8E4C-C22334F97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383C7-6C88-462C-96E5-5630074E9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0AC62-B9DC-4C7B-B0EB-DF3F631F4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6FB3F-AA2C-4F76-9075-548C572C27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0B417-E4F5-4912-94DB-9876ADE92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B209C-DA25-4FE1-AB42-19FF66A50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AC5B8-60CA-477F-BC47-51E2D7609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10706-4E9E-4FAF-94B6-E957C35EB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D38D-1890-44F5-BEB7-5E3FD8B83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5D07B-09E6-44ED-9049-FA5D3C033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A26F7-FA68-4486-86CA-8E311F465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0241C-985E-4DDE-87A0-281AC0F5B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C8EC4-924B-4A0E-9442-E5CBFC2F8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2968D-F673-4CAE-8616-AF43AF909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05EE47-1188-400C-B832-8CB742E7B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2E0E7D-704E-470F-A857-F22B446F8A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E088E-A551-44C3-A137-579D786D5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B2EA1-C8F0-49C9-9FDF-9B62808F8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946F5-B469-4F3E-93DD-391436184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CC43-9C72-445F-B4D9-8E733D93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3A5D3-A47C-450F-AD9C-3B0486D18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1B38A-1679-4B06-9BEA-262363FDF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4E77A-C18A-4A3F-8E95-403304AAB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07A3A-8B19-4B68-90A3-1998A59C7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A5CE8-DFA1-4379-BB80-DF9079B56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C047F-6EB3-4C3C-99AF-00BB3A36D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2BCB6-1DA5-4CB1-B40A-392DA5C2A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F75728-1C71-4E29-8490-48F5128AE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6B684-B825-4809-8FB1-C92F91312B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E145D9-7E8D-499D-B25F-298141394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DCB39-CA31-4CAE-9FBA-D28BA7CF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9D3C3-CAD6-466F-A147-3C1E0561E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44D31-6394-4E7D-92B0-06A8129E1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C1EA5-1660-48F0-8A8F-3B5D58620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9051A-3C28-4F14-AD3D-A5D2306D5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4F92C-520D-4A4B-A381-78681B66F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FC65A-AB31-44F7-8135-5531E1683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17BDA-2B53-46FB-9983-5009A3B6E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9421E-03B1-4890-91F3-9B50DBD2F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E7E83-77FF-4E9C-ADDA-FDD9F7CF3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9CF48A-9AA8-47CB-9375-FEF96BF1B5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C454-65E4-40D1-B863-1D276293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9A2C7B-ADEC-44E7-8061-D5060A9E81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1436-F357-4720-9571-875BADA7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260D8-8B3F-45F6-B20E-AA894AAE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2A11-1E5A-43CB-944B-30B526286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0C3F-3E63-4518-A8EA-900989FB3988}"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4"/>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0C4E-4F5D-42E2-899F-F8C1EC199E25}"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763A-938B-4D73-8CB1-201AA4A84F30}"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9950-360D-45DD-BE89-648FF29C648D}"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8bb4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455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6887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688727"/>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89AC-CC9D-4D4A-87A0-C5A958B71A2A}"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99640" y="609120"/>
            <a:ext cx="7558200" cy="5195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Пищевые добавки «Е-коды их классификация и характеристика, запрещенные добавки в РФ, польза и вред.</a:t>
            </a:r>
            <a:br>
              <a:rPr sz="4000"/>
            </a:br>
            <a:br>
              <a:rPr sz="4000"/>
            </a:br>
            <a:br>
              <a:rPr sz="4000"/>
            </a:br>
            <a:br>
              <a:rPr sz="4000"/>
            </a:br>
            <a:br>
              <a:rPr sz="4000"/>
            </a:br>
            <a:r>
              <a:rPr b="0" lang="ru-RU" sz="4000" spc="-1" strike="noStrike">
                <a:solidFill>
                  <a:srgbClr val="000000"/>
                </a:solidFill>
                <a:latin typeface="Corbel"/>
              </a:rPr>
              <a:t>                                                 </a:t>
            </a:r>
            <a:r>
              <a:rPr b="0" lang="ru-RU" sz="1600" spc="-1" strike="noStrike">
                <a:solidFill>
                  <a:srgbClr val="000000"/>
                </a:solidFill>
                <a:latin typeface="Corbel"/>
              </a:rPr>
              <a:t>Автор: Логвинова С.А.</a:t>
            </a:r>
            <a:endParaRPr b="0" lang="en-US" sz="1600" spc="-1" strike="noStrike">
              <a:solidFill>
                <a:srgbClr val="000000"/>
              </a:solidFill>
              <a:latin typeface="Corbel"/>
            </a:endParaRPr>
          </a:p>
        </p:txBody>
      </p:sp>
      <p:pic>
        <p:nvPicPr>
          <p:cNvPr id="247" name="Рисунок 1" descr=""/>
          <p:cNvPicPr/>
          <p:nvPr/>
        </p:nvPicPr>
        <p:blipFill>
          <a:blip r:embed="rId1"/>
          <a:stretch/>
        </p:blipFill>
        <p:spPr>
          <a:xfrm>
            <a:off x="1187280" y="3213000"/>
            <a:ext cx="4032360" cy="29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55640" y="981000"/>
            <a:ext cx="7702560" cy="476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   </a:t>
            </a:r>
            <a:r>
              <a:rPr b="0" lang="ru-RU" sz="2000" spc="-1" strike="noStrike">
                <a:solidFill>
                  <a:srgbClr val="000000"/>
                </a:solidFill>
                <a:latin typeface="Corbel"/>
              </a:rPr>
              <a:t>Человечество создало мощную отрасль промышленности, призванную сохранить продукты питания, переработать всё то, что человек вырастил сам и взял у природы. Люди, пытаясь заработать как можно больше денег, создают совершенно несъедобные, вредные для организма продукты. Взамен мы получаем болезни. Но можно  себя обезопасить. Потребитель  сегодня  должен быть бдителен в выборе продуктов  питания, учитывать результаты последних исследований в этой области. Если вы хотите сохранить свое здоровье:</a:t>
            </a:r>
            <a:br>
              <a:rPr sz="2000"/>
            </a:br>
            <a:r>
              <a:rPr b="0" lang="ru-RU" sz="2000" spc="-1" strike="noStrike">
                <a:solidFill>
                  <a:srgbClr val="000000"/>
                </a:solidFill>
                <a:latin typeface="Corbel"/>
              </a:rPr>
              <a:t>  Внимательно изучайте этикетки товаров и выбирайте продукты, содержащие минимальное количество искусственных добавок.</a:t>
            </a:r>
            <a:br>
              <a:rPr sz="2000"/>
            </a:br>
            <a:r>
              <a:rPr b="0" lang="ru-RU" sz="2000" spc="-1" strike="noStrike">
                <a:solidFill>
                  <a:srgbClr val="000000"/>
                </a:solidFill>
                <a:latin typeface="Corbel"/>
              </a:rPr>
              <a:t>Нельзя  рисковать и брать незнакомые продукты, особенно если в этикетке указано много разных Е.</a:t>
            </a:r>
            <a:br>
              <a:rPr sz="2000"/>
            </a:br>
            <a:r>
              <a:rPr b="0" lang="ru-RU" sz="2000" spc="-1" strike="noStrike">
                <a:solidFill>
                  <a:srgbClr val="000000"/>
                </a:solidFill>
                <a:latin typeface="Corbel"/>
              </a:rPr>
              <a:t>  Нужно избегать таких пищевых добавок, как красители, консерванты, загустители, усилители аромата, заменители сахара.</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Перечень химических обозначений пищевых добавок в алфавитном порядке:</a:t>
            </a:r>
            <a:endParaRPr b="0" lang="en-US" sz="2400" spc="-1" strike="noStrike">
              <a:solidFill>
                <a:srgbClr val="000000"/>
              </a:solidFill>
              <a:latin typeface="Corbel"/>
            </a:endParaRPr>
          </a:p>
        </p:txBody>
      </p:sp>
      <p:sp>
        <p:nvSpPr>
          <p:cNvPr id="266" name=""/>
          <p:cNvSpPr txBox="1"/>
          <p:nvPr/>
        </p:nvSpPr>
        <p:spPr>
          <a:xfrm>
            <a:off x="982800" y="2666880"/>
            <a:ext cx="7704000" cy="3332160"/>
          </a:xfrm>
          <a:prstGeom prst="rect">
            <a:avLst/>
          </a:prstGeom>
          <a:noFill/>
          <a:ln w="0">
            <a:noFill/>
          </a:ln>
        </p:spPr>
        <p:txBody>
          <a:bodyPr anchor="ctr">
            <a:normAutofit/>
          </a:bodyPr>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О - опасны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З - запрещенный;</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П - подозрительный;</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Р - ракообразующи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К - кишечные расстройства;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ВК - вреден для кожи;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Х - холестерин;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Ж - расстройство желудка;</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 </a:t>
            </a:r>
            <a:r>
              <a:rPr b="0" lang="ru-RU" sz="1400" spc="-1" strike="noStrike">
                <a:solidFill>
                  <a:srgbClr val="000000"/>
                </a:solidFill>
                <a:latin typeface="Corbel"/>
              </a:rPr>
              <a:t>ОО - очень опасный;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РД - артериальное давление;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С - сыпь; </a:t>
            </a:r>
            <a:endParaRPr b="0" lang="en-US" sz="1400" spc="-1" strike="noStrike">
              <a:solidFill>
                <a:srgbClr val="000000"/>
              </a:solidFill>
              <a:latin typeface="Corbel"/>
            </a:endParaRPr>
          </a:p>
          <a:p>
            <a:pPr marL="285840" indent="-285840">
              <a:lnSpc>
                <a:spcPct val="7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Corbel"/>
              </a:rPr>
              <a:t>ГМ - генетически модифицированный</a:t>
            </a:r>
            <a:endParaRPr b="0" lang="en-US" sz="1400" spc="-1" strike="noStrike">
              <a:solidFill>
                <a:srgbClr val="000000"/>
              </a:solidFill>
              <a:latin typeface="Corbel"/>
            </a:endParaRPr>
          </a:p>
        </p:txBody>
      </p:sp>
      <p:pic>
        <p:nvPicPr>
          <p:cNvPr id="267" name="Рисунок 1" descr=""/>
          <p:cNvPicPr/>
          <p:nvPr/>
        </p:nvPicPr>
        <p:blipFill>
          <a:blip r:embed="rId1"/>
          <a:stretch/>
        </p:blipFill>
        <p:spPr>
          <a:xfrm>
            <a:off x="5148360" y="2666880"/>
            <a:ext cx="3538440" cy="299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333000"/>
            <a:ext cx="7773840" cy="4319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   </a:t>
            </a:r>
            <a:r>
              <a:rPr b="1" lang="ru-RU" sz="1800" spc="-1" strike="noStrike">
                <a:solidFill>
                  <a:srgbClr val="000000"/>
                </a:solidFill>
                <a:latin typeface="Corbel"/>
              </a:rPr>
              <a:t>Пищевые добавки</a:t>
            </a:r>
            <a:r>
              <a:rPr b="0" lang="ru-RU" sz="1800" spc="-1" strike="noStrike">
                <a:solidFill>
                  <a:srgbClr val="000000"/>
                </a:solidFill>
                <a:latin typeface="Corbel"/>
              </a:rPr>
              <a:t> - это  природные, идентичные природным или искусственные (синтетические) вещества, увеличивающие сроки хранения продуктов или придающие им заданные свойства. Между тем, пищевые добавки вовсе не новое изобретение. История применения пищевых добавок насчитывает несколько тысячелетий. Ещё  в далёкой древности человек использовал такие добавки, как соль, сахар, уксус;  в качестве пряностей - семена горчицы, мускатного ореха, плоды перца, тмина, лавровый лист, корицу, хрен, петрушку. Все они повышают сохранность пищи и стимулируют пищеварение. В качестве красителей выступали овощи и куркума.</a:t>
            </a:r>
            <a:br>
              <a:rPr sz="1800"/>
            </a:br>
            <a:r>
              <a:rPr b="0" lang="ru-RU" sz="1800" spc="-1" strike="noStrike">
                <a:solidFill>
                  <a:srgbClr val="000000"/>
                </a:solidFill>
                <a:latin typeface="Corbel"/>
              </a:rPr>
              <a:t>   С развитием химической и пищевой промышленности в наш обиход вошло великое множество синтетических заменителей, которые на этикетках продуктов обозначаются буквенные кодом  Е.</a:t>
            </a:r>
            <a:endParaRPr b="0" lang="en-US" sz="1800" spc="-1" strike="noStrike">
              <a:solidFill>
                <a:srgbClr val="000000"/>
              </a:solidFill>
              <a:latin typeface="Corbel"/>
            </a:endParaRPr>
          </a:p>
        </p:txBody>
      </p:sp>
      <p:pic>
        <p:nvPicPr>
          <p:cNvPr id="249" name="Рисунок 1" descr=""/>
          <p:cNvPicPr/>
          <p:nvPr/>
        </p:nvPicPr>
        <p:blipFill>
          <a:blip r:embed="rId1"/>
          <a:stretch/>
        </p:blipFill>
        <p:spPr>
          <a:xfrm>
            <a:off x="2770200" y="4437000"/>
            <a:ext cx="3745080" cy="21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920" y="1916280"/>
            <a:ext cx="7701120" cy="1800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Итак, запоминайте! </a:t>
            </a:r>
            <a:br>
              <a:rPr sz="1800"/>
            </a:br>
            <a:br>
              <a:rPr sz="1800"/>
            </a:br>
            <a:r>
              <a:rPr b="0" lang="ru-RU" sz="1800" spc="-1" strike="noStrike">
                <a:solidFill>
                  <a:srgbClr val="000000"/>
                </a:solidFill>
                <a:latin typeface="Corbel"/>
              </a:rPr>
              <a:t>Буква «Е» - это Европа, а цифровой код - характеристика пищевой добавки к продукту. </a:t>
            </a:r>
            <a:br>
              <a:rPr sz="1800"/>
            </a:br>
            <a:r>
              <a:rPr b="0" lang="ru-RU" sz="1800" spc="-1" strike="noStrike">
                <a:solidFill>
                  <a:srgbClr val="000000"/>
                </a:solidFill>
                <a:latin typeface="Corbel"/>
              </a:rPr>
              <a:t>Код, начинающийся на: </a:t>
            </a:r>
            <a:br>
              <a:rPr sz="1800"/>
            </a:br>
            <a:r>
              <a:rPr b="0" lang="ru-RU" sz="1800" spc="-1" strike="noStrike">
                <a:solidFill>
                  <a:srgbClr val="000000"/>
                </a:solidFill>
                <a:latin typeface="Corbel"/>
              </a:rPr>
              <a:t>1, означает красители; </a:t>
            </a:r>
            <a:br>
              <a:rPr sz="1800"/>
            </a:br>
            <a:r>
              <a:rPr b="0" lang="ru-RU" sz="1800" spc="-1" strike="noStrike">
                <a:solidFill>
                  <a:srgbClr val="000000"/>
                </a:solidFill>
                <a:latin typeface="Corbel"/>
              </a:rPr>
              <a:t> 2 - консерванты, </a:t>
            </a:r>
            <a:br>
              <a:rPr sz="1800"/>
            </a:br>
            <a:r>
              <a:rPr b="0" lang="ru-RU" sz="1800" spc="-1" strike="noStrike">
                <a:solidFill>
                  <a:srgbClr val="000000"/>
                </a:solidFill>
                <a:latin typeface="Corbel"/>
              </a:rPr>
              <a:t>3 - антиокислители (они предотвращают порчу продукта), </a:t>
            </a:r>
            <a:br>
              <a:rPr sz="1800"/>
            </a:br>
            <a:r>
              <a:rPr b="0" lang="ru-RU" sz="1800" spc="-1" strike="noStrike">
                <a:solidFill>
                  <a:srgbClr val="000000"/>
                </a:solidFill>
                <a:latin typeface="Corbel"/>
              </a:rPr>
              <a:t>4 - стабилизаторы (сохраняют его консистенцию), </a:t>
            </a:r>
            <a:br>
              <a:rPr sz="1800"/>
            </a:br>
            <a:r>
              <a:rPr b="0" lang="ru-RU" sz="1800" spc="-1" strike="noStrike">
                <a:solidFill>
                  <a:srgbClr val="000000"/>
                </a:solidFill>
                <a:latin typeface="Corbel"/>
              </a:rPr>
              <a:t> 5 - эмульгаторы (поддерживают структуру), </a:t>
            </a:r>
            <a:br>
              <a:rPr sz="1800"/>
            </a:br>
            <a:r>
              <a:rPr b="0" lang="ru-RU" sz="1800" spc="-1" strike="noStrike">
                <a:solidFill>
                  <a:srgbClr val="000000"/>
                </a:solidFill>
                <a:latin typeface="Corbel"/>
              </a:rPr>
              <a:t> 6 - усилители вкуса и аромата, </a:t>
            </a:r>
            <a:br>
              <a:rPr sz="1800"/>
            </a:br>
            <a:r>
              <a:rPr b="0" lang="ru-RU" sz="1800" spc="-1" strike="noStrike">
                <a:solidFill>
                  <a:srgbClr val="000000"/>
                </a:solidFill>
                <a:latin typeface="Corbel"/>
              </a:rPr>
              <a:t> 9 - антифламинговые, то есть противопенные вещества.</a:t>
            </a:r>
            <a:br>
              <a:rPr sz="1800"/>
            </a:br>
            <a:br>
              <a:rPr sz="1800"/>
            </a:br>
            <a:r>
              <a:rPr b="0" lang="ru-RU" sz="1800" spc="-1" strike="noStrike">
                <a:solidFill>
                  <a:srgbClr val="000000"/>
                </a:solidFill>
                <a:latin typeface="Corbel"/>
              </a:rPr>
              <a:t> Индексы с четырехзначным номером говорят о наличии подсластителей - веществ, сохраняющих рассыпчатость сахара или соли, глазирующих агентов.</a:t>
            </a:r>
            <a:endParaRPr b="0" lang="en-US" sz="1800" spc="-1" strike="noStrike">
              <a:solidFill>
                <a:srgbClr val="000000"/>
              </a:solidFill>
              <a:latin typeface="Corbel"/>
            </a:endParaRPr>
          </a:p>
        </p:txBody>
      </p:sp>
      <p:pic>
        <p:nvPicPr>
          <p:cNvPr id="251" name="Рисунок 1" descr=""/>
          <p:cNvPicPr/>
          <p:nvPr/>
        </p:nvPicPr>
        <p:blipFill>
          <a:blip r:embed="rId1"/>
          <a:stretch/>
        </p:blipFill>
        <p:spPr>
          <a:xfrm>
            <a:off x="4140360" y="4797360"/>
            <a:ext cx="2879640" cy="18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333360"/>
            <a:ext cx="7772400" cy="58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orbel"/>
              </a:rPr>
              <a:t>Классификация пищевых добавок</a:t>
            </a:r>
            <a:endParaRPr b="0" lang="en-US" sz="2000" spc="-1" strike="noStrike">
              <a:solidFill>
                <a:srgbClr val="000000"/>
              </a:solidFill>
              <a:latin typeface="Corbel"/>
            </a:endParaRPr>
          </a:p>
        </p:txBody>
      </p:sp>
      <p:graphicFrame>
        <p:nvGraphicFramePr>
          <p:cNvPr id="253" name=""/>
          <p:cNvGraphicFramePr/>
          <p:nvPr/>
        </p:nvGraphicFramePr>
        <p:xfrm>
          <a:off x="685800" y="981000"/>
          <a:ext cx="7772400" cy="5559480"/>
        </p:xfrm>
        <a:graphic>
          <a:graphicData uri="http://schemas.openxmlformats.org/drawingml/2006/table">
            <a:tbl>
              <a:tblPr/>
              <a:tblGrid>
                <a:gridCol w="1582560"/>
                <a:gridCol w="2951280"/>
                <a:gridCol w="3238560"/>
              </a:tblGrid>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ункциональный класс</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2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00 - E182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асители</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вают или восстанавливают цвет продукт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00 - E280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ерванты</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ивают срок хранения продуктов, защищая их от микробов и грибко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2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00 - E391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тиокислители, регуляторы кислотности</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щищают продукты от окисл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400 - E481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билизаторы, эмульгаторы, загустители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яют необходимую консистенцию продуктов, загустители - повышают вязкость;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500 - E585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ые</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600 - E637 </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тели вкуса и арома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иливают вкус</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700 - E899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пасные номе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900 - E967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тивопенные, глазирователи, улучшители муки, подсластители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упреждают или снижают образование пены, придают продуктам приятный внешний вид.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100 - E1105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ерментные препараты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609120"/>
            <a:ext cx="7773840" cy="5340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orbel"/>
              </a:rPr>
              <a:t>Пищевые добавки, запрещенные к применению в РФ:</a:t>
            </a:r>
            <a:br>
              <a:rPr sz="1800"/>
            </a:br>
            <a:br>
              <a:rPr sz="1800"/>
            </a:br>
            <a:r>
              <a:rPr b="0" lang="ru-RU" sz="2000" spc="-1" strike="noStrike">
                <a:solidFill>
                  <a:srgbClr val="000000"/>
                </a:solidFill>
                <a:latin typeface="Corbel"/>
              </a:rPr>
              <a:t>E121, E123, E240</a:t>
            </a:r>
            <a:br>
              <a:rPr sz="2000"/>
            </a:br>
            <a:br>
              <a:rPr sz="1800"/>
            </a:br>
            <a:r>
              <a:rPr b="1" lang="ru-RU" sz="1800" spc="-1" strike="noStrike">
                <a:solidFill>
                  <a:srgbClr val="000000"/>
                </a:solidFill>
                <a:latin typeface="Corbel"/>
              </a:rPr>
              <a:t>Пищевые добавки, не разрешенные к применению в РФ:</a:t>
            </a:r>
            <a:br>
              <a:rPr sz="1800"/>
            </a:br>
            <a:br>
              <a:rPr sz="1800"/>
            </a:br>
            <a:r>
              <a:rPr b="0" lang="es-ES" sz="2000" spc="-1" strike="noStrike">
                <a:solidFill>
                  <a:srgbClr val="000000"/>
                </a:solidFill>
                <a:latin typeface="Corbel"/>
              </a:rPr>
              <a:t>E103, E107, E125, E127, E128, E140, E153-155, E160d, E160f, E166, E173-175, E180, E182, E209, E213-219, E225-228, E230-233, E237, E238, E241, E252, E253, E264, E281-283, E302, E303, E305, E308-314, E317, E318, E323-325, E328, E329, E343-345, E349, E350-352, E355-357, E359, E365-368, E370, E375, E381, E384, E387-390, E399, E403, E408, E409, E418, E419, E429-436, E441-444, E446, E462, E463, E465, E467, E474, E476-480, E482-489, E491-496, E505, E512, E519-523, E535, E537, E538, E541, E542, E550, E552, E554-557, E559, E560, E574, E576, E577, E579, E580, E622-625, E628, E629, E632-635, E640, E641, E906, E908-911, E913, E916-919, E922-926, E929, E942-946, E957, E959, E1000, E1001, E1105, E1503, E1521.</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000000"/>
                </a:solidFill>
                <a:latin typeface="Corbel"/>
              </a:rPr>
              <a:t>Некоторые</a:t>
            </a:r>
            <a:r>
              <a:rPr b="1" lang="es-ES" sz="2200" spc="-1" strike="noStrike">
                <a:solidFill>
                  <a:srgbClr val="000000"/>
                </a:solidFill>
                <a:latin typeface="Corbel"/>
              </a:rPr>
              <a:t> </a:t>
            </a:r>
            <a:r>
              <a:rPr b="1" lang="ru-RU" sz="2200" spc="-1" strike="noStrike">
                <a:solidFill>
                  <a:srgbClr val="000000"/>
                </a:solidFill>
                <a:latin typeface="Corbel"/>
              </a:rPr>
              <a:t>характеристики</a:t>
            </a:r>
            <a:r>
              <a:rPr b="1" lang="es-ES" sz="2200" spc="-1" strike="noStrike">
                <a:solidFill>
                  <a:srgbClr val="000000"/>
                </a:solidFill>
                <a:latin typeface="Corbel"/>
              </a:rPr>
              <a:t> </a:t>
            </a:r>
            <a:r>
              <a:rPr b="1" lang="ru-RU" sz="2200" spc="-1" strike="noStrike">
                <a:solidFill>
                  <a:srgbClr val="000000"/>
                </a:solidFill>
                <a:latin typeface="Corbel"/>
              </a:rPr>
              <a:t>других</a:t>
            </a:r>
            <a:r>
              <a:rPr b="1" lang="es-ES" sz="2200" spc="-1" strike="noStrike">
                <a:solidFill>
                  <a:srgbClr val="000000"/>
                </a:solidFill>
                <a:latin typeface="Corbel"/>
              </a:rPr>
              <a:t> </a:t>
            </a:r>
            <a:r>
              <a:rPr b="1" lang="ru-RU" sz="2200" spc="-1" strike="noStrike">
                <a:solidFill>
                  <a:srgbClr val="000000"/>
                </a:solidFill>
                <a:latin typeface="Corbel"/>
              </a:rPr>
              <a:t>пищевых</a:t>
            </a:r>
            <a:r>
              <a:rPr b="1" lang="es-ES" sz="2200" spc="-1" strike="noStrike">
                <a:solidFill>
                  <a:srgbClr val="000000"/>
                </a:solidFill>
                <a:latin typeface="Corbel"/>
              </a:rPr>
              <a:t> </a:t>
            </a:r>
            <a:r>
              <a:rPr b="1" lang="ru-RU" sz="2200" spc="-1" strike="noStrike">
                <a:solidFill>
                  <a:srgbClr val="000000"/>
                </a:solidFill>
                <a:latin typeface="Corbel"/>
              </a:rPr>
              <a:t>добавок</a:t>
            </a:r>
            <a:r>
              <a:rPr b="1" lang="es-ES" sz="2200" spc="-1" strike="noStrike">
                <a:solidFill>
                  <a:srgbClr val="000000"/>
                </a:solidFill>
                <a:latin typeface="Corbel"/>
              </a:rPr>
              <a:t>:</a:t>
            </a:r>
            <a:r>
              <a:rPr b="1" lang="ru-RU" sz="3600" spc="-1" strike="noStrike">
                <a:solidFill>
                  <a:srgbClr val="000000"/>
                </a:solidFill>
                <a:latin typeface="Corbel"/>
              </a:rPr>
              <a:t> </a:t>
            </a:r>
            <a:endParaRPr b="0" lang="en-US" sz="3600" spc="-1" strike="noStrike">
              <a:solidFill>
                <a:srgbClr val="000000"/>
              </a:solidFill>
              <a:latin typeface="Corbel"/>
            </a:endParaRPr>
          </a:p>
        </p:txBody>
      </p:sp>
      <p:graphicFrame>
        <p:nvGraphicFramePr>
          <p:cNvPr id="256" name=""/>
          <p:cNvGraphicFramePr/>
          <p:nvPr/>
        </p:nvGraphicFramePr>
        <p:xfrm>
          <a:off x="755640" y="1484280"/>
          <a:ext cx="7772400" cy="4896000"/>
        </p:xfrm>
        <a:graphic>
          <a:graphicData uri="http://schemas.openxmlformats.org/drawingml/2006/table">
            <a:tbl>
              <a:tblPr/>
              <a:tblGrid>
                <a:gridCol w="3886200"/>
                <a:gridCol w="3886200"/>
              </a:tblGrid>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е на организм</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110, E123, E127, E129, E150, E151, E173-175, E210, E212, E216-219, E227, E228, E235, E242, E339-341, E400-403, E450-452, E521-523, E541-556, E559, E574-579, E620-625, E900, E912, E951, E954, E965,E967,E999</a:t>
                      </a:r>
                      <a:r>
                        <a:rPr b="0" lang="ru-RU" sz="1200" spc="-1" strike="noStrike">
                          <a:solidFill>
                            <a:srgbClr val="000000"/>
                          </a:solidFill>
                          <a:latin typeface="Times New Roman"/>
                        </a:rPr>
                        <a:t>,</a:t>
                      </a:r>
                      <a:r>
                        <a:rPr b="0" lang="es-ES" sz="1200" spc="-1" strike="noStrike">
                          <a:solidFill>
                            <a:srgbClr val="000000"/>
                          </a:solidFill>
                          <a:latin typeface="Times New Roman"/>
                        </a:rPr>
                        <a:t>E1200-1202</a:t>
                      </a:r>
                      <a:r>
                        <a:rPr b="0" lang="ru-RU"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асны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102, E104, E120, E122, E124, E141, E150, E161, E173, E180, E24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мнительные</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131, E142, E210-217, E239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нцерогены</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2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ают витамин B12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21-22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 деятельность желудочно-кишечного тракт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230, E231, E233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 функцию кожи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11, E31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зывают сыпь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340, E341, E407, E450, E461-463, E466, E468</a:t>
                      </a:r>
                      <a:r>
                        <a:rPr b="0" lang="ru-RU"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ают</a:t>
                      </a:r>
                      <a:r>
                        <a:rPr b="0" lang="es-ES" sz="1200" spc="-1" strike="noStrike">
                          <a:solidFill>
                            <a:srgbClr val="000000"/>
                          </a:solidFill>
                          <a:latin typeface="Times New Roman"/>
                        </a:rPr>
                        <a:t> </a:t>
                      </a:r>
                      <a:r>
                        <a:rPr b="0" lang="ru-RU" sz="1200" spc="-1" strike="noStrike">
                          <a:solidFill>
                            <a:srgbClr val="000000"/>
                          </a:solidFill>
                          <a:latin typeface="Times New Roman"/>
                        </a:rPr>
                        <a:t>пищеварение</a:t>
                      </a:r>
                      <a:r>
                        <a:rPr b="0" lang="es-E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E320, E32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держат много холестерина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Современные пищевые добавки выполняют две главные </a:t>
            </a:r>
            <a:r>
              <a:rPr b="1" i="1" lang="ru-RU" sz="2400" spc="-1" strike="noStrike">
                <a:solidFill>
                  <a:srgbClr val="000000"/>
                </a:solidFill>
                <a:latin typeface="Corbel"/>
              </a:rPr>
              <a:t>задачи:</a:t>
            </a:r>
            <a:r>
              <a:rPr b="1" lang="ru-RU" sz="2400" spc="-1" strike="noStrike">
                <a:solidFill>
                  <a:srgbClr val="000000"/>
                </a:solidFill>
                <a:latin typeface="Corbel"/>
              </a:rPr>
              <a:t> </a:t>
            </a:r>
            <a:r>
              <a:rPr b="1" lang="ru-RU" sz="4000" spc="-1" strike="noStrike">
                <a:solidFill>
                  <a:srgbClr val="000000"/>
                </a:solidFill>
                <a:latin typeface="Corbel"/>
              </a:rPr>
              <a:t> </a:t>
            </a:r>
            <a:endParaRPr b="0" lang="en-US" sz="4000" spc="-1" strike="noStrike">
              <a:solidFill>
                <a:srgbClr val="000000"/>
              </a:solidFill>
              <a:latin typeface="Corbel"/>
            </a:endParaRPr>
          </a:p>
        </p:txBody>
      </p:sp>
      <p:sp>
        <p:nvSpPr>
          <p:cNvPr id="258" name=""/>
          <p:cNvSpPr txBox="1"/>
          <p:nvPr/>
        </p:nvSpPr>
        <p:spPr>
          <a:xfrm>
            <a:off x="982800" y="1915920"/>
            <a:ext cx="7704000" cy="4082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 увеличивают срок хранения продуктов питания, что необходимо для их транспортировки в разные уголки земного шара;</a:t>
            </a:r>
            <a:endParaRPr b="0" lang="en-US" sz="2000" spc="-1" strike="noStrike">
              <a:solidFill>
                <a:srgbClr val="000000"/>
              </a:solidFill>
              <a:latin typeface="Corbel"/>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 придают продуктам питания необходимые и приятные свойства - красивый цвет, привлекательный вкус и аромат, густую консистенцию.</a:t>
            </a:r>
            <a:endParaRPr b="0" lang="en-US" sz="2000" spc="-1" strike="noStrike">
              <a:solidFill>
                <a:srgbClr val="000000"/>
              </a:solidFill>
              <a:latin typeface="Corbel"/>
            </a:endParaRPr>
          </a:p>
        </p:txBody>
      </p:sp>
      <p:pic>
        <p:nvPicPr>
          <p:cNvPr id="259" name="Рисунок 1" descr=""/>
          <p:cNvPicPr/>
          <p:nvPr/>
        </p:nvPicPr>
        <p:blipFill>
          <a:blip r:embed="rId1"/>
          <a:stretch/>
        </p:blipFill>
        <p:spPr>
          <a:xfrm>
            <a:off x="4211640" y="4724280"/>
            <a:ext cx="33847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04960" y="-36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Польза и вред пищевых добавок</a:t>
            </a:r>
            <a:endParaRPr b="0" lang="en-US" sz="2400" spc="-1" strike="noStrike">
              <a:solidFill>
                <a:srgbClr val="000000"/>
              </a:solidFill>
              <a:latin typeface="Corbel"/>
            </a:endParaRPr>
          </a:p>
        </p:txBody>
      </p:sp>
      <p:sp>
        <p:nvSpPr>
          <p:cNvPr id="261" name=""/>
          <p:cNvSpPr txBox="1"/>
          <p:nvPr/>
        </p:nvSpPr>
        <p:spPr>
          <a:xfrm>
            <a:off x="711360" y="1413000"/>
            <a:ext cx="7704000" cy="3332160"/>
          </a:xfrm>
          <a:prstGeom prst="rect">
            <a:avLst/>
          </a:prstGeom>
          <a:noFill/>
          <a:ln w="0">
            <a:noFill/>
          </a:ln>
        </p:spPr>
        <p:txBody>
          <a:bodyPr anchor="ctr">
            <a:normAutofit fontScale="93000"/>
          </a:bodyPr>
          <a:p>
            <a:pPr marL="265680" indent="-26568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Наличие пищевых добавок в обязательном порядке указывается на упаковке продукции. Пугаться их присутствия не следует: большинство наименований при правильном соблюдении рецептуры вреда здоровью не несет; исключения составляют лишь те, которые у отдельных людей могут вызывать индивидуальную непереносимость. Например, бензоат натрия (Е211) - популярный консервант, часто используемый для производства мармелада, меланжа, джемов. Его наличие в продуктах должно настораживать астматиков и людей, чувствительных к аспирину. </a:t>
            </a:r>
            <a:endParaRPr b="0" lang="en-US" sz="2000" spc="-1" strike="noStrike">
              <a:solidFill>
                <a:srgbClr val="000000"/>
              </a:solidFill>
              <a:latin typeface="Corbel"/>
            </a:endParaRPr>
          </a:p>
        </p:txBody>
      </p:sp>
      <p:pic>
        <p:nvPicPr>
          <p:cNvPr id="262" name="Рисунок 1" descr=""/>
          <p:cNvPicPr/>
          <p:nvPr/>
        </p:nvPicPr>
        <p:blipFill>
          <a:blip r:embed="rId1"/>
          <a:stretch/>
        </p:blipFill>
        <p:spPr>
          <a:xfrm>
            <a:off x="5130720" y="4508640"/>
            <a:ext cx="26100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620280"/>
            <a:ext cx="7772400" cy="5472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orbel"/>
              </a:rPr>
              <a:t>   </a:t>
            </a:r>
            <a:r>
              <a:rPr b="0" lang="ru-RU" sz="1800" spc="-1" strike="noStrike">
                <a:solidFill>
                  <a:srgbClr val="000000"/>
                </a:solidFill>
                <a:latin typeface="Corbel"/>
              </a:rPr>
              <a:t>На сегодняшний день без пищевых добавок (консервантов и т. д.) человечеству не обойтись, поскольку именно они, а не сельское хозяйство, способны обеспечить 10% ежегодного прироста продовольствия, без которого население Земли просто окажется на грани голодной смерти. Другой вопрос, что они должны быть максимально безопасными для здоровья. Врачи - гигиенисты, конечно, об этом заботятся, но и всем остальным не стоит терять бдительность, внимательно читая то, что написано на упаковке.</a:t>
            </a:r>
            <a:br>
              <a:rPr sz="1800"/>
            </a:br>
            <a:r>
              <a:rPr b="0" lang="ru-RU" sz="1800" spc="-1" strike="noStrike">
                <a:solidFill>
                  <a:srgbClr val="000000"/>
                </a:solidFill>
                <a:latin typeface="Corbel"/>
              </a:rPr>
              <a:t>     Впрочем, в последнее время в продуктах все чаще можно встретить добавки, изготовленные из природного сырья, а значит, более безопасного. В этих целях используются методы биотехнологии - ферментация, белковые реакции, грибковые культуры. Например, с помощью ферментации получаются добавки, имитирующие различные запахи: свежих сливок, ветчины, различных специй, сыра и даже шашлычного дыма. Добавка с запахом дыма добавляется в шашлычный соус, копчености, мясные полуфабрикаты - именно она создает иллюзию приготовления этих продуктов на открытом огне. Добавки с запахом лука, укропа, бекона добавляют в чипсы, сухарики и снеки.</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5T15:15:07Z</dcterms:created>
  <dc:creator>Win7</dc:creator>
  <dc:description/>
  <dc:language>en-US</dc:language>
  <cp:lastModifiedBy>admin</cp:lastModifiedBy>
  <dcterms:modified xsi:type="dcterms:W3CDTF">2023-02-18T06:40:15Z</dcterms:modified>
  <cp:revision>5</cp:revision>
  <dc:subject/>
  <dc:title>PowerPoint Presentation</dc:title>
</cp:coreProperties>
</file>