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2.gif" ContentType="image/gif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image14.png" ContentType="image/png"/>
  <Override PartName="/ppt/media/image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0C8-9157-4D01-ABF6-75D40640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82E8-CE58-4952-BBAC-108E6108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DB5-10F8-4F7A-BCD5-2EF4D998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CE6-C16C-410A-BF36-59548E08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5892-235A-4AED-9188-1DC7A463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4712-A1AF-471F-A5A4-1C68F528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8BE6-9287-4B32-BBF5-4BE8DD8A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D453-B3A0-43C0-AD9E-E1BE89F0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4C9A-0DA6-4FBE-8603-B96DAA0E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98DD-9365-4AE8-8227-7311E814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250B-5CEC-43F4-A109-73F9D3DC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1075-3C11-4E14-A62A-B05BAAA6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27D6-D06E-45C2-9A3E-74DE94E6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9169-8301-4DB8-A800-FE697D09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1F41-7C90-4700-A2B2-21821178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493F-F2AD-4D65-8E80-5ADF4F34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EB2A-13E1-40E6-A706-7F7322E3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9F1BE-F5AC-4DA5-8B84-E00D519D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46F2B-8B25-4B7D-8DF2-278359BE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09544-0838-4A3B-8A2F-C647E12D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7FC24-740A-41A9-A450-061F5580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7013D-20F1-4F60-97E4-4B668E33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9D4-5570-4288-B0E6-E44E8A77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9EB80-5EB4-49CF-8A57-4A7982CC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9EC8D-1E89-4983-A373-16F7A2B9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8D8A8-0316-4DC0-95A4-A723B4FD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4B96D-67A0-4D93-84D3-99F3C089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A99A8-B7A4-4471-9F3D-4BD9651F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2DAFA-6B26-42E5-BB3F-6CD06D88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B3358-2938-47F6-9122-BA97DB76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E992B-3BAF-4D89-A78D-1D16FEF4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E33B6-B52F-4EF1-819D-99A0B78A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E664F-A5D6-411D-B659-7CBAA85F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718-F211-4B9C-947B-40ECCD20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C83C0-A94C-49AD-9996-25AF92A6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22EC2-B4AA-4C31-AC17-085D11E6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17C6D-F39F-4E26-B6DC-6D89BA00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A9DD8-0B11-4AA9-BCEF-8D4A1677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23385-8386-4B5C-AF58-92266A3F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E60F7-002E-41ED-ADBB-5792051C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F8F05-4D5E-4F02-A890-6B544CDD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4D056-058C-4794-88B7-7D732C35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BDCF1-71E6-479B-81CF-309FB74D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A10606-FD71-4ADA-9DC0-6EBD79B5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4E6-67F2-40DA-B959-BA6804F8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0D30F-A00A-4E90-9CE9-A7B5FD25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F1FAB-2113-4BB2-AE8D-25465D3D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009EF-2303-4C2E-8881-A8EE544D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27B87-F4D6-4C21-92AB-87047A90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4F9CF9-D023-4E96-87A9-A9F3E9F0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FAD5B7-9346-4C22-ABF3-18CFEA42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12A7DF-9421-4A44-94A2-2491DC7C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EA2FF-A3BD-431C-A689-F6FF207B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24569C-2DC6-4EA9-93B6-36054C3B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8625F-9D6B-4F6D-83BB-3404E578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7D3-AAE9-40DC-BE7F-CB76090D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E66299-524A-4DBB-BC82-4E2853A1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DA30F7-C8D3-4C80-9991-37BC8906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E38963-EE67-483C-990D-4ECAD6F8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04CC9-7AD8-445B-BBB0-3E3072D7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57818-E3EF-46D3-8A3B-9914602D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44047-B1BC-42BB-B2E5-AB949955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9C59D5-A075-4E95-8A47-4BBE79A6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19654C-8717-4D1F-8D5F-504BF189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6D92DF-0D0D-47D8-B087-B215D1E9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8244D4-DF10-44B3-8F6B-1D53B39D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2BB-52F8-43C0-95B0-CA426DC0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06D693-169D-4E5F-BEEE-45130AC0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9F1EDC-2F84-4A9B-A6C3-AF0B1BC4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F1508-41EB-4056-9DCE-974EA33B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2E770-11DE-42D6-B38E-F3B72F91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71D649-8D9A-42D5-8E4F-8E392B5E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26541E-A6BE-46BF-A54A-A4E192FF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0DC912-C800-45AB-ABE3-A0E9D4D4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C5BB21-BE75-4A5D-BF6A-E59296F6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101D8-658C-4EBA-B074-C12BDCF6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21130D-7C07-4342-8E9E-AA387A2F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17C-442F-4291-8DED-5854C71A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51ECEA-0985-4041-B5D7-1170B2FD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AE3444-8866-425E-B54B-9C25EE96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9273B3-70E0-4274-A338-79DFD27B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7DBCC-B052-4FB3-8899-6A49AD6E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E61616-9756-48A2-8389-426EB124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8CD-53AC-4507-926D-1BF9CC78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1C78-5B3E-411E-91B7-1CB85C4FF23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2D94-224F-4E17-9D0D-F1B287B5FA7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01BC-59F8-4EA3-9659-010252EE011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BD26-444D-4BDD-9035-8DB7C180D13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A21A-DD8D-43BF-979D-2AEFBF49412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B144-34DE-436A-99F3-286D1D3CFF9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53D0-E803-4F65-A913-5796CDFB707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208080" y="3276720"/>
            <a:ext cx="8415360" cy="36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0c37"/>
                </a:solidFill>
                <a:latin typeface="Arial"/>
              </a:rPr>
              <a:t>Воспитательная 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« </a:t>
            </a:r>
            <a:r>
              <a:rPr b="1" i="1" lang="ru-RU" sz="5400" spc="-1" strike="noStrike">
                <a:solidFill>
                  <a:srgbClr val="c00000"/>
                </a:solidFill>
                <a:latin typeface="Verdana"/>
              </a:rPr>
              <a:t>Остров детства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944640" y="6858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457200" y="45720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6" descr="C:\Users\Ирина\Desktop\kids-on-an-island-vector-1007150.jpg"/>
          <p:cNvPicPr/>
          <p:nvPr/>
        </p:nvPicPr>
        <p:blipFill>
          <a:blip r:embed="rId1"/>
          <a:srcRect l="0" t="0" r="0" b="7379"/>
          <a:stretch/>
        </p:blipFill>
        <p:spPr>
          <a:xfrm>
            <a:off x="1981080" y="439560"/>
            <a:ext cx="5486400" cy="29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1"/>
          <p:cNvSpPr/>
          <p:nvPr/>
        </p:nvSpPr>
        <p:spPr>
          <a:xfrm>
            <a:off x="457200" y="4191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304920" y="-106200"/>
            <a:ext cx="853416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874396"/>
                </a:solidFill>
                <a:uFillTx/>
                <a:latin typeface="Arial Narrow"/>
                <a:ea typeface="Times New Roman"/>
              </a:rPr>
              <a:t>Цель воспитательной программы </a:t>
            </a:r>
            <a:r>
              <a:rPr b="1" lang="ru-RU" sz="4800" spc="-1" strike="noStrike">
                <a:solidFill>
                  <a:srgbClr val="874396"/>
                </a:solidFill>
                <a:latin typeface="Arial Narrow"/>
                <a:ea typeface="Times New Roman"/>
              </a:rPr>
              <a:t>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ние нравственной, гармоничной и физически здоровой личности с максимально развитыми интеллектуальными и культурно-эстетическими способностями, способной к самореализации,  стремящейся к самопознанию и само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6"/>
          <p:cNvSpPr/>
          <p:nvPr/>
        </p:nvSpPr>
        <p:spPr>
          <a:xfrm>
            <a:off x="914400" y="175248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6"/>
          <p:cNvSpPr/>
          <p:nvPr/>
        </p:nvSpPr>
        <p:spPr>
          <a:xfrm>
            <a:off x="76320" y="17640"/>
            <a:ext cx="769608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Calibri"/>
                <a:ea typeface="Times New Roman"/>
              </a:rPr>
              <a:t>Задачи воспитательной программы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ть индивидуальные творческие способности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ть гражданско-патриотические качества ли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ывать желание и стремление учащихся к самопознанию, самовоспитанию, самосовершенствова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ть культуру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ывать чувство уважения к родителям, семь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ывать уважение к другим людям, терпимость к чужому мнению, традициям, формировать умение вести диалог и готовность к сотрудничест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ывать ответственность, самостоятельность, добросовестное отношение к учебе и трудов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ть чувство осознания ценности культурных традиций своей Родины, понимание неразрывности связей Родины, ее культуры с другими стра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6" descr="C:\Users\Ирина\Desktop\488830929.gif"/>
          <p:cNvPicPr/>
          <p:nvPr/>
        </p:nvPicPr>
        <p:blipFill>
          <a:blip r:embed="rId1"/>
          <a:stretch/>
        </p:blipFill>
        <p:spPr>
          <a:xfrm>
            <a:off x="7121520" y="1338120"/>
            <a:ext cx="2022480" cy="15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Схема 4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8003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Блок-схема: процесс 5"/>
          <p:cNvGrpSpPr/>
          <p:nvPr/>
        </p:nvGrpSpPr>
        <p:grpSpPr>
          <a:xfrm>
            <a:off x="1500120" y="1200240"/>
            <a:ext cx="5838840" cy="1098360"/>
            <a:chOff x="1500120" y="1200240"/>
            <a:chExt cx="5838840" cy="1098360"/>
          </a:xfrm>
        </p:grpSpPr>
        <p:pic>
          <p:nvPicPr>
            <p:cNvPr id="362" name="Блок-схема: процесс 5" descr=""/>
            <p:cNvPicPr/>
            <p:nvPr/>
          </p:nvPicPr>
          <p:blipFill>
            <a:blip r:embed="rId1"/>
            <a:stretch/>
          </p:blipFill>
          <p:spPr>
            <a:xfrm>
              <a:off x="1500120" y="1200240"/>
              <a:ext cx="583884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1562040" y="1295280"/>
              <a:ext cx="5715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Black"/>
                </a:rPr>
                <a:t>1 класс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Arial Black"/>
                </a:rPr>
                <a:t>        «Познай самого себя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Прямоугольник 2" descr=""/>
          <p:cNvPicPr/>
          <p:nvPr/>
        </p:nvPicPr>
        <p:blipFill>
          <a:blip r:embed="rId2"/>
          <a:stretch/>
        </p:blipFill>
        <p:spPr>
          <a:xfrm>
            <a:off x="1219320" y="-12600"/>
            <a:ext cx="6937200" cy="203040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3"/>
          <p:cNvSpPr/>
          <p:nvPr/>
        </p:nvSpPr>
        <p:spPr>
          <a:xfrm>
            <a:off x="380880" y="1198440"/>
            <a:ext cx="8077320" cy="38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Блок-схема: процесс 6"/>
          <p:cNvGrpSpPr/>
          <p:nvPr/>
        </p:nvGrpSpPr>
        <p:grpSpPr>
          <a:xfrm>
            <a:off x="1500120" y="2335320"/>
            <a:ext cx="5838840" cy="1096920"/>
            <a:chOff x="1500120" y="2335320"/>
            <a:chExt cx="5838840" cy="1096920"/>
          </a:xfrm>
        </p:grpSpPr>
        <p:pic>
          <p:nvPicPr>
            <p:cNvPr id="367" name="Блок-схема: процесс 6" descr=""/>
            <p:cNvPicPr/>
            <p:nvPr/>
          </p:nvPicPr>
          <p:blipFill>
            <a:blip r:embed="rId3"/>
            <a:stretch/>
          </p:blipFill>
          <p:spPr>
            <a:xfrm>
              <a:off x="1500120" y="2335320"/>
              <a:ext cx="5838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1562040" y="2438280"/>
              <a:ext cx="5715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Black"/>
                </a:rPr>
                <a:t>2 класс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Arial Black"/>
                </a:rPr>
                <a:t> «Учись дружить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Прямоугольник 7"/>
          <p:cNvGrpSpPr/>
          <p:nvPr/>
        </p:nvGrpSpPr>
        <p:grpSpPr>
          <a:xfrm>
            <a:off x="1500120" y="3486240"/>
            <a:ext cx="5838840" cy="1164960"/>
            <a:chOff x="1500120" y="3486240"/>
            <a:chExt cx="5838840" cy="1164960"/>
          </a:xfrm>
        </p:grpSpPr>
        <p:pic>
          <p:nvPicPr>
            <p:cNvPr id="370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500120" y="3486240"/>
              <a:ext cx="583884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1562040" y="3581280"/>
              <a:ext cx="5715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 Black"/>
                </a:rPr>
                <a:t>                   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Black"/>
                </a:rPr>
                <a:t>3 клас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Black"/>
                </a:rPr>
                <a:t> 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Black"/>
                </a:rPr>
                <a:t>«Азбука коллективной жизни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entury Schoolboo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Блок-схема: процесс 8"/>
          <p:cNvGrpSpPr/>
          <p:nvPr/>
        </p:nvGrpSpPr>
        <p:grpSpPr>
          <a:xfrm>
            <a:off x="1504800" y="4584600"/>
            <a:ext cx="5840640" cy="1067040"/>
            <a:chOff x="1504800" y="4584600"/>
            <a:chExt cx="5840640" cy="1067040"/>
          </a:xfrm>
        </p:grpSpPr>
        <p:pic>
          <p:nvPicPr>
            <p:cNvPr id="373" name="Блок-схема: процесс 8" descr=""/>
            <p:cNvPicPr/>
            <p:nvPr/>
          </p:nvPicPr>
          <p:blipFill>
            <a:blip r:embed="rId5"/>
            <a:stretch/>
          </p:blipFill>
          <p:spPr>
            <a:xfrm>
              <a:off x="1504800" y="4584600"/>
              <a:ext cx="58406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576440" y="4748040"/>
              <a:ext cx="570060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Black"/>
                </a:rPr>
                <a:t>4 класс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Arial Black"/>
                </a:rPr>
                <a:t>   «Вместе мы сил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467480" cy="1517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6" descr="C:\Users\Ирина\Desktop\КОНКУРС\скан\грамоты\Изображение1.jpg"/>
          <p:cNvPicPr/>
          <p:nvPr/>
        </p:nvPicPr>
        <p:blipFill>
          <a:blip r:embed="rId2"/>
          <a:stretch/>
        </p:blipFill>
        <p:spPr>
          <a:xfrm>
            <a:off x="554040" y="1589040"/>
            <a:ext cx="1454040" cy="2068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8" descr="C:\Users\Ирина\Desktop\КОНКУРС\скан\грамоты\Изображение1 024.jpg"/>
          <p:cNvPicPr/>
          <p:nvPr/>
        </p:nvPicPr>
        <p:blipFill>
          <a:blip r:embed="rId3"/>
          <a:stretch/>
        </p:blipFill>
        <p:spPr>
          <a:xfrm>
            <a:off x="2666880" y="1589040"/>
            <a:ext cx="1508400" cy="2075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9" descr="C:\Users\Ирина\Desktop\КОНКУРС\скан\грамоты\Изображение1 023.jpg"/>
          <p:cNvPicPr/>
          <p:nvPr/>
        </p:nvPicPr>
        <p:blipFill>
          <a:blip r:embed="rId4"/>
          <a:stretch/>
        </p:blipFill>
        <p:spPr>
          <a:xfrm>
            <a:off x="554040" y="4255920"/>
            <a:ext cx="1454040" cy="2311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"/>
          <p:cNvPicPr/>
          <p:nvPr/>
        </p:nvPicPr>
        <p:blipFill>
          <a:blip r:embed="rId5"/>
          <a:stretch/>
        </p:blipFill>
        <p:spPr>
          <a:xfrm>
            <a:off x="5029200" y="1589040"/>
            <a:ext cx="1471680" cy="1960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6"/>
          <a:stretch/>
        </p:blipFill>
        <p:spPr>
          <a:xfrm>
            <a:off x="7112160" y="1523880"/>
            <a:ext cx="1519200" cy="2025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C:\Users\Ирина\Desktop\Изображение1 021.jpg"/>
          <p:cNvPicPr/>
          <p:nvPr/>
        </p:nvPicPr>
        <p:blipFill>
          <a:blip r:embed="rId7"/>
          <a:stretch/>
        </p:blipFill>
        <p:spPr>
          <a:xfrm>
            <a:off x="2666880" y="4295880"/>
            <a:ext cx="1508400" cy="2271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C:\Users\Ирина\Desktop\Изображение1 001.jpg"/>
          <p:cNvPicPr/>
          <p:nvPr/>
        </p:nvPicPr>
        <p:blipFill>
          <a:blip r:embed="rId8"/>
          <a:stretch/>
        </p:blipFill>
        <p:spPr>
          <a:xfrm>
            <a:off x="5029200" y="4276800"/>
            <a:ext cx="1471680" cy="2290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C:\Users\Ирина\Desktop\Изображение1 020.jpg"/>
          <p:cNvPicPr/>
          <p:nvPr/>
        </p:nvPicPr>
        <p:blipFill>
          <a:blip r:embed="rId9"/>
          <a:stretch/>
        </p:blipFill>
        <p:spPr>
          <a:xfrm>
            <a:off x="7112160" y="4276800"/>
            <a:ext cx="15192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3" descr="C:\Users\Ирина\Desktop\Изображение1 025.jpg"/>
          <p:cNvPicPr/>
          <p:nvPr/>
        </p:nvPicPr>
        <p:blipFill>
          <a:blip r:embed="rId1"/>
          <a:stretch/>
        </p:blipFill>
        <p:spPr>
          <a:xfrm>
            <a:off x="3124080" y="1477800"/>
            <a:ext cx="2195640" cy="3475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C:\Users\Ирина\Desktop\Изображение1 005.jpg"/>
          <p:cNvPicPr/>
          <p:nvPr/>
        </p:nvPicPr>
        <p:blipFill>
          <a:blip r:embed="rId2"/>
          <a:stretch/>
        </p:blipFill>
        <p:spPr>
          <a:xfrm>
            <a:off x="5943600" y="1477800"/>
            <a:ext cx="2195640" cy="3475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C:\Users\Ирина\Desktop\КОНКУРС\скан\грамоты\Изображение1 013.jpg"/>
          <p:cNvPicPr/>
          <p:nvPr/>
        </p:nvPicPr>
        <p:blipFill>
          <a:blip r:embed="rId3"/>
          <a:stretch/>
        </p:blipFill>
        <p:spPr>
          <a:xfrm>
            <a:off x="457200" y="1477800"/>
            <a:ext cx="22096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ster Yoda</dc:creator>
  <dc:description/>
  <dc:language>en-US</dc:language>
  <cp:lastModifiedBy>Ирина</cp:lastModifiedBy>
  <dcterms:modified xsi:type="dcterms:W3CDTF">2023-02-18T09:03:04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