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14.png" ContentType="image/png"/>
  <Override PartName="/ppt/media/image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A4B9-8DA0-4899-B949-DA484D99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6055-AE9D-4B92-98D8-5FCA1B8C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DA9-60A5-4AC7-97E3-C3D33DC4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513-7F86-4B84-9294-BBAE325C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CC67-3BD6-4355-A921-16EE27C1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769A-A2C0-404F-8201-283EA879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CB46-4674-4AB7-ADDD-97EDC878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6DB0-DAE6-49D3-AF15-3E895FDD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0992-C671-43C8-B3DF-661A21AF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F372-F4C2-4D5F-81EF-49AF4C46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D656-ABE9-469D-BD75-B725BA8B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38A-1E53-4EA0-8A35-2825350E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55E0-194C-42A1-81A9-BDC504A0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D0FA-1C58-429B-A00F-12719AEE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40D4-C6D4-457E-BA38-73DBD1C4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D080-D0C6-4E8E-8FA5-9B2E1466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3857-EE7C-4C5D-B463-8B6EECF2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69B18-F237-4942-BCFB-709DE712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4C34A-4FC2-4EE9-8AEB-32E8AF64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68291-9F3C-4603-B3F3-B4CD7D34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DF752-B994-4294-B4FB-9B48E97C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301FB-AC2F-4576-9E1A-909F8496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6CE-0480-4969-943E-AF2DE96A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D6F55-5953-49E1-8C0E-361A6122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893A2-7816-4949-B7C6-4A3AA8C6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EF6A3-BB77-4D93-A07B-589477C9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71321-5247-4B99-BB35-3F220318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36069-8295-475C-A9EE-D9F150FF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B1156-B50D-45F3-9D4F-4929A71D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850B7-278C-41C9-B84E-BDFBE640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E369E-BC8B-475D-84F7-627D965B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69963-6CD6-4E41-9E96-FA5B354C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F6B33-3D22-499A-9869-C81BD5A2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706-ADD4-4F0E-A229-7B4E8728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0BE28-AC80-475E-BE89-D52B2B4F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823B0-E9FC-469D-8591-7EE3E686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C7085-011B-432B-BB58-A99F9C84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CC1A3-2297-483B-91CF-A2A2B978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383E7-F47D-46FA-81BD-1260839E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3B8F5-F960-4003-B28D-860203ED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D1DB9-BE18-4707-88F9-756D9D81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D87B0-1656-41A5-9E11-422B9C34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AD732-4F0C-44CA-B9AB-48829A6B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7244A6-3F3C-4E08-870C-6EEB4283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501-B98F-4A0A-B541-20AAA2C7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D32327-EEE2-4CEB-BB62-9A603E63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E5211-A9BF-4822-AEB2-961C8A5C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D3AEB-0D36-4FF3-8D98-A1344578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96F88-6C8C-4065-898D-08F0F833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320E42-C71D-4D24-885C-83FD8765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B0A96-49E5-41C2-B518-6DFC4FA9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CCAB5-F01D-4833-A19E-F8057873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83133-3B63-406A-AE89-ACD80103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ADE01-AF99-4085-AB32-3CF5F356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FDC59-5D52-4BC4-B381-38863F4E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D8B-D54D-4364-80BA-97F39642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790B2-DE57-4A56-A3E0-691AE562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D6F85B-1C45-46D6-BCE8-04A6CC06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DE8F0-A850-4820-A0D6-5E552B97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84243-0D7E-4AC8-BAA5-8D279461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A55C7-8FDA-4647-92DE-BBBA0853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07145-53C9-4E4D-A490-DBE3D509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9D624E-5230-4AFC-8322-ABC1E300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45811-E233-42E3-B784-3840E3BB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E388A8-1C83-4065-B8C6-FF73EB31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51BD8-EC53-41E4-9497-2286E17D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AA07-3975-40D3-A431-7BBFED23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C599C-7701-4AEA-9F5F-7A63A2C9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205139-A63C-4D78-A260-B52C5288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E191E5-92BB-46A8-8DB3-853B6D6B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2DEFD8-5168-41EE-8C08-5EA14C61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FA6F7B-7D8C-4536-9980-538C93BC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3FF64-3D82-4A9F-BB88-58FB9398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077DC-2654-4922-8FA9-33581F66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BB829-B3C6-4C40-9EB0-D401D6AD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4396E-559C-4CAE-BA81-0648521D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F815D0-9AAF-4460-A085-832B1DEA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CAF-9108-4B62-AD32-45700515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480EBA-96A2-48B3-9CF1-85A11A6D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4652C8-195F-444C-A932-FE95948F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F64C1-70F6-4F4B-9742-AE56F382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7A8F30-C9F5-428E-9438-2F55AA65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7E40C6-1E27-4962-9BCF-64C97F7A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10E-5B75-4193-B309-764809AE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DEDC-2FDF-4274-9306-FC090354200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2255-8E47-4733-93F7-2629C4EDB55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1451-1DC0-412F-8603-BD6192AA218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3312-263E-41BC-9C29-5D61D3A0129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0726-AE6C-4612-9373-CE84CBF0D9F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E4CF-685D-4461-AE57-700763C3EA4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5039-3A52-4DFB-A373-DFACB7F8A8E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208080" y="3276720"/>
            <a:ext cx="8415360" cy="36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0c37"/>
                </a:solidFill>
                <a:latin typeface="Arial"/>
              </a:rPr>
              <a:t>Воспитательная 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« </a:t>
            </a:r>
            <a:r>
              <a:rPr b="1" i="1" lang="ru-RU" sz="5400" spc="-1" strike="noStrike">
                <a:solidFill>
                  <a:srgbClr val="c00000"/>
                </a:solidFill>
                <a:latin typeface="Verdana"/>
              </a:rPr>
              <a:t>Остров детства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944640" y="6858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457200" y="45720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6" descr="C:\Users\Ирина\Desktop\kids-on-an-island-vector-1007150.jpg"/>
          <p:cNvPicPr/>
          <p:nvPr/>
        </p:nvPicPr>
        <p:blipFill>
          <a:blip r:embed="rId1"/>
          <a:srcRect l="0" t="0" r="0" b="7379"/>
          <a:stretch/>
        </p:blipFill>
        <p:spPr>
          <a:xfrm>
            <a:off x="1981080" y="439560"/>
            <a:ext cx="548640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1"/>
          <p:cNvSpPr/>
          <p:nvPr/>
        </p:nvSpPr>
        <p:spPr>
          <a:xfrm>
            <a:off x="457200" y="4191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304920" y="-106200"/>
            <a:ext cx="853416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874396"/>
                </a:solidFill>
                <a:uFillTx/>
                <a:latin typeface="Arial Narrow"/>
                <a:ea typeface="Times New Roman"/>
              </a:rPr>
              <a:t>Цель воспитательной программы </a:t>
            </a:r>
            <a:r>
              <a:rPr b="1" lang="ru-RU" sz="4800" spc="-1" strike="noStrike">
                <a:solidFill>
                  <a:srgbClr val="874396"/>
                </a:solidFill>
                <a:latin typeface="Arial Narrow"/>
                <a:ea typeface="Times New Roman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ние нравственной, гармоничной и физически здоровой личности с максимально развитыми интеллектуальными и культурно-эстетическими способностями, способной к самореализации,  стремящейся к самопознанию и само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6"/>
          <p:cNvSpPr/>
          <p:nvPr/>
        </p:nvSpPr>
        <p:spPr>
          <a:xfrm>
            <a:off x="914400" y="17524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6"/>
          <p:cNvSpPr/>
          <p:nvPr/>
        </p:nvSpPr>
        <p:spPr>
          <a:xfrm>
            <a:off x="76320" y="17640"/>
            <a:ext cx="769608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Calibri"/>
                <a:ea typeface="Times New Roman"/>
              </a:rPr>
              <a:t>Задачи воспитательной программы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ть индивидуальные творческие способности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ть гражданско-патриотические качества л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ывать желание и стремление учащихся к самопознанию, самовоспитанию, самосовершенствова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ть культуру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ывать чувство уважения к родителям, сем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ывать уважение к другим людям, терпимость к чужому мнению, традициям, формировать умение вести диалог и готовность к сотрудниче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ывать ответственность, самостоятельность, добросовестное отношение к учебе и трудов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ть чувство осознания ценности культурных традиций своей Родины, понимание неразрывности связей Родины, ее культуры с другими стра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6" descr="C:\Users\Ирина\Desktop\488830929.gif"/>
          <p:cNvPicPr/>
          <p:nvPr/>
        </p:nvPicPr>
        <p:blipFill>
          <a:blip r:embed="rId1"/>
          <a:stretch/>
        </p:blipFill>
        <p:spPr>
          <a:xfrm>
            <a:off x="7121520" y="1338120"/>
            <a:ext cx="2022480" cy="15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Схема 4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8003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Блок-схема: процесс 5"/>
          <p:cNvGrpSpPr/>
          <p:nvPr/>
        </p:nvGrpSpPr>
        <p:grpSpPr>
          <a:xfrm>
            <a:off x="1500120" y="1200240"/>
            <a:ext cx="5838840" cy="1098360"/>
            <a:chOff x="1500120" y="1200240"/>
            <a:chExt cx="5838840" cy="1098360"/>
          </a:xfrm>
        </p:grpSpPr>
        <p:pic>
          <p:nvPicPr>
            <p:cNvPr id="362" name="Блок-схема: процесс 5" descr=""/>
            <p:cNvPicPr/>
            <p:nvPr/>
          </p:nvPicPr>
          <p:blipFill>
            <a:blip r:embed="rId1"/>
            <a:stretch/>
          </p:blipFill>
          <p:spPr>
            <a:xfrm>
              <a:off x="1500120" y="1200240"/>
              <a:ext cx="583884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1562040" y="1295280"/>
              <a:ext cx="5715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1 класс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        «Познай самого себя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Прямоугольник 2" descr=""/>
          <p:cNvPicPr/>
          <p:nvPr/>
        </p:nvPicPr>
        <p:blipFill>
          <a:blip r:embed="rId2"/>
          <a:stretch/>
        </p:blipFill>
        <p:spPr>
          <a:xfrm>
            <a:off x="1219320" y="-12600"/>
            <a:ext cx="6937200" cy="203040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3"/>
          <p:cNvSpPr/>
          <p:nvPr/>
        </p:nvSpPr>
        <p:spPr>
          <a:xfrm>
            <a:off x="380880" y="1198440"/>
            <a:ext cx="807732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Блок-схема: процесс 6"/>
          <p:cNvGrpSpPr/>
          <p:nvPr/>
        </p:nvGrpSpPr>
        <p:grpSpPr>
          <a:xfrm>
            <a:off x="1500120" y="2335320"/>
            <a:ext cx="5838840" cy="1096920"/>
            <a:chOff x="1500120" y="2335320"/>
            <a:chExt cx="5838840" cy="1096920"/>
          </a:xfrm>
        </p:grpSpPr>
        <p:pic>
          <p:nvPicPr>
            <p:cNvPr id="367" name="Блок-схема: процесс 6" descr=""/>
            <p:cNvPicPr/>
            <p:nvPr/>
          </p:nvPicPr>
          <p:blipFill>
            <a:blip r:embed="rId3"/>
            <a:stretch/>
          </p:blipFill>
          <p:spPr>
            <a:xfrm>
              <a:off x="1500120" y="2335320"/>
              <a:ext cx="5838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562040" y="2438280"/>
              <a:ext cx="5715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2 класс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 «Учись дружить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Прямоугольник 7"/>
          <p:cNvGrpSpPr/>
          <p:nvPr/>
        </p:nvGrpSpPr>
        <p:grpSpPr>
          <a:xfrm>
            <a:off x="1500120" y="3486240"/>
            <a:ext cx="5838840" cy="1164960"/>
            <a:chOff x="1500120" y="3486240"/>
            <a:chExt cx="5838840" cy="1164960"/>
          </a:xfrm>
        </p:grpSpPr>
        <p:pic>
          <p:nvPicPr>
            <p:cNvPr id="370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500120" y="3486240"/>
              <a:ext cx="583884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562040" y="3581280"/>
              <a:ext cx="5715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 Black"/>
                </a:rPr>
                <a:t>                 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3 кла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«Азбука коллективной жизни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entury Schoolboo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Блок-схема: процесс 8"/>
          <p:cNvGrpSpPr/>
          <p:nvPr/>
        </p:nvGrpSpPr>
        <p:grpSpPr>
          <a:xfrm>
            <a:off x="1504800" y="4584600"/>
            <a:ext cx="5840640" cy="1067040"/>
            <a:chOff x="1504800" y="4584600"/>
            <a:chExt cx="5840640" cy="1067040"/>
          </a:xfrm>
        </p:grpSpPr>
        <p:pic>
          <p:nvPicPr>
            <p:cNvPr id="373" name="Блок-схема: процесс 8" descr=""/>
            <p:cNvPicPr/>
            <p:nvPr/>
          </p:nvPicPr>
          <p:blipFill>
            <a:blip r:embed="rId5"/>
            <a:stretch/>
          </p:blipFill>
          <p:spPr>
            <a:xfrm>
              <a:off x="1504800" y="4584600"/>
              <a:ext cx="58406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576440" y="4748040"/>
              <a:ext cx="570060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4 класс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   «Вместе мы сил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517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C:\Users\Ирина\Desktop\КОНКУРС\скан\грамоты\Изображение1.jpg"/>
          <p:cNvPicPr/>
          <p:nvPr/>
        </p:nvPicPr>
        <p:blipFill>
          <a:blip r:embed="rId2"/>
          <a:stretch/>
        </p:blipFill>
        <p:spPr>
          <a:xfrm>
            <a:off x="554040" y="1589040"/>
            <a:ext cx="1454040" cy="2068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8" descr="C:\Users\Ирина\Desktop\КОНКУРС\скан\грамоты\Изображение1 024.jpg"/>
          <p:cNvPicPr/>
          <p:nvPr/>
        </p:nvPicPr>
        <p:blipFill>
          <a:blip r:embed="rId3"/>
          <a:stretch/>
        </p:blipFill>
        <p:spPr>
          <a:xfrm>
            <a:off x="2666880" y="1589040"/>
            <a:ext cx="1508400" cy="2075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9" descr="C:\Users\Ирина\Desktop\КОНКУРС\скан\грамоты\Изображение1 023.jpg"/>
          <p:cNvPicPr/>
          <p:nvPr/>
        </p:nvPicPr>
        <p:blipFill>
          <a:blip r:embed="rId4"/>
          <a:stretch/>
        </p:blipFill>
        <p:spPr>
          <a:xfrm>
            <a:off x="554040" y="4255920"/>
            <a:ext cx="1454040" cy="231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5"/>
          <a:stretch/>
        </p:blipFill>
        <p:spPr>
          <a:xfrm>
            <a:off x="5029200" y="1589040"/>
            <a:ext cx="1471680" cy="1960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6"/>
          <a:stretch/>
        </p:blipFill>
        <p:spPr>
          <a:xfrm>
            <a:off x="7112160" y="1523880"/>
            <a:ext cx="1519200" cy="2025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C:\Users\Ирина\Desktop\Изображение1 021.jpg"/>
          <p:cNvPicPr/>
          <p:nvPr/>
        </p:nvPicPr>
        <p:blipFill>
          <a:blip r:embed="rId7"/>
          <a:stretch/>
        </p:blipFill>
        <p:spPr>
          <a:xfrm>
            <a:off x="2666880" y="4295880"/>
            <a:ext cx="1508400" cy="2271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C:\Users\Ирина\Desktop\Изображение1 001.jpg"/>
          <p:cNvPicPr/>
          <p:nvPr/>
        </p:nvPicPr>
        <p:blipFill>
          <a:blip r:embed="rId8"/>
          <a:stretch/>
        </p:blipFill>
        <p:spPr>
          <a:xfrm>
            <a:off x="5029200" y="4276800"/>
            <a:ext cx="1471680" cy="2290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C:\Users\Ирина\Desktop\Изображение1 020.jpg"/>
          <p:cNvPicPr/>
          <p:nvPr/>
        </p:nvPicPr>
        <p:blipFill>
          <a:blip r:embed="rId9"/>
          <a:stretch/>
        </p:blipFill>
        <p:spPr>
          <a:xfrm>
            <a:off x="7112160" y="4276800"/>
            <a:ext cx="15192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" descr="C:\Users\Ирина\Desktop\Изображение1 025.jpg"/>
          <p:cNvPicPr/>
          <p:nvPr/>
        </p:nvPicPr>
        <p:blipFill>
          <a:blip r:embed="rId1"/>
          <a:stretch/>
        </p:blipFill>
        <p:spPr>
          <a:xfrm>
            <a:off x="3124080" y="1477800"/>
            <a:ext cx="2195640" cy="3475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C:\Users\Ирина\Desktop\Изображение1 005.jpg"/>
          <p:cNvPicPr/>
          <p:nvPr/>
        </p:nvPicPr>
        <p:blipFill>
          <a:blip r:embed="rId2"/>
          <a:stretch/>
        </p:blipFill>
        <p:spPr>
          <a:xfrm>
            <a:off x="5943600" y="1477800"/>
            <a:ext cx="2195640" cy="3475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C:\Users\Ирина\Desktop\КОНКУРС\скан\грамоты\Изображение1 013.jpg"/>
          <p:cNvPicPr/>
          <p:nvPr/>
        </p:nvPicPr>
        <p:blipFill>
          <a:blip r:embed="rId3"/>
          <a:stretch/>
        </p:blipFill>
        <p:spPr>
          <a:xfrm>
            <a:off x="457200" y="1477800"/>
            <a:ext cx="22096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ster Yoda</dc:creator>
  <dc:description/>
  <dc:language>en-US</dc:language>
  <cp:lastModifiedBy>Ирина</cp:lastModifiedBy>
  <dcterms:modified xsi:type="dcterms:W3CDTF">2023-02-18T09:03:04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