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wmf" ContentType="image/x-wmf"/>
  <Override PartName="/ppt/media/image1.png" ContentType="image/png"/>
  <Override PartName="/ppt/media/image2.jpeg" ContentType="image/jpeg"/>
  <Override PartName="/ppt/media/image23.gif" ContentType="image/gif"/>
  <Override PartName="/ppt/media/image3.png" ContentType="image/png"/>
  <Override PartName="/ppt/media/image17.jpeg" ContentType="image/jpeg"/>
  <Override PartName="/ppt/media/image4.jpeg" ContentType="image/jpe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219-FA69-4261-A285-2EFA2A5F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7F4-9821-4A11-985D-8EF3E1FA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1AE-CEE1-4C4D-8E80-766E3B31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35E-077A-4136-9DBE-43218B96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E52E-CAD6-4141-86E8-FA41BACD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8857-849F-4F74-A0AA-0A76CE96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1DF4-D90F-441F-BDBA-D342D65D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B18F-8E2A-48CD-B81E-62246979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036E-1EE8-41B6-848F-9FAE1A3F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180D-2737-4AE4-91A1-17409C2E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F7DE-CEDD-497D-B5F6-254E113F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CA8-C19C-4183-94AD-A178BAAF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D81E-1A21-4F42-A0D4-723DA724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724E-70D2-4F01-85B2-629A2823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54EF-0E6B-44E9-B7FF-B8F5A3B2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8477-234F-4E3D-9B0D-53F7F344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BC8A-16E8-423B-B0CC-788631E5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4DC-9B5A-4BA8-BEE8-AF396E35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189-2FD5-45F3-BD23-5C76797A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D9D-7447-47F9-8A1E-E877E8D2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B6D-213E-4B55-A2F2-51273E70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5F2-0FA1-4F54-9DDF-4F7AD8E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D3D-1072-4F77-9DED-8C48D906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A0F-F903-44B9-8A5D-9A8C6BA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1A91-FE2A-4D29-B9A2-717F9B5D2AB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83B8-C0C4-4341-B1BA-E7F98961E34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416720" cy="10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Рождество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(Christma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веча (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andle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374328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дна из главных традиций этих недель - это венки со свечами, которые имеют особое значение. Такие венки делают на первое воскресенье этого периода, и обычно они состоят из 5 свечей: четырех красных и одной белой. Каждое воскресенье зажигается новая красная свеча. Они зажигаются в то время, когда семья собирается вместе за молитвой, праздничным столом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/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Белую свечу зажигают в вечер перед Рождеством как символ того, что в мир придет Христос и осветит тьм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Рождественская елка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(Christmas Tre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4248000" cy="46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Обычай украшать ель появился в Англии сравнительно недавно, в середине XIX в., и был завезен сюда из Германии. Королева Виктория и принц Альберт впервые устроили елку для своих детей в Виндзоре, и эта мода быстро распространилась. Сейчас почти в каждом английском доме к Рождеству украшают разноцветными блестящими игрушками и сладостями елку, на верхушке ее обычно укрепляют Рождественскую фею или большую серебряную звезду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084480" cy="486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Рождественское полено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7672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Рождественское полено должно быть срублено главой семейства, а не куплено у кого-то. Оно должно сгорать в камине вместе с остатками прошлогоднего рождественского полена. Полено должно гореть все двенадцать дней Рождества. Существует суеверие, что если человек увидит свою тень, отбрасываемую от камина, где горит полено, без головы, он умрет в следующем году. Пепел же рождественского полена излечивает болезни и оберегает жилище от ударов молнии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078440" cy="2720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анта Клаус (Santa Clau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46544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о главное действующее лицо рождества, это, конечно, Санта-Клаус или рождественский дед. Санта Клаус - толстый веселый старичок, который разносит подарки, стал неотъемлемой частью празднования Рождества по всему миру. У него обязательно белая борода, красная курточка, штаны и шапка с белой меховой оторочкой. Он разъезжает на запряженных северными оленями санях, наполненных доверху подарками. Он проникает в дома через дымоход и оставляет подарки под елкой или в специальном носочке, но только послушным детям. В Англии его называют Father Christmas, что переводится, как Батюшка Рождество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6" descr="SantaClaus"/>
          <p:cNvPicPr/>
          <p:nvPr/>
        </p:nvPicPr>
        <p:blipFill>
          <a:blip r:embed="rId2"/>
          <a:stretch/>
        </p:blipFill>
        <p:spPr>
          <a:xfrm>
            <a:off x="4788000" y="1989000"/>
            <a:ext cx="4140000" cy="35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10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отличий Деда Мороза от Санта Клаус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584520" cy="4895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971640" y="1844640"/>
            <a:ext cx="3363840" cy="486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195640" y="260280"/>
            <a:ext cx="6624360" cy="6477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885080" cy="3147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987640" y="3186000"/>
            <a:ext cx="288756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Что такое Рождество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48960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постол Лука (Лк. 2) рассказывает о том, что после рождения Иисуса Ангелы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ngel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явились пастухам и сообщили им эту радостную весть. Пастухи сразу же отправились в город Вифлеем и нашли в хлеву Деву Марию, её мужа плотника Иосифа, и Младенца, лежащего в яслях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3097440" cy="403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 rot="10800000">
            <a:off x="1762920" y="548280"/>
            <a:ext cx="70866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48392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тмечается Рождество в ночь с 24 на 25 декабр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К 1100 году Рождество стало главным религиозным праздником в Европе. 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На Рождество все окна английских  домов были освещены  свечами, поэтому в Англии ночь под Рождество называлась "ночь свечей". 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62064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Рождество в Англи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cand2" descr=""/>
          <p:cNvPicPr/>
          <p:nvPr/>
        </p:nvPicPr>
        <p:blipFill>
          <a:blip r:embed="rId2"/>
          <a:stretch/>
        </p:blipFill>
        <p:spPr>
          <a:xfrm>
            <a:off x="6783480" y="4797360"/>
            <a:ext cx="1317600" cy="1922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Чулок для подарков (Stocking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280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Рождество - праздник для всей семьи, но больше всего его любят и ждут дети. Они вывешивают у камина чулки для подарк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5" descr="квартира"/>
          <p:cNvPicPr/>
          <p:nvPr/>
        </p:nvPicPr>
        <p:blipFill>
          <a:blip r:embed="rId2"/>
          <a:stretch/>
        </p:blipFill>
        <p:spPr>
          <a:xfrm>
            <a:off x="3708360" y="1908000"/>
            <a:ext cx="4967280" cy="425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Do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you like present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i="1" lang="en-US" sz="4800" spc="-1" strike="noStrike">
                <a:solidFill>
                  <a:srgbClr val="eaeaea"/>
                </a:solidFill>
                <a:latin typeface="Times New Roman"/>
              </a:rPr>
              <a:t>What presents would you like to have ?</a:t>
            </a:r>
            <a:r>
              <a:rPr b="1" i="1" lang="ru-RU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i="1" lang="en-US" sz="4800" spc="-1" strike="noStrike">
                <a:solidFill>
                  <a:srgbClr val="eaeaea"/>
                </a:solidFill>
                <a:latin typeface="Times New Roman"/>
              </a:rPr>
              <a:t>I would like to have...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7020000" y="2852640"/>
            <a:ext cx="1584360" cy="1505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755640" y="5373720"/>
            <a:ext cx="1828800" cy="115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Британцы первыми начали украшать дом…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4284720" cy="2992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hristmas-lights"/>
          <p:cNvPicPr/>
          <p:nvPr/>
        </p:nvPicPr>
        <p:blipFill>
          <a:blip r:embed="rId3"/>
          <a:stretch/>
        </p:blipFill>
        <p:spPr>
          <a:xfrm>
            <a:off x="4643280" y="3141720"/>
            <a:ext cx="4354560" cy="32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Остролист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772400" cy="13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Остролист (Holly)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тал признанным символом Рождества. Согласно некоторым версиям, именно из него был сделан венец Христа, а ягоды остролиста, изначально белые, покраснели от крови Спаси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4248360" cy="3675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Омела (Mistleto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Омела  является одним из главных символов Рождества, хотя на первых порах церковь запрещала ее использовать для украшения жилищ, из-за связанных с этим растением языческих легенд. Вместо нее рекомендовалось применять остролист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484360" y="1484280"/>
            <a:ext cx="3618000" cy="3743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Рождественские гимны 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(Carol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338292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амой главной рождественской традицией англичане считают гимны. Они называются "кэрол", их поют в церквях перед приходом Рождества, и на улицах, проходя от одного дома к другому. Раньше, таким образом, собирались пожертвования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для монастырей и детских приютов. Сегодня это просто веселое развлечение для большинства гражда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4105440" cy="388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3:25:38Z</dcterms:created>
  <dc:creator>Face_off</dc:creator>
  <dc:description/>
  <dc:language>en-US</dc:language>
  <cp:lastModifiedBy>User</cp:lastModifiedBy>
  <dcterms:modified xsi:type="dcterms:W3CDTF">2012-12-11T14:08:09Z</dcterms:modified>
  <cp:revision>8</cp:revision>
  <dc:subject/>
  <dc:title>Что такое Рождество?</dc:title>
</cp:coreProperties>
</file>