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6AD94-01CB-48A8-ABC6-0991269B92A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BD009-0FF0-4447-B3FD-7F77E03C01E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090DA-3024-4DE9-B730-0C3DDCD24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44C32-BE7A-40BD-89FB-00E6B2903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A731E-3D84-44E3-B8AE-AF4174736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0BC45-8632-4903-B617-4A6E20C09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B316E-7D80-4314-A0B2-09F171FB5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A4E37-14BE-4148-8ADA-339399F5E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40772-C0A5-41A6-846F-4291B791C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85B4E-0113-4E95-A5B9-E31E4BD58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66859-02A0-4E9F-82E0-E4D665FF6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B546B-4C68-441F-A364-7436556BB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88204-6154-494A-857A-F524928B1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60E52-6EF9-449B-AFC6-88EC348E4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7D938-2B4B-4E06-869B-2408437C7617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48392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Сложное предложение. Знаки препинания в ССП. </a:t>
            </a:r>
            <a:br>
              <a:rPr sz="4400"/>
            </a:b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Подготовка к ЕГЭ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1"/>
          <p:cNvSpPr/>
          <p:nvPr/>
        </p:nvSpPr>
        <p:spPr>
          <a:xfrm>
            <a:off x="5148360" y="5661000"/>
            <a:ext cx="35272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Arial"/>
              </a:rPr>
              <a:t>Учитель: Сидушкина Л. В.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c00000"/>
                </a:solidFill>
                <a:latin typeface="Arial"/>
              </a:rPr>
              <a:t>МБОУ «Микряковская СОШ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-674640"/>
            <a:ext cx="8226360" cy="22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Мы подводим итоги</a:t>
            </a:r>
            <a:br>
              <a:rPr sz="36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568080" y="981000"/>
            <a:ext cx="8226360" cy="50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3600" spc="-1" strike="noStrike">
                <a:solidFill>
                  <a:srgbClr val="ff0000"/>
                </a:solidFill>
                <a:latin typeface="Calibri"/>
              </a:rPr>
              <a:t>Сегодня на уроке 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7" name="Прямая со стрелкой 2"/>
          <p:cNvCxnSpPr/>
          <p:nvPr/>
        </p:nvCxnSpPr>
        <p:spPr>
          <a:xfrm flipV="1">
            <a:off x="4681440" y="1267920"/>
            <a:ext cx="1153440" cy="50400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78" name="Прямая со стрелкой 10"/>
          <p:cNvCxnSpPr/>
          <p:nvPr/>
        </p:nvCxnSpPr>
        <p:spPr>
          <a:xfrm>
            <a:off x="4681440" y="1989000"/>
            <a:ext cx="1153440" cy="4327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79" name="TextBox 18"/>
          <p:cNvSpPr/>
          <p:nvPr/>
        </p:nvSpPr>
        <p:spPr>
          <a:xfrm>
            <a:off x="6012000" y="2157480"/>
            <a:ext cx="21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76092"/>
                </a:solidFill>
                <a:latin typeface="Arial"/>
              </a:rPr>
              <a:t>закрепи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3"/>
          <p:cNvSpPr/>
          <p:nvPr/>
        </p:nvSpPr>
        <p:spPr>
          <a:xfrm>
            <a:off x="6012000" y="1052640"/>
            <a:ext cx="20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76092"/>
                </a:solidFill>
                <a:latin typeface="Arial"/>
              </a:rPr>
              <a:t>повтори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3"/>
          <p:cNvSpPr/>
          <p:nvPr/>
        </p:nvSpPr>
        <p:spPr>
          <a:xfrm>
            <a:off x="900000" y="3429000"/>
            <a:ext cx="56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Мне понравилось на уроке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4"/>
          <p:cNvSpPr/>
          <p:nvPr/>
        </p:nvSpPr>
        <p:spPr>
          <a:xfrm>
            <a:off x="1042920" y="4797360"/>
            <a:ext cx="69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Мне нужно ещё поработать над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Прямоугольник 1"/>
          <p:cNvSpPr/>
          <p:nvPr/>
        </p:nvSpPr>
        <p:spPr>
          <a:xfrm>
            <a:off x="1298520" y="449280"/>
            <a:ext cx="633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Verdana"/>
                <a:ea typeface="Tahoma"/>
              </a:rPr>
              <a:t>Орфоэпическая размин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1"/>
          <p:cNvSpPr/>
          <p:nvPr/>
        </p:nvSpPr>
        <p:spPr>
          <a:xfrm>
            <a:off x="866880" y="1484280"/>
            <a:ext cx="7200720" cy="41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693fd3"/>
                </a:solidFill>
                <a:latin typeface="Arial"/>
              </a:rPr>
              <a:t>1. В одном из приведённых ниже слов допущена ошибка в постановке ударения: </a:t>
            </a:r>
            <a:r>
              <a:rPr b="1" lang="ru-RU" sz="2200" spc="-1" strike="noStrike">
                <a:solidFill>
                  <a:srgbClr val="693fd3"/>
                </a:solidFill>
                <a:latin typeface="Arial"/>
              </a:rPr>
              <a:t>неверно</a:t>
            </a:r>
            <a:r>
              <a:rPr b="0" lang="ru-RU" sz="2200" spc="-1" strike="noStrike">
                <a:solidFill>
                  <a:srgbClr val="693fd3"/>
                </a:solidFill>
                <a:latin typeface="Arial"/>
              </a:rPr>
              <a:t> выделена буква, обозначающая ударный гласный звук. Определите это слово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вероисповЕд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оптОв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прИнят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назвАлас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рва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Box 3"/>
          <p:cNvSpPr/>
          <p:nvPr/>
        </p:nvSpPr>
        <p:spPr>
          <a:xfrm>
            <a:off x="1771920" y="404640"/>
            <a:ext cx="580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Verdana"/>
                <a:ea typeface="Tahoma"/>
              </a:rPr>
              <a:t>Орфоэпическая размин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"/>
          <p:cNvSpPr/>
          <p:nvPr/>
        </p:nvSpPr>
        <p:spPr>
          <a:xfrm>
            <a:off x="1042920" y="1413000"/>
            <a:ext cx="7129440" cy="41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693fd3"/>
                </a:solidFill>
                <a:latin typeface="Arial"/>
              </a:rPr>
              <a:t>2. В одном из приведённых ниже слов допущена ошибка в постановке ударения: </a:t>
            </a:r>
            <a:r>
              <a:rPr b="1" lang="ru-RU" sz="2200" spc="-1" strike="noStrike">
                <a:solidFill>
                  <a:srgbClr val="693fd3"/>
                </a:solidFill>
                <a:latin typeface="Arial"/>
              </a:rPr>
              <a:t>неверно</a:t>
            </a:r>
            <a:r>
              <a:rPr b="0" lang="ru-RU" sz="2200" spc="-1" strike="noStrike">
                <a:solidFill>
                  <a:srgbClr val="693fd3"/>
                </a:solidFill>
                <a:latin typeface="Arial"/>
              </a:rPr>
              <a:t> выделена буква, обозначающая ударный гласный звук. Определите это слово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черп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досУ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цепОч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донЕльз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прожИвш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3"/>
          <p:cNvSpPr/>
          <p:nvPr/>
        </p:nvSpPr>
        <p:spPr>
          <a:xfrm>
            <a:off x="1771920" y="404640"/>
            <a:ext cx="580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Verdana"/>
                <a:ea typeface="Tahoma"/>
              </a:rPr>
              <a:t>Орфоэпическая размин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1"/>
          <p:cNvSpPr/>
          <p:nvPr/>
        </p:nvSpPr>
        <p:spPr>
          <a:xfrm>
            <a:off x="963720" y="1557360"/>
            <a:ext cx="7418160" cy="38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693fd3"/>
                </a:solidFill>
                <a:latin typeface="Arial"/>
              </a:rPr>
              <a:t>3. Укажите варианты ответов, в которых </a:t>
            </a:r>
            <a:r>
              <a:rPr b="1" lang="ru-RU" sz="2200" spc="-1" strike="noStrike">
                <a:solidFill>
                  <a:srgbClr val="693fd3"/>
                </a:solidFill>
                <a:latin typeface="Arial"/>
              </a:rPr>
              <a:t>верно</a:t>
            </a:r>
            <a:r>
              <a:rPr b="0" lang="ru-RU" sz="2200" spc="-1" strike="noStrike">
                <a:solidFill>
                  <a:srgbClr val="693fd3"/>
                </a:solidFill>
                <a:latin typeface="Arial"/>
              </a:rPr>
              <a:t> выделена буква, обозначающая ударный гласный звук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согнУт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перезвон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кухОн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прозорлИ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красивЕ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Box 3"/>
          <p:cNvSpPr/>
          <p:nvPr/>
        </p:nvSpPr>
        <p:spPr>
          <a:xfrm>
            <a:off x="1771920" y="404640"/>
            <a:ext cx="580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Verdana"/>
                <a:ea typeface="Tahoma"/>
              </a:rPr>
              <a:t>Орфоэпическая размин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1"/>
          <p:cNvSpPr/>
          <p:nvPr/>
        </p:nvSpPr>
        <p:spPr>
          <a:xfrm>
            <a:off x="1042920" y="1413000"/>
            <a:ext cx="7632720" cy="34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693fd3"/>
                </a:solidFill>
                <a:latin typeface="Arial"/>
              </a:rPr>
              <a:t>4. Укажите варианты ответов, в которых </a:t>
            </a:r>
            <a:r>
              <a:rPr b="1" lang="ru-RU" sz="2200" spc="-1" strike="noStrike">
                <a:solidFill>
                  <a:srgbClr val="693fd3"/>
                </a:solidFill>
                <a:latin typeface="Arial"/>
              </a:rPr>
              <a:t>верно</a:t>
            </a:r>
            <a:r>
              <a:rPr b="0" lang="ru-RU" sz="2200" spc="-1" strike="noStrike">
                <a:solidFill>
                  <a:srgbClr val="693fd3"/>
                </a:solidFill>
                <a:latin typeface="Arial"/>
              </a:rPr>
              <a:t> выделена буква, обозначающая ударный гласный звук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плодонос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тОр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убЫстр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сорвА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бАлов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0920" y="1484280"/>
            <a:ext cx="864216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lang="ru-RU" sz="2400" spc="-1" strike="noStrike">
                <a:solidFill>
                  <a:srgbClr val="984807"/>
                </a:solidFill>
                <a:latin typeface="Times New Roman"/>
                <a:ea typeface="Calibri"/>
              </a:rPr>
              <a:t>1. ГОД ЗА ГОДОМ ВСЕ МЕНЬШЕ И МЕНЬШЕ ОСТАЕТСЯ ВОЗЛЕ СЕЛЕНИЙ ГУСТЫХ ЧЕРЕМУХОВЫХ КУСТОВ А НА ИХ МЕСТЕ ТОРЧАТ НЕЛЕПЫЕ ИСКАЛЕЧЕННЫЕ СУЧЬЯ. (Г.СКРЕБИЦКИЙ) 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984807"/>
                </a:solidFill>
                <a:latin typeface="Times New Roman"/>
                <a:ea typeface="Calibri"/>
              </a:rPr>
              <a:t>    2. КАЖДОЕ ЛЕТО ЗА ВЫСОКИМ КАРНИЗОМ ДОМА В КОТОРОМ ПРОХОДИЛО МОЕ ДЕТСТВО БЕЛОГРУДЫЕ ВЕСЕЛЫЕ ЛАСТОЧКИ ЛЕПИЛИ СВОИ ГНЕЗДА. (И.СОКОЛОВ-МИКИТОВ)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984807"/>
                </a:solidFill>
                <a:latin typeface="Times New Roman"/>
                <a:ea typeface="Calibri"/>
              </a:rPr>
              <a:t>    3. МЫ ЖИЛИ В ДЕРЕВНЕ ПОД ОКНОМ У НАС БЫЛ ЛУГ ВЕСЬ ЗОЛОТОЙ ОТ МНОЖЕСТВА ЦВЕТУЩИХ ОДУВАНЧИКОВ. (М.ПРИШВИН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22160" y="33336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40000"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93fd3"/>
                </a:solidFill>
                <a:latin typeface="Times New Roman"/>
                <a:ea typeface="Times New Roman"/>
              </a:rPr>
              <a:t>Спишите предложения,</a:t>
            </a:r>
            <a:r>
              <a:rPr b="1" i="1" lang="ru-RU" sz="20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1" i="1" lang="ru-RU" sz="2800" spc="-1" strike="noStrike">
                <a:solidFill>
                  <a:srgbClr val="693fd3"/>
                </a:solidFill>
                <a:latin typeface="Times New Roman"/>
                <a:ea typeface="Times New Roman"/>
              </a:rPr>
              <a:t>расставляя знаки препинания. Определите вид предложени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21840" y="2204640"/>
            <a:ext cx="8572680" cy="1857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52000"/>
          </a:bodyPr>
          <a:p>
            <a:pPr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ложное предложение. Знаки препинания в ССП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дготовка к ЕГЭ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55640" y="0"/>
            <a:ext cx="7772400" cy="17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Прямоугольник 14"/>
          <p:cNvSpPr/>
          <p:nvPr/>
        </p:nvSpPr>
        <p:spPr>
          <a:xfrm>
            <a:off x="2916360" y="1197000"/>
            <a:ext cx="3384360" cy="8175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Сложное предлож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Прямая со стрелкой 16"/>
          <p:cNvCxnSpPr/>
          <p:nvPr/>
        </p:nvCxnSpPr>
        <p:spPr>
          <a:xfrm flipH="1">
            <a:off x="2771280" y="2014200"/>
            <a:ext cx="1224720" cy="110556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Прямая со стрелкой 21"/>
          <p:cNvCxnSpPr/>
          <p:nvPr/>
        </p:nvCxnSpPr>
        <p:spPr>
          <a:xfrm>
            <a:off x="5076360" y="2014200"/>
            <a:ext cx="1151640" cy="110556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Прямоугольник 25"/>
          <p:cNvSpPr/>
          <p:nvPr/>
        </p:nvSpPr>
        <p:spPr>
          <a:xfrm>
            <a:off x="755640" y="3119400"/>
            <a:ext cx="216072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Бессоюзное сложн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оугольник 26"/>
          <p:cNvSpPr/>
          <p:nvPr/>
        </p:nvSpPr>
        <p:spPr>
          <a:xfrm>
            <a:off x="5688000" y="3119400"/>
            <a:ext cx="232884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Союзное сложн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9" name="Прямая со стрелкой 29"/>
          <p:cNvCxnSpPr/>
          <p:nvPr/>
        </p:nvCxnSpPr>
        <p:spPr>
          <a:xfrm flipH="1">
            <a:off x="4932000" y="4033800"/>
            <a:ext cx="1152720" cy="131832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0" name="Прямая со стрелкой 123907"/>
          <p:cNvCxnSpPr/>
          <p:nvPr/>
        </p:nvCxnSpPr>
        <p:spPr>
          <a:xfrm>
            <a:off x="7093080" y="3889080"/>
            <a:ext cx="1062720" cy="146268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Блок-схема: процесс 123910"/>
          <p:cNvSpPr/>
          <p:nvPr/>
        </p:nvSpPr>
        <p:spPr>
          <a:xfrm>
            <a:off x="3132000" y="5354640"/>
            <a:ext cx="2257560" cy="6127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Сложносочинённ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Блок-схема: процесс 123911"/>
          <p:cNvSpPr/>
          <p:nvPr/>
        </p:nvSpPr>
        <p:spPr>
          <a:xfrm>
            <a:off x="6588000" y="5383080"/>
            <a:ext cx="2305080" cy="6130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Сложноподчинённ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1700280"/>
            <a:ext cx="820728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- </a:t>
            </a:r>
            <a:r>
              <a:rPr b="0" i="1" lang="ru-RU" sz="2400" spc="-1" strike="noStrike" u="sng">
                <a:solidFill>
                  <a:srgbClr val="984807"/>
                </a:solidFill>
                <a:uFillTx/>
                <a:latin typeface="Times New Roman"/>
                <a:ea typeface="Times New Roman"/>
              </a:rPr>
              <a:t>СОЕДИНИТЕЛЬНЫЕ</a:t>
            </a:r>
            <a:r>
              <a:rPr b="0" lang="ru-RU" sz="24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:  </a:t>
            </a:r>
            <a:r>
              <a:rPr b="1" lang="ru-RU" sz="24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И, ДА (=И), НИ-НИ, ТОЖЕ, </a:t>
            </a:r>
            <a:r>
              <a:rPr b="1" lang="ru-RU" sz="24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       ТАКЖЕ;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- </a:t>
            </a:r>
            <a:r>
              <a:rPr b="0" i="1" lang="ru-RU" sz="2400" spc="-1" strike="noStrike" u="sng">
                <a:solidFill>
                  <a:srgbClr val="984807"/>
                </a:solidFill>
                <a:uFillTx/>
                <a:latin typeface="Times New Roman"/>
                <a:ea typeface="Times New Roman"/>
              </a:rPr>
              <a:t>ПРОТИВИТЕЛЬНЫЕ</a:t>
            </a:r>
            <a:r>
              <a:rPr b="0" lang="ru-RU" sz="24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:   </a:t>
            </a:r>
            <a:r>
              <a:rPr b="1" lang="ru-RU" sz="24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А, НО, ДА (=НО), ОДНАКО, </a:t>
            </a:r>
            <a:r>
              <a:rPr b="1" lang="ru-RU" sz="24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        ЗАТО, ЖЕ;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- </a:t>
            </a:r>
            <a:r>
              <a:rPr b="0" i="1" lang="ru-RU" sz="2400" spc="-1" strike="noStrike" u="sng">
                <a:solidFill>
                  <a:srgbClr val="984807"/>
                </a:solidFill>
                <a:uFillTx/>
                <a:latin typeface="Times New Roman"/>
                <a:ea typeface="Times New Roman"/>
              </a:rPr>
              <a:t>РАЗДЕЛИТЕЛЬНЫЕ</a:t>
            </a:r>
            <a:r>
              <a:rPr b="0" lang="ru-RU" sz="24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:  </a:t>
            </a:r>
            <a:r>
              <a:rPr b="1" lang="ru-RU" sz="24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ИЛИ, ЛИБО, ЛИ-ЛИ, ТО-ТО, </a:t>
            </a:r>
            <a:br>
              <a:rPr sz="2400"/>
            </a:br>
            <a:r>
              <a:rPr b="1" lang="ru-RU" sz="24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     НЕ ТО-НЕ ТО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1280" y="404640"/>
            <a:ext cx="7772400" cy="64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93fd3"/>
                </a:solidFill>
                <a:latin typeface="Arial"/>
                <a:ea typeface="Arial"/>
              </a:rPr>
              <a:t>Сочинительные союзы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5T18:38:06Z</dcterms:created>
  <dc:creator>Новикова Е.Е.</dc:creator>
  <dc:description/>
  <dc:language>en-US</dc:language>
  <cp:lastModifiedBy>Vasiliy</cp:lastModifiedBy>
  <dcterms:modified xsi:type="dcterms:W3CDTF">2023-02-18T16:43:59Z</dcterms:modified>
  <cp:revision>74</cp:revision>
  <dc:subject/>
  <dc:title>Урок русского языка   11 класс А</dc:title>
</cp:coreProperties>
</file>