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D076-E513-4430-B93F-F2F5D502E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9D6-3EC8-49A4-81BA-5F69E1EC4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870-C6D3-4BE0-95CA-128692F1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598-F6E9-491D-8A5C-4C01A9F6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ACE-A69B-4EAA-88D6-931E67D6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FA9-73AF-4DF8-8050-6A4EB7C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653-B392-4BA9-B7CC-E33C5EAB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4AA-C77E-4910-8259-E58041D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1F6-58BF-423E-9022-6A99899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B7A-6B8C-40C2-B10E-FE4DAEB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124-46DE-48B7-ADB9-2D217501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42F-9190-4CB0-8A56-2564547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F9D-D9CA-4CE8-8FCE-3A28885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46A-CCE4-4417-8AA0-2E489F4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C75-063B-4FA0-828F-89B7713AC5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ложное предложение. Знаки препинания в ССП.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дготовка к ЕГЭ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148360" y="5661000"/>
            <a:ext cx="35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читель: Сидушкина Л. 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МБОУ «Микряк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-674640"/>
            <a:ext cx="8226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 подводим итог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8080" y="981000"/>
            <a:ext cx="8226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егодня на уроке 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Прямая со стрелкой 2"/>
          <p:cNvCxnSpPr/>
          <p:nvPr/>
        </p:nvCxnSpPr>
        <p:spPr>
          <a:xfrm flipV="1">
            <a:off x="4681440" y="1267920"/>
            <a:ext cx="115344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Прямая со стрелкой 10"/>
          <p:cNvCxnSpPr/>
          <p:nvPr/>
        </p:nvCxnSpPr>
        <p:spPr>
          <a:xfrm>
            <a:off x="4681440" y="1989000"/>
            <a:ext cx="1153440" cy="43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18"/>
          <p:cNvSpPr/>
          <p:nvPr/>
        </p:nvSpPr>
        <p:spPr>
          <a:xfrm>
            <a:off x="6012000" y="21574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закреп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01200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повтор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900000" y="3429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не понравилось на урок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42920" y="47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не нужно ещё поработать на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98520" y="449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866880" y="1484280"/>
            <a:ext cx="720072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1. В одном из приведённых ниже слов допущена ошибка в постановке ударения: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не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Определите это сло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ероисповЕ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И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з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1042920" y="1413000"/>
            <a:ext cx="71294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2. В одном из приведённых ниже слов допущена ошибка в постановке ударения: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не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Определите это сло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ер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це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онЕль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ж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963720" y="1557360"/>
            <a:ext cx="741816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3. Укажите варианты ответов, в которых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г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ерезв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ух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зор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расив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1413000"/>
            <a:ext cx="7632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4. Укажите варианты ответов, в которых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лодо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бЫст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л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1. ГОД ЗА ГОДОМ ВСЕ МЕНЬШЕ И МЕНЬШЕ ОСТАЕТСЯ ВОЗЛЕ СЕЛЕНИЙ ГУСТЫХ ЧЕРЕМУХОВЫХ КУСТОВ А НА ИХ МЕСТЕ ТОРЧАТ НЕЛЕПЫЕ ИСКАЛЕЧЕННЫЕ СУЧЬЯ. (Г.СКРЕБИЦКИЙ)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    2. КАЖДОЕ ЛЕТО ЗА ВЫСОКИМ КАРНИЗОМ ДОМА В КОТОРОМ ПРОХОДИЛО МОЕ ДЕТСТВО БЕЛОГРУДЫЕ ВЕСЕЛЫЕ ЛАСТОЧКИ ЛЕПИЛИ СВОИ ГНЕЗДА. (И.СОКОЛОВ-МИКИТОВ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    3. МЫ ЖИЛИ В ДЕРЕВНЕ ПОД ОКНОМ У НАС БЫЛ ЛУГ ВЕСЬ ЗОЛОТОЙ ОТ МНОЖЕСТВА ЦВЕТУЩИХ ОДУВАНЧИКОВ. (М.ПРИШВ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3fd3"/>
                </a:solidFill>
                <a:latin typeface="Times New Roman"/>
                <a:ea typeface="Times New Roman"/>
              </a:rPr>
              <a:t>Спишите предложения,</a:t>
            </a:r>
            <a:r>
              <a:rPr b="1" i="1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693fd3"/>
                </a:solidFill>
                <a:latin typeface="Times New Roman"/>
                <a:ea typeface="Times New Roman"/>
              </a:rPr>
              <a:t>расставляя знаки препинания. Определите вид предло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2204640"/>
            <a:ext cx="85726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ое предложение. Знаки препинания в СС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ка к ЕГЭ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916360" y="1197000"/>
            <a:ext cx="3384360" cy="81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лож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771280" y="2014200"/>
            <a:ext cx="1224720" cy="1105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1"/>
          <p:cNvCxnSpPr/>
          <p:nvPr/>
        </p:nvCxnSpPr>
        <p:spPr>
          <a:xfrm>
            <a:off x="5076360" y="2014200"/>
            <a:ext cx="1151640" cy="1105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оугольник 25"/>
          <p:cNvSpPr/>
          <p:nvPr/>
        </p:nvSpPr>
        <p:spPr>
          <a:xfrm>
            <a:off x="755640" y="3119400"/>
            <a:ext cx="2160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союзное 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/>
          <p:cNvSpPr/>
          <p:nvPr/>
        </p:nvSpPr>
        <p:spPr>
          <a:xfrm>
            <a:off x="5688000" y="3119400"/>
            <a:ext cx="2328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юзное 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29"/>
          <p:cNvCxnSpPr/>
          <p:nvPr/>
        </p:nvCxnSpPr>
        <p:spPr>
          <a:xfrm flipH="1">
            <a:off x="4932000" y="4033800"/>
            <a:ext cx="1152720" cy="1318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123907"/>
          <p:cNvCxnSpPr/>
          <p:nvPr/>
        </p:nvCxnSpPr>
        <p:spPr>
          <a:xfrm>
            <a:off x="7093080" y="3889080"/>
            <a:ext cx="1062720" cy="1462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Блок-схема: процесс 123910"/>
          <p:cNvSpPr/>
          <p:nvPr/>
        </p:nvSpPr>
        <p:spPr>
          <a:xfrm>
            <a:off x="3132000" y="5354640"/>
            <a:ext cx="2257560" cy="6127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ожносочин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роцесс 123911"/>
          <p:cNvSpPr/>
          <p:nvPr/>
        </p:nvSpPr>
        <p:spPr>
          <a:xfrm>
            <a:off x="6588000" y="5383080"/>
            <a:ext cx="2305080" cy="613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ожноподчин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07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СОЕДИН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, ДА (=И), НИ-НИ, ТОЖЕ,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ТАКЖ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ПРОТИВ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, НО, ДА (=НО), ОДНАКО,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ЗАТО, Ж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РАЗДЕЛ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ЛИ, ЛИБО, ЛИ-ЛИ, ТО-ТО,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НЕ ТО-НЕ Т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3fd3"/>
                </a:solidFill>
                <a:latin typeface="Arial"/>
                <a:ea typeface="Arial"/>
              </a:rPr>
              <a:t>Сочинительные сою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38:06Z</dcterms:created>
  <dc:creator>Новикова Е.Е.</dc:creator>
  <dc:description/>
  <dc:language>en-US</dc:language>
  <cp:lastModifiedBy>Vasiliy</cp:lastModifiedBy>
  <dcterms:modified xsi:type="dcterms:W3CDTF">2023-02-18T16:43:59Z</dcterms:modified>
  <cp:revision>74</cp:revision>
  <dc:subject/>
  <dc:title>Урок русского языка   11 класс А</dc:title>
</cp:coreProperties>
</file>