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C93B-05A5-49E0-B5A3-DE74A50B0E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7865-34A5-4A9C-8D7B-9D24272596D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46D8-BC2C-434C-8F0D-B1CF13906F5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807A-5EC6-4FD1-AD65-8A5EE9518A1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5F40-E914-4C27-BFA4-15079CE3464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EF9D-FEE2-4CC2-B968-1C94BD54EB2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0091-E594-4209-A0AA-36CF8587FA4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0429-6929-4C96-8EAF-EE04AF996B9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825D-D565-4CE7-8C26-4BA768B8737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5680-8FD7-46B0-8DCC-E5D5812C90E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EDA5-C7AB-46C0-9ED6-AC91CF9C0E5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1E0-23B9-4A59-884B-494331BC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73A-3DC8-4616-A316-BC64C153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041-B758-4201-A5AD-818F1428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0FE-3F42-4AAC-8C55-171D1BBE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0EE4-3E56-4D43-B5A7-5318B6D7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0A0C-0CE3-4A43-A8A9-782F8A10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1546-CF64-4901-82B7-DF121817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ABC0-6157-417A-8B45-BCCC6755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EBFB-FA0C-445A-9666-1F629173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F43B-0E7F-459D-BE4D-4AF28341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982D-B2D9-44A7-902E-D8200765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D4D-042A-4E6B-B9D4-48CC471F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8B4A-5025-40B7-8B8D-4C391217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5D46-F5FF-4458-86AC-87622108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4AD7-9A0C-4E27-B44C-B9547C04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30FC-E9C3-46F0-B9C0-FF4F1888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2EC5-7C4E-4E17-A151-9124E359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44622-CB99-44A5-97C5-2E522649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D9DD-72CD-4CDA-AFB3-258DD8F0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44C2-CD75-415D-8C16-9C2F7305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20D4F-C279-4301-8833-E3135511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0940-A2C1-481D-B849-3E0C336A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604-3D2E-4B61-BBA7-678097E8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4D1F-8433-4CAD-A0E8-C6C3CE6D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C03E3-51C9-4DC4-B9E5-2827978E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A878-A2C1-40B1-B254-6E6B76A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C860-428A-4E78-BF46-B9B4184A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2CAD-B7E7-4092-86C6-CFA972C2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3A2F-8DE0-4DF6-88E9-A021FD6C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C211-9E5A-44BC-B4B0-2BCA3D1C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DD23-35FE-4067-BDF9-E4C74F1E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4C305-37D4-447D-99AC-A3902B73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7F0EC-CBD8-478E-B79B-4CE74149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76B-0852-4DE0-9C96-394054AF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569E-A3D5-42B8-8D07-A8690C03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736B-B0F5-49FF-896A-1371836F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A122B-6983-4809-AB13-18A09AFE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8F0E-A55B-4AA5-897D-16079E52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CDB2-D762-472B-91D4-13FAB1D8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58F33-7463-43A5-B03E-C46DD18F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F7158-DD09-4CBF-B44D-EE9E3BE7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D199-44E9-4059-9907-A31D0FA0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10AC7-CEC9-4A49-A5CF-04BAFA18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5F4-43DF-4396-8E82-449123D7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71D-4DEC-420F-8E14-D70F62F4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CAB-6BDC-431A-A076-9D3D98D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36F-F0CC-4E49-B8DB-404EDB2B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808-A7DC-4770-9C30-3C703C13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9B88-22AF-44D2-80F1-4F603526C0A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AE70-13FB-4E10-8376-6B6DE3212E2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5DC7-0C85-4EA3-AA9B-F4EACB18FB9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8869-3936-4C5B-A643-5035992C2F7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4;&#1088;&#1077;&#1074;&#1085;&#1077;&#1088;&#1091;&#1089;&#1089;&#1082;&#1080;&#1081;_&#1103;&#1079;&#1099;&#1082;" TargetMode="External"/><Relationship Id="rId2" Type="http://schemas.openxmlformats.org/officeDocument/2006/relationships/hyperlink" Target="https://ru.wikipedia.org/wiki/1090-&#1077;_&#1075;&#1086;&#1076;&#1099;" TargetMode="External"/><Relationship Id="rId3" Type="http://schemas.openxmlformats.org/officeDocument/2006/relationships/hyperlink" Target="https://ru.wikipedia.org/wiki/15_&#1084;&#1072;&#1103;" TargetMode="External"/><Relationship Id="rId4" Type="http://schemas.openxmlformats.org/officeDocument/2006/relationships/hyperlink" Target="https://ru.wikipedia.org/wiki/1157_&#1075;&#1086;&#1076;" TargetMode="External"/><Relationship Id="rId5" Type="http://schemas.openxmlformats.org/officeDocument/2006/relationships/hyperlink" Target="https://ru.wikipedia.org/wiki/&#1050;&#1080;&#1077;&#1074;" TargetMode="External"/><Relationship Id="rId6" Type="http://schemas.openxmlformats.org/officeDocument/2006/relationships/hyperlink" Target="https://ru.wikipedia.org/wiki/&#1056;&#1086;&#1089;&#1090;&#1086;&#1074;&#1086;-&#1057;&#1091;&#1079;&#1076;&#1072;&#1083;&#1100;&#1089;&#1082;&#1086;&#1077;_&#1082;&#1085;&#1103;&#1078;&#1077;&#1089;&#1090;&#1074;&#1086;" TargetMode="External"/><Relationship Id="rId7" Type="http://schemas.openxmlformats.org/officeDocument/2006/relationships/hyperlink" Target="https://ru.wikipedia.org/wiki/&#1042;&#1077;&#1083;&#1080;&#1082;&#1080;&#1081;_&#1082;&#1085;&#1103;&#1079;&#1100;_&#1082;&#1080;&#1077;&#1074;&#1089;&#1082;&#1080;&#1081;" TargetMode="External"/><Relationship Id="rId8" Type="http://schemas.openxmlformats.org/officeDocument/2006/relationships/hyperlink" Target="https://ru.wikipedia.org/wiki/&#1042;&#1083;&#1072;&#1076;&#1080;&#1084;&#1080;&#1088;_&#1042;&#1089;&#1077;&#1074;&#1086;&#1083;&#1086;&#1076;&#1086;&#1074;&#1080;&#1095;_&#1052;&#1086;&#1085;&#1086;&#1084;&#1072;&#1093;" TargetMode="External"/><Relationship Id="rId9" Type="http://schemas.openxmlformats.org/officeDocument/2006/relationships/hyperlink" Target="https://ru.wikipedia.org/wiki/&#1052;&#1086;&#1089;&#1082;&#1074;&#1072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468720" y="981000"/>
            <a:ext cx="77770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imes New Roman"/>
              </a:rPr>
              <a:t>Юрий Долгорукий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0" name="Picture 4" descr="Юрий Долгорукий"/>
          <p:cNvPicPr/>
          <p:nvPr/>
        </p:nvPicPr>
        <p:blipFill>
          <a:blip r:embed="rId1"/>
          <a:stretch/>
        </p:blipFill>
        <p:spPr>
          <a:xfrm>
            <a:off x="971640" y="2133720"/>
            <a:ext cx="3416040" cy="4319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Увековечение памяти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6" name="Picture 2" descr="Памятник Юрию Долгорукому в Москве"/>
          <p:cNvPicPr/>
          <p:nvPr/>
        </p:nvPicPr>
        <p:blipFill>
          <a:blip r:embed="rId1"/>
          <a:stretch/>
        </p:blipFill>
        <p:spPr>
          <a:xfrm>
            <a:off x="676440" y="1461960"/>
            <a:ext cx="2609640" cy="27338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696960" y="4200480"/>
            <a:ext cx="25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мятник Юрию Долгорукому в Москв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4" descr="Памятник Юрию Долгорукому"/>
          <p:cNvPicPr/>
          <p:nvPr/>
        </p:nvPicPr>
        <p:blipFill>
          <a:blip r:embed="rId2"/>
          <a:stretch/>
        </p:blipFill>
        <p:spPr>
          <a:xfrm>
            <a:off x="3635280" y="1461960"/>
            <a:ext cx="3322800" cy="22132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"/>
          <p:cNvSpPr/>
          <p:nvPr/>
        </p:nvSpPr>
        <p:spPr>
          <a:xfrm>
            <a:off x="3995640" y="3878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мятник в Дмитров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6" descr="undefined"/>
          <p:cNvPicPr/>
          <p:nvPr/>
        </p:nvPicPr>
        <p:blipFill>
          <a:blip r:embed="rId3"/>
          <a:stretch/>
        </p:blipFill>
        <p:spPr>
          <a:xfrm>
            <a:off x="3762360" y="4449600"/>
            <a:ext cx="3068640" cy="20466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5"/>
          <p:cNvSpPr/>
          <p:nvPr/>
        </p:nvSpPr>
        <p:spPr>
          <a:xfrm>
            <a:off x="1547640" y="6021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мятник в Костром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Медаль «В память 800-летия Москвы»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3" name="Picture 2" descr="Изображение награды"/>
          <p:cNvPicPr/>
          <p:nvPr/>
        </p:nvPicPr>
        <p:blipFill>
          <a:blip r:embed="rId1"/>
          <a:stretch/>
        </p:blipFill>
        <p:spPr>
          <a:xfrm>
            <a:off x="3052800" y="2654280"/>
            <a:ext cx="15904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imes New Roman"/>
              </a:rPr>
              <a:t>Биография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7856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Rounded MT Bold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Ю́рий (Гео́ргий) Влади́мирович, по прозвищу Долгору́кий (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др.-рус.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Гюрьги, Дюрьги;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1090-е годы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—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3"/>
              </a:rPr>
              <a:t>15 мая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4"/>
              </a:rPr>
              <a:t>1157 года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5"/>
              </a:rPr>
              <a:t>Киев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) —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6"/>
              </a:rPr>
              <a:t>князь ростово-суздальский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и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7"/>
              </a:rPr>
              <a:t>великий князь киевский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, один из  сыновей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8"/>
              </a:rPr>
              <a:t>Владимира Всеволодовича Мономаха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. При этом князе впервые в летописях упоминается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9"/>
              </a:rPr>
              <a:t>Москва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 1113 года (по другой версии, с 1096 года) до конца жизни Юрий управлял Ростово-Суздальским княжеством. С 1132 года отстаивал на юге интересы свои и братьев, борясь за Переяславль, а затем и за Киев (за что, вероятно, получил прозвище Долгорукого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imes New Roman"/>
              </a:rPr>
              <a:t>Города, основанные Юрием Долгоруким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оскв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ереяславль-Залесск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стро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митров и друг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4" descr="Памятник Юрию Долгорукому основателю Костромы"/>
          <p:cNvPicPr/>
          <p:nvPr/>
        </p:nvPicPr>
        <p:blipFill>
          <a:blip r:embed="rId1"/>
          <a:stretch/>
        </p:blipFill>
        <p:spPr>
          <a:xfrm>
            <a:off x="5786280" y="1857240"/>
            <a:ext cx="2913120" cy="43704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2571840" y="5214960"/>
            <a:ext cx="310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мятник Юрию Долгорукому - основателю Костро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imes New Roman"/>
              </a:rPr>
              <a:t>История основания Москв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1413000"/>
            <a:ext cx="7347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задолго до основания города влияние Киева начало ослабевать. Русские князья переставали подчиняться централизованной власти. В связи с этим киевский князь Юрий Долгорукий решил вступить в переговоры с князем 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ятославом,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чтобы обсудить сложившуюся ситуацию. Встреча состоялась на том месте, где находится сейчас Москва. После военного совета князем Юрием Долгоруким было принято решение заложить на этом месте крепост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нязь Юрий Долгорукий официально в истории 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читается основателем Москвы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Территория городка находилась в районе крайнего юго-западного угла сегодняшнего Кремля. Город был окружен лесом (бором), поэтому одни из Кремлевских ворот получили название Боровицки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imes New Roman"/>
              </a:rPr>
              <a:t>Основание Москв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57120" y="99972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первые о Москве упоминается в исторических документах как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о селе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сково.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Записи относятся к 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47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году. Данное село относилось к поселениям, расположенным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вдоль рек Неглинка и Яуза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Одно из поселений которое находилось в районе, где река Неглинка впадает в Москву-реку, в 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56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году по приказу князя 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Юрия Долгорукого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было обнесено массивной деревянной стеной и окружено рвом.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Крепость получила название Москва-гра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</a:rPr>
              <a:t>Союз с половцам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ногие считают половцев врагами Руси , но у Юрия Долгорукого были с ними тесные добрососедские отношения из-за того , что князь был женат на дочери половецкого хан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imes New Roman"/>
              </a:rPr>
              <a:t>Получение титула Великого князя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0040" y="2428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огатела при нем Владимиро-Суздальское княжество, но не оставлял попыток он захватить Киев, время которого уже подходило к концу и не знал он того , что вскоре Москва станет самым важным городом на Руси. Долго ждал своего часа Юрий Долгорукий и в 1155 году вместе со своими союзниками захватил власть в Киев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</a:rPr>
              <a:t>Смерть Юрия Долгорукого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155700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Умер правитель Киева внезапно. После пира, вернувшись в Киев, который он завоевал в третий, последний раз, князь почувствовал себя плохо. Есть мнение, что его отравили. Князь Юрий Долгорукий, биография которого наполнена сражениями, завоеваниями и многими достижениями, умер через 5 дней, 15 мая 1157 год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иевляне, которыми он правил в последние годы жизни, не любили своего правителя, считая его жестоким, корыстным и жадным. И не захотели хоронить его тело рядом с отцом, Владимиром Мономахом. Поэтому Юрий Долгорукий был похоронен на территории Киево-Печерской лавры. Несмотря ни на что, после себя он оставил великое культурное наследие, которое продолжило существование и после его смерт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491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После себя князь оставил большое культурное наследство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9" name="Picture 6" descr="https://upload.wikimedia.org/wikipedia/commons/9/92/Pereslavl_SpasoPreobrazhenskyCathedral.JPG"/>
          <p:cNvPicPr/>
          <p:nvPr/>
        </p:nvPicPr>
        <p:blipFill>
          <a:blip r:embed="rId1"/>
          <a:stretch/>
        </p:blipFill>
        <p:spPr>
          <a:xfrm>
            <a:off x="630360" y="1628640"/>
            <a:ext cx="2746080" cy="2441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Файл:Kideksha sobor.jpg"/>
          <p:cNvPicPr/>
          <p:nvPr/>
        </p:nvPicPr>
        <p:blipFill>
          <a:blip r:embed="rId2"/>
          <a:stretch/>
        </p:blipFill>
        <p:spPr>
          <a:xfrm>
            <a:off x="4552920" y="2151000"/>
            <a:ext cx="2306520" cy="3094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https://i9.photo.2gis.com/images/branch/59/8303511826344163_d906.jpg"/>
          <p:cNvPicPr/>
          <p:nvPr/>
        </p:nvPicPr>
        <p:blipFill>
          <a:blip r:embed="rId3"/>
          <a:stretch/>
        </p:blipFill>
        <p:spPr>
          <a:xfrm>
            <a:off x="609480" y="4365720"/>
            <a:ext cx="2756160" cy="20667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"/>
          <p:cNvSpPr/>
          <p:nvPr/>
        </p:nvSpPr>
        <p:spPr>
          <a:xfrm>
            <a:off x="4694400" y="2276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рковь Георг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923760" y="168912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асо-Преображенский соб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923760" y="45813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Церковь Бориса и Глеб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15:26:34Z</dcterms:created>
  <dc:creator>Dok</dc:creator>
  <dc:description/>
  <dc:language>en-US</dc:language>
  <cp:lastModifiedBy>2022</cp:lastModifiedBy>
  <dcterms:modified xsi:type="dcterms:W3CDTF">2023-02-18T17:49:49Z</dcterms:modified>
  <cp:revision>12</cp:revision>
  <dc:subject/>
  <dc:title>Юрий Долгорукий</dc:title>
</cp:coreProperties>
</file>