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989D-3DC2-49EF-94A2-FA07AD82F9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7186-17A9-453C-8E4C-B1B212BB2FF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EF2-5DCA-4ABF-9F1D-0D3010E9B7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AEC-CB7A-42FD-B952-64B2AB4882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38B3-D8DE-468E-A320-7143543EA8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97C3-C7AF-45C3-AF8D-84A41A84C8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742-EB11-4A42-97DA-BE747E7106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C7CB-10A4-4201-9CDB-F875A9C7FD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DAA-C8DC-44F0-8B78-7CD0472A2C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7F4D-BAB6-423A-B850-F235D712EFF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331-2AFF-4C35-9A14-2441288F64C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43E-298B-4ED9-B98D-EB099240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CC5-A329-4D9E-927B-AFAE79A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48A-05F7-416A-B21B-666675C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284-272D-4A43-ABC9-992523F8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6BB-C762-433A-95A0-51F95A25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E40-D1F3-4232-A9AF-666AEB5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62D5-E0AD-4A76-8E96-8A934888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E11D-5689-408A-A510-38922123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9031-5538-48D4-987E-7FB714F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960-7DC9-4766-966F-6074F3F2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300-8645-4504-9633-227335C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469-7B19-402A-A8AA-BEFD43C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ECB-A9DB-4509-83FE-5BC8D0D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4A2-B024-4605-83D6-D000BD0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8474-E6FE-4E5C-94DA-02CCF2ED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E400-F6C1-4FBD-AD2D-35F7815B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682-9A77-45FE-A900-B29D395B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020C-8311-4D92-BC2F-11CCF160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5C73-DF82-4823-8CCC-D28C5E6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ECEC-0C9C-44D2-8814-CF53F13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090F-3918-46B6-9417-EB8F0DD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1805-C3D0-4E5E-B56B-EDDFF58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1BA-0519-4C38-94CA-4993A06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A332-F570-4588-8205-B9D7AD73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D91A-BABB-4029-931C-52182A2B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BEBF-846E-434C-8DA5-2A6F9ED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2EB3-10B1-45BA-B96C-12CE7CF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1B91-FA59-4463-9F01-2F2CC85D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663C-92A1-4380-AC90-EF05EF78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20D9-EB52-430D-93A3-D33305EC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3691-57FC-4E8C-8385-0A1D5263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E324-2B16-4EF2-BF6F-FEB18AF7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9465-5AB0-4391-B4F6-0DBC542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FF9-7888-4DC3-92A8-DC0880B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8D2E-7103-4C80-AB35-B39E2470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1F98-A638-4AD6-9746-FB43525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5F2E-22B2-4008-8502-5DA524A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C199-4B98-406C-82E6-3BC5D21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754D-7014-46CE-A460-07A7CE0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3E3B-4793-4599-B83F-5B0385B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3456-F907-48DB-92A5-FBEC41F8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A28F-C575-4B44-8D42-64370B81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5011-05D0-4375-A803-B213F925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C92-F034-4DEA-B120-9F17333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D87-78A4-4F51-846D-F25526C4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2D4-7B77-4622-A9EB-E45F1B3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072-6BED-4356-97F4-29E4E6D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4AD-2486-41AB-B6FC-0561B9D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11AD-8C9F-4A51-9463-174F396E770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93A-5B37-424E-A83B-249830B89F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7079-1C73-423B-A099-14BC5EB11AC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70E-8B46-4CF0-B131-6BFD62E5CB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88;&#1091;&#1089;&#1089;&#1082;&#1080;&#1081;_&#1103;&#1079;&#1099;&#1082;" TargetMode="External"/><Relationship Id="rId2" Type="http://schemas.openxmlformats.org/officeDocument/2006/relationships/hyperlink" Target="https://ru.wikipedia.org/wiki/1090-&#1077;_&#1075;&#1086;&#1076;&#1099;" TargetMode="External"/><Relationship Id="rId3" Type="http://schemas.openxmlformats.org/officeDocument/2006/relationships/hyperlink" Target="https://ru.wikipedia.org/wiki/15_&#1084;&#1072;&#1103;" TargetMode="External"/><Relationship Id="rId4" Type="http://schemas.openxmlformats.org/officeDocument/2006/relationships/hyperlink" Target="https://ru.wikipedia.org/wiki/1157_&#1075;&#1086;&#1076;" TargetMode="External"/><Relationship Id="rId5" Type="http://schemas.openxmlformats.org/officeDocument/2006/relationships/hyperlink" Target="https://ru.wikipedia.org/wiki/&#1050;&#1080;&#1077;&#1074;" TargetMode="External"/><Relationship Id="rId6" Type="http://schemas.openxmlformats.org/officeDocument/2006/relationships/hyperlink" Target="https://ru.wikipedia.org/wiki/&#1056;&#1086;&#1089;&#1090;&#1086;&#1074;&#1086;-&#1057;&#1091;&#1079;&#1076;&#1072;&#1083;&#1100;&#1089;&#1082;&#1086;&#1077;_&#1082;&#1085;&#1103;&#1078;&#1077;&#1089;&#1090;&#1074;&#1086;" TargetMode="External"/><Relationship Id="rId7" Type="http://schemas.openxmlformats.org/officeDocument/2006/relationships/hyperlink" Target="https://ru.wikipedia.org/wiki/&#1042;&#1077;&#1083;&#1080;&#1082;&#1080;&#1081;_&#1082;&#1085;&#1103;&#1079;&#1100;_&#1082;&#1080;&#1077;&#1074;&#1089;&#1082;&#1080;&#1081;" TargetMode="External"/><Relationship Id="rId8" Type="http://schemas.openxmlformats.org/officeDocument/2006/relationships/hyperlink" Target="https://ru.wikipedia.org/wiki/&#1042;&#1083;&#1072;&#1076;&#1080;&#1084;&#1080;&#1088;_&#1042;&#1089;&#1077;&#1074;&#1086;&#1083;&#1086;&#1076;&#1086;&#1074;&#1080;&#1095;_&#1052;&#1086;&#1085;&#1086;&#1084;&#1072;&#1093;" TargetMode="External"/><Relationship Id="rId9" Type="http://schemas.openxmlformats.org/officeDocument/2006/relationships/hyperlink" Target="https://ru.wikipedia.org/wiki/&#1052;&#1086;&#1089;&#1082;&#1074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468720" y="98100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</a:rPr>
              <a:t>Юрий Долгорукий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4" descr="Юрий Долгорукий"/>
          <p:cNvPicPr/>
          <p:nvPr/>
        </p:nvPicPr>
        <p:blipFill>
          <a:blip r:embed="rId1"/>
          <a:stretch/>
        </p:blipFill>
        <p:spPr>
          <a:xfrm>
            <a:off x="971640" y="2133720"/>
            <a:ext cx="3416040" cy="431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Увековечение памяти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Памятник Юрию Долгорукому в Москве"/>
          <p:cNvPicPr/>
          <p:nvPr/>
        </p:nvPicPr>
        <p:blipFill>
          <a:blip r:embed="rId1"/>
          <a:stretch/>
        </p:blipFill>
        <p:spPr>
          <a:xfrm>
            <a:off x="676440" y="1461960"/>
            <a:ext cx="2609640" cy="27338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696960" y="4200480"/>
            <a:ext cx="25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Юрию Долгорукому в Моск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4" descr="Памятник Юрию Долгорукому"/>
          <p:cNvPicPr/>
          <p:nvPr/>
        </p:nvPicPr>
        <p:blipFill>
          <a:blip r:embed="rId2"/>
          <a:stretch/>
        </p:blipFill>
        <p:spPr>
          <a:xfrm>
            <a:off x="3635280" y="1461960"/>
            <a:ext cx="3322800" cy="2213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3995640" y="3878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в Дмитро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6" descr="undefined"/>
          <p:cNvPicPr/>
          <p:nvPr/>
        </p:nvPicPr>
        <p:blipFill>
          <a:blip r:embed="rId3"/>
          <a:stretch/>
        </p:blipFill>
        <p:spPr>
          <a:xfrm>
            <a:off x="3762360" y="4449600"/>
            <a:ext cx="3068640" cy="20466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1547640" y="6021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в Костром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Медаль «В память 800-летия Москвы»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3" name="Picture 2" descr="Изображение награды"/>
          <p:cNvPicPr/>
          <p:nvPr/>
        </p:nvPicPr>
        <p:blipFill>
          <a:blip r:embed="rId1"/>
          <a:stretch/>
        </p:blipFill>
        <p:spPr>
          <a:xfrm>
            <a:off x="3052800" y="2654280"/>
            <a:ext cx="1590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Биографи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856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Rounded MT Bold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Ю́рий (Гео́ргий) Влади́мирович, по прозвищу Долгору́кий (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др.-рус.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Гюрьги, Дюрьги;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1090-е годы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—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15 мая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1157 год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5"/>
              </a:rPr>
              <a:t>Киев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) —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6"/>
              </a:rPr>
              <a:t>князь ростово-суздальский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7"/>
              </a:rPr>
              <a:t>великий князь киевский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 один из  сыновей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8"/>
              </a:rPr>
              <a:t>Владимира Всеволодовича Мономах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 При этом князе впервые в летописях упоминается </a:t>
            </a:r>
            <a:r>
              <a:rPr b="0" lang="ru-RU" sz="2200" spc="-1" strike="noStrike" u="sng">
                <a:solidFill>
                  <a:srgbClr val="99ca3c"/>
                </a:solidFill>
                <a:uFillTx/>
                <a:latin typeface="Trebuchet MS"/>
                <a:hlinkClick r:id="rId9"/>
              </a:rPr>
              <a:t>Москв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 1113 года (по другой версии, с 1096 года) до конца жизни Юрий управлял Ростово-Суздальским княжеством. С 1132 года отстаивал на юге интересы свои и братьев, борясь за Переяславль, а затем и за Киев (за что, вероятно, получил прозвище Долгорукого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Города, основанные Юрием Долгоруки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ск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еяславль-Залес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стро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митров и друг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Памятник Юрию Долгорукому основателю Костромы"/>
          <p:cNvPicPr/>
          <p:nvPr/>
        </p:nvPicPr>
        <p:blipFill>
          <a:blip r:embed="rId1"/>
          <a:stretch/>
        </p:blipFill>
        <p:spPr>
          <a:xfrm>
            <a:off x="5786280" y="1857240"/>
            <a:ext cx="2913120" cy="4370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2571840" y="5214960"/>
            <a:ext cx="31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мятник Юрию Долгорукому - основателю Костро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История основания Москв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413000"/>
            <a:ext cx="7347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задолго до основания города влияние Киева начало ослабевать. Русские князья переставали подчиняться централизованной власти. В связи с этим киевский князь Юрий Долгорукий решил вступить в переговоры с князем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тославом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чтобы обсудить сложившуюся ситуацию. Встреча состоялась на том месте, где находится сейчас Москва. После военного совета князем Юрием Долгоруким было принято решение заложить на этом месте крепос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нязь Юрий Долгорукий официально в истории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читается основателем Москвы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Территория городка находилась в районе крайнего юго-западного угла сегодняшнего Кремля. Город был окружен лесом (бором), поэтому одни из Кремлевских ворот получили название Боровицк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Основание Москв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99972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первые о Москве упоминается в исторических документах как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о селе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сково.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Записи относятся к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47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году. Данное село относилось к поселениям, расположенным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вдоль рек Неглинка и Яуз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Одно из поселений которое находилось в районе, где река Неглинка впадает в Москву-реку, в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56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году по приказу князя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рия Долгорукого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было обнесено массивной деревянной стеной и окружено рвом.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Крепость получила название Москва-гра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Союз с половца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ногие считают половцев врагами Руси , но у Юрия Долгорукого были с ними тесные добрососедские отношения из-за того , что князь был женат на дочери половецкого ха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</a:rPr>
              <a:t>Получение титула Великого княз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2428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огатела при нем Владимиро-Суздальское княжество, но не оставлял попыток он захватить Киев, время которого уже подходило к концу и не знал он того , что вскоре Москва станет самым важным городом на Руси. Долго ждал своего часа Юрий Долгорукий и в 1155 году вместе со своими союзниками захватил власть в Киев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Смерть Юрия Долгоруког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557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мер правитель Киева внезапно. После пира, вернувшись в Киев, который он завоевал в третий, последний раз, князь почувствовал себя плохо. Есть мнение, что его отравили. Князь Юрий Долгорукий, биография которого наполнена сражениями, завоеваниями и многими достижениями, умер через 5 дней, 15 мая 1157 год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евляне, которыми он правил в последние годы жизни, не любили своего правителя, считая его жестоким, корыстным и жадным. И не захотели хоронить его тело рядом с отцом, Владимиром Мономахом. Поэтому Юрий Долгорукий был похоронен на территории Киево-Печерской лавры. Несмотря ни на что, после себя он оставил великое культурное наследие, которое продолжило существование и после его смер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491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осле себя князь оставил большое культурное наследство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Picture 6" descr="https://upload.wikimedia.org/wikipedia/commons/9/92/Pereslavl_SpasoPreobrazhenskyCathedral.JPG"/>
          <p:cNvPicPr/>
          <p:nvPr/>
        </p:nvPicPr>
        <p:blipFill>
          <a:blip r:embed="rId1"/>
          <a:stretch/>
        </p:blipFill>
        <p:spPr>
          <a:xfrm>
            <a:off x="630360" y="1628640"/>
            <a:ext cx="2746080" cy="2441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Файл:Kideksha sobor.jpg"/>
          <p:cNvPicPr/>
          <p:nvPr/>
        </p:nvPicPr>
        <p:blipFill>
          <a:blip r:embed="rId2"/>
          <a:stretch/>
        </p:blipFill>
        <p:spPr>
          <a:xfrm>
            <a:off x="4552920" y="2151000"/>
            <a:ext cx="2306520" cy="3094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https://i9.photo.2gis.com/images/branch/59/8303511826344163_d906.jpg"/>
          <p:cNvPicPr/>
          <p:nvPr/>
        </p:nvPicPr>
        <p:blipFill>
          <a:blip r:embed="rId3"/>
          <a:stretch/>
        </p:blipFill>
        <p:spPr>
          <a:xfrm>
            <a:off x="609480" y="4365720"/>
            <a:ext cx="2756160" cy="20667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4694400" y="2276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рковь Георг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923760" y="168912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асо-Преображенский соб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923760" y="4581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ковь Бориса и Гле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15:26:34Z</dcterms:created>
  <dc:creator>Dok</dc:creator>
  <dc:description/>
  <dc:language>en-US</dc:language>
  <cp:lastModifiedBy>2022</cp:lastModifiedBy>
  <dcterms:modified xsi:type="dcterms:W3CDTF">2023-02-18T17:49:49Z</dcterms:modified>
  <cp:revision>12</cp:revision>
  <dc:subject/>
  <dc:title>Юрий Долгорукий</dc:title>
</cp:coreProperties>
</file>