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755-9E5E-447F-BB22-1541ACA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176-7CEF-45D3-B5F3-ADB5CD1A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976-67EA-43B3-81E1-26A31D7F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18A-AA92-4182-A083-D0A2FBA6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0D55-BF20-4F10-9F80-B83C306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5EC-6B6B-4779-AB79-95AD2C1A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7E0-5571-45AE-8BDA-EE5D5C7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2B2F-71B7-4168-AEF1-485F5EC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8BF6-A9D7-4EB1-BFE2-1A1EBCA5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43C9-A96A-4C63-A089-E4CDA4F9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F9CD-D3E7-4ED8-805D-C1E0921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917-FB76-42FA-A8ED-FF2C1D0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BADF-4585-4350-8CA5-496E43C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765-EB03-44F7-BEF5-15C02E7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12D-B93F-46B4-9296-04171F5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015E-245B-4980-9CBA-123CCF7D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5433-E904-4725-AFE3-1644DD38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21B1-C236-4B8D-8716-F72A58FB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0E82-C25B-466B-B846-24ECCC76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61FD-8FB0-4B72-A3A8-50110A3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C9AF-9365-429F-B41E-6F4B267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6B9E-F28E-41EE-90EF-5BB55C0D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AF4-43C8-4365-AC11-DF7F1658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45DE-39D2-49BC-A384-0B02848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64B7-6268-474F-8C74-7BDE1B4F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777E-4CEE-43C4-A7FB-F8187D96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CE23-4C31-4694-A891-BADABFC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31E7-C3B3-4588-9E1F-5CEED1B4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0158-93B1-44E8-B0E2-6FE48121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F7C8-60EC-46F5-A865-5569C491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38F-5342-46A8-9184-42FEF68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A15-A018-4912-95EE-797D321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989-E87F-4131-9197-CEF4B8DB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E84-9312-4AE4-98FF-DC1D269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5E0-90B6-4C9D-84C3-5CC253ED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DD8-1F0D-4419-9E2A-A8AEACB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D2BE-C3D3-4659-A0E1-A5AE0327F8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7982-CB23-404A-9889-71E6D78142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7A3-E482-466D-A4AF-04BCD2DC08D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272360" cy="408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ПРЕЗЕНТАЦИЯ ПО ТЕМЕ: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А.С.Пушкин 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«Зимний вечер», «Няне»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71680" y="3714840"/>
            <a:ext cx="362916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adffff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-1440" y="-819000"/>
            <a:ext cx="912312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27280" y="692280"/>
            <a:ext cx="381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1799 -1837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leksandrPushkin"/>
          <p:cNvPicPr/>
          <p:nvPr/>
        </p:nvPicPr>
        <p:blipFill>
          <a:blip r:embed="rId1"/>
          <a:stretch/>
        </p:blipFill>
        <p:spPr>
          <a:xfrm>
            <a:off x="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о Михайлов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zimnii_vecher_2007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у меня многое получило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работал с удоволь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дноклассники доставили удовольствие своей рабо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кое-что казалось сложным, но я старался найти 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в. Выразительное чтение стихо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в. Выучить отрывок из стихотворения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в. Выучите всё стихотворение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в. Нарисовать рисунок к стихотво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28:26Z</dcterms:created>
  <dc:creator>Анастасия</dc:creator>
  <dc:description/>
  <dc:language>en-US</dc:language>
  <cp:lastModifiedBy>Пользователь Windows</cp:lastModifiedBy>
  <dcterms:modified xsi:type="dcterms:W3CDTF">2023-02-18T13:19:09Z</dcterms:modified>
  <cp:revision>22</cp:revision>
  <dc:subject/>
  <dc:title>Слайд 1</dc:title>
</cp:coreProperties>
</file>