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AC4-25FC-4196-AFC5-94CBA599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FE7-B824-4CBE-9AA8-571C886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0EB-1B8F-48D2-A833-A9424CFA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F9B-2641-4DFD-A9CE-25F1200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682-9872-4974-AA11-C50133DB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63EB-2F25-43A9-AA30-8622E00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C143-1309-45AC-9ABE-81FD2334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128C-C8A2-4B30-AF19-E732A92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8DB1-64E9-4A22-AD2A-48445CA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B7C-ACEF-46BF-AFCE-6FAD33C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251D-7F92-42FF-9410-F3D15C1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CBA-1BBA-4DDF-8045-774C7CF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7FE-CB6D-4760-8513-8F14DD8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5A7F-A1AD-43B4-BCCC-A15567C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606-9A8F-4122-9268-F9E8C90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EBB-3476-4E15-8A0B-CBE5CCA8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819-C4C9-4B6A-89D6-91B8E3D1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9850-4C62-48AD-856E-0A0E4B35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4863-098A-40F0-81F8-3DA2474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B1AA-6B83-4938-9217-C2F74BF7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6592-38ED-4C9A-B441-BDF1821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4338-92D0-410E-A7A7-1987A9F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119-29D1-48F4-A3C4-940C07FC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717F-0D7C-47B0-9B6D-2F9952C8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1E9C-F04D-47A5-85FB-849A5A6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B7C0-EA7C-4EED-B448-4FE6163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66D5-1CD6-40F6-A2E5-D6D7DB8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5DA1-6313-4A77-8E93-1B82AA8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26F7-3954-4A93-A560-D38A2533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2D44-14D7-4A39-A048-A92AEB4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DC4-135A-4EF2-89E9-4BD51058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B82-2130-4C29-98AB-5C8DDB4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5E8-0A32-4762-81A6-7150DCC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732-8F89-4D38-94F8-7585F25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9C0-6F0D-46A9-B711-68310D2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66E-7777-4B0B-A58C-04B4A559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BEF-29DB-4199-A348-A0D2973BA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E53-AEBB-4A4C-9AE3-53AC198B75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AAB6-ADE1-472D-8375-EA8AEB7BE9C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272360" cy="408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ПРЕЗЕНТАЦИЯ ПО ТЕМЕ: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А.С.Пушкин 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«Зимний вечер», «Няне»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71680" y="3714840"/>
            <a:ext cx="362916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adffff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-1440" y="-819000"/>
            <a:ext cx="912312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27280" y="692280"/>
            <a:ext cx="38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1799 -1837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leksandrPushkin"/>
          <p:cNvPicPr/>
          <p:nvPr/>
        </p:nvPicPr>
        <p:blipFill>
          <a:blip r:embed="rId1"/>
          <a:stretch/>
        </p:blipFill>
        <p:spPr>
          <a:xfrm>
            <a:off x="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о Михайлов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zimnii_vecher_2007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у меня многое получило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аботал с удоволь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дноклассники доставили удовольствие своей рабо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кое-что казалось сложным, но я старался найти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в. Выразительное чтение стихо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в. Выучить отрывок из стихотворения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в. Выучите всё стихотворение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в. Нарисовать рисунок к стихотво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28:26Z</dcterms:created>
  <dc:creator>Анастасия</dc:creator>
  <dc:description/>
  <dc:language>en-US</dc:language>
  <cp:lastModifiedBy>Пользователь Windows</cp:lastModifiedBy>
  <dcterms:modified xsi:type="dcterms:W3CDTF">2023-02-18T13:19:09Z</dcterms:modified>
  <cp:revision>22</cp:revision>
  <dc:subject/>
  <dc:title>Слайд 1</dc:title>
</cp:coreProperties>
</file>