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643-AE62-46CF-8D2A-E5B43E77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CEB-1D55-4171-814A-3A8018CE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2B6-1746-4D96-B89B-C3E199D4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A8E-0324-4D50-B76B-8FDA84B3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9E85-E83A-4857-9389-A80161F3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92D-D06F-404F-95E3-CDE46B58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EF5C-75BE-45CA-9F5A-030D79E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2CB-4726-485E-A80B-CEA89F9B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9BD3-084B-436E-946A-75FEA29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9381-16BF-46B0-A1B9-0DF3AB29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8C4D-1D61-4929-B2DE-EA9E2C5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22F-BCED-4F86-8FD1-A623E56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4EE1-D14A-412F-93B0-D1D771F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1C9-73A3-481C-ACED-C67CE6B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413F-DEB1-41E9-BB76-E0E37EAC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0858-4323-436A-AD58-68ED71C4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212-C8B1-4D15-B2DB-9E4CFAE0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5200-1103-4088-8452-C715FF5D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E207-3C1A-4C3C-9145-5580FE89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0AF8-C5EC-4DF0-86BA-3437584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950D-2A7F-4255-8A49-B2D2A264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70E7-1EB7-4C22-85EB-61687BA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26D-8CD4-408D-AA26-D08C293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21F5-1D8E-4E05-B3E9-3B28A39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386B-0E3E-4AE2-8A9A-63CAB45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905B-A269-4D2F-8DCD-DFA06EF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E8D4-4A76-419E-8A07-CAF187D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3834-B490-4267-861D-390BD239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9434-0C8A-434E-A923-94B4EF54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594F-F966-4FC8-8185-830B0EB2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C6BF-1530-4019-B47B-2AA57B9D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4F9F-9878-467D-92DB-77E6D455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4CE6-D9E8-497D-AD61-1367F716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1EB-1357-49AE-9225-866F4C7F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DC9D-9A4E-4CBF-A5B6-8F0CF218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D740-AEB5-45B9-841A-211EA51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BE4D-B8FB-4B20-85F0-7DF800D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747D-5FBE-4486-B77E-6ECF9C0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8993-5CD4-4FB3-A6B3-D02BF834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BB67-F45D-4105-9461-9DB3554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CA06-85AB-4616-B183-45169DD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875C-9D1A-4ACA-A821-BD6B6091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1493-B046-40E4-9E7C-405F8CED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229-00CF-4FD4-A1FD-AA135A31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281-6EB2-4F4E-A1ED-7ABC3781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119-47C5-4163-83CA-3337096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2EE-99DA-4416-AC36-49E4CC6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45B-0E5B-4157-AAF4-6C03FAA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F05247-12D4-4E23-8D31-BC0DC91B1A9C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A0B322-7881-4569-BFB7-A79D1F7A5490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93B7F5-31B2-4DB5-A5F0-BAF64B28674D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7D3776A-899C-4E15-A067-40EF181644E4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6600" spc="-1" strike="noStrike" cap="all">
                <a:solidFill>
                  <a:srgbClr val="000000"/>
                </a:solidFill>
                <a:latin typeface="Franklin Gothic Medium"/>
              </a:rPr>
              <a:t>23 </a:t>
            </a:r>
            <a:r>
              <a:rPr b="0" lang="ru-RU" sz="6600" spc="-1" strike="noStrike" cap="all">
                <a:solidFill>
                  <a:schemeClr val="accent2">
                    <a:lumMod val="75000"/>
                  </a:schemeClr>
                </a:solidFill>
                <a:latin typeface="Franklin Gothic Medium"/>
              </a:rPr>
              <a:t>февраля</a:t>
            </a:r>
            <a:endParaRPr b="0" lang="ru-RU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000" spc="398" strike="noStrike" cap="all">
                <a:solidFill>
                  <a:srgbClr val="000000"/>
                </a:solidFill>
                <a:latin typeface="Franklin Gothic Book"/>
              </a:rPr>
              <a:t>День защитника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640" y="1484640"/>
            <a:ext cx="5256360" cy="31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Брат сказал: "Не торопись!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Лучше в школе ты учись!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Будешь ты отличником -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танешь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 cap="all">
                <a:solidFill>
                  <a:schemeClr val="accent2">
                    <a:lumMod val="75000"/>
                  </a:schemeClr>
                </a:solidFill>
                <a:latin typeface="Franklin Gothic Medium"/>
              </a:rPr>
              <a:t>Загадки на военную тематику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Рисунок 9"/>
          <p:cNvSpPr/>
          <p:nvPr/>
        </p:nvSpPr>
        <p:spPr>
          <a:xfrm>
            <a:off x="5148000" y="990720"/>
            <a:ext cx="3438000" cy="4876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780000" y="836640"/>
            <a:ext cx="48963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Моряком ты можешь стать,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Чтоб границу охранять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 служить не на земле,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 на военном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Рисунок 4"/>
          <p:cNvSpPr/>
          <p:nvPr/>
        </p:nvSpPr>
        <p:spPr>
          <a:xfrm>
            <a:off x="251640" y="260640"/>
            <a:ext cx="3416760" cy="468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7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7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7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75207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амолет парит, как птица,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Там - воздушная граница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На посту и днем, и ночью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Наш солдат - военный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Рисунок 4"/>
          <p:cNvSpPr/>
          <p:nvPr/>
        </p:nvSpPr>
        <p:spPr>
          <a:xfrm>
            <a:off x="4716000" y="2493000"/>
            <a:ext cx="4111560" cy="273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17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140000" y="188640"/>
            <a:ext cx="75207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нова в бой машина мчится,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Режут землю гусеницы,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Та машина в поле чистом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Управляется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Рисунок 4"/>
          <p:cNvSpPr/>
          <p:nvPr/>
        </p:nvSpPr>
        <p:spPr>
          <a:xfrm>
            <a:off x="323640" y="2089800"/>
            <a:ext cx="4388760" cy="3168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908640"/>
            <a:ext cx="7709040" cy="40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ерой – за Родину горой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Жить – Родине служить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де смелость – там побед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Смелого, враг не возьмёт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Смелый боец – в бою молодец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Чем крепче дружба, тем легче дружб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Плох тот солдат, который не мечтает стать генералом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Тяжело в учении – легко в бою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Если армия сильна – непобедима и стран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Народ и армия едины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827640" y="188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Пословицы и поговорки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Рисунок 4" descr=""/>
          <p:cNvPicPr/>
          <p:nvPr/>
        </p:nvPicPr>
        <p:blipFill>
          <a:blip r:embed="rId1"/>
          <a:stretch/>
        </p:blipFill>
        <p:spPr>
          <a:xfrm>
            <a:off x="5292000" y="620640"/>
            <a:ext cx="333324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021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852000" y="6021360"/>
            <a:ext cx="453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Franklin Gothic Boo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2960" y="620640"/>
            <a:ext cx="3388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Когда лежит на речках лёд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вьюга мчится вдаль,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Чудесный праздник нам несёт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Задумчивый февраль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Наступит праздник всех солдат,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Защитников, бойцов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Поздравить будет каждый рад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дедов, и отцов!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нарисую пароход,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4000" y="620640"/>
            <a:ext cx="3544200" cy="470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де папа капитан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Отважно папа мой плыве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з дальних-дальних стран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нарисую самолёт,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де папа командир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дни, и ночи напролё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Спасает папа мир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нарисую пистоле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всадника в седле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знаю: лучше папы не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ероев на земле!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7640" y="40464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оссийская армия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– это вооруженные силы нашей родины, которая защищает ее честь, независимость и свободу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Рисунок 3"/>
          <p:cNvSpPr/>
          <p:nvPr/>
        </p:nvSpPr>
        <p:spPr>
          <a:xfrm>
            <a:off x="1691640" y="1124640"/>
            <a:ext cx="6048360" cy="3888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В вооруженные силы РФ входят: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1 – сухопутные войска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2 – военно - воздушные силы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3 – ракетные  войска стратегического назначения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4 – военно- морской флот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5 – войска противовоздушной обороны страны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Объект 5"/>
          <p:cNvSpPr/>
          <p:nvPr/>
        </p:nvSpPr>
        <p:spPr>
          <a:xfrm>
            <a:off x="179640" y="548640"/>
            <a:ext cx="3954600" cy="280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бъект 4"/>
          <p:cNvSpPr/>
          <p:nvPr/>
        </p:nvSpPr>
        <p:spPr>
          <a:xfrm>
            <a:off x="4932000" y="559440"/>
            <a:ext cx="3816720" cy="27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Сухопутные войс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Рисунок 6"/>
          <p:cNvSpPr/>
          <p:nvPr/>
        </p:nvSpPr>
        <p:spPr>
          <a:xfrm>
            <a:off x="36360" y="3693960"/>
            <a:ext cx="4480920" cy="2571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исунок 7"/>
          <p:cNvSpPr/>
          <p:nvPr/>
        </p:nvSpPr>
        <p:spPr>
          <a:xfrm>
            <a:off x="4644000" y="3561120"/>
            <a:ext cx="4278960" cy="284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1259640" y="324252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Franklin Gothic Book"/>
              </a:rPr>
              <a:t>Рак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6228360" y="319176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ртилл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547640" y="629856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х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373080" y="6266160"/>
            <a:ext cx="26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Объект 4"/>
          <p:cNvSpPr/>
          <p:nvPr/>
        </p:nvSpPr>
        <p:spPr>
          <a:xfrm>
            <a:off x="323640" y="2637000"/>
            <a:ext cx="5616360" cy="3843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бъект 5"/>
          <p:cNvSpPr/>
          <p:nvPr/>
        </p:nvSpPr>
        <p:spPr>
          <a:xfrm>
            <a:off x="3636000" y="620640"/>
            <a:ext cx="5055480" cy="2263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Военно-воздушные силы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940000" y="2997000"/>
            <a:ext cx="302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омбардировочные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5004000" y="5907960"/>
            <a:ext cx="35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ертол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бъект 4"/>
          <p:cNvSpPr/>
          <p:nvPr/>
        </p:nvSpPr>
        <p:spPr>
          <a:xfrm>
            <a:off x="1547640" y="836640"/>
            <a:ext cx="6197760" cy="4394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9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Ракетные войска стратегического назначени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2988000" y="5286600"/>
            <a:ext cx="597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ашина боев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Объект 4"/>
          <p:cNvSpPr/>
          <p:nvPr/>
        </p:nvSpPr>
        <p:spPr>
          <a:xfrm>
            <a:off x="226080" y="764640"/>
            <a:ext cx="3866760" cy="259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бъект 5"/>
          <p:cNvSpPr/>
          <p:nvPr/>
        </p:nvSpPr>
        <p:spPr>
          <a:xfrm>
            <a:off x="5220000" y="507960"/>
            <a:ext cx="3708360" cy="288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Военно - морской флот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Рисунок 6"/>
          <p:cNvSpPr/>
          <p:nvPr/>
        </p:nvSpPr>
        <p:spPr>
          <a:xfrm>
            <a:off x="1750680" y="3419640"/>
            <a:ext cx="5474880" cy="3027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1115640" y="33883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рская ав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6012000" y="3388320"/>
            <a:ext cx="23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водная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3276000" y="626868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оево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бъект 4"/>
          <p:cNvSpPr/>
          <p:nvPr/>
        </p:nvSpPr>
        <p:spPr>
          <a:xfrm>
            <a:off x="323640" y="908640"/>
            <a:ext cx="4450680" cy="280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бъект 5"/>
          <p:cNvSpPr/>
          <p:nvPr/>
        </p:nvSpPr>
        <p:spPr>
          <a:xfrm>
            <a:off x="4788000" y="2061000"/>
            <a:ext cx="3965400" cy="2728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964000" cy="54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Войска противовоздушной обороны страны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971640" y="3861000"/>
            <a:ext cx="331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молеты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5868000" y="4725000"/>
            <a:ext cx="27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енитные р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34</TotalTime>
  <Application>LibreOffice/7.4.7.2$Linux_X86_64 LibreOffice_project/40$Build-2</Application>
  <AppVersion>15.0000</AppVersion>
  <Words>267</Words>
  <Paragraphs>77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56:54Z</dcterms:created>
  <dc:creator>лена</dc:creator>
  <dc:description/>
  <dc:language>en-US</dc:language>
  <cp:lastModifiedBy>а</cp:lastModifiedBy>
  <dcterms:modified xsi:type="dcterms:W3CDTF">2023-02-19T11:22:28Z</dcterms:modified>
  <cp:revision>14</cp:revision>
  <dc:subject/>
  <dc:title>23 февр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