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221-219B-4BE8-BF71-C7748185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8A4-A2F2-420C-A309-377D242F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4E8-F10D-4D0C-A2F6-235333C6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61E-47A2-4D0D-A4E0-F9F3FABF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AF27-C402-4FE8-A145-1A7461FE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FC5D-E1D4-4874-A07E-E238770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68A2-62C7-416A-BDC0-0164694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1E15-EF27-47E0-A506-4C19548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DAC7-3676-470D-88CF-6C8B8D45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F1FB-A573-40BD-B652-599C67C2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310B-5552-4196-930A-01BFB15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02E-3AC6-4D2E-B541-75E12E7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2204-07B7-47B4-9943-669B554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3F1B-B000-4051-8075-1D4D928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66E-7063-4DAD-93A6-29B38C7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2702-BD94-4557-9781-100E33C1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645B-36A8-4D63-8DD6-A40B5C10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95AA-7145-4016-873B-FA2CD380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362D-256A-4920-B225-0C29D873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22AD-1284-4189-A8ED-C61464E8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C695-CBD7-4417-8D93-F899777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7D016-A48D-4A9D-A16A-3486A64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A99-7679-43F3-8420-F74F80A6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59B5-A442-4BA5-8BDC-BEBF023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D394-C327-4475-A096-7604FD47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8E50-42D8-4958-AAAF-4EE0682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E1C9-45ED-4CB6-AD46-017367F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16E9-0A24-40C3-A138-E3E8BB92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DDB1-7A49-462D-BA3F-706D270B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028B-8DD7-4057-9D7C-C798C2F1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2096-1FBE-46F0-B9BD-5ADE44A7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152A-1EB5-43BB-8BA1-B11A0A8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0F3E-BF7E-4686-AD44-49AB74AC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438-EBA4-4F96-B7D0-BF28EBAE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7797-BC09-47BE-A635-1EB5C301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8710-5B2E-4AA8-BB75-5B57CA8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B39E-613D-4507-BF88-64001FE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160A-E369-4070-AAD4-7E1C7DF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4EF2-CCC9-4D05-9B3F-1941C9C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1BE0-ADFB-43DA-A69A-E24BC4E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E605-A418-4F31-809D-13A1B9D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9CD0-92BD-41F6-B5FC-4F27B8FB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AEB3-AE02-4008-86B8-DE812CD2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8E0-C653-4FFB-BE06-FD0993B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585-0FCE-43FD-BACF-7FABAB64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951-11F3-48C5-B16E-13EA0B64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80B-69DB-418E-B890-175D26F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F5B-7EF7-4AD9-AB38-A31D7EA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1B2B77-4948-4285-99D2-FB0A4994EF26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DFE1F8F-3674-4C97-A1FE-DE5E88805F67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149D3F6-3608-400D-9685-FF58B8F1EE30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88997C-BEFD-4170-8FBE-CCF92120B860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6600" spc="-1" strike="noStrike" cap="all">
                <a:solidFill>
                  <a:srgbClr val="000000"/>
                </a:solidFill>
                <a:latin typeface="Franklin Gothic Medium"/>
              </a:rPr>
              <a:t>23 </a:t>
            </a:r>
            <a:r>
              <a:rPr b="0" lang="ru-RU" sz="6600" spc="-1" strike="noStrike" cap="all">
                <a:solidFill>
                  <a:schemeClr val="accent2">
                    <a:lumMod val="75000"/>
                  </a:schemeClr>
                </a:solidFill>
                <a:latin typeface="Franklin Gothic Medium"/>
              </a:rPr>
              <a:t>февраля</a:t>
            </a:r>
            <a:endParaRPr b="0" lang="ru-RU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000" spc="398" strike="noStrike" cap="all">
                <a:solidFill>
                  <a:srgbClr val="000000"/>
                </a:solidFill>
                <a:latin typeface="Franklin Gothic Book"/>
              </a:rPr>
              <a:t>День защитника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640" y="1484640"/>
            <a:ext cx="5256360" cy="31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Брат сказал: "Не торопись!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Лучше в школе ты учись!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Будешь ты отличником -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танешь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 cap="all">
                <a:solidFill>
                  <a:schemeClr val="accent2">
                    <a:lumMod val="75000"/>
                  </a:schemeClr>
                </a:solidFill>
                <a:latin typeface="Franklin Gothic Medium"/>
              </a:rPr>
              <a:t>Загадки на военную тематику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Рисунок 9"/>
          <p:cNvSpPr/>
          <p:nvPr/>
        </p:nvSpPr>
        <p:spPr>
          <a:xfrm>
            <a:off x="5148000" y="990720"/>
            <a:ext cx="3438000" cy="4876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780000" y="836640"/>
            <a:ext cx="48963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Моряком ты можешь стать,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Чтоб границу охранять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 служить не на земле,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 на военном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Рисунок 4"/>
          <p:cNvSpPr/>
          <p:nvPr/>
        </p:nvSpPr>
        <p:spPr>
          <a:xfrm>
            <a:off x="251640" y="260640"/>
            <a:ext cx="3416760" cy="468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7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7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7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75207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амолет парит, как птица,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Там - воздушная граница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На посту и днем, и ночью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Наш солдат - военный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Рисунок 4"/>
          <p:cNvSpPr/>
          <p:nvPr/>
        </p:nvSpPr>
        <p:spPr>
          <a:xfrm>
            <a:off x="4716000" y="2493000"/>
            <a:ext cx="4111560" cy="273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17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140000" y="188640"/>
            <a:ext cx="75207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нова в бой машина мчится,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Режут землю гусеницы,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Та машина в поле чистом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Управляется (...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Рисунок 4"/>
          <p:cNvSpPr/>
          <p:nvPr/>
        </p:nvSpPr>
        <p:spPr>
          <a:xfrm>
            <a:off x="323640" y="2089800"/>
            <a:ext cx="4388760" cy="3168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908640"/>
            <a:ext cx="7709040" cy="40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ерой – за Родину горой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Жить – Родине служить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де смелость – там побед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Смелого, враг не возьмёт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Смелый боец – в бою молодец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Чем крепче дружба, тем легче дружб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Плох тот солдат, который не мечтает стать генералом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Тяжело в учении – легко в бою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Если армия сильна – непобедима и страна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4440" indent="-424440">
              <a:lnSpc>
                <a:spcPct val="100000"/>
              </a:lnSpc>
              <a:spcBef>
                <a:spcPts val="799"/>
              </a:spcBef>
              <a:buClr>
                <a:srgbClr val="ca4b05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Народ и армия едины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827640" y="188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Пословицы и поговорки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Рисунок 4" descr=""/>
          <p:cNvPicPr/>
          <p:nvPr/>
        </p:nvPicPr>
        <p:blipFill>
          <a:blip r:embed="rId1"/>
          <a:stretch/>
        </p:blipFill>
        <p:spPr>
          <a:xfrm>
            <a:off x="5292000" y="620640"/>
            <a:ext cx="333324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021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852000" y="6021360"/>
            <a:ext cx="453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Franklin Gothic Boo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2960" y="620640"/>
            <a:ext cx="3388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Когда лежит на речках лёд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вьюга мчится вдаль,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Чудесный праздник нам несёт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Задумчивый февраль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Наступит праздник всех солдат,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Защитников, бойцов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Поздравить будет каждый рад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дедов, и отцов!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нарисую пароход,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9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4000" y="620640"/>
            <a:ext cx="3544200" cy="470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де папа капитан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Отважно папа мой плыве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з дальних-дальних стран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нарисую самолёт, 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де папа командир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дни, и ночи напролё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Спасает папа мир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нарисую пистоле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И всадника в седле.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Я знаю: лучше папы нет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Героев на земле!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7640" y="40464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оссийская армия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– это вооруженные силы нашей родины, которая защищает ее честь, независимость и свободу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Рисунок 3"/>
          <p:cNvSpPr/>
          <p:nvPr/>
        </p:nvSpPr>
        <p:spPr>
          <a:xfrm>
            <a:off x="1691640" y="1124640"/>
            <a:ext cx="6048360" cy="3888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В вооруженные силы РФ входят: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1 – сухопутные войска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2 – военно - воздушные силы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3 – ракетные  войска стратегического назначения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4 – военно- морской флот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5 – войска противовоздушной обороны страны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Объект 5"/>
          <p:cNvSpPr/>
          <p:nvPr/>
        </p:nvSpPr>
        <p:spPr>
          <a:xfrm>
            <a:off x="179640" y="548640"/>
            <a:ext cx="3954600" cy="280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бъект 4"/>
          <p:cNvSpPr/>
          <p:nvPr/>
        </p:nvSpPr>
        <p:spPr>
          <a:xfrm>
            <a:off x="4932000" y="559440"/>
            <a:ext cx="3816720" cy="27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Сухопутные войс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Рисунок 6"/>
          <p:cNvSpPr/>
          <p:nvPr/>
        </p:nvSpPr>
        <p:spPr>
          <a:xfrm>
            <a:off x="36360" y="3693960"/>
            <a:ext cx="4480920" cy="2571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исунок 7"/>
          <p:cNvSpPr/>
          <p:nvPr/>
        </p:nvSpPr>
        <p:spPr>
          <a:xfrm>
            <a:off x="4644000" y="3561120"/>
            <a:ext cx="4278960" cy="284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1259640" y="324252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Franklin Gothic Book"/>
              </a:rPr>
              <a:t>Рак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6228360" y="319176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ртилл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547640" y="629856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х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6373080" y="6266160"/>
            <a:ext cx="26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Объект 4"/>
          <p:cNvSpPr/>
          <p:nvPr/>
        </p:nvSpPr>
        <p:spPr>
          <a:xfrm>
            <a:off x="323640" y="2637000"/>
            <a:ext cx="5616360" cy="3843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бъект 5"/>
          <p:cNvSpPr/>
          <p:nvPr/>
        </p:nvSpPr>
        <p:spPr>
          <a:xfrm>
            <a:off x="3636000" y="620640"/>
            <a:ext cx="5055480" cy="2263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7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Военно-воздушные силы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940000" y="2997000"/>
            <a:ext cx="302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омбардировочные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5004000" y="5907960"/>
            <a:ext cx="35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ертолет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бъект 4"/>
          <p:cNvSpPr/>
          <p:nvPr/>
        </p:nvSpPr>
        <p:spPr>
          <a:xfrm>
            <a:off x="1547640" y="836640"/>
            <a:ext cx="6197760" cy="4394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9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Ракетные войска стратегического назначени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2988000" y="5286600"/>
            <a:ext cx="597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ашина боев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Объект 4"/>
          <p:cNvSpPr/>
          <p:nvPr/>
        </p:nvSpPr>
        <p:spPr>
          <a:xfrm>
            <a:off x="226080" y="764640"/>
            <a:ext cx="3866760" cy="259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бъект 5"/>
          <p:cNvSpPr/>
          <p:nvPr/>
        </p:nvSpPr>
        <p:spPr>
          <a:xfrm>
            <a:off x="5220000" y="507960"/>
            <a:ext cx="3708360" cy="288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Военно - морской флот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Рисунок 6"/>
          <p:cNvSpPr/>
          <p:nvPr/>
        </p:nvSpPr>
        <p:spPr>
          <a:xfrm>
            <a:off x="1750680" y="3419640"/>
            <a:ext cx="5474880" cy="3027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1115640" y="33883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рская ав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6012000" y="3388320"/>
            <a:ext cx="23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водная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3276000" y="626868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оево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бъект 4"/>
          <p:cNvSpPr/>
          <p:nvPr/>
        </p:nvSpPr>
        <p:spPr>
          <a:xfrm>
            <a:off x="323640" y="908640"/>
            <a:ext cx="4450680" cy="280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бъект 5"/>
          <p:cNvSpPr/>
          <p:nvPr/>
        </p:nvSpPr>
        <p:spPr>
          <a:xfrm>
            <a:off x="4788000" y="2061000"/>
            <a:ext cx="3965400" cy="2728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964000" cy="54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Войска противовоздушной обороны страны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971640" y="3861000"/>
            <a:ext cx="331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молеты 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5868000" y="4725000"/>
            <a:ext cx="27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енитные р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34</TotalTime>
  <Application>LibreOffice/7.4.7.2$Linux_X86_64 LibreOffice_project/40$Build-2</Application>
  <AppVersion>15.0000</AppVersion>
  <Words>267</Words>
  <Paragraphs>77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56:54Z</dcterms:created>
  <dc:creator>лена</dc:creator>
  <dc:description/>
  <dc:language>en-US</dc:language>
  <cp:lastModifiedBy>а</cp:lastModifiedBy>
  <dcterms:modified xsi:type="dcterms:W3CDTF">2023-02-19T11:22:28Z</dcterms:modified>
  <cp:revision>14</cp:revision>
  <dc:subject/>
  <dc:title>23 февр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