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B0D-2958-4F7D-B15B-E624E60F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F05-9320-416D-8EBA-A72FDD91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740-F7F3-44B2-9260-641E5354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3B4-ADE9-4DE8-BC2E-3F74F8EA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0DB20-F630-43F6-BFFE-66468344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A5A9-D352-4896-A9B5-41D4A11A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B718C-70EF-4D02-8CD9-59A648DA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2BB47-CA56-454D-86F1-7EEA9852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786F6-1D3C-4F12-8076-4A37EC6B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CE13E-AC37-4D1A-9AA4-FC984CB0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08665-582D-4CB4-937E-69D95B8F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6C1-A271-45E6-8495-32C47909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62922-53B6-42BD-9DB1-7A12CE1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061FC-ADD5-437A-93DD-75EBE450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10C79-CC18-4529-A520-853B595E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B11B7-C3EE-438B-802E-0CF102BB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181D6-99C6-4369-944D-E2D6CBA4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59C71-96B2-437B-BACC-3F41D6DE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9B6F-3CA0-430F-95D6-C135841A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A60D-89AC-46BC-8BEF-D9B1A459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612A-3741-43A0-B5B8-CF3E7DAF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D065-0518-4FA4-8705-09DE3454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4AF-3430-412C-99F4-CAEBD93E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56E2-09CC-464A-AEC6-81117047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41EA-0EFE-4460-9CEA-3C7746BC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CEE6-1FC7-4E21-8EDE-ACC873B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BB68-1AE5-4EE4-B8DE-E3FF17D6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3E25-BEFB-4536-B827-360D1413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0A4E-2068-4FE0-AC2A-E4F9DA35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A6ED-A2D6-4D81-95B7-950736FE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15D4E-2A9C-4FE2-BAD4-57C11B19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68183-2344-41F5-A36F-C86F8C5E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49C43-61A6-4D51-B4CD-1EEEB82B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421-822C-4F6E-8394-A469E472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83E6C-3406-4B9A-8058-850FD626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E8F4D-83CF-4028-A983-BFB73D2F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C356B-6296-464B-902C-7A9A9B33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2E075-4910-42FE-A761-99BB1C0D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ABB92-2643-437C-815C-AABABA9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C1A48-69FD-4284-AD46-ED993C31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16907-2EC5-4EED-A109-36D8BACE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FEBF7-4459-4A44-B6EE-BC958B50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87DA1-40F7-4D9B-885A-B5C06D66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897-4988-48DA-A5A7-9169F067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DE2-9030-4CC3-8751-16FE6FB6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C40-C936-4144-97B9-C1D7F2AF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FDD-904B-4045-9A44-84035982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411-AD99-47FB-9C68-D18BEB6C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3907-8F5D-4FED-AB8E-94A5456FF51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5915-0A98-468F-98A5-7B7D1A3CF2E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99EC-697B-45C0-98AE-6671F245ECA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48B7-9C4F-45E6-9FB4-4D5257EE26E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20840" y="463680"/>
            <a:ext cx="8321400" cy="968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media.puzzle.de/media/catalog/product/r/_/r_06777_1.jpg"/>
          <p:cNvPicPr/>
          <p:nvPr/>
        </p:nvPicPr>
        <p:blipFill>
          <a:blip r:embed="rId2"/>
          <a:stretch/>
        </p:blipFill>
        <p:spPr>
          <a:xfrm>
            <a:off x="1071720" y="1428840"/>
            <a:ext cx="7215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5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im0-tub-ru.yandex.net/i?id=114760729-42-72&amp;n=21"/>
          <p:cNvPicPr/>
          <p:nvPr/>
        </p:nvPicPr>
        <p:blipFill>
          <a:blip r:embed="rId2"/>
          <a:stretch/>
        </p:blipFill>
        <p:spPr>
          <a:xfrm>
            <a:off x="285840" y="1428840"/>
            <a:ext cx="4357440" cy="3857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ttp://im3-tub-ru.yandex.net/i?id=1755662-09-72&amp;n=21"/>
          <p:cNvPicPr/>
          <p:nvPr/>
        </p:nvPicPr>
        <p:blipFill>
          <a:blip r:embed="rId3"/>
          <a:stretch/>
        </p:blipFill>
        <p:spPr>
          <a:xfrm>
            <a:off x="4714920" y="135720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img02.darudar.org/s600/00/01/04/38/0438b272fa1e0ba02abe0f1426540b2b.jpg"/>
          <p:cNvPicPr/>
          <p:nvPr/>
        </p:nvPicPr>
        <p:blipFill>
          <a:blip r:embed="rId2"/>
          <a:stretch/>
        </p:blipFill>
        <p:spPr>
          <a:xfrm>
            <a:off x="1571760" y="1428840"/>
            <a:ext cx="6072120" cy="50720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4000680" y="614376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4572000" y="614376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Управляющая кнопка: в начало 5">
            <a:hlinkClick r:id="" action="ppaction://hlinkshowjump?jump=firstslide"/>
          </p:cNvPr>
          <p:cNvSpPr/>
          <p:nvPr/>
        </p:nvSpPr>
        <p:spPr>
          <a:xfrm>
            <a:off x="3429000" y="614376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7874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6028" y="3794"/>
                </a:lnTo>
                <a:lnTo>
                  <a:pt x="6028" y="17806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Управляющая кнопка: в конец 6">
            <a:hlinkClick r:id="" action="ppaction://hlinkshowjump?jump=lastslide"/>
          </p:cNvPr>
          <p:cNvSpPr/>
          <p:nvPr/>
        </p:nvSpPr>
        <p:spPr>
          <a:xfrm>
            <a:off x="5143680" y="6143760"/>
            <a:ext cx="500040" cy="5428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2880"/>
              <a:gd name="textAreaBottom" fmla="*/ 510480 h 542880"/>
            </a:gdLst>
            <a:ahLst/>
            <a:rect l="textAreaLeft" t="textAreaTop" r="textAreaRight" b="textAreaBottom"/>
            <a:pathLst>
              <a:path w="21600" h="23449">
                <a:moveTo>
                  <a:pt x="0" y="0"/>
                </a:moveTo>
                <a:lnTo>
                  <a:pt x="21600" y="0"/>
                </a:lnTo>
                <a:lnTo>
                  <a:pt x="21600" y="23449"/>
                </a:lnTo>
                <a:lnTo>
                  <a:pt x="0" y="23449"/>
                </a:lnTo>
                <a:close/>
              </a:path>
              <a:path fill="lightenLess" w="21600" h="23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9">
                <a:moveTo>
                  <a:pt x="21600" y="0"/>
                </a:moveTo>
                <a:lnTo>
                  <a:pt x="21600" y="23449"/>
                </a:lnTo>
                <a:lnTo>
                  <a:pt x="20200" y="22049"/>
                </a:lnTo>
                <a:lnTo>
                  <a:pt x="20200" y="1400"/>
                </a:lnTo>
                <a:close/>
              </a:path>
              <a:path fill="darkenLess" w="21600" h="23449">
                <a:moveTo>
                  <a:pt x="21600" y="23449"/>
                </a:moveTo>
                <a:lnTo>
                  <a:pt x="0" y="23449"/>
                </a:lnTo>
                <a:lnTo>
                  <a:pt x="1400" y="22049"/>
                </a:lnTo>
                <a:lnTo>
                  <a:pt x="20200" y="22049"/>
                </a:lnTo>
                <a:close/>
              </a:path>
              <a:path fill="lighten" w="21600" h="23449">
                <a:moveTo>
                  <a:pt x="0" y="23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9"/>
                </a:lnTo>
                <a:close/>
              </a:path>
              <a:path fill="darken" w="21600" h="23449">
                <a:moveTo>
                  <a:pt x="14299" y="11725"/>
                </a:moveTo>
                <a:lnTo>
                  <a:pt x="3794" y="18731"/>
                </a:lnTo>
                <a:lnTo>
                  <a:pt x="3794" y="4718"/>
                </a:lnTo>
                <a:close/>
              </a:path>
              <a:path fill="darken" w="21600" h="23449">
                <a:moveTo>
                  <a:pt x="16144" y="4718"/>
                </a:moveTo>
                <a:lnTo>
                  <a:pt x="16144" y="18731"/>
                </a:lnTo>
                <a:lnTo>
                  <a:pt x="17806" y="18731"/>
                </a:lnTo>
                <a:lnTo>
                  <a:pt x="17806" y="4718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im2-tub-ru.yandex.net/i?id=207291272-15-72&amp;n=21"/>
          <p:cNvPicPr/>
          <p:nvPr/>
        </p:nvPicPr>
        <p:blipFill>
          <a:blip r:embed="rId2"/>
          <a:stretch/>
        </p:blipFill>
        <p:spPr>
          <a:xfrm>
            <a:off x="1000080" y="1928880"/>
            <a:ext cx="3286080" cy="3143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im2-tub-ru.yandex.net/i?id=342315793-62-72&amp;n=21"/>
          <p:cNvPicPr/>
          <p:nvPr/>
        </p:nvPicPr>
        <p:blipFill>
          <a:blip r:embed="rId3"/>
          <a:stretch/>
        </p:blipFill>
        <p:spPr>
          <a:xfrm>
            <a:off x="5000760" y="1928880"/>
            <a:ext cx="3429000" cy="314316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92904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5007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3794"/>
                </a:moveTo>
                <a:lnTo>
                  <a:pt x="18372" y="10800"/>
                </a:lnTo>
                <a:lnTo>
                  <a:pt x="435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33577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7867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  <a:path fill="darken" w="22731" h="21600">
                <a:moveTo>
                  <a:pt x="4359" y="3794"/>
                </a:moveTo>
                <a:lnTo>
                  <a:pt x="6021" y="3794"/>
                </a:lnTo>
                <a:lnTo>
                  <a:pt x="6021" y="17806"/>
                </a:lnTo>
                <a:lnTo>
                  <a:pt x="435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507204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14871" y="10800"/>
                </a:moveTo>
                <a:lnTo>
                  <a:pt x="4366" y="17806"/>
                </a:lnTo>
                <a:lnTo>
                  <a:pt x="4366" y="3794"/>
                </a:lnTo>
                <a:close/>
              </a:path>
              <a:path fill="darken" w="22745" h="21600">
                <a:moveTo>
                  <a:pt x="16717" y="3794"/>
                </a:moveTo>
                <a:lnTo>
                  <a:pt x="16717" y="17806"/>
                </a:lnTo>
                <a:lnTo>
                  <a:pt x="18379" y="17806"/>
                </a:lnTo>
                <a:lnTo>
                  <a:pt x="18379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im5-tub-ru.yandex.net/i?id=203715874-39-72&amp;n=21"/>
          <p:cNvPicPr/>
          <p:nvPr/>
        </p:nvPicPr>
        <p:blipFill>
          <a:blip r:embed="rId2"/>
          <a:stretch/>
        </p:blipFill>
        <p:spPr>
          <a:xfrm>
            <a:off x="285840" y="2000160"/>
            <a:ext cx="3929040" cy="3357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im0-tub-ru.yandex.net/i?id=516141628-52-72&amp;n=21"/>
          <p:cNvPicPr/>
          <p:nvPr/>
        </p:nvPicPr>
        <p:blipFill>
          <a:blip r:embed="rId3"/>
          <a:stretch/>
        </p:blipFill>
        <p:spPr>
          <a:xfrm>
            <a:off x="4786200" y="2071800"/>
            <a:ext cx="3429000" cy="3214440"/>
          </a:xfrm>
          <a:prstGeom prst="rect">
            <a:avLst/>
          </a:prstGeom>
          <a:ln w="0">
            <a:noFill/>
          </a:ln>
        </p:spPr>
      </p:pic>
      <p:sp>
        <p:nvSpPr>
          <p:cNvPr id="18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3577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392904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278604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7874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6028" y="3794"/>
                </a:lnTo>
                <a:lnTo>
                  <a:pt x="6028" y="17806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45007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4359" y="17806"/>
                </a:lnTo>
                <a:lnTo>
                  <a:pt x="4359" y="3794"/>
                </a:lnTo>
                <a:close/>
              </a:path>
              <a:path fill="darken" w="22731" h="21600">
                <a:moveTo>
                  <a:pt x="16709" y="3794"/>
                </a:moveTo>
                <a:lnTo>
                  <a:pt x="16709" y="17806"/>
                </a:lnTo>
                <a:lnTo>
                  <a:pt x="18372" y="17806"/>
                </a:lnTo>
                <a:lnTo>
                  <a:pt x="18372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im8-tub-ru.yandex.net/i?id=479628148-64-72&amp;n=21"/>
          <p:cNvPicPr/>
          <p:nvPr/>
        </p:nvPicPr>
        <p:blipFill>
          <a:blip r:embed="rId2"/>
          <a:stretch/>
        </p:blipFill>
        <p:spPr>
          <a:xfrm>
            <a:off x="5000760" y="2428920"/>
            <a:ext cx="3071520" cy="29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http://im6-tub-ru.yandex.net/i?id=566648817-62-72&amp;n=21"/>
          <p:cNvPicPr/>
          <p:nvPr/>
        </p:nvPicPr>
        <p:blipFill>
          <a:blip r:embed="rId3"/>
          <a:stretch/>
        </p:blipFill>
        <p:spPr>
          <a:xfrm>
            <a:off x="928800" y="2357280"/>
            <a:ext cx="3214440" cy="3071880"/>
          </a:xfrm>
          <a:prstGeom prst="rect">
            <a:avLst/>
          </a:prstGeom>
          <a:ln w="0">
            <a:noFill/>
          </a:ln>
        </p:spPr>
      </p:pic>
      <p:sp>
        <p:nvSpPr>
          <p:cNvPr id="196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429000" y="6143760"/>
            <a:ext cx="571680" cy="47124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6200" h="21600">
                <a:moveTo>
                  <a:pt x="0" y="0"/>
                </a:moveTo>
                <a:lnTo>
                  <a:pt x="26200" y="0"/>
                </a:lnTo>
                <a:lnTo>
                  <a:pt x="26200" y="21600"/>
                </a:lnTo>
                <a:lnTo>
                  <a:pt x="0" y="21600"/>
                </a:lnTo>
                <a:close/>
              </a:path>
              <a:path fill="lightenLess" w="26200" h="21600">
                <a:moveTo>
                  <a:pt x="0" y="0"/>
                </a:moveTo>
                <a:lnTo>
                  <a:pt x="26200" y="0"/>
                </a:lnTo>
                <a:lnTo>
                  <a:pt x="24800" y="1400"/>
                </a:lnTo>
                <a:lnTo>
                  <a:pt x="1400" y="1400"/>
                </a:lnTo>
                <a:close/>
              </a:path>
              <a:path fill="darken" w="26200" h="21600">
                <a:moveTo>
                  <a:pt x="26200" y="0"/>
                </a:moveTo>
                <a:lnTo>
                  <a:pt x="26200" y="21600"/>
                </a:lnTo>
                <a:lnTo>
                  <a:pt x="24800" y="20200"/>
                </a:lnTo>
                <a:lnTo>
                  <a:pt x="24800" y="1400"/>
                </a:lnTo>
                <a:close/>
              </a:path>
              <a:path fill="darkenLess" w="26200" h="21600">
                <a:moveTo>
                  <a:pt x="26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00" y="20200"/>
                </a:lnTo>
                <a:close/>
              </a:path>
              <a:path fill="lighten" w="26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00" h="21600">
                <a:moveTo>
                  <a:pt x="6094" y="10800"/>
                </a:moveTo>
                <a:lnTo>
                  <a:pt x="20107" y="3794"/>
                </a:lnTo>
                <a:lnTo>
                  <a:pt x="20107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000680" y="6143760"/>
            <a:ext cx="571320" cy="4284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2857680" y="6143760"/>
            <a:ext cx="571320" cy="47124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6184" h="21600">
                <a:moveTo>
                  <a:pt x="0" y="0"/>
                </a:moveTo>
                <a:lnTo>
                  <a:pt x="26184" y="0"/>
                </a:lnTo>
                <a:lnTo>
                  <a:pt x="26184" y="21600"/>
                </a:lnTo>
                <a:lnTo>
                  <a:pt x="0" y="21600"/>
                </a:lnTo>
                <a:close/>
              </a:path>
              <a:path fill="lightenLess" w="26184" h="21600">
                <a:moveTo>
                  <a:pt x="0" y="0"/>
                </a:moveTo>
                <a:lnTo>
                  <a:pt x="26184" y="0"/>
                </a:lnTo>
                <a:lnTo>
                  <a:pt x="24784" y="1400"/>
                </a:lnTo>
                <a:lnTo>
                  <a:pt x="1400" y="1400"/>
                </a:lnTo>
                <a:close/>
              </a:path>
              <a:path fill="darken" w="26184" h="21600">
                <a:moveTo>
                  <a:pt x="26184" y="0"/>
                </a:moveTo>
                <a:lnTo>
                  <a:pt x="26184" y="21600"/>
                </a:lnTo>
                <a:lnTo>
                  <a:pt x="24784" y="20200"/>
                </a:lnTo>
                <a:lnTo>
                  <a:pt x="24784" y="1400"/>
                </a:lnTo>
                <a:close/>
              </a:path>
              <a:path fill="darkenLess" w="26184" h="21600">
                <a:moveTo>
                  <a:pt x="26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4" y="20200"/>
                </a:lnTo>
                <a:close/>
              </a:path>
              <a:path fill="lighten" w="26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4" h="21600">
                <a:moveTo>
                  <a:pt x="9593" y="10800"/>
                </a:moveTo>
                <a:lnTo>
                  <a:pt x="20098" y="3794"/>
                </a:lnTo>
                <a:lnTo>
                  <a:pt x="20098" y="17806"/>
                </a:lnTo>
                <a:close/>
              </a:path>
              <a:path fill="darken" w="26184" h="21600">
                <a:moveTo>
                  <a:pt x="6085" y="3794"/>
                </a:moveTo>
                <a:lnTo>
                  <a:pt x="7748" y="3794"/>
                </a:lnTo>
                <a:lnTo>
                  <a:pt x="7748" y="17806"/>
                </a:lnTo>
                <a:lnTo>
                  <a:pt x="6085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4572000" y="6143760"/>
            <a:ext cx="571680" cy="47124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6200" h="21600">
                <a:moveTo>
                  <a:pt x="0" y="0"/>
                </a:moveTo>
                <a:lnTo>
                  <a:pt x="26200" y="0"/>
                </a:lnTo>
                <a:lnTo>
                  <a:pt x="26200" y="21600"/>
                </a:lnTo>
                <a:lnTo>
                  <a:pt x="0" y="21600"/>
                </a:lnTo>
                <a:close/>
              </a:path>
              <a:path fill="lightenLess" w="26200" h="21600">
                <a:moveTo>
                  <a:pt x="0" y="0"/>
                </a:moveTo>
                <a:lnTo>
                  <a:pt x="26200" y="0"/>
                </a:lnTo>
                <a:lnTo>
                  <a:pt x="24800" y="1400"/>
                </a:lnTo>
                <a:lnTo>
                  <a:pt x="1400" y="1400"/>
                </a:lnTo>
                <a:close/>
              </a:path>
              <a:path fill="darken" w="26200" h="21600">
                <a:moveTo>
                  <a:pt x="26200" y="0"/>
                </a:moveTo>
                <a:lnTo>
                  <a:pt x="26200" y="21600"/>
                </a:lnTo>
                <a:lnTo>
                  <a:pt x="24800" y="20200"/>
                </a:lnTo>
                <a:lnTo>
                  <a:pt x="24800" y="1400"/>
                </a:lnTo>
                <a:close/>
              </a:path>
              <a:path fill="darkenLess" w="26200" h="21600">
                <a:moveTo>
                  <a:pt x="26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00" y="20200"/>
                </a:lnTo>
                <a:close/>
              </a:path>
              <a:path fill="lighten" w="26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00" h="21600">
                <a:moveTo>
                  <a:pt x="16599" y="10800"/>
                </a:moveTo>
                <a:lnTo>
                  <a:pt x="6094" y="17806"/>
                </a:lnTo>
                <a:lnTo>
                  <a:pt x="6094" y="3794"/>
                </a:lnTo>
                <a:close/>
              </a:path>
              <a:path fill="darken" w="26200" h="21600">
                <a:moveTo>
                  <a:pt x="18444" y="3794"/>
                </a:moveTo>
                <a:lnTo>
                  <a:pt x="18444" y="17806"/>
                </a:lnTo>
                <a:lnTo>
                  <a:pt x="20107" y="17806"/>
                </a:lnTo>
                <a:lnTo>
                  <a:pt x="20107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im6-tub-ru.yandex.net/i?id=263646838-21-72&amp;n=21"/>
          <p:cNvPicPr/>
          <p:nvPr/>
        </p:nvPicPr>
        <p:blipFill>
          <a:blip r:embed="rId2"/>
          <a:stretch/>
        </p:blipFill>
        <p:spPr>
          <a:xfrm>
            <a:off x="714240" y="1785960"/>
            <a:ext cx="3214800" cy="3500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://img-fotki.yandex.ru/get/4710/76689199.23/0_721b7_848fb87_XL"/>
          <p:cNvPicPr/>
          <p:nvPr/>
        </p:nvPicPr>
        <p:blipFill>
          <a:blip r:embed="rId3"/>
          <a:stretch/>
        </p:blipFill>
        <p:spPr>
          <a:xfrm>
            <a:off x="4643280" y="1785960"/>
            <a:ext cx="3781440" cy="3714840"/>
          </a:xfrm>
          <a:prstGeom prst="rect">
            <a:avLst/>
          </a:prstGeom>
          <a:ln w="0">
            <a:noFill/>
          </a:ln>
        </p:spPr>
      </p:pic>
      <p:sp>
        <p:nvSpPr>
          <p:cNvPr id="20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42900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00068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3794"/>
                </a:moveTo>
                <a:lnTo>
                  <a:pt x="18372" y="10800"/>
                </a:lnTo>
                <a:lnTo>
                  <a:pt x="435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2857680" y="6072120"/>
            <a:ext cx="542880" cy="542880"/>
          </a:xfrm>
          <a:custGeom>
            <a:avLst/>
            <a:gdLst>
              <a:gd name="textAreaLeft" fmla="*/ 34920 w 542880"/>
              <a:gd name="textAreaRight" fmla="*/ 507960 w 5428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457200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14871" y="10800"/>
                </a:moveTo>
                <a:lnTo>
                  <a:pt x="4366" y="17806"/>
                </a:lnTo>
                <a:lnTo>
                  <a:pt x="4366" y="3794"/>
                </a:lnTo>
                <a:close/>
              </a:path>
              <a:path fill="darken" w="22745" h="21600">
                <a:moveTo>
                  <a:pt x="16717" y="3794"/>
                </a:moveTo>
                <a:lnTo>
                  <a:pt x="16717" y="17806"/>
                </a:lnTo>
                <a:lnTo>
                  <a:pt x="18379" y="17806"/>
                </a:lnTo>
                <a:lnTo>
                  <a:pt x="18379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agrodacha.ru/files/domik1.jpg"/>
          <p:cNvPicPr/>
          <p:nvPr/>
        </p:nvPicPr>
        <p:blipFill>
          <a:blip r:embed="rId2"/>
          <a:stretch/>
        </p:blipFill>
        <p:spPr>
          <a:xfrm>
            <a:off x="1357200" y="1643040"/>
            <a:ext cx="6215040" cy="378612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2928960" y="600084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3500280" y="600084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2286000" y="6000840"/>
            <a:ext cx="642960" cy="542880"/>
          </a:xfrm>
          <a:custGeom>
            <a:avLst/>
            <a:gdLst>
              <a:gd name="textAreaLeft" fmla="*/ 34920 w 642960"/>
              <a:gd name="textAreaRight" fmla="*/ 608040 w 6429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5579" h="21600">
                <a:moveTo>
                  <a:pt x="0" y="0"/>
                </a:moveTo>
                <a:lnTo>
                  <a:pt x="25579" y="0"/>
                </a:lnTo>
                <a:lnTo>
                  <a:pt x="25579" y="21600"/>
                </a:lnTo>
                <a:lnTo>
                  <a:pt x="0" y="21600"/>
                </a:lnTo>
                <a:close/>
              </a:path>
              <a:path fill="lightenLess" w="25579" h="21600">
                <a:moveTo>
                  <a:pt x="0" y="0"/>
                </a:moveTo>
                <a:lnTo>
                  <a:pt x="25579" y="0"/>
                </a:lnTo>
                <a:lnTo>
                  <a:pt x="24179" y="1400"/>
                </a:lnTo>
                <a:lnTo>
                  <a:pt x="1400" y="1400"/>
                </a:lnTo>
                <a:close/>
              </a:path>
              <a:path fill="darken" w="25579" h="21600">
                <a:moveTo>
                  <a:pt x="25579" y="0"/>
                </a:moveTo>
                <a:lnTo>
                  <a:pt x="25579" y="21600"/>
                </a:lnTo>
                <a:lnTo>
                  <a:pt x="24179" y="20200"/>
                </a:lnTo>
                <a:lnTo>
                  <a:pt x="24179" y="1400"/>
                </a:lnTo>
                <a:close/>
              </a:path>
              <a:path fill="darkenLess" w="25579" h="21600">
                <a:moveTo>
                  <a:pt x="2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79" y="20200"/>
                </a:lnTo>
                <a:close/>
              </a:path>
              <a:path fill="lighten" w="2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79" h="21600">
                <a:moveTo>
                  <a:pt x="9291" y="10800"/>
                </a:moveTo>
                <a:lnTo>
                  <a:pt x="19796" y="3794"/>
                </a:lnTo>
                <a:lnTo>
                  <a:pt x="19796" y="17806"/>
                </a:lnTo>
                <a:close/>
              </a:path>
              <a:path fill="darken" w="25579" h="21600">
                <a:moveTo>
                  <a:pt x="5783" y="3794"/>
                </a:moveTo>
                <a:lnTo>
                  <a:pt x="7446" y="3794"/>
                </a:lnTo>
                <a:lnTo>
                  <a:pt x="7446" y="17806"/>
                </a:lnTo>
                <a:lnTo>
                  <a:pt x="5783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4071960" y="600084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4359" y="17806"/>
                </a:lnTo>
                <a:lnTo>
                  <a:pt x="4359" y="3794"/>
                </a:lnTo>
                <a:close/>
              </a:path>
              <a:path fill="darken" w="22731" h="21600">
                <a:moveTo>
                  <a:pt x="16709" y="3794"/>
                </a:moveTo>
                <a:lnTo>
                  <a:pt x="16709" y="17806"/>
                </a:lnTo>
                <a:lnTo>
                  <a:pt x="18372" y="17806"/>
                </a:lnTo>
                <a:lnTo>
                  <a:pt x="18372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://www.nashadoska.com/upload/normal/kiev_vollery_budki_dlya_zhivotnyh_3107.jpeg"/>
          <p:cNvPicPr/>
          <p:nvPr/>
        </p:nvPicPr>
        <p:blipFill>
          <a:blip r:embed="rId2"/>
          <a:stretch/>
        </p:blipFill>
        <p:spPr>
          <a:xfrm>
            <a:off x="1857240" y="2071800"/>
            <a:ext cx="5067360" cy="380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im6-tub-ru.yandex.net/i?id=132687579-66-72&amp;n=21"/>
          <p:cNvPicPr/>
          <p:nvPr/>
        </p:nvPicPr>
        <p:blipFill>
          <a:blip r:embed="rId3"/>
          <a:stretch/>
        </p:blipFill>
        <p:spPr>
          <a:xfrm>
            <a:off x="6357960" y="157176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2928960" y="614376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3500280" y="614376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Управляющая кнопка: в конец 6">
            <a:hlinkClick r:id="" action="ppaction://hlinkshowjump?jump=lastslide"/>
          </p:cNvPr>
          <p:cNvSpPr/>
          <p:nvPr/>
        </p:nvSpPr>
        <p:spPr>
          <a:xfrm>
            <a:off x="4071960" y="614376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4359" y="17806"/>
                </a:lnTo>
                <a:lnTo>
                  <a:pt x="4359" y="3794"/>
                </a:lnTo>
                <a:close/>
              </a:path>
              <a:path fill="darken" w="22731" h="21600">
                <a:moveTo>
                  <a:pt x="16709" y="3794"/>
                </a:moveTo>
                <a:lnTo>
                  <a:pt x="16709" y="17806"/>
                </a:lnTo>
                <a:lnTo>
                  <a:pt x="18372" y="17806"/>
                </a:lnTo>
                <a:lnTo>
                  <a:pt x="18372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Управляющая кнопка: в начало 7">
            <a:hlinkClick r:id="" action="ppaction://hlinkshowjump?jump=firstslide"/>
          </p:cNvPr>
          <p:cNvSpPr/>
          <p:nvPr/>
        </p:nvSpPr>
        <p:spPr>
          <a:xfrm>
            <a:off x="2357280" y="614376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7874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6028" y="3794"/>
                </a:lnTo>
                <a:lnTo>
                  <a:pt x="6028" y="17806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pentruanimale.ro/images/cos-rachita-captusit-caini-pisici.png"/>
          <p:cNvPicPr/>
          <p:nvPr/>
        </p:nvPicPr>
        <p:blipFill>
          <a:blip r:embed="rId2"/>
          <a:stretch/>
        </p:blipFill>
        <p:spPr>
          <a:xfrm>
            <a:off x="1571760" y="1714680"/>
            <a:ext cx="564336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2571840" y="600084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3143160" y="600084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Управляющая кнопка: в начало 5">
            <a:hlinkClick r:id="" action="ppaction://hlinkshowjump?jump=firstslide"/>
          </p:cNvPr>
          <p:cNvSpPr/>
          <p:nvPr/>
        </p:nvSpPr>
        <p:spPr>
          <a:xfrm>
            <a:off x="2000160" y="600084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7874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6028" y="3794"/>
                </a:lnTo>
                <a:lnTo>
                  <a:pt x="6028" y="17806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Управляющая кнопка: в конец 6">
            <a:hlinkClick r:id="" action="ppaction://hlinkshowjump?jump=lastslide"/>
          </p:cNvPr>
          <p:cNvSpPr/>
          <p:nvPr/>
        </p:nvSpPr>
        <p:spPr>
          <a:xfrm>
            <a:off x="3714840" y="600084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4359" y="17806"/>
                </a:lnTo>
                <a:lnTo>
                  <a:pt x="4359" y="3794"/>
                </a:lnTo>
                <a:close/>
              </a:path>
              <a:path fill="darken" w="22731" h="21600">
                <a:moveTo>
                  <a:pt x="16709" y="3794"/>
                </a:moveTo>
                <a:lnTo>
                  <a:pt x="16709" y="17806"/>
                </a:lnTo>
                <a:lnTo>
                  <a:pt x="18372" y="17806"/>
                </a:lnTo>
                <a:lnTo>
                  <a:pt x="18372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7:55:26Z</dcterms:created>
  <dc:creator>Солоповы</dc:creator>
  <dc:description/>
  <dc:language>en-US</dc:language>
  <cp:lastModifiedBy>Солоповы</cp:lastModifiedBy>
  <dcterms:modified xsi:type="dcterms:W3CDTF">2013-10-09T19:17:06Z</dcterms:modified>
  <cp:revision>8</cp:revision>
  <dc:subject/>
  <dc:title>Домашние животные</dc:title>
</cp:coreProperties>
</file>