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5.png" ContentType="image/png"/>
  <Override PartName="/ppt/media/image15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156-2D5C-40F2-ABD4-58309271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7B3-8740-416E-84AA-F7949C99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212-DA0D-4C65-A9E5-7512DC16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8D1-6651-4E3B-AB4B-DEB01CC4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7D7E9-02A4-47A7-954F-45059BB2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4BA42-37F0-43FF-98EB-C667AF77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92F78-9AD2-4E46-900A-2A2D7542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997DF-2A26-4602-AF6F-C3958705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3CE03-0AF8-4ACD-A40B-2527B794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88720-D9B3-4417-A37F-EC58C82C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B1B90-6840-4549-BC77-9A980224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C73F-B468-4492-BF70-6107ABDF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1921E-3DE6-458F-A7EA-89EC891F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FDCC5-F787-4E94-B695-4B493551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D65AA-C46D-4600-926B-78891312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9C21C-11DE-4315-9A3F-44D6755F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E85B3-8C65-4A9E-B227-ABF17447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620E5-C1C3-4EE2-8257-454EF906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514A5-0811-4B01-9E0D-BA552EFE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9010-A62E-4E93-AE7E-9DA52E8A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314F4-8349-4518-B09F-20957EF6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8785A-7055-4750-9347-CC7461B3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6275-A36F-4B81-9082-2BAE8F96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B46D9-17AE-46D5-A481-6CCC48C5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699C1-2D91-45E7-8EE8-30613F82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345DC-9347-495C-B95D-39F4E17E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66C31-27CB-4892-8977-EF4C2255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B6F53-29CF-4C3B-AA2B-71FFB5CD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FC105-854D-446D-AF61-AAB50178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5EA8D-2F98-4307-8208-5E165812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EF9A8E-C767-4739-A3B3-B7957541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977B3B-E7AA-4AB4-9E7F-10D96FAC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E15158-A0F6-4D50-9D62-D69E91AC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5AC-CB5C-4D42-8ABD-EC37665B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2388C6-8718-407F-975C-7310658A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8A9909-0BB0-4DC7-AEB9-430972FF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25343E-B604-45B7-A56A-6981A9BA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8FC7FE-00A7-4737-9F2F-26571E19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63A99A-1CA2-4E63-A0C9-3EF51D80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88086E-568D-46E1-A812-BB3415AE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FFFEA7-2307-44D7-833D-A53E42B8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8E6155-0317-4C69-BCDD-5BC47B50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01EFF2-B312-4BD3-B621-B54A94EF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900-687F-441A-AD44-447D6F69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49B-F353-4A5E-857E-BC990FF2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5C5F-6D17-4BCD-9B67-CE758D4E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980-DEC7-42B2-A826-2928D374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7EDF-9D3E-4EDB-A9A0-26765764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FACF-75D1-4F35-B96A-AE50DAE6EA0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70E7-BDD2-414C-8F73-C3E935897F5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D971-7B2C-4352-86C6-9FFDD9B0796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70BA-DB41-4D7E-B897-2C3B9316E01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20840" y="463680"/>
            <a:ext cx="8321400" cy="968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media.puzzle.de/media/catalog/product/r/_/r_06777_1.jpg"/>
          <p:cNvPicPr/>
          <p:nvPr/>
        </p:nvPicPr>
        <p:blipFill>
          <a:blip r:embed="rId2"/>
          <a:stretch/>
        </p:blipFill>
        <p:spPr>
          <a:xfrm>
            <a:off x="1071720" y="1428840"/>
            <a:ext cx="72151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5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http://im0-tub-ru.yandex.net/i?id=114760729-42-72&amp;n=21"/>
          <p:cNvPicPr/>
          <p:nvPr/>
        </p:nvPicPr>
        <p:blipFill>
          <a:blip r:embed="rId2"/>
          <a:stretch/>
        </p:blipFill>
        <p:spPr>
          <a:xfrm>
            <a:off x="285840" y="1428840"/>
            <a:ext cx="4357440" cy="3857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http://im3-tub-ru.yandex.net/i?id=1755662-09-72&amp;n=21"/>
          <p:cNvPicPr/>
          <p:nvPr/>
        </p:nvPicPr>
        <p:blipFill>
          <a:blip r:embed="rId3"/>
          <a:stretch/>
        </p:blipFill>
        <p:spPr>
          <a:xfrm>
            <a:off x="4714920" y="1357200"/>
            <a:ext cx="3929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ttp://img02.darudar.org/s600/00/01/04/38/0438b272fa1e0ba02abe0f1426540b2b.jpg"/>
          <p:cNvPicPr/>
          <p:nvPr/>
        </p:nvPicPr>
        <p:blipFill>
          <a:blip r:embed="rId2"/>
          <a:stretch/>
        </p:blipFill>
        <p:spPr>
          <a:xfrm>
            <a:off x="1571760" y="1428840"/>
            <a:ext cx="6072120" cy="5072040"/>
          </a:xfrm>
          <a:prstGeom prst="rect">
            <a:avLst/>
          </a:prstGeom>
          <a:ln w="0">
            <a:noFill/>
          </a:ln>
        </p:spPr>
      </p:pic>
      <p:sp>
        <p:nvSpPr>
          <p:cNvPr id="175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4000680" y="614376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4359" y="10800"/>
                </a:moveTo>
                <a:lnTo>
                  <a:pt x="18372" y="3794"/>
                </a:lnTo>
                <a:lnTo>
                  <a:pt x="18372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4572000" y="614376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18379" y="10800"/>
                </a:lnTo>
                <a:lnTo>
                  <a:pt x="4366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Управляющая кнопка: в начало 5">
            <a:hlinkClick r:id="" action="ppaction://hlinkshowjump?jump=firstslide"/>
          </p:cNvPr>
          <p:cNvSpPr/>
          <p:nvPr/>
        </p:nvSpPr>
        <p:spPr>
          <a:xfrm>
            <a:off x="3429000" y="614376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7874" y="10800"/>
                </a:moveTo>
                <a:lnTo>
                  <a:pt x="18379" y="3794"/>
                </a:lnTo>
                <a:lnTo>
                  <a:pt x="18379" y="17806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6028" y="3794"/>
                </a:lnTo>
                <a:lnTo>
                  <a:pt x="6028" y="17806"/>
                </a:lnTo>
                <a:lnTo>
                  <a:pt x="4366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Управляющая кнопка: в конец 6">
            <a:hlinkClick r:id="" action="ppaction://hlinkshowjump?jump=lastslide"/>
          </p:cNvPr>
          <p:cNvSpPr/>
          <p:nvPr/>
        </p:nvSpPr>
        <p:spPr>
          <a:xfrm>
            <a:off x="5143680" y="6143760"/>
            <a:ext cx="500040" cy="5428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42880"/>
              <a:gd name="textAreaBottom" fmla="*/ 510480 h 542880"/>
            </a:gdLst>
            <a:ahLst/>
            <a:rect l="textAreaLeft" t="textAreaTop" r="textAreaRight" b="textAreaBottom"/>
            <a:pathLst>
              <a:path w="21600" h="23449">
                <a:moveTo>
                  <a:pt x="0" y="0"/>
                </a:moveTo>
                <a:lnTo>
                  <a:pt x="21600" y="0"/>
                </a:lnTo>
                <a:lnTo>
                  <a:pt x="21600" y="23449"/>
                </a:lnTo>
                <a:lnTo>
                  <a:pt x="0" y="23449"/>
                </a:lnTo>
                <a:close/>
              </a:path>
              <a:path fill="lightenLess" w="21600" h="234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9">
                <a:moveTo>
                  <a:pt x="21600" y="0"/>
                </a:moveTo>
                <a:lnTo>
                  <a:pt x="21600" y="23449"/>
                </a:lnTo>
                <a:lnTo>
                  <a:pt x="20200" y="22049"/>
                </a:lnTo>
                <a:lnTo>
                  <a:pt x="20200" y="1400"/>
                </a:lnTo>
                <a:close/>
              </a:path>
              <a:path fill="darkenLess" w="21600" h="23449">
                <a:moveTo>
                  <a:pt x="21600" y="23449"/>
                </a:moveTo>
                <a:lnTo>
                  <a:pt x="0" y="23449"/>
                </a:lnTo>
                <a:lnTo>
                  <a:pt x="1400" y="22049"/>
                </a:lnTo>
                <a:lnTo>
                  <a:pt x="20200" y="22049"/>
                </a:lnTo>
                <a:close/>
              </a:path>
              <a:path fill="lighten" w="21600" h="23449">
                <a:moveTo>
                  <a:pt x="0" y="234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9"/>
                </a:lnTo>
                <a:close/>
              </a:path>
              <a:path fill="darken" w="21600" h="23449">
                <a:moveTo>
                  <a:pt x="14299" y="11725"/>
                </a:moveTo>
                <a:lnTo>
                  <a:pt x="3794" y="18731"/>
                </a:lnTo>
                <a:lnTo>
                  <a:pt x="3794" y="4718"/>
                </a:lnTo>
                <a:close/>
              </a:path>
              <a:path fill="darken" w="21600" h="23449">
                <a:moveTo>
                  <a:pt x="16144" y="4718"/>
                </a:moveTo>
                <a:lnTo>
                  <a:pt x="16144" y="18731"/>
                </a:lnTo>
                <a:lnTo>
                  <a:pt x="17806" y="18731"/>
                </a:lnTo>
                <a:lnTo>
                  <a:pt x="17806" y="4718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im2-tub-ru.yandex.net/i?id=207291272-15-72&amp;n=21"/>
          <p:cNvPicPr/>
          <p:nvPr/>
        </p:nvPicPr>
        <p:blipFill>
          <a:blip r:embed="rId2"/>
          <a:stretch/>
        </p:blipFill>
        <p:spPr>
          <a:xfrm>
            <a:off x="1000080" y="1928880"/>
            <a:ext cx="3286080" cy="3143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http://im2-tub-ru.yandex.net/i?id=342315793-62-72&amp;n=21"/>
          <p:cNvPicPr/>
          <p:nvPr/>
        </p:nvPicPr>
        <p:blipFill>
          <a:blip r:embed="rId3"/>
          <a:stretch/>
        </p:blipFill>
        <p:spPr>
          <a:xfrm>
            <a:off x="5000760" y="1928880"/>
            <a:ext cx="3429000" cy="3143160"/>
          </a:xfrm>
          <a:prstGeom prst="rect">
            <a:avLst/>
          </a:prstGeom>
          <a:ln w="0">
            <a:noFill/>
          </a:ln>
        </p:spPr>
      </p:pic>
      <p:sp>
        <p:nvSpPr>
          <p:cNvPr id="182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929040" y="607212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4366" y="10800"/>
                </a:moveTo>
                <a:lnTo>
                  <a:pt x="18379" y="3794"/>
                </a:lnTo>
                <a:lnTo>
                  <a:pt x="1837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4500720" y="607212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4359" y="3794"/>
                </a:moveTo>
                <a:lnTo>
                  <a:pt x="18372" y="10800"/>
                </a:lnTo>
                <a:lnTo>
                  <a:pt x="435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Управляющая кнопка: в начало 6">
            <a:hlinkClick r:id="" action="ppaction://hlinkshowjump?jump=firstslide"/>
          </p:cNvPr>
          <p:cNvSpPr/>
          <p:nvPr/>
        </p:nvSpPr>
        <p:spPr>
          <a:xfrm>
            <a:off x="3357720" y="607212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7867" y="10800"/>
                </a:moveTo>
                <a:lnTo>
                  <a:pt x="18372" y="3794"/>
                </a:lnTo>
                <a:lnTo>
                  <a:pt x="18372" y="17806"/>
                </a:lnTo>
                <a:close/>
              </a:path>
              <a:path fill="darken" w="22731" h="21600">
                <a:moveTo>
                  <a:pt x="4359" y="3794"/>
                </a:moveTo>
                <a:lnTo>
                  <a:pt x="6021" y="3794"/>
                </a:lnTo>
                <a:lnTo>
                  <a:pt x="6021" y="17806"/>
                </a:lnTo>
                <a:lnTo>
                  <a:pt x="435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Управляющая кнопка: в конец 7">
            <a:hlinkClick r:id="" action="ppaction://hlinkshowjump?jump=lastslide"/>
          </p:cNvPr>
          <p:cNvSpPr/>
          <p:nvPr/>
        </p:nvSpPr>
        <p:spPr>
          <a:xfrm>
            <a:off x="5072040" y="607212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14871" y="10800"/>
                </a:moveTo>
                <a:lnTo>
                  <a:pt x="4366" y="17806"/>
                </a:lnTo>
                <a:lnTo>
                  <a:pt x="4366" y="3794"/>
                </a:lnTo>
                <a:close/>
              </a:path>
              <a:path fill="darken" w="22745" h="21600">
                <a:moveTo>
                  <a:pt x="16717" y="3794"/>
                </a:moveTo>
                <a:lnTo>
                  <a:pt x="16717" y="17806"/>
                </a:lnTo>
                <a:lnTo>
                  <a:pt x="18379" y="17806"/>
                </a:lnTo>
                <a:lnTo>
                  <a:pt x="18379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im5-tub-ru.yandex.net/i?id=203715874-39-72&amp;n=21"/>
          <p:cNvPicPr/>
          <p:nvPr/>
        </p:nvPicPr>
        <p:blipFill>
          <a:blip r:embed="rId2"/>
          <a:stretch/>
        </p:blipFill>
        <p:spPr>
          <a:xfrm>
            <a:off x="285840" y="2000160"/>
            <a:ext cx="3929040" cy="3357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http://im0-tub-ru.yandex.net/i?id=516141628-52-72&amp;n=21"/>
          <p:cNvPicPr/>
          <p:nvPr/>
        </p:nvPicPr>
        <p:blipFill>
          <a:blip r:embed="rId3"/>
          <a:stretch/>
        </p:blipFill>
        <p:spPr>
          <a:xfrm>
            <a:off x="4786200" y="2071800"/>
            <a:ext cx="3429000" cy="3214440"/>
          </a:xfrm>
          <a:prstGeom prst="rect">
            <a:avLst/>
          </a:prstGeom>
          <a:ln w="0">
            <a:noFill/>
          </a:ln>
        </p:spPr>
      </p:pic>
      <p:sp>
        <p:nvSpPr>
          <p:cNvPr id="189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357720" y="607212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4359" y="10800"/>
                </a:moveTo>
                <a:lnTo>
                  <a:pt x="18372" y="3794"/>
                </a:lnTo>
                <a:lnTo>
                  <a:pt x="18372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3929040" y="607212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18379" y="10800"/>
                </a:lnTo>
                <a:lnTo>
                  <a:pt x="4366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Управляющая кнопка: в начало 6">
            <a:hlinkClick r:id="" action="ppaction://hlinkshowjump?jump=firstslide"/>
          </p:cNvPr>
          <p:cNvSpPr/>
          <p:nvPr/>
        </p:nvSpPr>
        <p:spPr>
          <a:xfrm>
            <a:off x="2786040" y="607212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7874" y="10800"/>
                </a:moveTo>
                <a:lnTo>
                  <a:pt x="18379" y="3794"/>
                </a:lnTo>
                <a:lnTo>
                  <a:pt x="18379" y="17806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6028" y="3794"/>
                </a:lnTo>
                <a:lnTo>
                  <a:pt x="6028" y="17806"/>
                </a:lnTo>
                <a:lnTo>
                  <a:pt x="4366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Управляющая кнопка: в конец 7">
            <a:hlinkClick r:id="" action="ppaction://hlinkshowjump?jump=lastslide"/>
          </p:cNvPr>
          <p:cNvSpPr/>
          <p:nvPr/>
        </p:nvSpPr>
        <p:spPr>
          <a:xfrm>
            <a:off x="4500720" y="607212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14864" y="10800"/>
                </a:moveTo>
                <a:lnTo>
                  <a:pt x="4359" y="17806"/>
                </a:lnTo>
                <a:lnTo>
                  <a:pt x="4359" y="3794"/>
                </a:lnTo>
                <a:close/>
              </a:path>
              <a:path fill="darken" w="22731" h="21600">
                <a:moveTo>
                  <a:pt x="16709" y="3794"/>
                </a:moveTo>
                <a:lnTo>
                  <a:pt x="16709" y="17806"/>
                </a:lnTo>
                <a:lnTo>
                  <a:pt x="18372" y="17806"/>
                </a:lnTo>
                <a:lnTo>
                  <a:pt x="18372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im8-tub-ru.yandex.net/i?id=479628148-64-72&amp;n=21"/>
          <p:cNvPicPr/>
          <p:nvPr/>
        </p:nvPicPr>
        <p:blipFill>
          <a:blip r:embed="rId2"/>
          <a:stretch/>
        </p:blipFill>
        <p:spPr>
          <a:xfrm>
            <a:off x="5000760" y="2428920"/>
            <a:ext cx="3071520" cy="292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http://im6-tub-ru.yandex.net/i?id=566648817-62-72&amp;n=21"/>
          <p:cNvPicPr/>
          <p:nvPr/>
        </p:nvPicPr>
        <p:blipFill>
          <a:blip r:embed="rId3"/>
          <a:stretch/>
        </p:blipFill>
        <p:spPr>
          <a:xfrm>
            <a:off x="928800" y="2357280"/>
            <a:ext cx="3214440" cy="3071880"/>
          </a:xfrm>
          <a:prstGeom prst="rect">
            <a:avLst/>
          </a:prstGeom>
          <a:ln w="0">
            <a:noFill/>
          </a:ln>
        </p:spPr>
      </p:pic>
      <p:sp>
        <p:nvSpPr>
          <p:cNvPr id="196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429000" y="6143760"/>
            <a:ext cx="571680" cy="47124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240"/>
              <a:gd name="textAreaBottom" fmla="*/ 441000 h 471240"/>
            </a:gdLst>
            <a:ahLst/>
            <a:rect l="textAreaLeft" t="textAreaTop" r="textAreaRight" b="textAreaBottom"/>
            <a:pathLst>
              <a:path w="26200" h="21600">
                <a:moveTo>
                  <a:pt x="0" y="0"/>
                </a:moveTo>
                <a:lnTo>
                  <a:pt x="26200" y="0"/>
                </a:lnTo>
                <a:lnTo>
                  <a:pt x="26200" y="21600"/>
                </a:lnTo>
                <a:lnTo>
                  <a:pt x="0" y="21600"/>
                </a:lnTo>
                <a:close/>
              </a:path>
              <a:path fill="lightenLess" w="26200" h="21600">
                <a:moveTo>
                  <a:pt x="0" y="0"/>
                </a:moveTo>
                <a:lnTo>
                  <a:pt x="26200" y="0"/>
                </a:lnTo>
                <a:lnTo>
                  <a:pt x="24800" y="1400"/>
                </a:lnTo>
                <a:lnTo>
                  <a:pt x="1400" y="1400"/>
                </a:lnTo>
                <a:close/>
              </a:path>
              <a:path fill="darken" w="26200" h="21600">
                <a:moveTo>
                  <a:pt x="26200" y="0"/>
                </a:moveTo>
                <a:lnTo>
                  <a:pt x="26200" y="21600"/>
                </a:lnTo>
                <a:lnTo>
                  <a:pt x="24800" y="20200"/>
                </a:lnTo>
                <a:lnTo>
                  <a:pt x="24800" y="1400"/>
                </a:lnTo>
                <a:close/>
              </a:path>
              <a:path fill="darkenLess" w="26200" h="21600">
                <a:moveTo>
                  <a:pt x="26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00" y="20200"/>
                </a:lnTo>
                <a:close/>
              </a:path>
              <a:path fill="lighten" w="26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00" h="21600">
                <a:moveTo>
                  <a:pt x="6094" y="10800"/>
                </a:moveTo>
                <a:lnTo>
                  <a:pt x="20107" y="3794"/>
                </a:lnTo>
                <a:lnTo>
                  <a:pt x="20107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4000680" y="6143760"/>
            <a:ext cx="571320" cy="42840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Управляющая кнопка: в начало 6">
            <a:hlinkClick r:id="" action="ppaction://hlinkshowjump?jump=firstslide"/>
          </p:cNvPr>
          <p:cNvSpPr/>
          <p:nvPr/>
        </p:nvSpPr>
        <p:spPr>
          <a:xfrm>
            <a:off x="2857680" y="6143760"/>
            <a:ext cx="571320" cy="47124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240"/>
              <a:gd name="textAreaBottom" fmla="*/ 441000 h 471240"/>
            </a:gdLst>
            <a:ahLst/>
            <a:rect l="textAreaLeft" t="textAreaTop" r="textAreaRight" b="textAreaBottom"/>
            <a:pathLst>
              <a:path w="26184" h="21600">
                <a:moveTo>
                  <a:pt x="0" y="0"/>
                </a:moveTo>
                <a:lnTo>
                  <a:pt x="26184" y="0"/>
                </a:lnTo>
                <a:lnTo>
                  <a:pt x="26184" y="21600"/>
                </a:lnTo>
                <a:lnTo>
                  <a:pt x="0" y="21600"/>
                </a:lnTo>
                <a:close/>
              </a:path>
              <a:path fill="lightenLess" w="26184" h="21600">
                <a:moveTo>
                  <a:pt x="0" y="0"/>
                </a:moveTo>
                <a:lnTo>
                  <a:pt x="26184" y="0"/>
                </a:lnTo>
                <a:lnTo>
                  <a:pt x="24784" y="1400"/>
                </a:lnTo>
                <a:lnTo>
                  <a:pt x="1400" y="1400"/>
                </a:lnTo>
                <a:close/>
              </a:path>
              <a:path fill="darken" w="26184" h="21600">
                <a:moveTo>
                  <a:pt x="26184" y="0"/>
                </a:moveTo>
                <a:lnTo>
                  <a:pt x="26184" y="21600"/>
                </a:lnTo>
                <a:lnTo>
                  <a:pt x="24784" y="20200"/>
                </a:lnTo>
                <a:lnTo>
                  <a:pt x="24784" y="1400"/>
                </a:lnTo>
                <a:close/>
              </a:path>
              <a:path fill="darkenLess" w="26184" h="21600">
                <a:moveTo>
                  <a:pt x="26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4" y="20200"/>
                </a:lnTo>
                <a:close/>
              </a:path>
              <a:path fill="lighten" w="26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4" h="21600">
                <a:moveTo>
                  <a:pt x="9593" y="10800"/>
                </a:moveTo>
                <a:lnTo>
                  <a:pt x="20098" y="3794"/>
                </a:lnTo>
                <a:lnTo>
                  <a:pt x="20098" y="17806"/>
                </a:lnTo>
                <a:close/>
              </a:path>
              <a:path fill="darken" w="26184" h="21600">
                <a:moveTo>
                  <a:pt x="6085" y="3794"/>
                </a:moveTo>
                <a:lnTo>
                  <a:pt x="7748" y="3794"/>
                </a:lnTo>
                <a:lnTo>
                  <a:pt x="7748" y="17806"/>
                </a:lnTo>
                <a:lnTo>
                  <a:pt x="6085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Управляющая кнопка: в конец 7">
            <a:hlinkClick r:id="" action="ppaction://hlinkshowjump?jump=lastslide"/>
          </p:cNvPr>
          <p:cNvSpPr/>
          <p:nvPr/>
        </p:nvSpPr>
        <p:spPr>
          <a:xfrm>
            <a:off x="4572000" y="6143760"/>
            <a:ext cx="571680" cy="47124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240"/>
              <a:gd name="textAreaBottom" fmla="*/ 441000 h 471240"/>
            </a:gdLst>
            <a:ahLst/>
            <a:rect l="textAreaLeft" t="textAreaTop" r="textAreaRight" b="textAreaBottom"/>
            <a:pathLst>
              <a:path w="26200" h="21600">
                <a:moveTo>
                  <a:pt x="0" y="0"/>
                </a:moveTo>
                <a:lnTo>
                  <a:pt x="26200" y="0"/>
                </a:lnTo>
                <a:lnTo>
                  <a:pt x="26200" y="21600"/>
                </a:lnTo>
                <a:lnTo>
                  <a:pt x="0" y="21600"/>
                </a:lnTo>
                <a:close/>
              </a:path>
              <a:path fill="lightenLess" w="26200" h="21600">
                <a:moveTo>
                  <a:pt x="0" y="0"/>
                </a:moveTo>
                <a:lnTo>
                  <a:pt x="26200" y="0"/>
                </a:lnTo>
                <a:lnTo>
                  <a:pt x="24800" y="1400"/>
                </a:lnTo>
                <a:lnTo>
                  <a:pt x="1400" y="1400"/>
                </a:lnTo>
                <a:close/>
              </a:path>
              <a:path fill="darken" w="26200" h="21600">
                <a:moveTo>
                  <a:pt x="26200" y="0"/>
                </a:moveTo>
                <a:lnTo>
                  <a:pt x="26200" y="21600"/>
                </a:lnTo>
                <a:lnTo>
                  <a:pt x="24800" y="20200"/>
                </a:lnTo>
                <a:lnTo>
                  <a:pt x="24800" y="1400"/>
                </a:lnTo>
                <a:close/>
              </a:path>
              <a:path fill="darkenLess" w="26200" h="21600">
                <a:moveTo>
                  <a:pt x="26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00" y="20200"/>
                </a:lnTo>
                <a:close/>
              </a:path>
              <a:path fill="lighten" w="26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00" h="21600">
                <a:moveTo>
                  <a:pt x="16599" y="10800"/>
                </a:moveTo>
                <a:lnTo>
                  <a:pt x="6094" y="17806"/>
                </a:lnTo>
                <a:lnTo>
                  <a:pt x="6094" y="3794"/>
                </a:lnTo>
                <a:close/>
              </a:path>
              <a:path fill="darken" w="26200" h="21600">
                <a:moveTo>
                  <a:pt x="18444" y="3794"/>
                </a:moveTo>
                <a:lnTo>
                  <a:pt x="18444" y="17806"/>
                </a:lnTo>
                <a:lnTo>
                  <a:pt x="20107" y="17806"/>
                </a:lnTo>
                <a:lnTo>
                  <a:pt x="20107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ttp://im6-tub-ru.yandex.net/i?id=263646838-21-72&amp;n=21"/>
          <p:cNvPicPr/>
          <p:nvPr/>
        </p:nvPicPr>
        <p:blipFill>
          <a:blip r:embed="rId2"/>
          <a:stretch/>
        </p:blipFill>
        <p:spPr>
          <a:xfrm>
            <a:off x="714240" y="1785960"/>
            <a:ext cx="3214800" cy="3500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http://img-fotki.yandex.ru/get/4710/76689199.23/0_721b7_848fb87_XL"/>
          <p:cNvPicPr/>
          <p:nvPr/>
        </p:nvPicPr>
        <p:blipFill>
          <a:blip r:embed="rId3"/>
          <a:stretch/>
        </p:blipFill>
        <p:spPr>
          <a:xfrm>
            <a:off x="4643280" y="1785960"/>
            <a:ext cx="3781440" cy="3714840"/>
          </a:xfrm>
          <a:prstGeom prst="rect">
            <a:avLst/>
          </a:prstGeom>
          <a:ln w="0">
            <a:noFill/>
          </a:ln>
        </p:spPr>
      </p:pic>
      <p:sp>
        <p:nvSpPr>
          <p:cNvPr id="203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429000" y="607212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4366" y="10800"/>
                </a:moveTo>
                <a:lnTo>
                  <a:pt x="18379" y="3794"/>
                </a:lnTo>
                <a:lnTo>
                  <a:pt x="1837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4000680" y="607212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4359" y="3794"/>
                </a:moveTo>
                <a:lnTo>
                  <a:pt x="18372" y="10800"/>
                </a:lnTo>
                <a:lnTo>
                  <a:pt x="4359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Управляющая кнопка: в начало 6">
            <a:hlinkClick r:id="" action="ppaction://hlinkshowjump?jump=firstslide"/>
          </p:cNvPr>
          <p:cNvSpPr/>
          <p:nvPr/>
        </p:nvSpPr>
        <p:spPr>
          <a:xfrm>
            <a:off x="2857680" y="6072120"/>
            <a:ext cx="542880" cy="542880"/>
          </a:xfrm>
          <a:custGeom>
            <a:avLst/>
            <a:gdLst>
              <a:gd name="textAreaLeft" fmla="*/ 34920 w 542880"/>
              <a:gd name="textAreaRight" fmla="*/ 507960 w 5428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Управляющая кнопка: в конец 7">
            <a:hlinkClick r:id="" action="ppaction://hlinkshowjump?jump=lastslide"/>
          </p:cNvPr>
          <p:cNvSpPr/>
          <p:nvPr/>
        </p:nvSpPr>
        <p:spPr>
          <a:xfrm>
            <a:off x="4572000" y="607212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14871" y="10800"/>
                </a:moveTo>
                <a:lnTo>
                  <a:pt x="4366" y="17806"/>
                </a:lnTo>
                <a:lnTo>
                  <a:pt x="4366" y="3794"/>
                </a:lnTo>
                <a:close/>
              </a:path>
              <a:path fill="darken" w="22745" h="21600">
                <a:moveTo>
                  <a:pt x="16717" y="3794"/>
                </a:moveTo>
                <a:lnTo>
                  <a:pt x="16717" y="17806"/>
                </a:lnTo>
                <a:lnTo>
                  <a:pt x="18379" y="17806"/>
                </a:lnTo>
                <a:lnTo>
                  <a:pt x="18379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ttp://agrodacha.ru/files/domik1.jpg"/>
          <p:cNvPicPr/>
          <p:nvPr/>
        </p:nvPicPr>
        <p:blipFill>
          <a:blip r:embed="rId2"/>
          <a:stretch/>
        </p:blipFill>
        <p:spPr>
          <a:xfrm>
            <a:off x="1357200" y="1643040"/>
            <a:ext cx="6215040" cy="3786120"/>
          </a:xfrm>
          <a:prstGeom prst="rect">
            <a:avLst/>
          </a:prstGeom>
          <a:ln w="0">
            <a:noFill/>
          </a:ln>
        </p:spPr>
      </p:pic>
      <p:sp>
        <p:nvSpPr>
          <p:cNvPr id="209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2928960" y="600084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4359" y="10800"/>
                </a:moveTo>
                <a:lnTo>
                  <a:pt x="18372" y="3794"/>
                </a:lnTo>
                <a:lnTo>
                  <a:pt x="18372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3500280" y="600084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18379" y="10800"/>
                </a:lnTo>
                <a:lnTo>
                  <a:pt x="4366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Управляющая кнопка: в начало 6">
            <a:hlinkClick r:id="" action="ppaction://hlinkshowjump?jump=firstslide"/>
          </p:cNvPr>
          <p:cNvSpPr/>
          <p:nvPr/>
        </p:nvSpPr>
        <p:spPr>
          <a:xfrm>
            <a:off x="2286000" y="6000840"/>
            <a:ext cx="642960" cy="542880"/>
          </a:xfrm>
          <a:custGeom>
            <a:avLst/>
            <a:gdLst>
              <a:gd name="textAreaLeft" fmla="*/ 34920 w 642960"/>
              <a:gd name="textAreaRight" fmla="*/ 608040 w 64296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5579" h="21600">
                <a:moveTo>
                  <a:pt x="0" y="0"/>
                </a:moveTo>
                <a:lnTo>
                  <a:pt x="25579" y="0"/>
                </a:lnTo>
                <a:lnTo>
                  <a:pt x="25579" y="21600"/>
                </a:lnTo>
                <a:lnTo>
                  <a:pt x="0" y="21600"/>
                </a:lnTo>
                <a:close/>
              </a:path>
              <a:path fill="lightenLess" w="25579" h="21600">
                <a:moveTo>
                  <a:pt x="0" y="0"/>
                </a:moveTo>
                <a:lnTo>
                  <a:pt x="25579" y="0"/>
                </a:lnTo>
                <a:lnTo>
                  <a:pt x="24179" y="1400"/>
                </a:lnTo>
                <a:lnTo>
                  <a:pt x="1400" y="1400"/>
                </a:lnTo>
                <a:close/>
              </a:path>
              <a:path fill="darken" w="25579" h="21600">
                <a:moveTo>
                  <a:pt x="25579" y="0"/>
                </a:moveTo>
                <a:lnTo>
                  <a:pt x="25579" y="21600"/>
                </a:lnTo>
                <a:lnTo>
                  <a:pt x="24179" y="20200"/>
                </a:lnTo>
                <a:lnTo>
                  <a:pt x="24179" y="1400"/>
                </a:lnTo>
                <a:close/>
              </a:path>
              <a:path fill="darkenLess" w="25579" h="21600">
                <a:moveTo>
                  <a:pt x="2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79" y="20200"/>
                </a:lnTo>
                <a:close/>
              </a:path>
              <a:path fill="lighten" w="2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79" h="21600">
                <a:moveTo>
                  <a:pt x="9291" y="10800"/>
                </a:moveTo>
                <a:lnTo>
                  <a:pt x="19796" y="3794"/>
                </a:lnTo>
                <a:lnTo>
                  <a:pt x="19796" y="17806"/>
                </a:lnTo>
                <a:close/>
              </a:path>
              <a:path fill="darken" w="25579" h="21600">
                <a:moveTo>
                  <a:pt x="5783" y="3794"/>
                </a:moveTo>
                <a:lnTo>
                  <a:pt x="7446" y="3794"/>
                </a:lnTo>
                <a:lnTo>
                  <a:pt x="7446" y="17806"/>
                </a:lnTo>
                <a:lnTo>
                  <a:pt x="5783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Управляющая кнопка: в конец 7">
            <a:hlinkClick r:id="" action="ppaction://hlinkshowjump?jump=lastslide"/>
          </p:cNvPr>
          <p:cNvSpPr/>
          <p:nvPr/>
        </p:nvSpPr>
        <p:spPr>
          <a:xfrm>
            <a:off x="4071960" y="600084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14864" y="10800"/>
                </a:moveTo>
                <a:lnTo>
                  <a:pt x="4359" y="17806"/>
                </a:lnTo>
                <a:lnTo>
                  <a:pt x="4359" y="3794"/>
                </a:lnTo>
                <a:close/>
              </a:path>
              <a:path fill="darken" w="22731" h="21600">
                <a:moveTo>
                  <a:pt x="16709" y="3794"/>
                </a:moveTo>
                <a:lnTo>
                  <a:pt x="16709" y="17806"/>
                </a:lnTo>
                <a:lnTo>
                  <a:pt x="18372" y="17806"/>
                </a:lnTo>
                <a:lnTo>
                  <a:pt x="18372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http://www.nashadoska.com/upload/normal/kiev_vollery_budki_dlya_zhivotnyh_3107.jpeg"/>
          <p:cNvPicPr/>
          <p:nvPr/>
        </p:nvPicPr>
        <p:blipFill>
          <a:blip r:embed="rId2"/>
          <a:stretch/>
        </p:blipFill>
        <p:spPr>
          <a:xfrm>
            <a:off x="1857240" y="2071800"/>
            <a:ext cx="5067360" cy="3800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://im6-tub-ru.yandex.net/i?id=132687579-66-72&amp;n=21"/>
          <p:cNvPicPr/>
          <p:nvPr/>
        </p:nvPicPr>
        <p:blipFill>
          <a:blip r:embed="rId3"/>
          <a:stretch/>
        </p:blipFill>
        <p:spPr>
          <a:xfrm>
            <a:off x="6357960" y="157176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16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2928960" y="614376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4359" y="10800"/>
                </a:moveTo>
                <a:lnTo>
                  <a:pt x="18372" y="3794"/>
                </a:lnTo>
                <a:lnTo>
                  <a:pt x="18372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3500280" y="614376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18379" y="10800"/>
                </a:lnTo>
                <a:lnTo>
                  <a:pt x="4366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Управляющая кнопка: в конец 6">
            <a:hlinkClick r:id="" action="ppaction://hlinkshowjump?jump=lastslide"/>
          </p:cNvPr>
          <p:cNvSpPr/>
          <p:nvPr/>
        </p:nvSpPr>
        <p:spPr>
          <a:xfrm>
            <a:off x="4071960" y="614376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14864" y="10800"/>
                </a:moveTo>
                <a:lnTo>
                  <a:pt x="4359" y="17806"/>
                </a:lnTo>
                <a:lnTo>
                  <a:pt x="4359" y="3794"/>
                </a:lnTo>
                <a:close/>
              </a:path>
              <a:path fill="darken" w="22731" h="21600">
                <a:moveTo>
                  <a:pt x="16709" y="3794"/>
                </a:moveTo>
                <a:lnTo>
                  <a:pt x="16709" y="17806"/>
                </a:lnTo>
                <a:lnTo>
                  <a:pt x="18372" y="17806"/>
                </a:lnTo>
                <a:lnTo>
                  <a:pt x="18372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Управляющая кнопка: в начало 7">
            <a:hlinkClick r:id="" action="ppaction://hlinkshowjump?jump=firstslide"/>
          </p:cNvPr>
          <p:cNvSpPr/>
          <p:nvPr/>
        </p:nvSpPr>
        <p:spPr>
          <a:xfrm>
            <a:off x="2357280" y="614376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7874" y="10800"/>
                </a:moveTo>
                <a:lnTo>
                  <a:pt x="18379" y="3794"/>
                </a:lnTo>
                <a:lnTo>
                  <a:pt x="18379" y="17806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6028" y="3794"/>
                </a:lnTo>
                <a:lnTo>
                  <a:pt x="6028" y="17806"/>
                </a:lnTo>
                <a:lnTo>
                  <a:pt x="4366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pentruanimale.ro/images/cos-rachita-captusit-caini-pisici.png"/>
          <p:cNvPicPr/>
          <p:nvPr/>
        </p:nvPicPr>
        <p:blipFill>
          <a:blip r:embed="rId2"/>
          <a:stretch/>
        </p:blipFill>
        <p:spPr>
          <a:xfrm>
            <a:off x="1571760" y="1714680"/>
            <a:ext cx="5643360" cy="4572000"/>
          </a:xfrm>
          <a:prstGeom prst="rect">
            <a:avLst/>
          </a:prstGeom>
          <a:ln w="0">
            <a:noFill/>
          </a:ln>
        </p:spPr>
      </p:pic>
      <p:sp>
        <p:nvSpPr>
          <p:cNvPr id="222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2571840" y="600084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4359" y="10800"/>
                </a:moveTo>
                <a:lnTo>
                  <a:pt x="18372" y="3794"/>
                </a:lnTo>
                <a:lnTo>
                  <a:pt x="18372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3143160" y="600084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18379" y="10800"/>
                </a:lnTo>
                <a:lnTo>
                  <a:pt x="4366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Управляющая кнопка: в начало 5">
            <a:hlinkClick r:id="" action="ppaction://hlinkshowjump?jump=firstslide"/>
          </p:cNvPr>
          <p:cNvSpPr/>
          <p:nvPr/>
        </p:nvSpPr>
        <p:spPr>
          <a:xfrm>
            <a:off x="2000160" y="6000840"/>
            <a:ext cx="571680" cy="54288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45" h="21600">
                <a:moveTo>
                  <a:pt x="0" y="0"/>
                </a:moveTo>
                <a:lnTo>
                  <a:pt x="22745" y="0"/>
                </a:lnTo>
                <a:lnTo>
                  <a:pt x="22745" y="21600"/>
                </a:lnTo>
                <a:lnTo>
                  <a:pt x="0" y="21600"/>
                </a:lnTo>
                <a:close/>
              </a:path>
              <a:path fill="lightenLess" w="22745" h="21600">
                <a:moveTo>
                  <a:pt x="0" y="0"/>
                </a:moveTo>
                <a:lnTo>
                  <a:pt x="22745" y="0"/>
                </a:lnTo>
                <a:lnTo>
                  <a:pt x="21345" y="1400"/>
                </a:lnTo>
                <a:lnTo>
                  <a:pt x="1400" y="1400"/>
                </a:lnTo>
                <a:close/>
              </a:path>
              <a:path fill="darken" w="22745" h="21600">
                <a:moveTo>
                  <a:pt x="22745" y="0"/>
                </a:moveTo>
                <a:lnTo>
                  <a:pt x="22745" y="21600"/>
                </a:lnTo>
                <a:lnTo>
                  <a:pt x="21345" y="20200"/>
                </a:lnTo>
                <a:lnTo>
                  <a:pt x="21345" y="1400"/>
                </a:lnTo>
                <a:close/>
              </a:path>
              <a:path fill="darkenLess" w="22745" h="21600">
                <a:moveTo>
                  <a:pt x="22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45" y="20200"/>
                </a:lnTo>
                <a:close/>
              </a:path>
              <a:path fill="lighten" w="22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45" h="21600">
                <a:moveTo>
                  <a:pt x="7874" y="10800"/>
                </a:moveTo>
                <a:lnTo>
                  <a:pt x="18379" y="3794"/>
                </a:lnTo>
                <a:lnTo>
                  <a:pt x="18379" y="17806"/>
                </a:lnTo>
                <a:close/>
              </a:path>
              <a:path fill="darken" w="22745" h="21600">
                <a:moveTo>
                  <a:pt x="4366" y="3794"/>
                </a:moveTo>
                <a:lnTo>
                  <a:pt x="6028" y="3794"/>
                </a:lnTo>
                <a:lnTo>
                  <a:pt x="6028" y="17806"/>
                </a:lnTo>
                <a:lnTo>
                  <a:pt x="4366" y="1780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Управляющая кнопка: в конец 6">
            <a:hlinkClick r:id="" action="ppaction://hlinkshowjump?jump=lastslide"/>
          </p:cNvPr>
          <p:cNvSpPr/>
          <p:nvPr/>
        </p:nvSpPr>
        <p:spPr>
          <a:xfrm>
            <a:off x="3714840" y="600084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14864" y="10800"/>
                </a:moveTo>
                <a:lnTo>
                  <a:pt x="4359" y="17806"/>
                </a:lnTo>
                <a:lnTo>
                  <a:pt x="4359" y="3794"/>
                </a:lnTo>
                <a:close/>
              </a:path>
              <a:path fill="darken" w="22731" h="21600">
                <a:moveTo>
                  <a:pt x="16709" y="3794"/>
                </a:moveTo>
                <a:lnTo>
                  <a:pt x="16709" y="17806"/>
                </a:lnTo>
                <a:lnTo>
                  <a:pt x="18372" y="17806"/>
                </a:lnTo>
                <a:lnTo>
                  <a:pt x="18372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7:55:26Z</dcterms:created>
  <dc:creator>Солоповы</dc:creator>
  <dc:description/>
  <dc:language>en-US</dc:language>
  <cp:lastModifiedBy>Солоповы</cp:lastModifiedBy>
  <dcterms:modified xsi:type="dcterms:W3CDTF">2013-10-09T19:17:06Z</dcterms:modified>
  <cp:revision>8</cp:revision>
  <dc:subject/>
  <dc:title>Домашние животные</dc:title>
</cp:coreProperties>
</file>