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17.png" ContentType="image/png"/>
  <Override PartName="/ppt/media/image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48E7-DA76-4EDC-9F53-37F07F8365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D154-7FEA-44AD-80A9-B397998B6A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B586-6899-4988-876D-27B45ADDE4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9297-A3F3-4FC4-9D00-C0C35D79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D830-3D58-402E-AB51-E83B4A52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1F3E-EAAB-4037-9472-4C9775A2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A7C3-3BEE-445C-AC3B-91831B9B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3D40-EECF-4832-BDAE-5BDD8891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C288-9A21-4569-A87E-8C4DF423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9E45-6D0A-45BC-9ADB-F901AF74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7E4F-A184-42A1-974D-D4184B2A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7CB7-6604-4131-A22E-022DCF0D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836F-1A35-4E0E-A00C-4A359618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9F01-30D7-44CB-BDD4-0573A84E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E5E9-6009-41ED-8194-D7542DDB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6DD1-6BDD-493E-B8BE-D26C0E677A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8.gif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img-fotki.yandex.ru/get/6514/47407354.83b/0_fdb2f_b9595ea3_or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143000" y="235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Calibri"/>
              </a:rPr>
              <a:t>Урок литературного чтен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002060"/>
                </a:solidFill>
                <a:latin typeface="Calibri"/>
              </a:rPr>
              <a:t>2 клас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img-fotki.yandex.ru/get/6514/47407354.83b/0_fdb2f_b9595ea3_or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428720" y="1571760"/>
            <a:ext cx="3429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Мать -Татьяна Фёдо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тец –Александр Никит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s-a-esenin.ru/books/item/f00/s00/z0000007/pic/000023.jpg"/>
          <p:cNvPicPr/>
          <p:nvPr/>
        </p:nvPicPr>
        <p:blipFill>
          <a:blip r:embed="rId2"/>
          <a:stretch/>
        </p:blipFill>
        <p:spPr>
          <a:xfrm>
            <a:off x="1071720" y="1285920"/>
            <a:ext cx="3224160" cy="5000760"/>
          </a:xfrm>
          <a:prstGeom prst="rect">
            <a:avLst/>
          </a:prstGeom>
          <a:ln w="0">
            <a:noFill/>
          </a:ln>
        </p:spPr>
      </p:pic>
      <p:sp>
        <p:nvSpPr>
          <p:cNvPr id="88" name="Подзаголовок 7"/>
          <p:cNvSpPr/>
          <p:nvPr/>
        </p:nvSpPr>
        <p:spPr>
          <a:xfrm>
            <a:off x="1571760" y="357120"/>
            <a:ext cx="6286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Arial"/>
              </a:rPr>
              <a:t>Родители Сергея Есен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img-fotki.yandex.ru/get/6514/47407354.83b/0_fdb2f_b9595ea3_or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С двух лет С.Есенин был отдан на воспитание дедушке и бабуш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http://static.diary.ru/userdir/6/1/7/3/617385/63904683.jpg"/>
          <p:cNvPicPr/>
          <p:nvPr/>
        </p:nvPicPr>
        <p:blipFill>
          <a:blip r:embed="rId2"/>
          <a:stretch/>
        </p:blipFill>
        <p:spPr>
          <a:xfrm>
            <a:off x="928800" y="1571760"/>
            <a:ext cx="721512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img-fotki.yandex.ru/get/6514/47407354.83b/0_fdb2f_b9595ea3_or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501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Целые дни мальчик Серёжа вместе с другими ребятами проводил на вол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2" descr="D:\16.jpg"/>
          <p:cNvPicPr/>
          <p:nvPr/>
        </p:nvPicPr>
        <p:blipFill>
          <a:blip r:embed="rId2"/>
          <a:stretch/>
        </p:blipFill>
        <p:spPr>
          <a:xfrm>
            <a:off x="1500120" y="1785960"/>
            <a:ext cx="710424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img-fotki.yandex.ru/get/6514/47407354.83b/0_fdb2f_b9595ea3_or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501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В 10 лет С.Есенин начал 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писать стих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ttp://static.wixstatic.com/media/7752f3_27b40338331d496d9ed5e6f10df1aba7.jpg_srz_993_595_85_22_0.50_1.20_0.00_jpg_srz"/>
          <p:cNvPicPr/>
          <p:nvPr/>
        </p:nvPicPr>
        <p:blipFill>
          <a:blip r:embed="rId2"/>
          <a:stretch/>
        </p:blipFill>
        <p:spPr>
          <a:xfrm>
            <a:off x="500040" y="2143080"/>
            <a:ext cx="5245200" cy="3143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i9.photobucket.com/albums/a60/loudwhisper/Other%20Stuff/1916.jpg"/>
          <p:cNvPicPr/>
          <p:nvPr/>
        </p:nvPicPr>
        <p:blipFill>
          <a:blip r:embed="rId3"/>
          <a:stretch/>
        </p:blipFill>
        <p:spPr>
          <a:xfrm>
            <a:off x="6000840" y="1857240"/>
            <a:ext cx="25718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ttp://img-fotki.yandex.ru/get/6514/47407354.83b/0_fdb2f_b9595ea3_orig.jpg"/>
          <p:cNvPicPr/>
          <p:nvPr/>
        </p:nvPicPr>
        <p:blipFill>
          <a:blip r:embed="rId1"/>
          <a:stretch/>
        </p:blipFill>
        <p:spPr>
          <a:xfrm>
            <a:off x="4284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9" descr=""/>
          <p:cNvPicPr/>
          <p:nvPr/>
        </p:nvPicPr>
        <p:blipFill>
          <a:blip r:embed="rId2"/>
          <a:stretch/>
        </p:blipFill>
        <p:spPr>
          <a:xfrm>
            <a:off x="2176560" y="328680"/>
            <a:ext cx="4651200" cy="1023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http://bel-echelon.clan.su/NY_smile/51380683_6_1.gif"/>
          <p:cNvPicPr/>
          <p:nvPr/>
        </p:nvPicPr>
        <p:blipFill>
          <a:blip r:embed="rId3"/>
          <a:stretch/>
        </p:blipFill>
        <p:spPr>
          <a:xfrm>
            <a:off x="928800" y="214200"/>
            <a:ext cx="581040" cy="400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http://bel-echelon.clan.su/NY_smile/51380683_6_1.gif"/>
          <p:cNvPicPr/>
          <p:nvPr/>
        </p:nvPicPr>
        <p:blipFill>
          <a:blip r:embed="rId4"/>
          <a:stretch/>
        </p:blipFill>
        <p:spPr>
          <a:xfrm>
            <a:off x="357120" y="571680"/>
            <a:ext cx="581040" cy="399960"/>
          </a:xfrm>
          <a:prstGeom prst="rect">
            <a:avLst/>
          </a:prstGeom>
          <a:ln w="0">
            <a:noFill/>
          </a:ln>
        </p:spPr>
      </p:pic>
      <p:sp>
        <p:nvSpPr>
          <p:cNvPr id="104" name="Содержимое 2"/>
          <p:cNvSpPr/>
          <p:nvPr/>
        </p:nvSpPr>
        <p:spPr>
          <a:xfrm>
            <a:off x="500040" y="1500120"/>
            <a:ext cx="5715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Arial"/>
              </a:rPr>
              <a:t>Раз – подняться, потянутьс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Arial"/>
              </a:rPr>
              <a:t>Два – согнуться, разогнутьс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Arial"/>
              </a:rPr>
              <a:t>Три – в ладоши три хлоп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Arial"/>
              </a:rPr>
              <a:t>Головою три кив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Arial"/>
              </a:rPr>
              <a:t>На четыре – руки шир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Arial"/>
              </a:rPr>
              <a:t>Пять – руками помаха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Arial"/>
              </a:rPr>
              <a:t>Шесть – на место тихо с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http://bel-echelon.clan.su/NY_smile/51380683_6_1.gif"/>
          <p:cNvPicPr/>
          <p:nvPr/>
        </p:nvPicPr>
        <p:blipFill>
          <a:blip r:embed="rId5"/>
          <a:stretch/>
        </p:blipFill>
        <p:spPr>
          <a:xfrm>
            <a:off x="4500720" y="3429000"/>
            <a:ext cx="58104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http://bel-echelon.clan.su/NY_smile/51380683_6_1.gif"/>
          <p:cNvPicPr/>
          <p:nvPr/>
        </p:nvPicPr>
        <p:blipFill>
          <a:blip r:embed="rId6"/>
          <a:stretch/>
        </p:blipFill>
        <p:spPr>
          <a:xfrm>
            <a:off x="7715160" y="428760"/>
            <a:ext cx="581040" cy="399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bel-echelon.clan.su/NY_smile/51380683_6_1.gif"/>
          <p:cNvPicPr/>
          <p:nvPr/>
        </p:nvPicPr>
        <p:blipFill>
          <a:blip r:embed="rId7"/>
          <a:stretch/>
        </p:blipFill>
        <p:spPr>
          <a:xfrm>
            <a:off x="6643800" y="5143680"/>
            <a:ext cx="581040" cy="399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http://bel-echelon.clan.su/NY_smile/51380683_6_1.gif"/>
          <p:cNvPicPr/>
          <p:nvPr/>
        </p:nvPicPr>
        <p:blipFill>
          <a:blip r:embed="rId8"/>
          <a:stretch/>
        </p:blipFill>
        <p:spPr>
          <a:xfrm>
            <a:off x="5429160" y="4286160"/>
            <a:ext cx="581040" cy="400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ttp://bel-echelon.clan.su/NY_smile/51380683_6_1.gif"/>
          <p:cNvPicPr/>
          <p:nvPr/>
        </p:nvPicPr>
        <p:blipFill>
          <a:blip r:embed="rId9"/>
          <a:stretch/>
        </p:blipFill>
        <p:spPr>
          <a:xfrm>
            <a:off x="2786040" y="5643720"/>
            <a:ext cx="581040" cy="399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://bel-echelon.clan.su/NY_smile/51380683_6_1.gif"/>
          <p:cNvPicPr/>
          <p:nvPr/>
        </p:nvPicPr>
        <p:blipFill>
          <a:blip r:embed="rId10"/>
          <a:stretch/>
        </p:blipFill>
        <p:spPr>
          <a:xfrm>
            <a:off x="4214880" y="5500800"/>
            <a:ext cx="581040" cy="399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http://4.bp.blogspot.com/-sWXL4z6xJ5o/Ut0zbj3Y9rI/AAAAAAAAAmA/LxeqEko8MgE/s1600/snowman.gif"/>
          <p:cNvPicPr/>
          <p:nvPr/>
        </p:nvPicPr>
        <p:blipFill>
          <a:blip r:embed="rId11"/>
          <a:stretch/>
        </p:blipFill>
        <p:spPr>
          <a:xfrm>
            <a:off x="6215040" y="1285920"/>
            <a:ext cx="2452680" cy="39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img-fotki.yandex.ru/get/6514/47407354.83b/0_fdb2f_b9595ea3_or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«Берёза» Сергей Есени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50920" y="549000"/>
            <a:ext cx="374976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Белая берёза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од моим окном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инакрылась снегом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Точно серебр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а пушистых ветках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нежною каймой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Распустились кисти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Белой бахром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 стоит берёза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 сонной тишине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 горят снежинки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 золотом ог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А заря, лениво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Обходя кругом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Обсыпает ветки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овым серебр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http://www.logoslovo.ru/media/pic_full/7/23293.jpg"/>
          <p:cNvPicPr/>
          <p:nvPr/>
        </p:nvPicPr>
        <p:blipFill>
          <a:blip r:embed="rId2"/>
          <a:stretch/>
        </p:blipFill>
        <p:spPr>
          <a:xfrm>
            <a:off x="4214880" y="380880"/>
            <a:ext cx="474984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img-fotki.yandex.ru/get/6514/47407354.83b/0_fdb2f_b9595ea3_or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Словарная рабо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60436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Кайм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отличающаяся по цвету или рисунку полоса по краю ткани, издел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Бахром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 тесьма с рядом свободно свисающих ни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Зар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яркое освещение горизонта перед восходом или после захода солнца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http://poradumo.pp.ua/uploads/posts/2014-08/obvyazka-gachkom-nosovih-hustok_872.jpeg"/>
          <p:cNvPicPr/>
          <p:nvPr/>
        </p:nvPicPr>
        <p:blipFill>
          <a:blip r:embed="rId2"/>
          <a:stretch/>
        </p:blipFill>
        <p:spPr>
          <a:xfrm>
            <a:off x="6357960" y="1285920"/>
            <a:ext cx="1928880" cy="1890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http://www.unico-decor.ru/wp-content/uploads/2013/03/AC342-13551.jpg"/>
          <p:cNvPicPr/>
          <p:nvPr/>
        </p:nvPicPr>
        <p:blipFill>
          <a:blip r:embed="rId3"/>
          <a:stretch/>
        </p:blipFill>
        <p:spPr>
          <a:xfrm>
            <a:off x="6929280" y="3286080"/>
            <a:ext cx="2000520" cy="1643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://www.bankoboev.ru/images/Mzc0Nzgw/Bankoboev.Ru_zimnii_moroznyi_vecher_pod_derevom.jpg"/>
          <p:cNvPicPr/>
          <p:nvPr/>
        </p:nvPicPr>
        <p:blipFill>
          <a:blip r:embed="rId4"/>
          <a:stretch/>
        </p:blipFill>
        <p:spPr>
          <a:xfrm>
            <a:off x="6286680" y="5072040"/>
            <a:ext cx="221436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img-fotki.yandex.ru/get/6514/47407354.83b/0_fdb2f_b9595ea3_or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Заполните пропус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7640" y="691920"/>
            <a:ext cx="532764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2060"/>
                </a:solidFill>
                <a:latin typeface="Calibri"/>
              </a:rPr>
              <a:t>Поет зима - аукает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2060"/>
                </a:solidFill>
                <a:latin typeface="Calibri"/>
              </a:rPr>
              <a:t>Мохнатый лес </a:t>
            </a:r>
            <a:r>
              <a:rPr b="1" lang="ru-RU" sz="2300" spc="-1" strike="noStrike" u="sng">
                <a:solidFill>
                  <a:srgbClr val="002060"/>
                </a:solidFill>
                <a:uFillTx/>
                <a:latin typeface="Calibri"/>
              </a:rPr>
              <a:t>____________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2060"/>
                </a:solidFill>
                <a:latin typeface="Calibri"/>
              </a:rPr>
              <a:t>Стозвоном сосняка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2060"/>
                </a:solidFill>
                <a:latin typeface="Calibri"/>
              </a:rPr>
              <a:t>Кругом с тоской глубокою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2060"/>
                </a:solidFill>
                <a:latin typeface="Calibri"/>
              </a:rPr>
              <a:t>Плывут в страну далекую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 u="sng">
                <a:solidFill>
                  <a:srgbClr val="002060"/>
                </a:solidFill>
                <a:uFillTx/>
                <a:latin typeface="Calibri"/>
              </a:rPr>
              <a:t>______________</a:t>
            </a:r>
            <a:r>
              <a:rPr b="1" lang="ru-RU" sz="2300" spc="-1" strike="noStrike">
                <a:solidFill>
                  <a:srgbClr val="002060"/>
                </a:solidFill>
                <a:latin typeface="Calibri"/>
              </a:rPr>
              <a:t> облака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2060"/>
                </a:solidFill>
                <a:latin typeface="Calibri"/>
              </a:rPr>
              <a:t>А по двору метелиц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2060"/>
                </a:solidFill>
                <a:latin typeface="Calibri"/>
              </a:rPr>
              <a:t>Ковром </a:t>
            </a:r>
            <a:r>
              <a:rPr b="1" lang="ru-RU" sz="2300" spc="-1" strike="noStrike" u="sng">
                <a:solidFill>
                  <a:srgbClr val="002060"/>
                </a:solidFill>
                <a:uFillTx/>
                <a:latin typeface="Calibri"/>
              </a:rPr>
              <a:t>__________</a:t>
            </a:r>
            <a:r>
              <a:rPr b="1" lang="ru-RU" sz="2300" spc="-1" strike="noStrike">
                <a:solidFill>
                  <a:srgbClr val="002060"/>
                </a:solidFill>
                <a:latin typeface="Calibri"/>
              </a:rPr>
              <a:t>стелется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2060"/>
                </a:solidFill>
                <a:latin typeface="Calibri"/>
              </a:rPr>
              <a:t>Но больно холодна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2060"/>
                </a:solidFill>
                <a:latin typeface="Calibri"/>
              </a:rPr>
              <a:t>Воробышки игривые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2060"/>
                </a:solidFill>
                <a:latin typeface="Calibri"/>
              </a:rPr>
              <a:t>Как детки </a:t>
            </a:r>
            <a:r>
              <a:rPr b="1" lang="ru-RU" sz="2300" spc="-1" strike="noStrike" u="sng">
                <a:solidFill>
                  <a:srgbClr val="002060"/>
                </a:solidFill>
                <a:uFillTx/>
                <a:latin typeface="Calibri"/>
              </a:rPr>
              <a:t>______________</a:t>
            </a:r>
            <a:r>
              <a:rPr b="1" lang="ru-RU" sz="2300" spc="-1" strike="noStrike">
                <a:solidFill>
                  <a:srgbClr val="002060"/>
                </a:solidFill>
                <a:latin typeface="Calibri"/>
              </a:rPr>
              <a:t>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2060"/>
                </a:solidFill>
                <a:latin typeface="Calibri"/>
              </a:rPr>
              <a:t>Прижались у окна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http://cvid.ru/pics/15047/d0b7d0b8d0bcd0b0.jpg"/>
          <p:cNvPicPr/>
          <p:nvPr/>
        </p:nvPicPr>
        <p:blipFill>
          <a:blip r:embed="rId2"/>
          <a:stretch/>
        </p:blipFill>
        <p:spPr>
          <a:xfrm>
            <a:off x="4071960" y="981000"/>
            <a:ext cx="50720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ttp://img-fotki.yandex.ru/get/6514/47407354.83b/0_fdb2f_b9595ea3_or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Словарная работ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000" y="907920"/>
            <a:ext cx="79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оет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сильно ду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Аукает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переклика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осняк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основый ле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Метелиц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асково метель (буран, вьюга) — перенос ветром снега, поднятого с поверхности зем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тозвоно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звон 100 сосен (автор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Ковром шелковым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мягким ковр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иротлив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без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C:\Users\User\Desktop\42147441_ee83434a7b927dd82d41f1b8727e1827_800.jpg"/>
          <p:cNvPicPr/>
          <p:nvPr/>
        </p:nvPicPr>
        <p:blipFill>
          <a:blip r:embed="rId3"/>
          <a:stretch/>
        </p:blipFill>
        <p:spPr>
          <a:xfrm>
            <a:off x="108000" y="115920"/>
            <a:ext cx="8880480" cy="66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img-fotki.yandex.ru/get/6514/47407354.83b/0_fdb2f_b9595ea3_orig.jpg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06600" y="115920"/>
            <a:ext cx="79293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Если городу ночью холодно стало,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 ночь для него одеяло достала,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Если снегом заботливо город одела.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акое время года прилетел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s://wallpaperscraft.ru/image/solnce_svet_luchi_nebo_les_zima_peyzazh_derevya_iney_fonar_yasno_61270_3840x2400.jpg"/>
          <p:cNvPicPr/>
          <p:nvPr/>
        </p:nvPicPr>
        <p:blipFill>
          <a:blip r:embed="rId2"/>
          <a:stretch/>
        </p:blipFill>
        <p:spPr>
          <a:xfrm>
            <a:off x="1146240" y="2133720"/>
            <a:ext cx="7429320" cy="4641840"/>
          </a:xfrm>
          <a:prstGeom prst="rect">
            <a:avLst/>
          </a:prstGeom>
          <a:ln w="63360">
            <a:solidFill>
              <a:srgbClr val="376092"/>
            </a:solidFill>
            <a:prstDash val="sysDot"/>
            <a:miter/>
          </a:ln>
        </p:spPr>
      </p:pic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2499840" y="3286080"/>
            <a:ext cx="171468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Зи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http://img-fotki.yandex.ru/get/6514/47407354.83b/0_fdb2f_b9595ea3_or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учить понравившееся стихотворе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казать возникшие у вас образы в иллюстрации к не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img-fotki.yandex.ru/get/6514/47407354.83b/0_fdb2f_b9595ea3_or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одзаголовок 5"/>
          <p:cNvSpPr/>
          <p:nvPr/>
        </p:nvSpPr>
        <p:spPr>
          <a:xfrm>
            <a:off x="1357200" y="4786200"/>
            <a:ext cx="640080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http://reniural.ru/netcat_files/userfiles/img0.jpg"/>
          <p:cNvPicPr/>
          <p:nvPr/>
        </p:nvPicPr>
        <p:blipFill>
          <a:blip r:embed="rId2"/>
          <a:stretch/>
        </p:blipFill>
        <p:spPr>
          <a:xfrm>
            <a:off x="1285920" y="1928880"/>
            <a:ext cx="6215040" cy="39290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57280" y="856800"/>
            <a:ext cx="42436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Речевая размин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43000" y="2500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 неба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падают снежин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 неба 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адают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снежин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 неба падают 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нежин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одзаголовок 5"/>
          <p:cNvSpPr/>
          <p:nvPr/>
        </p:nvSpPr>
        <p:spPr>
          <a:xfrm>
            <a:off x="714240" y="2500200"/>
            <a:ext cx="271476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  <a:ea typeface="Arial"/>
              </a:rPr>
              <a:t>С не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дзаголовок 5"/>
          <p:cNvSpPr/>
          <p:nvPr/>
        </p:nvSpPr>
        <p:spPr>
          <a:xfrm>
            <a:off x="2500200" y="3286080"/>
            <a:ext cx="271476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  <a:ea typeface="Arial"/>
              </a:rPr>
              <a:t>падаю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дзаголовок 5"/>
          <p:cNvSpPr/>
          <p:nvPr/>
        </p:nvSpPr>
        <p:spPr>
          <a:xfrm>
            <a:off x="4714920" y="4071960"/>
            <a:ext cx="271476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  <a:ea typeface="Arial"/>
              </a:rPr>
              <a:t>снежи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Иван Иванович Шишк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D:\зима.jpg"/>
          <p:cNvPicPr/>
          <p:nvPr/>
        </p:nvPicPr>
        <p:blipFill>
          <a:blip r:embed="rId1"/>
          <a:stretch/>
        </p:blipFill>
        <p:spPr>
          <a:xfrm>
            <a:off x="1835280" y="804960"/>
            <a:ext cx="7016760" cy="5921280"/>
          </a:xfrm>
          <a:prstGeom prst="rect">
            <a:avLst/>
          </a:prstGeom>
          <a:ln w="38160">
            <a:solidFill>
              <a:srgbClr val="002060"/>
            </a:solidFill>
            <a:prstDash val="sysDot"/>
            <a:miter/>
          </a:ln>
        </p:spPr>
      </p:pic>
      <p:sp>
        <p:nvSpPr>
          <p:cNvPr id="65" name="Содержимое 2"/>
          <p:cNvSpPr/>
          <p:nvPr/>
        </p:nvSpPr>
        <p:spPr>
          <a:xfrm>
            <a:off x="4214880" y="5572080"/>
            <a:ext cx="43578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  <a:ea typeface="Arial"/>
              </a:rPr>
              <a:t>	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  <a:ea typeface="Arial"/>
              </a:rPr>
              <a:t>«Зим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img-fotki.yandex.ru/get/6514/47407354.83b/0_fdb2f_b9595ea3_or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Иван Иванович Шишк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196640"/>
            <a:ext cx="251928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«Сосны, освещенные солнцем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2928960" y="733320"/>
            <a:ext cx="4811760" cy="6066000"/>
          </a:xfrm>
          <a:prstGeom prst="rect">
            <a:avLst/>
          </a:prstGeom>
          <a:ln w="38160">
            <a:solidFill>
              <a:srgbClr val="00206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img-fotki.yandex.ru/get/6514/47407354.83b/0_fdb2f_b9595ea3_or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85520" y="3571560"/>
            <a:ext cx="7429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В этом имени слово «есень», </a:t>
            </a:r>
            <a:br>
              <a:rPr sz="3600"/>
            </a:b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Осень, ясень, осенний цвет, </a:t>
            </a:r>
            <a:br>
              <a:rPr sz="3600"/>
            </a:b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Что-то есть в нём от русских песен –</a:t>
            </a:r>
            <a:br>
              <a:rPr sz="3600"/>
            </a:b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 Поднебесье, тихие веси,</a:t>
            </a:r>
            <a:br>
              <a:rPr sz="3600"/>
            </a:b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 Сень берёзы </a:t>
            </a:r>
            <a:br>
              <a:rPr sz="3600"/>
            </a:b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И синь – рассвет. </a:t>
            </a:r>
            <a:br>
              <a:rPr sz="3600"/>
            </a:b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Что-то есть в нём </a:t>
            </a:r>
            <a:br>
              <a:rPr sz="3600"/>
            </a:b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И от весенней </a:t>
            </a:r>
            <a:br>
              <a:rPr sz="3600"/>
            </a:b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Грусти, юности </a:t>
            </a:r>
            <a:br>
              <a:rPr sz="3600"/>
            </a:b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И чистоты…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10"/>
          <p:cNvSpPr/>
          <p:nvPr/>
        </p:nvSpPr>
        <p:spPr>
          <a:xfrm>
            <a:off x="1601280" y="142920"/>
            <a:ext cx="31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libri"/>
              </a:rPr>
              <a:t>Игра «Услышь фамилию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img-fotki.yandex.ru/get/6514/47407354.83b/0_fdb2f_b9595ea3_or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Заголовок 4"/>
          <p:cNvSpPr/>
          <p:nvPr/>
        </p:nvSpPr>
        <p:spPr>
          <a:xfrm>
            <a:off x="3000240" y="857160"/>
            <a:ext cx="592956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Только скажут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«Сергей Есенин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Всей России встают черты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                                    </a:t>
            </a: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(Николай Брау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1751040" y="2214720"/>
            <a:ext cx="682776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img-fotki.yandex.ru/get/6514/47407354.83b/0_fdb2f_b9595ea3_or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712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Лирические стихотворения </a:t>
            </a:r>
            <a:br>
              <a:rPr sz="4000"/>
            </a:b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Сергея Александровича Есенина </a:t>
            </a:r>
            <a:br>
              <a:rPr sz="4000"/>
            </a:b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«Поёт зима – аукает…», «Берёз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Заголовок 4"/>
          <p:cNvSpPr/>
          <p:nvPr/>
        </p:nvSpPr>
        <p:spPr>
          <a:xfrm>
            <a:off x="4286160" y="1643040"/>
            <a:ext cx="364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Тема урок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www.playcast.ru/uploads/2013/01/29/4533132.gif"/>
          <p:cNvPicPr/>
          <p:nvPr/>
        </p:nvPicPr>
        <p:blipFill>
          <a:blip r:embed="rId2"/>
          <a:stretch/>
        </p:blipFill>
        <p:spPr>
          <a:xfrm>
            <a:off x="285840" y="214200"/>
            <a:ext cx="3463920" cy="2286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http://35photo.ru/photos_temp/sizes/13/69251_500n.jpg"/>
          <p:cNvPicPr/>
          <p:nvPr/>
        </p:nvPicPr>
        <p:blipFill>
          <a:blip r:embed="rId3"/>
          <a:stretch/>
        </p:blipFill>
        <p:spPr>
          <a:xfrm>
            <a:off x="4857840" y="4361040"/>
            <a:ext cx="378612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img-fotki.yandex.ru/get/6514/47407354.83b/0_fdb2f_b9595ea3_or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857160" y="500040"/>
            <a:ext cx="7286760" cy="4863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57200" y="4071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ергей Александрович Есенин родился 3 октября 1895 го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 селе Константино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7T10:12:23Z</dcterms:created>
  <dc:creator>Bulat</dc:creator>
  <dc:description/>
  <dc:language>en-US</dc:language>
  <cp:lastModifiedBy>Пользователь</cp:lastModifiedBy>
  <dcterms:modified xsi:type="dcterms:W3CDTF">2022-12-25T12:23:08Z</dcterms:modified>
  <cp:revision>35</cp:revision>
  <dc:subject/>
  <dc:title>Слайд 1</dc:title>
</cp:coreProperties>
</file>