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5125-CC60-45DC-A342-07BC717FE3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0E73-1A32-4E26-B494-29BC6848EF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7E8E-DFB1-4083-A69D-51230C86B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24E-D09D-4AA2-84E7-6707FFD8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D44-AC6A-45FA-9A0E-554A02D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850-0719-4BA7-915D-CD5D3F3C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B2E-C7CE-4C59-B779-D350906D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401-7942-4E14-9229-25CED9BE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B59-3B93-4446-A3F4-C7B214FB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91B-D205-4DC9-A293-7470545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5B6-E9BE-4C2B-A0F1-CFA08AA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C07-E3B0-4F82-8444-49245E1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9BC-0901-48BC-B9BC-0A13263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1FE-7520-44FA-83B0-B8A2F69C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5D3-D302-471F-A60B-D0F51AD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AD73-8B7E-4353-B082-3FFB59F88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Урок литературного чт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28720" y="1571760"/>
            <a:ext cx="3429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ать -Татьяна Фёд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ец –Александр Никит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s-a-esenin.ru/books/item/f00/s00/z0000007/pic/000023.jpg"/>
          <p:cNvPicPr/>
          <p:nvPr/>
        </p:nvPicPr>
        <p:blipFill>
          <a:blip r:embed="rId2"/>
          <a:stretch/>
        </p:blipFill>
        <p:spPr>
          <a:xfrm>
            <a:off x="1071720" y="1285920"/>
            <a:ext cx="322416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Подзаголовок 7"/>
          <p:cNvSpPr/>
          <p:nvPr/>
        </p:nvSpPr>
        <p:spPr>
          <a:xfrm>
            <a:off x="1571760" y="357120"/>
            <a:ext cx="6286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Родители Сергея Есе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С двух лет С.Есенин был отдан на воспитание дедушке и бабуш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static.diary.ru/userdir/6/1/7/3/617385/63904683.jpg"/>
          <p:cNvPicPr/>
          <p:nvPr/>
        </p:nvPicPr>
        <p:blipFill>
          <a:blip r:embed="rId2"/>
          <a:stretch/>
        </p:blipFill>
        <p:spPr>
          <a:xfrm>
            <a:off x="928800" y="1571760"/>
            <a:ext cx="7215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Целые дни мальчик Серёжа вместе с другими ребятами проводил на в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16.jpg"/>
          <p:cNvPicPr/>
          <p:nvPr/>
        </p:nvPicPr>
        <p:blipFill>
          <a:blip r:embed="rId2"/>
          <a:stretch/>
        </p:blipFill>
        <p:spPr>
          <a:xfrm>
            <a:off x="1500120" y="1785960"/>
            <a:ext cx="71042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 10 лет С.Есенин начал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исать стих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static.wixstatic.com/media/7752f3_27b40338331d496d9ed5e6f10df1aba7.jpg_srz_993_595_85_22_0.50_1.20_0.00_jpg_srz"/>
          <p:cNvPicPr/>
          <p:nvPr/>
        </p:nvPicPr>
        <p:blipFill>
          <a:blip r:embed="rId2"/>
          <a:stretch/>
        </p:blipFill>
        <p:spPr>
          <a:xfrm>
            <a:off x="500040" y="2143080"/>
            <a:ext cx="5245200" cy="314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9.photobucket.com/albums/a60/loudwhisper/Other%20Stuff/1916.jpg"/>
          <p:cNvPicPr/>
          <p:nvPr/>
        </p:nvPicPr>
        <p:blipFill>
          <a:blip r:embed="rId3"/>
          <a:stretch/>
        </p:blipFill>
        <p:spPr>
          <a:xfrm>
            <a:off x="6000840" y="1857240"/>
            <a:ext cx="25718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42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9" descr=""/>
          <p:cNvPicPr/>
          <p:nvPr/>
        </p:nvPicPr>
        <p:blipFill>
          <a:blip r:embed="rId2"/>
          <a:stretch/>
        </p:blipFill>
        <p:spPr>
          <a:xfrm>
            <a:off x="2176560" y="328680"/>
            <a:ext cx="4651200" cy="102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bel-echelon.clan.su/NY_smile/51380683_6_1.gif"/>
          <p:cNvPicPr/>
          <p:nvPr/>
        </p:nvPicPr>
        <p:blipFill>
          <a:blip r:embed="rId3"/>
          <a:stretch/>
        </p:blipFill>
        <p:spPr>
          <a:xfrm>
            <a:off x="928800" y="214200"/>
            <a:ext cx="581040" cy="40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bel-echelon.clan.su/NY_smile/51380683_6_1.gif"/>
          <p:cNvPicPr/>
          <p:nvPr/>
        </p:nvPicPr>
        <p:blipFill>
          <a:blip r:embed="rId4"/>
          <a:stretch/>
        </p:blipFill>
        <p:spPr>
          <a:xfrm>
            <a:off x="357120" y="571680"/>
            <a:ext cx="581040" cy="399960"/>
          </a:xfrm>
          <a:prstGeom prst="rect">
            <a:avLst/>
          </a:prstGeom>
          <a:ln w="0">
            <a:noFill/>
          </a:ln>
        </p:spPr>
      </p:pic>
      <p:sp>
        <p:nvSpPr>
          <p:cNvPr id="104" name="Содержимое 2"/>
          <p:cNvSpPr/>
          <p:nvPr/>
        </p:nvSpPr>
        <p:spPr>
          <a:xfrm>
            <a:off x="500040" y="1500120"/>
            <a:ext cx="5715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Шесть – на место тихо с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bel-echelon.clan.su/NY_smile/51380683_6_1.gif"/>
          <p:cNvPicPr/>
          <p:nvPr/>
        </p:nvPicPr>
        <p:blipFill>
          <a:blip r:embed="rId5"/>
          <a:stretch/>
        </p:blipFill>
        <p:spPr>
          <a:xfrm>
            <a:off x="4500720" y="342900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bel-echelon.clan.su/NY_smile/51380683_6_1.gif"/>
          <p:cNvPicPr/>
          <p:nvPr/>
        </p:nvPicPr>
        <p:blipFill>
          <a:blip r:embed="rId6"/>
          <a:stretch/>
        </p:blipFill>
        <p:spPr>
          <a:xfrm>
            <a:off x="7715160" y="42876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bel-echelon.clan.su/NY_smile/51380683_6_1.gif"/>
          <p:cNvPicPr/>
          <p:nvPr/>
        </p:nvPicPr>
        <p:blipFill>
          <a:blip r:embed="rId7"/>
          <a:stretch/>
        </p:blipFill>
        <p:spPr>
          <a:xfrm>
            <a:off x="6643800" y="514368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bel-echelon.clan.su/NY_smile/51380683_6_1.gif"/>
          <p:cNvPicPr/>
          <p:nvPr/>
        </p:nvPicPr>
        <p:blipFill>
          <a:blip r:embed="rId8"/>
          <a:stretch/>
        </p:blipFill>
        <p:spPr>
          <a:xfrm>
            <a:off x="5429160" y="4286160"/>
            <a:ext cx="581040" cy="400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bel-echelon.clan.su/NY_smile/51380683_6_1.gif"/>
          <p:cNvPicPr/>
          <p:nvPr/>
        </p:nvPicPr>
        <p:blipFill>
          <a:blip r:embed="rId9"/>
          <a:stretch/>
        </p:blipFill>
        <p:spPr>
          <a:xfrm>
            <a:off x="2786040" y="564372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bel-echelon.clan.su/NY_smile/51380683_6_1.gif"/>
          <p:cNvPicPr/>
          <p:nvPr/>
        </p:nvPicPr>
        <p:blipFill>
          <a:blip r:embed="rId10"/>
          <a:stretch/>
        </p:blipFill>
        <p:spPr>
          <a:xfrm>
            <a:off x="4214880" y="550080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4.bp.blogspot.com/-sWXL4z6xJ5o/Ut0zbj3Y9rI/AAAAAAAAAmA/LxeqEko8MgE/s1600/snowman.gif"/>
          <p:cNvPicPr/>
          <p:nvPr/>
        </p:nvPicPr>
        <p:blipFill>
          <a:blip r:embed="rId11"/>
          <a:stretch/>
        </p:blipFill>
        <p:spPr>
          <a:xfrm>
            <a:off x="6215040" y="1285920"/>
            <a:ext cx="24526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«Берёза» Сергей Есени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549000"/>
            <a:ext cx="37497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лая берёз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 моим окно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накрылась снегом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чно сереб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пушистых ветках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нежною каймой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пустились кист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лой бахро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стоит берёз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сонной тишин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горят снежинк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золотом ог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 заря, лениво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бходя кругом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бсыпает ветк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вым сереб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logoslovo.ru/media/pic_full/7/23293.jpg"/>
          <p:cNvPicPr/>
          <p:nvPr/>
        </p:nvPicPr>
        <p:blipFill>
          <a:blip r:embed="rId2"/>
          <a:stretch/>
        </p:blipFill>
        <p:spPr>
          <a:xfrm>
            <a:off x="4214880" y="380880"/>
            <a:ext cx="47498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6043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й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тличающаяся по цвету или рисунку полоса по краю ткани,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хро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тесьма с рядом свободно свисающих ни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яркое освещение горизонта перед восходом или после захода солнц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poradumo.pp.ua/uploads/posts/2014-08/obvyazka-gachkom-nosovih-hustok_872.jpeg"/>
          <p:cNvPicPr/>
          <p:nvPr/>
        </p:nvPicPr>
        <p:blipFill>
          <a:blip r:embed="rId2"/>
          <a:stretch/>
        </p:blipFill>
        <p:spPr>
          <a:xfrm>
            <a:off x="6357960" y="1285920"/>
            <a:ext cx="1928880" cy="189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unico-decor.ru/wp-content/uploads/2013/03/AC342-13551.jpg"/>
          <p:cNvPicPr/>
          <p:nvPr/>
        </p:nvPicPr>
        <p:blipFill>
          <a:blip r:embed="rId3"/>
          <a:stretch/>
        </p:blipFill>
        <p:spPr>
          <a:xfrm>
            <a:off x="6929280" y="3286080"/>
            <a:ext cx="200052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bankoboev.ru/images/Mzc0Nzgw/Bankoboev.Ru_zimnii_moroznyi_vecher_pod_derevom.jpg"/>
          <p:cNvPicPr/>
          <p:nvPr/>
        </p:nvPicPr>
        <p:blipFill>
          <a:blip r:embed="rId4"/>
          <a:stretch/>
        </p:blipFill>
        <p:spPr>
          <a:xfrm>
            <a:off x="6286680" y="5072040"/>
            <a:ext cx="22143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Заполните пропус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7640" y="691920"/>
            <a:ext cx="53276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Поет зима - аукает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Мохнатый лес </a:t>
            </a: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Стозвоном сосня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Кругом с тоской глубоко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Плывут в страну далеку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____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 обла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А по двору метелиц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Ковром </a:t>
            </a: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стелется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Но больно холод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Воробышки игривы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Как детки </a:t>
            </a: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____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Прижались у ок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cvid.ru/pics/15047/d0b7d0b8d0bcd0b0.jpg"/>
          <p:cNvPicPr/>
          <p:nvPr/>
        </p:nvPicPr>
        <p:blipFill>
          <a:blip r:embed="rId2"/>
          <a:stretch/>
        </p:blipFill>
        <p:spPr>
          <a:xfrm>
            <a:off x="4071960" y="981000"/>
            <a:ext cx="50720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ловарная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907920"/>
            <a:ext cx="79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е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ильно д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ука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ереклик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ня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сновый л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телиц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сково метель (буран, вьюга) — перенос ветром снега, поднятого с поверхности зем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озвон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звон 100 сосен (авто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вром шелковы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мягким ков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иротли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ез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User\Desktop\42147441_ee83434a7b927dd82d41f1b8727e1827_800.jpg"/>
          <p:cNvPicPr/>
          <p:nvPr/>
        </p:nvPicPr>
        <p:blipFill>
          <a:blip r:embed="rId3"/>
          <a:stretch/>
        </p:blipFill>
        <p:spPr>
          <a:xfrm>
            <a:off x="108000" y="11592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6600" y="115920"/>
            <a:ext cx="7929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сли городу ночью холодно стало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ночь для него одеяло достала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сли снегом заботливо город одела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кое время года прилете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wallpaperscraft.ru/image/solnce_svet_luchi_nebo_les_zima_peyzazh_derevya_iney_fonar_yasno_61270_3840x2400.jpg"/>
          <p:cNvPicPr/>
          <p:nvPr/>
        </p:nvPicPr>
        <p:blipFill>
          <a:blip r:embed="rId2"/>
          <a:stretch/>
        </p:blipFill>
        <p:spPr>
          <a:xfrm>
            <a:off x="1146240" y="2133720"/>
            <a:ext cx="7429320" cy="4641840"/>
          </a:xfrm>
          <a:prstGeom prst="rect">
            <a:avLst/>
          </a:prstGeom>
          <a:ln w="63360">
            <a:solidFill>
              <a:srgbClr val="376092"/>
            </a:solidFill>
            <a:prstDash val="sysDot"/>
            <a:miter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99840" y="3286080"/>
            <a:ext cx="171468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ь понравившееся стихотвор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ть возникшие у вас образы в иллюстрации к н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одзаголовок 5"/>
          <p:cNvSpPr/>
          <p:nvPr/>
        </p:nvSpPr>
        <p:spPr>
          <a:xfrm>
            <a:off x="1357200" y="4786200"/>
            <a:ext cx="64008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reniural.ru/netcat_files/userfiles/img0.jpg"/>
          <p:cNvPicPr/>
          <p:nvPr/>
        </p:nvPicPr>
        <p:blipFill>
          <a:blip r:embed="rId2"/>
          <a:stretch/>
        </p:blipFill>
        <p:spPr>
          <a:xfrm>
            <a:off x="1285920" y="1928880"/>
            <a:ext cx="6215040" cy="392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57280" y="856800"/>
            <a:ext cx="42436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Речевая разм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2500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 неба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падают снеж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 неба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адают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снеж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 неба падают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неж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5"/>
          <p:cNvSpPr/>
          <p:nvPr/>
        </p:nvSpPr>
        <p:spPr>
          <a:xfrm>
            <a:off x="714240" y="2500200"/>
            <a:ext cx="27147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С не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5"/>
          <p:cNvSpPr/>
          <p:nvPr/>
        </p:nvSpPr>
        <p:spPr>
          <a:xfrm>
            <a:off x="2500200" y="3286080"/>
            <a:ext cx="27147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пад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5"/>
          <p:cNvSpPr/>
          <p:nvPr/>
        </p:nvSpPr>
        <p:spPr>
          <a:xfrm>
            <a:off x="4714920" y="4071960"/>
            <a:ext cx="27147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Иван Иванович Шиш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зима.jpg"/>
          <p:cNvPicPr/>
          <p:nvPr/>
        </p:nvPicPr>
        <p:blipFill>
          <a:blip r:embed="rId1"/>
          <a:stretch/>
        </p:blipFill>
        <p:spPr>
          <a:xfrm>
            <a:off x="1835280" y="804960"/>
            <a:ext cx="7016760" cy="5921280"/>
          </a:xfrm>
          <a:prstGeom prst="rect">
            <a:avLst/>
          </a:prstGeom>
          <a:ln w="38160">
            <a:solidFill>
              <a:srgbClr val="002060"/>
            </a:solidFill>
            <a:prstDash val="sysDot"/>
            <a:miter/>
          </a:ln>
        </p:spPr>
      </p:pic>
      <p:sp>
        <p:nvSpPr>
          <p:cNvPr id="65" name="Содержимое 2"/>
          <p:cNvSpPr/>
          <p:nvPr/>
        </p:nvSpPr>
        <p:spPr>
          <a:xfrm>
            <a:off x="4214880" y="5572080"/>
            <a:ext cx="4357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«Зи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Иван Иванович Шиш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196640"/>
            <a:ext cx="25192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«Сосны, освещенные солнцем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28960" y="733320"/>
            <a:ext cx="4811760" cy="6066000"/>
          </a:xfrm>
          <a:prstGeom prst="rect">
            <a:avLst/>
          </a:prstGeom>
          <a:ln w="38160">
            <a:solidFill>
              <a:srgbClr val="00206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520" y="357156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В этом имени слово «есень»,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сень, ясень, осенний цвет,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Что-то есть в нём от русских песен –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Поднебесье, тихие веси,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Сень берёзы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 синь – рассвет.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Что-то есть в нём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 от весенней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русти, юности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 чистоты…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601280" y="14292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libri"/>
              </a:rPr>
              <a:t>Игра «Услышь фамилию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4"/>
          <p:cNvSpPr/>
          <p:nvPr/>
        </p:nvSpPr>
        <p:spPr>
          <a:xfrm>
            <a:off x="3000240" y="857160"/>
            <a:ext cx="59295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Только скажу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«Сергей Есенин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Всей России встают черты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(Николай Брау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51040" y="2214720"/>
            <a:ext cx="682776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Лирические стихотворения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Сергея Александровича Есенин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«Поёт зима – аукает…», «Берё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4"/>
          <p:cNvSpPr/>
          <p:nvPr/>
        </p:nvSpPr>
        <p:spPr>
          <a:xfrm>
            <a:off x="4286160" y="1643040"/>
            <a:ext cx="36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ема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playcast.ru/uploads/2013/01/29/4533132.gif"/>
          <p:cNvPicPr/>
          <p:nvPr/>
        </p:nvPicPr>
        <p:blipFill>
          <a:blip r:embed="rId2"/>
          <a:stretch/>
        </p:blipFill>
        <p:spPr>
          <a:xfrm>
            <a:off x="285840" y="214200"/>
            <a:ext cx="346392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35photo.ru/photos_temp/sizes/13/69251_500n.jpg"/>
          <p:cNvPicPr/>
          <p:nvPr/>
        </p:nvPicPr>
        <p:blipFill>
          <a:blip r:embed="rId3"/>
          <a:stretch/>
        </p:blipFill>
        <p:spPr>
          <a:xfrm>
            <a:off x="4857840" y="4361040"/>
            <a:ext cx="378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857160" y="500040"/>
            <a:ext cx="7286760" cy="4863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5720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ргей Александрович Есенин родился 3 октября 1895 г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селе Константин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7T10:12:23Z</dcterms:created>
  <dc:creator>Bulat</dc:creator>
  <dc:description/>
  <dc:language>en-US</dc:language>
  <cp:lastModifiedBy>Пользователь</cp:lastModifiedBy>
  <dcterms:modified xsi:type="dcterms:W3CDTF">2022-12-25T12:23:08Z</dcterms:modified>
  <cp:revision>35</cp:revision>
  <dc:subject/>
  <dc:title>Слайд 1</dc:title>
</cp:coreProperties>
</file>