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65480" y="63752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559DDC75-C37C-46A0-8F06-686C0F719407}" type="slidenum">
              <a:rPr b="1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28760" y="8568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 реке Енисей обитает 46 видов ры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 русле реки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ариус, тугун, елец и другие пресноводные рыб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 залива населяют морские и солоноватоводные рыбы: сельдь атлантическая, камбала полярная, навага, сайка, арктический бычок и многие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слей из –за низкой температуры вода и быстрого течения растёт мало, в основном это водоросли рд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200" y="857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сей — важнейший водный путь Красноярского кр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порты и пристани: Абакан, Красноярск, Стрелка, Маклаково, Енисейск, Туруханск, Игарка, Усть-По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PICT3201.jpg"/>
          <p:cNvPicPr/>
          <p:nvPr/>
        </p:nvPicPr>
        <p:blipFill>
          <a:blip r:embed="rId1"/>
          <a:stretch/>
        </p:blipFill>
        <p:spPr>
          <a:xfrm>
            <a:off x="4206960" y="3638520"/>
            <a:ext cx="46749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19T07:52:09Z</dcterms:modified>
  <cp:revision>231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