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65480" y="637524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Page </a:t>
            </a:r>
            <a:fld id="{0699C9EF-94BB-4C6F-817F-9D643FD29E27}" type="slidenum">
              <a:rPr b="1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а Енис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428760" y="8568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 реке Енисей обитает 46 видов ры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ном русле реки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ариус, тугун, елец и другие пресноводные рыб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ы залива населяют морские и солоноватоводные рыбы: сельдь атлантическая, камбала полярная, навага, сайка, арктический бычок и многие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а Енис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слей из –за низкой температуры вода и быстрого течения растёт мало, в основном это водоросли рде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а Енис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4200" y="857160"/>
            <a:ext cx="8715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сей — важнейший водный путь Красноярского кр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е порты и пристани: Абакан, Красноярск, Стрелка, Маклаково, Енисейск, Туруханск, Игарка, Усть-Пор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PICT3201.jpg"/>
          <p:cNvPicPr/>
          <p:nvPr/>
        </p:nvPicPr>
        <p:blipFill>
          <a:blip r:embed="rId1"/>
          <a:stretch/>
        </p:blipFill>
        <p:spPr>
          <a:xfrm>
            <a:off x="4206960" y="3638520"/>
            <a:ext cx="467496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0:23:18Z</dcterms:created>
  <dc:creator>User</dc:creator>
  <dc:description/>
  <dc:language>en-US</dc:language>
  <cp:lastModifiedBy>Lenovo</cp:lastModifiedBy>
  <dcterms:modified xsi:type="dcterms:W3CDTF">2023-02-19T07:52:09Z</dcterms:modified>
  <cp:revision>231</cp:revision>
  <dc:subject/>
  <dc:title>Делители и кратны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80000000000010250300207f7000400038000</vt:lpwstr>
  </property>
</Properties>
</file>