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65480" y="637524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Page </a:t>
            </a:r>
            <a:fld id="{3277DC91-B026-4E8B-A466-723748E62584}" type="slidenum">
              <a:rPr b="1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а Енис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на Енисее построены самые мощные Евразии гидроэлектростан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яно-Шушенская ГЭ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нская ГЭ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ярская ГЭ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Рисунок 3" descr="ed4eb98bd73c2b8ea9f7d62fea469d16.jpg"/>
          <p:cNvPicPr/>
          <p:nvPr/>
        </p:nvPicPr>
        <p:blipFill>
          <a:blip r:embed="rId1"/>
          <a:stretch/>
        </p:blipFill>
        <p:spPr>
          <a:xfrm>
            <a:off x="4565520" y="3352680"/>
            <a:ext cx="4370400" cy="3133800"/>
          </a:xfrm>
          <a:prstGeom prst="rect">
            <a:avLst/>
          </a:prstGeom>
          <a:ln w="0">
            <a:noFill/>
          </a:ln>
        </p:spPr>
      </p:pic>
      <p:sp>
        <p:nvSpPr>
          <p:cNvPr id="41" name="TextBox 4"/>
          <p:cNvSpPr/>
          <p:nvPr/>
        </p:nvSpPr>
        <p:spPr>
          <a:xfrm>
            <a:off x="5357880" y="62866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ярская ГЭ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чка отбора проб воды реки Енисей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ый берег реки вдоль улицы Просве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IMG_20180224_173623.jpg"/>
          <p:cNvPicPr/>
          <p:nvPr/>
        </p:nvPicPr>
        <p:blipFill>
          <a:blip r:embed="rId1"/>
          <a:stretch/>
        </p:blipFill>
        <p:spPr>
          <a:xfrm>
            <a:off x="4714920" y="3143160"/>
            <a:ext cx="4429080" cy="318636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5" name="Рисунок 7" descr="IMG_20180224_174235.jpg"/>
          <p:cNvPicPr/>
          <p:nvPr/>
        </p:nvPicPr>
        <p:blipFill>
          <a:blip r:embed="rId2"/>
          <a:stretch/>
        </p:blipFill>
        <p:spPr>
          <a:xfrm>
            <a:off x="0" y="3143160"/>
            <a:ext cx="4381560" cy="32148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ы изучения показателей воды</a:t>
            </a: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8760" y="642600"/>
            <a:ext cx="822960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ческие методы анализ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ачественного анали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цвета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8571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воды не должен обнаруживаться в столбике высотой 15 см. Мы заполнили пробирку водой и сравнили его с белым фоном бума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 «Цвет воды реки Енисей в окрестности села Есауло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14200" y="3286080"/>
          <a:ext cx="8786880" cy="3357720"/>
        </p:xfrm>
        <a:graphic>
          <a:graphicData uri="http://schemas.openxmlformats.org/drawingml/2006/table">
            <a:tbl>
              <a:tblPr/>
              <a:tblGrid>
                <a:gridCol w="4394160"/>
                <a:gridCol w="4392720"/>
              </a:tblGrid>
              <a:tr h="59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взятия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0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1.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89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2.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90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1.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9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2.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прозрачности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розрачную воду под пробиркой на расстоянии 4 см читается текст шрифтом 11-12 кеглей. Чем выше столбик воды, тем больше прозра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 «Прозрачность (мутность) воды реки Енисей в окрестности села Есауло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4200" y="3643200"/>
          <a:ext cx="8786880" cy="3071880"/>
        </p:xfrm>
        <a:graphic>
          <a:graphicData uri="http://schemas.openxmlformats.org/drawingml/2006/table">
            <a:tbl>
              <a:tblPr/>
              <a:tblGrid>
                <a:gridCol w="4394160"/>
                <a:gridCol w="4392720"/>
              </a:tblGrid>
              <a:tr h="61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взятия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ость 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1.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1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2.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1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1.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27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2.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нсивность запаха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4200" y="71424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«Интенсивность запаха во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14200" y="1357200"/>
          <a:ext cx="8715600" cy="5143680"/>
        </p:xfrm>
        <a:graphic>
          <a:graphicData uri="http://schemas.openxmlformats.org/drawingml/2006/table">
            <a:tbl>
              <a:tblPr/>
              <a:tblGrid>
                <a:gridCol w="2178000"/>
                <a:gridCol w="2178360"/>
                <a:gridCol w="2181240"/>
                <a:gridCol w="2178000"/>
              </a:tblGrid>
              <a:tr h="4575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взятия про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нтенсивность зап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Характер и род зап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и 20 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и 60 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1.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лабый (2 бал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тчётли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4 балла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Неопределе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химическ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2.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 бал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щутим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3 балла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Неопределе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химическ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1.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 бал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чень слаб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1 бал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Неопределе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химическ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2.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 бал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щутим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3 бал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Неопределе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химическ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жёсткости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100 мл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чайную ложку соды.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ёсткая, 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ада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сли осадка нет, то вода в реке – мяг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«Ж</a:t>
            </a:r>
            <a:r>
              <a:rPr b="1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сткост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или мягкость </a:t>
            </a:r>
            <a:r>
              <a:rPr b="1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ы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2920" y="3000240"/>
          <a:ext cx="8786880" cy="3643560"/>
        </p:xfrm>
        <a:graphic>
          <a:graphicData uri="http://schemas.openxmlformats.org/drawingml/2006/table">
            <a:tbl>
              <a:tblPr/>
              <a:tblGrid>
                <a:gridCol w="4394160"/>
                <a:gridCol w="4392720"/>
              </a:tblGrid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взятия про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ость, мягк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29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1.20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ёст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2.20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ёст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1.20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ёст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2.20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ёст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класса качества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4200" y="928440"/>
            <a:ext cx="8715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о определенна загрязнённость воды в реке Енис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«Класс качества </a:t>
            </a:r>
            <a:r>
              <a:rPr b="1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ы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еке Енис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2920" y="2409840"/>
          <a:ext cx="8858160" cy="4330800"/>
        </p:xfrm>
        <a:graphic>
          <a:graphicData uri="http://schemas.openxmlformats.org/drawingml/2006/table">
            <a:tbl>
              <a:tblPr/>
              <a:tblGrid>
                <a:gridCol w="4429080"/>
                <a:gridCol w="4429080"/>
              </a:tblGrid>
              <a:tr h="67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взятия про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качества 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1.20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о загрязнё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 клас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2.20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о загрязнё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 клас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1.20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о загрязнё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 клас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2.20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о загрязнё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 клас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авнение средних показателей качества воды реки Енисей с нормативными показателями воды для водоёмов по СанПи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980-00. 2.1.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водных объек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1571760"/>
          <a:ext cx="9144000" cy="5143320"/>
        </p:xfrm>
        <a:graphic>
          <a:graphicData uri="http://schemas.openxmlformats.org/drawingml/2006/table">
            <a:tbl>
              <a:tblPr/>
              <a:tblGrid>
                <a:gridCol w="1306440"/>
                <a:gridCol w="1306440"/>
                <a:gridCol w="1306800"/>
                <a:gridCol w="1304640"/>
                <a:gridCol w="1306800"/>
                <a:gridCol w="1306440"/>
                <a:gridCol w="1306440"/>
              </a:tblGrid>
              <a:tr h="2746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сть запа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ость мягк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20 º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60 º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9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ед. пок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ели воды Енис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р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лаб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2 бал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лаб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2 бал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ёст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меренно загрязн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3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рмат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ые пок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сут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лаб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2 бал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лаб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2 бал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яг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ист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2 клас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0:23:18Z</dcterms:created>
  <dc:creator>User</dc:creator>
  <dc:description/>
  <dc:language>en-US</dc:language>
  <cp:lastModifiedBy>Lenovo</cp:lastModifiedBy>
  <dcterms:modified xsi:type="dcterms:W3CDTF">2023-02-19T07:54:20Z</dcterms:modified>
  <cp:revision>228</cp:revision>
  <dc:subject/>
  <dc:title>Делители и кратны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80000000000010250300207f7000400038000</vt:lpwstr>
  </property>
</Properties>
</file>