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7" descr="Sansbvcbdsfstitre-1sdfsfs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 Box 8"/>
          <p:cNvSpPr/>
          <p:nvPr/>
        </p:nvSpPr>
        <p:spPr>
          <a:xfrm>
            <a:off x="7665480" y="637524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alibri"/>
              </a:rPr>
              <a:t>Page </a:t>
            </a:r>
            <a:fld id="{5D3149D6-6CBF-4AE8-994A-BB9CC23CE44A}" type="slidenum">
              <a:rPr b="1" lang="fr-F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ка Енис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 txBox="1"/>
          <p:nvPr/>
        </p:nvSpPr>
        <p:spPr>
          <a:xfrm>
            <a:off x="500040" y="107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же на Енисее построены самые мощные Евразии гидроэлектростанци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яно-Шушенская ГЭ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йнская ГЭ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ноярская ГЭ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Рисунок 3" descr="ed4eb98bd73c2b8ea9f7d62fea469d16.jpg"/>
          <p:cNvPicPr/>
          <p:nvPr/>
        </p:nvPicPr>
        <p:blipFill>
          <a:blip r:embed="rId1"/>
          <a:stretch/>
        </p:blipFill>
        <p:spPr>
          <a:xfrm>
            <a:off x="4565520" y="3352680"/>
            <a:ext cx="4370400" cy="3133800"/>
          </a:xfrm>
          <a:prstGeom prst="rect">
            <a:avLst/>
          </a:prstGeom>
          <a:ln w="0">
            <a:noFill/>
          </a:ln>
        </p:spPr>
      </p:pic>
      <p:sp>
        <p:nvSpPr>
          <p:cNvPr id="41" name="TextBox 4"/>
          <p:cNvSpPr/>
          <p:nvPr/>
        </p:nvSpPr>
        <p:spPr>
          <a:xfrm>
            <a:off x="5357880" y="628668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ноярская ГЭ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очка отбора проб воды реки Енисей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ый берег реки вдоль улицы Просвещ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3" descr="IMG_20180224_173623.jpg"/>
          <p:cNvPicPr/>
          <p:nvPr/>
        </p:nvPicPr>
        <p:blipFill>
          <a:blip r:embed="rId1"/>
          <a:stretch/>
        </p:blipFill>
        <p:spPr>
          <a:xfrm>
            <a:off x="4714920" y="3143160"/>
            <a:ext cx="4429080" cy="3186360"/>
          </a:xfrm>
          <a:prstGeom prst="rect">
            <a:avLst/>
          </a:prstGeom>
          <a:ln cap="sq" w="324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45" name="Рисунок 7" descr="IMG_20180224_174235.jpg"/>
          <p:cNvPicPr/>
          <p:nvPr/>
        </p:nvPicPr>
        <p:blipFill>
          <a:blip r:embed="rId2"/>
          <a:stretch/>
        </p:blipFill>
        <p:spPr>
          <a:xfrm>
            <a:off x="0" y="3143160"/>
            <a:ext cx="4381560" cy="3214800"/>
          </a:xfrm>
          <a:prstGeom prst="rect">
            <a:avLst/>
          </a:prstGeom>
          <a:ln cap="sq" w="324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тоды изучения показателей воды</a:t>
            </a:r>
            <a:r>
              <a:rPr b="0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28760" y="642600"/>
            <a:ext cx="8229600" cy="39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олептические методы анализ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качественного анали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пределение цвета во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28760" y="85716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вет воды не должен обнаруживаться в столбике высотой 15 см. Мы заполнили пробирку водой и сравнили его с белым фоном бумаг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 «Цвет воды реки Енисей в окрестности села Есаулов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14200" y="3286080"/>
          <a:ext cx="8786880" cy="3357720"/>
        </p:xfrm>
        <a:graphic>
          <a:graphicData uri="http://schemas.openxmlformats.org/drawingml/2006/table">
            <a:tbl>
              <a:tblPr/>
              <a:tblGrid>
                <a:gridCol w="4394160"/>
                <a:gridCol w="4392720"/>
              </a:tblGrid>
              <a:tr h="596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взятия проб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вет во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90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11.20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689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12.20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690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01.20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690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02.20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пределение прозрачности во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57120" y="9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з прозрачную воду под пробиркой на расстоянии 4 см читается текст шрифтом 11-12 кеглей. Чем выше столбик воды, тем больше прозрач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 «Прозрачность (мутность) воды реки Енисей в окрестности села Есаулов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14200" y="3643200"/>
          <a:ext cx="8786880" cy="3071880"/>
        </p:xfrm>
        <a:graphic>
          <a:graphicData uri="http://schemas.openxmlformats.org/drawingml/2006/table">
            <a:tbl>
              <a:tblPr/>
              <a:tblGrid>
                <a:gridCol w="4394160"/>
                <a:gridCol w="4392720"/>
              </a:tblGrid>
              <a:tr h="611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взятия проб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зрачность во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11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11.20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с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611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12.20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с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610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01.20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с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627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02.20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с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тенсивность запаха во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14200" y="714240"/>
            <a:ext cx="87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 «Интенсивность запаха вод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14200" y="1357200"/>
          <a:ext cx="8715600" cy="5143680"/>
        </p:xfrm>
        <a:graphic>
          <a:graphicData uri="http://schemas.openxmlformats.org/drawingml/2006/table">
            <a:tbl>
              <a:tblPr/>
              <a:tblGrid>
                <a:gridCol w="2178000"/>
                <a:gridCol w="2178360"/>
                <a:gridCol w="2181240"/>
                <a:gridCol w="2178000"/>
              </a:tblGrid>
              <a:tr h="45756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взятия проб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Интенсивность запах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Характер и род запах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1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При 20 º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При 60 º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4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11.20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Слабый (2 балл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Отчётлив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(4 балла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Неопределенны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(химический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914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12.20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 бал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Ощутимы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(3 балла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Неопределенны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(химический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914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01.20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 бал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Очень слаб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(1 балл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Неопределенны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(химический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914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02.20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 бал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Ощутимы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(3 балл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Неопределенны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(химический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жёсткости во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100 мл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а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чайную ложку соды.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ёсткая, т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адае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адо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Если осадка нет, то вода в реке – мягк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 «Ж</a:t>
            </a:r>
            <a:r>
              <a:rPr b="1" i="1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ёсткост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ьили мягкость </a:t>
            </a:r>
            <a:r>
              <a:rPr b="1" i="1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ы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42920" y="3000240"/>
          <a:ext cx="8786880" cy="3643560"/>
        </p:xfrm>
        <a:graphic>
          <a:graphicData uri="http://schemas.openxmlformats.org/drawingml/2006/table">
            <a:tbl>
              <a:tblPr/>
              <a:tblGrid>
                <a:gridCol w="4394160"/>
                <a:gridCol w="4392720"/>
              </a:tblGrid>
              <a:tr h="728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взятия проб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сткость, мягк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29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11.20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ёстк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28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12.20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ёстк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28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01.20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ёстк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28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02.20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ёстк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класса качества во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14200" y="928440"/>
            <a:ext cx="871560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чественно определенна загрязнённость воды в реке Енис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 «Класс качества </a:t>
            </a:r>
            <a:r>
              <a:rPr b="1" i="1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ы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реке Енисе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42920" y="2409840"/>
          <a:ext cx="8858160" cy="4330800"/>
        </p:xfrm>
        <a:graphic>
          <a:graphicData uri="http://schemas.openxmlformats.org/drawingml/2006/table">
            <a:tbl>
              <a:tblPr/>
              <a:tblGrid>
                <a:gridCol w="4429080"/>
                <a:gridCol w="4429080"/>
              </a:tblGrid>
              <a:tr h="671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взятия проб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 качества в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31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11.20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енно загрязнён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 класс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097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12.20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енно загрязнён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 класс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31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01.20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енно загрязнён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 класс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097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02.20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енно загрязнён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 класс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2920" y="274680"/>
            <a:ext cx="885816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равнение средних показателей качества воды реки Енисей с нормативными показателями воды для водоёмов по СанПиН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5.980-00. 2.1.5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рана водных объекто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br>
              <a:rPr sz="5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0" y="1571760"/>
          <a:ext cx="9144000" cy="5143320"/>
        </p:xfrm>
        <a:graphic>
          <a:graphicData uri="http://schemas.openxmlformats.org/drawingml/2006/table">
            <a:tbl>
              <a:tblPr/>
              <a:tblGrid>
                <a:gridCol w="1306440"/>
                <a:gridCol w="1306440"/>
                <a:gridCol w="1306800"/>
                <a:gridCol w="1304640"/>
                <a:gridCol w="1306800"/>
                <a:gridCol w="1306440"/>
                <a:gridCol w="1306440"/>
              </a:tblGrid>
              <a:tr h="27468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 в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в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зра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нсивность запах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сткость мягк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 кач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20 º 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60 º 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59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ред. пока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тели воды Енис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еры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 с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лаб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(2 балл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лабы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(2 балл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жёст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Умеренно загрязне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(3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4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ормати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ые пока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тсут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у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 с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лаб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(2 балл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лаб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(2 балл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яг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Чист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(2 клас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30T10:23:18Z</dcterms:created>
  <dc:creator>User</dc:creator>
  <dc:description/>
  <dc:language>en-US</dc:language>
  <cp:lastModifiedBy>Lenovo</cp:lastModifiedBy>
  <dcterms:modified xsi:type="dcterms:W3CDTF">2023-02-19T07:54:20Z</dcterms:modified>
  <cp:revision>228</cp:revision>
  <dc:subject/>
  <dc:title>Делители и кратны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2080000000000010250300207f7000400038000</vt:lpwstr>
  </property>
</Properties>
</file>