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B48FC68D-5E37-4B95-864C-CCDFE3034351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IMG_20180305_135554.jpg"/>
          <p:cNvPicPr/>
          <p:nvPr/>
        </p:nvPicPr>
        <p:blipFill>
          <a:blip r:embed="rId1"/>
          <a:stretch/>
        </p:blipFill>
        <p:spPr>
          <a:xfrm>
            <a:off x="1852560" y="2992320"/>
            <a:ext cx="5224680" cy="38721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13880" y="642600"/>
            <a:ext cx="72867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а в реке Енисей, умеренно загрязнен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её в таких хозяйственных нуждах, как мытьё, полив, стирка, мы не рекомендовали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гипотеза потверд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име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928440"/>
            <a:ext cx="8715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нет других способов водоснабжения, можно, например,  отстаивать воду в течении 5-ти часов для стирки, мытья, по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сти насос с фильт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име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928440"/>
            <a:ext cx="8715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 в Енисее, мы тоже не рекомендовали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ли купаться, то только при температуре не ниже 19-20 º С. И с соблюдением правил поведения на р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филактике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400" y="714240"/>
            <a:ext cx="871524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ор после пикника увозить с берега Енисея с собой на утилизацию (вывоз мусора, организованный в сел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ено, что к 1 мусорному пакету за короткое время люди подбрасывают другие пакеты с мус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филактике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64296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ду хозяйственные отходы не бро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шины на берегу Енисея не м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если не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2960" y="28548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 провести с одноклассниками Экологический десант вдоль берега Енис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IMG_20180224_174126.jpg"/>
          <p:cNvPicPr/>
          <p:nvPr/>
        </p:nvPicPr>
        <p:blipFill>
          <a:blip r:embed="rId1"/>
          <a:stretch/>
        </p:blipFill>
        <p:spPr>
          <a:xfrm>
            <a:off x="1857240" y="2500200"/>
            <a:ext cx="5500800" cy="41259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если не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2960" y="28548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азвешали по селу агитки с рекомендациями по профилактике загрязнения нашего Енис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rcRect l="26388" t="23317" r="25638" b="15999"/>
          <a:stretch/>
        </p:blipFill>
        <p:spPr>
          <a:xfrm>
            <a:off x="2116080" y="3000240"/>
            <a:ext cx="531360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81439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КАЧЕСТВА ВОДЫ РЕКИ ЕНИСЕЙ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14316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углов Мирон и Садырина Александр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3 класса МБОУ «Есаульская СОШ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ченко Татьяна Викторовна, учитель начальных классов МБОУ «Есаульская СОШ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8:57Z</dcterms:modified>
  <cp:revision>229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