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65480" y="63752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6E9CD573-5E88-4CFA-B7C2-9F6C431C7223}" type="slidenum">
              <a:rPr b="1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IMG_20180305_135554.jpg"/>
          <p:cNvPicPr/>
          <p:nvPr/>
        </p:nvPicPr>
        <p:blipFill>
          <a:blip r:embed="rId1"/>
          <a:stretch/>
        </p:blipFill>
        <p:spPr>
          <a:xfrm>
            <a:off x="1852560" y="2992320"/>
            <a:ext cx="5224680" cy="38721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713880" y="642600"/>
            <a:ext cx="72867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а в реке Енисей, умеренно загрязнена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её в таких хозяйственных нуждах, как мытьё, полив, стирка, мы не рекомендовали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гипотеза потверд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примен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4200" y="928440"/>
            <a:ext cx="8715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нет других способов водоснабжения, можно, например,  отстаивать воду в течении 5-ти часов для стирки, мытья, пол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сти насос с фильт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примен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928440"/>
            <a:ext cx="8715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 в Енисее, мы тоже не рекомендовали 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если купаться, то только при температуре не ниже 19-20 º С. И с соблюдением правил поведения на р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профилактике загряз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400" y="714240"/>
            <a:ext cx="871524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ор после пикника увозить с берега Енисея с собой на утилизацию (вывоз мусора, организованный в сел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ено, что к 1 мусорному пакету за короткое время люди подбрасывают другие пакеты с мус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профилактике загряз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400" y="64296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ду хозяйственные отходы не бро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шины на берегу Енисея не м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если не 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42960" y="285480"/>
            <a:ext cx="8501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 провести с одноклассниками Экологический десант вдоль берега Енис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IMG_20180224_174126.jpg"/>
          <p:cNvPicPr/>
          <p:nvPr/>
        </p:nvPicPr>
        <p:blipFill>
          <a:blip r:embed="rId1"/>
          <a:stretch/>
        </p:blipFill>
        <p:spPr>
          <a:xfrm>
            <a:off x="1857240" y="2500200"/>
            <a:ext cx="5500800" cy="41259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если не 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42960" y="285480"/>
            <a:ext cx="8501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развешали по селу агитки с рекомендациями по профилактике загрязнения нашего Енис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rcRect l="26388" t="23317" r="25638" b="15999"/>
          <a:stretch/>
        </p:blipFill>
        <p:spPr>
          <a:xfrm>
            <a:off x="2116080" y="3000240"/>
            <a:ext cx="5313600" cy="36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814392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ЕНИЕ КАЧЕСТВА ВОДЫ РЕКИ ЕНИСЕЙ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143160" y="2999880"/>
            <a:ext cx="578664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углов Мирон и Садырина Александра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3 класса МБОУ «Есаульская СОШ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Ивченко Татьяна Викторовна, учитель начальных классов МБОУ «Есаульская СОШ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19T07:58:57Z</dcterms:modified>
  <cp:revision>229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