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D6C-0583-416A-8731-BC1C5804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01B-752E-4EED-861D-4054EDB3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D2C-FF86-4573-8E6A-B75DCF74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D36-DA32-44DE-B445-6ADC43F9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9D46-0267-4E21-9711-CB7E58DA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B47F-16D1-47F9-BC4C-9F9C0152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A293-C92A-4D52-96FA-8146D73B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A81D-8761-4F54-BEF1-64BD774A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6CB0-24A4-4871-A79E-C974707F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9D3E-57BE-4E45-9FA7-7DE3953D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EE48-7EBA-4A6D-A623-00B028C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022-5815-469B-8679-D7A25B44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31F7-954F-4686-91E8-322C6D8D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A647-9F41-4B19-8DCC-DD17CE8E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FBB2-CCCA-45C6-A2ED-9AFDC0D1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5A09-DEEB-403D-BEC8-EC9FCA39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CED7-7442-4ABA-BAB2-BD086C01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17F-B967-49BB-97B7-E4C3A46B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886-3913-431C-A493-B7AE33B7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AF4-2E82-4A3B-8210-F92185A9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7C3-D0A1-4A79-A814-1BEDB12A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BD2-1D7F-4BA7-931D-8C54B01B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72D-0B58-42FB-BB3A-92F4AA9D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8B0-E466-4232-BF16-5051AE29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FD2F-FFE7-435F-A696-E7A5A52644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3A58-950F-4088-89A0-D4F073D9AA9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6"/>
          <p:cNvSpPr txBox="1"/>
          <p:nvPr/>
        </p:nvSpPr>
        <p:spPr>
          <a:xfrm>
            <a:off x="684360" y="692280"/>
            <a:ext cx="6551640" cy="36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сле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Shirokaja_maslenica_068"/>
          <p:cNvPicPr/>
          <p:nvPr/>
        </p:nvPicPr>
        <p:blipFill>
          <a:blip r:embed="rId1"/>
          <a:stretch/>
        </p:blipFill>
        <p:spPr>
          <a:xfrm>
            <a:off x="324000" y="836640"/>
            <a:ext cx="67323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468360" y="1187640"/>
            <a:ext cx="7278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Широкая Масленица, чего села в сан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Не гуляешь с нам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Я гуляла с вами, теперь села в са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Пела и плясала, больно я уста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Кончилось весельице, беритесь за дельц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Направляйте сошенку выехать на пашенку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А со мной проститеся, чаем угоститес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50920" y="54936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6c"/>
                </a:solidFill>
                <a:latin typeface="Arial"/>
              </a:rPr>
              <a:t>Самое главное - это блины! Блин - символ солнца. Такой же круглый и горячий. </a:t>
            </a:r>
            <a:r>
              <a:rPr b="0" lang="ru-RU" sz="1800" spc="-1" strike="noStrike">
                <a:solidFill>
                  <a:srgbClr val="eaea6c"/>
                </a:solidFill>
                <a:latin typeface="Arial"/>
              </a:rPr>
              <a:t>С пылу с жару подаются они на стол. С маслом, со сметаной, с икрой, грибами, севрюжиной или осетриной - выбирай на любой вкус. А, наевшись досыта – гуляй и развлекайся! 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-4577400" y="2971800"/>
            <a:ext cx="3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! 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8" descr="44big0"/>
          <p:cNvPicPr/>
          <p:nvPr/>
        </p:nvPicPr>
        <p:blipFill>
          <a:blip r:embed="rId1"/>
          <a:stretch/>
        </p:blipFill>
        <p:spPr>
          <a:xfrm>
            <a:off x="324000" y="2133720"/>
            <a:ext cx="3017520" cy="2703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53aa5621f34b"/>
          <p:cNvPicPr/>
          <p:nvPr/>
        </p:nvPicPr>
        <p:blipFill>
          <a:blip r:embed="rId2"/>
          <a:stretch/>
        </p:blipFill>
        <p:spPr>
          <a:xfrm>
            <a:off x="3780000" y="2924280"/>
            <a:ext cx="3068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395280" y="549360"/>
            <a:ext cx="6769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недельник - встреча</a:t>
            </a:r>
            <a:endParaRPr b="1" i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50920" y="1484280"/>
            <a:ext cx="7057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6c"/>
                </a:solidFill>
                <a:latin typeface="Times New Roman"/>
              </a:rPr>
              <a:t>На первый день масленицы русский народ справлял встречу Чистой масленицы - широкой боярыни. В старину дети с утра выходили на улицу строить снежные го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7" descr="1299159891_risunok10"/>
          <p:cNvPicPr/>
          <p:nvPr/>
        </p:nvPicPr>
        <p:blipFill>
          <a:blip r:embed="rId1"/>
          <a:stretch/>
        </p:blipFill>
        <p:spPr>
          <a:xfrm>
            <a:off x="1332000" y="306864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179280" y="162864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0b85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6c"/>
                </a:solidFill>
                <a:latin typeface="Verdana"/>
              </a:rPr>
              <a:t>На заигрыши с утра девицы и молодцы ходили в гости - покататься на горах, поесть блинов. Дети катались с гор во все дни масленицы – съезжали с гор на санях, на салазках, или на обледенелых рогожах.</a:t>
            </a:r>
            <a:r>
              <a:rPr b="0" lang="ru-RU" sz="2400" spc="-1" strike="noStrike">
                <a:solidFill>
                  <a:srgbClr val="eaea6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9" descr="01d1843oc5d582b119859o8b2odcoodl"/>
          <p:cNvPicPr/>
          <p:nvPr/>
        </p:nvPicPr>
        <p:blipFill>
          <a:blip r:embed="rId1"/>
          <a:stretch/>
        </p:blipFill>
        <p:spPr>
          <a:xfrm>
            <a:off x="4643280" y="3716280"/>
            <a:ext cx="2829240" cy="2828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yOGmevqa6_8"/>
          <p:cNvPicPr/>
          <p:nvPr/>
        </p:nvPicPr>
        <p:blipFill>
          <a:blip r:embed="rId2"/>
          <a:stretch/>
        </p:blipFill>
        <p:spPr>
          <a:xfrm>
            <a:off x="468360" y="3860640"/>
            <a:ext cx="3384360" cy="25560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12"/>
          <p:cNvSpPr txBox="1"/>
          <p:nvPr/>
        </p:nvSpPr>
        <p:spPr>
          <a:xfrm>
            <a:off x="684360" y="549360"/>
            <a:ext cx="5746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ник -заигры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68360" y="1989000"/>
            <a:ext cx="740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Тут СРЕДА подходит - "ЛАКОМКОЙ" зовётся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Каждая хозяюшка колдует у печи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Кулебяки, сырники - всё им удаётся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Пироги и блинчики - всё на стол мечи!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8" descr="%D0%90%D0%BF%D0%BE%D1%82%D0%B0%D1%82%D0%B0%D1%82%D0%B0%D1%82%D0%B0%D1%82"/>
          <p:cNvPicPr/>
          <p:nvPr/>
        </p:nvPicPr>
        <p:blipFill>
          <a:blip r:embed="rId1"/>
          <a:stretch/>
        </p:blipFill>
        <p:spPr>
          <a:xfrm>
            <a:off x="1908000" y="3500280"/>
            <a:ext cx="4681800" cy="3116520"/>
          </a:xfrm>
          <a:prstGeom prst="rect">
            <a:avLst/>
          </a:prstGeom>
          <a:ln w="0">
            <a:noFill/>
          </a:ln>
        </p:spPr>
      </p:pic>
      <p:sp>
        <p:nvSpPr>
          <p:cNvPr id="206" name="WordArt 9"/>
          <p:cNvSpPr txBox="1"/>
          <p:nvPr/>
        </p:nvSpPr>
        <p:spPr>
          <a:xfrm>
            <a:off x="971640" y="549360"/>
            <a:ext cx="5195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а- лаком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0" y="1557360"/>
            <a:ext cx="756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6c"/>
                </a:solidFill>
                <a:latin typeface="Times New Roman"/>
              </a:rPr>
              <a:t>С четверга, недаром называвшегося «широким», масленичный разгул развертывался во всю ширь. Всем миром, в качестве участников или активных, заинтересованных зрителей, выходили на кулачные бои, возведение и взятие снежного города, на конские бега, катание по улица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7" descr="5354644"/>
          <p:cNvPicPr/>
          <p:nvPr/>
        </p:nvPicPr>
        <p:blipFill>
          <a:blip r:embed="rId1"/>
          <a:stretch/>
        </p:blipFill>
        <p:spPr>
          <a:xfrm>
            <a:off x="108000" y="3933720"/>
            <a:ext cx="3960720" cy="2475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1265638207_17"/>
          <p:cNvPicPr/>
          <p:nvPr/>
        </p:nvPicPr>
        <p:blipFill>
          <a:blip r:embed="rId2"/>
          <a:stretch/>
        </p:blipFill>
        <p:spPr>
          <a:xfrm>
            <a:off x="4356000" y="4005360"/>
            <a:ext cx="3382920" cy="253656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0"/>
          <p:cNvSpPr txBox="1"/>
          <p:nvPr/>
        </p:nvSpPr>
        <p:spPr>
          <a:xfrm>
            <a:off x="1187280" y="476280"/>
            <a:ext cx="5689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г - разгу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6"/>
          <p:cNvSpPr txBox="1"/>
          <p:nvPr/>
        </p:nvSpPr>
        <p:spPr>
          <a:xfrm>
            <a:off x="684360" y="549360"/>
            <a:ext cx="590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ница-тещины вечер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24000" y="2205000"/>
            <a:ext cx="690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6c"/>
                </a:solidFill>
                <a:latin typeface="Times New Roman"/>
              </a:rPr>
              <a:t>ПЯТНИЦА настала - "ВЕЧЕРА у ТЁЩИ"...</a:t>
            </a:r>
            <a:br>
              <a:rPr sz="2400"/>
            </a:br>
            <a:r>
              <a:rPr b="1" lang="ru-RU" sz="2400" spc="-1" strike="noStrike">
                <a:solidFill>
                  <a:srgbClr val="eaea6c"/>
                </a:solidFill>
                <a:latin typeface="Times New Roman"/>
              </a:rPr>
              <a:t>Тёща приглашает зятя на блины!</a:t>
            </a:r>
            <a:br>
              <a:rPr sz="2400"/>
            </a:br>
            <a:r>
              <a:rPr b="1" lang="ru-RU" sz="2400" spc="-1" strike="noStrike">
                <a:solidFill>
                  <a:srgbClr val="eaea6c"/>
                </a:solidFill>
                <a:latin typeface="Times New Roman"/>
              </a:rPr>
              <a:t>Есть с икрой и сёмгой, можно чуть попроще,</a:t>
            </a:r>
            <a:br>
              <a:rPr sz="2400"/>
            </a:br>
            <a:r>
              <a:rPr b="1" lang="ru-RU" sz="2400" spc="-1" strike="noStrike">
                <a:solidFill>
                  <a:srgbClr val="eaea6c"/>
                </a:solidFill>
                <a:latin typeface="Times New Roman"/>
              </a:rPr>
              <a:t>Со сметаной, мёдом, с маслом ели мы.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9" descr="1920x1440_634254_%5bwww"/>
          <p:cNvPicPr/>
          <p:nvPr/>
        </p:nvPicPr>
        <p:blipFill>
          <a:blip r:embed="rId1"/>
          <a:stretch/>
        </p:blipFill>
        <p:spPr>
          <a:xfrm>
            <a:off x="2556000" y="4149720"/>
            <a:ext cx="33462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250920" y="476280"/>
            <a:ext cx="727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ббота-Золовкины посиделк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79280" y="1989000"/>
            <a:ext cx="716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Близится СУББОТА - "ЗОЛОВКИ УГОЩЕНИЕ"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Вся родня встречается, водит хоровод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Праздник продолжается, общее веселье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Славно провожает Зимушку народ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7" descr="winter1"/>
          <p:cNvPicPr/>
          <p:nvPr/>
        </p:nvPicPr>
        <p:blipFill>
          <a:blip r:embed="rId1"/>
          <a:stretch/>
        </p:blipFill>
        <p:spPr>
          <a:xfrm>
            <a:off x="1835280" y="4005360"/>
            <a:ext cx="415764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755640" y="404640"/>
            <a:ext cx="689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кресенье -Прощеный де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413000"/>
            <a:ext cx="66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ВОСКРЕСЕНЬЕ -светлое быстро наступает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Облегчают душу все в "ПРОЩЁНЫЙ ДЕНЬ"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Чучело соломенное - Зимушку - сжигают,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Нарядив в тулупчик, валенки, ремень...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7" descr="0950653"/>
          <p:cNvPicPr/>
          <p:nvPr/>
        </p:nvPicPr>
        <p:blipFill>
          <a:blip r:embed="rId1"/>
          <a:stretch/>
        </p:blipFill>
        <p:spPr>
          <a:xfrm>
            <a:off x="2124000" y="3933720"/>
            <a:ext cx="2987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06:16:43Z</dcterms:created>
  <dc:creator>Владимир</dc:creator>
  <dc:description/>
  <dc:language>en-US</dc:language>
  <cp:lastModifiedBy>а</cp:lastModifiedBy>
  <dcterms:modified xsi:type="dcterms:W3CDTF">2023-02-19T11:06:56Z</dcterms:modified>
  <cp:revision>3</cp:revision>
  <dc:subject/>
  <dc:title>Слайд 1</dc:title>
</cp:coreProperties>
</file>