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6.gif" ContentType="image/gif"/>
  <Override PartName="/ppt/media/image22.png" ContentType="image/png"/>
  <Override PartName="/ppt/media/image24.jpeg" ContentType="image/jpe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7.gif" ContentType="image/gif"/>
  <Override PartName="/ppt/media/image26.jpeg" ContentType="image/jpeg"/>
  <Override PartName="/ppt/media/image36.png" ContentType="image/png"/>
  <Override PartName="/ppt/media/image23.png" ContentType="image/png"/>
  <Override PartName="/ppt/media/image13.jpeg" ContentType="image/jpeg"/>
  <Override PartName="/ppt/media/image30.jpeg" ContentType="image/jpeg"/>
  <Override PartName="/ppt/media/image15.png" ContentType="image/png"/>
  <Override PartName="/ppt/media/image8.gif" ContentType="image/gif"/>
  <Override PartName="/ppt/media/image38.gif" ContentType="image/gif"/>
  <Override PartName="/ppt/media/image31.jpeg" ContentType="image/jpeg"/>
  <Override PartName="/ppt/media/image33.png" ContentType="image/png"/>
  <Override PartName="/ppt/media/image28.gif" ContentType="image/gif"/>
  <Override PartName="/ppt/media/image12.png" ContentType="image/png"/>
  <Override PartName="/ppt/media/image34.jpeg" ContentType="image/jpeg"/>
  <Override PartName="/ppt/media/image39.gif" ContentType="image/gif"/>
  <Override PartName="/ppt/media/image9.png" ContentType="image/png"/>
  <Override PartName="/ppt/media/image5.gif" ContentType="image/gif"/>
  <Override PartName="/ppt/media/image35.gif" ContentType="image/gif"/>
  <Override PartName="/ppt/media/image11.jpeg" ContentType="image/jpeg"/>
  <Override PartName="/ppt/media/image4.gif" ContentType="image/gif"/>
  <Override PartName="/ppt/media/image2.png" ContentType="image/png"/>
  <Override PartName="/ppt/media/image25.jpeg" ContentType="image/jpeg"/>
  <Override PartName="/ppt/media/image32.png" ContentType="image/png"/>
  <Override PartName="/ppt/media/image3.jpeg" ContentType="image/jpeg"/>
  <Override PartName="/ppt/media/image37.jpeg" ContentType="image/jpeg"/>
  <Override PartName="/ppt/media/image1.jpeg" ContentType="image/jpeg"/>
  <Override PartName="/ppt/media/image10.png" ContentType="image/png"/>
  <Override PartName="/ppt/media/image27.jpeg" ContentType="image/jpeg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E7B4B-C170-4A5D-B6BE-FCF87478A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12791-CCE6-41A8-99AC-FF3395791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457B9-A8D2-4AFF-907C-306C6C0C8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B39BF-7472-427A-AEA6-5D4090B77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AE57B-EF65-4513-889B-91FA24BF3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AF5F4-640A-4881-B3B6-F38C24823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0E208-B6F1-4E7E-A803-43E4A4B7E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88CBE-55D9-41AB-A488-D3BDDB5CD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2DD5E-3438-483C-8079-AA692B280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830A3-A0D3-41DE-84C9-6C96F3DE6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76D41-4A0F-4DF2-BDED-D1B6E4CCC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15E07-0A8E-4C9D-B644-1AD2AA8B1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E23EB-845B-4CC8-9284-5FD52F1DE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5960A-A4E7-4811-822F-DCFEFEB86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EB907-C933-4793-99D1-D500EABE7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BD721-8DD5-422A-B01E-376D7592D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8D55E-B165-4FEC-B5B0-0720B8CFC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1695F-F008-4B3F-AB98-6CECBB7FC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032B6-F0D7-40C3-8C1E-31A4FCD3F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645C2-CC7F-4F3E-B2E3-87B20AB41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DEA0A-5C03-459D-A3A6-88BDC8B69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D87EE-9A92-4D10-B25B-5902B0868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AB4CF-DE42-4AC2-AA2D-9E8B1F121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FD023-EC25-4636-8E6C-D75547825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08FC2-55CC-49B8-B036-D216155882C6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1993F-AACF-42A1-AD4E-FC2CE19E410F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gif"/><Relationship Id="rId3" Type="http://schemas.openxmlformats.org/officeDocument/2006/relationships/image" Target="../media/image39.gi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gif"/><Relationship Id="rId3" Type="http://schemas.openxmlformats.org/officeDocument/2006/relationships/image" Target="../media/image6.gif"/><Relationship Id="rId4" Type="http://schemas.openxmlformats.org/officeDocument/2006/relationships/image" Target="../media/image7.gif"/><Relationship Id="rId5" Type="http://schemas.openxmlformats.org/officeDocument/2006/relationships/image" Target="../media/image8.gif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jpeg"/><Relationship Id="rId6" Type="http://schemas.openxmlformats.org/officeDocument/2006/relationships/image" Target="../media/image25.jpeg"/><Relationship Id="rId7" Type="http://schemas.openxmlformats.org/officeDocument/2006/relationships/image" Target="../media/image26.jpe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jpeg"/><Relationship Id="rId3" Type="http://schemas.openxmlformats.org/officeDocument/2006/relationships/image" Target="../media/image35.gif"/><Relationship Id="rId4" Type="http://schemas.openxmlformats.org/officeDocument/2006/relationships/image" Target="../media/image35.gif"/><Relationship Id="rId5" Type="http://schemas.openxmlformats.org/officeDocument/2006/relationships/image" Target="../media/image36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Заголовок 1" descr=""/>
          <p:cNvPicPr/>
          <p:nvPr/>
        </p:nvPicPr>
        <p:blipFill>
          <a:blip r:embed="rId1"/>
          <a:stretch/>
        </p:blipFill>
        <p:spPr>
          <a:xfrm>
            <a:off x="414360" y="-115920"/>
            <a:ext cx="8785080" cy="344952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642600" y="4214880"/>
            <a:ext cx="79297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4" name="Picture 16" descr="E:\данные\Картинки\пдд\Рисунок5.jpg"/>
          <p:cNvPicPr/>
          <p:nvPr/>
        </p:nvPicPr>
        <p:blipFill>
          <a:blip r:embed="rId2"/>
          <a:stretch/>
        </p:blipFill>
        <p:spPr>
          <a:xfrm>
            <a:off x="571680" y="714240"/>
            <a:ext cx="2193840" cy="324972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1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" dur="1000" autoRev="1" fill="hold"/>
                                        <p:tgtEl>
                                          <p:spTgt spid="8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457200" y="785520"/>
            <a:ext cx="8229600" cy="552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Times New Roman"/>
              </a:rPr>
              <a:t>БУДЬТЕ ВНИМАТЕЛЬНЫМИ И ОСТОРОЖНЫМИ!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ЗНАЙТЕ И СОБЛЮДАЙТЕ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ПРАВИЛА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ДОРОЖНОГО ДВИЖЕНИЯ!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8" name="Picture 2" descr="E:\данные\Картинки\пдд\Рисунок19.jpg"/>
          <p:cNvPicPr/>
          <p:nvPr/>
        </p:nvPicPr>
        <p:blipFill>
          <a:blip r:embed="rId1"/>
          <a:stretch/>
        </p:blipFill>
        <p:spPr>
          <a:xfrm>
            <a:off x="7572240" y="1785960"/>
            <a:ext cx="1032120" cy="9288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3" descr="E:\данные\Картинки\анимация\Дети\BOY11A.GIF"/>
          <p:cNvPicPr/>
          <p:nvPr/>
        </p:nvPicPr>
        <p:blipFill>
          <a:blip r:embed="rId2"/>
          <a:stretch/>
        </p:blipFill>
        <p:spPr>
          <a:xfrm>
            <a:off x="4143240" y="5357880"/>
            <a:ext cx="1138320" cy="11383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4" descr="E:\данные\Картинки\анимация\свечи, огонь\098d0000.gif"/>
          <p:cNvPicPr/>
          <p:nvPr/>
        </p:nvPicPr>
        <p:blipFill>
          <a:blip r:embed="rId3"/>
          <a:stretch/>
        </p:blipFill>
        <p:spPr>
          <a:xfrm>
            <a:off x="214200" y="1714680"/>
            <a:ext cx="1000080" cy="302400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nodeType="clickEffect" fill="hold">
                      <p:stCondLst>
                        <p:cond delay="0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0" dur="145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455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66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660">
                                          <p:stCondLst>
                                            <p:cond delay="166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830">
                                          <p:stCondLst>
                                            <p:cond delay="331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410">
                                          <p:stCondLst>
                                            <p:cond delay="414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6" dur="65" fill="hold">
                                          <p:stCondLst>
                                            <p:cond delay="1625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7" dur="415" fill="hold">
                                          <p:stCondLst>
                                            <p:cond delay="169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8" dur="65" fill="hold">
                                          <p:stCondLst>
                                            <p:cond delay="328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9" dur="415" fill="hold">
                                          <p:stCondLst>
                                            <p:cond delay="3345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0" dur="65" fill="hold">
                                          <p:stCondLst>
                                            <p:cond delay="4105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1" dur="415" fill="hold">
                                          <p:stCondLst>
                                            <p:cond delay="417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2" dur="65" fill="hold">
                                          <p:stCondLst>
                                            <p:cond delay="452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3" dur="415" fill="hold">
                                          <p:stCondLst>
                                            <p:cond delay="4585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5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20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20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20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20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6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20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20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20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20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36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20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20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20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20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1856880" y="714240"/>
            <a:ext cx="5643720" cy="470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Times New Roman"/>
              </a:rPr>
              <a:t>ПРАВИЛА     ДВИЖЕНИЯ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Times New Roman"/>
              </a:rPr>
              <a:t>ВСЕ    БЕЗ    ИСКЛЮЧЕНИЯ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Times New Roman"/>
              </a:rPr>
              <a:t>ЗНАТЬ    ДОЛЖНЫ    ЗВЕРЮШКИ: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Times New Roman"/>
              </a:rPr>
              <a:t>БАРСУКИ  И   ХРЮШКИ,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Times New Roman"/>
              </a:rPr>
              <a:t>ЗАЙЦЫ    И    ТИГРЯТА,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Times New Roman"/>
              </a:rPr>
              <a:t>ПОНИ   И   КОТЯТА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Times New Roman"/>
              </a:rPr>
              <a:t>ВАМ,   РЕБЯТА,   ТОЖ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Times New Roman"/>
              </a:rPr>
              <a:t>ИХ  НЕ  ЗНАТЬ    НЕГОЖ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6" name="Picture 1" descr="E:\данные\Картинки\анимация\животные\28m1.gif"/>
          <p:cNvPicPr/>
          <p:nvPr/>
        </p:nvPicPr>
        <p:blipFill>
          <a:blip r:embed="rId1"/>
          <a:stretch/>
        </p:blipFill>
        <p:spPr>
          <a:xfrm>
            <a:off x="7643880" y="857160"/>
            <a:ext cx="639720" cy="5731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E:\данные\Картинки\анимация\животные\05600000.gif"/>
          <p:cNvPicPr/>
          <p:nvPr/>
        </p:nvPicPr>
        <p:blipFill>
          <a:blip r:embed="rId2"/>
          <a:stretch/>
        </p:blipFill>
        <p:spPr>
          <a:xfrm>
            <a:off x="642960" y="428760"/>
            <a:ext cx="1143000" cy="15872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3" descr="E:\данные\Картинки\анимация\животные\ь7.gif"/>
          <p:cNvPicPr/>
          <p:nvPr/>
        </p:nvPicPr>
        <p:blipFill>
          <a:blip r:embed="rId3"/>
          <a:stretch/>
        </p:blipFill>
        <p:spPr>
          <a:xfrm>
            <a:off x="7429680" y="4286160"/>
            <a:ext cx="1206360" cy="13399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5" descr="E:\данные\Картинки\анимация\мультяшки\dis12900.gif"/>
          <p:cNvPicPr/>
          <p:nvPr/>
        </p:nvPicPr>
        <p:blipFill>
          <a:blip r:embed="rId4"/>
          <a:stretch/>
        </p:blipFill>
        <p:spPr>
          <a:xfrm>
            <a:off x="7358040" y="2000160"/>
            <a:ext cx="1436760" cy="17240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6" descr="E:\данные\Картинки\анимация\мультяшки\disney9qz9.gif"/>
          <p:cNvPicPr/>
          <p:nvPr/>
        </p:nvPicPr>
        <p:blipFill>
          <a:blip r:embed="rId5"/>
          <a:stretch/>
        </p:blipFill>
        <p:spPr>
          <a:xfrm>
            <a:off x="285840" y="3071880"/>
            <a:ext cx="1595520" cy="19144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" descr="E:\данные\Картинки\дети\reading1.gif"/>
          <p:cNvPicPr/>
          <p:nvPr/>
        </p:nvPicPr>
        <p:blipFill>
          <a:blip r:embed="rId6"/>
          <a:stretch/>
        </p:blipFill>
        <p:spPr>
          <a:xfrm>
            <a:off x="4071960" y="5357880"/>
            <a:ext cx="1428840" cy="121896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0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2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2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20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20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20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20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20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20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20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4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2000" fill="hold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2000" fill="hold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5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2000" fill="hold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2000" fill="hold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5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2000" fill="hold"/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2000" fill="hold"/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60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62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Заголовок 1" descr=""/>
          <p:cNvPicPr/>
          <p:nvPr/>
        </p:nvPicPr>
        <p:blipFill>
          <a:blip r:embed="rId1"/>
          <a:stretch/>
        </p:blipFill>
        <p:spPr>
          <a:xfrm>
            <a:off x="450720" y="-36360"/>
            <a:ext cx="8242560" cy="163332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Times New Roman"/>
              </a:rPr>
              <a:t>ДОЛЖЕН         ПОМНИТЬ      ПЕШЕХОД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Times New Roman"/>
              </a:rPr>
              <a:t>ПЕРЕКРЁСТОК-ПЕРЕХОД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Times New Roman"/>
              </a:rPr>
              <a:t>ЕСТЬ    СИГНАЛЫ     СВЕТОФОРА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Times New Roman"/>
              </a:rPr>
              <a:t>ПОДЧИНЯЙСЯ    ИМ    БЕЗ    СПОР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4" name="Picture 1" descr="E:\данные\Картинки\пдд\Рисунок17.jpg"/>
          <p:cNvPicPr/>
          <p:nvPr/>
        </p:nvPicPr>
        <p:blipFill>
          <a:blip r:embed="rId2"/>
          <a:stretch/>
        </p:blipFill>
        <p:spPr>
          <a:xfrm>
            <a:off x="2714760" y="4000680"/>
            <a:ext cx="3981240" cy="20127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" descr="E:\данные\Картинки\пдд\Рисунок6.png"/>
          <p:cNvPicPr/>
          <p:nvPr/>
        </p:nvPicPr>
        <p:blipFill>
          <a:blip r:embed="rId3"/>
          <a:stretch/>
        </p:blipFill>
        <p:spPr>
          <a:xfrm>
            <a:off x="7643880" y="357120"/>
            <a:ext cx="1108080" cy="212904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0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2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2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2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2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8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2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2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8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20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20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рямоугольник 3"/>
          <p:cNvSpPr/>
          <p:nvPr/>
        </p:nvSpPr>
        <p:spPr>
          <a:xfrm>
            <a:off x="357120" y="428760"/>
            <a:ext cx="550080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КРАСНЫЙ    СВЕТ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0070c0"/>
                </a:solidFill>
                <a:latin typeface="Times New Roman"/>
              </a:rPr>
              <a:t>НАМ       ГОВОРИТ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Times New Roman"/>
              </a:rPr>
              <a:t>«</a:t>
            </a:r>
            <a:r>
              <a:rPr b="0" lang="ru-RU" sz="2000" spc="-1" strike="noStrike">
                <a:solidFill>
                  <a:srgbClr val="0070c0"/>
                </a:solidFill>
                <a:latin typeface="Times New Roman"/>
              </a:rPr>
              <a:t>СТОЙ! ОПАСНО! ПУТЬ    ЗАКРЫТ!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000"/>
                </a:solidFill>
                <a:latin typeface="Times New Roman"/>
              </a:rPr>
              <a:t>ЖЁЛТЫЙ    СВЕТ    </a:t>
            </a:r>
            <a:r>
              <a:rPr b="0" lang="ru-RU" sz="2000" spc="-1" strike="noStrike">
                <a:solidFill>
                  <a:srgbClr val="0070c0"/>
                </a:solidFill>
                <a:latin typeface="Times New Roman"/>
              </a:rPr>
              <a:t>-   ПРЕДУПРЕЖДЕНЬЕ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0c0"/>
                </a:solidFill>
                <a:latin typeface="Times New Roman"/>
              </a:rPr>
              <a:t>ЖДИ     СИГНАЛА   ДЛЯ   ДВИЖЕНЬЯ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50"/>
                </a:solidFill>
                <a:latin typeface="Times New Roman"/>
              </a:rPr>
              <a:t>ЗЕЛЁНЫЙ   СВЕТ</a:t>
            </a:r>
            <a:r>
              <a:rPr b="0" lang="ru-RU" sz="2000" spc="-1" strike="noStrike">
                <a:solidFill>
                  <a:srgbClr val="00b050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0070c0"/>
                </a:solidFill>
                <a:latin typeface="Times New Roman"/>
              </a:rPr>
              <a:t>ОТКРЫЛ ДОРОГУ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0c0"/>
                </a:solidFill>
                <a:latin typeface="Times New Roman"/>
              </a:rPr>
              <a:t>ПЕРЕХОДИТЬ       РЕБЯТА        МОГУТ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0c0"/>
                </a:solidFill>
                <a:latin typeface="Times New Roman"/>
              </a:rPr>
              <a:t>ИДИ   ВПЕРЁД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0c0"/>
                </a:solidFill>
                <a:latin typeface="Times New Roman"/>
              </a:rPr>
              <a:t>ПОРЯДОК      ЗНАЕШЬ -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0c0"/>
                </a:solidFill>
                <a:latin typeface="Times New Roman"/>
              </a:rPr>
              <a:t>НА    МОСТООВОЙ    НЕ    ПОСТРАДАЕШЬ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Прямоугольник 4"/>
          <p:cNvSpPr/>
          <p:nvPr/>
        </p:nvSpPr>
        <p:spPr>
          <a:xfrm>
            <a:off x="7072200" y="714240"/>
            <a:ext cx="1357560" cy="4714920"/>
          </a:xfrm>
          <a:prstGeom prst="rect">
            <a:avLst/>
          </a:prstGeom>
          <a:solidFill>
            <a:srgbClr val="94b6d2"/>
          </a:solidFill>
          <a:ln w="2556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Овал 5"/>
          <p:cNvSpPr/>
          <p:nvPr/>
        </p:nvSpPr>
        <p:spPr>
          <a:xfrm>
            <a:off x="7286760" y="928800"/>
            <a:ext cx="1000080" cy="10713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Овал 6"/>
          <p:cNvSpPr/>
          <p:nvPr/>
        </p:nvSpPr>
        <p:spPr>
          <a:xfrm>
            <a:off x="7286760" y="2428920"/>
            <a:ext cx="1000080" cy="107136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Овал 7"/>
          <p:cNvSpPr/>
          <p:nvPr/>
        </p:nvSpPr>
        <p:spPr>
          <a:xfrm>
            <a:off x="7286760" y="3929040"/>
            <a:ext cx="1000080" cy="107172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0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98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2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2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20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20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10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11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14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16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2000" fill="hold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2000" fill="hold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2000" fill="hold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2000" fill="hold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128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29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132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34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13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2000" fill="hold"/>
                                        <p:tgtEl>
                                          <p:spTgt spid="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2000" fill="hold"/>
                                        <p:tgtEl>
                                          <p:spTgt spid="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14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2000" fill="hold"/>
                                        <p:tgtEl>
                                          <p:spTgt spid="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2000" fill="hold"/>
                                        <p:tgtEl>
                                          <p:spTgt spid="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14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2000" fill="hold"/>
                                        <p:tgtEl>
                                          <p:spTgt spid="9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2000" fill="hold"/>
                                        <p:tgtEl>
                                          <p:spTgt spid="9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24000"/>
                            </p:stCondLst>
                            <p:childTnLst>
                              <p:par>
                                <p:cTn id="1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2000" fill="hold"/>
                                        <p:tgtEl>
                                          <p:spTgt spid="9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2000" fill="hold"/>
                                        <p:tgtEl>
                                          <p:spTgt spid="9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26000"/>
                            </p:stCondLst>
                            <p:childTnLst>
                              <p:par>
                                <p:cTn id="15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2000" fill="hold"/>
                                        <p:tgtEl>
                                          <p:spTgt spid="9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2000" fill="hold"/>
                                        <p:tgtEl>
                                          <p:spTgt spid="9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28000"/>
                            </p:stCondLst>
                            <p:childTnLst>
                              <p:par>
                                <p:cTn id="161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62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4214520" y="928800"/>
            <a:ext cx="4786200" cy="53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Times New Roman"/>
              </a:rPr>
              <a:t>Знаки важные, дорожные –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Times New Roman"/>
              </a:rPr>
              <a:t>Компас взрослых и ребят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Times New Roman"/>
              </a:rPr>
              <a:t>Дети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Times New Roman"/>
              </a:rPr>
              <a:t>Будьте осторожны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Times New Roman"/>
              </a:rPr>
              <a:t>Знайте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Times New Roman"/>
              </a:rPr>
              <a:t>Что нельзя, Что можно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Times New Roman"/>
              </a:rPr>
              <a:t>Выполняйте непременно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Times New Roman"/>
              </a:rPr>
              <a:t>Все, что знаки говорят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642960" y="1428840"/>
            <a:ext cx="2859120" cy="3314520"/>
            <a:chOff x="642960" y="1428840"/>
            <a:chExt cx="2859120" cy="3314520"/>
          </a:xfrm>
        </p:grpSpPr>
        <p:grpSp>
          <p:nvGrpSpPr>
            <p:cNvPr id="103" name="Group 2"/>
            <p:cNvGrpSpPr/>
            <p:nvPr/>
          </p:nvGrpSpPr>
          <p:grpSpPr>
            <a:xfrm>
              <a:off x="642960" y="1428840"/>
              <a:ext cx="2859120" cy="3314520"/>
              <a:chOff x="642960" y="1428840"/>
              <a:chExt cx="2859120" cy="3314520"/>
            </a:xfrm>
          </p:grpSpPr>
          <p:sp>
            <p:nvSpPr>
              <p:cNvPr id="104" name="Oval 3"/>
              <p:cNvSpPr/>
              <p:nvPr/>
            </p:nvSpPr>
            <p:spPr>
              <a:xfrm>
                <a:off x="2004480" y="1569600"/>
                <a:ext cx="204120" cy="1864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AutoShape 4"/>
              <p:cNvSpPr/>
              <p:nvPr/>
            </p:nvSpPr>
            <p:spPr>
              <a:xfrm rot="16200000">
                <a:off x="1612800" y="1616400"/>
                <a:ext cx="987120" cy="612000"/>
              </a:xfrm>
              <a:prstGeom prst="flowChartTerminator">
                <a:avLst/>
              </a:prstGeom>
              <a:solidFill>
                <a:srgbClr val="ffffff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Oval 5"/>
              <p:cNvSpPr/>
              <p:nvPr/>
            </p:nvSpPr>
            <p:spPr>
              <a:xfrm>
                <a:off x="642960" y="1922760"/>
                <a:ext cx="2859120" cy="2820600"/>
              </a:xfrm>
              <a:prstGeom prst="ellipse">
                <a:avLst/>
              </a:prstGeom>
              <a:solidFill>
                <a:srgbClr val="ffffff"/>
              </a:solidFill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WordArt 6"/>
              <p:cNvSpPr txBox="1"/>
              <p:nvPr/>
            </p:nvSpPr>
            <p:spPr>
              <a:xfrm>
                <a:off x="913680" y="2133720"/>
                <a:ext cx="2314440" cy="232740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ArchUp">
                  <a:avLst>
                    <a:gd name="adj" fmla="val 10800004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1" strike="noStrike">
                    <a:ln w="19080">
                      <a:solidFill>
                        <a:srgbClr val="000000"/>
                      </a:solidFill>
                      <a:miter/>
                    </a:ln>
                    <a:solidFill>
                      <a:srgbClr val="ffff99"/>
                    </a:solidFill>
                    <a:latin typeface="Arial"/>
                  </a:rPr>
                  <a:t>*  *</a:t>
                </a:r>
                <a:endParaRPr b="0" i="1" lang="en-US" sz="1800" spc="1" strike="noStrike">
                  <a:ln w="19080">
                    <a:solidFill>
                      <a:srgbClr val="000000"/>
                    </a:solidFill>
                    <a:miter/>
                  </a:ln>
                  <a:solidFill>
                    <a:srgbClr val="ffff99"/>
                  </a:solidFill>
                  <a:latin typeface="Arial"/>
                  <a:ea typeface="Arial"/>
                </a:endParaRPr>
              </a:p>
            </p:txBody>
          </p:sp>
          <p:pic>
            <p:nvPicPr>
              <p:cNvPr id="108" name="Picture 7" descr="Копия Untitled-6"/>
              <p:cNvPicPr/>
              <p:nvPr/>
            </p:nvPicPr>
            <p:blipFill>
              <a:blip r:embed="rId1"/>
              <a:stretch/>
            </p:blipFill>
            <p:spPr>
              <a:xfrm>
                <a:off x="1425960" y="2823480"/>
                <a:ext cx="1270080" cy="1587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9" name="WordArt 8"/>
              <p:cNvSpPr txBox="1"/>
              <p:nvPr/>
            </p:nvSpPr>
            <p:spPr>
              <a:xfrm rot="21058200">
                <a:off x="913320" y="2204280"/>
                <a:ext cx="2314440" cy="232668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ArchDown">
                  <a:avLst>
                    <a:gd name="adj" fmla="val 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12600">
                      <a:solidFill>
                        <a:srgbClr val="000000"/>
                      </a:solidFill>
                      <a:miter/>
                    </a:ln>
                    <a:solidFill>
                      <a:srgbClr val="ff0000"/>
                    </a:solidFill>
                    <a:latin typeface="Arial"/>
                  </a:rPr>
                  <a:t>Дорожные   знаки   </a:t>
                </a:r>
                <a:endParaRPr b="1" lang="en-US" sz="1800" spc="1" strike="noStrike">
                  <a:ln w="1260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  <a:ea typeface="Arial"/>
                </a:endParaRPr>
              </a:p>
            </p:txBody>
          </p:sp>
          <p:pic>
            <p:nvPicPr>
              <p:cNvPr id="110" name="Picture 9" descr="1"/>
              <p:cNvPicPr/>
              <p:nvPr/>
            </p:nvPicPr>
            <p:blipFill>
              <a:blip r:embed="rId2"/>
              <a:stretch/>
            </p:blipFill>
            <p:spPr>
              <a:xfrm rot="306000">
                <a:off x="2648520" y="2931120"/>
                <a:ext cx="516600" cy="46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1" name="Picture 10" descr="1"/>
              <p:cNvPicPr/>
              <p:nvPr/>
            </p:nvPicPr>
            <p:blipFill>
              <a:blip r:embed="rId3"/>
              <a:stretch/>
            </p:blipFill>
            <p:spPr>
              <a:xfrm rot="20570400">
                <a:off x="1732320" y="2295000"/>
                <a:ext cx="510120" cy="458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2" name="Picture 11" descr="4"/>
              <p:cNvPicPr/>
              <p:nvPr/>
            </p:nvPicPr>
            <p:blipFill>
              <a:blip r:embed="rId4"/>
              <a:stretch/>
            </p:blipFill>
            <p:spPr>
              <a:xfrm rot="1800600">
                <a:off x="2344320" y="2506320"/>
                <a:ext cx="408960" cy="423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3" name="Picture 12" descr="6"/>
              <p:cNvPicPr/>
              <p:nvPr/>
            </p:nvPicPr>
            <p:blipFill>
              <a:blip r:embed="rId5"/>
              <a:stretch/>
            </p:blipFill>
            <p:spPr>
              <a:xfrm rot="20464800">
                <a:off x="1324080" y="2506320"/>
                <a:ext cx="378360" cy="485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Picture 13" descr="5"/>
              <p:cNvPicPr/>
              <p:nvPr/>
            </p:nvPicPr>
            <p:blipFill>
              <a:blip r:embed="rId6"/>
              <a:stretch/>
            </p:blipFill>
            <p:spPr>
              <a:xfrm rot="1959000">
                <a:off x="1287360" y="3689280"/>
                <a:ext cx="405360" cy="423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Picture 14" descr="3"/>
              <p:cNvPicPr/>
              <p:nvPr/>
            </p:nvPicPr>
            <p:blipFill>
              <a:blip r:embed="rId7"/>
              <a:stretch/>
            </p:blipFill>
            <p:spPr>
              <a:xfrm>
                <a:off x="1119240" y="3035520"/>
                <a:ext cx="507600" cy="5288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6" name="Oval 15"/>
            <p:cNvSpPr/>
            <p:nvPr/>
          </p:nvSpPr>
          <p:spPr>
            <a:xfrm>
              <a:off x="2013480" y="1542240"/>
              <a:ext cx="228240" cy="2282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>
    <p:newsflash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0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0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3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75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80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85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90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95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00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10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10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05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10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10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2" descr="E:\данные\Картинки\пдд\Движение пешеходов запрещено.gif"/>
          <p:cNvPicPr/>
          <p:nvPr/>
        </p:nvPicPr>
        <p:blipFill>
          <a:blip r:embed="rId2"/>
          <a:stretch/>
        </p:blipFill>
        <p:spPr>
          <a:xfrm>
            <a:off x="4214880" y="3929040"/>
            <a:ext cx="711000" cy="7113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3" descr="E:\данные\Картинки\пдд\Дети.gif"/>
          <p:cNvPicPr/>
          <p:nvPr/>
        </p:nvPicPr>
        <p:blipFill>
          <a:blip r:embed="rId3"/>
          <a:stretch/>
        </p:blipFill>
        <p:spPr>
          <a:xfrm>
            <a:off x="1571760" y="3857760"/>
            <a:ext cx="795240" cy="6919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4" descr="E:\данные\Картинки\пдд\Дорожные работы.gif"/>
          <p:cNvPicPr/>
          <p:nvPr/>
        </p:nvPicPr>
        <p:blipFill>
          <a:blip r:embed="rId4"/>
          <a:stretch/>
        </p:blipFill>
        <p:spPr>
          <a:xfrm>
            <a:off x="6643800" y="3929040"/>
            <a:ext cx="838080" cy="7286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8" descr="E:\данные\Картинки\пдд\Blue bicycle sign.jpg"/>
          <p:cNvPicPr/>
          <p:nvPr/>
        </p:nvPicPr>
        <p:blipFill>
          <a:blip r:embed="rId5"/>
          <a:stretch/>
        </p:blipFill>
        <p:spPr>
          <a:xfrm>
            <a:off x="6643800" y="1643040"/>
            <a:ext cx="1057320" cy="10270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9" descr="E:\данные\Картинки\пдд\Car passing sign.jpg"/>
          <p:cNvPicPr/>
          <p:nvPr/>
        </p:nvPicPr>
        <p:blipFill>
          <a:blip r:embed="rId6"/>
          <a:stretch/>
        </p:blipFill>
        <p:spPr>
          <a:xfrm>
            <a:off x="3835440" y="157176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1" descr="E:\данные\Картинки\пдд\Рисунок10.jpg"/>
          <p:cNvPicPr/>
          <p:nvPr/>
        </p:nvPicPr>
        <p:blipFill>
          <a:blip r:embed="rId7"/>
          <a:srcRect l="0" t="0" r="1023" b="0"/>
          <a:stretch/>
        </p:blipFill>
        <p:spPr>
          <a:xfrm>
            <a:off x="1500120" y="1643040"/>
            <a:ext cx="1028880" cy="1039680"/>
          </a:xfrm>
          <a:prstGeom prst="rect">
            <a:avLst/>
          </a:prstGeom>
          <a:ln w="0">
            <a:noFill/>
          </a:ln>
        </p:spPr>
      </p:pic>
      <p:sp>
        <p:nvSpPr>
          <p:cNvPr id="124" name="TextBox 13"/>
          <p:cNvSpPr/>
          <p:nvPr/>
        </p:nvSpPr>
        <p:spPr>
          <a:xfrm>
            <a:off x="428760" y="2928960"/>
            <a:ext cx="27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70c0"/>
                </a:solidFill>
                <a:latin typeface="Times New Roman"/>
              </a:rPr>
              <a:t>ПЕШЕХОДНЫЙ ПЕРЕХОД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TextBox 14"/>
          <p:cNvSpPr/>
          <p:nvPr/>
        </p:nvSpPr>
        <p:spPr>
          <a:xfrm>
            <a:off x="3357720" y="2928960"/>
            <a:ext cx="214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70c0"/>
                </a:solidFill>
                <a:latin typeface="Times New Roman"/>
              </a:rPr>
              <a:t>ОБГОН ЗАПРЕЩЕН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Box 15"/>
          <p:cNvSpPr/>
          <p:nvPr/>
        </p:nvSpPr>
        <p:spPr>
          <a:xfrm>
            <a:off x="6000840" y="2928960"/>
            <a:ext cx="300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70c0"/>
                </a:solidFill>
                <a:latin typeface="Times New Roman"/>
              </a:rPr>
              <a:t>ВЕЛОСИПЕДНАЯ ДОРОЖК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Box 16"/>
          <p:cNvSpPr/>
          <p:nvPr/>
        </p:nvSpPr>
        <p:spPr>
          <a:xfrm>
            <a:off x="571680" y="492912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70c0"/>
                </a:solidFill>
                <a:latin typeface="Times New Roman"/>
              </a:rPr>
              <a:t>ДЕТ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TextBox 17"/>
          <p:cNvSpPr/>
          <p:nvPr/>
        </p:nvSpPr>
        <p:spPr>
          <a:xfrm>
            <a:off x="3214800" y="5000760"/>
            <a:ext cx="2714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70c0"/>
                </a:solidFill>
                <a:latin typeface="Times New Roman"/>
              </a:rPr>
              <a:t>ДВИЖЕНИЕ ПЕШЕХОДОВ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70c0"/>
                </a:solidFill>
                <a:latin typeface="Times New Roman"/>
              </a:rPr>
              <a:t>ЗАПРЕЩЕНО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Box 18"/>
          <p:cNvSpPr/>
          <p:nvPr/>
        </p:nvSpPr>
        <p:spPr>
          <a:xfrm>
            <a:off x="6143760" y="500076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70c0"/>
                </a:solidFill>
                <a:latin typeface="Times New Roman"/>
              </a:rPr>
              <a:t>ДОРОЖНЫЕ РАБОТЫ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428760" y="35676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Times New Roman"/>
              </a:rPr>
              <a:t>Движением полон город: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Times New Roman"/>
              </a:rPr>
              <a:t>Бегут машины в ряд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Times New Roman"/>
              </a:rPr>
              <a:t>Цветные светофоры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Times New Roman"/>
              </a:rPr>
              <a:t>И день и ночь горят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Times New Roman"/>
              </a:rPr>
              <a:t>Шагая осторожно,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Times New Roman"/>
              </a:rPr>
              <a:t>За улицей следи —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Times New Roman"/>
              </a:rPr>
              <a:t>И только там, где можно,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Times New Roman"/>
              </a:rPr>
              <a:t>И только там, где можно,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Times New Roman"/>
              </a:rPr>
              <a:t>И только там её переходи!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1" name="Picture 1" descr="E:\данные\Картинки\пдд\Рисунок14.jpg"/>
          <p:cNvPicPr/>
          <p:nvPr/>
        </p:nvPicPr>
        <p:blipFill>
          <a:blip r:embed="rId1"/>
          <a:stretch/>
        </p:blipFill>
        <p:spPr>
          <a:xfrm>
            <a:off x="1714680" y="3286080"/>
            <a:ext cx="5572080" cy="2651040"/>
          </a:xfrm>
          <a:prstGeom prst="rect">
            <a:avLst/>
          </a:prstGeom>
          <a:ln w="0">
            <a:noFill/>
          </a:ln>
        </p:spPr>
      </p:pic>
      <p:sp>
        <p:nvSpPr>
          <p:cNvPr id="132" name="TextBox 5"/>
          <p:cNvSpPr/>
          <p:nvPr/>
        </p:nvSpPr>
        <p:spPr>
          <a:xfrm>
            <a:off x="4714920" y="428760"/>
            <a:ext cx="36846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Times New Roman"/>
              </a:rPr>
              <a:t>И там, где днём трамваи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Times New Roman"/>
              </a:rPr>
              <a:t>Спешат со всех сторон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Times New Roman"/>
              </a:rPr>
              <a:t>Нельзя ходить, зевая!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Times New Roman"/>
              </a:rPr>
              <a:t>Нельзя считать ворон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Times New Roman"/>
              </a:rPr>
              <a:t>Шагая осторожно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Times New Roman"/>
              </a:rPr>
              <a:t>За улицей следи —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Times New Roman"/>
              </a:rPr>
              <a:t>И только там, где можно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Times New Roman"/>
              </a:rPr>
              <a:t>И только там, где можно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Times New Roman"/>
              </a:rPr>
              <a:t>И только там её переходи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Picture 2" descr="E:\данные\Картинки\анимация\транспорт\a2e308d6873de3476e535e50353e0380.gif"/>
          <p:cNvPicPr/>
          <p:nvPr/>
        </p:nvPicPr>
        <p:blipFill>
          <a:blip r:embed="rId2"/>
          <a:stretch/>
        </p:blipFill>
        <p:spPr>
          <a:xfrm>
            <a:off x="6786720" y="1143000"/>
            <a:ext cx="2139840" cy="68112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nodeType="clickEffect" fill="hold">
                      <p:stCondLst>
                        <p:cond delay="0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5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6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4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Заголовок 1" descr=""/>
          <p:cNvPicPr/>
          <p:nvPr/>
        </p:nvPicPr>
        <p:blipFill>
          <a:blip r:embed="rId1"/>
          <a:stretch/>
        </p:blipFill>
        <p:spPr>
          <a:xfrm>
            <a:off x="-109440" y="268200"/>
            <a:ext cx="9137520" cy="115884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 txBox="1"/>
          <p:nvPr/>
        </p:nvSpPr>
        <p:spPr>
          <a:xfrm>
            <a:off x="1071720" y="1499760"/>
            <a:ext cx="36432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41800" indent="-406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Times New Roman"/>
              </a:rPr>
              <a:t>И проспекты, и бульвары —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1800" indent="-406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Times New Roman"/>
              </a:rPr>
              <a:t>Всюду улицы шумны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1800" indent="-406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Times New Roman"/>
              </a:rPr>
              <a:t>Проходи по тротуару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1800" indent="-406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Times New Roman"/>
              </a:rPr>
              <a:t>Только с правой стороны!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1800" indent="-406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Times New Roman"/>
              </a:rPr>
              <a:t>Тут шалить, мешать народу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1800" indent="-406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За-пре-ща-ет-ся!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1800" indent="-406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Times New Roman"/>
              </a:rPr>
              <a:t>Быть примерным пешеходом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1800" indent="-406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Times New Roman"/>
              </a:rPr>
              <a:t>Разрешается.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1800" indent="-406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1800" indent="-406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Times New Roman"/>
              </a:rPr>
              <a:t>Если ты гуляешь просто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1800" indent="-406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70c0"/>
                </a:solidFill>
                <a:latin typeface="Times New Roman"/>
              </a:rPr>
              <a:t>Всё равно вперёд гляди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1800" indent="-406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Times New Roman"/>
              </a:rPr>
              <a:t>Через шумный перекрёсток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1800" indent="-406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70c0"/>
                </a:solidFill>
                <a:latin typeface="Times New Roman"/>
              </a:rPr>
              <a:t>Осторожно проходи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1800" indent="-406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Times New Roman"/>
              </a:rPr>
              <a:t>Переход при красном свет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1800" indent="-406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За-пре-ща-ет-ся!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1800" indent="-406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Times New Roman"/>
              </a:rPr>
              <a:t>При зелёном даже детям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1800" indent="-406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Times New Roman"/>
              </a:rPr>
              <a:t>Разрешается.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1800" indent="-406800">
              <a:lnSpc>
                <a:spcPct val="80000"/>
              </a:lnSpc>
              <a:spcBef>
                <a:spcPts val="45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6" name="Picture 2" descr="E:\данные\Картинки\пдд\Рисунок15.jpg"/>
          <p:cNvPicPr/>
          <p:nvPr/>
        </p:nvPicPr>
        <p:blipFill>
          <a:blip r:embed="rId2"/>
          <a:stretch/>
        </p:blipFill>
        <p:spPr>
          <a:xfrm>
            <a:off x="5857920" y="3786120"/>
            <a:ext cx="2857320" cy="2941560"/>
          </a:xfrm>
          <a:prstGeom prst="rect">
            <a:avLst/>
          </a:prstGeom>
          <a:ln w="0">
            <a:noFill/>
          </a:ln>
        </p:spPr>
      </p:pic>
      <p:sp>
        <p:nvSpPr>
          <p:cNvPr id="137" name="TextBox 5"/>
          <p:cNvSpPr/>
          <p:nvPr/>
        </p:nvSpPr>
        <p:spPr>
          <a:xfrm>
            <a:off x="4870440" y="1428840"/>
            <a:ext cx="3265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Times New Roman"/>
              </a:rPr>
              <a:t>Если едешь ты в трамва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Times New Roman"/>
              </a:rPr>
              <a:t>И вокруг тебя народ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Times New Roman"/>
              </a:rPr>
              <a:t>Не толкаясь, не зевая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Times New Roman"/>
              </a:rPr>
              <a:t>Проходи скорей вперёд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Times New Roman"/>
              </a:rPr>
              <a:t>Ехать «зайцем», как известн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За-пре-ща-ет-ся!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Times New Roman"/>
              </a:rPr>
              <a:t>Уступить старушке место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Times New Roman"/>
              </a:rPr>
              <a:t>Разрешается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Picture 3" descr="E:\данные\Картинки\пдд\Рисунок3.jpg"/>
          <p:cNvPicPr/>
          <p:nvPr/>
        </p:nvPicPr>
        <p:blipFill>
          <a:blip r:embed="rId3"/>
          <a:stretch/>
        </p:blipFill>
        <p:spPr>
          <a:xfrm>
            <a:off x="142920" y="1643040"/>
            <a:ext cx="915840" cy="9288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4" descr="E:\данные\Картинки\пдд\Рисунок9.png"/>
          <p:cNvPicPr/>
          <p:nvPr/>
        </p:nvPicPr>
        <p:blipFill>
          <a:blip r:embed="rId4"/>
          <a:stretch/>
        </p:blipFill>
        <p:spPr>
          <a:xfrm>
            <a:off x="142920" y="3929040"/>
            <a:ext cx="992160" cy="147816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2000" fill="hold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2000" fill="hold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2000" fill="hold"/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2000" fill="hold"/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2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2000" fill="hold"/>
                                        <p:tgtEl>
                                          <p:spTgt spid="13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2000" fill="hold"/>
                                        <p:tgtEl>
                                          <p:spTgt spid="13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2000" fill="hold"/>
                                        <p:tgtEl>
                                          <p:spTgt spid="13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2000" fill="hold"/>
                                        <p:tgtEl>
                                          <p:spTgt spid="13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8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2000" fill="hold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2000" fill="hold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2000" fill="hold"/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2000" fill="hold"/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1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4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Заголовок 1" descr=""/>
          <p:cNvPicPr/>
          <p:nvPr/>
        </p:nvPicPr>
        <p:blipFill>
          <a:blip r:embed="rId1"/>
          <a:stretch/>
        </p:blipFill>
        <p:spPr>
          <a:xfrm>
            <a:off x="450720" y="36360"/>
            <a:ext cx="8369280" cy="15606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" descr="E:\данные\Картинки\пдд\Рисунок16.jpg"/>
          <p:cNvPicPr/>
          <p:nvPr/>
        </p:nvPicPr>
        <p:blipFill>
          <a:blip r:embed="rId2"/>
          <a:stretch/>
        </p:blipFill>
        <p:spPr>
          <a:xfrm>
            <a:off x="4214880" y="1500120"/>
            <a:ext cx="4438440" cy="4864320"/>
          </a:xfrm>
          <a:prstGeom prst="rect">
            <a:avLst/>
          </a:prstGeom>
          <a:ln w="0">
            <a:noFill/>
          </a:ln>
        </p:spPr>
      </p:pic>
      <p:sp>
        <p:nvSpPr>
          <p:cNvPr id="142" name="TextBox 4"/>
          <p:cNvSpPr/>
          <p:nvPr/>
        </p:nvSpPr>
        <p:spPr>
          <a:xfrm>
            <a:off x="142920" y="2214720"/>
            <a:ext cx="37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Times New Roman"/>
              </a:rPr>
              <a:t>Трамвай обходят сперед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Box 5"/>
          <p:cNvSpPr/>
          <p:nvPr/>
        </p:nvSpPr>
        <p:spPr>
          <a:xfrm>
            <a:off x="571680" y="4929120"/>
            <a:ext cx="40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Times New Roman"/>
              </a:rPr>
              <a:t>Автобус обходят сзад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Picture 2" descr="E:\данные\Картинки\анимация\РАЗНОЕ\AG00092_.GIF"/>
          <p:cNvPicPr/>
          <p:nvPr/>
        </p:nvPicPr>
        <p:blipFill>
          <a:blip r:embed="rId3"/>
          <a:stretch/>
        </p:blipFill>
        <p:spPr>
          <a:xfrm>
            <a:off x="3786120" y="2286000"/>
            <a:ext cx="343080" cy="3333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3" descr="E:\данные\Картинки\анимация\РАЗНОЕ\AG00092_.GIF"/>
          <p:cNvPicPr/>
          <p:nvPr/>
        </p:nvPicPr>
        <p:blipFill>
          <a:blip r:embed="rId4"/>
          <a:stretch/>
        </p:blipFill>
        <p:spPr>
          <a:xfrm>
            <a:off x="3786120" y="5000760"/>
            <a:ext cx="343080" cy="333360"/>
          </a:xfrm>
          <a:prstGeom prst="rect">
            <a:avLst/>
          </a:prstGeom>
          <a:ln w="0">
            <a:noFill/>
          </a:ln>
        </p:spPr>
      </p:pic>
      <p:pic>
        <p:nvPicPr>
          <p:cNvPr id="146" name="Прямоугольник 8" descr=""/>
          <p:cNvPicPr/>
          <p:nvPr/>
        </p:nvPicPr>
        <p:blipFill>
          <a:blip r:embed="rId5"/>
          <a:stretch/>
        </p:blipFill>
        <p:spPr>
          <a:xfrm>
            <a:off x="360360" y="3078000"/>
            <a:ext cx="3930480" cy="93348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1" dur="5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6" dur="5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28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330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3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33" dur="2000" fill="hold"/>
                                        <p:tgtEl>
                                          <p:spTgt spid="14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1T17:04:00Z</dcterms:created>
  <dc:creator>ooo</dc:creator>
  <dc:description/>
  <dc:language>en-US</dc:language>
  <cp:lastModifiedBy>Sad Sad</cp:lastModifiedBy>
  <dcterms:modified xsi:type="dcterms:W3CDTF">2023-02-19T11:38:24Z</dcterms:modified>
  <cp:revision>19</cp:revision>
  <dc:subject/>
  <dc:title>ПРАВИЛА ДОРОЖНОГО ДВИЖЕНИЯ</dc:title>
</cp:coreProperties>
</file>