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16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9.wmf" ContentType="image/x-wmf"/>
  <Override PartName="/ppt/media/image14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DF831-2FCE-4C4D-996C-915D29772B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5A3F9-869C-4364-A21E-545877670EE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22291-1893-4DF6-9D57-CE1339B2FAA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74382-763D-4D78-BB21-AEA298768B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682FA-0EA4-4D60-8990-90F4A39799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D0D58-0FE5-496B-B063-FE66113B3E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B6F39-D726-4CEF-A3CF-AA56C40B3D4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3A18F-34E8-4648-8AC5-4C4EC837900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24610-502B-40DC-955C-CFFE9C46A03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00969-5EE4-4691-95C4-271B898787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C6D0B-C88E-4C8A-BF37-29D1F4553CD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BEE36-6957-4B12-81BE-1677E7832AD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E70C4-2570-40F6-90C5-3EC1E1D48B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8226E-A143-41D4-882D-414597B222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53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6345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09480" y="4186080"/>
            <a:ext cx="6345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715A5-C182-466E-939E-4E11F1D7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53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6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61000" y="2160360"/>
            <a:ext cx="3096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4186080"/>
            <a:ext cx="3096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861000" y="4186080"/>
            <a:ext cx="3096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A650C-EBB0-49D5-B00C-2F503904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53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2043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755080" y="2160360"/>
            <a:ext cx="2043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00680" y="2160360"/>
            <a:ext cx="2043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09480" y="4186080"/>
            <a:ext cx="2043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755080" y="4186080"/>
            <a:ext cx="2043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4900680" y="4186080"/>
            <a:ext cx="2043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87A7F-C7F3-4141-A365-31706BF6C6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9FBAE-4EFF-4E1B-AA31-503F581C12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53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480" y="2160360"/>
            <a:ext cx="634536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12C68-35D3-4D81-BFCE-ABC2B890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53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6345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089CD-E998-4E8A-B4F7-B4353242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53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6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61000" y="2160360"/>
            <a:ext cx="3096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0C172-B278-496F-BAD1-0E87411C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53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7FE24-0AEC-4393-9585-98174487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6345360" cy="61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C5EF5-891E-425C-A10E-9338561C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53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6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61000" y="2160360"/>
            <a:ext cx="3096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480" y="4186080"/>
            <a:ext cx="3096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0E37E-4D3B-4C4F-814C-94E5DC8E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53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09480" y="2160360"/>
            <a:ext cx="634536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732FA-4113-4357-B475-33D6C4B6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53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6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1000" y="2160360"/>
            <a:ext cx="3096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61000" y="4186080"/>
            <a:ext cx="3096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AF15A-A67F-4EF2-BBC2-4870EB7D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53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6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61000" y="2160360"/>
            <a:ext cx="3096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4186080"/>
            <a:ext cx="6345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22BBA-7FDF-4788-A8DE-B75B0B86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53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6345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480" y="4186080"/>
            <a:ext cx="6345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92755-EE6A-402C-AAE0-206CEDCD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53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6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61000" y="2160360"/>
            <a:ext cx="3096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480" y="4186080"/>
            <a:ext cx="3096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861000" y="4186080"/>
            <a:ext cx="3096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7583B-027D-46D7-BF5B-0FBCE028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53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2043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55080" y="2160360"/>
            <a:ext cx="2043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00680" y="2160360"/>
            <a:ext cx="2043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09480" y="4186080"/>
            <a:ext cx="2043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2755080" y="4186080"/>
            <a:ext cx="2043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4900680" y="4186080"/>
            <a:ext cx="2043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3A388-2106-4015-AE95-ED4AE83E98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53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6345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290A9-B160-42DD-A926-9ACF67FA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53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6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61000" y="2160360"/>
            <a:ext cx="3096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A8A73-9FEA-4DAA-A2E8-97367DDD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53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73E9B-9F29-429B-B7CC-CF6300ED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6345360" cy="61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43D30-671D-4469-AAEF-05B1479CB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53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6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61000" y="2160360"/>
            <a:ext cx="3096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4186080"/>
            <a:ext cx="3096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1F5BF-2932-48CD-BC3B-E978AFAA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53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6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1000" y="2160360"/>
            <a:ext cx="3096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861000" y="4186080"/>
            <a:ext cx="3096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A8AA7-E2BD-49D4-89A9-D5FE9729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53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6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61000" y="2160360"/>
            <a:ext cx="3096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9480" y="4186080"/>
            <a:ext cx="6345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07249-9A71-4745-8E20-75FCF0F7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7920" y="-7920"/>
            <a:ext cx="9167400" cy="6873480"/>
            <a:chOff x="-7920" y="-7920"/>
            <a:chExt cx="9167400" cy="6873480"/>
          </a:xfrm>
        </p:grpSpPr>
        <p:sp>
          <p:nvSpPr>
            <p:cNvPr id="1" name="Freeform 2"/>
            <p:cNvSpPr/>
            <p:nvPr/>
          </p:nvSpPr>
          <p:spPr>
            <a:xfrm>
              <a:off x="-7920" y="4014000"/>
              <a:ext cx="455760" cy="285156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3"/>
            <p:cNvSpPr/>
            <p:nvPr/>
          </p:nvSpPr>
          <p:spPr>
            <a:xfrm flipV="1">
              <a:off x="5131440" y="4174200"/>
              <a:ext cx="4021560" cy="2684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4"/>
            <p:cNvSpPr/>
            <p:nvPr/>
          </p:nvSpPr>
          <p:spPr>
            <a:xfrm>
              <a:off x="7043400" y="0"/>
              <a:ext cx="1217520" cy="685764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6892560" y="0"/>
              <a:ext cx="226692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7206840" y="-7920"/>
              <a:ext cx="19461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6638040" y="3920400"/>
              <a:ext cx="2511720" cy="293544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7011360" y="-7920"/>
              <a:ext cx="214164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8297280" y="-7920"/>
              <a:ext cx="8557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8078400" y="-7920"/>
              <a:ext cx="106524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8060760" y="4894920"/>
              <a:ext cx="1092240" cy="196272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12"/>
          <p:cNvGrpSpPr/>
          <p:nvPr/>
        </p:nvGrpSpPr>
        <p:grpSpPr>
          <a:xfrm>
            <a:off x="-7920" y="-7920"/>
            <a:ext cx="9167400" cy="6873480"/>
            <a:chOff x="-7920" y="-7920"/>
            <a:chExt cx="9167400" cy="6873480"/>
          </a:xfrm>
        </p:grpSpPr>
        <p:sp>
          <p:nvSpPr>
            <p:cNvPr id="12" name="Line 13"/>
            <p:cNvSpPr/>
            <p:nvPr/>
          </p:nvSpPr>
          <p:spPr>
            <a:xfrm flipV="1">
              <a:off x="5131440" y="4174200"/>
              <a:ext cx="4021560" cy="2684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Line 14"/>
            <p:cNvSpPr/>
            <p:nvPr/>
          </p:nvSpPr>
          <p:spPr>
            <a:xfrm>
              <a:off x="7043400" y="0"/>
              <a:ext cx="1217520" cy="685764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6892560" y="0"/>
              <a:ext cx="226692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7206840" y="-7920"/>
              <a:ext cx="19461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6638040" y="3920400"/>
              <a:ext cx="2511720" cy="293544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>
              <a:off x="7011360" y="-7920"/>
              <a:ext cx="214164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8297280" y="-7920"/>
              <a:ext cx="8557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>
              <a:off x="8078400" y="-7920"/>
              <a:ext cx="106524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>
              <a:off x="8060760" y="4894920"/>
              <a:ext cx="1092240" cy="196272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>
              <a:off x="-7920" y="-7920"/>
              <a:ext cx="861840" cy="569700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30040" y="2405160"/>
            <a:ext cx="5824440" cy="16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dt" idx="1"/>
          </p:nvPr>
        </p:nvSpPr>
        <p:spPr>
          <a:xfrm>
            <a:off x="5405400" y="6041880"/>
            <a:ext cx="6825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Trebuchet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12.1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Text Box 25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sldNum" idx="2"/>
          </p:nvPr>
        </p:nvSpPr>
        <p:spPr>
          <a:xfrm>
            <a:off x="6445080" y="6041880"/>
            <a:ext cx="511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Trebuchet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6672817-A3ED-4101-B475-14BC392C38D0}" type="slidenum">
              <a:rPr b="0" lang="ru-RU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"/>
          <p:cNvGrpSpPr/>
          <p:nvPr/>
        </p:nvGrpSpPr>
        <p:grpSpPr>
          <a:xfrm>
            <a:off x="-7920" y="-7920"/>
            <a:ext cx="9167400" cy="6873480"/>
            <a:chOff x="-7920" y="-7920"/>
            <a:chExt cx="9167400" cy="6873480"/>
          </a:xfrm>
        </p:grpSpPr>
        <p:sp>
          <p:nvSpPr>
            <p:cNvPr id="64" name="Freeform 2"/>
            <p:cNvSpPr/>
            <p:nvPr/>
          </p:nvSpPr>
          <p:spPr>
            <a:xfrm>
              <a:off x="-7920" y="4014000"/>
              <a:ext cx="455760" cy="285156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3"/>
            <p:cNvSpPr/>
            <p:nvPr/>
          </p:nvSpPr>
          <p:spPr>
            <a:xfrm flipV="1">
              <a:off x="5131440" y="4174200"/>
              <a:ext cx="4021560" cy="2684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4"/>
            <p:cNvSpPr/>
            <p:nvPr/>
          </p:nvSpPr>
          <p:spPr>
            <a:xfrm>
              <a:off x="7043400" y="0"/>
              <a:ext cx="1217520" cy="685764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5"/>
            <p:cNvSpPr/>
            <p:nvPr/>
          </p:nvSpPr>
          <p:spPr>
            <a:xfrm>
              <a:off x="6892560" y="0"/>
              <a:ext cx="226692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6"/>
            <p:cNvSpPr/>
            <p:nvPr/>
          </p:nvSpPr>
          <p:spPr>
            <a:xfrm>
              <a:off x="7206840" y="-7920"/>
              <a:ext cx="19461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"/>
            <p:cNvSpPr/>
            <p:nvPr/>
          </p:nvSpPr>
          <p:spPr>
            <a:xfrm>
              <a:off x="6638040" y="3920400"/>
              <a:ext cx="2511720" cy="293544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8"/>
            <p:cNvSpPr/>
            <p:nvPr/>
          </p:nvSpPr>
          <p:spPr>
            <a:xfrm>
              <a:off x="7011360" y="-7920"/>
              <a:ext cx="214164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9"/>
            <p:cNvSpPr/>
            <p:nvPr/>
          </p:nvSpPr>
          <p:spPr>
            <a:xfrm>
              <a:off x="8297280" y="-7920"/>
              <a:ext cx="8557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0"/>
            <p:cNvSpPr/>
            <p:nvPr/>
          </p:nvSpPr>
          <p:spPr>
            <a:xfrm>
              <a:off x="8078400" y="-7920"/>
              <a:ext cx="106524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1"/>
            <p:cNvSpPr/>
            <p:nvPr/>
          </p:nvSpPr>
          <p:spPr>
            <a:xfrm>
              <a:off x="8060760" y="4894920"/>
              <a:ext cx="1092240" cy="196272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53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09480" y="2160360"/>
            <a:ext cx="6345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3"/>
          </p:nvPr>
        </p:nvSpPr>
        <p:spPr>
          <a:xfrm>
            <a:off x="5405400" y="6041880"/>
            <a:ext cx="6825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Trebuchet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12.1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4"/>
          </p:nvPr>
        </p:nvSpPr>
        <p:spPr>
          <a:xfrm>
            <a:off x="6445080" y="6041880"/>
            <a:ext cx="511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Trebuchet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2D9560E-1998-44BC-880D-D699ED6A95CC}" type="slidenum">
              <a:rPr b="0" lang="ru-RU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528480" y="1274760"/>
            <a:ext cx="808704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«Игровой абонемент»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а партнёрской деятель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дителей и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спитатель I кв. категории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видинюк Ольга Михайл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03280" y="3959280"/>
            <a:ext cx="4292640" cy="28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0" y="60912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Trebuchet MS"/>
              </a:rPr>
              <a:t>Игровой абонемент в жизни ребён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03280" y="1584360"/>
            <a:ext cx="3024000" cy="237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5975280" y="1511280"/>
            <a:ext cx="2808360" cy="244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3"/>
          <a:stretch/>
        </p:blipFill>
        <p:spPr>
          <a:xfrm>
            <a:off x="2376360" y="4176720"/>
            <a:ext cx="431964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-81000" y="-22320"/>
            <a:ext cx="9225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"/>
          <p:cNvSpPr/>
          <p:nvPr/>
        </p:nvSpPr>
        <p:spPr>
          <a:xfrm>
            <a:off x="542880" y="674640"/>
            <a:ext cx="854388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164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</a:rPr>
              <a:t>Акту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476280" y="1387440"/>
            <a:ext cx="8334360" cy="41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9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наше время родители не всегда понимают всей значимости игровой деятельности в развитии ребенка в дошкольные годы и не всегда умеют ее организовать. Зачастую в выходные дни родители, просматривая телевизор или общаясь по телефону, просят ребенка перестать шуметь или окончить игру, т.к. ребенок мешает их делам. А ведь «дошкольное детство»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никальный период в жизни человека, когда формируется здоровье,осуществляется развитие личности. А игра – основной вид деятельности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т пери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376360" y="93672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6508800" y="3279600"/>
            <a:ext cx="2346120" cy="3129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7367760" y="268200"/>
            <a:ext cx="1533240" cy="27273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287280" y="447840"/>
            <a:ext cx="5832360" cy="58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сле проектировочной игры я поставила себе цель: научить играть родителей в детские игры, так как родители не понимают всей знач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гровой деятельности в развитии ребенка в дошкольные годы и не умеют 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рганизовы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связи с этим, изучив методическую литературу, решила предложить родителям занятия «Игрового абонемент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которых повышение педагогической компетентности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Овладение родителями инновационным развития ребенка в разных видах иг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Дать родителям знания об окружающей действи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Организация психолого-педагогического сопровождения игровой деятельности совместно с родител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Консультирование родителей по созданию предметной среды в условиях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569880" y="801720"/>
            <a:ext cx="80535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440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660033"/>
                </a:solidFill>
                <a:latin typeface="Times New Roman"/>
              </a:rPr>
              <a:t>Особенности развития игровой деятельности в дошкольном возрас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44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гра становится самостоятельной деятельностью ребёнк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44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ебёнок осваивает разные виды игр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44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 помощью игры дошкольник «входит» в разные сферы деятельности, расширяя возможности познания этих сфе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44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44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44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547640" y="3573360"/>
            <a:ext cx="575964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55760" y="57600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200" spc="-1" strike="noStrike">
                <a:solidFill>
                  <a:srgbClr val="990000"/>
                </a:solidFill>
                <a:latin typeface="Trebuchet MS"/>
              </a:rPr>
              <a:t>Игровой абонемент в нашей группе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647640" y="1655640"/>
            <a:ext cx="7632720" cy="47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863640" y="216000"/>
            <a:ext cx="719928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287280" y="647640"/>
            <a:ext cx="8136000" cy="58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Работа с родителями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379440" y="1800360"/>
            <a:ext cx="2808360" cy="3763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3633840" y="1930320"/>
            <a:ext cx="2701800" cy="3757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3"/>
          <a:stretch/>
        </p:blipFill>
        <p:spPr>
          <a:xfrm>
            <a:off x="6335640" y="1930320"/>
            <a:ext cx="2551320" cy="3672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4"/>
          <a:stretch/>
        </p:blipFill>
        <p:spPr>
          <a:xfrm>
            <a:off x="6335640" y="5602320"/>
            <a:ext cx="2551320" cy="87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00120" y="50292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Trebuchet MS"/>
              </a:rPr>
              <a:t>Роль воспитателя в игровом абонементе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352440" y="1477800"/>
            <a:ext cx="8143920" cy="50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ль воспитателя в игре способствует развитию её замысла, расширению тематики игр, обогащению содержания, уточнению игровых действий, овладению детьми ролевым поведением, проявлению доброжелательных отношений. Самое сложное и важное – обдумать задачи и приёмы воспитания детей в игре: как способствовать объединению детей, как научить их распределять роли, считаться с товарищами, доводить до конца задуманное. При этом ставятся задачи по отношению ко всему коллективу и к отдельным детям. Первое условие успешного руководства играми – умение наблюдать детей, понимать их игровые замыслы, их переживания. Чтобы направлять игру, необходимо опираться на психологию детей, считаться с детьми замыслами, бережно относится к творческой выдумке, к созданному ребёнком образу. Воспитатель оказывает влияние и на выбор темы игры, и на развитие её сюж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3-02-19T16:44:46Z</dcterms:modified>
  <cp:revision>11</cp:revision>
  <dc:subject/>
  <dc:title>Слайд 1</dc:title>
</cp:coreProperties>
</file>