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16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9.wmf" ContentType="image/x-wmf"/>
  <Override PartName="/ppt/media/image1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23CD4-54A7-4826-9E46-507A759F59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1C8DC-EAA1-406D-9052-82638B66D3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85488-C771-4903-BF8F-C9B40203EC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B73E5-1F86-4169-A0D6-DE5A98B446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6E353-0836-4975-B147-27DAE97C2B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DB747-1DC3-4745-B17B-7167006FA3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EC17C-100E-4AE6-8436-73103444E6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78AF7-4250-4FFB-B10B-CD5FF50A09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60FC3-2351-4391-971F-9150D230AB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4D85B-5662-410D-B314-E1BC9CBCCC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3B1E2-4F61-4595-AC4E-3328779CE6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9CA59-753B-4816-BC5D-6FF23D0DD3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D1E3D-35E4-4B06-B4BF-57B219853F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12FA1-3F2E-4BC6-BD38-849C40B3F6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6345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09480" y="4186080"/>
            <a:ext cx="6345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67D48-E04C-4559-A1A4-CDE0E289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61000" y="216036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418608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861000" y="418608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2F1A3-9CD5-486A-AA49-099E6F58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2043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755080" y="2160360"/>
            <a:ext cx="2043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00680" y="2160360"/>
            <a:ext cx="2043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09480" y="4186080"/>
            <a:ext cx="2043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755080" y="4186080"/>
            <a:ext cx="2043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4900680" y="4186080"/>
            <a:ext cx="2043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6CEAE-D953-42B2-A683-63D4F70330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D88F1-1A6A-426F-BCF4-DA96FBA5DB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480" y="2160360"/>
            <a:ext cx="634536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9EC9E-FA8A-44F3-827D-427C1443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6345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A58EA-7728-4AA4-81D2-AFA05914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6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1000" y="2160360"/>
            <a:ext cx="3096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45707-1990-406C-A1DE-0F0FA8DD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CA88A-B903-44ED-A510-2017168A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6345360" cy="61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73823-A08F-418A-9D3E-01DE06B2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1000" y="2160360"/>
            <a:ext cx="3096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418608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380A5-8E85-4FF4-A27E-11191CAC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09480" y="2160360"/>
            <a:ext cx="634536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02B13-69D8-4C26-85BC-DDAFF34A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6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1000" y="216036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61000" y="418608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A6963-678A-4EC1-B49B-BF70958A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1000" y="216036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4186080"/>
            <a:ext cx="6345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83386-E386-4CE1-A948-67604112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6345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480" y="4186080"/>
            <a:ext cx="6345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CB240-C542-4041-BBFA-4782FD91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61000" y="216036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418608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861000" y="418608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9C1BB-E02B-4A40-AF3A-1CDABC66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2043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55080" y="2160360"/>
            <a:ext cx="2043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00680" y="2160360"/>
            <a:ext cx="2043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480" y="4186080"/>
            <a:ext cx="2043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755080" y="4186080"/>
            <a:ext cx="2043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900680" y="4186080"/>
            <a:ext cx="2043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515C8-DD65-433B-9405-9E19474547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6345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EF1A8-1928-4478-AAD3-198DAF7A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6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61000" y="2160360"/>
            <a:ext cx="3096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C68D6-6699-4CFE-8915-734DC681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0465B-A94B-4185-8FCD-E2F22545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6345360" cy="61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3C9EC-6928-4EAE-821F-97E3B071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61000" y="2160360"/>
            <a:ext cx="3096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418608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93879-B484-433A-A60C-9F3DCD6E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6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1000" y="216036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861000" y="418608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D6D3C-5A95-4EE7-B21F-62804EA9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61000" y="2160360"/>
            <a:ext cx="3096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9480" y="4186080"/>
            <a:ext cx="6345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C497E-961D-44A7-B50B-00B4458D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7920" y="-7920"/>
            <a:ext cx="9167400" cy="6873480"/>
            <a:chOff x="-7920" y="-7920"/>
            <a:chExt cx="9167400" cy="6873480"/>
          </a:xfrm>
        </p:grpSpPr>
        <p:sp>
          <p:nvSpPr>
            <p:cNvPr id="1" name="Freeform 2"/>
            <p:cNvSpPr/>
            <p:nvPr/>
          </p:nvSpPr>
          <p:spPr>
            <a:xfrm>
              <a:off x="-7920" y="4014000"/>
              <a:ext cx="455760" cy="28515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3"/>
            <p:cNvSpPr/>
            <p:nvPr/>
          </p:nvSpPr>
          <p:spPr>
            <a:xfrm flipV="1">
              <a:off x="5131440" y="4174200"/>
              <a:ext cx="4021560" cy="2684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4"/>
            <p:cNvSpPr/>
            <p:nvPr/>
          </p:nvSpPr>
          <p:spPr>
            <a:xfrm>
              <a:off x="7043400" y="0"/>
              <a:ext cx="1217520" cy="685764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6892560" y="0"/>
              <a:ext cx="226692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7206840" y="-7920"/>
              <a:ext cx="19461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6638040" y="3920400"/>
              <a:ext cx="2511720" cy="293544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7011360" y="-7920"/>
              <a:ext cx="214164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8297280" y="-7920"/>
              <a:ext cx="8557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8078400" y="-7920"/>
              <a:ext cx="106524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8060760" y="4894920"/>
              <a:ext cx="1092240" cy="196272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12"/>
          <p:cNvGrpSpPr/>
          <p:nvPr/>
        </p:nvGrpSpPr>
        <p:grpSpPr>
          <a:xfrm>
            <a:off x="-7920" y="-7920"/>
            <a:ext cx="9167400" cy="6873480"/>
            <a:chOff x="-7920" y="-7920"/>
            <a:chExt cx="9167400" cy="6873480"/>
          </a:xfrm>
        </p:grpSpPr>
        <p:sp>
          <p:nvSpPr>
            <p:cNvPr id="12" name="Line 13"/>
            <p:cNvSpPr/>
            <p:nvPr/>
          </p:nvSpPr>
          <p:spPr>
            <a:xfrm flipV="1">
              <a:off x="5131440" y="4174200"/>
              <a:ext cx="4021560" cy="2684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Line 14"/>
            <p:cNvSpPr/>
            <p:nvPr/>
          </p:nvSpPr>
          <p:spPr>
            <a:xfrm>
              <a:off x="7043400" y="0"/>
              <a:ext cx="1217520" cy="685764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6892560" y="0"/>
              <a:ext cx="226692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7206840" y="-7920"/>
              <a:ext cx="19461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6638040" y="3920400"/>
              <a:ext cx="2511720" cy="293544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7011360" y="-7920"/>
              <a:ext cx="214164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8297280" y="-7920"/>
              <a:ext cx="8557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>
              <a:off x="8078400" y="-7920"/>
              <a:ext cx="106524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>
              <a:off x="8060760" y="4894920"/>
              <a:ext cx="1092240" cy="196272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>
              <a:off x="-7920" y="-7920"/>
              <a:ext cx="861840" cy="569700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30040" y="2405160"/>
            <a:ext cx="5824440" cy="16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5405400" y="6041880"/>
            <a:ext cx="6825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12.1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Text Box 25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sldNum" idx="2"/>
          </p:nvPr>
        </p:nvSpPr>
        <p:spPr>
          <a:xfrm>
            <a:off x="6445080" y="6041880"/>
            <a:ext cx="511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99B362-AAED-4CCE-A8A5-6B3014D75D5B}" type="slidenum">
              <a: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"/>
          <p:cNvGrpSpPr/>
          <p:nvPr/>
        </p:nvGrpSpPr>
        <p:grpSpPr>
          <a:xfrm>
            <a:off x="-7920" y="-7920"/>
            <a:ext cx="9167400" cy="6873480"/>
            <a:chOff x="-7920" y="-7920"/>
            <a:chExt cx="9167400" cy="6873480"/>
          </a:xfrm>
        </p:grpSpPr>
        <p:sp>
          <p:nvSpPr>
            <p:cNvPr id="64" name="Freeform 2"/>
            <p:cNvSpPr/>
            <p:nvPr/>
          </p:nvSpPr>
          <p:spPr>
            <a:xfrm>
              <a:off x="-7920" y="4014000"/>
              <a:ext cx="455760" cy="28515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3"/>
            <p:cNvSpPr/>
            <p:nvPr/>
          </p:nvSpPr>
          <p:spPr>
            <a:xfrm flipV="1">
              <a:off x="5131440" y="4174200"/>
              <a:ext cx="4021560" cy="2684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4"/>
            <p:cNvSpPr/>
            <p:nvPr/>
          </p:nvSpPr>
          <p:spPr>
            <a:xfrm>
              <a:off x="7043400" y="0"/>
              <a:ext cx="1217520" cy="685764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5"/>
            <p:cNvSpPr/>
            <p:nvPr/>
          </p:nvSpPr>
          <p:spPr>
            <a:xfrm>
              <a:off x="6892560" y="0"/>
              <a:ext cx="226692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6"/>
            <p:cNvSpPr/>
            <p:nvPr/>
          </p:nvSpPr>
          <p:spPr>
            <a:xfrm>
              <a:off x="7206840" y="-7920"/>
              <a:ext cx="19461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"/>
            <p:cNvSpPr/>
            <p:nvPr/>
          </p:nvSpPr>
          <p:spPr>
            <a:xfrm>
              <a:off x="6638040" y="3920400"/>
              <a:ext cx="2511720" cy="293544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8"/>
            <p:cNvSpPr/>
            <p:nvPr/>
          </p:nvSpPr>
          <p:spPr>
            <a:xfrm>
              <a:off x="7011360" y="-7920"/>
              <a:ext cx="214164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9"/>
            <p:cNvSpPr/>
            <p:nvPr/>
          </p:nvSpPr>
          <p:spPr>
            <a:xfrm>
              <a:off x="8297280" y="-7920"/>
              <a:ext cx="8557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0"/>
            <p:cNvSpPr/>
            <p:nvPr/>
          </p:nvSpPr>
          <p:spPr>
            <a:xfrm>
              <a:off x="8078400" y="-7920"/>
              <a:ext cx="106524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1"/>
            <p:cNvSpPr/>
            <p:nvPr/>
          </p:nvSpPr>
          <p:spPr>
            <a:xfrm>
              <a:off x="8060760" y="4894920"/>
              <a:ext cx="1092240" cy="196272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5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9480" y="2160360"/>
            <a:ext cx="6345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3"/>
          </p:nvPr>
        </p:nvSpPr>
        <p:spPr>
          <a:xfrm>
            <a:off x="5405400" y="6041880"/>
            <a:ext cx="6825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12.1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4"/>
          </p:nvPr>
        </p:nvSpPr>
        <p:spPr>
          <a:xfrm>
            <a:off x="6445080" y="6041880"/>
            <a:ext cx="511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C4F4F9-638A-46B7-BBC7-6EA4BAED1831}" type="slidenum">
              <a: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528480" y="1274760"/>
            <a:ext cx="808704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«Игровой абонемент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а партнёрской дея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дителей и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итатель I кв. категории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видинюк Ольга Михайл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03280" y="3959280"/>
            <a:ext cx="4292640" cy="28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0" y="60912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Trebuchet MS"/>
              </a:rPr>
              <a:t>Игровой абонемент в жизни ребён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03280" y="1584360"/>
            <a:ext cx="3024000" cy="237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5975280" y="1511280"/>
            <a:ext cx="2808360" cy="244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3"/>
          <a:stretch/>
        </p:blipFill>
        <p:spPr>
          <a:xfrm>
            <a:off x="2376360" y="4176720"/>
            <a:ext cx="431964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-81000" y="-22320"/>
            <a:ext cx="9225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"/>
          <p:cNvSpPr/>
          <p:nvPr/>
        </p:nvSpPr>
        <p:spPr>
          <a:xfrm>
            <a:off x="542880" y="674640"/>
            <a:ext cx="854388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164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476280" y="1387440"/>
            <a:ext cx="8334360" cy="41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наше время родители не всегда понимают всей значимости игровой деятельности в развитии ребенка в дошкольные годы и не всегда умеют ее организовать. Зачастую в выходные дни родители, просматривая телевизор или общаясь по телефону, просят ребенка перестать шуметь или окончить игру, т.к. ребенок мешает их делам. А ведь «дошкольное детство»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никальный период в жизни человека, когда формируется здоровье,осуществляется развитие личности. А игра – основной вид деятельности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т пери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376360" y="93672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6508800" y="3279600"/>
            <a:ext cx="2346120" cy="3129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7367760" y="268200"/>
            <a:ext cx="1533240" cy="27273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287280" y="447840"/>
            <a:ext cx="5832360" cy="58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сле проектировочной игры я поставила себе цель: научить играть родителей в детские игры, так как родители не понимают всей знач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ровой деятельности в развитии ребенка в дошкольные годы и не умеют 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рганизовы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связи с этим, изучив методическую литературу, решила предложить родителям занятия «Игрового абонемент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которых повышение педагогической компетентности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Овладение родителями инновационным развития ребенка в разных видах иг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Дать родителям знания об окружающей действи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Организация психолого-педагогического сопровождения игровой деятельности совместно с родител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Консультирование родителей по созданию предметной среды в условиях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569880" y="801720"/>
            <a:ext cx="80535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440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660033"/>
                </a:solidFill>
                <a:latin typeface="Times New Roman"/>
              </a:rPr>
              <a:t>Особенности развития игровой деятельности в дошкольном возрас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44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гра становится самостоятельной деятельностью ребёнк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44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ебёнок осваивает разные виды игр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44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 помощью игры дошкольник «входит» в разные сферы деятельности, расширяя возможности познания этих сф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4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4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4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547640" y="3573360"/>
            <a:ext cx="575964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55760" y="57600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200" spc="-1" strike="noStrike">
                <a:solidFill>
                  <a:srgbClr val="990000"/>
                </a:solidFill>
                <a:latin typeface="Trebuchet MS"/>
              </a:rPr>
              <a:t>Игровой абонемент в нашей группе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47640" y="1655640"/>
            <a:ext cx="763272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863640" y="216000"/>
            <a:ext cx="719928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287280" y="647640"/>
            <a:ext cx="8136000" cy="58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Работа с родителями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79440" y="1800360"/>
            <a:ext cx="2808360" cy="3763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3633840" y="1930320"/>
            <a:ext cx="2701800" cy="3757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3"/>
          <a:stretch/>
        </p:blipFill>
        <p:spPr>
          <a:xfrm>
            <a:off x="6335640" y="1930320"/>
            <a:ext cx="2551320" cy="367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4"/>
          <a:stretch/>
        </p:blipFill>
        <p:spPr>
          <a:xfrm>
            <a:off x="6335640" y="5602320"/>
            <a:ext cx="2551320" cy="87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00120" y="50292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Trebuchet MS"/>
              </a:rPr>
              <a:t>Роль воспитателя в игровом абонементе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352440" y="1477800"/>
            <a:ext cx="8143920" cy="50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ль воспитателя в игре способствует развитию её замысла, расширению тематики игр, обогащению содержания, уточнению игровых действий, овладению детьми ролевым поведением, проявлению доброжелательных отношений. Самое сложное и важное – обдумать задачи и приёмы воспитания детей в игре: как способствовать объединению детей, как научить их распределять роли, считаться с товарищами, доводить до конца задуманное. При этом ставятся задачи по отношению ко всему коллективу и к отдельным детям. Первое условие успешного руководства играми – умение наблюдать детей, понимать их игровые замыслы, их переживания. Чтобы направлять игру, необходимо опираться на психологию детей, считаться с детьми замыслами, бережно относится к творческой выдумке, к созданному ребёнком образу. Воспитатель оказывает влияние и на выбор темы игры, и на развитие её сюж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3-02-19T16:44:46Z</dcterms:modified>
  <cp:revision>11</cp:revision>
  <dc:subject/>
  <dc:title>Слайд 1</dc:title>
</cp:coreProperties>
</file>