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418B-A529-48A3-B722-12E84691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9C74-79AD-406D-9B4B-A905751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099C-3090-4EC8-A939-8E4687D2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442D-81A0-48FF-BAB2-C46DC090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6023-C49A-4242-9EDD-D89D2B0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563C-972F-429F-A48A-C520620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577B-3306-4EE1-979B-A19CCFF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D4BB-216A-41BB-ACF5-B14FBD6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DE26-321B-447F-8CEA-9AB1B2E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6041-932F-4335-A50D-F2EA71B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9B1F-D695-4D30-BA29-88B7847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BDAD-D25B-4612-8E8F-C7668C1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97480" y="1676520"/>
            <a:ext cx="2820960" cy="2820960"/>
            <a:chOff x="6297480" y="1676520"/>
            <a:chExt cx="2820960" cy="28209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096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2600" cy="19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688000" y="-457200"/>
            <a:ext cx="1601640" cy="1601640"/>
            <a:chOff x="5688000" y="-457200"/>
            <a:chExt cx="1601640" cy="160164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164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04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6297480" y="6095880"/>
            <a:ext cx="992160" cy="992160"/>
            <a:chOff x="6297480" y="6095880"/>
            <a:chExt cx="992160" cy="9921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2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6987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52280" y="2670120"/>
            <a:ext cx="4186080" cy="4186440"/>
            <a:chOff x="-152280" y="2670120"/>
            <a:chExt cx="4186080" cy="418644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6080" cy="41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0640" cy="29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-841320" y="2895480"/>
            <a:ext cx="2363760" cy="2363760"/>
            <a:chOff x="-841320" y="2895480"/>
            <a:chExt cx="2363760" cy="236376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376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68240" cy="16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ftr" idx="1"/>
          </p:nvPr>
        </p:nvSpPr>
        <p:spPr>
          <a:xfrm>
            <a:off x="8277120" y="1447920"/>
            <a:ext cx="38577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ldNum" idx="2"/>
          </p:nvPr>
        </p:nvSpPr>
        <p:spPr>
          <a:xfrm>
            <a:off x="7765920" y="295200"/>
            <a:ext cx="6271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F81D-DD15-46CC-9E52-2162F7A9A43D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3"/>
          </p:nvPr>
        </p:nvSpPr>
        <p:spPr>
          <a:xfrm>
            <a:off x="8103960" y="1447920"/>
            <a:ext cx="9889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33336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8428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Черный ящик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7400" y="0"/>
            <a:ext cx="4675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/>
          <p:cNvSpPr/>
          <p:nvPr/>
        </p:nvSpPr>
        <p:spPr>
          <a:xfrm>
            <a:off x="-252360" y="1341360"/>
            <a:ext cx="673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584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ефть- смесь углеводородов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, в основном,  алканов, циклоаоканов  и аренов, содержащих в молекулах от 5 до 50 атомов углерод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743040" indent="-28584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ефть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маслянистая жидкость, темного цвета с характерным запахом, нерастворимая в вод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8000" y="3284640"/>
            <a:ext cx="2305080" cy="33112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nodeType="clickEffect" fill="hold">
                      <p:stCondLst>
                        <p:cond delay="0"/>
                      </p:stCondLst>
                      <p:childTnLst>
                        <p:par>
                          <p:cTn id="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89000"/>
            <a:ext cx="6337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Arial Black"/>
              </a:rPr>
              <a:t>Слово географ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b729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729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e6b729"/>
                </a:solidFill>
                <a:latin typeface="Arial Black"/>
              </a:rPr>
              <a:t>Кто владеет нефтью, будет владеть миром…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7575"/>
                </a:solidFill>
                <a:latin typeface="Century Gothic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(Анри Беранже,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французский дипломат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27000"/>
            <a:ext cx="8388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ebeb"/>
                </a:solidFill>
                <a:latin typeface="Arial Black"/>
              </a:rPr>
              <a:t>Запасы нефти и газа и добыча нефти</a:t>
            </a: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698400"/>
          <a:ext cx="9145080" cy="6165720"/>
        </p:xfrm>
        <a:graphic>
          <a:graphicData uri="http://schemas.openxmlformats.org/drawingml/2006/table">
            <a:tbl>
              <a:tblPr/>
              <a:tblGrid>
                <a:gridCol w="2286000"/>
                <a:gridCol w="2286360"/>
                <a:gridCol w="2286360"/>
                <a:gridCol w="2286360"/>
              </a:tblGrid>
              <a:tr h="76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ефть, млн.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аз, млрд. м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п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обыча нефти (1995) млн.т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5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94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ве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8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ж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7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3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3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ижний и Средний 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35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20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сего в ми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8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96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9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89000"/>
            <a:ext cx="78487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физикам-техн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В сыром виде нефть не используется, применение находят продукты ее переработк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nodeType="clickEffect" fill="hold">
                      <p:stCondLst>
                        <p:cond delay="0"/>
                      </p:stCondLst>
                      <p:childTnLst>
                        <p:par>
                          <p:cTn id="1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7129440" cy="64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619360" cy="266544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89000"/>
            <a:ext cx="8820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Фракционная перегонк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нефт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39830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ектификация - физический способ разделения смеси на фракции с различной температурой кип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641840" cy="542772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1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7200720" cy="643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2017440" cy="15130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2089080" cy="14590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9280" y="3357720"/>
            <a:ext cx="2089080" cy="148716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Интегрированный урок по химии и географи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044720" y="189000"/>
            <a:ext cx="101887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химикам-техн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“…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жигать нефть – это то же, что топить печь ассигнациями” (Д.И. Менделеев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каждой капле нефти содержится более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900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азличных химических соединени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5120" y="228600"/>
            <a:ext cx="583560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Виды крекинг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052640"/>
            <a:ext cx="8640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Термический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– расщепление углеводородов происходит при высокой температуре (470-550 градусов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Каталитический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происходит в присутствии катализатора и при более низкой температуре. В результате получается бензин  с более высоким октановым числ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Октановое число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характеризует детонационную стойкость бензина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nodeType="clickEffect" fill="hold">
                      <p:stCondLst>
                        <p:cond delay="0"/>
                      </p:stCondLst>
                      <p:childTnLst>
                        <p:par>
                          <p:cTn id="2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dur="indefinite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84200" y="115920"/>
            <a:ext cx="705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рекинг нефтепродуктов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1413000"/>
            <a:ext cx="7238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лучаемое количество бензина из нефти путём перегонки не может удовлетворить всё возрастающий спрос на нег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Выход бензина из нефти (до 60-75%) увеличивают путём крекинг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Крекинг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 - термическое разложение нефтепродуктов на углеводороды с меньшим числом атомов углерод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рекингу подвергается лигроин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201080" cy="14428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57200" y="3000240"/>
            <a:ext cx="6715080" cy="352440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9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dur="indefinite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7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260280"/>
            <a:ext cx="626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одукты крекинг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628640"/>
            <a:ext cx="87138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Бензин высокого качеств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азообразные углеводороды – сырьё для химической промышлен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76720" y="3870360"/>
            <a:ext cx="2735280" cy="262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2219400" cy="2600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2025720" cy="270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020000" y="115920"/>
            <a:ext cx="18698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0"/>
            <a:ext cx="852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Arial Black"/>
              </a:rPr>
              <a:t>Слово экономист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1143000"/>
            <a:ext cx="8715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57575"/>
                </a:solidFill>
                <a:latin typeface="Century Gothic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6b729"/>
                </a:solidFill>
                <a:latin typeface="Century Gothic"/>
              </a:rPr>
              <a:t>      </a:t>
            </a:r>
            <a:r>
              <a:rPr b="1" lang="ru-RU" sz="2600" spc="-1" strike="noStrike">
                <a:solidFill>
                  <a:srgbClr val="e6b729"/>
                </a:solidFill>
                <a:latin typeface="Arial Black"/>
              </a:rPr>
              <a:t>«</a:t>
            </a:r>
            <a:r>
              <a:rPr b="1" lang="ru-RU" sz="1900" spc="-1" strike="noStrike">
                <a:solidFill>
                  <a:srgbClr val="e6b729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Кто владеет нефтью, будет владеть миром, потому что </a:t>
            </a:r>
            <a:r>
              <a:rPr b="0" lang="ru-RU" sz="2800" spc="-1" strike="noStrike">
                <a:solidFill>
                  <a:srgbClr val="e6b729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благодаря мазуту он будет господствовать на море, благодаря авиационному топливу- в воздухе, благодаря автомобильному бензину – на суше, он будет править и в экономическом отношении, обладая фантастическим богатством, которое извлечет из нефти - веществами, которые гораздо ценнее, чем само золото».        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                                         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(Анри   Беранже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эк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28760" y="1557360"/>
            <a:ext cx="80056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Добыча, транпортировка 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ереработка нефти, использование нефтепродуктов  создают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ерьезны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экологически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облемы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43240" y="3214800"/>
            <a:ext cx="45007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285840"/>
            <a:ext cx="86198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Имитационный опыт по  устранению  загрязнения водоема пролитой нефтью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5581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6840" y="334800"/>
            <a:ext cx="9047160" cy="61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Составьте  3-4 структурные формулы углеводородов, принадлежащих к разным классам и содержащих 7 атомов углерода, которые могут находиться в нефти и продуктах ее крекинга. Назовите веществ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501480"/>
            <a:ext cx="88567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            </a:t>
            </a: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толуо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</a:t>
            </a: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метилциклогексан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гепта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    2 – метилгекса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     2,2 – диметилпентан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(могут быть и другие изомеры - алканы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4200" y="501480"/>
            <a:ext cx="1362240" cy="7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1480" y="1612800"/>
            <a:ext cx="1362240" cy="7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47840" y="2776680"/>
            <a:ext cx="1847520" cy="51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47840" y="3789360"/>
            <a:ext cx="2361960" cy="795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47840" y="5006880"/>
            <a:ext cx="25333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989000"/>
            <a:ext cx="671184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b729"/>
                </a:solidFill>
                <a:latin typeface="Arial Black"/>
              </a:rPr>
              <a:t>На контурной карте мира с помощью цветного синего карандаша отметьте основные районы добычи нефти, зеленого – районы потребления нефти, стрелками красного цвета покажите главные международные грузопотоки неф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4200" y="452520"/>
            <a:ext cx="819144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20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дно из крупнейших предприятий нефтепереработки России, расположенное в городе Омске и принадлежащее компании «Газпром нефть» -  Омский нефтеперерабатывающий завод. Его установленная мощность  около  22 млн тонн нефти в год. Из нефти получают бензин (массовая доля выхода  25 %) и мазут (массовая доля выхода 55 %). При дальнейшей переработке мазута получают еще некоторое количество бензина (массовая доля выхода 60% от массы мазута). Рассчитайте массу бензина, которая может быть получена из нефти ежедневно на Омском НПЗ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05120" y="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Что называют природными источниками углеводородов? Что собой представляет нефть?</a:t>
            </a:r>
            <a:r>
              <a:rPr b="0" lang="ru-RU" sz="27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Можно ли состав нефти выразить химической формулой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возникает нефть в недрах Земли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Основные месторождения нефти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мы используем природные источники углеводородов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из природных ресурсов получить конечный продукт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ими негативными экологическими  последствиями  могут сопровождаться использование нефти и нефтепродуктов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Причины, по которым необходимо кардинально менять пути использования природных источников углеводородов?</a:t>
            </a:r>
            <a:r>
              <a:rPr b="1" lang="ru-RU" sz="2700" spc="-1" strike="noStrike">
                <a:solidFill>
                  <a:srgbClr val="ea6312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452520"/>
            <a:ext cx="7921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оделитесь своими впечатлениями. Продолжите предложения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8532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егодня я узнал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Я удивился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перь я умею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Я хотел бы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28600"/>
            <a:ext cx="8523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омашнее задани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(одно из предложенных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73360"/>
            <a:ext cx="74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Ежедневная добыча нефти в мире составляет примерно 84 млн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аррелей в год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.  Около 90% добываемой нефти сжигается в виде топлива. Считая плотность нефти 0, 83 т/ кубометр, а средний состав нефти отразив формулой (СН </a:t>
            </a: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пределите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ассу углекислого газа в тоннах, который образуется ежедневно при сжигании нефтепродуктов.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2.  Используя материал учебника ил Интернет, составьте схему «Изделия, получаемые из нефти»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в тетради, или на листе А 4, или слайд презентации)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52520"/>
            <a:ext cx="828036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Предложите варианты обоснованных ответов на вопрос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05000"/>
            <a:ext cx="67122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разите формулой состав нефти. Используют ли нефть  в сыром виде? Какие продукты получают при переработке нефт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 большая часть стран, добывающих нефть, ее не перерабатывают?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Интегрированный урок по химии и географии «Мировая  топливная промышленность. Нефть и ее переработка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Что называют природными источниками углеводородов? Что собой представляет нефть?</a:t>
            </a:r>
            <a:r>
              <a:rPr b="0" lang="ru-RU" sz="27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Можно ли состав нефти выразить химической формулой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возникает нефть в недрах Земли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Основные месторождения нефти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мы используем природные источники углеводородов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из природных ресурсов получить конечный продукт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ими негативными экологическими  последствиями  могут сопровождаться использование нефти и нефтепродуктов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Причины, по которым необходимо кардинально менять пути использования природных источников углеводородов?</a:t>
            </a:r>
            <a:r>
              <a:rPr b="1" lang="ru-RU" sz="2700" spc="-1" strike="noStrike">
                <a:solidFill>
                  <a:srgbClr val="ea6312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8c1ba"/>
                </a:solidFill>
                <a:latin typeface="Arial Black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Источники углеводородов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0640"/>
            <a:ext cx="712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иродный газ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опутный нефтяной газ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Неф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Каменный угол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nodeType="clickEffect" fill="hold">
                      <p:stCondLst>
                        <p:cond delay="0"/>
                      </p:stCondLst>
                      <p:childTnLst>
                        <p:par>
                          <p:cTn id="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ге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57400" indent="-22860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2057400" indent="-22860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Гипотезы происхождения нефт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6:11:08Z</dcterms:created>
  <dc:creator>Елена</dc:creator>
  <dc:description/>
  <dc:language>en-US</dc:language>
  <cp:lastModifiedBy>Пользователь Windows</cp:lastModifiedBy>
  <dcterms:modified xsi:type="dcterms:W3CDTF">2022-11-16T17:10:57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