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20.png" ContentType="image/png"/>
  <Override PartName="/ppt/media/image7.png" ContentType="image/png"/>
  <Override PartName="/ppt/media/image1.jpeg" ContentType="image/jpeg"/>
  <Override PartName="/ppt/media/image9.png" ContentType="image/png"/>
  <Override PartName="/ppt/media/image22.jpeg" ContentType="image/jpeg"/>
  <Override PartName="/ppt/media/image8.png" ContentType="image/png"/>
  <Override PartName="/ppt/media/image14.jpeg" ContentType="image/jpeg"/>
  <Override PartName="/ppt/media/image13.png" ContentType="image/png"/>
  <Override PartName="/ppt/media/image29.jpeg" ContentType="image/jpeg"/>
  <Override PartName="/ppt/media/image28.png" ContentType="image/png"/>
  <Override PartName="/ppt/media/image10.jpeg" ContentType="image/jpeg"/>
  <Override PartName="/ppt/media/image5.png" ContentType="image/png"/>
  <Override PartName="/ppt/media/image35.png" ContentType="image/png"/>
  <Override PartName="/ppt/media/image30.jpeg" ContentType="image/jpeg"/>
  <Override PartName="/ppt/media/image24.jpeg" ContentType="image/jpeg"/>
  <Override PartName="/ppt/media/image18.jpeg" ContentType="image/jpeg"/>
  <Override PartName="/ppt/media/image15.png" ContentType="image/png"/>
  <Override PartName="/ppt/media/image31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F2543-D004-494A-8C4B-E56EE245D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14F02-E6A9-4F48-A1A9-6704167A2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043B8-76D5-4799-A747-5A2DF4113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A8B3F-62A0-434B-B934-F2761C65F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74015-A272-45AA-AC8F-5F45BE13C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AB1C8-59ED-4ABF-BA6F-86BFDA02F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445B6-F6C6-4930-9258-8730201F4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CCFB3-8072-49B8-8F2A-CAC103A02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93743-27EE-4076-87C4-50CE7320F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65ED6-A9F5-450F-BA48-D6D6582D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0EAAF-E32D-4B6B-8E98-17356887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7D54D-BE09-4836-8E87-6ADC9915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97480" y="1676520"/>
            <a:ext cx="2820960" cy="2820960"/>
            <a:chOff x="6297480" y="1676520"/>
            <a:chExt cx="2820960" cy="282096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0960" cy="282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711840" y="2089080"/>
              <a:ext cx="1992600" cy="19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5688000" y="-457200"/>
            <a:ext cx="1601640" cy="1601640"/>
            <a:chOff x="5688000" y="-457200"/>
            <a:chExt cx="1601640" cy="1601640"/>
          </a:xfrm>
        </p:grpSpPr>
        <p:pic>
          <p:nvPicPr>
            <p:cNvPr id="4" name="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1640" cy="16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5924520" y="-222120"/>
              <a:ext cx="113040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6297480" y="6095880"/>
            <a:ext cx="992160" cy="992160"/>
            <a:chOff x="6297480" y="6095880"/>
            <a:chExt cx="992160" cy="992160"/>
          </a:xfrm>
        </p:grpSpPr>
        <p:pic>
          <p:nvPicPr>
            <p:cNvPr id="7" name="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2160" cy="99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6445080" y="6240600"/>
              <a:ext cx="69876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-152280" y="2670120"/>
            <a:ext cx="4186080" cy="4186440"/>
            <a:chOff x="-152280" y="2670120"/>
            <a:chExt cx="4186080" cy="4186440"/>
          </a:xfrm>
        </p:grpSpPr>
        <p:pic>
          <p:nvPicPr>
            <p:cNvPr id="10" name="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6080" cy="41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460440" y="3281400"/>
              <a:ext cx="2960640" cy="29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-841320" y="2895480"/>
            <a:ext cx="2363760" cy="2363760"/>
            <a:chOff x="-841320" y="2895480"/>
            <a:chExt cx="2363760" cy="2363760"/>
          </a:xfrm>
        </p:grpSpPr>
        <p:pic>
          <p:nvPicPr>
            <p:cNvPr id="13" name="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3760" cy="23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-493560" y="3241800"/>
              <a:ext cx="1668240" cy="166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15" name="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1"/>
          <p:cNvSpPr>
            <a:spLocks noGrp="1"/>
          </p:cNvSpPr>
          <p:nvPr>
            <p:ph type="ftr" idx="1"/>
          </p:nvPr>
        </p:nvSpPr>
        <p:spPr>
          <a:xfrm>
            <a:off x="8277120" y="1447920"/>
            <a:ext cx="38577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vert="eaVer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ldNum" idx="2"/>
          </p:nvPr>
        </p:nvSpPr>
        <p:spPr>
          <a:xfrm>
            <a:off x="7765920" y="295200"/>
            <a:ext cx="6271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F3634-95F9-4AEC-A66B-96BEC3E7B13B}" type="slidenum"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3"/>
          </p:nvPr>
        </p:nvSpPr>
        <p:spPr>
          <a:xfrm>
            <a:off x="8103960" y="1447920"/>
            <a:ext cx="98892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411280" y="33336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484280"/>
            <a:ext cx="91440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 Black"/>
              </a:rPr>
              <a:t>Черный ящик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90512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264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057400" y="0"/>
            <a:ext cx="4675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 Black"/>
              </a:rPr>
              <a:t>Нефть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8" name=""/>
          <p:cNvSpPr/>
          <p:nvPr/>
        </p:nvSpPr>
        <p:spPr>
          <a:xfrm>
            <a:off x="-252360" y="1341360"/>
            <a:ext cx="67323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743040" indent="-28584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Нефть- смесь углеводородов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, в основном,  алканов, циклоаоканов  и аренов, содержащих в молекулах от 5 до 50 атомов углерода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743040" indent="-28584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Нефть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- маслянистая жидкость, темного цвета с характерным запахом, нерастворимая в воде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588000" y="3284640"/>
            <a:ext cx="2305080" cy="3311280"/>
          </a:xfrm>
          <a:prstGeom prst="rect">
            <a:avLst/>
          </a:prstGeom>
          <a:ln w="9360">
            <a:solidFill>
              <a:srgbClr val="9dd0cb"/>
            </a:solidFill>
            <a:miter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dur="indefinite" nodeType="clickEffect" fill="hold">
                      <p:stCondLst>
                        <p:cond delay="0"/>
                      </p:stCondLst>
                      <p:childTnLst>
                        <p:par>
                          <p:cTn id="9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dur="indefinite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dur="indefinite" nodeType="afterEffect" fill="hold">
                            <p:stCondLst>
                              <p:cond delay="12300"/>
                            </p:stCondLst>
                            <p:childTnLst>
                              <p:par>
                                <p:cTn id="11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95280" y="189000"/>
            <a:ext cx="633744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ebebeb"/>
                </a:solidFill>
                <a:latin typeface="Arial Black"/>
              </a:rPr>
              <a:t>Слово географам!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1" name=""/>
          <p:cNvSpPr/>
          <p:nvPr/>
        </p:nvSpPr>
        <p:spPr>
          <a:xfrm>
            <a:off x="1928880" y="1714680"/>
            <a:ext cx="692928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6b729"/>
                </a:solidFill>
                <a:latin typeface="Arial Black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6b729"/>
                </a:solidFill>
                <a:latin typeface="Arial Black"/>
              </a:rPr>
              <a:t>  </a:t>
            </a:r>
            <a:r>
              <a:rPr b="1" lang="ru-RU" sz="3600" spc="-1" strike="noStrike">
                <a:solidFill>
                  <a:srgbClr val="e6b729"/>
                </a:solidFill>
                <a:latin typeface="Arial Black"/>
              </a:rPr>
              <a:t>Кто владеет нефтью, будет владеть миром…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57575"/>
                </a:solidFill>
                <a:latin typeface="Century Gothic"/>
              </a:rPr>
              <a:t>    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Arial Black"/>
              </a:rPr>
              <a:t>(Анри Беранже,       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 Black"/>
              </a:rPr>
              <a:t>           </a:t>
            </a:r>
            <a:r>
              <a:rPr b="1" i="1" lang="ru-RU" sz="2800" spc="-1" strike="noStrike">
                <a:solidFill>
                  <a:srgbClr val="ffffff"/>
                </a:solidFill>
                <a:latin typeface="Arial Black"/>
              </a:rPr>
              <a:t>французский дипломат)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dur="indefinite" nodeType="clickEffect" fill="hold">
                      <p:stCondLst>
                        <p:cond delay="0"/>
                      </p:stCondLst>
                      <p:childTnLst>
                        <p:par>
                          <p:cTn id="123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dur="indefinite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dur="indefinite" nodeType="afterEffect" fill="hold">
                            <p:stCondLst>
                              <p:cond delay="1040"/>
                            </p:stCondLst>
                            <p:childTnLst>
                              <p:par>
                                <p:cTn id="1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0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7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84200" y="452520"/>
            <a:ext cx="7056360" cy="14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-27000"/>
            <a:ext cx="838836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bebeb"/>
                </a:solidFill>
                <a:latin typeface="Arial Black"/>
              </a:rPr>
              <a:t>Запасы нефти и газа и добыча нефти</a:t>
            </a:r>
            <a:r>
              <a:rPr b="0" lang="ru-RU" sz="2800" spc="-1" strike="noStrike">
                <a:solidFill>
                  <a:srgbClr val="ebebeb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0" y="698400"/>
          <a:ext cx="9145080" cy="6165720"/>
        </p:xfrm>
        <a:graphic>
          <a:graphicData uri="http://schemas.openxmlformats.org/drawingml/2006/table">
            <a:tbl>
              <a:tblPr/>
              <a:tblGrid>
                <a:gridCol w="2286000"/>
                <a:gridCol w="2286360"/>
                <a:gridCol w="2286360"/>
                <a:gridCol w="2286360"/>
              </a:tblGrid>
              <a:tr h="765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стра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64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64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Нефть, млн. 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запа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64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Газ, млрд. м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запа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64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Добыча нефти (1995) млн.т/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6480">
                      <a:solidFill>
                        <a:srgbClr val="ffffff"/>
                      </a:solidFill>
                    </a:lnR>
                    <a:lnT w="64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0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орвег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64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53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52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9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64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еликобрит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64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88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59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8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64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64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8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5949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64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увей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64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8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82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9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64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лжи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64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60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22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8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64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екс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64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819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36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6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64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64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7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63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64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енесуэ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64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833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959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0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64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лижний и Средний Вост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64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0359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5201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42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64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Всего в мир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64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64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380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64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39624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64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092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64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64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56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90512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-214200" y="0"/>
            <a:ext cx="93582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95280" y="189000"/>
            <a:ext cx="784872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ebebeb"/>
                </a:solidFill>
                <a:latin typeface="Arial Black"/>
              </a:rPr>
              <a:t>Слово физикам-технологам!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9" name=""/>
          <p:cNvSpPr/>
          <p:nvPr/>
        </p:nvSpPr>
        <p:spPr>
          <a:xfrm>
            <a:off x="1928880" y="1714680"/>
            <a:ext cx="692928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1" lang="ru-RU" sz="2800" spc="-1" strike="noStrike">
                <a:solidFill>
                  <a:srgbClr val="e6b729"/>
                </a:solidFill>
                <a:latin typeface="Arial Black"/>
              </a:rPr>
              <a:t>В сыром виде нефть не используется, применение находят продукты ее переработки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dur="indefinite" nodeType="clickEffect" fill="hold">
                      <p:stCondLst>
                        <p:cond delay="0"/>
                      </p:stCondLst>
                      <p:childTnLst>
                        <p:par>
                          <p:cTn id="165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dur="indefinite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dur="indefinite" nodeType="afterEffect" fill="hold">
                            <p:stCondLst>
                              <p:cond delay="1040"/>
                            </p:stCondLst>
                            <p:childTnLst>
                              <p:par>
                                <p:cTn id="1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763640" y="189000"/>
            <a:ext cx="7129440" cy="6480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50920" y="3716280"/>
            <a:ext cx="2619360" cy="2665440"/>
          </a:xfrm>
          <a:prstGeom prst="rect">
            <a:avLst/>
          </a:prstGeom>
          <a:ln w="9360">
            <a:solidFill>
              <a:srgbClr val="9dd0cb"/>
            </a:solidFill>
            <a:miter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dur="indefinite" nodeType="clickEffect" fill="hold">
                      <p:stCondLst>
                        <p:cond delay="0"/>
                      </p:stCondLst>
                      <p:childTnLst>
                        <p:par>
                          <p:cTn id="18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77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8" dur="770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0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2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dur="indefinite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24000" y="189000"/>
            <a:ext cx="882000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Black"/>
              </a:rPr>
              <a:t>Фракционная перегонка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 Black"/>
              </a:rPr>
              <a:t>нефти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398304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Ректификация - физический способ разделения смеси на фракции с различной температурой кипения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284720" y="1125360"/>
            <a:ext cx="4641840" cy="5427720"/>
          </a:xfrm>
          <a:prstGeom prst="rect">
            <a:avLst/>
          </a:prstGeom>
          <a:ln w="9360">
            <a:solidFill>
              <a:srgbClr val="9dd0cb"/>
            </a:solidFill>
            <a:miter/>
          </a:ln>
        </p:spPr>
      </p:pic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dur="indefinite" nodeType="clickEffect" fill="hold">
                      <p:stCondLst>
                        <p:cond delay="0"/>
                      </p:stCondLst>
                      <p:childTnLst>
                        <p:par>
                          <p:cTn id="201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dur="indefinite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dur="indefinite" nodeType="afterEffect" fill="hold">
                            <p:stCondLst>
                              <p:cond delay="4320"/>
                            </p:stCondLst>
                            <p:childTnLst>
                              <p:par>
                                <p:cTn id="212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692360" y="189000"/>
            <a:ext cx="7200720" cy="6432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250920" y="1628640"/>
            <a:ext cx="2017440" cy="1513080"/>
          </a:xfrm>
          <a:prstGeom prst="rect">
            <a:avLst/>
          </a:prstGeom>
          <a:ln w="9360">
            <a:solidFill>
              <a:srgbClr val="9dd0cb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179280" y="5157720"/>
            <a:ext cx="2089080" cy="1459080"/>
          </a:xfrm>
          <a:prstGeom prst="rect">
            <a:avLst/>
          </a:prstGeom>
          <a:ln w="9360">
            <a:solidFill>
              <a:srgbClr val="9dd0cb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179280" y="3357720"/>
            <a:ext cx="2089080" cy="1487160"/>
          </a:xfrm>
          <a:prstGeom prst="rect">
            <a:avLst/>
          </a:prstGeom>
          <a:ln w="9360">
            <a:solidFill>
              <a:srgbClr val="9dd0cb"/>
            </a:solidFill>
            <a:miter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dur="indefinite" nodeType="clickEffect" fill="hold">
                      <p:stCondLst>
                        <p:cond delay="0"/>
                      </p:stCondLst>
                      <p:childTnLst>
                        <p:par>
                          <p:cTn id="2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dur="indefinite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dur="indefinite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0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dur="indefinite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7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84200" y="452520"/>
            <a:ext cx="7056360" cy="14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0" name=""/>
          <p:cNvSpPr/>
          <p:nvPr/>
        </p:nvSpPr>
        <p:spPr>
          <a:xfrm>
            <a:off x="826920" y="2052720"/>
            <a:ext cx="6712200" cy="41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Интегрированный урок по химии и географии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-1044720" y="189000"/>
            <a:ext cx="1018872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ebebeb"/>
                </a:solidFill>
                <a:latin typeface="Arial Black"/>
              </a:rPr>
              <a:t>Слово химикам-технологам!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0" name=""/>
          <p:cNvSpPr/>
          <p:nvPr/>
        </p:nvSpPr>
        <p:spPr>
          <a:xfrm>
            <a:off x="1928880" y="1714680"/>
            <a:ext cx="692928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  </a:t>
            </a: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“…</a:t>
            </a: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сжигать нефть – это то же, что топить печь ассигнациями” (Д.И. Менделеев)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В каждой капле нефти содержится более </a:t>
            </a: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900 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различных химических соединений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dur="indefinite" nodeType="clickEffect" fill="hold">
                      <p:stCondLst>
                        <p:cond delay="0"/>
                      </p:stCondLst>
                      <p:childTnLst>
                        <p:par>
                          <p:cTn id="246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dur="indefinite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dur="indefinite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2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905120" y="228600"/>
            <a:ext cx="5835600" cy="11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Black"/>
              </a:rPr>
              <a:t>Виды крекинга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2" name=""/>
          <p:cNvSpPr/>
          <p:nvPr/>
        </p:nvSpPr>
        <p:spPr>
          <a:xfrm>
            <a:off x="108000" y="1052640"/>
            <a:ext cx="8640720" cy="55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Термический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– расщепление углеводородов происходит при высокой температуре (470-550 градусов)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Каталитический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– происходит в присутствии катализатора и при более низкой температуре. В результате получается бензин  с более высоким октановым числом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Октановое число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– характеризует детонационную стойкость бензина</a:t>
            </a:r>
            <a:r>
              <a:rPr b="1" i="1" lang="ru-RU" sz="20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dur="indefinite" nodeType="clickEffect" fill="hold">
                      <p:stCondLst>
                        <p:cond delay="0"/>
                      </p:stCondLst>
                      <p:childTnLst>
                        <p:par>
                          <p:cTn id="265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dur="indefinite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dur="indefinite" nodeType="afterEffect" fill="hold">
                            <p:stCondLst>
                              <p:cond delay="6150"/>
                            </p:stCondLst>
                            <p:childTnLst>
                              <p:par>
                                <p:cTn id="27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dur="indefinite" nodeType="afterEffect" fill="hold">
                            <p:stCondLst>
                              <p:cond delay="13700"/>
                            </p:stCondLst>
                            <p:childTnLst>
                              <p:par>
                                <p:cTn id="28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84200" y="115920"/>
            <a:ext cx="705636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 Black"/>
              </a:rPr>
              <a:t>Крекинг нефтепродуктов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4" name=""/>
          <p:cNvSpPr/>
          <p:nvPr/>
        </p:nvSpPr>
        <p:spPr>
          <a:xfrm>
            <a:off x="1258920" y="1413000"/>
            <a:ext cx="72388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entury Gothic"/>
              </a:rPr>
              <a:t>Получаемое количество бензина из нефти путём перегонки не может удовлетворить всё возрастающий спрос на него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entury Gothic"/>
              </a:rPr>
              <a:t>Выход бензина из нефти (до 60-75%) увеличивают путём крекинга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Century Gothic"/>
              </a:rPr>
              <a:t>Крекинг</a:t>
            </a:r>
            <a:r>
              <a:rPr b="1" i="1" lang="ru-RU" sz="2000" spc="-1" strike="noStrike">
                <a:solidFill>
                  <a:srgbClr val="ffffff"/>
                </a:solidFill>
                <a:latin typeface="Century Gothic"/>
              </a:rPr>
              <a:t> - термическое разложение нефтепродуктов на углеводороды с меньшим числом атомов углерода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entury Gothic"/>
              </a:rPr>
              <a:t>Крекингу подвергается лигроин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116000" y="1557360"/>
            <a:ext cx="7201080" cy="1442880"/>
          </a:xfrm>
          <a:prstGeom prst="rect">
            <a:avLst/>
          </a:prstGeom>
          <a:ln w="9360">
            <a:solidFill>
              <a:srgbClr val="9dd0cb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357200" y="3000240"/>
            <a:ext cx="6715080" cy="3524400"/>
          </a:xfrm>
          <a:prstGeom prst="rect">
            <a:avLst/>
          </a:prstGeom>
          <a:ln w="9360">
            <a:solidFill>
              <a:srgbClr val="9dd0cb"/>
            </a:solidFill>
            <a:miter/>
          </a:ln>
        </p:spPr>
      </p:pic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dur="indefinite" nodeType="clickEffect" fill="hold">
                      <p:stCondLst>
                        <p:cond delay="0"/>
                      </p:stCondLst>
                      <p:childTnLst>
                        <p:par>
                          <p:cTn id="293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dur="indefinite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dur="indefinite" nodeType="afterEffect" fill="hold">
                            <p:stCondLst>
                              <p:cond delay="7700"/>
                            </p:stCondLst>
                            <p:childTnLst>
                              <p:par>
                                <p:cTn id="30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dur="indefinite" nodeType="afterEffect" fill="hold">
                            <p:stCondLst>
                              <p:cond delay="11350"/>
                            </p:stCondLst>
                            <p:childTnLst>
                              <p:par>
                                <p:cTn id="31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dur="indefinite" nodeType="afterEffect" fill="hold">
                            <p:stCondLst>
                              <p:cond delay="16600"/>
                            </p:stCondLst>
                            <p:childTnLst>
                              <p:par>
                                <p:cTn id="31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26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2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3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36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40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dur="indefinite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dur="indefinite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1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7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03280" y="260280"/>
            <a:ext cx="62658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Black"/>
              </a:rPr>
              <a:t>Продукты крекинга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628640"/>
            <a:ext cx="8713800" cy="18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Бензин высокого качества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Газообразные углеводороды – сырьё для химической промышленности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276720" y="3870360"/>
            <a:ext cx="2735280" cy="2628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39640" y="3860640"/>
            <a:ext cx="2219400" cy="2600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6588000" y="3860640"/>
            <a:ext cx="2025720" cy="27036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7020000" y="115920"/>
            <a:ext cx="1869840" cy="21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dur="indefinite" nodeType="clickEffect" fill="hold">
                      <p:stCondLst>
                        <p:cond delay="0"/>
                      </p:stCondLst>
                      <p:childTnLst>
                        <p:par>
                          <p:cTn id="360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dur="indefinite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dur="indefinite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dur="indefinite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7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dur="indefinite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dur="indefinite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dur="indefinite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68360" y="0"/>
            <a:ext cx="852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ebebeb"/>
                </a:solidFill>
                <a:latin typeface="Arial Black"/>
              </a:rPr>
              <a:t>Слово экономистам!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4" name=""/>
          <p:cNvSpPr/>
          <p:nvPr/>
        </p:nvSpPr>
        <p:spPr>
          <a:xfrm>
            <a:off x="214200" y="1143000"/>
            <a:ext cx="8715600" cy="54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757575"/>
                </a:solidFill>
                <a:latin typeface="Century Gothic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e6b729"/>
                </a:solidFill>
                <a:latin typeface="Century Gothic"/>
              </a:rPr>
              <a:t>      </a:t>
            </a:r>
            <a:r>
              <a:rPr b="1" lang="ru-RU" sz="2600" spc="-1" strike="noStrike">
                <a:solidFill>
                  <a:srgbClr val="e6b729"/>
                </a:solidFill>
                <a:latin typeface="Arial Black"/>
              </a:rPr>
              <a:t>«</a:t>
            </a:r>
            <a:r>
              <a:rPr b="1" lang="ru-RU" sz="1900" spc="-1" strike="noStrike">
                <a:solidFill>
                  <a:srgbClr val="e6b729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e6b729"/>
                </a:solidFill>
                <a:latin typeface="Arial Black"/>
              </a:rPr>
              <a:t>Кто владеет нефтью, будет владеть миром, потому что </a:t>
            </a:r>
            <a:r>
              <a:rPr b="0" lang="ru-RU" sz="2800" spc="-1" strike="noStrike">
                <a:solidFill>
                  <a:srgbClr val="e6b729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e6b729"/>
                </a:solidFill>
                <a:latin typeface="Arial Black"/>
              </a:rPr>
              <a:t>благодаря мазуту он будет господствовать на море, благодаря авиационному топливу- в воздухе, благодаря автомобильному бензину – на суше, он будет править и в экономическом отношении, обладая фантастическим богатством, которое извлечет из нефти - веществами, которые гораздо ценнее, чем само золото».                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6b729"/>
                </a:solidFill>
                <a:latin typeface="Arial Black"/>
              </a:rPr>
              <a:t>                                          </a:t>
            </a:r>
            <a:r>
              <a:rPr b="1" lang="ru-RU" sz="2800" spc="-1" strike="noStrike">
                <a:solidFill>
                  <a:srgbClr val="e6b729"/>
                </a:solidFill>
                <a:latin typeface="Arial Black"/>
              </a:rPr>
              <a:t>(Анри   Беранже)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84200" y="452520"/>
            <a:ext cx="7056360" cy="14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8713800" cy="65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84200" y="452520"/>
            <a:ext cx="7056360" cy="14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08000" y="189000"/>
            <a:ext cx="8856720" cy="64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84200" y="452520"/>
            <a:ext cx="7056360" cy="14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84200" y="452520"/>
            <a:ext cx="7056360" cy="14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bebeb"/>
                </a:solidFill>
                <a:latin typeface="Arial Black"/>
              </a:rPr>
              <a:t>Слово экологам!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2" name=""/>
          <p:cNvSpPr/>
          <p:nvPr/>
        </p:nvSpPr>
        <p:spPr>
          <a:xfrm>
            <a:off x="428760" y="1557360"/>
            <a:ext cx="8005680" cy="44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    </a:t>
            </a: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Добыча, транпортировка и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   </a:t>
            </a: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переработка нефти, использование нефтепродуктов  создают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   </a:t>
            </a: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серьезные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   </a:t>
            </a: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экологические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   </a:t>
            </a: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проблемы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43240" y="3214800"/>
            <a:ext cx="4500720" cy="32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24000" y="285840"/>
            <a:ext cx="861984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bebeb"/>
                </a:solidFill>
                <a:latin typeface="Arial Black"/>
              </a:rPr>
              <a:t>Имитационный опыт по  устранению  загрязнения водоема пролитой нефтью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24000" y="2708280"/>
            <a:ext cx="558144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84200" y="452520"/>
            <a:ext cx="7056360" cy="14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96840" y="334800"/>
            <a:ext cx="9047160" cy="618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84200" y="452520"/>
            <a:ext cx="7056360" cy="14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7" name=""/>
          <p:cNvSpPr/>
          <p:nvPr/>
        </p:nvSpPr>
        <p:spPr>
          <a:xfrm>
            <a:off x="826920" y="2052720"/>
            <a:ext cx="6712200" cy="41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6b729"/>
                </a:solidFill>
                <a:latin typeface="Arial Black"/>
              </a:rPr>
              <a:t>Составьте  3-4 структурные формулы углеводородов, принадлежащих к разным классам и содержащих 7 атомов углерода, которые могут находиться в нефти и продуктах ее крекинга. Назовите вещества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79280" y="501480"/>
            <a:ext cx="8856720" cy="67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ebebeb"/>
                </a:solidFill>
                <a:latin typeface="Century Gothic"/>
              </a:rPr>
              <a:t>             </a:t>
            </a:r>
            <a:r>
              <a:rPr b="0" lang="ru-RU" sz="2800" spc="-1" strike="noStrike">
                <a:solidFill>
                  <a:srgbClr val="ebebeb"/>
                </a:solidFill>
                <a:latin typeface="Arial Black"/>
              </a:rPr>
              <a:t>толуол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ebebeb"/>
                </a:solidFill>
                <a:latin typeface="Arial Black"/>
              </a:rPr>
              <a:t>               </a:t>
            </a:r>
            <a:br>
              <a:rPr sz="2800"/>
            </a:br>
            <a:r>
              <a:rPr b="0" lang="ru-RU" sz="2800" spc="-1" strike="noStrike">
                <a:solidFill>
                  <a:srgbClr val="ebebeb"/>
                </a:solidFill>
                <a:latin typeface="Arial Black"/>
              </a:rPr>
              <a:t>                 метилциклогексан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ebebeb"/>
                </a:solidFill>
                <a:latin typeface="Arial Black"/>
              </a:rPr>
              <a:t>                   гептан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ebebeb"/>
                </a:solidFill>
                <a:latin typeface="Arial Black"/>
              </a:rPr>
              <a:t>                       2 – метилгексан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ebebeb"/>
                </a:solidFill>
                <a:latin typeface="Arial Black"/>
              </a:rPr>
              <a:t>                        2,2 – диметилпентан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ebebeb"/>
                </a:solidFill>
                <a:latin typeface="Arial Black"/>
              </a:rPr>
              <a:t>(могут быть и другие изомеры - алканы)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ebebeb"/>
                </a:solidFill>
                <a:latin typeface="Arial Black"/>
              </a:rPr>
              <a:t> 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84200" y="501480"/>
            <a:ext cx="1362240" cy="781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501480" y="1612800"/>
            <a:ext cx="1362240" cy="7812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447840" y="2776680"/>
            <a:ext cx="1847520" cy="5158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447840" y="3789360"/>
            <a:ext cx="2361960" cy="7952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447840" y="5006880"/>
            <a:ext cx="253332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84200" y="452520"/>
            <a:ext cx="7056360" cy="14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5" name=""/>
          <p:cNvSpPr/>
          <p:nvPr/>
        </p:nvSpPr>
        <p:spPr>
          <a:xfrm>
            <a:off x="971640" y="1989000"/>
            <a:ext cx="6711840" cy="41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6b729"/>
                </a:solidFill>
                <a:latin typeface="Arial Black"/>
              </a:rPr>
              <a:t>На контурной карте мира с помощью цветного синего карандаша отметьте основные районы добычи нефти, зеленого – районы потребления нефти, стрелками красного цвета покажите главные международные грузопотоки нефти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84200" y="452520"/>
            <a:ext cx="7056360" cy="14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84200" y="452520"/>
            <a:ext cx="8191440" cy="600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84200" y="452520"/>
            <a:ext cx="7056360" cy="14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9" name=""/>
          <p:cNvSpPr/>
          <p:nvPr/>
        </p:nvSpPr>
        <p:spPr>
          <a:xfrm>
            <a:off x="250920" y="620640"/>
            <a:ext cx="864216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Одно из крупнейших предприятий нефтепереработки России, расположенное в городе Омске и принадлежащее компании «Газпром нефть» -  Омский нефтеперерабатывающий завод. Его установленная мощность  около  22 млн тонн нефти в год. Из нефти получают бензин (массовая доля выхода  25 %) и мазут (массовая доля выхода 55 %). При дальнейшей переработке мазута получают еще некоторое количество бензина (массовая доля выхода 60% от массы мазута). Рассчитайте массу бензина, которая может быть получена из нефти ежедневно на Омском НПЗ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905120" y="0"/>
            <a:ext cx="7086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9144000" cy="67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00"/>
                </a:solidFill>
                <a:latin typeface="Arial Black"/>
              </a:rPr>
              <a:t>Что называют природными источниками углеводородов? Что собой представляет нефть?</a:t>
            </a:r>
            <a:r>
              <a:rPr b="0" lang="ru-RU" sz="27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700" spc="-1" strike="noStrike">
                <a:solidFill>
                  <a:srgbClr val="ffff00"/>
                </a:solidFill>
                <a:latin typeface="Arial Black"/>
              </a:rPr>
              <a:t>Можно ли состав нефти выразить химической формулой?</a:t>
            </a:r>
            <a:endParaRPr b="0" lang="en-US" sz="27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00"/>
                </a:solidFill>
                <a:latin typeface="Arial Black"/>
              </a:rPr>
              <a:t>Как возникает нефть в недрах Земли? </a:t>
            </a:r>
            <a:endParaRPr b="0" lang="en-US" sz="27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00"/>
                </a:solidFill>
                <a:latin typeface="Arial Black"/>
              </a:rPr>
              <a:t>Основные месторождения нефти?</a:t>
            </a:r>
            <a:endParaRPr b="0" lang="en-US" sz="27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00"/>
                </a:solidFill>
                <a:latin typeface="Arial Black"/>
              </a:rPr>
              <a:t>Как мы используем природные источники углеводородов? </a:t>
            </a:r>
            <a:endParaRPr b="0" lang="en-US" sz="27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00"/>
                </a:solidFill>
                <a:latin typeface="Arial Black"/>
              </a:rPr>
              <a:t>Как из природных ресурсов получить конечный продукт?</a:t>
            </a:r>
            <a:endParaRPr b="0" lang="en-US" sz="27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00"/>
                </a:solidFill>
                <a:latin typeface="Arial Black"/>
              </a:rPr>
              <a:t>Какими негативными экологическими  последствиями  могут сопровождаться использование нефти и нефтепродуктов?</a:t>
            </a:r>
            <a:endParaRPr b="0" lang="en-US" sz="27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00"/>
                </a:solidFill>
                <a:latin typeface="Arial Black"/>
              </a:rPr>
              <a:t>Причины, по которым необходимо кардинально менять пути использования природных источников углеводородов?</a:t>
            </a:r>
            <a:r>
              <a:rPr b="1" lang="ru-RU" sz="2700" spc="-1" strike="noStrike">
                <a:solidFill>
                  <a:srgbClr val="ea6312"/>
                </a:solidFill>
                <a:latin typeface="Arial Black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95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0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02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7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09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4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16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1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23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8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30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5" dur="10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37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2" dur="10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79280" y="452520"/>
            <a:ext cx="7921800" cy="14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Поделитесь своими впечатлениями. Продолжите предложения: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2421000"/>
            <a:ext cx="8532720" cy="36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Сегодня я узнал…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Я удивился…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Теперь я умею…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Я хотел бы…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46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68360" y="228600"/>
            <a:ext cx="8523360" cy="14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Домашнее задание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 (одно из предложенных)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5" name=""/>
          <p:cNvSpPr/>
          <p:nvPr/>
        </p:nvSpPr>
        <p:spPr>
          <a:xfrm>
            <a:off x="755640" y="1773360"/>
            <a:ext cx="7416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Ежедневная добыча нефти в мире составляет примерно 84 млн.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баррелей в год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.  Около 90% добываемой нефти сжигается в виде топлива. Считая плотность нефти 0, 83 т/ кубометр, а средний состав нефти отразив формулой (СН </a:t>
            </a:r>
            <a:r>
              <a:rPr b="0" lang="ru-RU" sz="1000" spc="-1" strike="noStrike">
                <a:solidFill>
                  <a:srgbClr val="ffffff"/>
                </a:solidFill>
                <a:latin typeface="Arial Black"/>
              </a:rPr>
              <a:t>2 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)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n </a:t>
            </a: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определите 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массу углекислого газа в тоннах, который образуется ежедневно при сжигании нефтепродуктов. 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2.  Используя материал учебника ил Интернет, составьте схему «Изделия, получаемые из нефти»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(в тетради, или на листе А 4, или слайд презентации)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                                                         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53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60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5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dur="indefinite" fill="hold">
                      <p:stCondLst>
                        <p:cond delay="indefinite"/>
                      </p:stCondLst>
                      <p:childTnLst>
                        <p:par>
                          <p:cTn id="4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2" dur="1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7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9" dur="1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24000" y="452520"/>
            <a:ext cx="828036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Arial Black"/>
              </a:rPr>
              <a:t>Предложите варианты обоснованных ответов на вопросы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05000"/>
            <a:ext cx="6712200" cy="40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Отразите формулой состав нефти. Используют ли нефть  в сыром виде? Какие продукты получают при переработке нефти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очему  большая часть стран, добывающих нефть, ее не перерабатывают?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84200" y="452520"/>
            <a:ext cx="7056360" cy="14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6" name=""/>
          <p:cNvSpPr/>
          <p:nvPr/>
        </p:nvSpPr>
        <p:spPr>
          <a:xfrm>
            <a:off x="826920" y="2052720"/>
            <a:ext cx="6712200" cy="41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Интегрированный урок по химии и географии «Мировая  топливная промышленность. Нефть и ее переработка»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905120" y="0"/>
            <a:ext cx="7086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67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00"/>
                </a:solidFill>
                <a:latin typeface="Arial Black"/>
              </a:rPr>
              <a:t>Что называют природными источниками углеводородов? Что собой представляет нефть?</a:t>
            </a:r>
            <a:r>
              <a:rPr b="0" lang="ru-RU" sz="27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700" spc="-1" strike="noStrike">
                <a:solidFill>
                  <a:srgbClr val="ffff00"/>
                </a:solidFill>
                <a:latin typeface="Arial Black"/>
              </a:rPr>
              <a:t>Можно ли состав нефти выразить химической формулой?</a:t>
            </a:r>
            <a:endParaRPr b="0" lang="en-US" sz="27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00"/>
                </a:solidFill>
                <a:latin typeface="Arial Black"/>
              </a:rPr>
              <a:t>Как возникает нефть в недрах Земли? </a:t>
            </a:r>
            <a:endParaRPr b="0" lang="en-US" sz="27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00"/>
                </a:solidFill>
                <a:latin typeface="Arial Black"/>
              </a:rPr>
              <a:t>Основные месторождения нефти?</a:t>
            </a:r>
            <a:endParaRPr b="0" lang="en-US" sz="27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00"/>
                </a:solidFill>
                <a:latin typeface="Arial Black"/>
              </a:rPr>
              <a:t>Как мы используем природные источники углеводородов? </a:t>
            </a:r>
            <a:endParaRPr b="0" lang="en-US" sz="27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00"/>
                </a:solidFill>
                <a:latin typeface="Arial Black"/>
              </a:rPr>
              <a:t>Как из природных ресурсов получить конечный продукт?</a:t>
            </a:r>
            <a:endParaRPr b="0" lang="en-US" sz="27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00"/>
                </a:solidFill>
                <a:latin typeface="Arial Black"/>
              </a:rPr>
              <a:t>Какими негативными экологическими  последствиями  могут сопровождаться использование нефти и нефтепродуктов?</a:t>
            </a:r>
            <a:endParaRPr b="0" lang="en-US" sz="27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00"/>
                </a:solidFill>
                <a:latin typeface="Arial Black"/>
              </a:rPr>
              <a:t>Причины, по которым необходимо кардинально менять пути использования природных источников углеводородов?</a:t>
            </a:r>
            <a:r>
              <a:rPr b="1" lang="ru-RU" sz="2700" spc="-1" strike="noStrike">
                <a:solidFill>
                  <a:srgbClr val="ea6312"/>
                </a:solidFill>
                <a:latin typeface="Arial Black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3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0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7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1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90512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58c1ba"/>
                </a:solidFill>
                <a:latin typeface="Arial Black"/>
              </a:rPr>
              <a:t>  </a:t>
            </a:r>
            <a:r>
              <a:rPr b="1" i="1" lang="ru-RU" sz="3600" spc="-1" strike="noStrike">
                <a:solidFill>
                  <a:srgbClr val="ffffff"/>
                </a:solidFill>
                <a:latin typeface="Arial Black"/>
              </a:rPr>
              <a:t>Источники углеводородов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0" name=""/>
          <p:cNvSpPr/>
          <p:nvPr/>
        </p:nvSpPr>
        <p:spPr>
          <a:xfrm>
            <a:off x="611280" y="2060640"/>
            <a:ext cx="7129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 Black"/>
              </a:rPr>
              <a:t>Природный газ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 Black"/>
              </a:rPr>
              <a:t>Попутный нефтяной газ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 Black"/>
              </a:rPr>
              <a:t>Нефть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 Black"/>
              </a:rPr>
              <a:t>Каменный уголь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dur="indefinite" nodeType="clickEffect" fill="hold">
                      <p:stCondLst>
                        <p:cond delay="0"/>
                      </p:stCondLst>
                      <p:childTnLst>
                        <p:par>
                          <p:cTn id="67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dur="indefinite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dur="indefinite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dur="indefinite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dur="indefinite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84200" y="452520"/>
            <a:ext cx="7056360" cy="14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ebebeb"/>
                </a:solidFill>
                <a:latin typeface="Arial Black"/>
              </a:rPr>
              <a:t>Слово геологам!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2" name=""/>
          <p:cNvSpPr/>
          <p:nvPr/>
        </p:nvSpPr>
        <p:spPr>
          <a:xfrm>
            <a:off x="826920" y="2052720"/>
            <a:ext cx="6712200" cy="41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057400" indent="-22860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marL="2057400" indent="-22860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Black"/>
              </a:rPr>
              <a:t>  </a:t>
            </a:r>
            <a:r>
              <a:rPr b="1" lang="ru-RU" sz="3600" spc="-1" strike="noStrike">
                <a:solidFill>
                  <a:srgbClr val="ffff00"/>
                </a:solidFill>
                <a:latin typeface="Arial Black"/>
              </a:rPr>
              <a:t>Гипотезы происхождения нефти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90512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1T16:11:08Z</dcterms:created>
  <dc:creator>Елена</dc:creator>
  <dc:description/>
  <dc:language>en-US</dc:language>
  <cp:lastModifiedBy>Пользователь Windows</cp:lastModifiedBy>
  <dcterms:modified xsi:type="dcterms:W3CDTF">2022-11-16T17:10:57Z</dcterms:modified>
  <cp:revision>7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