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5B3-2FF4-4365-B881-19324817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545-BA49-43B8-94AF-1FAD23E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ECD-1699-4270-9823-35AB8FED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85E-BDD5-409B-872B-9B242FF9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A73-1A5F-4F5A-8DFD-BA074BA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2CE-D3F5-442D-8FE6-D87C626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E17-8389-44B7-9341-E837A20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347-7DAD-4EE7-B719-9A123121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BD1-4DC7-4868-BF21-B08DE3C2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CB1-E77C-4440-9E63-7F820A3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7F5-FCFB-4C4F-AB7A-41C4307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936-B5D9-4C5D-840A-5630D46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CAD-8C21-4C10-81A4-B6ABAB8BE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43;&#1048;&#1055;&#1045;&#1056;&#1057;&#1057;&#1067;&#1051;&#1050;&#1040;%20&#1087;&#1088;&#1077;&#1079;&#1077;&#1085;&#1090;&#1072;&#1094;&#1080;&#1103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1260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266760"/>
            <a:ext cx="632448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ЕМА: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«Дидактическая игра 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средство формирования элементарных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тематических представлений детей младшего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2514600"/>
            <a:ext cx="5790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Игра – это светлое окно, через которое           в духовный    мир ребёнка вливается живительный поток представлений,       понятий об окружающ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Игра – это искра, зажигающая огонёк пытливости и любознательности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Сухомлинск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sova"/>
          <p:cNvPicPr/>
          <p:nvPr/>
        </p:nvPicPr>
        <p:blipFill>
          <a:blip r:embed="rId2"/>
          <a:stretch/>
        </p:blipFill>
        <p:spPr>
          <a:xfrm>
            <a:off x="7467480" y="54100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1801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здание условий для работы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DSC06478"/>
          <p:cNvPicPr/>
          <p:nvPr/>
        </p:nvPicPr>
        <p:blipFill>
          <a:blip r:embed="rId2"/>
          <a:stretch/>
        </p:blipFill>
        <p:spPr>
          <a:xfrm>
            <a:off x="380880" y="358128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0" name="Picture 10" descr="DSC06921"/>
          <p:cNvPicPr/>
          <p:nvPr/>
        </p:nvPicPr>
        <p:blipFill>
          <a:blip r:embed="rId3"/>
          <a:stretch/>
        </p:blipFill>
        <p:spPr>
          <a:xfrm>
            <a:off x="380880" y="990720"/>
            <a:ext cx="274320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1" name="Rectangle 11"/>
          <p:cNvSpPr/>
          <p:nvPr/>
        </p:nvSpPr>
        <p:spPr>
          <a:xfrm>
            <a:off x="457200" y="32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енсор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J:\DCIM\102NIKON\DSCN2458.JPG"/>
          <p:cNvPicPr/>
          <p:nvPr/>
        </p:nvPicPr>
        <p:blipFill>
          <a:blip r:embed="rId4"/>
          <a:stretch/>
        </p:blipFill>
        <p:spPr>
          <a:xfrm>
            <a:off x="3429000" y="990720"/>
            <a:ext cx="2590920" cy="19825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3" name="Rectangle 14"/>
          <p:cNvSpPr/>
          <p:nvPr/>
        </p:nvSpPr>
        <p:spPr>
          <a:xfrm>
            <a:off x="4267080" y="29718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J:\DCIM\102NIKON\DSCN2433.JPG"/>
          <p:cNvPicPr/>
          <p:nvPr/>
        </p:nvPicPr>
        <p:blipFill>
          <a:blip r:embed="rId5"/>
          <a:stretch/>
        </p:blipFill>
        <p:spPr>
          <a:xfrm>
            <a:off x="3352680" y="3429000"/>
            <a:ext cx="2689200" cy="2060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5" name="Rectangle 16"/>
          <p:cNvSpPr/>
          <p:nvPr/>
        </p:nvSpPr>
        <p:spPr>
          <a:xfrm>
            <a:off x="3649680" y="5470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ртотека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24480" y="2971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 /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2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514600" cy="196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8" name="Rectangle 23"/>
          <p:cNvSpPr/>
          <p:nvPr/>
        </p:nvSpPr>
        <p:spPr>
          <a:xfrm>
            <a:off x="6324480" y="5334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голок по ФЭМП   «Зани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"/>
          <p:cNvPicPr/>
          <p:nvPr/>
        </p:nvPicPr>
        <p:blipFill>
          <a:blip r:embed="rId7"/>
          <a:stretch/>
        </p:blipFill>
        <p:spPr>
          <a:xfrm>
            <a:off x="6248520" y="1066680"/>
            <a:ext cx="243828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и методы работы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Организованная образовательная деятельность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 (игровые ситуации, сюрпризные моменты «В гости к нам пришёл Незнайка»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Проблемные ситуации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енсорные праздники, развлечения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«Путешествие в жёлтую, красную страну»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Театрализация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с математическим содержанием  сказка «Репка», «Три медведя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Обучение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в повседневных бытовых ситуац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Чтени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художественной литературы, Математические сказки – рассказы «Ёжики на полянке», «Чудо дерев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Загадки по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амостоятельная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деятельность в развивающей сре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ловесны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беседа, объяснения, указания, вопросы, напоминания, использование художественного слова - стихов, загадок, считалок, песенок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Наглядны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использование дидактического материала, картин, картинок, игрушек, вещей предметов       с ярко выраженными цветом, формой, величиной, показ образца, показ способа действия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Практически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действия ребенка с предметами, обследование предметов с использованием различных рецепторов, продуктивная деятельность детей…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Метод обследования предмета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 – специально организованное восприятие предмета (объек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равнение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– дидактический метод, компонент осмысленного восприятия предм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здоровье-сберегающие технологии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 (физминутки, пальчиковые гимнастики в соответствии с тематик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80880" y="1066680"/>
            <a:ext cx="4038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648320" y="1066680"/>
            <a:ext cx="40384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етод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1">
            <a:hlinkClick r:id="rId2"/>
          </p:cNvPr>
          <p:cNvSpPr/>
          <p:nvPr/>
        </p:nvSpPr>
        <p:spPr>
          <a:xfrm>
            <a:off x="1219320" y="380880"/>
            <a:ext cx="609480" cy="533520"/>
          </a:xfrm>
          <a:custGeom>
            <a:avLst/>
            <a:gdLst>
              <a:gd name="textAreaLeft" fmla="*/ 250920 w 609480"/>
              <a:gd name="textAreaRight" fmla="*/ 358560 w 6094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438280" y="380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47920" y="990720"/>
            <a:ext cx="678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Консультация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«Дидактическая игра в жизни ребёнка», «Развитие сенсорных способностей детей младшего дошкольного возраст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Памятка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Как играть в дидактические игры                                с ребёнком дома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Буклет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Игры на развитие ФЭМП с детьми                    младшего возраст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Выставки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Талантливые ладошки»;                        «Новогодние фантаз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Переписка по электронной почте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                                                   «Вопрос – ответ(фото-информация)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Оформление фотоальбома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                                     «Интересные постройк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1"/>
          <p:cNvPicPr/>
          <p:nvPr/>
        </p:nvPicPr>
        <p:blipFill>
          <a:blip r:embed="rId2"/>
          <a:stretch/>
        </p:blipFill>
        <p:spPr>
          <a:xfrm>
            <a:off x="6400800" y="5029200"/>
            <a:ext cx="16002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4479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2819520"/>
            <a:ext cx="579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одительские собрания в нетрадиционной форме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       с использованием И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2438280" cy="1544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6" name="Rectangle 9"/>
          <p:cNvSpPr/>
          <p:nvPr/>
        </p:nvSpPr>
        <p:spPr>
          <a:xfrm>
            <a:off x="6324480" y="243828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Анкетирование                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«В какие игры любят играть ваши дети?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8" name="Rectangle 11"/>
          <p:cNvSpPr/>
          <p:nvPr/>
        </p:nvSpPr>
        <p:spPr>
          <a:xfrm>
            <a:off x="457200" y="56386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Практикум 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«Дидактические игры своими рукам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2667240" cy="200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0" name="Rectangle 13"/>
          <p:cNvSpPr/>
          <p:nvPr/>
        </p:nvSpPr>
        <p:spPr>
          <a:xfrm>
            <a:off x="3733920" y="56386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убрика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«Делаем вмест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E:\Фото\Магазин игрушек\SDC10581.JPG"/>
          <p:cNvPicPr/>
          <p:nvPr/>
        </p:nvPicPr>
        <p:blipFill>
          <a:blip r:embed="rId6"/>
          <a:stretch/>
        </p:blipFill>
        <p:spPr>
          <a:xfrm>
            <a:off x="6172200" y="3505320"/>
            <a:ext cx="2666880" cy="2028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Rectangle 15"/>
          <p:cNvSpPr/>
          <p:nvPr/>
        </p:nvSpPr>
        <p:spPr>
          <a:xfrm>
            <a:off x="6095880" y="56386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азвлечение для детей и родителей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      «Магазин игруш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7"/>
          <a:stretch/>
        </p:blipFill>
        <p:spPr>
          <a:xfrm>
            <a:off x="457200" y="7621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219320" y="152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 конечном этапе работ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5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4343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7" name="Picture 7" descr="sova"/>
          <p:cNvPicPr/>
          <p:nvPr/>
        </p:nvPicPr>
        <p:blipFill>
          <a:blip r:embed="rId3"/>
          <a:stretch/>
        </p:blipFill>
        <p:spPr>
          <a:xfrm>
            <a:off x="7772400" y="5638680"/>
            <a:ext cx="10666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27468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295280"/>
            <a:ext cx="7620120" cy="45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ети чаще стали проявлять творческую активность в игр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личную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ти научились  договариваться, помогать, уступать друг дру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Научились  определять и сравнивать количество предметов,  выражать результаты в речи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ети свободно могут выделять цвет, форму, величину,                 как особые свойств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У детей стало более развито мышление, они научились ориентироваться  в пространстве и врем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высилась компетентность родителей по формированию элементарных математических представлений на основе использования дидактических иг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sova"/>
          <p:cNvPicPr/>
          <p:nvPr/>
        </p:nvPicPr>
        <p:blipFill>
          <a:blip r:embed="rId2"/>
          <a:stretch/>
        </p:blipFill>
        <p:spPr>
          <a:xfrm>
            <a:off x="7543800" y="5562720"/>
            <a:ext cx="106668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спективы работы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бобщить опыт работы через выступления на муниципальных педчтениях в  2016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публиковать статью по обобщению опыта по теме в электронной версии журнала «Обру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вести семинар – практикум  для педагогов по проведению дидактических игр с детьми младшего дошкольного возраста «Учимся, иг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должать  активное сотрудничество  с родителями  по формированию элементарных математических представлений у детей  через использование нетрадиционных форм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sova"/>
          <p:cNvPicPr/>
          <p:nvPr/>
        </p:nvPicPr>
        <p:blipFill>
          <a:blip r:embed="rId2"/>
          <a:stretch/>
        </p:blipFill>
        <p:spPr>
          <a:xfrm>
            <a:off x="7696080" y="548640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Афанасьева И.П. «Маленькими шагами в большой мир зна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енгер Л.А. Дидактические игры и упражнения по сенсорному     воспитанию дошкольников. – М.: Просвещение, 1988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Гербова В.В., Иванкова Р.А., Казакова Р.Г. Воспитание детей                 во второй младшей группе детского сада - М.:  Просвещение, 1981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Галанова Т.В. «Развивающие игры с малышами до 3 лет»           (пособие для педагогов и родителей) М. 1996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Громова О.Е.«Формирование математических представл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оронова Т.Н., Доронов С.Г. «Ранний возраст: планирование работы      с детьми» – М.: Издательский дом «Воспитание дошкольников» 2007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Лыкова И.А. «Дидактические игры и занятия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Метлина Л.С. – «Математика в детском саду» - М., 1984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Новикова В.П.«Математика  в детском саду».- М.: Мозаика-Синтез,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2009г</a:t>
            </a:r>
            <a:r>
              <a:rPr b="0" lang="ru-RU" sz="1400" spc="-1" strike="noStrike">
                <a:solidFill>
                  <a:srgbClr val="140e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От рождения до школы»  основная общеобразовательная программа дошкольного образования.  Под ред. Н.Е.Вераксы, Т.С.Комаровой, М.А.Васильевой – М.,2011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Пономарева И.А., Позина В.А. «Занятия по формированию элементарных математических представлений во второй  младшей группе детского сада» М.: Мозаика - Синтез,2009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sova"/>
          <p:cNvPicPr/>
          <p:nvPr/>
        </p:nvPicPr>
        <p:blipFill>
          <a:blip r:embed="rId2"/>
          <a:stretch/>
        </p:blipFill>
        <p:spPr>
          <a:xfrm>
            <a:off x="7772400" y="571500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словия формирования опыт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Научно-исследовательски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Изучение методической литературы нормативных документов, поиск материалов Интерне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Анализ программ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Метод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Участие в работе муниципальных методических объединений для педагогов младш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Участие в семинарах, практикумах, педсо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рганизация саморазвития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Курсы повышения квалиф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Организацион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Знакомство с опытом работы педагогов других детских са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личный опыт, опы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уководитель кружка «Разноцветная стр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ova"/>
          <p:cNvPicPr/>
          <p:nvPr/>
        </p:nvPicPr>
        <p:blipFill>
          <a:blip r:embed="rId2"/>
          <a:stretch/>
        </p:blipFill>
        <p:spPr>
          <a:xfrm>
            <a:off x="7162920" y="541008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ктуальность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32004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Требования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е развитие предполагает развитие интересов детей, любознательности, познавательной мотивации; формирование познавательных действий; формирование   представлений  о свойствах и отношениях объектов окружающего мира (форме, цвете, размере, материале, количестве, числе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32004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Целевые ориентиры по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ебёнок проявляет инициати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амостоятельность в разных ви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еятельности – игре, общ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-исследователь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еятельности; ребёнок влад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ными формами и видами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бладает элементар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редставлениями в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80880" y="5334120"/>
            <a:ext cx="845820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тсутствие системы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недостаточный уровень самостоятельности детей в иг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войная стрелка вверх/вниз 15"/>
          <p:cNvSpPr/>
          <p:nvPr/>
        </p:nvSpPr>
        <p:spPr>
          <a:xfrm>
            <a:off x="4419720" y="4695840"/>
            <a:ext cx="484200" cy="723960"/>
          </a:xfrm>
          <a:prstGeom prst="upDownArrow">
            <a:avLst>
              <a:gd name="adj1" fmla="val 50000"/>
              <a:gd name="adj2" fmla="val 63392"/>
            </a:avLst>
          </a:prstGeom>
          <a:solidFill>
            <a:srgbClr val="ccecff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666880" y="1143000"/>
            <a:ext cx="41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иворечия в основ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Black"/>
              </a:rPr>
              <a:t>Теоретическое обоснование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Запорожец А.В.</a:t>
            </a: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Нам необходимо добиться того, чтобы дидактическая игра была не только формой усвоения отдельных знаний и умений, но и способствовала бы общему развитию ребен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9051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Выготский Л.С.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Обучение должно вести за собой развитие. Дети дошкольного возраста познают окружающий мир в игре, в труде, на прогулке, занятиях, в общении со взрослыми и сверстни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981080" y="2666880"/>
            <a:ext cx="647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Эльконин Д.Б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f0a4a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Личностные качества ребенка, в том числе и самоконтроль, формируются в активной деятельности, и прежде всего в той, которая на каждом возрастном этапе является ведущей, определяет его интересы, отношение к действительности, особенности взаимоотношений с окружающими людьми. В дошкольном возрасте такой ведущей деятельностью является игра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ova"/>
          <p:cNvPicPr/>
          <p:nvPr/>
        </p:nvPicPr>
        <p:blipFill>
          <a:blip r:embed="rId2"/>
          <a:stretch/>
        </p:blipFill>
        <p:spPr>
          <a:xfrm>
            <a:off x="7543800" y="541008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Александр Запорожец / Aleksandr  Zaporojets"/>
          <p:cNvPicPr/>
          <p:nvPr/>
        </p:nvPicPr>
        <p:blipFill>
          <a:blip r:embed="rId3"/>
          <a:stretch/>
        </p:blipFill>
        <p:spPr>
          <a:xfrm>
            <a:off x="762120" y="1371600"/>
            <a:ext cx="1054080" cy="1371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4" name="Picture 17" descr="Авторы системы"/>
          <p:cNvPicPr/>
          <p:nvPr/>
        </p:nvPicPr>
        <p:blipFill>
          <a:blip r:embed="rId4"/>
          <a:stretch/>
        </p:blipFill>
        <p:spPr>
          <a:xfrm>
            <a:off x="762120" y="2971800"/>
            <a:ext cx="1060200" cy="1371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5" name="Picture 6" descr="http://im0-tub-ru.yandex.net/i?id=e2985c9225a45a955e8e534599f6ba1e-101-144&amp;n=21"/>
          <p:cNvPicPr/>
          <p:nvPr/>
        </p:nvPicPr>
        <p:blipFill>
          <a:blip r:embed="rId5"/>
          <a:stretch/>
        </p:blipFill>
        <p:spPr>
          <a:xfrm>
            <a:off x="762120" y="4648320"/>
            <a:ext cx="1133280" cy="14475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дущая педагогическ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382240" cy="5791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Интеграция</a:t>
            </a: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идактических игр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иды  детской деятельности усил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вивающий эффект.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Система непрерывных игр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пособствовать формированию элемента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математических представлений, интер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й активности детей,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наблюдательности, памяти, реч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творческого воображен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Привлечение родителей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к организации и проведению дидактических иг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будет способствовать вовлечению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 образовательный процесс, сближ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 ребенком, организации культурного досуг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1358943013_dscf8251"/>
          <p:cNvPicPr/>
          <p:nvPr/>
        </p:nvPicPr>
        <p:blipFill>
          <a:blip r:embed="rId2"/>
          <a:stretch/>
        </p:blipFill>
        <p:spPr>
          <a:xfrm>
            <a:off x="6324480" y="2590920"/>
            <a:ext cx="2133720" cy="177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0" name="Picture 17" descr="image (13)"/>
          <p:cNvPicPr/>
          <p:nvPr/>
        </p:nvPicPr>
        <p:blipFill>
          <a:blip r:embed="rId3"/>
          <a:stretch/>
        </p:blipFill>
        <p:spPr>
          <a:xfrm>
            <a:off x="6324480" y="838080"/>
            <a:ext cx="2132280" cy="163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1" name="Picture 18" descr="DSC07404"/>
          <p:cNvPicPr/>
          <p:nvPr/>
        </p:nvPicPr>
        <p:blipFill>
          <a:blip r:embed="rId4"/>
          <a:stretch/>
        </p:blipFill>
        <p:spPr>
          <a:xfrm>
            <a:off x="6324480" y="4572000"/>
            <a:ext cx="2170080" cy="1770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ирование элементарных математических представлений посредством дидактиче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001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оспитывать творческую активность в играх; чувство товари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формировать умение определять и сравнивать количество предметов, выражать результаты определения в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вивать сенсорные способности  детей через  умение выделять цвет, форму, величину как особые свойства предметов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вивать ориентировку в пространстве и времени,  мышление, зрительно – двигательную координ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буждать детей к проявлению самостоятельности                              и инициативности в иг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f0a4a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ova"/>
          <p:cNvPicPr/>
          <p:nvPr/>
        </p:nvPicPr>
        <p:blipFill>
          <a:blip r:embed="rId2"/>
          <a:stretch/>
        </p:blipFill>
        <p:spPr>
          <a:xfrm>
            <a:off x="7238880" y="533412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еятельностный аспект личного вклада    педагога 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990720"/>
          <a:ext cx="8381880" cy="5761080"/>
        </p:xfrm>
        <a:graphic>
          <a:graphicData uri="http://schemas.openxmlformats.org/drawingml/2006/table">
            <a:tbl>
              <a:tblPr/>
              <a:tblGrid>
                <a:gridCol w="2735280"/>
                <a:gridCol w="5646600"/>
              </a:tblGrid>
              <a:tr h="365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Организационно - информ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добрать и изучить научную и методическую литературу по тем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ыявить актуальный уровень развития воспитанников на начальном этапе работ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полнить развивающую предметно – пространственную среду группы;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ыработать систему работы по дидактическим играм, позволяющую эффективно развивать у воспитанников элементарные математические способности 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овлечь родителей в работу по формированию элементарных математических представлений у детей на основе использования дидактических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Реализация поставленных задач и достижение промежуточных результатов на каждом этап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- Формы и методы работы с деть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- Формы работы с родителями, взаимодействие с педагог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 </a:t>
                      </a: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Заключи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дведение итогов и определение перспектив дальнейшей работы по 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371600" y="304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ровень знаний детей по ФЭМ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начальном эта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Диаграмма 5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114800" cy="27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2" name="Picture 7" descr="sova"/>
          <p:cNvPicPr/>
          <p:nvPr/>
        </p:nvPicPr>
        <p:blipFill>
          <a:blip r:embed="rId3"/>
          <a:stretch/>
        </p:blipFill>
        <p:spPr>
          <a:xfrm>
            <a:off x="7772400" y="5638680"/>
            <a:ext cx="990720" cy="897120"/>
          </a:xfrm>
          <a:prstGeom prst="rect">
            <a:avLst/>
          </a:prstGeom>
          <a:ln w="0">
            <a:noFill/>
          </a:ln>
        </p:spPr>
      </p:pic>
      <p:pic>
        <p:nvPicPr>
          <p:cNvPr id="83" name="Диаграмма 5" descr=""/>
          <p:cNvPicPr/>
          <p:nvPr/>
        </p:nvPicPr>
        <p:blipFill>
          <a:blip r:embed="rId4"/>
          <a:stretch/>
        </p:blipFill>
        <p:spPr>
          <a:xfrm>
            <a:off x="2666880" y="4114800"/>
            <a:ext cx="3727440" cy="2359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стема д/игр по ФЭ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457200"/>
          <a:ext cx="883944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1828800"/>
                <a:gridCol w="1752840"/>
                <a:gridCol w="1828800"/>
                <a:gridCol w="205740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На что похожа фигура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находить фигуры треугольной, квадратной, круглой формы в рисунка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Помоги рыбкам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находить определённый ц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амый большой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азличать самый большой и маленький куб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де что стоит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ориентироваться         в пространств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прятались от дождика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различать геометрические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Принеси куби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ц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рибочки в лесу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различать геометрические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де находится зайчонок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ориентироваться в пространстве  (на, под, над, впереди, сзади, около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0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Разложи фигуры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раскладывать одинаковые фигуры в ряд с похожими фигура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обери капельки в стакан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находить нужный цвет и раскладывать в стаканчи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емья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величину предм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Достань шарики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находить мелкое и глубокое вед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Обведи фигуру карандашом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геометрические фигуры и тек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обери бусы для мамы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цвета и учить составлять гамм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Что находится вверху, а что внизу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ориентироваться в пространств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естрички -матрёшки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меть находить самую большую и самую маленьку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Посади на свою скамеечку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ять геометрические фигуры (треугольник, квадрат, круг, овал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Какого цвета предмет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находить в картинках нужный ц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0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Найди своё место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ть умение раскладывать фигуры , похожие по форме по форме под рисунк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обери лепесточки»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реплять цвета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Что изменилось»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меть видеть изменение в росте матрёш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Вложи шарики в свои ямки»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вивать глазоме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Магазин без продавца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находить предметы соответствующей форм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обери цветик – семицветик»      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основные цвета и оттен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сставь игрушки по величине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расставлять по порядку , по рост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Какие шарики улетели?»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подбирать похожие по цвету шарик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делай поровн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ложи радуг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Построй башенк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зноцветные круги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зложи фигуры в ряд»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различать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Зажги огоньки на ёлочке»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ц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ложи пирамидк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Найди листик, птичку, звёздочки, цветочки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величину предм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7:51:21Z</dcterms:created>
  <dc:creator>1</dc:creator>
  <dc:description/>
  <dc:language>en-US</dc:language>
  <cp:lastModifiedBy>RePack by Diakov</cp:lastModifiedBy>
  <dcterms:modified xsi:type="dcterms:W3CDTF">2023-02-19T13:03:22Z</dcterms:modified>
  <cp:revision>1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