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5DC-B902-479A-89CE-89349B58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922-2C55-4524-9011-A2657B3F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510-4E22-49AB-B940-AC538D49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934-6780-4650-B90B-944C1A69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7A4-95CA-46D0-99AE-32CA7DCB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AD2-D9F5-43D7-BD62-2C04BDF4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5A0-58AC-400C-ADDC-7F082C7C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C31-CCFF-46BD-BA5C-A29C9A3C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2BA-2B53-4CC4-B313-6F9BC5D3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972-6EA4-4758-A510-AC60D674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43C-F48F-4C07-8845-4860A20E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8ED-7C39-4467-928E-B283A24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84E4-0BA5-45FC-A4CD-CF2438BA0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43;&#1048;&#1055;&#1045;&#1056;&#1057;&#1057;&#1067;&#1051;&#1050;&#1040;%20&#1087;&#1088;&#1077;&#1079;&#1077;&#1085;&#1090;&#1072;&#1094;&#1080;&#1103;.ppt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"/>
          <p:cNvPicPr/>
          <p:nvPr/>
        </p:nvPicPr>
        <p:blipFill>
          <a:blip r:embed="rId1"/>
          <a:stretch/>
        </p:blipFill>
        <p:spPr>
          <a:xfrm>
            <a:off x="1260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0920" y="266760"/>
            <a:ext cx="632448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ТЕМА: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«Дидактическая игра 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средство формирования элементарных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атематических представлений детей младшего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школьного возра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62320" y="2514600"/>
            <a:ext cx="5790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Игра – это светлое окно, через которое           в духовный    мир ребёнка вливается живительный поток представлений,       понятий об окружающ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Игра – это искра, зажигающая огонёк пытливости и любознательности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Сухомлинский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sova"/>
          <p:cNvPicPr/>
          <p:nvPr/>
        </p:nvPicPr>
        <p:blipFill>
          <a:blip r:embed="rId2"/>
          <a:stretch/>
        </p:blipFill>
        <p:spPr>
          <a:xfrm>
            <a:off x="7467480" y="54100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1801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оздание условий для работы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DSC06478"/>
          <p:cNvPicPr/>
          <p:nvPr/>
        </p:nvPicPr>
        <p:blipFill>
          <a:blip r:embed="rId2"/>
          <a:stretch/>
        </p:blipFill>
        <p:spPr>
          <a:xfrm>
            <a:off x="380880" y="3581280"/>
            <a:ext cx="274320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90" name="Picture 10" descr="DSC06921"/>
          <p:cNvPicPr/>
          <p:nvPr/>
        </p:nvPicPr>
        <p:blipFill>
          <a:blip r:embed="rId3"/>
          <a:stretch/>
        </p:blipFill>
        <p:spPr>
          <a:xfrm>
            <a:off x="380880" y="990720"/>
            <a:ext cx="2743200" cy="2124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1" name="Rectangle 11"/>
          <p:cNvSpPr/>
          <p:nvPr/>
        </p:nvSpPr>
        <p:spPr>
          <a:xfrm>
            <a:off x="457200" y="32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енсорный уг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J:\DCIM\102NIKON\DSCN2458.JPG"/>
          <p:cNvPicPr/>
          <p:nvPr/>
        </p:nvPicPr>
        <p:blipFill>
          <a:blip r:embed="rId4"/>
          <a:stretch/>
        </p:blipFill>
        <p:spPr>
          <a:xfrm>
            <a:off x="3429000" y="990720"/>
            <a:ext cx="2590920" cy="198252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93" name="Rectangle 14"/>
          <p:cNvSpPr/>
          <p:nvPr/>
        </p:nvSpPr>
        <p:spPr>
          <a:xfrm>
            <a:off x="4267080" y="29718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J:\DCIM\102NIKON\DSCN2433.JPG"/>
          <p:cNvPicPr/>
          <p:nvPr/>
        </p:nvPicPr>
        <p:blipFill>
          <a:blip r:embed="rId5"/>
          <a:stretch/>
        </p:blipFill>
        <p:spPr>
          <a:xfrm>
            <a:off x="3352680" y="3429000"/>
            <a:ext cx="2689200" cy="2060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5" name="Rectangle 16"/>
          <p:cNvSpPr/>
          <p:nvPr/>
        </p:nvSpPr>
        <p:spPr>
          <a:xfrm>
            <a:off x="3649680" y="5470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ртотека иг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324480" y="2971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 /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2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514600" cy="1965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8" name="Rectangle 23"/>
          <p:cNvSpPr/>
          <p:nvPr/>
        </p:nvSpPr>
        <p:spPr>
          <a:xfrm>
            <a:off x="6324480" y="5334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голок по ФЭМП   «Занима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"/>
          <p:cNvPicPr/>
          <p:nvPr/>
        </p:nvPicPr>
        <p:blipFill>
          <a:blip r:embed="rId7"/>
          <a:stretch/>
        </p:blipFill>
        <p:spPr>
          <a:xfrm>
            <a:off x="6248520" y="1066680"/>
            <a:ext cx="2438280" cy="1828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и методы работы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800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Организованная образовательная деятельность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 (игровые ситуации, сюрпризные моменты «В гости к нам пришёл Незнайка»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Проблемные ситуации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Сенсорные праздники, развлечения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«Путешествие в жёлтую, красную страну»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Театрализация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с математическим содержанием  сказка «Репка», «Три медведя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Обучение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в повседневных бытовых ситуац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Чтение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художественной литературы, Математические сказки – рассказы «Ёжики на полянке», «Чудо дерево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Загадки по т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Самостоятельная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деятельность в развивающей сре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800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Словесные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(беседа, объяснения, указания, вопросы, напоминания, использование художественного слова - стихов, загадок, считалок, песенок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Наглядные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(использование дидактического материала, картин, картинок, игрушек, вещей предметов       с ярко выраженными цветом, формой, величиной, показ образца, показ способа действия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Практические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(действия ребенка с предметами, обследование предметов с использованием различных рецепторов, продуктивная деятельность детей…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Метод обследования предмета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 – специально организованное восприятие предмета (объек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Сравнение</a:t>
            </a:r>
            <a:r>
              <a:rPr b="0" i="1" lang="ru-RU" sz="14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– дидактический метод, компонент осмысленного восприятия предм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f0a4a"/>
                </a:solidFill>
                <a:uFillTx/>
                <a:latin typeface="Arial"/>
              </a:rPr>
              <a:t>здоровье-сберегающие технологии</a:t>
            </a:r>
            <a:r>
              <a:rPr b="0" lang="ru-RU" sz="1400" spc="-1" strike="noStrike">
                <a:solidFill>
                  <a:srgbClr val="0f0a4a"/>
                </a:solidFill>
                <a:latin typeface="Arial"/>
              </a:rPr>
              <a:t> (физминутки, пальчиковые гимнастики в соответствии с тематик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80880" y="1066680"/>
            <a:ext cx="40388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648320" y="1066680"/>
            <a:ext cx="40384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етод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1">
            <a:hlinkClick r:id="rId2"/>
          </p:cNvPr>
          <p:cNvSpPr/>
          <p:nvPr/>
        </p:nvSpPr>
        <p:spPr>
          <a:xfrm>
            <a:off x="1219320" y="380880"/>
            <a:ext cx="609480" cy="533520"/>
          </a:xfrm>
          <a:custGeom>
            <a:avLst/>
            <a:gdLst>
              <a:gd name="textAreaLeft" fmla="*/ 250920 w 609480"/>
              <a:gd name="textAreaRight" fmla="*/ 358560 w 60948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438280" y="380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47920" y="990720"/>
            <a:ext cx="678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Консультация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«Дидактическая игра в жизни ребёнка», «Развитие сенсорных способностей детей младшего дошкольного возраст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Памятка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«Как играть в дидактические игры                                с ребёнком дома?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Буклет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«Игры на развитие ФЭМП с детьми                    младшего возраст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Выставки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«Талантливые ладошки»;                        «Новогодние фантаз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Переписка по электронной почте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                                                   «Вопрос – ответ(фото-информация)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Оформление фотоальбома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                                     «Интересные постройки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1"/>
          <p:cNvPicPr/>
          <p:nvPr/>
        </p:nvPicPr>
        <p:blipFill>
          <a:blip r:embed="rId2"/>
          <a:stretch/>
        </p:blipFill>
        <p:spPr>
          <a:xfrm>
            <a:off x="6400800" y="5029200"/>
            <a:ext cx="16002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144792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57200" y="2819520"/>
            <a:ext cx="579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 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Родительские собрания в нетрадиционной форме 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                  с использованием И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274320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6477120" y="762120"/>
            <a:ext cx="2438280" cy="1544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6" name="Rectangle 9"/>
          <p:cNvSpPr/>
          <p:nvPr/>
        </p:nvSpPr>
        <p:spPr>
          <a:xfrm>
            <a:off x="6324480" y="243828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Анкетирование                 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«В какие игры любят играть ваши дети?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4"/>
          <a:stretch/>
        </p:blipFill>
        <p:spPr>
          <a:xfrm>
            <a:off x="457200" y="3505320"/>
            <a:ext cx="274320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8" name="Rectangle 11"/>
          <p:cNvSpPr/>
          <p:nvPr/>
        </p:nvSpPr>
        <p:spPr>
          <a:xfrm>
            <a:off x="457200" y="563868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Практикум  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«Дидактические игры своими рукам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2667240" cy="2000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0" name="Rectangle 13"/>
          <p:cNvSpPr/>
          <p:nvPr/>
        </p:nvSpPr>
        <p:spPr>
          <a:xfrm>
            <a:off x="3733920" y="563868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Рубрика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           «Делаем вмест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E:\Фото\Магазин игрушек\SDC10581.JPG"/>
          <p:cNvPicPr/>
          <p:nvPr/>
        </p:nvPicPr>
        <p:blipFill>
          <a:blip r:embed="rId6"/>
          <a:stretch/>
        </p:blipFill>
        <p:spPr>
          <a:xfrm>
            <a:off x="6172200" y="3505320"/>
            <a:ext cx="2666880" cy="2028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2" name="Rectangle 15"/>
          <p:cNvSpPr/>
          <p:nvPr/>
        </p:nvSpPr>
        <p:spPr>
          <a:xfrm>
            <a:off x="6095880" y="563868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140e66"/>
                </a:solidFill>
                <a:uFillTx/>
                <a:latin typeface="Arial"/>
              </a:rPr>
              <a:t>Развлечение для детей и родителей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                  «Магазин игруш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7"/>
          <a:stretch/>
        </p:blipFill>
        <p:spPr>
          <a:xfrm>
            <a:off x="457200" y="762120"/>
            <a:ext cx="274320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219320" y="152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зульт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  конечном этапе работы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Диаграмма 5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4343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7" name="Picture 7" descr="sova"/>
          <p:cNvPicPr/>
          <p:nvPr/>
        </p:nvPicPr>
        <p:blipFill>
          <a:blip r:embed="rId3"/>
          <a:stretch/>
        </p:blipFill>
        <p:spPr>
          <a:xfrm>
            <a:off x="7772400" y="5638680"/>
            <a:ext cx="10666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2320" y="27468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295280"/>
            <a:ext cx="7620120" cy="457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Дети чаще стали проявлять творческую активность в игр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личную инициативу, самосто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ети научились  договариваться, помогать, уступать друг друг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Научились  определять и сравнивать количество предметов,  выражать результаты в речи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Дети свободно могут выделять цвет, форму, величину,                 как особые свойства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У детей стало более развито мышление, они научились ориентироваться  в пространстве и време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высилась компетентность родителей по формированию элементарных математических представлений на основе использования дидактических иг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sova"/>
          <p:cNvPicPr/>
          <p:nvPr/>
        </p:nvPicPr>
        <p:blipFill>
          <a:blip r:embed="rId2"/>
          <a:stretch/>
        </p:blipFill>
        <p:spPr>
          <a:xfrm>
            <a:off x="7543800" y="5562720"/>
            <a:ext cx="1066680" cy="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спективы работы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бобщить опыт работы через выступления на муниципальных педчтениях в  2016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публиковать статью по обобщению опыта по теме в электронной версии журнала «Обру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вести семинар – практикум  для педагогов по проведению дидактических игр с детьми младшего дошкольного возраста «Учимся, игр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должать  активное сотрудничество  с родителями  по формированию элементарных математических представлений у детей  через использование нетрадиционных форм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sova"/>
          <p:cNvPicPr/>
          <p:nvPr/>
        </p:nvPicPr>
        <p:blipFill>
          <a:blip r:embed="rId2"/>
          <a:stretch/>
        </p:blipFill>
        <p:spPr>
          <a:xfrm>
            <a:off x="7696080" y="5486400"/>
            <a:ext cx="9144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Афанасьева И.П. «Маленькими шагами в большой мир знани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Венгер Л.А. Дидактические игры и упражнения по сенсорному     воспитанию дошкольников. – М.: Просвещение, 1988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Гербова В.В., Иванкова Р.А., Казакова Р.Г. Воспитание детей                 во второй младшей группе детского сада - М.:  Просвещение, 1981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Галанова Т.В. «Развивающие игры с малышами до 3 лет»           (пособие для педагогов и родителей) М. 1996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Громова О.Е.«Формирование математических представлени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Доронова Т.Н., Доронов С.Г. «Ранний возраст: планирование работы      с детьми» – М.: Издательский дом «Воспитание дошкольников» 2007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Лыкова И.А. «Дидактические игры и занятия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Метлина Л.С. – «Математика в детском саду» - М., 1984г.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Новикова В.П.«Математика  в детском саду».- М.: Мозаика-Синтез, </a:t>
            </a:r>
            <a:r>
              <a:rPr b="1" lang="ru-RU" sz="1400" spc="-1" strike="noStrike">
                <a:solidFill>
                  <a:srgbClr val="140e66"/>
                </a:solidFill>
                <a:latin typeface="Arial"/>
              </a:rPr>
              <a:t>2009г</a:t>
            </a:r>
            <a:r>
              <a:rPr b="0" lang="ru-RU" sz="1400" spc="-1" strike="noStrike">
                <a:solidFill>
                  <a:srgbClr val="140e66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«От рождения до школы»  основная общеобразовательная программа дошкольного образования.  Под ред. Н.Е.Вераксы, Т.С.Комаровой, М.А.Васильевой – М.,2011г.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Пономарева И.А., Позина В.А. «Занятия по формированию элементарных математических представлений во второй  младшей группе детского сада» М.: Мозаика - Синтез,2009г.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sova"/>
          <p:cNvPicPr/>
          <p:nvPr/>
        </p:nvPicPr>
        <p:blipFill>
          <a:blip r:embed="rId2"/>
          <a:stretch/>
        </p:blipFill>
        <p:spPr>
          <a:xfrm>
            <a:off x="7772400" y="5715000"/>
            <a:ext cx="9144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словия формирования опыт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Научно-исследовательски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Изучение методической литературы нормативных документов, поиск материалов Интерне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Анализ программ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Методические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Участие в работе муниципальных методических объединений для педагогов младшего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Участие в семинарах, практикумах, педсов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Организация саморазвития по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Курсы повышения квалифик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Организационно-педаг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Знакомство с опытом работы педагогов других детских са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личный опыт, опыт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уководитель кружка «Разноцветная стра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ova"/>
          <p:cNvPicPr/>
          <p:nvPr/>
        </p:nvPicPr>
        <p:blipFill>
          <a:blip r:embed="rId2"/>
          <a:stretch/>
        </p:blipFill>
        <p:spPr>
          <a:xfrm>
            <a:off x="7162920" y="5410080"/>
            <a:ext cx="1143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ктуальность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3200400"/>
          </a:xfrm>
          <a:prstGeom prst="rect">
            <a:avLst/>
          </a:prstGeom>
          <a:solidFill>
            <a:srgbClr val="ccecff"/>
          </a:solidFill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Требования ФГОС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ознавательное развитие предполагает развитие интересов детей, любознательности, познавательной мотивации; формирование познавательных действий; формирование   представлений  о свойствах и отношениях объектов окружающего мира (форме, цвете, размере, материале, количестве, числе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3200400"/>
          </a:xfrm>
          <a:prstGeom prst="rect">
            <a:avLst/>
          </a:prstGeom>
          <a:solidFill>
            <a:srgbClr val="ccecff"/>
          </a:solidFill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Целевые ориентиры по ФГОС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ебёнок проявляет инициатив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самостоятельность в разных ви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деятельности – игре, общ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ознавательно-исследователь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деятельности; ребёнок влад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азными формами и видами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обладает элементар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редставлениями в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мате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80880" y="5334120"/>
            <a:ext cx="845820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отсутствие системы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недостаточный уровень самостоятельности детей в иг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Двойная стрелка вверх/вниз 15"/>
          <p:cNvSpPr/>
          <p:nvPr/>
        </p:nvSpPr>
        <p:spPr>
          <a:xfrm>
            <a:off x="4419720" y="4695840"/>
            <a:ext cx="484200" cy="723960"/>
          </a:xfrm>
          <a:prstGeom prst="upDownArrow">
            <a:avLst>
              <a:gd name="adj1" fmla="val 50000"/>
              <a:gd name="adj2" fmla="val 63392"/>
            </a:avLst>
          </a:prstGeom>
          <a:solidFill>
            <a:srgbClr val="ccecff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666880" y="1143000"/>
            <a:ext cx="41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тиворечия в основ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Black"/>
              </a:rPr>
              <a:t>Теоретическое обоснование личного вклада педагога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Запорожец А.В.</a:t>
            </a:r>
            <a:r>
              <a:rPr b="1" i="1" lang="ru-RU" sz="18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«Нам необходимо добиться того, чтобы дидактическая игра была не только формой усвоения отдельных знаний и умений, но и способствовала бы общему развитию ребен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905120" y="4800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Выготский Л.С.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«Обучение должно вести за собой развитие. Дети дошкольного возраста познают окружающий мир в игре, в труде, на прогулке, занятиях, в общении со взрослыми и сверстни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981080" y="2666880"/>
            <a:ext cx="647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Эльконин Д.Б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f0a4a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Личностные качества ребенка, в том числе и самоконтроль, формируются в активной деятельности, и прежде всего в той, которая на каждом возрастном этапе является ведущей, определяет его интересы, отношение к действительности, особенности взаимоотношений с окружающими людьми. В дошкольном возрасте такой ведущей деятельностью является игра 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ova"/>
          <p:cNvPicPr/>
          <p:nvPr/>
        </p:nvPicPr>
        <p:blipFill>
          <a:blip r:embed="rId2"/>
          <a:stretch/>
        </p:blipFill>
        <p:spPr>
          <a:xfrm>
            <a:off x="7543800" y="5410080"/>
            <a:ext cx="1219320" cy="110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Александр Запорожец / Aleksandr  Zaporojets"/>
          <p:cNvPicPr/>
          <p:nvPr/>
        </p:nvPicPr>
        <p:blipFill>
          <a:blip r:embed="rId3"/>
          <a:stretch/>
        </p:blipFill>
        <p:spPr>
          <a:xfrm>
            <a:off x="762120" y="1371600"/>
            <a:ext cx="1054080" cy="13716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64" name="Picture 17" descr="Авторы системы"/>
          <p:cNvPicPr/>
          <p:nvPr/>
        </p:nvPicPr>
        <p:blipFill>
          <a:blip r:embed="rId4"/>
          <a:stretch/>
        </p:blipFill>
        <p:spPr>
          <a:xfrm>
            <a:off x="762120" y="2971800"/>
            <a:ext cx="1060200" cy="13716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65" name="Picture 6" descr="http://im0-tub-ru.yandex.net/i?id=e2985c9225a45a955e8e534599f6ba1e-101-144&amp;n=21"/>
          <p:cNvPicPr/>
          <p:nvPr/>
        </p:nvPicPr>
        <p:blipFill>
          <a:blip r:embed="rId5"/>
          <a:stretch/>
        </p:blipFill>
        <p:spPr>
          <a:xfrm>
            <a:off x="762120" y="4648320"/>
            <a:ext cx="1133280" cy="14475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едущая педагогическая 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8382240" cy="5791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40e66"/>
                </a:solidFill>
                <a:uFillTx/>
                <a:latin typeface="Arial"/>
              </a:rPr>
              <a:t>Интеграция</a:t>
            </a:r>
            <a:r>
              <a:rPr b="1" i="1" lang="ru-RU" sz="1800" spc="-1" strike="noStrike">
                <a:solidFill>
                  <a:srgbClr val="140e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40e66"/>
                </a:solidFill>
                <a:latin typeface="Arial"/>
              </a:rPr>
              <a:t>дидактических игр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иды  детской деятельности усил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звивающий эффект.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Система непрерывных игр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способствовать формированию элемента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математических представлений, интере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ознавательной активности детей, 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наблюдательности, памяти, реч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творческого воображения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a4a"/>
                </a:solidFill>
                <a:uFillTx/>
                <a:latin typeface="Arial"/>
              </a:rPr>
              <a:t>Привлечение родителей</a:t>
            </a:r>
            <a:r>
              <a:rPr b="1" i="1" lang="ru-RU" sz="1800" spc="-1" strike="noStrike">
                <a:solidFill>
                  <a:srgbClr val="0f0a4a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к организации и проведению дидактических иг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будет способствовать вовлечению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в образовательный процесс, сближ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с ребенком, организации культурного досуга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1358943013_dscf8251"/>
          <p:cNvPicPr/>
          <p:nvPr/>
        </p:nvPicPr>
        <p:blipFill>
          <a:blip r:embed="rId2"/>
          <a:stretch/>
        </p:blipFill>
        <p:spPr>
          <a:xfrm>
            <a:off x="6324480" y="2590920"/>
            <a:ext cx="2133720" cy="1773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0" name="Picture 17" descr="image (13)"/>
          <p:cNvPicPr/>
          <p:nvPr/>
        </p:nvPicPr>
        <p:blipFill>
          <a:blip r:embed="rId3"/>
          <a:stretch/>
        </p:blipFill>
        <p:spPr>
          <a:xfrm>
            <a:off x="6324480" y="838080"/>
            <a:ext cx="2132280" cy="1633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1" name="Picture 18" descr="DSC07404"/>
          <p:cNvPicPr/>
          <p:nvPr/>
        </p:nvPicPr>
        <p:blipFill>
          <a:blip r:embed="rId4"/>
          <a:stretch/>
        </p:blipFill>
        <p:spPr>
          <a:xfrm>
            <a:off x="6324480" y="4572000"/>
            <a:ext cx="2170080" cy="1770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ирование элементарных математических представлений посредством дидактически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00100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воспитывать творческую активность в играх; чувство товари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формировать умение определять и сравнивать количество предметов, выражать результаты определения в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азвивать сенсорные способности  детей через  умение выделять цвет, форму, величину как особые свойства предметов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развивать ориентировку в пространстве и времени,  мышление, зрительно – двигательную координ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f0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0a4a"/>
                </a:solidFill>
                <a:latin typeface="Arial"/>
              </a:rPr>
              <a:t>побуждать детей к проявлению самостоятельности                              и инициативности в иг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f0a4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f0a4a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ova"/>
          <p:cNvPicPr/>
          <p:nvPr/>
        </p:nvPicPr>
        <p:blipFill>
          <a:blip r:embed="rId2"/>
          <a:stretch/>
        </p:blipFill>
        <p:spPr>
          <a:xfrm>
            <a:off x="7238880" y="5334120"/>
            <a:ext cx="1143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782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еятельностный аспект личного вклада    педагога 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990720"/>
          <a:ext cx="8381880" cy="5761080"/>
        </p:xfrm>
        <a:graphic>
          <a:graphicData uri="http://schemas.openxmlformats.org/drawingml/2006/table">
            <a:tbl>
              <a:tblPr/>
              <a:tblGrid>
                <a:gridCol w="2735280"/>
                <a:gridCol w="5646600"/>
              </a:tblGrid>
              <a:tr h="365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Организационно - информа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Подобрать и изучить научную и методическую литературу по тем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Выявить актуальный уровень развития воспитанников на начальном этапе работ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Пополнить развивающую предметно – пространственную среду группы;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Выработать систему работы по дидактическим играм, позволяющую эффективно развивать у воспитанников элементарные математические способности 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Вовлечь родителей в работу по формированию элементарных математических представлений у детей на основе использования дидактических и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 эта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Прак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f0a4a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Реализация поставленных задач и достижение промежуточных результатов на каждом этап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- Формы и методы работы с детьм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- Формы работы с родителями, взаимодействие с педагог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 u="sng">
                          <a:solidFill>
                            <a:srgbClr val="0f0a4a"/>
                          </a:solidFill>
                          <a:uFillTx/>
                          <a:latin typeface="Times New Roman"/>
                          <a:ea typeface="Times New Roman"/>
                        </a:rPr>
                        <a:t> Этап </a:t>
                      </a:r>
                      <a:r>
                        <a:rPr b="1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Заключите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f0a4a"/>
                          </a:solidFill>
                          <a:latin typeface="Times New Roman"/>
                          <a:ea typeface="Times New Roman"/>
                        </a:rPr>
                        <a:t>Подведение итогов и определение перспектив дальнейшей работы по 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371600" y="304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ровень знаний детей по ФЭМ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 начальном эта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Диаграмма 5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4114800" cy="2743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2" name="Picture 7" descr="sova"/>
          <p:cNvPicPr/>
          <p:nvPr/>
        </p:nvPicPr>
        <p:blipFill>
          <a:blip r:embed="rId3"/>
          <a:stretch/>
        </p:blipFill>
        <p:spPr>
          <a:xfrm>
            <a:off x="7772400" y="5638680"/>
            <a:ext cx="990720" cy="897120"/>
          </a:xfrm>
          <a:prstGeom prst="rect">
            <a:avLst/>
          </a:prstGeom>
          <a:ln w="0">
            <a:noFill/>
          </a:ln>
        </p:spPr>
      </p:pic>
      <p:pic>
        <p:nvPicPr>
          <p:cNvPr id="83" name="Диаграмма 5" descr=""/>
          <p:cNvPicPr/>
          <p:nvPr/>
        </p:nvPicPr>
        <p:blipFill>
          <a:blip r:embed="rId4"/>
          <a:stretch/>
        </p:blipFill>
        <p:spPr>
          <a:xfrm>
            <a:off x="2666880" y="4114800"/>
            <a:ext cx="3727440" cy="2359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истема д/игр по ФЭ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457200"/>
          <a:ext cx="883944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1828800"/>
                <a:gridCol w="1752840"/>
                <a:gridCol w="1828800"/>
                <a:gridCol w="205740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На что похожа фигура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звивать умение находить фигуры треугольной, квадратной, круглой формы в рисунка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Помоги рыбкам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звивать умение находить определённый цв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амый большой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различать самый большой и маленький куб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Где что стоит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ориентироваться         в пространств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прятались от дождика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различать геометрические фиг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Принеси кубик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креплять цве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Грибочки в лесу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звивать умение различать геометрические фиг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Где находится зайчонок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ориентироваться в пространстве  (на, под, над, впереди, сзади, около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0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Разложи фигуры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звивать умение раскладывать одинаковые фигуры в ряд с похожими фигурам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обери капельки в стакан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находить нужный цвет и раскладывать в стаканчи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емья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креплять величину предм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Достань шарики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уметь находить мелкое и глубокое вед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Обведи фигуру карандашом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креплять геометрические фигуры и тек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«Собери бусы для мамы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креплять цвета и учить составлять гамм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Что находится вверху, а что внизу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 ориентироваться в пространств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естрички -матрёшки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меть находить самую большую и самую маленьку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7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Посади на свою скамеечку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ять геометрические фигуры (треугольник, квадрат, круг, овал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Какого цвета предмет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 находить в картинках нужный цв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0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Найди своё место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ть умение раскладывать фигуры , похожие по форме по форме под рисунк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обери лепесточки»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реплять цвета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Что изменилось»      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меть видеть изменение в росте матрёш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Вложи шарики в свои ямки»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вивать глазоме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Магазин без продавца»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меть находить предметы соответствующей форм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обери цветик – семицветик»              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закреплять основные цвета и оттен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Расставь игрушки по величине»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меть расставлять по порядку , по рост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Какие шарики улетели?»   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меть подбирать похожие по цвету шарик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делай поровну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ложи радугу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Построй башенку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Разноцветные круги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Разложи фигуры в ряд»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меть различать фиг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Зажги огоньки на ёлочке»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закреплять цве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Сложи пирамидку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«Найди листик, птичку, звёздочки, цветочки» 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ель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закреплять величину предме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17:51:21Z</dcterms:created>
  <dc:creator>1</dc:creator>
  <dc:description/>
  <dc:language>en-US</dc:language>
  <cp:lastModifiedBy>RePack by Diakov</cp:lastModifiedBy>
  <dcterms:modified xsi:type="dcterms:W3CDTF">2023-02-19T13:03:22Z</dcterms:modified>
  <cp:revision>1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